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png" ContentType="image/png"/>
  <Override PartName="/ppt/media/image8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B357-3CE2-4EAC-9FA1-A85E134562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3563-59DE-47B7-ACA3-1FFA83AF8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карт и Спиноза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C47F-0758-485B-8239-A900B3E1B2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D33C-2C5B-4C53-A3D6-E9CBE502E1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DB1B-AA90-476C-9D46-B99FC794BD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бстанции их атрибу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E141-9D65-4E75-8F40-849E4D2CDB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устое пространство и психика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584B-4EAE-4132-8A45-CA03FFC602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47CC-65AA-4307-AFE9-395CE2048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Врождённые иде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232F-1529-4FFC-95CC-D358DB8D76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Шишковидная желез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8709-8DBF-45E7-BC91-A79847B9B6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ые и духовные процессы согласованны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обно тому как две пары часов показывают одн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то же время, хотя они и не взаимодействуют между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ой – об этом позаботился Мудрый Часовщ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35A9-0761-4BE0-9DA3-73D6642680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71B2-85BF-4C07-82EB-53CEBBA46B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ртезианский окказион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кказион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occasio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учай, повод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ая концепция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рицающая возможнос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ой (протяжённой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духовной (мыслящей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станций и  утверждающая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то, что представляетс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ой причин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сли (или акта воли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и психической причин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идеей или желанием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ого движения ес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 более че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вод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occasio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ля истинной причины, каков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жет быть только Бо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вижущая сила тел…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наход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движущихся телах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эта движущая сил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ть не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то ино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воля Божья…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ественная причин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еальна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истинная причина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а случайна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пределяющая реше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ворца природы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йствовать тем ил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ным образ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том или ином случа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8B84-306D-47AE-BD65-7F6148AB6E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31 марта 1596 г. в Лаэ (ныне Дек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ся к колеже Ла Флеш (1606-16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ы путешестви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18-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ьмское «озарение»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0 ноября 1619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в Париже (1625-16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миграции в Нидерландах (1628-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Париж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644, 1647, 16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езд в Швецию (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1 февраля 1650 г. в Стокголь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CA4A-7D84-44DE-9ED9-0C1ED7C66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4 ноября 1632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Амстерда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Великое отлучение» (165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1 февраля 1677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Гаа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12CC-ADF3-4684-8B5A-666A35327D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 Декарта, доказанные геометрическим способом (16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ословско-политический трактат (16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(1663-16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8DFE-932B-4CA2-B01F-32EF27B19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ноз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н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ость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ость атрибутов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творя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сотворё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случайности (необуслов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 как обусловленность собственной прир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вобода как внешняя обусловленность (принужд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Геометрический»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ождествление физической и  логической необход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2CD4-E2E6-4312-B829-AFC4D40E6A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4E1A-761E-4398-A719-D3551C391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2FE0-3B0A-4171-A108-5A88E8FA8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55AA-56F2-4038-879B-3CFE0329EA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нтеизм: природа творящая и сотвор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D0A7-0164-4CB6-AC39-662B6A80AC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E8B1-506C-4842-87E4-8E463AECA8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1ECC-277E-4956-8041-065E4E7118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Геометрический мето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8C19-0F10-48F2-B4A4-6AB4F60542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, или Трактат о свете (16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ссуждение о методе (16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мышления о перво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философии (16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начала философии (164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FA93-9AEC-4A7E-B212-4F8CDF541E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6284-E342-4E84-A501-91DC7E21D5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уг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существующий в природ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дея этого круга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находящая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же в Боге,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ь одна и та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ещ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выраженная различным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ами. Так что, будем л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ы представлять природу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ом протяжения, или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ом мышления, или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им-либо иным атрибутом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ы во всех случаях найдё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ин и тот же порядок, иным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ловами,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у и ту же связь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т.е. что те же самы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щи следуют друг за друг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F4CE-AF5F-4145-BDF6-0B5C5A60F3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75FF-071F-410D-8E43-EE4C471E4E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знание первого рода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мнение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или 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воображение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динственна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а ложност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знание же второго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рассудок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ретьего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интуиция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ода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обходимо истинн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28C1-2578-4DED-B794-957AE159D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58BA-4409-41AD-B5AE-C804460B45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5853-2722-4E24-A132-CC71092A86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и и их атриб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пустого пространства и психи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свет разума («врождённые иде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Шишковидная желе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 в картезианств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казионализм А. Гейлинкса и Н. Мальбран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2B89-7EEC-42B5-8FED-974E5B6EDC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66F6-175B-478C-B67D-AB35FAB035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0FC0-5C7F-4B79-BCE6-7EBEE10FF6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5D22-F0D8-4B89-93C3-2C69052568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3188-36E6-4465-B92C-5CC03649A1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21A-AF0F-415B-9FFC-690AC5BB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14B-6286-4A76-A1DB-414C8425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446-15C0-4062-828B-9DCD628B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BC0-514C-4125-B27E-58A64E54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019-681E-41A0-923E-D9B307AC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DE9-2384-4AF1-844F-F4696776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FD4-C988-4F18-B0EE-DD5AC5D4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33B-5D32-43F4-B034-EDE804D7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303-F001-467B-B1CA-90D15201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897-F1BF-4537-A97F-6EE06F8B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0FC6-F0C7-4692-A0E3-A86C2276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56F-541B-4973-8049-F0BD06E8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229C-416A-4553-9280-664FC464C2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11240" y="359892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карт и Спиноза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снование рационал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96584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957480" y="287820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46256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1020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713120" y="287820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4948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20184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4545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395748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21020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4625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496584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521820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370692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471312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546876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572148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597384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62247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484020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383220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433548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408456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458784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509112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458784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484020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509112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458784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84020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509112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383220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408456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433548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458784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484020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509112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33548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458784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484020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433548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4"/>
          <p:cNvSpPr/>
          <p:nvPr/>
        </p:nvSpPr>
        <p:spPr>
          <a:xfrm>
            <a:off x="458784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5"/>
          <p:cNvSpPr/>
          <p:nvPr/>
        </p:nvSpPr>
        <p:spPr>
          <a:xfrm>
            <a:off x="484020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6"/>
          <p:cNvSpPr/>
          <p:nvPr/>
        </p:nvSpPr>
        <p:spPr>
          <a:xfrm>
            <a:off x="509112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83220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408456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433548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458784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1"/>
          <p:cNvSpPr/>
          <p:nvPr/>
        </p:nvSpPr>
        <p:spPr>
          <a:xfrm>
            <a:off x="358920" y="266220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м и отчётли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2"/>
          <p:cNvSpPr/>
          <p:nvPr/>
        </p:nvSpPr>
        <p:spPr>
          <a:xfrm>
            <a:off x="358920" y="352584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ение на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до достиж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й яс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3"/>
          <p:cNvSpPr/>
          <p:nvPr/>
        </p:nvSpPr>
        <p:spPr>
          <a:xfrm>
            <a:off x="358920" y="438948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дователь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т прос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ложно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4"/>
          <p:cNvSpPr/>
          <p:nvPr/>
        </p:nvSpPr>
        <p:spPr>
          <a:xfrm>
            <a:off x="358920" y="525312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чни и обзор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чтобы нич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упусти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5"/>
          <p:cNvSpPr/>
          <p:nvPr/>
        </p:nvSpPr>
        <p:spPr>
          <a:xfrm>
            <a:off x="7556400" y="266220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7"/>
          <p:cNvSpPr/>
          <p:nvPr/>
        </p:nvSpPr>
        <p:spPr>
          <a:xfrm>
            <a:off x="7556400" y="352584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8"/>
          <p:cNvSpPr/>
          <p:nvPr/>
        </p:nvSpPr>
        <p:spPr>
          <a:xfrm>
            <a:off x="7556400" y="438948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-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9"/>
          <p:cNvSpPr/>
          <p:nvPr/>
        </p:nvSpPr>
        <p:spPr>
          <a:xfrm>
            <a:off x="7556400" y="525312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3057480" y="1798560"/>
            <a:ext cx="302256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сё с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898560" y="3381480"/>
            <a:ext cx="302256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слящие</a:t>
            </a:r>
            <a:br>
              <a:rPr sz="20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5218200" y="3381480"/>
            <a:ext cx="302256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тяжённые</a:t>
            </a:r>
            <a:br>
              <a:rPr sz="20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>
            <a:off x="4570560" y="2877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8" name="Line 7"/>
          <p:cNvSpPr/>
          <p:nvPr/>
        </p:nvSpPr>
        <p:spPr>
          <a:xfrm>
            <a:off x="2409840" y="3130560"/>
            <a:ext cx="4317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8"/>
          <p:cNvCxnSpPr/>
          <p:nvPr/>
        </p:nvCxnSpPr>
        <p:spPr>
          <a:xfrm>
            <a:off x="2409840" y="313020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10" name="AutoShape 9"/>
          <p:cNvCxnSpPr/>
          <p:nvPr/>
        </p:nvCxnSpPr>
        <p:spPr>
          <a:xfrm>
            <a:off x="6729480" y="313020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11" name="AutoShape 11"/>
          <p:cNvSpPr/>
          <p:nvPr/>
        </p:nvSpPr>
        <p:spPr>
          <a:xfrm>
            <a:off x="790560" y="4749840"/>
            <a:ext cx="755820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полагаю, что вес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 причин, направлен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пределённой цели, не может иметь никакого примен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бласти физики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дь я допускаю, что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легкомыслию можно пытаться прослеживать цели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станции их атриб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03280" y="3957480"/>
            <a:ext cx="3959280" cy="25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бстанц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ubstantia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-лежа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вод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ύπόστασι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ует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стоя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само по себе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что устойчивое и постоя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отличие от изменчив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реходящег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104292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528948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4749840" y="3957480"/>
            <a:ext cx="3959280" cy="25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рибут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attributum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данное, приписан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пределяющий призн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ачество, предикат) субстанц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аточный для её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нтификации и необходи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её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04292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ш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28948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устое пространство и психика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82560" y="1546200"/>
            <a:ext cx="359892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ение телес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протяжённость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ёт к отрицанию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устого простр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929120" y="1546200"/>
            <a:ext cx="359892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ение психи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логическим мышлени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ёт к отрицанию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сихики у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331240" y="62611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отные – автом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66560" y="61167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олняющая всё простран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движется вихреобраз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CIRCLE_LIMIT_III (red)"/>
          <p:cNvPicPr/>
          <p:nvPr/>
        </p:nvPicPr>
        <p:blipFill>
          <a:blip r:embed="rId1"/>
          <a:stretch/>
        </p:blipFill>
        <p:spPr>
          <a:xfrm>
            <a:off x="934920" y="2986200"/>
            <a:ext cx="3059280" cy="305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betemachine-descartes"/>
          <p:cNvPicPr/>
          <p:nvPr/>
        </p:nvPicPr>
        <p:blipFill>
          <a:blip r:embed="rId2"/>
          <a:stretch/>
        </p:blipFill>
        <p:spPr>
          <a:xfrm>
            <a:off x="5073480" y="2986200"/>
            <a:ext cx="3343320" cy="30574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0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04292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528948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4292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528948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ыс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5289480" y="359892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1042920" y="359892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отяжё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1042920" y="4317840"/>
            <a:ext cx="28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е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5289480" y="4317840"/>
            <a:ext cx="28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4605480" y="1619280"/>
            <a:ext cx="0" cy="3598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1116720" y="5397480"/>
            <a:ext cx="69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дух и материя не имеют друг с другом ничего обще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возможно их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заимодейств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каким образ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 может иметь идею материального тела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на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-то о материальных тел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Врождённые иде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3419280" cy="36003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063520" y="596736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= 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4646880" y="5397480"/>
            <a:ext cx="40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 вложил в человеческую душ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материальной субстанц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знание об основных закона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ым она подчин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Descartes (3)"/>
          <p:cNvPicPr/>
          <p:nvPr/>
        </p:nvPicPr>
        <p:blipFill>
          <a:blip r:embed="rId2"/>
          <a:stretch/>
        </p:blipFill>
        <p:spPr>
          <a:xfrm>
            <a:off x="5181480" y="1798560"/>
            <a:ext cx="3019680" cy="326700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10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 rot="10800000">
            <a:off x="611280" y="2059920"/>
            <a:ext cx="6981840" cy="1468440"/>
          </a:xfrm>
          <a:custGeom>
            <a:avLst/>
            <a:gdLst>
              <a:gd name="textAreaLeft" fmla="*/ 1221840 w 6981840"/>
              <a:gd name="textAreaRight" fmla="*/ 5061960 w 6981840"/>
              <a:gd name="textAreaTop" fmla="*/ 196560 h 1468440"/>
              <a:gd name="textAreaBottom" fmla="*/ 1271880 h 146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Шишковидная желез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124000" y="2924280"/>
            <a:ext cx="1436760" cy="7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2122560" y="2925720"/>
            <a:ext cx="1436760" cy="7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ж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555200" y="5757840"/>
            <a:ext cx="64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кализуемая Декартом в мозгу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шишковидная желез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образ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енные (физические) воздейств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мысли и мысли – в физически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9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" descr="Knight"/>
          <p:cNvPicPr/>
          <p:nvPr/>
        </p:nvPicPr>
        <p:blipFill>
          <a:blip r:embed="rId1"/>
          <a:stretch/>
        </p:blipFill>
        <p:spPr>
          <a:xfrm>
            <a:off x="1582560" y="3525840"/>
            <a:ext cx="1195560" cy="1800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Lion (5)"/>
          <p:cNvPicPr/>
          <p:nvPr/>
        </p:nvPicPr>
        <p:blipFill>
          <a:blip r:embed="rId2"/>
          <a:stretch/>
        </p:blipFill>
        <p:spPr>
          <a:xfrm>
            <a:off x="5900760" y="2770200"/>
            <a:ext cx="215892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9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1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3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5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j0183290"/>
          <p:cNvPicPr/>
          <p:nvPr/>
        </p:nvPicPr>
        <p:blipFill>
          <a:blip r:embed="rId1"/>
          <a:stretch/>
        </p:blipFill>
        <p:spPr>
          <a:xfrm>
            <a:off x="6837480" y="179856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AClock_l"/>
          <p:cNvPicPr/>
          <p:nvPr/>
        </p:nvPicPr>
        <p:blipFill>
          <a:blip r:embed="rId2"/>
          <a:stretch/>
        </p:blipFill>
        <p:spPr>
          <a:xfrm>
            <a:off x="719280" y="3238560"/>
            <a:ext cx="2144520" cy="2144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clock_013"/>
          <p:cNvPicPr/>
          <p:nvPr/>
        </p:nvPicPr>
        <p:blipFill>
          <a:blip r:embed="rId3"/>
          <a:stretch/>
        </p:blipFill>
        <p:spPr>
          <a:xfrm>
            <a:off x="3598920" y="3598920"/>
            <a:ext cx="2144520" cy="28591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9"/>
          <p:cNvSpPr/>
          <p:nvPr/>
        </p:nvSpPr>
        <p:spPr>
          <a:xfrm>
            <a:off x="6368400" y="5757840"/>
            <a:ext cx="256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нольд Гейлинк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4-16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6229800" y="5013360"/>
            <a:ext cx="26481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мер двух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18520" y="1619280"/>
            <a:ext cx="63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ые и духовные процессы согласованны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обно тому как две пары часов показывают од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то же время, хотя они и не взаимодействуют меж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й – об этом позаботился Мудрый Часовщ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nodeType="clickEffect" fill="hold">
                      <p:stCondLst>
                        <p:cond delay="0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j0183290"/>
          <p:cNvPicPr/>
          <p:nvPr/>
        </p:nvPicPr>
        <p:blipFill>
          <a:blip r:embed="rId1"/>
          <a:stretch/>
        </p:blipFill>
        <p:spPr>
          <a:xfrm>
            <a:off x="6837480" y="1978200"/>
            <a:ext cx="1724040" cy="18493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6115680" y="5757840"/>
            <a:ext cx="267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коля Мальбранш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8-17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ANNIMATEDfelixTHEcat"/>
          <p:cNvPicPr/>
          <p:nvPr/>
        </p:nvPicPr>
        <p:blipFill>
          <a:blip r:embed="rId2"/>
          <a:stretch/>
        </p:blipFill>
        <p:spPr>
          <a:xfrm>
            <a:off x="2338560" y="5229360"/>
            <a:ext cx="3286080" cy="1428480"/>
          </a:xfrm>
          <a:prstGeom prst="rect">
            <a:avLst/>
          </a:prstGeom>
          <a:ln w="0">
            <a:noFill/>
          </a:ln>
        </p:spPr>
      </p:pic>
      <p:sp>
        <p:nvSpPr>
          <p:cNvPr id="270" name="Oval 7"/>
          <p:cNvSpPr/>
          <p:nvPr/>
        </p:nvSpPr>
        <p:spPr>
          <a:xfrm>
            <a:off x="5257800" y="1809720"/>
            <a:ext cx="1371600" cy="1371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ANNIMATEDfelixTHEcat"/>
          <p:cNvPicPr/>
          <p:nvPr/>
        </p:nvPicPr>
        <p:blipFill>
          <a:blip r:embed="rId3"/>
          <a:stretch/>
        </p:blipFill>
        <p:spPr>
          <a:xfrm>
            <a:off x="5397480" y="2241720"/>
            <a:ext cx="1093680" cy="474480"/>
          </a:xfrm>
          <a:prstGeom prst="rect">
            <a:avLst/>
          </a:prstGeom>
          <a:ln w="0">
            <a:noFill/>
          </a:ln>
        </p:spPr>
      </p:pic>
      <p:sp>
        <p:nvSpPr>
          <p:cNvPr id="272" name="Oval 9"/>
          <p:cNvSpPr/>
          <p:nvPr/>
        </p:nvSpPr>
        <p:spPr>
          <a:xfrm>
            <a:off x="2068560" y="2060640"/>
            <a:ext cx="960480" cy="960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ANNIMATEDfelixTHEcat"/>
          <p:cNvPicPr/>
          <p:nvPr/>
        </p:nvPicPr>
        <p:blipFill>
          <a:blip r:embed="rId4"/>
          <a:stretch/>
        </p:blipFill>
        <p:spPr>
          <a:xfrm>
            <a:off x="2122560" y="2349360"/>
            <a:ext cx="871560" cy="37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5938200" y="4821120"/>
            <a:ext cx="2812680" cy="703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идение всех вещей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 Б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 rot="13500000">
            <a:off x="1907280" y="4640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"/>
          <p:cNvSpPr/>
          <p:nvPr/>
        </p:nvSpPr>
        <p:spPr>
          <a:xfrm flipH="1" flipV="1">
            <a:off x="2039040" y="4521600"/>
            <a:ext cx="763560" cy="76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2039400" y="4522320"/>
            <a:ext cx="763200" cy="763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"/>
          <p:cNvSpPr/>
          <p:nvPr/>
        </p:nvSpPr>
        <p:spPr>
          <a:xfrm rot="8700000">
            <a:off x="4235040" y="4078080"/>
            <a:ext cx="2951280" cy="485640"/>
          </a:xfrm>
          <a:prstGeom prst="rightArrow">
            <a:avLst>
              <a:gd name="adj1" fmla="val 50000"/>
              <a:gd name="adj2" fmla="val 1519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 rot="10800000">
            <a:off x="3165480" y="2230200"/>
            <a:ext cx="1908000" cy="485640"/>
          </a:xfrm>
          <a:prstGeom prst="rightArrow">
            <a:avLst>
              <a:gd name="adj1" fmla="val 50000"/>
              <a:gd name="adj2" fmla="val 982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0" descr="Knight"/>
          <p:cNvPicPr/>
          <p:nvPr/>
        </p:nvPicPr>
        <p:blipFill>
          <a:blip r:embed="rId5"/>
          <a:stretch/>
        </p:blipFill>
        <p:spPr>
          <a:xfrm>
            <a:off x="324000" y="2085840"/>
            <a:ext cx="1792080" cy="269892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0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ртезианский окказ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287280" y="1546200"/>
            <a:ext cx="3994200" cy="4965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кказион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ccas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, повод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концеп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ющая 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ой (протяжённой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уховной (мыслящей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й и  утверждающа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то, что предста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есной причи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сли (или акта воли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психической причи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деей или желанием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ого движения е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более чем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в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ccasio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истинной причины, каков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жет быть только Б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 rot="10800000">
            <a:off x="4462200" y="1545840"/>
            <a:ext cx="449892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ущая сила тел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х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движущихся тел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эта движущая с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н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воля Божья…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ая 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еа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стинная причин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а случай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яющая реш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ца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овать тем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 образ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или ином случа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5257800" y="5973840"/>
            <a:ext cx="277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альбранш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азыскание истин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31 марта 1596 г. в Лаэ (ныне Дек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ся к колеже Ла Флеш (1606-16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ы путешестви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18-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ьмское «озарение»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0 ноября 1619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в Париже (1625-16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миграции в Нидерландах (1628-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Париж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644, 1647, 16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езд в Швецию (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1 февраля 1650 г. в Стокголь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Oval 9"/>
          <p:cNvSpPr/>
          <p:nvPr/>
        </p:nvSpPr>
        <p:spPr>
          <a:xfrm>
            <a:off x="6686640" y="3645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851160" y="3309840"/>
            <a:ext cx="91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0"/>
          <p:cNvSpPr/>
          <p:nvPr/>
        </p:nvSpPr>
        <p:spPr>
          <a:xfrm>
            <a:off x="6413400" y="4005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5846040" y="4149720"/>
            <a:ext cx="5936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3"/>
          <p:cNvSpPr/>
          <p:nvPr/>
        </p:nvSpPr>
        <p:spPr>
          <a:xfrm>
            <a:off x="627048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4980600" y="3645000"/>
            <a:ext cx="1188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 Фле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6"/>
          <p:cNvSpPr/>
          <p:nvPr/>
        </p:nvSpPr>
        <p:spPr>
          <a:xfrm>
            <a:off x="7556400" y="37782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7748280" y="3860640"/>
            <a:ext cx="7765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8"/>
          <p:cNvSpPr/>
          <p:nvPr/>
        </p:nvSpPr>
        <p:spPr>
          <a:xfrm>
            <a:off x="6948360" y="2997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7171560" y="2781360"/>
            <a:ext cx="10173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й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0"/>
          <p:cNvSpPr/>
          <p:nvPr/>
        </p:nvSpPr>
        <p:spPr>
          <a:xfrm>
            <a:off x="838836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6880320" y="1773360"/>
            <a:ext cx="14000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кго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4 ноября 1632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мстерда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еликое отлучение» (16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1 февраля 1677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аа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1" name="Oval 13"/>
          <p:cNvSpPr/>
          <p:nvPr/>
        </p:nvSpPr>
        <p:spPr>
          <a:xfrm>
            <a:off x="6980400" y="2986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7172640" y="2781360"/>
            <a:ext cx="14594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мстер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7"/>
          <p:cNvSpPr/>
          <p:nvPr/>
        </p:nvSpPr>
        <p:spPr>
          <a:xfrm>
            <a:off x="6908760" y="3094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6667560" y="3273480"/>
            <a:ext cx="784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190520" y="6189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4570560" y="3057480"/>
            <a:ext cx="43178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философии Декарта, доказанные геометрическим способ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словско-политический трактат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-16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5037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Spinoza (4)"/>
          <p:cNvPicPr/>
          <p:nvPr/>
        </p:nvPicPr>
        <p:blipFill>
          <a:blip r:embed="rId1"/>
          <a:stretch/>
        </p:blipFill>
        <p:spPr>
          <a:xfrm>
            <a:off x="431640" y="1619280"/>
            <a:ext cx="382608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ноз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н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75760" y="1491840"/>
            <a:ext cx="8589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ость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ость атрибутов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творя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сотворё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случайности (необуслов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 как обусловленность собственной прир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вобода как внешняя обусловленность (принужд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Геометрический»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ождествление физической и  логической необход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атрибутом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разумею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 представляет в субстан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ставляющее её су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субстанция, состоя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бесконечно многих атрибут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оме Бога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ая субстан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и существо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ыть представля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 разумею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существует само в себ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само через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ух или более субстанций одной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й же природ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одним и тем же атрибу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4680000" y="154620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5759640" y="262584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5"/>
          <p:cNvSpPr/>
          <p:nvPr/>
        </p:nvSpPr>
        <p:spPr>
          <a:xfrm>
            <a:off x="6839280" y="370692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6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9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0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7"/>
          <p:cNvSpPr/>
          <p:nvPr/>
        </p:nvSpPr>
        <p:spPr>
          <a:xfrm rot="10800000">
            <a:off x="3886200" y="1690200"/>
            <a:ext cx="503856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юда самым ясны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ом следу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что Бог един, т.е.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 суще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лько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а субстан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а субстан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о бесконечн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что вещь протяжён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щь мыслящая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 et 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трибу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состояни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модус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в Бог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457452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2016000" y="3130560"/>
            <a:ext cx="216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и 1 и 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1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1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1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обходимости боже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должно вытек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е множество вещ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 многими способ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ей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законам своей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ез чьего-либо прин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ая 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х вещ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действующая из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, что только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ет в Бог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без Бог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и существо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ыть представляе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есть производящая причи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х вещ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ие только мог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ь представл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 разу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5760000" y="262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6838920" y="3598920"/>
            <a:ext cx="17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й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8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nodeType="clickEffect" fill="hold">
                      <p:stCondLst>
                        <p:cond delay="0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теизм: природа творящая и сотворё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"/>
          <p:cNvSpPr/>
          <p:nvPr/>
        </p:nvSpPr>
        <p:spPr>
          <a:xfrm rot="10800000">
            <a:off x="3598560" y="1545840"/>
            <a:ext cx="5398920" cy="457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ой порожда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 должно понимать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само по себ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само через себ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и словами, такие атрибут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и, которые выраж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чную и бесконечную сущ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Бога, поскольку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ется как свобод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а. А 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ождён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 понимаю всё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вытекает из необходим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Бога, т.е. все модус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в Бога, поскольку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ются как вещ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существуют в Бог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4501440" y="6261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2233440" y="4570560"/>
            <a:ext cx="161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2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57120" y="1619280"/>
            <a:ext cx="352764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нте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αν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θεός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трина, согласно котор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 и мир суть од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Бог имманентен миру)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: «Бог во всём» и/и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сё божествен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0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, которая определена 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му-либо действию,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а таким образом Бог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а себя определи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гли быть произвед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ом никаким другим образ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в каком другом порядк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ед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о нашему представ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ится во власти Бог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ничего случай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о из необходим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жественно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, которая определена Бог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му-либо действию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а себя сдел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определённой к н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5760000" y="262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6934680" y="37069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3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3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21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nodeType="clickEffect" fill="hold">
                      <p:stCondLst>
                        <p:cond delay="0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 rot="10800000">
            <a:off x="4173480" y="1582200"/>
            <a:ext cx="485784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вобод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зыв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ая вещь,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по одной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и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ственной природы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ся к действ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лько сама собой.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бходим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 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учше сказать,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нуждё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тся така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-либо иным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существованию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 извест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ённому образ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471708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384640" y="449748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669960" y="1654200"/>
            <a:ext cx="359892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е между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обод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вобод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личии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етермина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в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обще нет нич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етерминированного), 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шь в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личии характера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этой детермин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8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13"/>
          <p:cNvSpPr/>
          <p:nvPr/>
        </p:nvSpPr>
        <p:spPr>
          <a:xfrm>
            <a:off x="4317840" y="446256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4911840" y="4255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1"/>
          <p:cNvSpPr/>
          <p:nvPr/>
        </p:nvSpPr>
        <p:spPr>
          <a:xfrm>
            <a:off x="3417840" y="4255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5829480" y="3122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9"/>
          <p:cNvSpPr/>
          <p:nvPr/>
        </p:nvSpPr>
        <p:spPr>
          <a:xfrm>
            <a:off x="2571840" y="3122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еометрический мет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"/>
          <p:cNvSpPr/>
          <p:nvPr/>
        </p:nvSpPr>
        <p:spPr>
          <a:xfrm>
            <a:off x="1150920" y="250020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си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5468760" y="2500200"/>
            <a:ext cx="251964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у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3309840" y="363384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898560" y="476712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е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5649840" y="476712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оролла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3309840" y="575784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хо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5"/>
          <p:cNvSpPr/>
          <p:nvPr/>
        </p:nvSpPr>
        <p:spPr>
          <a:xfrm>
            <a:off x="4317840" y="233856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6"/>
          <p:cNvSpPr/>
          <p:nvPr/>
        </p:nvSpPr>
        <p:spPr>
          <a:xfrm>
            <a:off x="3309840" y="151128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nodeType="clickEffect" fill="hold">
                      <p:stCondLst>
                        <p:cond delay="indefinite"/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nodeType="clickEffect" fill="hold">
                      <p:stCondLst>
                        <p:cond delay="indefinite"/>
                      </p:stCondLst>
                      <p:childTnLst>
                        <p:par>
                          <p:cTn id="1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770400" y="6041880"/>
            <a:ext cx="31770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копия утраченного портрета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ы Ф. Халь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389480" y="3057480"/>
            <a:ext cx="4533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, или Трактат о свет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уждение о метод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мышления о перво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начала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7" descr="Uknown (after Hals), Descartes (c 1650, Louvre)_red"/>
          <p:cNvPicPr/>
          <p:nvPr/>
        </p:nvPicPr>
        <p:blipFill>
          <a:blip r:embed="rId1"/>
          <a:stretch/>
        </p:blipFill>
        <p:spPr>
          <a:xfrm>
            <a:off x="466560" y="1619280"/>
            <a:ext cx="369900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9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9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яжение составляет атрибу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и Бог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 протяжённая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вытекает из бесконеч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Бог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альн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том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е и той же связи происте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оге из его иде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ядок и связь идей те ж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порядок и связь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шление составляет атрибу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 Бог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 мыслящая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я мыслящая и субстан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ая составля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у и т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 субстанци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ссматриваем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разными атрибу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4"/>
          <p:cNvSpPr/>
          <p:nvPr/>
        </p:nvSpPr>
        <p:spPr>
          <a:xfrm>
            <a:off x="4680000" y="154620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5"/>
          <p:cNvSpPr/>
          <p:nvPr/>
        </p:nvSpPr>
        <p:spPr>
          <a:xfrm>
            <a:off x="5723280" y="262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6"/>
          <p:cNvSpPr/>
          <p:nvPr/>
        </p:nvSpPr>
        <p:spPr>
          <a:xfrm>
            <a:off x="6840000" y="3598920"/>
            <a:ext cx="155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7"/>
          <p:cNvSpPr/>
          <p:nvPr/>
        </p:nvSpPr>
        <p:spPr>
          <a:xfrm>
            <a:off x="1223640" y="4678200"/>
            <a:ext cx="157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2519640" y="586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9" descr="Spinoza (2-med)"/>
          <p:cNvPicPr/>
          <p:nvPr/>
        </p:nvPicPr>
        <p:blipFill>
          <a:blip r:embed="rId1"/>
          <a:stretch/>
        </p:blipFill>
        <p:spPr>
          <a:xfrm>
            <a:off x="7197840" y="1366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3"/>
          <p:cNvSpPr/>
          <p:nvPr/>
        </p:nvSpPr>
        <p:spPr>
          <a:xfrm rot="10800000">
            <a:off x="3669840" y="1690200"/>
            <a:ext cx="52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уг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уществующий в природ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этого кру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ходящая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же в Бог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одна и та 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раженная различн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ами. Так что, будем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едставлять природу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м протяжения, или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м мышления, или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либо иным атрибу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о всех случаях найд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 и тот же порядок, ин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у и ту же связ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что те же са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 следуют друг за друг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446652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233440" y="3238560"/>
            <a:ext cx="14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8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/>
          <p:cNvSpPr/>
          <p:nvPr/>
        </p:nvSpPr>
        <p:spPr>
          <a:xfrm>
            <a:off x="3165480" y="1690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AutoShape 4"/>
          <p:cNvCxnSpPr/>
          <p:nvPr/>
        </p:nvCxnSpPr>
        <p:spPr>
          <a:xfrm>
            <a:off x="4605480" y="2769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0" name="Line 5"/>
          <p:cNvSpPr/>
          <p:nvPr/>
        </p:nvSpPr>
        <p:spPr>
          <a:xfrm>
            <a:off x="2338560" y="313056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352584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ассу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AutoShape 7"/>
          <p:cNvCxnSpPr/>
          <p:nvPr/>
        </p:nvCxnSpPr>
        <p:spPr>
          <a:xfrm>
            <a:off x="460548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3" name="AutoShape 8"/>
          <p:cNvSpPr/>
          <p:nvPr/>
        </p:nvSpPr>
        <p:spPr>
          <a:xfrm>
            <a:off x="125892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о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AutoShape 9"/>
          <p:cNvCxnSpPr/>
          <p:nvPr/>
        </p:nvCxnSpPr>
        <p:spPr>
          <a:xfrm>
            <a:off x="233856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25" name="AutoShape 10"/>
          <p:cNvCxnSpPr/>
          <p:nvPr/>
        </p:nvCxnSpPr>
        <p:spPr>
          <a:xfrm>
            <a:off x="233856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6" name="AutoShape 11"/>
          <p:cNvSpPr/>
          <p:nvPr/>
        </p:nvSpPr>
        <p:spPr>
          <a:xfrm>
            <a:off x="17928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 через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еспорядочный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пы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AutoShape 12"/>
          <p:cNvCxnSpPr/>
          <p:nvPr/>
        </p:nvCxnSpPr>
        <p:spPr>
          <a:xfrm>
            <a:off x="122184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8" name="AutoShape 13"/>
          <p:cNvSpPr/>
          <p:nvPr/>
        </p:nvSpPr>
        <p:spPr>
          <a:xfrm>
            <a:off x="240984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з зн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4"/>
          <p:cNvSpPr/>
          <p:nvPr/>
        </p:nvSpPr>
        <p:spPr>
          <a:xfrm>
            <a:off x="1222200" y="4929120"/>
            <a:ext cx="1116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2338560" y="4929120"/>
            <a:ext cx="111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AutoShape 16"/>
          <p:cNvCxnSpPr/>
          <p:nvPr/>
        </p:nvCxnSpPr>
        <p:spPr>
          <a:xfrm>
            <a:off x="3454560" y="492876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2" name="Line 17"/>
          <p:cNvSpPr/>
          <p:nvPr/>
        </p:nvSpPr>
        <p:spPr>
          <a:xfrm>
            <a:off x="4605480" y="313056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AutoShape 18"/>
          <p:cNvCxnSpPr/>
          <p:nvPr/>
        </p:nvCxnSpPr>
        <p:spPr>
          <a:xfrm>
            <a:off x="687240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4" name="AutoShape 19"/>
          <p:cNvSpPr/>
          <p:nvPr/>
        </p:nvSpPr>
        <p:spPr>
          <a:xfrm>
            <a:off x="579276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Инту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AutoShape 20"/>
          <p:cNvCxnSpPr/>
          <p:nvPr/>
        </p:nvCxnSpPr>
        <p:spPr>
          <a:xfrm>
            <a:off x="460548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6" name="Line 21"/>
          <p:cNvSpPr/>
          <p:nvPr/>
        </p:nvSpPr>
        <p:spPr>
          <a:xfrm>
            <a:off x="4605480" y="4929120"/>
            <a:ext cx="107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2"/>
          <p:cNvSpPr/>
          <p:nvPr/>
        </p:nvSpPr>
        <p:spPr>
          <a:xfrm>
            <a:off x="464184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 из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щих по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AutoShape 23"/>
          <p:cNvCxnSpPr/>
          <p:nvPr/>
        </p:nvCxnSpPr>
        <p:spPr>
          <a:xfrm>
            <a:off x="568440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39" name="AutoShape 24"/>
          <p:cNvCxnSpPr/>
          <p:nvPr/>
        </p:nvCxnSpPr>
        <p:spPr>
          <a:xfrm>
            <a:off x="687240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40" name="Line 25"/>
          <p:cNvSpPr/>
          <p:nvPr/>
        </p:nvSpPr>
        <p:spPr>
          <a:xfrm>
            <a:off x="6872400" y="4929120"/>
            <a:ext cx="1042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26"/>
          <p:cNvCxnSpPr/>
          <p:nvPr/>
        </p:nvCxnSpPr>
        <p:spPr>
          <a:xfrm>
            <a:off x="791640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42" name="AutoShape 27"/>
          <p:cNvSpPr/>
          <p:nvPr/>
        </p:nvSpPr>
        <p:spPr>
          <a:xfrm>
            <a:off x="6872400" y="5289480"/>
            <a:ext cx="2087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посредствен-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ое усмотре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ущности вещ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nodeType="clickEffect" fill="hold">
                      <p:stCondLst>
                        <p:cond delay="indefinite"/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nodeType="clickEffect" fill="hold">
                      <p:stCondLst>
                        <p:cond delay="indefinite"/>
                      </p:stCondLst>
                      <p:childTnLst>
                        <p:par>
                          <p:cTn id="2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 rot="10800000">
            <a:off x="4317840" y="1978200"/>
            <a:ext cx="446256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первого рода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мнение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воображ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а л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же второго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рассудок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тьег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интуиц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о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истин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3"/>
          <p:cNvSpPr/>
          <p:nvPr/>
        </p:nvSpPr>
        <p:spPr>
          <a:xfrm>
            <a:off x="4717080" y="5937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4"/>
          <p:cNvSpPr/>
          <p:nvPr/>
        </p:nvSpPr>
        <p:spPr>
          <a:xfrm>
            <a:off x="2594520" y="323856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4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5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4" dur="indefinite" restart="never" nodeType="tmRoot">
          <p:childTnLst>
            <p:seq>
              <p:cTn id="2075" dur="indefinite" nodeType="mainSeq">
                <p:childTnLst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ффект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 или уничтож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противоположным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е сильным аф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[Интеллектуальная]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вь к Богу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третий, высший, род познан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ет самое высшее бла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му мы можем стрем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знание если и 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чтож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фек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, по крайней ме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игает того, что они составля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именьшую часть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душе нет никакой абсолютной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ой воли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хотению душ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ся причино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а другой причино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двух 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 по руководств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а будем следов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óльш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двух зо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ьш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48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759640" y="262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6839640" y="37069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6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831600" y="4678200"/>
            <a:ext cx="200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ы 20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2304360" y="5757840"/>
            <a:ext cx="168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20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9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nodeType="clickEffect" fill="hold">
                      <p:stCondLst>
                        <p:cond delay="indefinite"/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4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nodeType="clickEffect" fill="hold">
                      <p:stCondLst>
                        <p:cond delay="0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и и их атриб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пустого пространства и психи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свет разума («врождённые иде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Шишковидная желе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 в картезианств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казионализм А. Гейлинкса и Н. Мальбран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е необходимо до основа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рушить эту построй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я хочу установить в наук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-то прочное и постоя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, коль скор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себ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чём-то убеди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начи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всё же существов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ий раз, как я произношу слова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«Я существую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воспринима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ысказывание умом,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сти является исти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ишком многие ложные мнения 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имал за истинны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слиш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мнительны положения, принят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 этих ложных м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допускаю, что всё видимое мно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 и предполагаю никогда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вшим всё, что я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мять; 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ностью лишён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мнение есть акт мысл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сомневаюс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мыс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собственное существовани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омненная и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раз моя увере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бственном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иждется на факте мыш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я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ящее сущ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могу усомниться во всём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не в том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сомневаюс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самим фактом сомнения я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тверждаю, что сомнева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я не мог бы мыслить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овал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мыслю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овательно я существ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334880" y="5942160"/>
            <a:ext cx="2341800" cy="485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gito ergo su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5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из моих наиболее ясны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Бог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идея бесконечн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ависимой, в высшей степ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ной и всемогущей субста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едена из каких-то других и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содержит 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и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любая другая ид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может исходить лишь о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, что содержит в себе не ме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, чем мыслится в эт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е, т.е.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самого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мыслящее существо, я нахож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жество ид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дни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х предста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утны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ми и отчётлив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й субстанции не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ить от меня сам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я коне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да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е и отчётливые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гли разве быть вложены в мен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нибудь могуществен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козненным обманщик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, чтобы Бог мен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манывал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дь во всяком обма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лючено нечто несовершен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хотел, чтобы я заблужд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я могу доверя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ому свету разум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условии, конечн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правильно им пользу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касается других идей, 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утны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, по-видим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 полагаться как на исти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я ощущаю 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жд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зволяю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ать истину от заблужд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гу ли я полагаться на неё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Принимать за истинно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, что представляется моему у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 ясно и отчётливо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дать повод к сом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Располагать свои мы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пределё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ядк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чи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редметов простейших и восход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епенно до наиболее сл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) Делать перечни столь полны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зоры столь всеохватывающ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быть уверен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не пропущ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о большого числа прави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щих логику, достато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тырё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едующих, лишь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людать их без отступ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ую из труд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только частей, ск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уется, чтобы луч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разреш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5:00:42Z</dcterms:created>
  <dc:creator>Николай Бирюков / Nikolai Biryukov</dc:creator>
  <dc:description>Редакция февраля 2007 г.</dc:description>
  <dc:language>en-US</dc:language>
  <cp:lastModifiedBy>LEGION</cp:lastModifiedBy>
  <dcterms:modified xsi:type="dcterms:W3CDTF">2014-11-11T09:01:36Z</dcterms:modified>
  <cp:revision>229</cp:revision>
  <dc:subject>Основы философии - Тема 11</dc:subject>
  <dc:title>Декарт и Спиноза: Обоснование рационализма</dc:title>
</cp:coreProperties>
</file>