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8A07-D01D-4E8C-97F6-A965769A6A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изоме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Чтобы начать работу, нажмите «Показ слайд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6BF4-9F5D-4049-8234-EDFF79097D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так, мы получили дв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геометрических изомера бутена–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76E-3CB0-4EA2-9319-D17D5FDAF0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метрических изомеров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тена -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C978-3C6D-4C95-919A-6F8220113D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опробуем составить геометрические изомеры бутена -1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СН2 – СН3                            Н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 Н                             Н3С – Н2С       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изображают одн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тена -1 не существу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6CC3-5248-4BC0-91C9-D505A1E3BB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уществует еще один изомер С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–метилпропен. Попробуем составить формулы его геометрических изоме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так же изображают одно и то же вещество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 2 – метилпропена – 1 не суще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3E1B-AA49-470F-A0A3-6C561B3658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мерия углеродного скел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характерен для всех классов органических со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мерия углеродного скелета – единственно возможный вид изомерии алк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Рассмотрим изомерию углеродного скелета на примере пентана 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F13-45CA-4B6F-B472-266F9F7427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м структурную формулу простейшего изомера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, имеющего линейное стро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изобразим его углеродный скелет, расположив в ряд все пять атомов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одорода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написали структурную формулу простейшего изоме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ПЕНТАНА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. А можно ли составить формулу другого изомера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890C-D1C3-4A0A-BCA7-8CF5D288A3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сделаем основную цепочку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роч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асположим в ряд четыре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ятый атом присоединим к одному из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ных атом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, не забывая пр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ы получили форм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2 – МЕТИЛБУ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9B5B-C34A-465A-8F00-3E14D50BAA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пробуем написать формулу изомера, содержащего в основной цепи три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калов и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получили формулу еще одного изомера </a:t>
            </a: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2,2 – ДИМЕТИЛПРОПАН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40CD-C516-4C57-B4A6-5D55FDAEE9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так, мы получили три изомера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эмпирической формулой С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метилбу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2–диметилпроп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2E99-BF2F-4CA1-A9C9-74ABDF057A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 изомер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естим радикал у соседнего атома углерода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           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а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б)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Мы видим, что обе  формулы – (а) и (б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изображают одно и то же вещество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–</a:t>
            </a: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МЕТИЛБУТАН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4A88-4A58-4543-A892-D321A2CD9F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вещества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 одинакового состава и молекулярной массы, но имеющие различное строение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молекул и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разные свойства.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явление 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существования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4a4a6e"/>
                </a:solidFill>
                <a:latin typeface="Calibri"/>
              </a:rPr>
              <a:t>Главное: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изомеры имеют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4a4a6e"/>
                </a:solidFill>
                <a:latin typeface="Calibri"/>
              </a:rPr>
              <a:t>одинаковые эмпирические формулы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но разны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структурные форм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9486-7F63-4640-9A06-9ACB63E22C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нумеруем атомы угле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4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ЕНТАН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акой изомер у нас уже 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2563-B90C-43BB-A755-C691FA93B9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йте попробу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этил–радика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е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мой длин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цепоч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1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Это  2–МЕТИЛБУТ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2271-B4F2-447B-B882-3E1C6B52FB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орядок ну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нумераци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меровать цепочку начинаем с того края, где ближе разветв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ле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пра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ле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1                         2                      3                        4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пра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ле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пра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68FB-AF60-4B06-8B2C-988126E0F3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5"/>
                </a:solidFill>
                <a:latin typeface="Calibri"/>
              </a:rPr>
              <a:t>Изомерия положения крат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й связью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ую связь    – С = С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йную связь   – С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≡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–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кратной связи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пенте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D4D9-7DDC-4D57-A8E8-FF6E4DABB8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апишем структурную формулу простейшего линейного изомера  С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,  у которого двойная связь расположена возле первого атома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= С – С – С –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пентена–1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7685-EC98-499E-BE1E-9CB5A1BB09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ойной связи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двойную связь пос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пентен –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16C9-E865-4553-9F6A-4F460D60CA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Итак, мы состав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ух изомеров пент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FA6D-B789-4969-85B9-B47E8C5EB0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6F62-5AC5-4152-9091-8DBFD7AA3A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F213-7D2E-4ED9-A895-6D1D163DBD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омерия положения функциона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относятся гидроксогруппа  –ОН,  сульф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карбоксильная  –СООН,  нитр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 дру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можно так же отнести галогены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r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 функциональной группы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  бромпента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F988-883E-4568-AE67-CC228D7457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ишем формулу простейшего линейного изомера 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 у которого атом брома расположен возле первого атома угле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 – С – С – С – 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                               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1" lang="en-US" sz="11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1–бромпентан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487C-DE49-476D-89C8-0D9E5B3DA7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функциональной группы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атом брома воз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2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 легко догадаетесь как будет выглядеть третий изомер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3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E606-8B68-4D93-94C0-5DF2C1C83F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мы получ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 изомеров бромпент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–бромпен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бромпентан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–бромпент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2BB7-2727-40D5-86FE-11D47093B8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омеров положения функциональной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мпента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56DC-5B70-4A58-A10C-31B44F94F2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помните правила номенклатуры 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рядок нумер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5                              4                             3                             2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2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5                              4</a:t>
            </a:r>
            <a:r>
              <a:rPr b="0" i="1" lang="ru-RU" sz="8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3                             2    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  1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D209-8C6A-4BB5-84A3-21630D558E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d0f2"/>
                </a:solidFill>
                <a:latin typeface="Calibri"/>
              </a:rPr>
              <a:t>Межклассовая изом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изомеры относятся к разным классам орган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ется просто запомнить какие классы соединений изомерны друг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ссмотрим некоторые примеры межклассовой изом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8C78-3D42-4AD1-AC1B-5EFA2B0533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ен                   циклоал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утен -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I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клобу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ин                   ди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≡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= СН – СН =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бутин – 1                                               бутадиен – 1,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42B7-1EB0-4987-9C40-717492F22B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рт             просто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танол                                               диметиловый эфи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ислота             сложны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овая кислота                                             метилацета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ьдегид                 ке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О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аль                                                    пропанон – 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59A6-4662-473B-A420-C42EC05587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инокислота             нитро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2 – аминоэтановая кислота                            нитроэ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ожно найти межклассовые изомеры и дл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других соединений. Подумайте сами, для каки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F52A-53FF-402E-9907-0A6E9C995C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21EA-7138-41A5-9E32-D45E1D97B0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d39"/>
                </a:solidFill>
                <a:latin typeface="Calibri"/>
              </a:rPr>
              <a:t>Динамическая изомерия (таутомер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Таут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ассмотрим некоторые примеры таутомери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CC89-F9E6-4DCC-BE69-11B039FD47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7CD5-C09B-49AE-A8DD-E53F3345D2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существования оптических изомеров необходи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симметрическ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атом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С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возможны два различных расположения молекулы в пространств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939C-0400-45B4-9ADF-61E1C3735D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е наибольшее значение имеет оптическая изомер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ов и амино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36CF-8626-4D21-9675-EAB39FBC60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 – C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= 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c9cd39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OH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            НО 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     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I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 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7220-7F6B-4FE0-9F13-424473B4F4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терм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– иначе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ая изомерия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– иначе называются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ыми изомера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пособность соединений существовать в виде пары зеркальных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цент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Рацема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B46A-03C0-41AB-832C-22FED355C0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вет пропустить через специальный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а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все световые волны будут колебаться в одн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свет называется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лоско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87E5-16E1-409B-93C6-6E0654A3DF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5г Жан Батист Био открыл явлени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птической активност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жидкости изменять (отклонять на некоторый угол)  плоскость поляр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изованного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3787-6881-42EE-BB3D-353B29AC64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хождения чере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тически активн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+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против часовой стрелки, то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BFA3-8475-4A87-B804-B3AAEEF828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Вы поняли что такое изоме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Научились строить изом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Значит самое время приступить к выполнению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Желаю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BB4A-B0C4-4C04-8064-A3FB7D7BC5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Кето – енольные превращ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превращение непредельного спирта в кетон или альдеги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ое превращение наблюдается в 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еакции Кучер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гидратация алкинов в присутствии катализатора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≡ СН  +  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О  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C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этин                                            эт</a:t>
            </a:r>
            <a:r>
              <a:rPr b="0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енол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этана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данном случае наблюдается перенос подвижного </a:t>
            </a:r>
            <a:r>
              <a:rPr b="0" lang="ru-RU" sz="1200" spc="-1" strike="noStrike">
                <a:solidFill>
                  <a:srgbClr val="eaeaea"/>
                </a:solidFill>
                <a:latin typeface="Calibri"/>
                <a:ea typeface="Arial"/>
              </a:rPr>
              <a:t>атома вод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от кислорода к соседнему атому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 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=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B15E-9309-4317-87D0-2191B9DA0D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Таутомеры глю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Н – С = О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O – C –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bfdbb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α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 –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глюкоз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β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- глюкоз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7fa6e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OH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открытая (линейная) форм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1FE-2F6F-49C1-89F2-870E80AEBD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еометр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предполагает наличие двух изомеров: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–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–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ческая изомерия характерна для соединений, в которы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свободное вращение вокруг углерод – углеродной связи (например, алкен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атомы углерода связан с двумя различными груп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геометрическую изомерию на примере бутена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8833-7E7B-45FB-A594-7228072CB5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ем структурную формулу бутена –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 – СН = СН – 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круг двойной связи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– С = С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одород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1342-62D7-4CF2-91FF-11107B6BBD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ют два способа расположить эти радикалы в пространств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        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С =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ци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изомер:                                              Это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изо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е радикалы                                одинаковые радика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ены                                                                располо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дну сторону                                                  по разные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ой связи.                                                            двой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486E-C9B0-4DBC-A7EB-140DEF047B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99FD-FFB1-42B1-AF24-3FF4DA38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9163-D623-4E8C-B5CD-A5EAAF4B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190DB-1252-4953-BA74-C99B73C7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CC6D6-4A84-4A9C-A617-47E4F100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ACAB9-8558-4C0F-B016-B3A77B40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D7DF9-D2F7-4204-A0C6-1A484329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3DB72-C858-49ED-9E29-8181E7D0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5ACA4-1431-4939-BF7A-068B961F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BEC90-0D36-4898-98B2-7DEBA9F2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99EF4-1D9F-4E7C-BD33-18F50F6E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7FD1F-B260-486C-B60F-976E8ABE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F90DD-5587-4771-9337-4165B13F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2725-3A8A-4E18-8E65-843C6D38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1E5CF-ED15-4FCD-B56C-83F7D808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52786-3F00-4E39-AEAE-CEFED5E2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89E76-0002-47DF-B6EA-010EFB9C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3FF93-10D2-4281-81EF-D3301B74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56614-D336-4979-B1BA-29661C39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14B2D-4B25-416F-B639-F3DC05F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0B8B4-B1E8-4F57-B452-D7BE491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BE4E9-E3D8-4210-B98F-7316564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FB68B-43EC-42CF-8F25-01B5C69E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E189E-B4E9-448C-8B9E-8D44641B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F2F0-31A1-4456-A60E-3AE894D7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45FD6-3BE6-486E-A014-73D6B98B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5B5C2-9571-433C-BD87-6B50455A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09C81-489E-49DD-804F-6A2E7CCB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169F6-9ABD-4C39-ABFF-0858723E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B3390-D5ED-494E-8A36-3C4BFB75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E2E73-8775-4C42-8106-59EEE5FA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5DA1C-C703-47BC-81C7-91ABE224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3B622-3A32-439E-AF23-E76C1D2C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2143F-532E-4803-A8D0-AC58B3B5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0B7DA-BF83-4444-AA17-FC22336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BA7E-138C-4841-B3C7-0120F4B0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BD4DA-4096-42DE-9FB1-1FF4A916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65482-7DD0-4CAA-B150-AA752A20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0AF23-AA8C-4BDE-B339-77C98B1D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90375-0076-4466-A4D9-DB76284F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383AB-0561-4F23-8158-042F993E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B4E14-1779-46BD-91CF-E7A2A369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DB419-CDF0-4DEC-8738-4C6262EF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BDF67-3099-4A9B-ADFA-1F14E57C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E77D2-9AB0-44F3-80E5-4F0093DF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EA3A1-5B9D-4672-8FDC-ADC3F5AB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134C-FB9F-4EBE-99E1-89C35A51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EC7C8-4768-489F-AAAD-68F595E0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CDA41-C5EE-4B22-B8C8-5F9F9A1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8BACE-4E30-4789-8D9E-0018E17A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32ADF-8ADB-4EB6-B05D-4A90EA5D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CEC17-D635-49F9-8605-76BDAF40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F432C-DB82-42AA-9ECE-2ACC873C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9F392-AC40-4466-A594-AC21EC88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C6362-4820-45F9-A96B-BF23F007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0BFE8-0C5D-4FE3-B86D-900A0008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7A12A-3E73-40CC-A4C1-78141A8E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B98E-798D-49B7-9BF4-216B7AE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91796-BF8F-433B-B013-2C740F9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DD597-CFDC-4C1B-9117-5C2200D7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B6535-3F03-44D1-AF87-380B9AE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E0F3B-2B9A-41C1-AAC5-5B45478F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3DE6A-8AE5-4969-A2D4-755A0144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A546B-B6AD-46F1-9A31-3A0D37F3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FE793-DDA6-45E4-971B-E3B15FB3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4C93-839C-464D-80DA-25098FE0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B613-3826-4682-BCEC-CBB50D0B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BD9A-FC45-4379-8F7C-E83F67D1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7A6E-3EF0-412F-A177-E526B69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A145-A39F-4612-8DF4-3F9C6CCA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6110-8F6E-4B90-9B85-13A315DA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9608-F491-455C-A288-138E8216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5EF3-4AA5-4526-BA5C-1E03BF49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95C1-BFD2-47E1-8665-E197BA5C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45AB-FAF7-46FA-884C-9F0856F1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5C9C-D36C-48EB-A6F2-323F0F8E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3E94-444D-4600-BC2A-DC26667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71C5-A1A7-4985-94F5-6AD3069A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0DD4-73CF-48C2-885A-186377FB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BB0E-F90C-40AA-A3C3-369AE7FF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EF84-C47A-4613-AD0B-2E4A4989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9AFE-6EBF-4B79-A5B4-711E65EE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808D-1BCC-466E-9775-FFBB8E88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21A13-9D51-45B1-8817-EF76D374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BE8F4-EDA0-403E-85E1-AFC187E0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DFEB-E8E6-4795-A649-2FDA5015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C76E-00D7-4F60-B928-23E85679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C29E-BEA4-4DD1-B162-4F30D743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C66A5-170A-4CD2-8061-C0BA1A95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D71E-D41B-43CF-92AE-BE063725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09FD7-271D-453B-AE8F-6639D0B6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89FD-7048-415E-BBAC-21BD610B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23D6-9E93-45CA-84D2-349FB3E1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E311-69AB-4636-80C5-2E3846D6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82143-14D1-4C4D-8394-AFFB67EA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AA13C-3983-4642-BED0-1DEAF19A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9A683-6AAA-4057-95CD-12414F0E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88070-4DF4-4795-827D-A3CC0FD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D33E9-8B04-4060-91AE-45819B26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C885-04F5-428D-8570-67EB26B4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9411-BD4B-427D-A670-69074B21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E510A-C373-4842-9970-E96E8816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21E8-3F6D-430A-BCF6-ED9F4C2E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55A5F-8BFE-438A-8DFF-A670D75E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DA1C2-A839-4298-BD19-9E5620F1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52ACA-E8AD-47E9-B4D0-E863BF16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3CB3E-61F2-4DA6-9F3D-9C037DEC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F4D65-6CAB-40E1-9EC9-F98F3F14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1A185-40D7-42A8-9703-0B9AEA2B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34CD6-BE0C-45B7-B3A2-F618FA28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92643-1892-4BF9-AD79-E912769D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6C5A-AB5B-4FCC-9895-1A8A037E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0C31A-A9AF-468B-97D4-4187194B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36E6-4022-4AFF-9F3B-8A32E2BF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05FE0-E586-4086-99C5-F956E3EE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26EDD-BD20-42EE-BB9B-935822E9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506A2-DB27-4923-81A4-D15C7FE0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44BFA-DF30-4CB8-8B56-E9588A29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F1B1D-B967-4292-A9BD-997DBACE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7F8F6-B028-4618-BAF1-4DDD661A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7EAD0-1EF0-479D-8699-D55E778E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7010D-99B3-4340-8D0A-2A2BC31F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5B345-2C8C-4C41-B34F-C3DCA327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683F9-7A39-447E-9E22-9A60D7E8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832C-CB8A-4A57-84EA-287FF38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C5E1D-5A35-4F86-890B-08CE7CBF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5834E-D1C2-4EC9-8524-5A32D34F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77472-0C9F-4953-AB23-EC8EF60B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55228-5245-4BEC-BAAD-E0400510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BBB4C-3036-44C7-A24D-797E255C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3BAEE-251B-4D06-8B77-BE943CD3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78A9-832B-44F4-A17C-0841FA37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8A24F-5913-4856-ADDB-BFB1DB4A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F42E-3CCB-431D-A270-D216B829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2FE33-D635-44FA-9DDB-5A2197D3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4312-65F2-4255-90D0-DE2B5AB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5790D-0292-405B-B291-0D88770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A432-6B3F-4F8A-956B-F6E1E02B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756A1-DADB-446B-B6C8-D3F21E7E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ED24E-0317-46CD-94A9-F90186C0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81642-78D2-4BEE-967E-D13F004A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C39E9-D0D4-458D-999C-65F42A83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89EE3-0A0A-4058-8E76-E4A5BACA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FF2A9-1845-457D-9E3B-FC4D61B9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A4D9-6C05-4F3F-BD2F-2B9F5125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0B853-E172-4F30-AE5E-2B0E5A8C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400A-B626-4907-9FFD-4AC67720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7E6D-75AF-4883-A650-E37A5CBA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DD3EF-69BA-4816-B894-E91793D4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3EA2F-A929-4C7C-9E61-11B0947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E6C3F-5725-49A3-A051-8DF0E29A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60718-497C-4D6A-AACA-E1E58655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CA2A2-739C-4ABF-AFC5-9052EB12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25457-297C-4A0D-AC9E-10B167B0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427B2-5903-4242-9421-399A40C3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A4449-6C6D-44BB-83B7-4FBE2200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FD52E-CCC7-4265-A740-A482CE27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CDBF-E28A-4326-AA00-E867E0C457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CA73-B0DA-4AB0-9F60-56B2956870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53F3-1152-4FD3-B633-1804C73FDBB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7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8E40-C338-44C1-9F12-0C8771D0869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8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0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637E-443C-4007-8239-640B9E758D30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44F4-C52F-4AE3-BCAA-09520E706B8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00C3-2973-4929-9F25-8DAD9D8F22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B85C-7A09-4D9E-A9E4-3508AAFEA9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1238-F5DC-49F9-BFA1-93E93F3D03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A586-D988-4D51-A622-58DB7F9D7D7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ED5-EE68-42EF-BC75-616A838BE4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3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3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617C-A0FA-40C6-925D-C695C7C7B2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ED70-83C9-41F8-B4E4-8B3ED3DE07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slide" Target="slide7.xml"/><Relationship Id="rId7" Type="http://schemas.openxmlformats.org/officeDocument/2006/relationships/slide" Target="slide39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Чтобы начать работу, нажмите «Показ слай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WordArt 4"/>
          <p:cNvSpPr txBox="1"/>
          <p:nvPr/>
        </p:nvSpPr>
        <p:spPr>
          <a:xfrm rot="21455400">
            <a:off x="900000" y="1341000"/>
            <a:ext cx="712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Итак, мы получили два </a:t>
            </a:r>
            <a:br>
              <a:rPr sz="3000"/>
            </a:b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геометрических изомера бутена–2: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ци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Н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AutoShape 4">
            <a:hlinkClick r:id="rId1" action="ppaction://hlinksldjump"/>
          </p:cNvPr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f2aa68"/>
              </a:gs>
              <a:gs pos="100000">
                <a:srgbClr val="d0925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AutoShape 5">
            <a:hlinkClick r:id="rId2" action="ppaction://hlinksldjump"/>
          </p:cNvPr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f2aa68"/>
              </a:gs>
              <a:gs pos="100000">
                <a:srgbClr val="c087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т.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Геометрических изомеров </a:t>
            </a:r>
            <a:br>
              <a:rPr sz="3800"/>
            </a:br>
            <a:r>
              <a:rPr b="1" i="1" lang="ru-RU" sz="3800" spc="-1" strike="noStrike">
                <a:solidFill>
                  <a:srgbClr val="ffffcc"/>
                </a:solidFill>
                <a:latin typeface="Tahoma"/>
              </a:rPr>
              <a:t>бутена -1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 существует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Oval 5"/>
          <p:cNvSpPr/>
          <p:nvPr/>
        </p:nvSpPr>
        <p:spPr>
          <a:xfrm>
            <a:off x="1979640" y="3933720"/>
            <a:ext cx="5905440" cy="187164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о поче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едь для бутена -</a:t>
            </a:r>
            <a:r>
              <a:rPr b="0" lang="en-US" sz="1800" spc="-1" strike="noStrike">
                <a:solidFill>
                  <a:srgbClr val="2b2b2b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ращение вокруг двойной связи также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как для бутена 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пробуем составить геометрические изомеры бутена -1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 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изображают од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тена -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val 4">
            <a:hlinkClick r:id="rId1" action="ppaction://hlinksldjump"/>
          </p:cNvPr>
          <p:cNvSpPr/>
          <p:nvPr/>
        </p:nvSpPr>
        <p:spPr>
          <a:xfrm rot="20893800">
            <a:off x="5076360" y="5373360"/>
            <a:ext cx="3888000" cy="115560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для других алкенов С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озмож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AutoShape 5"/>
          <p:cNvSpPr/>
          <p:nvPr/>
        </p:nvSpPr>
        <p:spPr>
          <a:xfrm>
            <a:off x="395280" y="6039000"/>
            <a:ext cx="1835280" cy="819000"/>
          </a:xfrm>
          <a:prstGeom prst="upArrowCallout">
            <a:avLst>
              <a:gd name="adj1" fmla="val 56027"/>
              <a:gd name="adj2" fmla="val 56022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</a:t>
            </a:r>
            <a:r>
              <a:rPr b="0" lang="ru-RU" sz="1800" spc="-1" strike="noStrike">
                <a:solidFill>
                  <a:srgbClr val="602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Существует еще один изомер С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4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Н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8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 –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2–метилпропен. Попробуем составить формулы его геометрических изомеров: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так же изображают одно и то же веще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 2 – метилпропена – 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AutoShape 4"/>
          <p:cNvSpPr/>
          <p:nvPr/>
        </p:nvSpPr>
        <p:spPr>
          <a:xfrm>
            <a:off x="7093080" y="5805360"/>
            <a:ext cx="1834920" cy="890640"/>
          </a:xfrm>
          <a:prstGeom prst="upArrowCallout">
            <a:avLst>
              <a:gd name="adj1" fmla="val 51510"/>
              <a:gd name="adj2" fmla="val 51506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Изомерия углеродного скел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т вид изомерии характерен для всех классов органических соедин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омерия углеродного скелета – единственно возможный вид изомерии алка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Рассмотрим изомерию углеродного скелета на примере пентана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Составим структурную формулу простейшего изомера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12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, имеющего линейное строение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этого изобразим его углеродный скелет, расположив в ряд все пять атомов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водорода 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написали структурную формулу простейшего изоме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А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А можно ли составить формулу другого изом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этого сделаем основную цепочку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короч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Расположим в ряд четыре атома углерод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пятый атом присоединим к одному из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редни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углеродных атомов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перь расставим атомы водорода, не забывая про валентность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 – МЕТИЛБУТ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4" name="Oval 4"/>
          <p:cNvSpPr/>
          <p:nvPr/>
        </p:nvSpPr>
        <p:spPr>
          <a:xfrm rot="20923200">
            <a:off x="5580000" y="5444640"/>
            <a:ext cx="3564000" cy="1150920"/>
          </a:xfrm>
          <a:prstGeom prst="ellipse">
            <a:avLst/>
          </a:prstGeom>
          <a:gradFill rotWithShape="0">
            <a:gsLst>
              <a:gs pos="0">
                <a:srgbClr val="4db8db"/>
              </a:gs>
              <a:gs pos="50000">
                <a:srgbClr val="0099cc"/>
              </a:gs>
              <a:gs pos="100000">
                <a:srgbClr val="4db8db"/>
              </a:gs>
            </a:gsLst>
            <a:lin ang="678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можно 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сосед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Oval 5"/>
          <p:cNvSpPr/>
          <p:nvPr/>
        </p:nvSpPr>
        <p:spPr>
          <a:xfrm>
            <a:off x="6084720" y="836640"/>
            <a:ext cx="64800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Попробуем написать формулу изомера, содержащего в основной цепи три атома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радикалов и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 еще одного изомера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,2 – ДИМЕТИЛПРОП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8" name="Oval 5"/>
          <p:cNvSpPr/>
          <p:nvPr/>
        </p:nvSpPr>
        <p:spPr>
          <a:xfrm>
            <a:off x="601200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6"/>
          <p:cNvSpPr/>
          <p:nvPr/>
        </p:nvSpPr>
        <p:spPr>
          <a:xfrm>
            <a:off x="550872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7"/>
          <p:cNvSpPr/>
          <p:nvPr/>
        </p:nvSpPr>
        <p:spPr>
          <a:xfrm rot="20911800">
            <a:off x="6265440" y="5157360"/>
            <a:ext cx="2878200" cy="1374840"/>
          </a:xfrm>
          <a:prstGeom prst="ellipse">
            <a:avLst/>
          </a:prstGeom>
          <a:gradFill rotWithShape="0">
            <a:gsLst>
              <a:gs pos="0">
                <a:srgbClr val="35aed7"/>
              </a:gs>
              <a:gs pos="50000">
                <a:srgbClr val="0099cc"/>
              </a:gs>
              <a:gs pos="100000">
                <a:srgbClr val="35aed7"/>
              </a:gs>
            </a:gsLst>
            <a:lin ang="609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в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 метил– радика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ть од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л– радик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Итак, мы получили три изомера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 эмпирической формулой 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С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5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Н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12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н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–метилбу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,2–диметилпроп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AutoShape 4"/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75c8e3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AutoShape 5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96d5ea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ш изомер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местим радикал у соседнего атома углерода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          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а)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б)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видим, что обе  формулы – (а) и (б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изображают одно и то же вещество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МЕТИЛБУ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Oval 4"/>
          <p:cNvSpPr/>
          <p:nvPr/>
        </p:nvSpPr>
        <p:spPr>
          <a:xfrm rot="21239400">
            <a:off x="5424120" y="5870160"/>
            <a:ext cx="3708360" cy="798480"/>
          </a:xfrm>
          <a:prstGeom prst="ellipse">
            <a:avLst/>
          </a:prstGeom>
          <a:gradFill rotWithShape="0">
            <a:gsLst>
              <a:gs pos="0">
                <a:srgbClr val="3db1d8"/>
              </a:gs>
              <a:gs pos="50000">
                <a:srgbClr val="0099cc"/>
              </a:gs>
              <a:gs pos="100000">
                <a:srgbClr val="3db1d8"/>
              </a:gs>
            </a:gsLst>
            <a:lin ang="576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постав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6948360" y="260280"/>
            <a:ext cx="1835280" cy="1008000"/>
          </a:xfrm>
          <a:prstGeom prst="upArrowCallout">
            <a:avLst>
              <a:gd name="adj1" fmla="val 45522"/>
              <a:gd name="adj2" fmla="val 455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6804000" y="4365720"/>
            <a:ext cx="2340000" cy="1296720"/>
          </a:xfrm>
          <a:prstGeom prst="ellipse">
            <a:avLst/>
          </a:prstGeom>
          <a:gradFill rotWithShape="0">
            <a:gsLst>
              <a:gs pos="0">
                <a:srgbClr val="6dc5e2"/>
              </a:gs>
              <a:gs pos="50000">
                <a:srgbClr val="0099cc"/>
              </a:gs>
              <a:gs pos="100000">
                <a:srgbClr val="6dc5e2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и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яд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мер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3631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вещества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 одинакового состава и молекулярной массы, но имеющие различное строение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молекул и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разные свойств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явление 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существования изо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39640" y="4797360"/>
            <a:ext cx="81583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4a4a6e"/>
                </a:solidFill>
                <a:latin typeface="Arial"/>
              </a:rPr>
              <a:t>Главно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изомеры име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a4a6e"/>
                </a:solidFill>
                <a:latin typeface="Arial"/>
              </a:rPr>
              <a:t>одинаковые эмпирические формулы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но раз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структурные фор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WordArt 4"/>
          <p:cNvSpPr txBox="1"/>
          <p:nvPr/>
        </p:nvSpPr>
        <p:spPr>
          <a:xfrm rot="21455400">
            <a:off x="611280" y="2923920"/>
            <a:ext cx="496872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02298" dir="424499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02298" dir="424499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WordArt 5"/>
          <p:cNvSpPr txBox="1"/>
          <p:nvPr/>
        </p:nvSpPr>
        <p:spPr>
          <a:xfrm rot="21455400">
            <a:off x="611280" y="189000"/>
            <a:ext cx="4824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89808" dir="483908" blurRad="0" rotWithShape="0">
                    <a:srgbClr val="3d3d3d"/>
                  </a:outerShdw>
                </a:effectLst>
                <a:latin typeface="Impact"/>
              </a:rPr>
              <a:t>изо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89808" dir="48390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нумеруем атомы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14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Такой изомер у нас уже е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Oval 4"/>
          <p:cNvSpPr/>
          <p:nvPr/>
        </p:nvSpPr>
        <p:spPr>
          <a:xfrm rot="665400">
            <a:off x="7308360" y="1052640"/>
            <a:ext cx="1584360" cy="3241440"/>
          </a:xfrm>
          <a:prstGeom prst="ellipse">
            <a:avLst/>
          </a:prstGeom>
          <a:gradFill rotWithShape="0">
            <a:gsLst>
              <a:gs pos="0">
                <a:srgbClr val="65c1e0"/>
              </a:gs>
              <a:gs pos="50000">
                <a:srgbClr val="0099cc"/>
              </a:gs>
              <a:gs pos="100000">
                <a:srgbClr val="65c1e0"/>
              </a:gs>
            </a:gsLst>
            <a:lin ang="4734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ыта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AutoShape 5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7138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вайте попробуе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ть этил–радикал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т.е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амой длинно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цепоч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1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Это  2–МЕТИЛБУТА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7" name="AutoShape 4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913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орядок нум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ядок нумерации опре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оответствии с правилами систематической номенклату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умеровать цепочку начинаем с того края, где ближе разветвлен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ле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пра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ле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                        2                      3                        4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пра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ле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пра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1" name="AutoShape 4"/>
          <p:cNvSpPr/>
          <p:nvPr/>
        </p:nvSpPr>
        <p:spPr>
          <a:xfrm>
            <a:off x="7093080" y="189000"/>
            <a:ext cx="1834920" cy="963360"/>
          </a:xfrm>
          <a:prstGeom prst="upArrowCallout">
            <a:avLst>
              <a:gd name="adj1" fmla="val 47622"/>
              <a:gd name="adj2" fmla="val 476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5"/>
                </a:solidFill>
                <a:latin typeface="Tahoma"/>
              </a:rPr>
              <a:t>Изомерия положения кратной связ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ной связью наз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ойную связь    – С = С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ойную связь   – С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≡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 –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Рассмотрим изомерию поло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кратной связи на</a:t>
            </a:r>
            <a:r>
              <a:rPr b="0" lang="en-US" sz="36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примере пентена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С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апишем структурную формулу простейшего линейного изомера  С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,  у которого двойная связь расположена возле первого атома углерод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7840" y="2204640"/>
            <a:ext cx="8605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= С – С – С –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ерь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Итак, мы написали формулу первого изомера С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10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ff"/>
                </a:solidFill>
                <a:latin typeface="Tahoma"/>
              </a:rPr>
              <a:t>пентена–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Само название этого вида изоме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предполагает, что полож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двойной связи должно меня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местим двойную связь после второго атома угле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Oval 3"/>
          <p:cNvSpPr/>
          <p:nvPr/>
        </p:nvSpPr>
        <p:spPr>
          <a:xfrm rot="493200">
            <a:off x="302760" y="5097240"/>
            <a:ext cx="3979800" cy="136836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Итак, мы составили формулы </a:t>
            </a:r>
            <a:br>
              <a:rPr sz="4000"/>
            </a:b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двух изомеров пентен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2b5481"/>
              </a:gs>
              <a:gs pos="100000">
                <a:srgbClr val="1b355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2b5481"/>
              </a:gs>
              <a:gs pos="100000">
                <a:srgbClr val="182f4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Нет.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ругих </a:t>
            </a:r>
            <a:r>
              <a:rPr b="1" i="1" lang="ru-RU" sz="4400" spc="-1" strike="noStrike">
                <a:solidFill>
                  <a:srgbClr val="ffffb5"/>
                </a:solidFill>
                <a:latin typeface="Tahoma"/>
              </a:rPr>
              <a:t>изомеров положения двойной связи</a:t>
            </a: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ля пентена не существуе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8" name="Oval 3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пентен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и пентен – 4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5"/>
                </a:solidFill>
                <a:latin typeface="Tahoma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b5"/>
                </a:solidFill>
                <a:latin typeface="Tahoma"/>
              </a:rPr>
              <a:t>порядок нумераци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ответствии с правилами систематической номенклатуры нумерация начинается с того края, где ближе находится кратная связ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 4                             3                             2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4                            3                            2  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Изомерия положения функциональ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относятся гидроксогруппа  –ОН,  сульф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карбоксильная  –СООН,  нитр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други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можно так же отнести галогены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Рассмотрим изомерию положения функциональной группы на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примере   бромпентана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  С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WordArt 4"/>
          <p:cNvSpPr txBox="1"/>
          <p:nvPr/>
        </p:nvSpPr>
        <p:spPr>
          <a:xfrm rot="21455400">
            <a:off x="1187280" y="0"/>
            <a:ext cx="7417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7819" dir="2700000" blurRad="0" rotWithShape="0">
                    <a:srgbClr val="3d3d3d"/>
                  </a:outerShdw>
                </a:effectLst>
                <a:latin typeface="Impact"/>
              </a:rPr>
              <a:t>виды  изом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7819" dir="2700000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75" name="Organization Chart 8"/>
          <p:cNvGrpSpPr/>
          <p:nvPr/>
        </p:nvGrpSpPr>
        <p:grpSpPr>
          <a:xfrm>
            <a:off x="467280" y="1123920"/>
            <a:ext cx="8160120" cy="5470200"/>
            <a:chOff x="467280" y="1123920"/>
            <a:chExt cx="8160120" cy="5470200"/>
          </a:xfrm>
        </p:grpSpPr>
        <p:cxnSp>
          <p:nvCxnSpPr>
            <p:cNvPr id="1076" name="_s1028"/>
            <p:cNvCxnSpPr>
              <a:stCxn id="1077" idx="1"/>
              <a:endCxn id="1078" idx="2"/>
            </p:cNvCxnSpPr>
            <p:nvPr/>
          </p:nvCxnSpPr>
          <p:spPr>
            <a:xfrm rot="10800000">
              <a:off x="5279040" y="2130120"/>
              <a:ext cx="37224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79" name="_s1029"/>
            <p:cNvCxnSpPr>
              <a:stCxn id="1080" idx="0"/>
              <a:endCxn id="1081" idx="2"/>
            </p:cNvCxnSpPr>
            <p:nvPr/>
          </p:nvCxnSpPr>
          <p:spPr>
            <a:xfrm flipV="1" rot="16200000">
              <a:off x="5921280" y="4081680"/>
              <a:ext cx="433440" cy="17175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2" name="_s1030"/>
            <p:cNvCxnSpPr>
              <a:stCxn id="1083" idx="0"/>
              <a:endCxn id="1081" idx="2"/>
            </p:cNvCxnSpPr>
            <p:nvPr/>
          </p:nvCxnSpPr>
          <p:spPr>
            <a:xfrm flipH="1" flipV="1" rot="5400000">
              <a:off x="4229640" y="4106880"/>
              <a:ext cx="433440" cy="16671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4" name="_s1031"/>
            <p:cNvCxnSpPr>
              <a:stCxn id="1085" idx="3"/>
              <a:endCxn id="1078" idx="2"/>
            </p:cNvCxnSpPr>
            <p:nvPr/>
          </p:nvCxnSpPr>
          <p:spPr>
            <a:xfrm flipV="1">
              <a:off x="4956120" y="2130480"/>
              <a:ext cx="32400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6" name="_s1032"/>
            <p:cNvCxnSpPr>
              <a:stCxn id="1087" idx="1"/>
              <a:endCxn id="1078" idx="2"/>
            </p:cNvCxnSpPr>
            <p:nvPr/>
          </p:nvCxnSpPr>
          <p:spPr>
            <a:xfrm rot="10800000">
              <a:off x="5279040" y="2130840"/>
              <a:ext cx="37224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8" name="_s1033"/>
            <p:cNvCxnSpPr>
              <a:stCxn id="1089" idx="3"/>
              <a:endCxn id="1078" idx="2"/>
            </p:cNvCxnSpPr>
            <p:nvPr/>
          </p:nvCxnSpPr>
          <p:spPr>
            <a:xfrm flipV="1">
              <a:off x="4892040" y="2130840"/>
              <a:ext cx="38772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0" name="_s1034"/>
            <p:cNvCxnSpPr>
              <a:stCxn id="1091" idx="1"/>
              <a:endCxn id="1092" idx="2"/>
            </p:cNvCxnSpPr>
            <p:nvPr/>
          </p:nvCxnSpPr>
          <p:spPr>
            <a:xfrm rot="10800000">
              <a:off x="1559520" y="1784520"/>
              <a:ext cx="2003400" cy="45597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3" name="_s1035"/>
            <p:cNvCxnSpPr>
              <a:stCxn id="1081" idx="1"/>
              <a:endCxn id="1092" idx="2"/>
            </p:cNvCxnSpPr>
            <p:nvPr/>
          </p:nvCxnSpPr>
          <p:spPr>
            <a:xfrm rot="10800000">
              <a:off x="1559520" y="1784520"/>
              <a:ext cx="2003400" cy="26895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4" name="_s1036"/>
            <p:cNvCxnSpPr>
              <a:stCxn id="1078" idx="1"/>
              <a:endCxn id="1092" idx="2"/>
            </p:cNvCxnSpPr>
            <p:nvPr/>
          </p:nvCxnSpPr>
          <p:spPr>
            <a:xfrm rot="10800000">
              <a:off x="1559520" y="1784520"/>
              <a:ext cx="2003400" cy="9540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sp>
          <p:nvSpPr>
            <p:cNvPr id="1092" name="_s1037"/>
            <p:cNvSpPr/>
            <p:nvPr/>
          </p:nvSpPr>
          <p:spPr>
            <a:xfrm>
              <a:off x="467280" y="1123920"/>
              <a:ext cx="2184840" cy="6609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изомер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_s1038"/>
            <p:cNvSpPr/>
            <p:nvPr/>
          </p:nvSpPr>
          <p:spPr>
            <a:xfrm>
              <a:off x="3562560" y="1629360"/>
              <a:ext cx="3431520" cy="5014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структур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_s1039"/>
            <p:cNvSpPr/>
            <p:nvPr/>
          </p:nvSpPr>
          <p:spPr>
            <a:xfrm>
              <a:off x="3562560" y="4221000"/>
              <a:ext cx="3431520" cy="5032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простран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_s1040">
              <a:hlinkClick r:id="rId2" action="ppaction://hlinksldjump"/>
            </p:cNvPr>
            <p:cNvSpPr/>
            <p:nvPr/>
          </p:nvSpPr>
          <p:spPr>
            <a:xfrm>
              <a:off x="3562560" y="6093360"/>
              <a:ext cx="3433680" cy="5007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динам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_s1041">
              <a:hlinkClick r:id="rId3" action="ppaction://hlinksldjump"/>
            </p:cNvPr>
            <p:cNvSpPr/>
            <p:nvPr/>
          </p:nvSpPr>
          <p:spPr>
            <a:xfrm>
              <a:off x="1905840" y="2419560"/>
              <a:ext cx="298656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глеродн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кел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_s1042">
              <a:hlinkClick r:id="rId4" action="ppaction://hlinksldjump"/>
            </p:cNvPr>
            <p:cNvSpPr/>
            <p:nvPr/>
          </p:nvSpPr>
          <p:spPr>
            <a:xfrm>
              <a:off x="5651280" y="2419560"/>
              <a:ext cx="297360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атной связ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_s1043">
              <a:hlinkClick r:id="rId5" action="ppaction://hlinksldjump"/>
            </p:cNvPr>
            <p:cNvSpPr/>
            <p:nvPr/>
          </p:nvSpPr>
          <p:spPr>
            <a:xfrm>
              <a:off x="1979280" y="3282840"/>
              <a:ext cx="297648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ункциональной групп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_s1044">
              <a:hlinkClick r:id="rId6" action="ppaction://hlinksldjump"/>
            </p:cNvPr>
            <p:cNvSpPr/>
            <p:nvPr/>
          </p:nvSpPr>
          <p:spPr>
            <a:xfrm>
              <a:off x="2124000" y="5157360"/>
              <a:ext cx="297612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еометр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_s1045">
              <a:hlinkClick r:id="rId7" action="ppaction://hlinksldjump"/>
            </p:cNvPr>
            <p:cNvSpPr/>
            <p:nvPr/>
          </p:nvSpPr>
          <p:spPr>
            <a:xfrm>
              <a:off x="5507280" y="5157360"/>
              <a:ext cx="297900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т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_s1046">
              <a:hlinkClick r:id="rId8" action="ppaction://hlinksldjump"/>
            </p:cNvPr>
            <p:cNvSpPr/>
            <p:nvPr/>
          </p:nvSpPr>
          <p:spPr>
            <a:xfrm>
              <a:off x="5651280" y="3282840"/>
              <a:ext cx="297612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жклассов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пишем формулу простейшего линейного изомера  С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11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 у которого атом брома расположен возле первого атома углерод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58560" y="1699920"/>
            <a:ext cx="8785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 – С – С – С – 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перь расставим атомы водо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Итак, мы написали формулу первого изомера С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r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–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c85e"/>
                </a:solidFill>
                <a:latin typeface="Verdana"/>
              </a:rPr>
              <a:t>1–бромпентан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амо название этого вида изомерии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предполагает, что положен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функциональной группы должно менять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местим атом брома возле второго атома угле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 легко догадаетесь как будет выглядеть третий изомер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3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1" name="Oval 4"/>
          <p:cNvSpPr/>
          <p:nvPr/>
        </p:nvSpPr>
        <p:spPr>
          <a:xfrm rot="493200">
            <a:off x="0" y="5589360"/>
            <a:ext cx="3780000" cy="1123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Итак, мы получили формулы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трех изомеров бромпентан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–бромпент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–бромпентан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–бромпентан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т.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ругих 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изомеров положения функциональной группы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ля бромпентана не существует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Oval 4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– бромпентан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– бромпента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порядок нумерации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ru-RU" sz="1000" spc="-1" strike="noStrike">
                <a:solidFill>
                  <a:srgbClr val="eaeaea"/>
                </a:solidFill>
                <a:latin typeface="Verdana"/>
              </a:rPr>
              <a:t>5                              4                             3                             2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c85e"/>
                </a:solidFill>
                <a:latin typeface="Verdana"/>
              </a:rPr>
              <a:t>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5                              4</a:t>
            </a:r>
            <a:r>
              <a:rPr b="0" i="1" lang="ru-RU" sz="1000" spc="-1" strike="noStrike">
                <a:solidFill>
                  <a:srgbClr val="eec85e"/>
                </a:solidFill>
                <a:latin typeface="Verdana"/>
              </a:rPr>
              <a:t>             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3                             2    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  1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4d0f2"/>
                </a:solidFill>
                <a:latin typeface="Arial"/>
              </a:rPr>
              <a:t>Межклассовая изомер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изомеры относятся к разным классам органических соеди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ется просто запомнить какие классы соединений изомерны друг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Рассмотрим некоторые примеры межклассовой изоме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ен                   циклоалк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тен -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I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иклобу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ин                   ди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≡ С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= СН – СН =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тин – 1                                               бутадиен – 1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Oval 4"/>
          <p:cNvSpPr/>
          <p:nvPr/>
        </p:nvSpPr>
        <p:spPr>
          <a:xfrm rot="645600">
            <a:off x="6516720" y="189000"/>
            <a:ext cx="244800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9edff"/>
                </a:solidFill>
                <a:latin typeface="Arial"/>
              </a:rPr>
              <a:t>Углеводо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358560" y="54936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пирт             просто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Н 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танол                                               диметиловый эф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ислота             сложны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ОН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овая кислота                                             метилаце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дегид                 кет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О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аль                                                    пропанон –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Oval 4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Кислород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аминокислота             нитросоеди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ООН         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 – аминоэтановая кислота                            нитроэ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Можно найти межклассовые изомеры и д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ругих соединений. Подумайте сами, для как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Oval 7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Азот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тическая изоме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ип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Oval 4"/>
          <p:cNvSpPr/>
          <p:nvPr/>
        </p:nvSpPr>
        <p:spPr>
          <a:xfrm rot="21226800">
            <a:off x="5359320" y="5659200"/>
            <a:ext cx="3600360" cy="1054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ый с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 он враща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9cd39"/>
                </a:solidFill>
                <a:latin typeface="Arial"/>
              </a:rPr>
              <a:t>Динамическая изомерия (таутомерия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Таутомер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ассмотрим некоторые примеры таутомери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Oval 4"/>
          <p:cNvSpPr/>
          <p:nvPr/>
        </p:nvSpPr>
        <p:spPr>
          <a:xfrm>
            <a:off x="1692360" y="3933720"/>
            <a:ext cx="647640" cy="647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5"/>
          <p:cNvSpPr/>
          <p:nvPr/>
        </p:nvSpPr>
        <p:spPr>
          <a:xfrm>
            <a:off x="1619280" y="2852640"/>
            <a:ext cx="792000" cy="720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6"/>
          <p:cNvSpPr/>
          <p:nvPr/>
        </p:nvSpPr>
        <p:spPr>
          <a:xfrm>
            <a:off x="755640" y="4221000"/>
            <a:ext cx="576360" cy="50508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Oval 7"/>
          <p:cNvSpPr/>
          <p:nvPr/>
        </p:nvSpPr>
        <p:spPr>
          <a:xfrm>
            <a:off x="2700360" y="40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Line 9"/>
          <p:cNvSpPr/>
          <p:nvPr/>
        </p:nvSpPr>
        <p:spPr>
          <a:xfrm>
            <a:off x="1979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Line 11"/>
          <p:cNvSpPr/>
          <p:nvPr/>
        </p:nvSpPr>
        <p:spPr>
          <a:xfrm flipV="1">
            <a:off x="1332000" y="436572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12"/>
          <p:cNvSpPr/>
          <p:nvPr/>
        </p:nvSpPr>
        <p:spPr>
          <a:xfrm>
            <a:off x="2342160" y="4263840"/>
            <a:ext cx="356040" cy="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13"/>
          <p:cNvSpPr/>
          <p:nvPr/>
        </p:nvSpPr>
        <p:spPr>
          <a:xfrm>
            <a:off x="2124000" y="458136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14"/>
          <p:cNvSpPr/>
          <p:nvPr/>
        </p:nvSpPr>
        <p:spPr>
          <a:xfrm>
            <a:off x="6948360" y="278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c5a7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15"/>
          <p:cNvSpPr/>
          <p:nvPr/>
        </p:nvSpPr>
        <p:spPr>
          <a:xfrm>
            <a:off x="6084720" y="4005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16"/>
          <p:cNvSpPr/>
          <p:nvPr/>
        </p:nvSpPr>
        <p:spPr>
          <a:xfrm>
            <a:off x="7020000" y="3860640"/>
            <a:ext cx="647640" cy="648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Line 17"/>
          <p:cNvSpPr/>
          <p:nvPr/>
        </p:nvSpPr>
        <p:spPr>
          <a:xfrm>
            <a:off x="7380360" y="35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Line 18"/>
          <p:cNvSpPr/>
          <p:nvPr/>
        </p:nvSpPr>
        <p:spPr>
          <a:xfrm flipV="1">
            <a:off x="6660720" y="4201920"/>
            <a:ext cx="35820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19"/>
          <p:cNvSpPr/>
          <p:nvPr/>
        </p:nvSpPr>
        <p:spPr>
          <a:xfrm flipH="1" flipV="1">
            <a:off x="7667280" y="429264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Oval 20"/>
          <p:cNvSpPr/>
          <p:nvPr/>
        </p:nvSpPr>
        <p:spPr>
          <a:xfrm>
            <a:off x="8028000" y="4149720"/>
            <a:ext cx="576360" cy="504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21"/>
          <p:cNvSpPr/>
          <p:nvPr/>
        </p:nvSpPr>
        <p:spPr>
          <a:xfrm flipH="1">
            <a:off x="7020000" y="4508640"/>
            <a:ext cx="21600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Oval 22"/>
          <p:cNvSpPr/>
          <p:nvPr/>
        </p:nvSpPr>
        <p:spPr>
          <a:xfrm>
            <a:off x="6443640" y="494172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Oval 8"/>
          <p:cNvSpPr/>
          <p:nvPr/>
        </p:nvSpPr>
        <p:spPr>
          <a:xfrm>
            <a:off x="2124000" y="5013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3"/>
          <p:cNvSpPr/>
          <p:nvPr/>
        </p:nvSpPr>
        <p:spPr>
          <a:xfrm>
            <a:off x="2987640" y="5661000"/>
            <a:ext cx="3600360" cy="1081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24"/>
          <p:cNvSpPr/>
          <p:nvPr/>
        </p:nvSpPr>
        <p:spPr>
          <a:xfrm flipH="1">
            <a:off x="467640" y="5084640"/>
            <a:ext cx="1176120" cy="1422360"/>
          </a:xfrm>
          <a:custGeom>
            <a:avLst/>
            <a:gdLst>
              <a:gd name="textAreaLeft" fmla="*/ -360 w 1176120"/>
              <a:gd name="textAreaRight" fmla="*/ 1176120 w 117612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25"/>
          <p:cNvSpPr/>
          <p:nvPr/>
        </p:nvSpPr>
        <p:spPr>
          <a:xfrm>
            <a:off x="7451640" y="5013360"/>
            <a:ext cx="1170000" cy="142236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36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ля существования оптических изомеров необходим </a:t>
            </a: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асимметрически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атом углер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м случае возможны два различных расположения молеку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Oval 4"/>
          <p:cNvSpPr/>
          <p:nvPr/>
        </p:nvSpPr>
        <p:spPr>
          <a:xfrm>
            <a:off x="140328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Oval 15"/>
          <p:cNvSpPr/>
          <p:nvPr/>
        </p:nvSpPr>
        <p:spPr>
          <a:xfrm>
            <a:off x="68436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Oval 16"/>
          <p:cNvSpPr/>
          <p:nvPr/>
        </p:nvSpPr>
        <p:spPr>
          <a:xfrm>
            <a:off x="2195640" y="5516640"/>
            <a:ext cx="433440" cy="431640"/>
          </a:xfrm>
          <a:prstGeom prst="ellipse">
            <a:avLst/>
          </a:prstGeom>
          <a:gradFill rotWithShape="0">
            <a:gsLst>
              <a:gs pos="0">
                <a:srgbClr val="c1a3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Oval 17"/>
          <p:cNvSpPr/>
          <p:nvPr/>
        </p:nvSpPr>
        <p:spPr>
          <a:xfrm>
            <a:off x="140328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Oval 18"/>
          <p:cNvSpPr/>
          <p:nvPr/>
        </p:nvSpPr>
        <p:spPr>
          <a:xfrm>
            <a:off x="1835280" y="6093000"/>
            <a:ext cx="433080" cy="43164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Oval 19"/>
          <p:cNvSpPr/>
          <p:nvPr/>
        </p:nvSpPr>
        <p:spPr>
          <a:xfrm>
            <a:off x="4427640" y="602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58f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Oval 20"/>
          <p:cNvSpPr/>
          <p:nvPr/>
        </p:nvSpPr>
        <p:spPr>
          <a:xfrm>
            <a:off x="4140360" y="5516640"/>
            <a:ext cx="433080" cy="43164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Oval 22"/>
          <p:cNvSpPr/>
          <p:nvPr/>
        </p:nvSpPr>
        <p:spPr>
          <a:xfrm>
            <a:off x="493236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23"/>
          <p:cNvSpPr/>
          <p:nvPr/>
        </p:nvSpPr>
        <p:spPr>
          <a:xfrm>
            <a:off x="565164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24"/>
          <p:cNvSpPr/>
          <p:nvPr/>
        </p:nvSpPr>
        <p:spPr>
          <a:xfrm>
            <a:off x="493236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Line 25"/>
          <p:cNvSpPr/>
          <p:nvPr/>
        </p:nvSpPr>
        <p:spPr>
          <a:xfrm>
            <a:off x="161928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Line 26"/>
          <p:cNvSpPr/>
          <p:nvPr/>
        </p:nvSpPr>
        <p:spPr>
          <a:xfrm>
            <a:off x="514836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Line 27"/>
          <p:cNvSpPr/>
          <p:nvPr/>
        </p:nvSpPr>
        <p:spPr>
          <a:xfrm>
            <a:off x="183528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Line 28"/>
          <p:cNvSpPr/>
          <p:nvPr/>
        </p:nvSpPr>
        <p:spPr>
          <a:xfrm flipH="1">
            <a:off x="457164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Line 30"/>
          <p:cNvSpPr/>
          <p:nvPr/>
        </p:nvSpPr>
        <p:spPr>
          <a:xfrm flipV="1">
            <a:off x="1085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Line 31"/>
          <p:cNvSpPr/>
          <p:nvPr/>
        </p:nvSpPr>
        <p:spPr>
          <a:xfrm flipH="1" flipV="1">
            <a:off x="5333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Line 32"/>
          <p:cNvSpPr/>
          <p:nvPr/>
        </p:nvSpPr>
        <p:spPr>
          <a:xfrm>
            <a:off x="169236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Line 33"/>
          <p:cNvSpPr/>
          <p:nvPr/>
        </p:nvSpPr>
        <p:spPr>
          <a:xfrm flipH="1">
            <a:off x="478800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Oval 34"/>
          <p:cNvSpPr/>
          <p:nvPr/>
        </p:nvSpPr>
        <p:spPr>
          <a:xfrm rot="20420400">
            <a:off x="6013440" y="5462640"/>
            <a:ext cx="3132000" cy="11271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природе встре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роде наибольшее значение имеет оптическая изомерия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углеводов и аминокисло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9" name="Oval 4"/>
          <p:cNvSpPr/>
          <p:nvPr/>
        </p:nvSpPr>
        <p:spPr>
          <a:xfrm>
            <a:off x="468360" y="2924280"/>
            <a:ext cx="8064360" cy="2879640"/>
          </a:xfrm>
          <a:prstGeom prst="ellipse">
            <a:avLst/>
          </a:prstGeom>
          <a:solidFill>
            <a:srgbClr val="abab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о, что практически в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родные» углеводы имею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нфигураци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аминокисл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ются только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 – C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=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en-US" sz="1800" spc="-1" strike="noStrike">
                <a:solidFill>
                  <a:srgbClr val="c9cd39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d39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OH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            НО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     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I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 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Oval 3"/>
          <p:cNvSpPr/>
          <p:nvPr/>
        </p:nvSpPr>
        <p:spPr>
          <a:xfrm rot="20692200">
            <a:off x="4858920" y="5444640"/>
            <a:ext cx="4103640" cy="10083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терм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тической изомерии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 rot="975600">
            <a:off x="0" y="1125360"/>
            <a:ext cx="194472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распростран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в при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6"/>
          <p:cNvSpPr/>
          <p:nvPr/>
        </p:nvSpPr>
        <p:spPr>
          <a:xfrm rot="1351200">
            <a:off x="4859280" y="1268280"/>
            <a:ext cx="187164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в приро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не встреч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219040" y="240840"/>
            <a:ext cx="4632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которые терм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95280" y="1386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ая изомерия – иначе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ая изомерия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ие изомеры – иначе называются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ыми изомер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а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ость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пособность соединений существовать в виде пары зеркальных изоме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цент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ат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Рацемат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AutoShape 4"/>
          <p:cNvSpPr/>
          <p:nvPr/>
        </p:nvSpPr>
        <p:spPr>
          <a:xfrm>
            <a:off x="179280" y="189000"/>
            <a:ext cx="216072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b9b9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AutoShape 5"/>
          <p:cNvSpPr/>
          <p:nvPr/>
        </p:nvSpPr>
        <p:spPr>
          <a:xfrm>
            <a:off x="6443640" y="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свет пропустить через специальный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а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о все световые волны будут колебаться в одной плоск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й свет называется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лоско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1908000" y="3068640"/>
            <a:ext cx="4932000" cy="2027160"/>
            <a:chOff x="1908000" y="3068640"/>
            <a:chExt cx="4932000" cy="2027160"/>
          </a:xfrm>
        </p:grpSpPr>
        <p:sp>
          <p:nvSpPr>
            <p:cNvPr id="1303" name="AutoShape 5"/>
            <p:cNvSpPr/>
            <p:nvPr/>
          </p:nvSpPr>
          <p:spPr>
            <a:xfrm>
              <a:off x="1908000" y="3068640"/>
              <a:ext cx="4932000" cy="20271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6"/>
            <p:cNvSpPr/>
            <p:nvPr/>
          </p:nvSpPr>
          <p:spPr>
            <a:xfrm>
              <a:off x="4682160" y="3873600"/>
              <a:ext cx="1075680" cy="3294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4920840" y="3873600"/>
              <a:ext cx="598320" cy="32940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1260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AutoShape 8"/>
            <p:cNvSpPr/>
            <p:nvPr/>
          </p:nvSpPr>
          <p:spPr>
            <a:xfrm>
              <a:off x="5040000" y="3072960"/>
              <a:ext cx="1314360" cy="434880"/>
            </a:xfrm>
            <a:prstGeom prst="wedgeRectCallout">
              <a:avLst>
                <a:gd name="adj1" fmla="val -55152"/>
                <a:gd name="adj2" fmla="val 122074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AutoShape 9"/>
            <p:cNvSpPr/>
            <p:nvPr/>
          </p:nvSpPr>
          <p:spPr>
            <a:xfrm>
              <a:off x="1933200" y="3873600"/>
              <a:ext cx="829440" cy="493920"/>
            </a:xfrm>
            <a:prstGeom prst="irregularSeal1">
              <a:avLst/>
            </a:prstGeom>
            <a:gradFill rotWithShape="0">
              <a:gsLst>
                <a:gs pos="0">
                  <a:srgbClr val="ffffb5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AutoShape 10"/>
            <p:cNvSpPr/>
            <p:nvPr/>
          </p:nvSpPr>
          <p:spPr>
            <a:xfrm flipV="1">
              <a:off x="3801960" y="3839400"/>
              <a:ext cx="275400" cy="49428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11"/>
            <p:cNvSpPr/>
            <p:nvPr/>
          </p:nvSpPr>
          <p:spPr>
            <a:xfrm flipV="1">
              <a:off x="3367440" y="4101120"/>
              <a:ext cx="3466800" cy="684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AutoShape 12"/>
            <p:cNvSpPr/>
            <p:nvPr/>
          </p:nvSpPr>
          <p:spPr>
            <a:xfrm>
              <a:off x="3966120" y="4788360"/>
              <a:ext cx="1113120" cy="302400"/>
            </a:xfrm>
            <a:prstGeom prst="wedgeRectCallout">
              <a:avLst>
                <a:gd name="adj1" fmla="val -48032"/>
                <a:gd name="adj2" fmla="val -19033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 rot="16200000">
              <a:off x="2064240" y="3523320"/>
              <a:ext cx="340200" cy="12492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2890080" y="3988080"/>
              <a:ext cx="357840" cy="1144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 rot="5170800">
              <a:off x="2062440" y="4668120"/>
              <a:ext cx="341640" cy="12312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123120"/>
                <a:gd name="textAreaBottom" fmla="*/ 123120 h 1231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16"/>
            <p:cNvSpPr/>
            <p:nvPr/>
          </p:nvSpPr>
          <p:spPr>
            <a:xfrm rot="2100000">
              <a:off x="2531880" y="4558680"/>
              <a:ext cx="355680" cy="117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17"/>
            <p:cNvSpPr/>
            <p:nvPr/>
          </p:nvSpPr>
          <p:spPr>
            <a:xfrm rot="18206400">
              <a:off x="2539440" y="3527640"/>
              <a:ext cx="342720" cy="119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4358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815г Жан Батист Био открыл явлени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тической актив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и жидкости изменять (отклонять на некоторый угол)  плоскость поляр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ризованного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рохождения через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аств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птически активного вещ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+)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ли против часовой стрелки, то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е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0" name="Group 35"/>
          <p:cNvGrpSpPr/>
          <p:nvPr/>
        </p:nvGrpSpPr>
        <p:grpSpPr>
          <a:xfrm>
            <a:off x="1116000" y="1700280"/>
            <a:ext cx="6408720" cy="2523960"/>
            <a:chOff x="1116000" y="1700280"/>
            <a:chExt cx="6408720" cy="2523960"/>
          </a:xfrm>
        </p:grpSpPr>
        <p:sp>
          <p:nvSpPr>
            <p:cNvPr id="1321" name="AutoShape 36"/>
            <p:cNvSpPr/>
            <p:nvPr/>
          </p:nvSpPr>
          <p:spPr>
            <a:xfrm>
              <a:off x="1116000" y="1700280"/>
              <a:ext cx="6408720" cy="25239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Rectangle 37"/>
            <p:cNvSpPr/>
            <p:nvPr/>
          </p:nvSpPr>
          <p:spPr>
            <a:xfrm>
              <a:off x="2229840" y="2847600"/>
              <a:ext cx="933120" cy="2286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38"/>
            <p:cNvSpPr/>
            <p:nvPr/>
          </p:nvSpPr>
          <p:spPr>
            <a:xfrm>
              <a:off x="2385360" y="2847600"/>
              <a:ext cx="623520" cy="22860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AutoShape 39"/>
            <p:cNvSpPr/>
            <p:nvPr/>
          </p:nvSpPr>
          <p:spPr>
            <a:xfrm>
              <a:off x="4253040" y="2847600"/>
              <a:ext cx="1653840" cy="228600"/>
            </a:xfrm>
            <a:prstGeom prst="parallelogram">
              <a:avLst>
                <a:gd name="adj" fmla="val 180866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Freeform 40"/>
            <p:cNvSpPr/>
            <p:nvPr/>
          </p:nvSpPr>
          <p:spPr>
            <a:xfrm rot="20831400">
              <a:off x="4563720" y="2847240"/>
              <a:ext cx="933120" cy="2286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0" h="875">
                  <a:moveTo>
                    <a:pt x="0" y="270"/>
                  </a:moveTo>
                  <a:cubicBezTo>
                    <a:pt x="15" y="260"/>
                    <a:pt x="29" y="248"/>
                    <a:pt x="45" y="240"/>
                  </a:cubicBezTo>
                  <a:cubicBezTo>
                    <a:pt x="59" y="233"/>
                    <a:pt x="76" y="233"/>
                    <a:pt x="90" y="225"/>
                  </a:cubicBezTo>
                  <a:cubicBezTo>
                    <a:pt x="122" y="207"/>
                    <a:pt x="180" y="165"/>
                    <a:pt x="180" y="165"/>
                  </a:cubicBezTo>
                  <a:cubicBezTo>
                    <a:pt x="235" y="82"/>
                    <a:pt x="178" y="148"/>
                    <a:pt x="255" y="105"/>
                  </a:cubicBezTo>
                  <a:cubicBezTo>
                    <a:pt x="287" y="87"/>
                    <a:pt x="315" y="65"/>
                    <a:pt x="345" y="45"/>
                  </a:cubicBezTo>
                  <a:cubicBezTo>
                    <a:pt x="385" y="19"/>
                    <a:pt x="480" y="7"/>
                    <a:pt x="525" y="0"/>
                  </a:cubicBezTo>
                  <a:cubicBezTo>
                    <a:pt x="603" y="26"/>
                    <a:pt x="609" y="23"/>
                    <a:pt x="630" y="105"/>
                  </a:cubicBezTo>
                  <a:cubicBezTo>
                    <a:pt x="590" y="225"/>
                    <a:pt x="543" y="237"/>
                    <a:pt x="465" y="315"/>
                  </a:cubicBezTo>
                  <a:cubicBezTo>
                    <a:pt x="427" y="428"/>
                    <a:pt x="483" y="293"/>
                    <a:pt x="405" y="390"/>
                  </a:cubicBezTo>
                  <a:cubicBezTo>
                    <a:pt x="395" y="402"/>
                    <a:pt x="397" y="421"/>
                    <a:pt x="390" y="435"/>
                  </a:cubicBezTo>
                  <a:cubicBezTo>
                    <a:pt x="332" y="551"/>
                    <a:pt x="383" y="412"/>
                    <a:pt x="345" y="525"/>
                  </a:cubicBezTo>
                  <a:cubicBezTo>
                    <a:pt x="363" y="578"/>
                    <a:pt x="380" y="621"/>
                    <a:pt x="435" y="645"/>
                  </a:cubicBezTo>
                  <a:cubicBezTo>
                    <a:pt x="464" y="658"/>
                    <a:pt x="525" y="675"/>
                    <a:pt x="525" y="675"/>
                  </a:cubicBezTo>
                  <a:cubicBezTo>
                    <a:pt x="555" y="665"/>
                    <a:pt x="585" y="655"/>
                    <a:pt x="615" y="645"/>
                  </a:cubicBezTo>
                  <a:cubicBezTo>
                    <a:pt x="630" y="640"/>
                    <a:pt x="645" y="635"/>
                    <a:pt x="660" y="630"/>
                  </a:cubicBezTo>
                  <a:cubicBezTo>
                    <a:pt x="675" y="625"/>
                    <a:pt x="705" y="615"/>
                    <a:pt x="705" y="615"/>
                  </a:cubicBezTo>
                  <a:cubicBezTo>
                    <a:pt x="715" y="600"/>
                    <a:pt x="721" y="581"/>
                    <a:pt x="735" y="570"/>
                  </a:cubicBezTo>
                  <a:cubicBezTo>
                    <a:pt x="747" y="560"/>
                    <a:pt x="769" y="566"/>
                    <a:pt x="780" y="555"/>
                  </a:cubicBezTo>
                  <a:cubicBezTo>
                    <a:pt x="791" y="544"/>
                    <a:pt x="782" y="519"/>
                    <a:pt x="795" y="510"/>
                  </a:cubicBezTo>
                  <a:cubicBezTo>
                    <a:pt x="821" y="492"/>
                    <a:pt x="885" y="480"/>
                    <a:pt x="885" y="480"/>
                  </a:cubicBezTo>
                  <a:cubicBezTo>
                    <a:pt x="895" y="465"/>
                    <a:pt x="901" y="446"/>
                    <a:pt x="915" y="435"/>
                  </a:cubicBezTo>
                  <a:cubicBezTo>
                    <a:pt x="927" y="425"/>
                    <a:pt x="946" y="428"/>
                    <a:pt x="960" y="420"/>
                  </a:cubicBezTo>
                  <a:cubicBezTo>
                    <a:pt x="992" y="402"/>
                    <a:pt x="1020" y="380"/>
                    <a:pt x="1050" y="360"/>
                  </a:cubicBezTo>
                  <a:cubicBezTo>
                    <a:pt x="1080" y="340"/>
                    <a:pt x="1106" y="311"/>
                    <a:pt x="1140" y="300"/>
                  </a:cubicBezTo>
                  <a:cubicBezTo>
                    <a:pt x="1170" y="290"/>
                    <a:pt x="1200" y="280"/>
                    <a:pt x="1230" y="270"/>
                  </a:cubicBezTo>
                  <a:cubicBezTo>
                    <a:pt x="1245" y="265"/>
                    <a:pt x="1275" y="255"/>
                    <a:pt x="1275" y="255"/>
                  </a:cubicBezTo>
                  <a:cubicBezTo>
                    <a:pt x="1340" y="260"/>
                    <a:pt x="1411" y="242"/>
                    <a:pt x="1470" y="270"/>
                  </a:cubicBezTo>
                  <a:cubicBezTo>
                    <a:pt x="1499" y="283"/>
                    <a:pt x="1500" y="360"/>
                    <a:pt x="1500" y="360"/>
                  </a:cubicBezTo>
                  <a:cubicBezTo>
                    <a:pt x="1500" y="361"/>
                    <a:pt x="1477" y="458"/>
                    <a:pt x="1470" y="465"/>
                  </a:cubicBezTo>
                  <a:cubicBezTo>
                    <a:pt x="1445" y="490"/>
                    <a:pt x="1410" y="505"/>
                    <a:pt x="1380" y="525"/>
                  </a:cubicBezTo>
                  <a:cubicBezTo>
                    <a:pt x="1365" y="535"/>
                    <a:pt x="1335" y="555"/>
                    <a:pt x="1335" y="555"/>
                  </a:cubicBezTo>
                  <a:cubicBezTo>
                    <a:pt x="1330" y="570"/>
                    <a:pt x="1327" y="586"/>
                    <a:pt x="1320" y="600"/>
                  </a:cubicBezTo>
                  <a:cubicBezTo>
                    <a:pt x="1312" y="616"/>
                    <a:pt x="1297" y="629"/>
                    <a:pt x="1290" y="645"/>
                  </a:cubicBezTo>
                  <a:cubicBezTo>
                    <a:pt x="1277" y="674"/>
                    <a:pt x="1270" y="705"/>
                    <a:pt x="1260" y="735"/>
                  </a:cubicBezTo>
                  <a:cubicBezTo>
                    <a:pt x="1255" y="750"/>
                    <a:pt x="1245" y="780"/>
                    <a:pt x="1245" y="780"/>
                  </a:cubicBezTo>
                  <a:cubicBezTo>
                    <a:pt x="1277" y="875"/>
                    <a:pt x="1328" y="837"/>
                    <a:pt x="1425" y="825"/>
                  </a:cubicBezTo>
                  <a:cubicBezTo>
                    <a:pt x="1494" y="802"/>
                    <a:pt x="1578" y="765"/>
                    <a:pt x="1650" y="76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41"/>
            <p:cNvSpPr/>
            <p:nvPr/>
          </p:nvSpPr>
          <p:spPr>
            <a:xfrm>
              <a:off x="3318480" y="2619000"/>
              <a:ext cx="466920" cy="572040"/>
            </a:xfrm>
            <a:prstGeom prst="rect">
              <a:avLst/>
            </a:prstGeom>
            <a:gradFill rotWithShape="0">
              <a:gsLst>
                <a:gs pos="0">
                  <a:srgbClr val="e5e5e5"/>
                </a:gs>
                <a:gs pos="100000">
                  <a:srgbClr val="6a6a6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Line 42"/>
            <p:cNvSpPr/>
            <p:nvPr/>
          </p:nvSpPr>
          <p:spPr>
            <a:xfrm>
              <a:off x="3940920" y="2390400"/>
              <a:ext cx="108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Line 43"/>
            <p:cNvSpPr/>
            <p:nvPr/>
          </p:nvSpPr>
          <p:spPr>
            <a:xfrm flipH="1">
              <a:off x="3652920" y="2496960"/>
              <a:ext cx="1042560" cy="93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44"/>
            <p:cNvSpPr/>
            <p:nvPr/>
          </p:nvSpPr>
          <p:spPr>
            <a:xfrm rot="878400">
              <a:off x="3940560" y="2619000"/>
              <a:ext cx="465840" cy="1144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40" h="345">
                  <a:moveTo>
                    <a:pt x="0" y="105"/>
                  </a:moveTo>
                  <a:cubicBezTo>
                    <a:pt x="70" y="82"/>
                    <a:pt x="126" y="51"/>
                    <a:pt x="195" y="30"/>
                  </a:cubicBezTo>
                  <a:cubicBezTo>
                    <a:pt x="225" y="21"/>
                    <a:pt x="285" y="0"/>
                    <a:pt x="285" y="0"/>
                  </a:cubicBezTo>
                  <a:cubicBezTo>
                    <a:pt x="310" y="5"/>
                    <a:pt x="335" y="9"/>
                    <a:pt x="360" y="15"/>
                  </a:cubicBezTo>
                  <a:cubicBezTo>
                    <a:pt x="375" y="19"/>
                    <a:pt x="390" y="27"/>
                    <a:pt x="405" y="30"/>
                  </a:cubicBezTo>
                  <a:cubicBezTo>
                    <a:pt x="498" y="51"/>
                    <a:pt x="580" y="51"/>
                    <a:pt x="660" y="105"/>
                  </a:cubicBezTo>
                  <a:cubicBezTo>
                    <a:pt x="746" y="234"/>
                    <a:pt x="631" y="82"/>
                    <a:pt x="735" y="165"/>
                  </a:cubicBezTo>
                  <a:cubicBezTo>
                    <a:pt x="749" y="176"/>
                    <a:pt x="752" y="197"/>
                    <a:pt x="765" y="210"/>
                  </a:cubicBezTo>
                  <a:cubicBezTo>
                    <a:pt x="778" y="223"/>
                    <a:pt x="795" y="230"/>
                    <a:pt x="810" y="240"/>
                  </a:cubicBezTo>
                  <a:cubicBezTo>
                    <a:pt x="815" y="260"/>
                    <a:pt x="819" y="280"/>
                    <a:pt x="825" y="300"/>
                  </a:cubicBezTo>
                  <a:cubicBezTo>
                    <a:pt x="829" y="315"/>
                    <a:pt x="840" y="345"/>
                    <a:pt x="840" y="345"/>
                  </a:cubicBezTo>
                </a:path>
              </a:pathLst>
            </a:custGeom>
            <a:solidFill>
              <a:srgbClr val="c4c4c4"/>
            </a:solidFill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45"/>
            <p:cNvSpPr/>
            <p:nvPr/>
          </p:nvSpPr>
          <p:spPr>
            <a:xfrm>
              <a:off x="4248360" y="2455200"/>
              <a:ext cx="159840" cy="149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17" h="331">
                  <a:moveTo>
                    <a:pt x="157" y="0"/>
                  </a:moveTo>
                  <a:cubicBezTo>
                    <a:pt x="139" y="109"/>
                    <a:pt x="129" y="193"/>
                    <a:pt x="52" y="270"/>
                  </a:cubicBezTo>
                  <a:cubicBezTo>
                    <a:pt x="37" y="265"/>
                    <a:pt x="14" y="269"/>
                    <a:pt x="7" y="255"/>
                  </a:cubicBezTo>
                  <a:cubicBezTo>
                    <a:pt x="0" y="241"/>
                    <a:pt x="7" y="216"/>
                    <a:pt x="22" y="210"/>
                  </a:cubicBezTo>
                  <a:cubicBezTo>
                    <a:pt x="41" y="202"/>
                    <a:pt x="62" y="220"/>
                    <a:pt x="82" y="225"/>
                  </a:cubicBezTo>
                  <a:cubicBezTo>
                    <a:pt x="144" y="319"/>
                    <a:pt x="111" y="331"/>
                    <a:pt x="187" y="300"/>
                  </a:cubicBezTo>
                  <a:cubicBezTo>
                    <a:pt x="197" y="296"/>
                    <a:pt x="207" y="290"/>
                    <a:pt x="217" y="28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AutoShape 46"/>
            <p:cNvSpPr/>
            <p:nvPr/>
          </p:nvSpPr>
          <p:spPr>
            <a:xfrm>
              <a:off x="6585840" y="2733840"/>
              <a:ext cx="621360" cy="3441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AutoShape 47"/>
            <p:cNvSpPr/>
            <p:nvPr/>
          </p:nvSpPr>
          <p:spPr>
            <a:xfrm>
              <a:off x="1451880" y="2047680"/>
              <a:ext cx="1249200" cy="456480"/>
            </a:xfrm>
            <a:prstGeom prst="wedgeRectCallout">
              <a:avLst>
                <a:gd name="adj1" fmla="val 27699"/>
                <a:gd name="adj2" fmla="val 118055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AutoShape 48"/>
            <p:cNvSpPr/>
            <p:nvPr/>
          </p:nvSpPr>
          <p:spPr>
            <a:xfrm>
              <a:off x="3007800" y="1704960"/>
              <a:ext cx="1400400" cy="457200"/>
            </a:xfrm>
            <a:prstGeom prst="wedgeRectCallout">
              <a:avLst>
                <a:gd name="adj1" fmla="val -16666"/>
                <a:gd name="adj2" fmla="val 13888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следуемый раств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AutoShape 49"/>
            <p:cNvSpPr/>
            <p:nvPr/>
          </p:nvSpPr>
          <p:spPr>
            <a:xfrm>
              <a:off x="1141200" y="2733840"/>
              <a:ext cx="467280" cy="342720"/>
            </a:xfrm>
            <a:prstGeom prst="irregularSeal1">
              <a:avLst/>
            </a:prstGeom>
            <a:gradFill rotWithShape="0">
              <a:gsLst>
                <a:gs pos="0">
                  <a:srgbClr val="ffffb1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AutoShape 50"/>
            <p:cNvSpPr/>
            <p:nvPr/>
          </p:nvSpPr>
          <p:spPr>
            <a:xfrm flipV="1">
              <a:off x="1763640" y="2733840"/>
              <a:ext cx="155160" cy="34272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51"/>
            <p:cNvSpPr/>
            <p:nvPr/>
          </p:nvSpPr>
          <p:spPr>
            <a:xfrm>
              <a:off x="1608480" y="2961720"/>
              <a:ext cx="4821840" cy="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AutoShape 52"/>
            <p:cNvSpPr/>
            <p:nvPr/>
          </p:nvSpPr>
          <p:spPr>
            <a:xfrm>
              <a:off x="1296360" y="3419280"/>
              <a:ext cx="1243800" cy="343080"/>
            </a:xfrm>
            <a:prstGeom prst="wedgeRectCallout">
              <a:avLst>
                <a:gd name="adj1" fmla="val -4092"/>
                <a:gd name="adj2" fmla="val -14389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AutoShape 53"/>
            <p:cNvSpPr/>
            <p:nvPr/>
          </p:nvSpPr>
          <p:spPr>
            <a:xfrm>
              <a:off x="6119640" y="2047680"/>
              <a:ext cx="1398240" cy="344880"/>
            </a:xfrm>
            <a:prstGeom prst="wedgeRectCallout">
              <a:avLst>
                <a:gd name="adj1" fmla="val 11120"/>
                <a:gd name="adj2" fmla="val 132171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блюдател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AutoShape 54"/>
            <p:cNvSpPr/>
            <p:nvPr/>
          </p:nvSpPr>
          <p:spPr>
            <a:xfrm>
              <a:off x="4563720" y="3304440"/>
              <a:ext cx="1243800" cy="914760"/>
            </a:xfrm>
            <a:prstGeom prst="wedgeRectCallout">
              <a:avLst>
                <a:gd name="adj1" fmla="val -52078"/>
                <a:gd name="adj2" fmla="val -7109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лоскость поляризации света повернулась на угол 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55"/>
            <p:cNvSpPr/>
            <p:nvPr/>
          </p:nvSpPr>
          <p:spPr>
            <a:xfrm>
              <a:off x="3327480" y="2728080"/>
              <a:ext cx="439200" cy="2880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0" h="45">
                  <a:moveTo>
                    <a:pt x="0" y="30"/>
                  </a:moveTo>
                  <a:cubicBezTo>
                    <a:pt x="25" y="25"/>
                    <a:pt x="50" y="13"/>
                    <a:pt x="75" y="15"/>
                  </a:cubicBezTo>
                  <a:cubicBezTo>
                    <a:pt x="106" y="18"/>
                    <a:pt x="165" y="45"/>
                    <a:pt x="165" y="45"/>
                  </a:cubicBezTo>
                  <a:cubicBezTo>
                    <a:pt x="195" y="35"/>
                    <a:pt x="225" y="25"/>
                    <a:pt x="255" y="15"/>
                  </a:cubicBezTo>
                  <a:cubicBezTo>
                    <a:pt x="270" y="10"/>
                    <a:pt x="300" y="0"/>
                    <a:pt x="300" y="0"/>
                  </a:cubicBezTo>
                  <a:cubicBezTo>
                    <a:pt x="315" y="10"/>
                    <a:pt x="327" y="28"/>
                    <a:pt x="345" y="30"/>
                  </a:cubicBezTo>
                  <a:cubicBezTo>
                    <a:pt x="397" y="36"/>
                    <a:pt x="456" y="0"/>
                    <a:pt x="510" y="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1" name="AutoShape 56"/>
          <p:cNvSpPr/>
          <p:nvPr/>
        </p:nvSpPr>
        <p:spPr>
          <a:xfrm>
            <a:off x="7020000" y="5734080"/>
            <a:ext cx="1834920" cy="963720"/>
          </a:xfrm>
          <a:prstGeom prst="upArrowCallout">
            <a:avLst>
              <a:gd name="adj1" fmla="val 47604"/>
              <a:gd name="adj2" fmla="val 47600"/>
              <a:gd name="adj3" fmla="val 16667"/>
              <a:gd name="adj4" fmla="val 66660"/>
            </a:avLst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Вы поняли что такое изомер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Научились строить изом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Значит самое время приступить к выполнению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Желаю усп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WordArt 4"/>
          <p:cNvSpPr txBox="1"/>
          <p:nvPr/>
        </p:nvSpPr>
        <p:spPr>
          <a:xfrm rot="21455400">
            <a:off x="611280" y="252360"/>
            <a:ext cx="79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конец  раб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Кето – енольные превращ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 есть превращение непредельного спирта в кетон или альдеги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пример, такое превращение наблюдается в 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еакции Кучеров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(гидратация алкинов в присутствии катализатора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≡ СН  +  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О  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C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тин                                            э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нол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этанал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данном случае наблюдается перенос подвижного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атома водород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от кислорода к соседнему атому углер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 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=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1" name="Arc 4"/>
          <p:cNvSpPr/>
          <p:nvPr/>
        </p:nvSpPr>
        <p:spPr>
          <a:xfrm rot="7284600">
            <a:off x="1985400" y="4933800"/>
            <a:ext cx="1712880" cy="158292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1582920"/>
              <a:gd name="textAreaBottom" fmla="*/ 1583280 h 1582920"/>
            </a:gdLst>
            <a:ahLst/>
            <a:rect l="textAreaLeft" t="textAreaTop" r="textAreaRight" b="textAreaBottom"/>
            <a:pathLst>
              <a:path fill="none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</a:path>
              <a:path stroke="0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  <a:lnTo>
                  <a:pt x="0" y="19287"/>
                </a:lnTo>
                <a:lnTo>
                  <a:pt x="9724" y="0"/>
                </a:lnTo>
                <a:close/>
              </a:path>
            </a:pathLst>
          </a:custGeom>
          <a:noFill/>
          <a:ln w="28440">
            <a:solidFill>
              <a:srgbClr val="f8fb85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Н – С = О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O – C –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bfdbb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люкоза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 глюко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7fa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OH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крытая (линейная) форм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04" name="Group 6"/>
          <p:cNvGrpSpPr/>
          <p:nvPr/>
        </p:nvGrpSpPr>
        <p:grpSpPr>
          <a:xfrm>
            <a:off x="6300720" y="2781360"/>
            <a:ext cx="2197080" cy="1942920"/>
            <a:chOff x="6300720" y="2781360"/>
            <a:chExt cx="2197080" cy="1942920"/>
          </a:xfrm>
        </p:grpSpPr>
        <p:sp>
          <p:nvSpPr>
            <p:cNvPr id="1105" name="AutoShape 7"/>
            <p:cNvSpPr/>
            <p:nvPr/>
          </p:nvSpPr>
          <p:spPr>
            <a:xfrm>
              <a:off x="6300720" y="2781360"/>
              <a:ext cx="21970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6313320" y="3109320"/>
              <a:ext cx="2172240" cy="1284840"/>
            </a:xfrm>
            <a:prstGeom prst="hexagon">
              <a:avLst>
                <a:gd name="adj" fmla="val 4226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9"/>
            <p:cNvSpPr/>
            <p:nvPr/>
          </p:nvSpPr>
          <p:spPr>
            <a:xfrm>
              <a:off x="6885000" y="2787840"/>
              <a:ext cx="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10"/>
            <p:cNvSpPr/>
            <p:nvPr/>
          </p:nvSpPr>
          <p:spPr>
            <a:xfrm>
              <a:off x="79146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11"/>
            <p:cNvSpPr/>
            <p:nvPr/>
          </p:nvSpPr>
          <p:spPr>
            <a:xfrm>
              <a:off x="631332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12"/>
            <p:cNvSpPr/>
            <p:nvPr/>
          </p:nvSpPr>
          <p:spPr>
            <a:xfrm>
              <a:off x="68850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13"/>
            <p:cNvSpPr/>
            <p:nvPr/>
          </p:nvSpPr>
          <p:spPr>
            <a:xfrm>
              <a:off x="848556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2" name="Group 14"/>
          <p:cNvGrpSpPr/>
          <p:nvPr/>
        </p:nvGrpSpPr>
        <p:grpSpPr>
          <a:xfrm>
            <a:off x="539640" y="2781360"/>
            <a:ext cx="2197080" cy="1871640"/>
            <a:chOff x="539640" y="2781360"/>
            <a:chExt cx="2197080" cy="1871640"/>
          </a:xfrm>
        </p:grpSpPr>
        <p:sp>
          <p:nvSpPr>
            <p:cNvPr id="1113" name="AutoShape 15"/>
            <p:cNvSpPr/>
            <p:nvPr/>
          </p:nvSpPr>
          <p:spPr>
            <a:xfrm>
              <a:off x="539640" y="2781360"/>
              <a:ext cx="21970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AutoShape 16"/>
            <p:cNvSpPr/>
            <p:nvPr/>
          </p:nvSpPr>
          <p:spPr>
            <a:xfrm>
              <a:off x="552240" y="3097440"/>
              <a:ext cx="2172240" cy="1237680"/>
            </a:xfrm>
            <a:prstGeom prst="hexagon">
              <a:avLst>
                <a:gd name="adj" fmla="val 4387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17"/>
            <p:cNvSpPr/>
            <p:nvPr/>
          </p:nvSpPr>
          <p:spPr>
            <a:xfrm>
              <a:off x="1123920" y="2787840"/>
              <a:ext cx="0" cy="6195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Line 18"/>
            <p:cNvSpPr/>
            <p:nvPr/>
          </p:nvSpPr>
          <p:spPr>
            <a:xfrm>
              <a:off x="21535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19"/>
            <p:cNvSpPr/>
            <p:nvPr/>
          </p:nvSpPr>
          <p:spPr>
            <a:xfrm>
              <a:off x="55224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Line 20"/>
            <p:cNvSpPr/>
            <p:nvPr/>
          </p:nvSpPr>
          <p:spPr>
            <a:xfrm>
              <a:off x="11239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1"/>
            <p:cNvSpPr/>
            <p:nvPr/>
          </p:nvSpPr>
          <p:spPr>
            <a:xfrm>
              <a:off x="272448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2555640" y="-360"/>
            <a:ext cx="381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Таутомеры глюкоз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AutoShape 22">
            <a:hlinkClick r:id="rId1" action="ppaction://hlinksldjump"/>
          </p:cNvPr>
          <p:cNvSpPr/>
          <p:nvPr/>
        </p:nvSpPr>
        <p:spPr>
          <a:xfrm>
            <a:off x="250920" y="26028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AutoShape 23">
            <a:hlinkClick r:id="rId2" action="ppaction://hlinksldjump"/>
          </p:cNvPr>
          <p:cNvSpPr/>
          <p:nvPr/>
        </p:nvSpPr>
        <p:spPr>
          <a:xfrm>
            <a:off x="6732720" y="26028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bf25a"/>
                </a:solidFill>
                <a:latin typeface="Tahoma"/>
              </a:rPr>
              <a:t>Геометрическая изомер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вид изомерии предполагает наличие двух изомеров: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цис–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транс–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метрическая изомерия характерна для соединений, в которых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возможно свободное вращение вокруг углерод – углеродной связи (например, алкены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 атомы углерода связан с двумя различными групп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м геометрическую изомерию на примере бутена 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ишем структурную формулу бутена –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 – СН = СН – 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круг двойной связи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= С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водород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уют два способа расположить эти радика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С =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     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ци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– изомер:                                              Это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изомер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динаковые радикалы                                одинаковые радика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сположены                                                                расположе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одну сторону                                                  по разные стор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ойной связи.                                                            двойной связ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Oval 4">
            <a:hlinkClick r:id="rId1" action="ppaction://hlinksldjump"/>
          </p:cNvPr>
          <p:cNvSpPr/>
          <p:nvPr/>
        </p:nvSpPr>
        <p:spPr>
          <a:xfrm>
            <a:off x="2771640" y="5516640"/>
            <a:ext cx="3313080" cy="115236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у бутена -1 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8:13:16Z</dcterms:created>
  <dc:creator>Мама</dc:creator>
  <dc:description/>
  <dc:language>en-US</dc:language>
  <cp:lastModifiedBy>LEGION</cp:lastModifiedBy>
  <dcterms:modified xsi:type="dcterms:W3CDTF">2015-05-01T12:09:30Z</dcterms:modified>
  <cp:revision>123</cp:revision>
  <dc:subject/>
  <dc:title>Изомерия</dc:title>
</cp:coreProperties>
</file>