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7960-FAA9-42AD-940F-DDA3EF6C71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4CD1-C1B1-469F-89C6-69F8E307CC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биталь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4377-E26C-47AB-B8CB-CAC937D082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агнит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7E32-278A-414D-A212-A667B99539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пинов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435B-EF9E-40F9-AB24-C33741D13F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аименьшей энер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3093-22F0-44B2-AD52-3CE03B3D5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Клечковск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севолод Маврикиевич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Росс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Клечков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56EF-ED11-4345-8213-5C5AE1DCD6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ольфганг Эрнст Паул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– 195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Австр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Пау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66D7-3CCE-422E-977F-CCCE6EA1BB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Фридрих Хун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896 – 199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Хун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9C57-CB58-4016-8562-42BA0F452D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3887-DC21-4BB5-975C-621AEFB101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924 г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Франц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уи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де Бройль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Луи Виктор Пьер Реймон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7-й герцог Брольи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892-19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DAEA-5A39-403B-96F6-075C871232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7 год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США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линтон Дж. Дэвисс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1-19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2e2e2"/>
                </a:solidFill>
                <a:latin typeface="Calibri"/>
              </a:rPr>
              <a:t>Лауре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т нобелевской премии по физ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7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естер Г. Джер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6-197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нглия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Джозеф Паджет Том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2-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Экспериментально доказа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тверждение Луи де Брой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D520-62FD-4AFE-ABB5-CAA3CD9FF8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24 г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ернер Карл Гейзенбер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1-1976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нобелевской премии по физике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32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еопределенности:</a:t>
            </a: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2A5-C31C-42FD-B5C5-DE5FAD33FC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встрия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Эрвин Шрединг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7-196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обелевской прем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 физ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равнение Шрединг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EFE2-51CD-4B38-BA59-8873F9C596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Уравнение Шрединг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г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x, y, z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рассто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стоянная Планка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</a:rPr>
              <a:t>(6,626</a:t>
            </a:r>
            <a:r>
              <a:rPr b="1" lang="en-US" sz="1100" spc="-1" strike="noStrike">
                <a:solidFill>
                  <a:srgbClr val="003399"/>
                </a:solidFill>
                <a:latin typeface="Calibri"/>
                <a:ea typeface="Arial"/>
              </a:rPr>
              <a:t>×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10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-34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Дж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.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с);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m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масса частицы,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и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</a:t>
            </a:r>
            <a:r>
              <a:rPr b="1" lang="ru-RU" sz="1200" spc="-1" strike="noStrike" baseline="-25000">
                <a:solidFill>
                  <a:srgbClr val="003399"/>
                </a:solidFill>
                <a:latin typeface="Calibri"/>
                <a:ea typeface="Arial"/>
              </a:rPr>
              <a:t>п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полная и потенциальная энергия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Квадрат моду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функции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определя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ероят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нахождения электро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ато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E2E7-961A-48C5-A9CF-34916318C6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Функци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Ψ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зави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от простран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оординат электр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радиуса и двух уг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абором квантовых чисел:</a:t>
            </a:r>
            <a:r>
              <a:rPr b="0" lang="en-US" sz="1200" spc="-1" strike="noStrike">
                <a:solidFill>
                  <a:srgbClr val="e62c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, l, m,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FA1F-8D82-4477-8CD0-FA56388FC0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вантовые чи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2096-20BD-4A9D-B35F-B4AAFFBDC3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лав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4F33-CB4B-42A3-9F61-70D5DFE782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550-8FBB-4616-847F-5C76C971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AC1-5374-4D93-A291-A970C33A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C8C-904D-4827-9B74-43F5E70A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993-9DC7-4E1F-9A42-30F77D4E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F95-618B-4144-9247-9AF242F6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034-EFBA-4A8E-B918-DFE91AB3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661-9BCF-493D-8403-22FC5B76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B3B-35BA-4852-AB53-FB995202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F5E-E851-497E-AD28-9E930D9D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6DA-F3D5-4387-ADBD-28DD1542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A06-1B01-4DCA-8FFD-4E8283C4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DBD-2049-4037-84A4-DBEE577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F5DC-587D-451D-B459-4F455316B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258840"/>
            <a:ext cx="8209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27720" y="857160"/>
            <a:ext cx="250992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36440" y="812880"/>
            <a:ext cx="3775320" cy="17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386080" y="2620800"/>
            <a:ext cx="3776760" cy="171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5337000" y="4384800"/>
            <a:ext cx="3776760" cy="165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162000" y="4437000"/>
            <a:ext cx="2841480" cy="2135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7209000" y="610884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12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Электрон Шредингера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7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2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Электрон Шредингера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200" y="549360"/>
          <a:ext cx="8929800" cy="621504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2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9"/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0"/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1"/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2"/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6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LEGION</cp:lastModifiedBy>
  <dcterms:modified xsi:type="dcterms:W3CDTF">2015-05-01T12:11:13Z</dcterms:modified>
  <cp:revision>73</cp:revision>
  <dc:subject>Квантовая химия</dc:subject>
  <dc:title>Состояние электронов в атоме</dc:title>
</cp:coreProperties>
</file>