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F2F2-DADF-4D17-BC7D-61C9481D28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Состояние электронов в ато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54E1-FF42-42D1-B566-09841AC3A7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Орбитальное квантовое чис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77E2-866E-436C-B52D-243A08330C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Магнитное квантовое чис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D3F8-B06F-4B80-B840-404A6121FE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Спиновое квантовое чис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726B-5593-4A03-8789-0C749A47AF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инцип наименьшей энер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В атоме каждый электрон располагается так, чтобы его энергия была минимальной (что отвечает наибольшей его связи с ядр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2381-9945-4AEC-9499-F507F0C464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196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Клечковский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Всеволод Маврикиевич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1900 -1972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Росс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авило Клечковског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Электрон занимает в основном состоянии уровень не с минимально возможным значением n, а с наименьшим значением суммы n + l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5108-B7C5-481D-B5CA-80AA3D2103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19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Вольфганг Эрнст Паули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1900 – 1958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Австр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Лауреат нобелевской преми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194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инцип Пау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В атоме не может быть двух электронов, у которых все четыре квантовых числа были бы одинако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9083-0124-4248-A4A4-3DD4BF5DBD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Фридрих Хунд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1896 – 1997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Герман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авило Хун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и данном значении l (т. е. в пределах определенного подуровня) электроны располагаются таким образам, чтобы суммарный спин был максима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0D38-9768-467B-A748-75B98A3102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Состояние электронов в ато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FA30-C82C-4D90-AEA2-FCE46956AE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1924 г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504d"/>
                </a:solidFill>
                <a:latin typeface="Calibri"/>
              </a:rPr>
              <a:t>Франция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Луи 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де Бройль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Луи Виктор Пьер Реймон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7-й герцог Брольи)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504d"/>
                </a:solidFill>
                <a:latin typeface="Calibri"/>
              </a:rPr>
              <a:t>(1892-1987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c0504d"/>
                </a:solidFill>
                <a:latin typeface="Calibri"/>
              </a:rPr>
              <a:t>Лауреат нобелевской преми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c0504d"/>
                </a:solidFill>
                <a:latin typeface="Calibri"/>
              </a:rPr>
              <a:t>(1929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Электрон обладает двойственными корпускулярно-волновыми свойствами (как свет), то есть проявляет одновременно свойства частицы и вол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ABC7-F9D8-4444-B934-EDA5DA2C98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1927 год </a:t>
            </a: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США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Клинтон Дж. Дэвиссо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1881-195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2e2e2"/>
                </a:solidFill>
                <a:latin typeface="Calibri"/>
              </a:rPr>
              <a:t>Лауре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ат нобелевской премии по физ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1937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Лестер Г. Джерме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1896-197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Англия 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Джозеф Паджет Томс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1892-197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Экспериментально доказал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утверждение Луи де Бройл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5513-30A6-44FF-93F5-351E1B089E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1924 го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Германия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Вернер Карл Гейзенберг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1901-1976)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Лауреат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нобелевской премии по физике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1932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инцип неопределенности:</a:t>
            </a:r>
            <a:r>
              <a:rPr b="0" lang="ru-RU" sz="1200" spc="-1" strike="noStrike">
                <a:solidFill>
                  <a:srgbClr val="00cc66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Невозможно в один и тот же момент времени точно определить местонахождение электрона в пространстве и его скор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6136-A4AF-43E4-8096-A76ED55898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1926 г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Австрия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Эрвин Шрединг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1887-1961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Лауреа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нобелевской прем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по физи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1933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Уравнение Шрединге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0E61-6BBF-472B-9CB6-0C3F2B89AF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Уравнение Шредингер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гд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alibri"/>
              </a:rPr>
              <a:t>x, y, z –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расстоя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3399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постоянная Планка</a:t>
            </a:r>
            <a:r>
              <a:rPr b="0" lang="ru-RU" sz="14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003399"/>
                </a:solidFill>
                <a:latin typeface="Calibri"/>
              </a:rPr>
              <a:t>(6,626</a:t>
            </a:r>
            <a:r>
              <a:rPr b="1" lang="en-US" sz="1100" spc="-1" strike="noStrike">
                <a:solidFill>
                  <a:srgbClr val="003399"/>
                </a:solidFill>
                <a:latin typeface="Calibri"/>
                <a:ea typeface="Arial"/>
              </a:rPr>
              <a:t>×</a:t>
            </a:r>
            <a:r>
              <a:rPr b="1" lang="ru-RU" sz="1100" spc="-1" strike="noStrike">
                <a:solidFill>
                  <a:srgbClr val="003399"/>
                </a:solidFill>
                <a:latin typeface="Calibri"/>
                <a:ea typeface="Arial"/>
              </a:rPr>
              <a:t>10</a:t>
            </a:r>
            <a:r>
              <a:rPr b="1" lang="ru-RU" sz="1100" spc="-1" strike="noStrike" baseline="30000">
                <a:solidFill>
                  <a:srgbClr val="003399"/>
                </a:solidFill>
                <a:latin typeface="Calibri"/>
                <a:ea typeface="Arial"/>
              </a:rPr>
              <a:t>-34</a:t>
            </a:r>
            <a:r>
              <a:rPr b="1" lang="ru-RU" sz="1100" spc="-1" strike="noStrike">
                <a:solidFill>
                  <a:srgbClr val="003399"/>
                </a:solidFill>
                <a:latin typeface="Calibri"/>
                <a:ea typeface="Arial"/>
              </a:rPr>
              <a:t> Дж</a:t>
            </a:r>
            <a:r>
              <a:rPr b="1" lang="ru-RU" sz="1100" spc="-1" strike="noStrike" baseline="30000">
                <a:solidFill>
                  <a:srgbClr val="003399"/>
                </a:solidFill>
                <a:latin typeface="Calibri"/>
                <a:ea typeface="Arial"/>
              </a:rPr>
              <a:t>.</a:t>
            </a:r>
            <a:r>
              <a:rPr b="1" lang="ru-RU" sz="1100" spc="-1" strike="noStrike">
                <a:solidFill>
                  <a:srgbClr val="003399"/>
                </a:solidFill>
                <a:latin typeface="Calibri"/>
                <a:ea typeface="Arial"/>
              </a:rPr>
              <a:t>с);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  <a:ea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alibri"/>
                <a:ea typeface="Arial"/>
              </a:rPr>
              <a:t>m –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  <a:ea typeface="Arial"/>
              </a:rPr>
              <a:t>масса частицы, </a:t>
            </a:r>
            <a:r>
              <a:rPr b="0" lang="en-US" sz="1200" spc="-1" strike="noStrike">
                <a:solidFill>
                  <a:srgbClr val="003399"/>
                </a:solidFill>
                <a:latin typeface="Calibri"/>
                <a:ea typeface="Arial"/>
              </a:rPr>
              <a:t>E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  <a:ea typeface="Arial"/>
              </a:rPr>
              <a:t>и </a:t>
            </a:r>
            <a:r>
              <a:rPr b="0" lang="en-US" sz="1200" spc="-1" strike="noStrike">
                <a:solidFill>
                  <a:srgbClr val="003399"/>
                </a:solidFill>
                <a:latin typeface="Calibri"/>
                <a:ea typeface="Arial"/>
              </a:rPr>
              <a:t>E</a:t>
            </a:r>
            <a:r>
              <a:rPr b="1" lang="ru-RU" sz="1200" spc="-1" strike="noStrike" baseline="-25000">
                <a:solidFill>
                  <a:srgbClr val="003399"/>
                </a:solidFill>
                <a:latin typeface="Calibri"/>
                <a:ea typeface="Arial"/>
              </a:rPr>
              <a:t>п 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  <a:ea typeface="Arial"/>
              </a:rPr>
              <a:t>полная и потенциальная энергия част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Квадрат модул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функции </a:t>
            </a: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определяе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вероятност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нахождения электрон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в пространств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в атом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2D00-55E3-48DA-86AB-8177B4218B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Функция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Ψ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 завис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от пространств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координат электр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радиуса и двух угл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и определя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набором квантовых чисел:</a:t>
            </a:r>
            <a:r>
              <a:rPr b="0" lang="en-US" sz="1200" spc="-1" strike="noStrike">
                <a:solidFill>
                  <a:srgbClr val="e62c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n, l, m,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91C2-782A-477C-BC0A-D26D626C6C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Квантовые чи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E57B-234A-4222-92DB-3E6C6CD627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Главное квантовое чис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D076-B024-4E1B-9C85-15A926FFEC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CA2C-4DAD-4496-AA6A-60708B2DD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8642-815D-4EE8-A2BD-6D053039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D230-0AA2-44DC-B79C-746C65C07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2427-2A90-4815-BB63-4BBF5C87E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0E6C-EF93-4D9B-94FE-48603310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245E-9BF8-4CCF-AD43-50DC5701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F9D0-51A4-433E-B9B3-D0BF36DB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C73D-9497-465D-9CD8-A131AE78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F54B-3EF4-4C01-B68D-F3743FC0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C07E-D05C-40D4-8D11-37D43261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6494-E978-4129-A261-7A70E0D4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1421-8155-4513-9220-BA31F3C0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DECC-1FAF-4FC3-B0D2-2C20B776B5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9280" y="258840"/>
            <a:ext cx="82090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Состояние электронов в ато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6327720" y="857160"/>
            <a:ext cx="2509920" cy="1738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136440" y="812880"/>
            <a:ext cx="3775320" cy="1719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2386080" y="2620800"/>
            <a:ext cx="3776760" cy="1717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4"/>
          <a:stretch/>
        </p:blipFill>
        <p:spPr>
          <a:xfrm>
            <a:off x="5337000" y="4384800"/>
            <a:ext cx="3776760" cy="1655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5"/>
          <a:stretch/>
        </p:blipFill>
        <p:spPr>
          <a:xfrm>
            <a:off x="162000" y="4437000"/>
            <a:ext cx="2841480" cy="21351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9"/>
          <p:cNvSpPr/>
          <p:nvPr/>
        </p:nvSpPr>
        <p:spPr>
          <a:xfrm>
            <a:off x="7209000" y="610884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Тверских О.И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учитель хим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3628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Орбитальное квантов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1908000" y="1403280"/>
            <a:ext cx="5185080" cy="518328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8"/>
          <p:cNvSpPr/>
          <p:nvPr/>
        </p:nvSpPr>
        <p:spPr>
          <a:xfrm>
            <a:off x="8245440" y="6308640"/>
            <a:ext cx="647640" cy="250920"/>
          </a:xfrm>
          <a:custGeom>
            <a:avLst/>
            <a:gdLst>
              <a:gd name="textAreaLeft" fmla="*/ 16200 w 647640"/>
              <a:gd name="textAreaRight" fmla="*/ 631440 w 6476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702" h="21600">
                <a:moveTo>
                  <a:pt x="0" y="0"/>
                </a:moveTo>
                <a:lnTo>
                  <a:pt x="55702" y="0"/>
                </a:lnTo>
                <a:lnTo>
                  <a:pt x="55702" y="21600"/>
                </a:lnTo>
                <a:lnTo>
                  <a:pt x="0" y="21600"/>
                </a:lnTo>
                <a:close/>
              </a:path>
              <a:path fill="lightenLess" w="55702" h="21600">
                <a:moveTo>
                  <a:pt x="0" y="0"/>
                </a:moveTo>
                <a:lnTo>
                  <a:pt x="55702" y="0"/>
                </a:lnTo>
                <a:lnTo>
                  <a:pt x="54302" y="1400"/>
                </a:lnTo>
                <a:lnTo>
                  <a:pt x="1400" y="1400"/>
                </a:lnTo>
                <a:close/>
              </a:path>
              <a:path fill="darken" w="55702" h="21600">
                <a:moveTo>
                  <a:pt x="55702" y="0"/>
                </a:moveTo>
                <a:lnTo>
                  <a:pt x="55702" y="21600"/>
                </a:lnTo>
                <a:lnTo>
                  <a:pt x="54302" y="20200"/>
                </a:lnTo>
                <a:lnTo>
                  <a:pt x="54302" y="1400"/>
                </a:lnTo>
                <a:close/>
              </a:path>
              <a:path fill="darkenLess" w="55702" h="21600">
                <a:moveTo>
                  <a:pt x="55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302" y="20200"/>
                </a:lnTo>
                <a:close/>
              </a:path>
              <a:path fill="lighten" w="55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702" h="21600">
                <a:moveTo>
                  <a:pt x="20845" y="10800"/>
                </a:moveTo>
                <a:lnTo>
                  <a:pt x="34857" y="3794"/>
                </a:lnTo>
                <a:lnTo>
                  <a:pt x="348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8137440" y="5950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611280" y="725400"/>
            <a:ext cx="7993080" cy="61326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1692360" y="-36360"/>
            <a:ext cx="5761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Магнитное квантов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8245440" y="6308640"/>
            <a:ext cx="647640" cy="250920"/>
          </a:xfrm>
          <a:custGeom>
            <a:avLst/>
            <a:gdLst>
              <a:gd name="textAreaLeft" fmla="*/ 16200 w 647640"/>
              <a:gd name="textAreaRight" fmla="*/ 631440 w 6476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702" h="21600">
                <a:moveTo>
                  <a:pt x="0" y="0"/>
                </a:moveTo>
                <a:lnTo>
                  <a:pt x="55702" y="0"/>
                </a:lnTo>
                <a:lnTo>
                  <a:pt x="55702" y="21600"/>
                </a:lnTo>
                <a:lnTo>
                  <a:pt x="0" y="21600"/>
                </a:lnTo>
                <a:close/>
              </a:path>
              <a:path fill="lightenLess" w="55702" h="21600">
                <a:moveTo>
                  <a:pt x="0" y="0"/>
                </a:moveTo>
                <a:lnTo>
                  <a:pt x="55702" y="0"/>
                </a:lnTo>
                <a:lnTo>
                  <a:pt x="54302" y="1400"/>
                </a:lnTo>
                <a:lnTo>
                  <a:pt x="1400" y="1400"/>
                </a:lnTo>
                <a:close/>
              </a:path>
              <a:path fill="darken" w="55702" h="21600">
                <a:moveTo>
                  <a:pt x="55702" y="0"/>
                </a:moveTo>
                <a:lnTo>
                  <a:pt x="55702" y="21600"/>
                </a:lnTo>
                <a:lnTo>
                  <a:pt x="54302" y="20200"/>
                </a:lnTo>
                <a:lnTo>
                  <a:pt x="54302" y="1400"/>
                </a:lnTo>
                <a:close/>
              </a:path>
              <a:path fill="darkenLess" w="55702" h="21600">
                <a:moveTo>
                  <a:pt x="55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302" y="20200"/>
                </a:lnTo>
                <a:close/>
              </a:path>
              <a:path fill="lighten" w="55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702" h="21600">
                <a:moveTo>
                  <a:pt x="20845" y="10800"/>
                </a:moveTo>
                <a:lnTo>
                  <a:pt x="34857" y="3794"/>
                </a:lnTo>
                <a:lnTo>
                  <a:pt x="348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8137440" y="5950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445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Спиновое квантов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5786280" y="3473280"/>
            <a:ext cx="2941920" cy="2419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Картинка 1 из 712"/>
          <p:cNvPicPr/>
          <p:nvPr/>
        </p:nvPicPr>
        <p:blipFill>
          <a:blip r:embed="rId2"/>
          <a:stretch/>
        </p:blipFill>
        <p:spPr>
          <a:xfrm>
            <a:off x="297000" y="1403280"/>
            <a:ext cx="5157720" cy="305928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0"/>
          <p:cNvSpPr/>
          <p:nvPr/>
        </p:nvSpPr>
        <p:spPr>
          <a:xfrm>
            <a:off x="8245440" y="6308640"/>
            <a:ext cx="647640" cy="250920"/>
          </a:xfrm>
          <a:custGeom>
            <a:avLst/>
            <a:gdLst>
              <a:gd name="textAreaLeft" fmla="*/ 16200 w 647640"/>
              <a:gd name="textAreaRight" fmla="*/ 631440 w 6476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702" h="21600">
                <a:moveTo>
                  <a:pt x="0" y="0"/>
                </a:moveTo>
                <a:lnTo>
                  <a:pt x="55702" y="0"/>
                </a:lnTo>
                <a:lnTo>
                  <a:pt x="55702" y="21600"/>
                </a:lnTo>
                <a:lnTo>
                  <a:pt x="0" y="21600"/>
                </a:lnTo>
                <a:close/>
              </a:path>
              <a:path fill="lightenLess" w="55702" h="21600">
                <a:moveTo>
                  <a:pt x="0" y="0"/>
                </a:moveTo>
                <a:lnTo>
                  <a:pt x="55702" y="0"/>
                </a:lnTo>
                <a:lnTo>
                  <a:pt x="54302" y="1400"/>
                </a:lnTo>
                <a:lnTo>
                  <a:pt x="1400" y="1400"/>
                </a:lnTo>
                <a:close/>
              </a:path>
              <a:path fill="darken" w="55702" h="21600">
                <a:moveTo>
                  <a:pt x="55702" y="0"/>
                </a:moveTo>
                <a:lnTo>
                  <a:pt x="55702" y="21600"/>
                </a:lnTo>
                <a:lnTo>
                  <a:pt x="54302" y="20200"/>
                </a:lnTo>
                <a:lnTo>
                  <a:pt x="54302" y="1400"/>
                </a:lnTo>
                <a:close/>
              </a:path>
              <a:path fill="darkenLess" w="55702" h="21600">
                <a:moveTo>
                  <a:pt x="55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302" y="20200"/>
                </a:lnTo>
                <a:close/>
              </a:path>
              <a:path fill="lighten" w="55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702" h="21600">
                <a:moveTo>
                  <a:pt x="20845" y="10800"/>
                </a:moveTo>
                <a:lnTo>
                  <a:pt x="34857" y="3794"/>
                </a:lnTo>
                <a:lnTo>
                  <a:pt x="348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8137440" y="5950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Принцип наименьшей энерг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В атоме каждый электрон располагается так, чтобы его энергия была минимальной (что отвечает наибольшей его связи с ядро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3492360" y="3024360"/>
            <a:ext cx="4287960" cy="33940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206280" y="233280"/>
            <a:ext cx="801072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9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Клечков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севолод Маврикиевич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00 -197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Ро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равило Клечковског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Электрон занимает в основном состоянии уровень не с минимально возможным значением n, а с наименьшим значением суммы n + l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385920" y="233280"/>
            <a:ext cx="1952640" cy="2384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5921280" y="279360"/>
            <a:ext cx="2063880" cy="1031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3"/>
          <a:stretch/>
        </p:blipFill>
        <p:spPr>
          <a:xfrm>
            <a:off x="6732720" y="638280"/>
            <a:ext cx="1838160" cy="1226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4"/>
          <a:stretch/>
        </p:blipFill>
        <p:spPr>
          <a:xfrm>
            <a:off x="7316640" y="2033640"/>
            <a:ext cx="1452600" cy="19350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9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ольфганг Эрнст Пау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00 – 195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Авс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Лауреат нобелевской пре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4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ринцип Паул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В атоме не может быть двух электронов, у которых все четыре квантовых числа были бы одинако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"/>
          <p:cNvPicPr/>
          <p:nvPr/>
        </p:nvPicPr>
        <p:blipFill>
          <a:blip r:embed="rId1"/>
          <a:stretch/>
        </p:blipFill>
        <p:spPr>
          <a:xfrm>
            <a:off x="7164360" y="260280"/>
            <a:ext cx="1792440" cy="1195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985760" cy="2700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"/>
          <p:cNvPicPr/>
          <p:nvPr/>
        </p:nvPicPr>
        <p:blipFill>
          <a:blip r:embed="rId3"/>
          <a:stretch/>
        </p:blipFill>
        <p:spPr>
          <a:xfrm>
            <a:off x="6281640" y="1403280"/>
            <a:ext cx="2136960" cy="15796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Фридрих Ху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96 – 19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Гер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равило Хун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ри данном значении l (т. е. в пределах определенного подуровня) электроны располагаются таким образам, чтобы суммарный спин был максималь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1"/>
          <a:stretch/>
        </p:blipFill>
        <p:spPr>
          <a:xfrm>
            <a:off x="341280" y="279360"/>
            <a:ext cx="1940040" cy="2654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"/>
          <p:cNvPicPr/>
          <p:nvPr/>
        </p:nvPicPr>
        <p:blipFill>
          <a:blip r:embed="rId2"/>
          <a:stretch/>
        </p:blipFill>
        <p:spPr>
          <a:xfrm>
            <a:off x="6867360" y="333360"/>
            <a:ext cx="1806840" cy="1089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"/>
          <p:cNvPicPr/>
          <p:nvPr/>
        </p:nvPicPr>
        <p:blipFill>
          <a:blip r:embed="rId3"/>
          <a:stretch/>
        </p:blipFill>
        <p:spPr>
          <a:xfrm>
            <a:off x="5472000" y="1584360"/>
            <a:ext cx="1998720" cy="150012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539280" y="259920"/>
            <a:ext cx="8209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Состояние электронов в ато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3805200" cy="1733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"/>
          <p:cNvPicPr/>
          <p:nvPr/>
        </p:nvPicPr>
        <p:blipFill>
          <a:blip r:embed="rId2"/>
          <a:stretch/>
        </p:blipFill>
        <p:spPr>
          <a:xfrm>
            <a:off x="5003640" y="4797360"/>
            <a:ext cx="3807000" cy="1668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"/>
          <p:cNvPicPr/>
          <p:nvPr/>
        </p:nvPicPr>
        <p:blipFill>
          <a:blip r:embed="rId3"/>
          <a:stretch/>
        </p:blipFill>
        <p:spPr>
          <a:xfrm>
            <a:off x="324000" y="4437000"/>
            <a:ext cx="2863800" cy="2152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4"/>
          <a:stretch/>
        </p:blipFill>
        <p:spPr>
          <a:xfrm>
            <a:off x="5877000" y="1042920"/>
            <a:ext cx="2949480" cy="2617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5"/>
          <a:stretch/>
        </p:blipFill>
        <p:spPr>
          <a:xfrm>
            <a:off x="2340000" y="2852640"/>
            <a:ext cx="3806640" cy="173196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297000" y="189000"/>
            <a:ext cx="1952640" cy="2700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10920" y="259920"/>
            <a:ext cx="7993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924 г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Фран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Луи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де Брой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Луи Виктор Пьер Реймо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7-й герцог Броль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(1892-198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Лауреат нобелевской пре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(192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Электрон обладает двойственными корпускулярно-волновыми свойствами (как свет), то есть проявляет одновременно свойства частицы и вол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297000" y="2303640"/>
            <a:ext cx="1081080" cy="1304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3"/>
          <a:stretch/>
        </p:blipFill>
        <p:spPr>
          <a:xfrm>
            <a:off x="7451640" y="684360"/>
            <a:ext cx="1401840" cy="216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4"/>
          <a:stretch/>
        </p:blipFill>
        <p:spPr>
          <a:xfrm>
            <a:off x="6102360" y="233280"/>
            <a:ext cx="1643040" cy="109548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95400" y="98280"/>
            <a:ext cx="2361960" cy="2475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3008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927 год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США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Клинтон Дж. Дэвисс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81-195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2e2"/>
                </a:solidFill>
                <a:latin typeface="Arial"/>
              </a:rPr>
              <a:t>Лауре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ат нобелевской премии по физ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37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Лестер Г. Джерм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96-197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Англия 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Джозеф Паджет Томс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92-197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Экспериментально доказа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утверждение Луи де Брой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"/>
          <p:cNvPicPr/>
          <p:nvPr/>
        </p:nvPicPr>
        <p:blipFill>
          <a:blip r:embed="rId2"/>
          <a:stretch/>
        </p:blipFill>
        <p:spPr>
          <a:xfrm>
            <a:off x="7418520" y="549360"/>
            <a:ext cx="1519200" cy="2023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3"/>
          <a:stretch/>
        </p:blipFill>
        <p:spPr>
          <a:xfrm>
            <a:off x="6192720" y="142920"/>
            <a:ext cx="1575000" cy="1049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"/>
          <p:cNvPicPr/>
          <p:nvPr/>
        </p:nvPicPr>
        <p:blipFill>
          <a:blip r:embed="rId4"/>
          <a:stretch/>
        </p:blipFill>
        <p:spPr>
          <a:xfrm>
            <a:off x="147600" y="4329000"/>
            <a:ext cx="1363680" cy="1846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"/>
          <p:cNvPicPr/>
          <p:nvPr/>
        </p:nvPicPr>
        <p:blipFill>
          <a:blip r:embed="rId5"/>
          <a:stretch/>
        </p:blipFill>
        <p:spPr>
          <a:xfrm>
            <a:off x="971640" y="3741840"/>
            <a:ext cx="1646280" cy="90144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362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924 г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Герм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ернер Карл Гейзенбе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01-197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Лауре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нобелевской премии по физи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3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ринцип неопределенности:</a:t>
            </a: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Невозможно в один и тот же момент времени точно определить местонахождение электрона в пространстве и его скор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162000" y="142920"/>
            <a:ext cx="2227320" cy="244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7093080" y="233280"/>
            <a:ext cx="1798560" cy="1084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3"/>
          <a:stretch/>
        </p:blipFill>
        <p:spPr>
          <a:xfrm>
            <a:off x="6399360" y="1494000"/>
            <a:ext cx="1998360" cy="150012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31640" y="233280"/>
            <a:ext cx="8290080" cy="61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926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Австрия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Эрвин Шрединг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87-196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Лауре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нобелевской прем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по физи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3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Уравнение Шрединг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5921280" y="2619360"/>
            <a:ext cx="2886120" cy="3887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3036960" cy="2244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7" name="Object 12"/>
              <p:cNvSpPr txBox="1"/>
              <p:nvPr/>
            </p:nvSpPr>
            <p:spPr>
              <a:xfrm>
                <a:off x="0" y="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11"/>
              <p:cNvSpPr txBox="1"/>
              <p:nvPr/>
            </p:nvSpPr>
            <p:spPr>
              <a:xfrm>
                <a:off x="476280" y="5138640"/>
                <a:ext cx="49356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ψ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0" y="2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5" descr=""/>
          <p:cNvPicPr/>
          <p:nvPr/>
        </p:nvPicPr>
        <p:blipFill>
          <a:blip r:embed="rId3"/>
          <a:stretch/>
        </p:blipFill>
        <p:spPr>
          <a:xfrm>
            <a:off x="6821640" y="279360"/>
            <a:ext cx="1865160" cy="12463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Уравнение Шрединге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гд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x, y, z –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расстоян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постоянная Планка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(6,626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×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10</a:t>
            </a:r>
            <a:r>
              <a:rPr b="1" lang="ru-RU" sz="1800" spc="-1" strike="noStrike" baseline="30000">
                <a:solidFill>
                  <a:srgbClr val="003399"/>
                </a:solidFill>
                <a:latin typeface="Arial"/>
                <a:ea typeface="Arial"/>
              </a:rPr>
              <a:t>-34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 Дж</a:t>
            </a:r>
            <a:r>
              <a:rPr b="1" lang="ru-RU" sz="1800" spc="-1" strike="noStrike" baseline="30000">
                <a:solidFill>
                  <a:srgbClr val="003399"/>
                </a:solidFill>
                <a:latin typeface="Arial"/>
                <a:ea typeface="Arial"/>
              </a:rPr>
              <a:t>.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с);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m –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масса частицы,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E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и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E</a:t>
            </a:r>
            <a:r>
              <a:rPr b="1" lang="ru-RU" sz="2000" spc="-1" strike="noStrike" baseline="-25000">
                <a:solidFill>
                  <a:srgbClr val="003399"/>
                </a:solidFill>
                <a:latin typeface="Arial"/>
                <a:ea typeface="Arial"/>
              </a:rPr>
              <a:t>п 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полная и потенциальная энергия част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Квадрат моду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функции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определя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вероят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нахождения электр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в пространств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в ато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Электрон Шредингера"/>
          <p:cNvPicPr/>
          <p:nvPr/>
        </p:nvPicPr>
        <p:blipFill>
          <a:blip r:embed="rId1"/>
          <a:stretch/>
        </p:blipFill>
        <p:spPr>
          <a:xfrm>
            <a:off x="4076640" y="3040200"/>
            <a:ext cx="4694400" cy="3314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5" name="Object 7"/>
              <p:cNvSpPr txBox="1"/>
              <p:nvPr/>
            </p:nvSpPr>
            <p:spPr>
              <a:xfrm>
                <a:off x="0" y="309096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6"/>
              <p:cNvSpPr txBox="1"/>
              <p:nvPr/>
            </p:nvSpPr>
            <p:spPr>
              <a:xfrm>
                <a:off x="2340000" y="907920"/>
                <a:ext cx="439092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ψ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Rectangle 8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10"/>
              <p:cNvSpPr txBox="1"/>
              <p:nvPr/>
            </p:nvSpPr>
            <p:spPr>
              <a:xfrm>
                <a:off x="297000" y="2141640"/>
                <a:ext cx="330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Rectangle 12"/>
          <p:cNvSpPr/>
          <p:nvPr/>
        </p:nvSpPr>
        <p:spPr>
          <a:xfrm>
            <a:off x="181080" y="35186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2915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Функция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Ψ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  завис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от пространств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координат электр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(радиуса и двух угл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и определя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набором квантовых чисел:</a:t>
            </a:r>
            <a:r>
              <a:rPr b="0" lang="en-US" sz="3200" spc="-1" strike="noStrike">
                <a:solidFill>
                  <a:srgbClr val="e62c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n, l, m,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Электрон Шредингера"/>
          <p:cNvPicPr/>
          <p:nvPr/>
        </p:nvPicPr>
        <p:blipFill>
          <a:blip r:embed="rId1"/>
          <a:stretch/>
        </p:blipFill>
        <p:spPr>
          <a:xfrm>
            <a:off x="3807000" y="1014480"/>
            <a:ext cx="4694040" cy="331452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50560" y="115560"/>
            <a:ext cx="84358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Квантовые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06200" y="549360"/>
          <a:ext cx="8929800" cy="6215040"/>
        </p:xfrm>
        <a:graphic>
          <a:graphicData uri="http://schemas.openxmlformats.org/drawingml/2006/table">
            <a:tbl>
              <a:tblPr/>
              <a:tblGrid>
                <a:gridCol w="1698840"/>
                <a:gridCol w="309600"/>
                <a:gridCol w="3176640"/>
                <a:gridCol w="2808000"/>
                <a:gridCol w="936720"/>
              </a:tblGrid>
              <a:tr h="6426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Квантовые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чи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Физический смыс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Зна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Иллю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страци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Главное квантов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Определяет энергию электрона;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Степень его удаления от ядра;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Размер электронного облак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Целочисленные значения, совпадающие с номером периода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(им соответствуют латинские буквы: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N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и т.д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лайд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Орбитальное (побочное) квантов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Определяет форму электронной орбит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Целочисленные значения: 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[0, 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-1]</a:t>
                      </a:r>
                      <a:br>
                        <a:rPr sz="1800"/>
                      </a:b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(им соответствуют латинские буквы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и далее по алфавиту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лайд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Магнитное квантов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Характеризует положение электронной орбитали в пространств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Целочисленные значения от 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l 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до +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всего 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+1)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знач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лайд 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Спиновое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квантовое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Характеризует магнитный момент, возникающий при вращении электрона вокруг собственной оси – сп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-1/2 и +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лайд 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Rectangle 162"/>
          <p:cNvSpPr/>
          <p:nvPr/>
        </p:nvSpPr>
        <p:spPr>
          <a:xfrm>
            <a:off x="0" y="539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19"/>
          <p:cNvSpPr/>
          <p:nvPr/>
        </p:nvSpPr>
        <p:spPr>
          <a:xfrm>
            <a:off x="8244000" y="2168640"/>
            <a:ext cx="649080" cy="250560"/>
          </a:xfrm>
          <a:custGeom>
            <a:avLst/>
            <a:gdLst>
              <a:gd name="textAreaLeft" fmla="*/ 16200 w 649080"/>
              <a:gd name="textAreaRight" fmla="*/ 632880 w 649080"/>
              <a:gd name="textAreaTop" fmla="*/ 16200 h 250560"/>
              <a:gd name="textAreaBottom" fmla="*/ 234360 h 250560"/>
            </a:gdLst>
            <a:ahLst/>
            <a:rect l="textAreaLeft" t="textAreaTop" r="textAreaRight" b="textAreaBottom"/>
            <a:pathLst>
              <a:path w="55906" h="21600">
                <a:moveTo>
                  <a:pt x="0" y="0"/>
                </a:moveTo>
                <a:lnTo>
                  <a:pt x="55906" y="0"/>
                </a:lnTo>
                <a:lnTo>
                  <a:pt x="55906" y="21600"/>
                </a:lnTo>
                <a:lnTo>
                  <a:pt x="0" y="21600"/>
                </a:lnTo>
                <a:close/>
              </a:path>
              <a:path fill="lightenLess" w="55906" h="21600">
                <a:moveTo>
                  <a:pt x="0" y="0"/>
                </a:moveTo>
                <a:lnTo>
                  <a:pt x="55906" y="0"/>
                </a:lnTo>
                <a:lnTo>
                  <a:pt x="54506" y="1400"/>
                </a:lnTo>
                <a:lnTo>
                  <a:pt x="1400" y="1400"/>
                </a:lnTo>
                <a:close/>
              </a:path>
              <a:path fill="darken" w="55906" h="21600">
                <a:moveTo>
                  <a:pt x="55906" y="0"/>
                </a:moveTo>
                <a:lnTo>
                  <a:pt x="55906" y="21600"/>
                </a:lnTo>
                <a:lnTo>
                  <a:pt x="54506" y="20200"/>
                </a:lnTo>
                <a:lnTo>
                  <a:pt x="54506" y="1400"/>
                </a:lnTo>
                <a:close/>
              </a:path>
              <a:path fill="darkenLess" w="55906" h="21600">
                <a:moveTo>
                  <a:pt x="559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506" y="20200"/>
                </a:lnTo>
                <a:close/>
              </a:path>
              <a:path fill="lighten" w="559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906" h="21600">
                <a:moveTo>
                  <a:pt x="20946" y="3794"/>
                </a:moveTo>
                <a:lnTo>
                  <a:pt x="34959" y="10800"/>
                </a:lnTo>
                <a:lnTo>
                  <a:pt x="209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220"/>
          <p:cNvSpPr/>
          <p:nvPr/>
        </p:nvSpPr>
        <p:spPr>
          <a:xfrm>
            <a:off x="8244000" y="3851280"/>
            <a:ext cx="649080" cy="250920"/>
          </a:xfrm>
          <a:custGeom>
            <a:avLst/>
            <a:gdLst>
              <a:gd name="textAreaLeft" fmla="*/ 16200 w 649080"/>
              <a:gd name="textAreaRight" fmla="*/ 632880 w 64908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826" h="21600">
                <a:moveTo>
                  <a:pt x="0" y="0"/>
                </a:moveTo>
                <a:lnTo>
                  <a:pt x="55826" y="0"/>
                </a:lnTo>
                <a:lnTo>
                  <a:pt x="55826" y="21600"/>
                </a:lnTo>
                <a:lnTo>
                  <a:pt x="0" y="21600"/>
                </a:lnTo>
                <a:close/>
              </a:path>
              <a:path fill="lightenLess" w="55826" h="21600">
                <a:moveTo>
                  <a:pt x="0" y="0"/>
                </a:moveTo>
                <a:lnTo>
                  <a:pt x="55826" y="0"/>
                </a:lnTo>
                <a:lnTo>
                  <a:pt x="54426" y="1400"/>
                </a:lnTo>
                <a:lnTo>
                  <a:pt x="1400" y="1400"/>
                </a:lnTo>
                <a:close/>
              </a:path>
              <a:path fill="darken" w="55826" h="21600">
                <a:moveTo>
                  <a:pt x="55826" y="0"/>
                </a:moveTo>
                <a:lnTo>
                  <a:pt x="55826" y="21600"/>
                </a:lnTo>
                <a:lnTo>
                  <a:pt x="54426" y="20200"/>
                </a:lnTo>
                <a:lnTo>
                  <a:pt x="54426" y="1400"/>
                </a:lnTo>
                <a:close/>
              </a:path>
              <a:path fill="darkenLess" w="55826" h="21600">
                <a:moveTo>
                  <a:pt x="558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26" y="20200"/>
                </a:lnTo>
                <a:close/>
              </a:path>
              <a:path fill="lighten" w="558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26" h="21600">
                <a:moveTo>
                  <a:pt x="20906" y="3794"/>
                </a:moveTo>
                <a:lnTo>
                  <a:pt x="34919" y="10800"/>
                </a:lnTo>
                <a:lnTo>
                  <a:pt x="209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21"/>
          <p:cNvSpPr/>
          <p:nvPr/>
        </p:nvSpPr>
        <p:spPr>
          <a:xfrm>
            <a:off x="8244000" y="5167440"/>
            <a:ext cx="649080" cy="250560"/>
          </a:xfrm>
          <a:custGeom>
            <a:avLst/>
            <a:gdLst>
              <a:gd name="textAreaLeft" fmla="*/ 16200 w 649080"/>
              <a:gd name="textAreaRight" fmla="*/ 632880 w 649080"/>
              <a:gd name="textAreaTop" fmla="*/ 16200 h 250560"/>
              <a:gd name="textAreaBottom" fmla="*/ 234360 h 250560"/>
            </a:gdLst>
            <a:ahLst/>
            <a:rect l="textAreaLeft" t="textAreaTop" r="textAreaRight" b="textAreaBottom"/>
            <a:pathLst>
              <a:path w="55906" h="21600">
                <a:moveTo>
                  <a:pt x="0" y="0"/>
                </a:moveTo>
                <a:lnTo>
                  <a:pt x="55906" y="0"/>
                </a:lnTo>
                <a:lnTo>
                  <a:pt x="55906" y="21600"/>
                </a:lnTo>
                <a:lnTo>
                  <a:pt x="0" y="21600"/>
                </a:lnTo>
                <a:close/>
              </a:path>
              <a:path fill="lightenLess" w="55906" h="21600">
                <a:moveTo>
                  <a:pt x="0" y="0"/>
                </a:moveTo>
                <a:lnTo>
                  <a:pt x="55906" y="0"/>
                </a:lnTo>
                <a:lnTo>
                  <a:pt x="54506" y="1400"/>
                </a:lnTo>
                <a:lnTo>
                  <a:pt x="1400" y="1400"/>
                </a:lnTo>
                <a:close/>
              </a:path>
              <a:path fill="darken" w="55906" h="21600">
                <a:moveTo>
                  <a:pt x="55906" y="0"/>
                </a:moveTo>
                <a:lnTo>
                  <a:pt x="55906" y="21600"/>
                </a:lnTo>
                <a:lnTo>
                  <a:pt x="54506" y="20200"/>
                </a:lnTo>
                <a:lnTo>
                  <a:pt x="54506" y="1400"/>
                </a:lnTo>
                <a:close/>
              </a:path>
              <a:path fill="darkenLess" w="55906" h="21600">
                <a:moveTo>
                  <a:pt x="559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506" y="20200"/>
                </a:lnTo>
                <a:close/>
              </a:path>
              <a:path fill="lighten" w="559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906" h="21600">
                <a:moveTo>
                  <a:pt x="20946" y="3794"/>
                </a:moveTo>
                <a:lnTo>
                  <a:pt x="34959" y="10800"/>
                </a:lnTo>
                <a:lnTo>
                  <a:pt x="209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22"/>
          <p:cNvSpPr/>
          <p:nvPr/>
        </p:nvSpPr>
        <p:spPr>
          <a:xfrm>
            <a:off x="8244000" y="6273720"/>
            <a:ext cx="649080" cy="250920"/>
          </a:xfrm>
          <a:custGeom>
            <a:avLst/>
            <a:gdLst>
              <a:gd name="textAreaLeft" fmla="*/ 16200 w 649080"/>
              <a:gd name="textAreaRight" fmla="*/ 632880 w 64908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826" h="21600">
                <a:moveTo>
                  <a:pt x="0" y="0"/>
                </a:moveTo>
                <a:lnTo>
                  <a:pt x="55826" y="0"/>
                </a:lnTo>
                <a:lnTo>
                  <a:pt x="55826" y="21600"/>
                </a:lnTo>
                <a:lnTo>
                  <a:pt x="0" y="21600"/>
                </a:lnTo>
                <a:close/>
              </a:path>
              <a:path fill="lightenLess" w="55826" h="21600">
                <a:moveTo>
                  <a:pt x="0" y="0"/>
                </a:moveTo>
                <a:lnTo>
                  <a:pt x="55826" y="0"/>
                </a:lnTo>
                <a:lnTo>
                  <a:pt x="54426" y="1400"/>
                </a:lnTo>
                <a:lnTo>
                  <a:pt x="1400" y="1400"/>
                </a:lnTo>
                <a:close/>
              </a:path>
              <a:path fill="darken" w="55826" h="21600">
                <a:moveTo>
                  <a:pt x="55826" y="0"/>
                </a:moveTo>
                <a:lnTo>
                  <a:pt x="55826" y="21600"/>
                </a:lnTo>
                <a:lnTo>
                  <a:pt x="54426" y="20200"/>
                </a:lnTo>
                <a:lnTo>
                  <a:pt x="54426" y="1400"/>
                </a:lnTo>
                <a:close/>
              </a:path>
              <a:path fill="darkenLess" w="55826" h="21600">
                <a:moveTo>
                  <a:pt x="558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26" y="20200"/>
                </a:lnTo>
                <a:close/>
              </a:path>
              <a:path fill="lighten" w="558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26" h="21600">
                <a:moveTo>
                  <a:pt x="20906" y="3794"/>
                </a:moveTo>
                <a:lnTo>
                  <a:pt x="34919" y="10800"/>
                </a:lnTo>
                <a:lnTo>
                  <a:pt x="209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362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Главное квантов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4683240" y="1125360"/>
            <a:ext cx="4433760" cy="40626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179280" y="1341360"/>
            <a:ext cx="446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= -2π</a:t>
            </a:r>
            <a:r>
              <a:rPr b="0" lang="ru-RU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me</a:t>
            </a:r>
            <a:r>
              <a:rPr b="0" lang="ru-RU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ru-RU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ru-RU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,</a:t>
            </a:r>
            <a:br>
              <a:rPr sz="2800"/>
            </a:b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где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-  энергия электрона,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- масса электрона,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e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- заряд электрона,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- главное квантовое 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"/>
          <p:cNvPicPr/>
          <p:nvPr/>
        </p:nvPicPr>
        <p:blipFill>
          <a:blip r:embed="rId2"/>
          <a:stretch/>
        </p:blipFill>
        <p:spPr>
          <a:xfrm>
            <a:off x="179280" y="3130560"/>
            <a:ext cx="4287960" cy="339408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16"/>
          <p:cNvSpPr/>
          <p:nvPr/>
        </p:nvSpPr>
        <p:spPr>
          <a:xfrm>
            <a:off x="8245440" y="6308640"/>
            <a:ext cx="647640" cy="250920"/>
          </a:xfrm>
          <a:custGeom>
            <a:avLst/>
            <a:gdLst>
              <a:gd name="textAreaLeft" fmla="*/ 16200 w 647640"/>
              <a:gd name="textAreaRight" fmla="*/ 631440 w 6476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702" h="21600">
                <a:moveTo>
                  <a:pt x="0" y="0"/>
                </a:moveTo>
                <a:lnTo>
                  <a:pt x="55702" y="0"/>
                </a:lnTo>
                <a:lnTo>
                  <a:pt x="55702" y="21600"/>
                </a:lnTo>
                <a:lnTo>
                  <a:pt x="0" y="21600"/>
                </a:lnTo>
                <a:close/>
              </a:path>
              <a:path fill="lightenLess" w="55702" h="21600">
                <a:moveTo>
                  <a:pt x="0" y="0"/>
                </a:moveTo>
                <a:lnTo>
                  <a:pt x="55702" y="0"/>
                </a:lnTo>
                <a:lnTo>
                  <a:pt x="54302" y="1400"/>
                </a:lnTo>
                <a:lnTo>
                  <a:pt x="1400" y="1400"/>
                </a:lnTo>
                <a:close/>
              </a:path>
              <a:path fill="darken" w="55702" h="21600">
                <a:moveTo>
                  <a:pt x="55702" y="0"/>
                </a:moveTo>
                <a:lnTo>
                  <a:pt x="55702" y="21600"/>
                </a:lnTo>
                <a:lnTo>
                  <a:pt x="54302" y="20200"/>
                </a:lnTo>
                <a:lnTo>
                  <a:pt x="54302" y="1400"/>
                </a:lnTo>
                <a:close/>
              </a:path>
              <a:path fill="darkenLess" w="55702" h="21600">
                <a:moveTo>
                  <a:pt x="55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302" y="20200"/>
                </a:lnTo>
                <a:close/>
              </a:path>
              <a:path fill="lighten" w="55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702" h="21600">
                <a:moveTo>
                  <a:pt x="20845" y="10800"/>
                </a:moveTo>
                <a:lnTo>
                  <a:pt x="34857" y="3794"/>
                </a:lnTo>
                <a:lnTo>
                  <a:pt x="348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8137440" y="5950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8:14:14Z</dcterms:created>
  <dc:creator>Тверских О.И.</dc:creator>
  <dc:description/>
  <dc:language>en-US</dc:language>
  <cp:lastModifiedBy>LEGION</cp:lastModifiedBy>
  <dcterms:modified xsi:type="dcterms:W3CDTF">2015-05-01T12:11:13Z</dcterms:modified>
  <cp:revision>73</cp:revision>
  <dc:subject>Квантовая химия</dc:subject>
  <dc:title>Состояние электронов в атоме</dc:title>
</cp:coreProperties>
</file>