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8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29.png" ContentType="image/png"/>
  <Override PartName="/ppt/media/image52.jpeg" ContentType="image/jpeg"/>
  <Override PartName="/ppt/media/image7.gif" ContentType="image/gif"/>
  <Override PartName="/ppt/media/image26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4.jpeg" ContentType="image/jpeg"/>
  <Override PartName="/ppt/media/image22.png" ContentType="image/png"/>
  <Override PartName="/ppt/media/image59.png" ContentType="image/png"/>
  <Override PartName="/ppt/media/image5.jpeg" ContentType="image/jpeg"/>
  <Override PartName="/ppt/media/image61.png" ContentType="image/png"/>
  <Override PartName="/ppt/media/image19.png" ContentType="image/png"/>
  <Override PartName="/ppt/media/image20.jpeg" ContentType="image/jpeg"/>
  <Override PartName="/ppt/media/image21.png" ContentType="image/png"/>
  <Override PartName="/ppt/media/image10.jpeg" ContentType="image/jpeg"/>
  <Override PartName="/ppt/media/image30.png" ContentType="image/png"/>
  <Override PartName="/ppt/media/image3.jpeg" ContentType="image/jpeg"/>
  <Override PartName="/ppt/media/image12.png" ContentType="image/png"/>
  <Override PartName="/ppt/media/image8.gif" ContentType="image/gif"/>
  <Override PartName="/ppt/media/image49.jpeg" ContentType="image/jpeg"/>
  <Override PartName="/ppt/media/image16.png" ContentType="image/png"/>
  <Override PartName="/ppt/media/image1.gif" ContentType="image/gif"/>
  <Override PartName="/ppt/media/image24.gif" ContentType="image/gif"/>
  <Override PartName="/ppt/media/image27.png" ContentType="image/png"/>
  <Override PartName="/ppt/media/image15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1.png" ContentType="image/png"/>
  <Override PartName="/ppt/media/image56.jpeg" ContentType="image/jpeg"/>
  <Override PartName="/ppt/media/image34.png" ContentType="image/png"/>
  <Override PartName="/ppt/media/image35.jpeg" ContentType="image/jpeg"/>
  <Override PartName="/ppt/media/image47.png" ContentType="image/png"/>
  <Override PartName="/ppt/media/image36.jpeg" ContentType="image/jpeg"/>
  <Override PartName="/ppt/media/image37.png" ContentType="image/png"/>
  <Override PartName="/ppt/media/image17.png" ContentType="image/png"/>
  <Override PartName="/ppt/media/image14.gif" ContentType="image/gif"/>
  <Override PartName="/ppt/media/image39.jpeg" ContentType="image/jpeg"/>
  <Override PartName="/ppt/media/image41.jpeg" ContentType="image/jpeg"/>
  <Override PartName="/ppt/media/image18.png" ContentType="image/png"/>
  <Override PartName="/ppt/media/image42.jpeg" ContentType="image/jpeg"/>
  <Override PartName="/ppt/media/image28.png" ContentType="image/png"/>
  <Override PartName="/ppt/media/image43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23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6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3A39-76CC-4934-85D9-E59C0AD82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ХИМИИ. ЛЕКЦИЯ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51EB-EFFB-4F55-93A2-5E83FC6C4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о химическая связь, образованная двумя атомами за счет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общих электронных п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A: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H: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9B1D-7CC3-4264-9262-9EEF20860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CF0A-4BD1-434A-8AA6-13BF262D6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30FE-180F-470E-80EA-6ED21C057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4A6F-C7EE-4613-AA92-7B3045E45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E610-4B74-4C90-8D0F-B6695E93E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1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1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08DB-9589-4E3E-A12C-5B961DB27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F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нергия связи 4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O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2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1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F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6501-16BB-4DBB-AB1C-DD942C82E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28CE-D2EA-4EE2-A2F7-445B841A7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2BB1-1B50-43A1-9541-54D329777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BD52-4D40-4EB4-BBDF-5844D9C11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общая энергия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3D79-D7B7-4B60-93FC-FDE635DE5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6F85-54AA-4BA2-8476-0731F2A96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3C61-884E-4BA2-B61B-F97D757F7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ические решё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сущее находящемус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стоянии веществу правильное пространственное расположение 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характеризующееся периодической повторяемостью в трёх измер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C257-8358-49C1-8D79-1936FEA90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бычно ионные кристаллы твердые, но хру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онные кристаллы отличаются высокими температурами пл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расплавленном состоянии вещества, образующие ионные кристаллы, электропровод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створяются в полярных растворителях (вод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D7D6-6695-48C2-988A-73FEDF9E9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5D43-9967-4B3E-B724-A9A41BE57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олекулярная кристаллическая решётк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₂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EC72-2295-4A0B-8EA9-A3EAB920E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37CA-BCCB-4329-A119-F161FC79C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химической связи и их отличитель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18F3-B1EF-4745-9CC4-603AF1780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-дер-ваальсовы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B6E0-0E07-4036-9466-72BEC7425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ок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53F8-3FD5-4D0D-90F6-B6301C842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8866-9A9C-47C3-BB03-35320BF32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ённое состоя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SM4BxoCoHzk&amp;feature=related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49B6-E2E9-4963-8467-BFD8E257D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9E4A-B622-4BB6-8149-199331B5B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+ 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→  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a + Cl → Na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+ Cl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→ NaCl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810D-8065-4E89-86DF-320236C91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4A98-99B3-4A02-8721-4279B6552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9BF-597F-4683-B154-E0C90D06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8A0-E9BD-48E7-A5E0-A90BCE87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37F-D154-4673-AA7C-00947718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028-7408-4006-9AEA-2E9B5E27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DD42-E8D3-4374-9C76-28F247DC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F97F-898B-4C6A-8770-C97343A3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B991-A9B9-44AE-B53E-68F42C90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D5D9-3A19-46F1-809A-ABC380DD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CD44-C629-4122-8267-2A873ECE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2F98-0FBA-46F2-9A0B-C631F7F2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5791-5D16-4C42-AB4A-802F1E8E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19A-779D-4FC3-8BEC-2AA2DD15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D683-0336-4ACA-9072-8CFEBBAF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2BCE-373E-48DD-BE7A-F8D0616A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8DD9-4F86-4B3E-9A74-1BEFC995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7B4A-5CF9-4BBF-9E70-ED5E8C22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886A-5F1F-4EFA-BB95-CF4DB56D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28FBC-CA47-46E1-AFC5-C19BB1EC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3071-43CE-4973-95FB-CCA46293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4723-80FA-4A7F-8701-ABD441C0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52E60-AC09-438D-890C-9EBEF887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3728D-18D9-4FC9-9846-6E9868E3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EFD-EA05-49F4-A740-D8801D47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5AAD8-10A4-4F82-8099-7E761C98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42455-EC0A-4A49-8A1B-BE252A16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18E0-F2F9-48E8-9318-76733C2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742C6-8945-437F-AC17-91573B83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87B3-A9CE-47D2-B824-97E75F81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28F7-A1BF-4C35-BF0A-B3B2A955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FEC0A-2C6B-41D2-B0D5-70C7447E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5041A-CB1B-4E17-ABC4-4341AA41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80BBF-49E9-413D-824E-BA53B000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AA7F7-9D0A-4245-BC2C-1A6C06C4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E9C-2C82-4BE3-AEDA-9DD9F623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BE587-6470-426E-ABA5-DC580F2D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5269F-B58C-4645-8747-603F2964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2D2B5-960A-48DB-B0B0-66D98D4A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BA1C6-0625-4D03-A351-AD345BA0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63FA-99C1-4F0A-90B8-821A99F5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8B02-62B6-416E-98B3-01C49262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B7376-B266-4772-B2FA-CB0B2E42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D0EF-39FB-4E7D-A7B1-FBD5D36E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0119B-4301-47C6-95C1-05B0FCDE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1E306-BE8E-40A4-89F2-8B44CCA3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CAE-3709-4652-A2A1-9A5F94C5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DDC16-6759-4CD5-A976-3F4015AE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17145-05D9-4021-9000-92992AC6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862BF-7277-44E0-ACB2-87F931E9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18A66-4432-4443-B6D0-BC93B1CC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231B2-B41D-49EF-A5A8-9A5F61B5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E8F3E-0DED-44B3-A083-AC5BE71C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0BFA9-045E-4340-B0B8-3993E205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B263B-3C1C-4AB1-833B-E419E4EC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DED75-9E02-48A9-92A8-A3172A78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A158D-CBE4-4E04-82C5-F50AF44E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819-1140-4C06-B439-C5AC22CA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E94F3-73F4-4E6F-86D1-A462B589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A6792-0145-4F9F-BE9C-FF9F0A80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8D00C-C492-41DC-AA74-9846160D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1A8EA-ACD4-4295-9E4E-7A95DE5A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C0B4-812F-4F0E-B8EA-0D1B0F04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638A5-F729-4F5A-954D-8159F26B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077B4-B369-4535-BA5A-4A32EE0A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8D92F-B809-431C-8D58-5F492E2A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20099-488C-4CC3-AD70-1643CBC5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9EA79-0F62-48E5-9D90-14BE2E68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328-8F48-4278-ACF5-9E63AC85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B5E4B-C175-4D40-949D-48CDC890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C51F5-F34D-4233-830A-4888C5C4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C31A7-971A-4F74-A0FC-0DD0D513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E36D0-D1BA-44D4-986F-B9FFCDB0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7BEDF-EFCD-4A6B-BCF2-9B86AC8E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0C628-B9F0-4F2D-89FF-6C972A58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7945A-DADF-4E22-9E94-CC480014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FC640-93E7-4FEA-B6AF-AC5BC82B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2CB41-5BC2-4DA9-BB64-CE99AF4E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291C3-6586-4D70-841C-8C4F144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B6D-332D-449F-8806-227857C0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583D7-638B-41AC-B1BE-68D2F443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2550E-1F9C-4F0C-83E8-0ED114A5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C9D5C-DAFA-4B16-8AB0-271D191B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0441F-497C-49E5-96DC-B5772816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C7945-5EAF-40C1-B51B-EB63FEB9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9DB18-62A7-4678-9AB4-A03B435E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FAE3E-6A52-4FD0-8307-3139CA09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6C717-6CE6-43A2-B5E5-FD637083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F26E6-954F-4676-BFA0-18D0BA6E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F0D16-FB05-428B-B428-0CA1F2C9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3C7-1194-46A8-AE06-55B501B0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B9524-6A1D-4062-B875-96FF73F1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6E150-2C9E-4833-B9EE-15AD9619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DD52A-F975-4097-BF04-03BB6E95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E106D-B96F-48A7-ACF7-99490526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F1C66-F026-4D66-A6BF-E2642068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A8507-7133-4757-B568-D599C40F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55772-9CEE-4579-ADE5-D45BC2C9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DAC0-14E0-4EC5-B33D-7E5186FD9687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13E4-291E-498D-9034-A14581497570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D8F4-8FC9-4115-AC09-A256AA7A030D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232B-0E96-418C-8682-390FD15B85B6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C348-5CB8-4C80-9E9A-88FD89A72E7D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B25B-8D64-4948-A581-5C44375791A7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C19E-1519-4DC1-8EA8-76A84F69401A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892F-FA41-4351-9D95-5DD783167B4F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358A-72B0-4CF8-924D-74D28F0AB2F3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35EC-1A73-4586-AD40-697C12A9494C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A522-93FC-46AC-8176-73887B2CECF9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E94E-79D6-4885-80B5-D796807FA571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B299-82F1-4910-8BFB-F1546E94CEBD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C657-D1E2-4011-A6E6-8581BEC61F46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9D7B-7348-4A9B-89E1-5C79B0C7EF9A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D5BF-6B27-42AF-B83C-7E5F03D10382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Cambria"/>
              </a:rPr>
              <a:t>ОСНОВЫ ХИМИИ. ЛЕКЦИЯ 4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http://src.ucoz.net/sm/1/prof.gif"/>
          <p:cNvPicPr/>
          <p:nvPr/>
        </p:nvPicPr>
        <p:blipFill>
          <a:blip r:embed="rId1"/>
          <a:stretch/>
        </p:blipFill>
        <p:spPr>
          <a:xfrm>
            <a:off x="3714840" y="5214960"/>
            <a:ext cx="2761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Gill Sans MT"/>
              </a:rPr>
              <a:t>Это химическая связь, образованная двумя атомами за счет </a:t>
            </a:r>
            <a:r>
              <a:rPr b="1" i="1" lang="et-EE" sz="2000" spc="-1" strike="noStrike">
                <a:solidFill>
                  <a:srgbClr val="000000"/>
                </a:solidFill>
                <a:latin typeface="Gill Sans MT"/>
              </a:rPr>
              <a:t>общих электронных пар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B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A: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H: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6" descr="C:\Documents and Settings\Администратор\Мои документы\Мои рисунки\91197-1.jpg"/>
          <p:cNvPicPr/>
          <p:nvPr/>
        </p:nvPicPr>
        <p:blipFill>
          <a:blip r:embed="rId1"/>
          <a:stretch/>
        </p:blipFill>
        <p:spPr>
          <a:xfrm>
            <a:off x="1476360" y="3357720"/>
            <a:ext cx="2513160" cy="103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0" name="Рисунок 7" descr="C:\Documents and Settings\Администратор\Мои документы\Мои рисунки\Legame_chimico_covalente_puro.png"/>
          <p:cNvPicPr/>
          <p:nvPr/>
        </p:nvPicPr>
        <p:blipFill>
          <a:blip r:embed="rId2"/>
          <a:stretch/>
        </p:blipFill>
        <p:spPr>
          <a:xfrm>
            <a:off x="900000" y="5013360"/>
            <a:ext cx="4105440" cy="609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01" name="Picture 2" descr="C:\Documents and Settings\User\Мои документы\Мои рисунки\66.jpg"/>
          <p:cNvPicPr/>
          <p:nvPr/>
        </p:nvPicPr>
        <p:blipFill>
          <a:blip r:embed="rId3"/>
          <a:stretch/>
        </p:blipFill>
        <p:spPr>
          <a:xfrm>
            <a:off x="5724360" y="3860640"/>
            <a:ext cx="2700360" cy="2305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Documents and Settings\User\Мои документы\Мои рисунки\covalent_bond_animation.gif"/>
          <p:cNvPicPr/>
          <p:nvPr/>
        </p:nvPicPr>
        <p:blipFill>
          <a:blip r:embed="rId4"/>
          <a:stretch/>
        </p:blipFill>
        <p:spPr>
          <a:xfrm>
            <a:off x="5796000" y="1989000"/>
            <a:ext cx="26859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Схема 6" descr=""/>
          <p:cNvPicPr/>
          <p:nvPr/>
        </p:nvPicPr>
        <p:blipFill>
          <a:blip r:embed="rId1"/>
          <a:stretch/>
        </p:blipFill>
        <p:spPr>
          <a:xfrm>
            <a:off x="2676600" y="171936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6" descr="C:\Documents and Settings\Администратор\Мои документы\Мои рисунки\91197-8.jpg"/>
          <p:cNvPicPr/>
          <p:nvPr/>
        </p:nvPicPr>
        <p:blipFill>
          <a:blip r:embed="rId1"/>
          <a:stretch/>
        </p:blipFill>
        <p:spPr>
          <a:xfrm>
            <a:off x="5292720" y="5084640"/>
            <a:ext cx="1360440" cy="70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1" name="Рисунок 7" descr="C:\Documents and Settings\Администратор\Мои документы\Мои рисунки\660px-Watermolecule.png"/>
          <p:cNvPicPr/>
          <p:nvPr/>
        </p:nvPicPr>
        <p:blipFill>
          <a:blip r:embed="rId2"/>
          <a:stretch/>
        </p:blipFill>
        <p:spPr>
          <a:xfrm>
            <a:off x="7093080" y="5013360"/>
            <a:ext cx="1149120" cy="79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Picture 3" descr="C:\Documents and Settings\User\Мои документы\Мои рисунки\polar-covalent-bond.gif"/>
          <p:cNvPicPr/>
          <p:nvPr/>
        </p:nvPicPr>
        <p:blipFill>
          <a:blip r:embed="rId3"/>
          <a:stretch/>
        </p:blipFill>
        <p:spPr>
          <a:xfrm>
            <a:off x="5076720" y="2276640"/>
            <a:ext cx="2727360" cy="2393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Documents and Settings\User\Мои документы\Мои рисунки\96904-004-c880b85d.gif"/>
          <p:cNvPicPr/>
          <p:nvPr/>
        </p:nvPicPr>
        <p:blipFill>
          <a:blip r:embed="rId4"/>
          <a:stretch/>
        </p:blipFill>
        <p:spPr>
          <a:xfrm>
            <a:off x="1187280" y="4437000"/>
            <a:ext cx="2727360" cy="1712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C:\Documents and Settings\User\Мои документы\Мои рисунки\AScovale.jpg"/>
          <p:cNvPicPr/>
          <p:nvPr/>
        </p:nvPicPr>
        <p:blipFill>
          <a:blip r:embed="rId5"/>
          <a:stretch/>
        </p:blipFill>
        <p:spPr>
          <a:xfrm>
            <a:off x="1476360" y="2421000"/>
            <a:ext cx="20210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C:\Documents and Settings\User\Мои документы\Мои рисунки\mkr.gif"/>
          <p:cNvPicPr/>
          <p:nvPr/>
        </p:nvPicPr>
        <p:blipFill>
          <a:blip r:embed="rId1"/>
          <a:stretch/>
        </p:blipFill>
        <p:spPr>
          <a:xfrm>
            <a:off x="4067280" y="2276640"/>
            <a:ext cx="3781440" cy="252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User\Мои документы\Мои рисунки\akr.gif"/>
          <p:cNvPicPr/>
          <p:nvPr/>
        </p:nvPicPr>
        <p:blipFill>
          <a:blip r:embed="rId2"/>
          <a:stretch/>
        </p:blipFill>
        <p:spPr>
          <a:xfrm>
            <a:off x="755640" y="2565360"/>
            <a:ext cx="3564000" cy="23763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8"/>
          <p:cNvSpPr/>
          <p:nvPr/>
        </p:nvSpPr>
        <p:spPr>
          <a:xfrm>
            <a:off x="1332000" y="501336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ная кристаллическая решётка (например, С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5148360" y="501336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екулярная кристаллическая решётка (например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O, F₂, H₂, HCl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218960"/>
            <a:ext cx="40417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8" descr="200px-Metallic_bond_Zn_svg"/>
          <p:cNvPicPr/>
          <p:nvPr/>
        </p:nvPicPr>
        <p:blipFill>
          <a:blip r:embed="rId1"/>
          <a:stretch/>
        </p:blipFill>
        <p:spPr>
          <a:xfrm>
            <a:off x="5219640" y="486900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Documents and Settings\User\Мои документы\Мои рисунки\electrAn.gif"/>
          <p:cNvPicPr/>
          <p:nvPr/>
        </p:nvPicPr>
        <p:blipFill>
          <a:blip r:embed="rId2"/>
          <a:stretch/>
        </p:blipFill>
        <p:spPr>
          <a:xfrm>
            <a:off x="4788000" y="1268280"/>
            <a:ext cx="3136680" cy="2054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C:\Documents and Settings\User\Мои документы\Мои рисунки\21.jpg"/>
          <p:cNvPicPr/>
          <p:nvPr/>
        </p:nvPicPr>
        <p:blipFill>
          <a:blip r:embed="rId3"/>
          <a:stretch/>
        </p:blipFill>
        <p:spPr>
          <a:xfrm>
            <a:off x="6012000" y="3357720"/>
            <a:ext cx="268128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6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211280" y="1216080"/>
            <a:ext cx="38163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7" descr="C:\Documents and Settings\Администратор\Мои документы\Мои рисунки\3D_model_hydrogen_bonds_in_water.jpg"/>
          <p:cNvPicPr/>
          <p:nvPr/>
        </p:nvPicPr>
        <p:blipFill>
          <a:blip r:embed="rId1"/>
          <a:stretch/>
        </p:blipFill>
        <p:spPr>
          <a:xfrm>
            <a:off x="4932360" y="1557360"/>
            <a:ext cx="2016000" cy="2087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Documents and Settings\User\Мои документы\Мои рисунки\hm645.gif"/>
          <p:cNvPicPr/>
          <p:nvPr/>
        </p:nvPicPr>
        <p:blipFill>
          <a:blip r:embed="rId2"/>
          <a:stretch/>
        </p:blipFill>
        <p:spPr>
          <a:xfrm>
            <a:off x="8028000" y="1197000"/>
            <a:ext cx="903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F  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энергия связи 4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O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2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N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1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HF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Характеристики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Длина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3000240" cy="3621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" descr=""/>
          <p:cNvPicPr/>
          <p:nvPr/>
        </p:nvPicPr>
        <p:blipFill>
          <a:blip r:embed="rId2"/>
          <a:stretch/>
        </p:blipFill>
        <p:spPr>
          <a:xfrm>
            <a:off x="2571840" y="3286080"/>
            <a:ext cx="3019320" cy="3621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/>
          <a:stretch/>
        </p:blipFill>
        <p:spPr>
          <a:xfrm>
            <a:off x="2643120" y="4143240"/>
            <a:ext cx="3038400" cy="36216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12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нергия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2428920" y="3571920"/>
            <a:ext cx="3267000" cy="3427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2"/>
          <a:stretch/>
        </p:blipFill>
        <p:spPr>
          <a:xfrm>
            <a:off x="2500200" y="4357800"/>
            <a:ext cx="3324240" cy="34272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ведение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снижается общая энергия систем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Направлен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U:\My Pictures\1_30.gif"/>
          <p:cNvPicPr/>
          <p:nvPr/>
        </p:nvPicPr>
        <p:blipFill>
          <a:blip r:embed="rId1"/>
          <a:stretch/>
        </p:blipFill>
        <p:spPr>
          <a:xfrm>
            <a:off x="6072120" y="2214720"/>
            <a:ext cx="1695600" cy="1390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U:\My Pictures\1_31.gif"/>
          <p:cNvPicPr/>
          <p:nvPr/>
        </p:nvPicPr>
        <p:blipFill>
          <a:blip r:embed="rId2"/>
          <a:stretch/>
        </p:blipFill>
        <p:spPr>
          <a:xfrm>
            <a:off x="4929120" y="3286080"/>
            <a:ext cx="3519720" cy="1500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U:\My Pictures\r23.jpg"/>
          <p:cNvPicPr/>
          <p:nvPr/>
        </p:nvPicPr>
        <p:blipFill>
          <a:blip r:embed="rId3"/>
          <a:stretch/>
        </p:blipFill>
        <p:spPr>
          <a:xfrm>
            <a:off x="5929200" y="4714920"/>
            <a:ext cx="1428840" cy="123192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pda.coolreferat.com/ref-1_724982365-11615.coolpic"/>
          <p:cNvPicPr/>
          <p:nvPr/>
        </p:nvPicPr>
        <p:blipFill>
          <a:blip r:embed="rId4"/>
          <a:stretch/>
        </p:blipFill>
        <p:spPr>
          <a:xfrm>
            <a:off x="4786200" y="1285920"/>
            <a:ext cx="3915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оляр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ристаллические решётк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сущее находящемуся 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стоянии веществу правильное пространственное расположение атом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характеризующееся периодической повторяемостью в трёх измерения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C:\Documents and Settings\User\Мои документы\Мои рисунки\09-04.gif"/>
          <p:cNvPicPr/>
          <p:nvPr/>
        </p:nvPicPr>
        <p:blipFill>
          <a:blip r:embed="rId1"/>
          <a:stretch/>
        </p:blipFill>
        <p:spPr>
          <a:xfrm>
            <a:off x="4427640" y="2637000"/>
            <a:ext cx="3571920" cy="2666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C:\Documents and Settings\User\Мои документы\Мои рисунки\09-03.gif"/>
          <p:cNvPicPr/>
          <p:nvPr/>
        </p:nvPicPr>
        <p:blipFill>
          <a:blip r:embed="rId2"/>
          <a:stretch/>
        </p:blipFill>
        <p:spPr>
          <a:xfrm>
            <a:off x="900000" y="2997360"/>
            <a:ext cx="333396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бычно ионные кристаллы твердые, но хрупки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Ионные кристаллы отличаются высокими температурами плавления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В расплавленном состоянии вещества, образующие ионные кристаллы, электропроводны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Растворяются в полярных растворителях (воде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Содержимое 7" descr="49_1519893528"/>
          <p:cNvPicPr/>
          <p:nvPr/>
        </p:nvPicPr>
        <p:blipFill>
          <a:blip r:embed="rId1"/>
          <a:stretch/>
        </p:blipFill>
        <p:spPr>
          <a:xfrm>
            <a:off x="5076720" y="1197000"/>
            <a:ext cx="1914480" cy="13446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C:\Documents and Settings\User\Мои документы\Мои рисунки\3.jpg"/>
          <p:cNvPicPr/>
          <p:nvPr/>
        </p:nvPicPr>
        <p:blipFill>
          <a:blip r:embed="rId2"/>
          <a:stretch/>
        </p:blipFill>
        <p:spPr>
          <a:xfrm>
            <a:off x="7236000" y="1197000"/>
            <a:ext cx="1096920" cy="1379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C:\Documents and Settings\User\Мои документы\Мои рисунки\39312f71ae9c.jpg"/>
          <p:cNvPicPr/>
          <p:nvPr/>
        </p:nvPicPr>
        <p:blipFill>
          <a:blip r:embed="rId3"/>
          <a:stretch/>
        </p:blipFill>
        <p:spPr>
          <a:xfrm>
            <a:off x="5076720" y="2708280"/>
            <a:ext cx="1360440" cy="13939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C:\Documents and Settings\User\Мои документы\Мои рисунки\krstreshtka.jpg"/>
          <p:cNvPicPr/>
          <p:nvPr/>
        </p:nvPicPr>
        <p:blipFill>
          <a:blip r:embed="rId4"/>
          <a:stretch/>
        </p:blipFill>
        <p:spPr>
          <a:xfrm>
            <a:off x="4859280" y="4365720"/>
            <a:ext cx="1471680" cy="1757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C:\Documents and Settings\User\Мои документы\Мои рисунки\picture.jpg"/>
          <p:cNvPicPr/>
          <p:nvPr/>
        </p:nvPicPr>
        <p:blipFill>
          <a:blip r:embed="rId5"/>
          <a:stretch/>
        </p:blipFill>
        <p:spPr>
          <a:xfrm>
            <a:off x="6732720" y="4437000"/>
            <a:ext cx="1677960" cy="1258920"/>
          </a:xfrm>
          <a:prstGeom prst="rect">
            <a:avLst/>
          </a:prstGeom>
          <a:ln w="0">
            <a:noFill/>
          </a:ln>
        </p:spPr>
      </p:pic>
      <p:sp>
        <p:nvSpPr>
          <p:cNvPr id="488" name="TextBox 13"/>
          <p:cNvSpPr/>
          <p:nvPr/>
        </p:nvSpPr>
        <p:spPr>
          <a:xfrm>
            <a:off x="7020000" y="2637000"/>
            <a:ext cx="172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ристаллы поваренной с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4"/>
          <p:cNvSpPr/>
          <p:nvPr/>
        </p:nvSpPr>
        <p:spPr>
          <a:xfrm>
            <a:off x="6443640" y="342900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сталлы медного купо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6732720" y="573264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гантские кристаллы ги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Атом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Рисунок 7" descr="50_569774788"/>
          <p:cNvPicPr/>
          <p:nvPr/>
        </p:nvPicPr>
        <p:blipFill>
          <a:blip r:embed="rId1"/>
          <a:stretch/>
        </p:blipFill>
        <p:spPr>
          <a:xfrm>
            <a:off x="4788000" y="126828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8" descr="grafit0"/>
          <p:cNvPicPr/>
          <p:nvPr/>
        </p:nvPicPr>
        <p:blipFill>
          <a:blip r:embed="rId2"/>
          <a:stretch/>
        </p:blipFill>
        <p:spPr>
          <a:xfrm>
            <a:off x="6659640" y="148428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C:\Documents and Settings\User\Мои документы\Мои рисунки\33d257ddfaff.jpg"/>
          <p:cNvPicPr/>
          <p:nvPr/>
        </p:nvPicPr>
        <p:blipFill>
          <a:blip r:embed="rId3"/>
          <a:stretch/>
        </p:blipFill>
        <p:spPr>
          <a:xfrm>
            <a:off x="6732720" y="4869000"/>
            <a:ext cx="1636560" cy="1063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C:\Documents and Settings\User\Мои документы\Мои рисунки\Image1212.gif"/>
          <p:cNvPicPr/>
          <p:nvPr/>
        </p:nvPicPr>
        <p:blipFill>
          <a:blip r:embed="rId4"/>
          <a:stretch/>
        </p:blipFill>
        <p:spPr>
          <a:xfrm>
            <a:off x="5148360" y="4797360"/>
            <a:ext cx="1361880" cy="1271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C:\Documents and Settings\User\Мои документы\Мои рисунки\pic_3733.jpg"/>
          <p:cNvPicPr/>
          <p:nvPr/>
        </p:nvPicPr>
        <p:blipFill>
          <a:blip r:embed="rId5"/>
          <a:stretch/>
        </p:blipFill>
        <p:spPr>
          <a:xfrm>
            <a:off x="5076720" y="3068640"/>
            <a:ext cx="1138320" cy="1446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:\Documents and Settings\User\Мои документы\Мои рисунки\6graphite75.jpg"/>
          <p:cNvPicPr/>
          <p:nvPr/>
        </p:nvPicPr>
        <p:blipFill>
          <a:blip r:embed="rId6"/>
          <a:stretch/>
        </p:blipFill>
        <p:spPr>
          <a:xfrm>
            <a:off x="6659640" y="3068640"/>
            <a:ext cx="17636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олекуляр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₂O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C:\Documents and Settings\User\Мои документы\Мои рисунки\ice.jpg"/>
          <p:cNvPicPr/>
          <p:nvPr/>
        </p:nvPicPr>
        <p:blipFill>
          <a:blip r:embed="rId1"/>
          <a:stretch/>
        </p:blipFill>
        <p:spPr>
          <a:xfrm>
            <a:off x="5148360" y="1557360"/>
            <a:ext cx="1095120" cy="1108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Documents and Settings\User\Мои документы\Мои рисунки\kristally.jpg"/>
          <p:cNvPicPr/>
          <p:nvPr/>
        </p:nvPicPr>
        <p:blipFill>
          <a:blip r:embed="rId2"/>
          <a:stretch/>
        </p:blipFill>
        <p:spPr>
          <a:xfrm>
            <a:off x="6732720" y="1557360"/>
            <a:ext cx="1076040" cy="1150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:\Documents and Settings\User\Мои документы\Мои рисунки\dryice2.jpg"/>
          <p:cNvPicPr/>
          <p:nvPr/>
        </p:nvPicPr>
        <p:blipFill>
          <a:blip r:embed="rId3"/>
          <a:stretch/>
        </p:blipFill>
        <p:spPr>
          <a:xfrm>
            <a:off x="5796000" y="3429000"/>
            <a:ext cx="1614600" cy="11383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C:\Documents and Settings\User\Мои документы\Мои рисунки\Iod_kristall.jpg"/>
          <p:cNvPicPr/>
          <p:nvPr/>
        </p:nvPicPr>
        <p:blipFill>
          <a:blip r:embed="rId4"/>
          <a:stretch/>
        </p:blipFill>
        <p:spPr>
          <a:xfrm>
            <a:off x="5435640" y="5084640"/>
            <a:ext cx="19508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C:\Documents and Settings\User\Мои документы\Мои рисунки\1300117502_800px-iron_electrolytic_and_1cm3_cube.jpg"/>
          <p:cNvPicPr/>
          <p:nvPr/>
        </p:nvPicPr>
        <p:blipFill>
          <a:blip r:embed="rId1"/>
          <a:stretch/>
        </p:blipFill>
        <p:spPr>
          <a:xfrm>
            <a:off x="4788000" y="1197000"/>
            <a:ext cx="1728720" cy="10731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8"/>
          <p:cNvSpPr/>
          <p:nvPr/>
        </p:nvSpPr>
        <p:spPr>
          <a:xfrm>
            <a:off x="665964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C:\Documents and Settings\User\Мои документы\Мои рисунки\1300117520_800px-osmium_crystals.jpg"/>
          <p:cNvPicPr/>
          <p:nvPr/>
        </p:nvPicPr>
        <p:blipFill>
          <a:blip r:embed="rId2"/>
          <a:stretch/>
        </p:blipFill>
        <p:spPr>
          <a:xfrm>
            <a:off x="6443640" y="2060640"/>
            <a:ext cx="1762200" cy="1130400"/>
          </a:xfrm>
          <a:prstGeom prst="rect">
            <a:avLst/>
          </a:prstGeom>
          <a:ln w="0">
            <a:noFill/>
          </a:ln>
        </p:spPr>
      </p:pic>
      <p:sp>
        <p:nvSpPr>
          <p:cNvPr id="516" name="TextBox 10"/>
          <p:cNvSpPr/>
          <p:nvPr/>
        </p:nvSpPr>
        <p:spPr>
          <a:xfrm>
            <a:off x="5580000" y="2421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м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C:\Documents and Settings\User\Мои документы\Мои рисунки\1300125669_800px-gold-crystals.jpg"/>
          <p:cNvPicPr/>
          <p:nvPr/>
        </p:nvPicPr>
        <p:blipFill>
          <a:blip r:embed="rId3"/>
          <a:stretch/>
        </p:blipFill>
        <p:spPr>
          <a:xfrm>
            <a:off x="4643280" y="2997360"/>
            <a:ext cx="1893960" cy="12254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2"/>
          <p:cNvSpPr/>
          <p:nvPr/>
        </p:nvSpPr>
        <p:spPr>
          <a:xfrm>
            <a:off x="6516720" y="3573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C:\Documents and Settings\User\Мои документы\Мои рисунки\1300125797_765px-silver_crystal.jpg"/>
          <p:cNvPicPr/>
          <p:nvPr/>
        </p:nvPicPr>
        <p:blipFill>
          <a:blip r:embed="rId4"/>
          <a:stretch/>
        </p:blipFill>
        <p:spPr>
          <a:xfrm>
            <a:off x="6443640" y="4005360"/>
            <a:ext cx="1584360" cy="12430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14"/>
          <p:cNvSpPr/>
          <p:nvPr/>
        </p:nvSpPr>
        <p:spPr>
          <a:xfrm>
            <a:off x="5364000" y="43657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C:\Documents and Settings\User\Мои документы\Мои рисунки\1300125900_800px-yttrium_sublimed_dendritic_and_1cm3_cube.jpg"/>
          <p:cNvPicPr/>
          <p:nvPr/>
        </p:nvPicPr>
        <p:blipFill>
          <a:blip r:embed="rId5"/>
          <a:stretch/>
        </p:blipFill>
        <p:spPr>
          <a:xfrm>
            <a:off x="4643280" y="5013360"/>
            <a:ext cx="1851120" cy="12589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6"/>
          <p:cNvSpPr/>
          <p:nvPr/>
        </p:nvSpPr>
        <p:spPr>
          <a:xfrm>
            <a:off x="6516720" y="551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тр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mbria"/>
              </a:rPr>
              <a:t>Типы химической связи и их отличительные признаки</a:t>
            </a:r>
            <a:endParaRPr b="0" lang="en-US" sz="24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473040" y="1773360"/>
            <a:ext cx="81979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8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" name="Picture 2" descr="http://src.ucoz.net/sm/1/bye.gif"/>
          <p:cNvPicPr/>
          <p:nvPr/>
        </p:nvPicPr>
        <p:blipFill>
          <a:blip r:embed="rId1"/>
          <a:stretch/>
        </p:blipFill>
        <p:spPr>
          <a:xfrm>
            <a:off x="6500880" y="3857760"/>
            <a:ext cx="247680" cy="171360"/>
          </a:xfrm>
          <a:prstGeom prst="rect">
            <a:avLst/>
          </a:prstGeom>
          <a:ln w="0">
            <a:noFill/>
          </a:ln>
        </p:spPr>
      </p:pic>
      <p:pic>
        <p:nvPicPr>
          <p:cNvPr id="531" name="Прямоугольник 9" descr=""/>
          <p:cNvPicPr/>
          <p:nvPr/>
        </p:nvPicPr>
        <p:blipFill>
          <a:blip r:embed="rId2"/>
          <a:stretch/>
        </p:blipFill>
        <p:spPr>
          <a:xfrm>
            <a:off x="1974960" y="2395440"/>
            <a:ext cx="4743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Основные виды связей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Ионн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Ковалентная 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Металлическ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одородная связь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ан-дер-ваальсовы сил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равило октет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лектроотрицательност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6" descr="C:\Documents and Settings\Администратор\Мои документы\Мои рисунки\EO.gif"/>
          <p:cNvPicPr/>
          <p:nvPr/>
        </p:nvPicPr>
        <p:blipFill>
          <a:blip r:embed="rId1"/>
          <a:stretch/>
        </p:blipFill>
        <p:spPr>
          <a:xfrm>
            <a:off x="2124000" y="2997360"/>
            <a:ext cx="4543560" cy="217152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7" descr="C:\Documents and Settings\Администратор\Мои документы\Мои рисунки\EO.jpg"/>
          <p:cNvPicPr/>
          <p:nvPr/>
        </p:nvPicPr>
        <p:blipFill>
          <a:blip r:embed="rId2"/>
          <a:stretch/>
        </p:blipFill>
        <p:spPr>
          <a:xfrm>
            <a:off x="2124000" y="5373720"/>
            <a:ext cx="48006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збуждённое состояние атом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 u="sng">
                <a:solidFill>
                  <a:srgbClr val="67afbd"/>
                </a:solidFill>
                <a:uFillTx/>
                <a:latin typeface="Gill Sans MT"/>
                <a:hlinkClick r:id="rId1"/>
              </a:rPr>
              <a:t>http://www.youtube.com/watch?v=SM4BxoCoHzk&amp;feature=related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C:\Documents and Settings\User\Мои документы\Мои рисунки\energia_1.jpg"/>
          <p:cNvPicPr/>
          <p:nvPr/>
        </p:nvPicPr>
        <p:blipFill>
          <a:blip r:embed="rId2"/>
          <a:stretch/>
        </p:blipFill>
        <p:spPr>
          <a:xfrm>
            <a:off x="539640" y="1413000"/>
            <a:ext cx="4748400" cy="25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Documents and Settings\User\Мои документы\Мои рисунки\96.jpg"/>
          <p:cNvPicPr/>
          <p:nvPr/>
        </p:nvPicPr>
        <p:blipFill>
          <a:blip r:embed="rId3"/>
          <a:stretch/>
        </p:blipFill>
        <p:spPr>
          <a:xfrm>
            <a:off x="5651640" y="1413000"/>
            <a:ext cx="295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Cl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F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S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+ 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→  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Na + Cl → Na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+ Cl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→ NaC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55640" y="1216080"/>
            <a:ext cx="431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6" descr="C:\Documents and Settings\Администратор\Мои документы\Мои рисунки\Ionic_bonding_animation.gif"/>
          <p:cNvPicPr/>
          <p:nvPr/>
        </p:nvPicPr>
        <p:blipFill>
          <a:blip r:embed="rId1"/>
          <a:stretch/>
        </p:blipFill>
        <p:spPr>
          <a:xfrm>
            <a:off x="4427640" y="1413000"/>
            <a:ext cx="3744720" cy="1871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C:\Documents and Settings\User\Мои документы\Мои рисунки\NaF.gif"/>
          <p:cNvPicPr/>
          <p:nvPr/>
        </p:nvPicPr>
        <p:blipFill>
          <a:blip r:embed="rId2"/>
          <a:stretch/>
        </p:blipFill>
        <p:spPr>
          <a:xfrm>
            <a:off x="4500720" y="3645000"/>
            <a:ext cx="3958920" cy="1660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C:\Documents and Settings\User\Мои документы\Мои рисунки\dogionic.gif"/>
          <p:cNvPicPr/>
          <p:nvPr/>
        </p:nvPicPr>
        <p:blipFill>
          <a:blip r:embed="rId3"/>
          <a:stretch/>
        </p:blipFill>
        <p:spPr>
          <a:xfrm>
            <a:off x="1187280" y="436572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C:\Documents and Settings\User\Мои документы\Мои рисунки\ikr.gif"/>
          <p:cNvPicPr/>
          <p:nvPr/>
        </p:nvPicPr>
        <p:blipFill>
          <a:blip r:embed="rId1"/>
          <a:stretch/>
        </p:blipFill>
        <p:spPr>
          <a:xfrm>
            <a:off x="1258920" y="270828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Documents and Settings\User\Мои документы\Мои рисунки\120.jpg"/>
          <p:cNvPicPr/>
          <p:nvPr/>
        </p:nvPicPr>
        <p:blipFill>
          <a:blip r:embed="rId2"/>
          <a:stretch/>
        </p:blipFill>
        <p:spPr>
          <a:xfrm>
            <a:off x="4643280" y="2421000"/>
            <a:ext cx="30974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8:05:40Z</dcterms:created>
  <dc:creator>user</dc:creator>
  <dc:description/>
  <dc:language>en-US</dc:language>
  <cp:lastModifiedBy>LEGION</cp:lastModifiedBy>
  <dcterms:modified xsi:type="dcterms:W3CDTF">2015-05-01T12:13:18Z</dcterms:modified>
  <cp:revision>129</cp:revision>
  <dc:subject/>
  <dc:title>Химическая связь</dc:title>
</cp:coreProperties>
</file>