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A12C-0DD5-4598-8812-235C9597DE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1200"/>
            </a:b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1000"/>
            </a:b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979A-7468-43EC-BC56-D01E12D8C3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0253-5986-4BA1-AE40-A3C77D70AD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AFEB-7D65-4D6D-9497-25D936C72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26CB-AAF8-4D7B-B403-D55A21AF42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CB5D-421E-424E-BEC2-F5C179B69A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B257-F9AD-4584-AA77-6CA0DD26B5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5D0D-938B-452E-8458-ED80FC2080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7BF4-9C99-4647-8875-EA5E58476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18F7-3EC6-4DE6-9A8C-97F5E9FA69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BA95-1493-4D39-A452-924155BB39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2FFA-BFCE-4CDE-AE67-8BBD13648A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68CC-A047-404B-B442-F919B6DCD2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3490-FFE1-48F3-A377-03E4E1E9C3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7941-D0D7-4D28-A76B-384B31CAD0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4DE9-4125-43CE-AC70-140CDB4AA3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93A9-A5B0-4B05-8F83-6D408E1F44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99F3-1D3C-4CC3-BAB3-810C261779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6D11-C4BC-43AC-A7C8-95D3908401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CC61-FC4C-42CF-8870-9CCE7D8231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2BB-3642-4F1C-ABDE-E1D66C45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80E-D81A-4009-A9AC-ADA6815F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A9F-6C9E-46FF-A820-18B471A6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5CC-5E65-4DC0-B3E2-8ABE1357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543-3D88-4A28-9A2D-FFBA477E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2A6-069A-494E-8623-CB3AAEE6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CD1-1D87-467F-BDCD-191122AB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53D-847D-44A6-9577-16BFFE40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081-9C61-4DA9-8A9E-82E504F4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11B-A801-4404-9A01-DFAA176B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F0D-818E-480E-A275-F17E98B7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5A1-EACF-445F-A2D4-9E3EF0F1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6BD1-58F4-416B-9993-611B347FC12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979C-761B-45E4-8957-06218CDB7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43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4300"/>
            </a:b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2900"/>
            </a:b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98748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 изменяются металлические и неметаллические  свойства в периоде, в групп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ие элементы обладают сильными металлическими свойств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Какие элементы обладают сильными  неметаллическими свойств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Что такое электроотрицательность?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(выписать в словарь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idsoftheworld2"/>
          <p:cNvPicPr/>
          <p:nvPr/>
        </p:nvPicPr>
        <p:blipFill>
          <a:blip r:embed="rId1"/>
          <a:stretch/>
        </p:blipFill>
        <p:spPr>
          <a:xfrm>
            <a:off x="539640" y="4869000"/>
            <a:ext cx="792000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24000" y="134280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ите  схему №19.Обсудите  вопросы в группе (устн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 свойствами  обладают химические элементы в  начале  пери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середине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конце 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63817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9147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532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16408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Mg -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a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l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,5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3,5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2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,5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 flipV="1" rot="10800000">
            <a:off x="825120" y="520128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Na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Mg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Cl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O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24000" y="4248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125360"/>
            <a:ext cx="849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68360" y="660240"/>
            <a:ext cx="820728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24000" y="778680"/>
            <a:ext cx="8207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55152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28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2894040"/>
            <a:ext cx="8353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9640" y="33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 flipV="1" rot="10800000">
            <a:off x="1619280" y="4704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19280" y="1557360"/>
            <a:ext cx="640872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С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916000" cy="4526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6:17Z</dcterms:created>
  <dc:creator>1</dc:creator>
  <dc:description/>
  <dc:language>en-US</dc:language>
  <cp:lastModifiedBy>LEGION</cp:lastModifiedBy>
  <dcterms:modified xsi:type="dcterms:W3CDTF">2015-05-01T12:20:47Z</dcterms:modified>
  <cp:revision>35</cp:revision>
  <dc:subject/>
  <dc:title>Тема урока: «Электроотрицательность химических элементов» Бостан Юлия Викторовна, учитель химии</dc:title>
</cp:coreProperties>
</file>