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B225-74FF-48DC-B830-50A508DDDA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file:///../../Local%20Settings/Temp/&#1055;&#1088;&#1080;&#1083;&#1086;&#1078;&#1077;&#1085;&#1080;&#1077;&#8470;1%20&#1090;&#1077;&#1089;&#1090;.doc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da3"/>
                </a:solidFill>
                <a:latin typeface="Arial"/>
              </a:rPr>
              <a:t>Тема урока: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 «Электроотрицательность химических  элементов»</a:t>
            </a:r>
            <a:br>
              <a:rPr sz="1200"/>
            </a:br>
            <a:r>
              <a:rPr b="0" lang="ru-RU" sz="1600" spc="-1" strike="noStrike">
                <a:solidFill>
                  <a:srgbClr val="140da3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140da3"/>
                </a:solidFill>
                <a:latin typeface="Arial"/>
              </a:rPr>
              <a:t>Бостан Юлия Викторовна, </a:t>
            </a:r>
            <a:br>
              <a:rPr sz="1000"/>
            </a:br>
            <a:r>
              <a:rPr b="0" lang="ru-RU" sz="1000" spc="-1" strike="noStrike">
                <a:solidFill>
                  <a:srgbClr val="140da3"/>
                </a:solidFill>
                <a:latin typeface="Arial"/>
              </a:rPr>
              <a:t>учитель химии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Статья отнесена к разделу: Преподавание хими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FE28-3383-4D5A-8DEE-1A703398AA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0CC6-8620-47DF-9579-94AFA782E7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Calibri"/>
              </a:rPr>
              <a:t>Физмину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FEDD-E6C8-4C0B-8F3E-ED0E4F3120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C487-A0BB-4849-B7C2-A9E077D265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1.Выполните зад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.Расположите   химические  знаки перечисленных ниже  элементов в порядке возрастания значений  электроотрицательности:  Магний, натрий,  хлор,  сера, кислород, цезий, бор, калий, азот, бериллий, литий,фтор. Подчеркните  элементы  с  наименьшей и наибольшей электроотрицатель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2A22-1335-4BF2-B30C-F35F89C2B7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ие элементы  в порядке возрастания значений  электроотрица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09B1-EC03-45C8-B96F-14C0D19BA0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ыпишите  чему  равна электроотрицательность лит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У какого элемен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самая  наименьшая электроотрицатель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Наибольшую  степень электроотрицательности имеет элемен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Какие  значения электроотрицательности  имеют  металл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Какие  значения электроотрицательности  имеют  неметалл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7800-FEF1-478B-9F1F-5C96F8FB44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Самая  наименьшая элемен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</a:t>
            </a:r>
            <a:r>
              <a:rPr b="0" lang="en-US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Cs 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-0,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4.Наибольшую  степень электроотрицательности   - </a:t>
            </a:r>
            <a:r>
              <a:rPr b="0" lang="en-US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F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 -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5.Металлы имеют электроотрицательность  - 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меньше 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5.Неметаллы имеют электроотрицательность -  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больше 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B948-0D35-4247-9C0C-5D2919AAAD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риведенных  ниже  формула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черкните атомы  наиболее электроотрицательного  химического  элемента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3CBE-52E5-4C9C-B023-FAEC027106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иболее электроотрицатель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химичес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элемен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 в соединен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</a:t>
            </a:r>
            <a:r>
              <a:rPr b="0" lang="ru-RU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С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S</a:t>
            </a:r>
            <a:r>
              <a:rPr b="0" lang="ru-RU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5F9C-53B3-4552-A545-77560635E2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40da3"/>
                </a:solidFill>
                <a:uFillTx/>
                <a:latin typeface="Arial"/>
              </a:rPr>
              <a:t>Цель урока</a:t>
            </a:r>
            <a:r>
              <a:rPr b="0" lang="ru-RU" sz="1600" spc="-1" strike="noStrike">
                <a:solidFill>
                  <a:srgbClr val="140da3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40da3"/>
                </a:solidFill>
                <a:latin typeface="Calibri"/>
              </a:rPr>
              <a:t>Знать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лектроотрицательность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140da3"/>
                </a:solidFill>
                <a:latin typeface="Calibri"/>
              </a:rPr>
              <a:t>Уметь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вать электроотрицательность химических  элементов    в  сложных  вещества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4971-0712-4CEC-9AB0-2DFA99D33B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Дополните фразу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годня я узнал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ыло интерес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выполнял задани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онял, ч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ерь я мог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очувствовал, ч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риобрел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научил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меня получилось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смог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опробую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е захотелось…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C367-B16D-44B8-B648-AA3523B3B0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естирование:_x000b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2C5D-7732-45EB-893E-30F90D3DEB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Работа  с терминолог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станови соответствие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амопровер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3, 2-5,  3-6, 4-2, 5-7, 6-4, 7-1.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 правильный ответ 1 балл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354B-83DB-4167-9B7D-A18B4AF321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« </a:t>
            </a:r>
            <a:r>
              <a:rPr b="1" i="1" lang="ru-RU" sz="1200" spc="-1" strike="noStrike">
                <a:solidFill>
                  <a:srgbClr val="140da3"/>
                </a:solidFill>
                <a:latin typeface="Calibri"/>
              </a:rPr>
              <a:t>О каком понятии идет речь»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. …….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………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 ……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…………….     5. Ядра  атомов  состоят из ………и……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……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 правильный ответ 1 балл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09B4-E80A-44AF-9E13-9CECE19DF2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 каком понятии идет речь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 - 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изотопам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,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химический  элемен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-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а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–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ядр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Ядра  атомов  состоят из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- протонов и 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– элект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DBDD-AC6C-46A4-BF03-D70404848C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Изучение нов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82D8-1702-4460-A420-ECA2BFF633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е понятие об электроотрицательности атомов было введено американским химиком Л. Полин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F669-9E06-4CD8-8482-BD9B03AA52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0da3"/>
                </a:solidFill>
                <a:latin typeface="Calibri"/>
              </a:rPr>
              <a:t>Работа с учебни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крыли учебник §40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текст на  стр. 12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6262-E395-4AE1-9BA1-E2B0D9240F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0AA4-3EC6-496B-BD29-9DC70A42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59D6-29BE-477C-BD51-D76F09DD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AEB8-A016-4681-ACA9-477CAF53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EEC5-E989-4048-A912-2521F8AB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4CCA-C6A9-4C3A-8B76-0B383D29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E476-59FF-4877-95E8-3A49CD5F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3A93-4F66-4A5C-8D46-5F644885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8308-C093-4A25-9A95-A001B23E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604-34A4-4418-B755-28C7D254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C2D0-DEEF-4BB3-90D8-B9E7149B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BD13-679F-43C0-B998-EF49961E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8ABF-5114-4B9E-BE41-64FC921F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A95B-1FC3-4E3F-A636-BD2BCA3E17C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87EE-19A4-49DD-9464-A2CE9E4F51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../Local%20Settings/Temp/&#1055;&#1088;&#1080;&#1083;&#1086;&#1078;&#1077;&#1085;&#1080;&#1077;&#8470;1%20&#1090;&#1077;&#1089;&#1090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140da3"/>
                </a:solidFill>
                <a:latin typeface="Arial"/>
              </a:rPr>
              <a:t>Тема урока:</a:t>
            </a:r>
            <a:r>
              <a:rPr b="0" lang="ru-RU" sz="4300" spc="-1" strike="noStrike">
                <a:solidFill>
                  <a:srgbClr val="140da3"/>
                </a:solidFill>
                <a:latin typeface="Calibri"/>
              </a:rPr>
              <a:t> «Электроотрицательность химических  элементов»</a:t>
            </a:r>
            <a:br>
              <a:rPr sz="4300"/>
            </a:br>
            <a:r>
              <a:rPr b="0" lang="ru-RU" sz="4900" spc="-1" strike="noStrike">
                <a:solidFill>
                  <a:srgbClr val="140da3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140da3"/>
                </a:solidFill>
                <a:latin typeface="Arial"/>
              </a:rPr>
              <a:t>Бостан Юлия Викторовна, </a:t>
            </a:r>
            <a:br>
              <a:rPr sz="2900"/>
            </a:br>
            <a:r>
              <a:rPr b="0" lang="ru-RU" sz="2900" spc="-1" strike="noStrike">
                <a:solidFill>
                  <a:srgbClr val="140da3"/>
                </a:solidFill>
                <a:latin typeface="Arial"/>
              </a:rPr>
              <a:t>учитель химии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Статья отнесена к разделу: Преподавание хим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250920" y="987480"/>
            <a:ext cx="864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.Как изменяются металлические и неметаллические  свойства в периоде, в групп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Какие элементы обладают сильными металлическими свойствам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Какие элементы обладают сильными  неметаллическими свойства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Что такое электроотрицательность?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(выписать в словарь)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140da3"/>
                </a:solidFill>
                <a:uFillTx/>
                <a:latin typeface="Calibri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kidsoftheworld2"/>
          <p:cNvPicPr/>
          <p:nvPr/>
        </p:nvPicPr>
        <p:blipFill>
          <a:blip r:embed="rId1"/>
          <a:stretch/>
        </p:blipFill>
        <p:spPr>
          <a:xfrm>
            <a:off x="539640" y="4869000"/>
            <a:ext cx="7920000" cy="11048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324000" y="1342800"/>
            <a:ext cx="88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мотрите  схему №19.Обсудите  вопросы в группе (устно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ми  свойствами  обладают химические элементы в  начале  период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ими  свойствами  обладают химические элементы в  середине пери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ими  свойствами  обладают химические элементы в  конце  пери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одержимое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640720" cy="638172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539640" y="91476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1.Выполните задан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.Расположите   химические  знаки перечисленных ниже  элементов в порядке возрастания значений  электроотрицательности:  Магний, натрий,  хлор,  сера, кислород, цезий, бор, калий, азот, бериллий, литий,фтор. Подчеркните  элементы  с  наименьшей и наибольшей электроотрицательность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532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ие элементы  в порядке возрастания значений  электроотрицатель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395280" y="164088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Mg -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,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Na 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0,9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Cl 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,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S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,5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O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3,5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Cs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0,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B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2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Be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1,5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Li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-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 flipV="1" rot="10800000">
            <a:off x="825120" y="5201280"/>
            <a:ext cx="72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Cs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Na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Li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Mg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Be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B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S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Cl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O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F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324000" y="42480"/>
            <a:ext cx="8351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ыпишите  чему  равна электроотрицательность лит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.У какого элемент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самая  наименьшая электроотрицательн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Наибольшую  степень электроотрицательности имеет элемен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5.Какие  значения электроотрицательности  имеют  металл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6.Какие  значения электроотрицательности  имеют  неметалл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468360" y="549360"/>
            <a:ext cx="44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Li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250920" y="1125360"/>
            <a:ext cx="84978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.Самая  наименьшая элемент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Cs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-0,7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4.Наибольшую  степень электроотрицательности   -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F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-4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5.Металлы имеют электроотрицательность  -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меньше 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5.Неметаллы имеют электроотрицательность - 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больше 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468360" y="660240"/>
            <a:ext cx="820728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риведенных  ниже  формулах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черкните атомы  наиболее электроотрицательного  химического  элемента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324000" y="778680"/>
            <a:ext cx="820728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иболее электроотрицательн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химическ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элемент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 в соединен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С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S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40da3"/>
                </a:solidFill>
                <a:uFillTx/>
                <a:latin typeface="Arial"/>
              </a:rPr>
              <a:t>Цель урока</a:t>
            </a:r>
            <a:r>
              <a:rPr b="0" lang="ru-RU" sz="3600" spc="-1" strike="noStrike">
                <a:solidFill>
                  <a:srgbClr val="140da3"/>
                </a:solidFill>
                <a:latin typeface="Arial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140da3"/>
                </a:solidFill>
                <a:latin typeface="Calibri"/>
              </a:rPr>
              <a:t>Знать: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такое электроотрицательность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140da3"/>
                </a:solidFill>
                <a:latin typeface="Calibri"/>
              </a:rPr>
              <a:t>Уметь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авнивать электроотрицательность химических  элементов    в  сложных  вещества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468360" y="551520"/>
            <a:ext cx="7991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Дополните фразу</a:t>
            </a:r>
            <a:r>
              <a:rPr b="0" lang="ru-RU" sz="2800" spc="-1" strike="noStrike">
                <a:solidFill>
                  <a:srgbClr val="140da3"/>
                </a:solidFill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годня я узна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ыло интерес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выполнял задан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нял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перь я мог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чувствовал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риобре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научил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меня получилос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смог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е захотелось…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95280" y="2894040"/>
            <a:ext cx="83534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539640" y="33336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естирование:_x000b_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 flipV="1" rot="10800000">
            <a:off x="1619280" y="47041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За правильный ответ 1 бал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0da3"/>
                </a:solidFill>
                <a:latin typeface="Calibri"/>
              </a:rPr>
              <a:t>Работа  с терминологие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«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Установи соответствие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Самопроверка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ы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-3, 2-5,  3-6, 4-2, 5-7, 6-4, 7-1.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правильный ответ 1 бал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« </a:t>
            </a:r>
            <a:r>
              <a:rPr b="1" i="1" lang="ru-RU" sz="2800" spc="-1" strike="noStrike">
                <a:solidFill>
                  <a:srgbClr val="140da3"/>
                </a:solidFill>
                <a:latin typeface="Calibri"/>
              </a:rPr>
              <a:t>О каком понятии идет речь»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. …….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………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 ……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…………….     5. Ядра  атомов  состоят из ………и……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……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За правильный ответ 1 балл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 каком понятии идет речь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 - 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изотопам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,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химический  элемен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-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ат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–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ядро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Ядра  атомов  состоят из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- протонов и нейтрон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– электро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Изучение нового матери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1619280" y="1557360"/>
            <a:ext cx="6408720" cy="55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НС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ременное понятие об электроотрицательности атомов было введено американским химиком Л. Полинг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4" descr=""/>
          <p:cNvPicPr/>
          <p:nvPr/>
        </p:nvPicPr>
        <p:blipFill>
          <a:blip r:embed="rId1"/>
          <a:stretch/>
        </p:blipFill>
        <p:spPr>
          <a:xfrm>
            <a:off x="3203640" y="1989000"/>
            <a:ext cx="2916000" cy="45262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40da3"/>
                </a:solidFill>
                <a:latin typeface="Calibri"/>
              </a:rPr>
              <a:t>Работа с учебником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Открыли учебник §40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итать текст на  стр. 121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1:36:17Z</dcterms:created>
  <dc:creator>1</dc:creator>
  <dc:description/>
  <dc:language>en-US</dc:language>
  <cp:lastModifiedBy>LEGION</cp:lastModifiedBy>
  <dcterms:modified xsi:type="dcterms:W3CDTF">2015-05-01T12:20:47Z</dcterms:modified>
  <cp:revision>35</cp:revision>
  <dc:subject/>
  <dc:title>Тема урока: «Электроотрицательность химических элементов» Бостан Юлия Викторовна, учитель химии</dc:title>
</cp:coreProperties>
</file>