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E6C2-EF1F-44BF-8362-C5DBC6A7EC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1200"/>
            </a:b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1000"/>
            </a:b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EF8D-BF0A-49DE-9DEE-83D86704FA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B74C-CA7D-4467-8A7D-FBEFC4E5FB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8D31-8ACE-4657-9B2C-873E5E9DF2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C371-4A0D-4A44-87E8-E56CDF98A6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1476-D7BF-4084-99D8-629DE1724D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15BB-ADF4-438D-B21F-4C563F91DF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D502-85CF-409D-9C45-8DBB55C310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7C20-19B7-4AC9-84BA-F7AD7D0A87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7997-66B8-4FC4-A268-317223C8B0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D091-A364-402F-9EF8-A90176D38D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261C-3973-417F-9896-3CA3F0D3A7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2314-194F-4DAF-A8F5-7A0C265951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26B0-74FD-4095-88EE-7A2C51BEF5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A4E4-BDDC-4E5D-8222-FF5D057FCD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BF14-C986-4BBD-B99A-F81DDA112E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64CF-1705-483D-B0B0-9CDBF2E388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29DE-CAC9-46BC-ABF1-A9FFA9B6D1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7B14-E86D-46FD-A949-23FACBE08F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9C08-EBBA-4871-A553-4646D46CF8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502-922A-4E8A-B101-7DD80753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CBC-90A3-4DB4-A726-26E691D0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A9A9-7C35-406D-9EF5-2C9A975D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CD3-3BA4-485D-9F71-3486142A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99F-8388-477A-953C-4BDADC04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B7B-0ABD-46F8-B639-F0A7EF9F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D0C-1C4A-4F10-82AE-B587A111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B5C-4AC9-4965-A9A8-5C1A2E04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1DD-280F-4049-9AEA-807A5D0C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244-6CEF-4276-A19D-3D35CACE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EEF-A01F-4C34-907F-D7EEF078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9C9-00B4-4377-A142-EF220C6E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82C8-27C6-4744-BA57-E53A388F6B4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0760-8790-4846-A0B3-964969326C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43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4300"/>
            </a:b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2900"/>
            </a:b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50920" y="98748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ак изменяются металлические и неметаллические  свойства в периоде, в групп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Какие элементы обладают сильными металлическими свойствам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Какие элементы обладают сильными  неметаллическими свойств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Что такое электроотрицательность?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(выписать в словарь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kidsoftheworld2"/>
          <p:cNvPicPr/>
          <p:nvPr/>
        </p:nvPicPr>
        <p:blipFill>
          <a:blip r:embed="rId1"/>
          <a:stretch/>
        </p:blipFill>
        <p:spPr>
          <a:xfrm>
            <a:off x="539640" y="4869000"/>
            <a:ext cx="792000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24000" y="1342800"/>
            <a:ext cx="88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отрите  схему №19.Обсудите  вопросы в группе (устно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ми  свойствами  обладают химические элементы в  начале  период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середине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конце 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640720" cy="63817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539640" y="91476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532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395280" y="16408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Mg -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Na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0,9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l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,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,5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3,5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2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,5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-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 flipV="1" rot="10800000">
            <a:off x="825120" y="5201280"/>
            <a:ext cx="72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Na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Mg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Cl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O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324000" y="42480"/>
            <a:ext cx="835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8360" y="549360"/>
            <a:ext cx="44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250920" y="1125360"/>
            <a:ext cx="849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468360" y="660240"/>
            <a:ext cx="820728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24000" y="778680"/>
            <a:ext cx="82072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3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68360" y="551520"/>
            <a:ext cx="799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28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95280" y="2894040"/>
            <a:ext cx="8353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9640" y="33336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 flipV="1" rot="10800000">
            <a:off x="1619280" y="47041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619280" y="1557360"/>
            <a:ext cx="6408720" cy="55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НС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916000" cy="4526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36:17Z</dcterms:created>
  <dc:creator>1</dc:creator>
  <dc:description/>
  <dc:language>en-US</dc:language>
  <cp:lastModifiedBy>LEGION</cp:lastModifiedBy>
  <dcterms:modified xsi:type="dcterms:W3CDTF">2015-05-01T12:20:47Z</dcterms:modified>
  <cp:revision>35</cp:revision>
  <dc:subject/>
  <dc:title>Тема урока: «Электроотрицательность химических элементов» Бостан Юлия Викторовна, учитель химии</dc:title>
</cp:coreProperties>
</file>