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D1D4-CC22-45E9-A335-437BE76DDE5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иды химической связи в неорганических веществ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Урок-повто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1185-2820-4C08-8472-7F88BF822B7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24C5-CF3C-44F9-AF90-0C0D206BBB3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«Крестики-нол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CCCD-6275-4C20-8486-78C8E65BF8E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«Ковалентная неполярная связ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6097-DA89-4C52-B9C6-761A92F7EF4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«Ковалентная полярная связ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4C52-F5CE-4C2A-AA2A-D3512EF307E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           «Ионная связ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9C5D-AFC3-4D6C-829C-1534003479E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Выполните зад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ля приведенных веществ определите тип связи, изобразите схемы образования связей в молекул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ru-RU" sz="12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NaF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OF</a:t>
            </a:r>
            <a:r>
              <a:rPr b="0" lang="ru-RU" sz="12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7F2B-026C-472C-8460-729677C799F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79EC-FB9C-42C0-9F37-F1676D1C6B5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Домашнее задание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втор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§ 18 – 21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§ 38 - 4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0F05-CC53-4FF4-A44D-04D299D8AFC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Зн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определение понятия химическая связ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иды химической связ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механизмы образования каждого вида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3416-2B8B-4B60-90E8-81CD9D581A8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Уме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определять вид связи по формуле ве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записывать схему образования каждого вида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765D-4575-45D1-911F-5F250526E66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Проверочная раб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огласно плану-алгоритму, дайте характеристику элементу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1 вариант –  натр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2 вариант –  крем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3 вариант -  с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511D-1B31-4B95-A56B-AADA7334390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– взаимодействие между атомами, приводящее к образованию устойчи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84FB-E9EF-4A02-94E2-4769831F73B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↓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      ↓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 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ионная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 ковалентная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 металл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                       ↓</a:t>
            </a:r>
            <a:r>
              <a:rPr b="1" lang="ru-RU" sz="12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(полярная связь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неполярная связь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EFF9-AADC-4C42-A2F7-D269FE2AB96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Параметры характеристики связ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Тип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Тип связываемы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ид взаимодействующих час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Механизм образования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F216-1752-4046-B318-12E32E1C354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1656-6EFB-4AB6-8B72-1BD57E20C1F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B70D-34DE-4BE0-ACA6-7F019F0F5EC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F415-3C47-4909-8211-6F10EF4C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550-6F8C-449A-88B6-A72B0363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2D03-6AC7-4622-A922-5C5EC046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A7F-EC49-4315-9F9B-FA5C9079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B876-5719-42BB-871C-41938CAA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332-CC9A-4D96-8938-F39C078D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C11D-EC96-48AB-BEFC-8A74AD30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65E-6752-4729-8974-C182FE0A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3BF8-0121-4213-91E4-1DFFFA67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46F-0C91-4F06-AC2E-3851F6B2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A3BF-EBBC-4D77-8081-64A87D20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3619-737A-432B-B7D2-28152252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6FCB-7E3F-4F2B-A414-82585DCF88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130120"/>
            <a:ext cx="72738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66"/>
                </a:solidFill>
                <a:latin typeface="Times New Roman"/>
              </a:rPr>
              <a:t>Виды химической связи в неорганических вещества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8920" y="4941720"/>
            <a:ext cx="597708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Урок-повт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484280"/>
          <a:ext cx="9144000" cy="5040360"/>
        </p:xfrm>
        <a:graphic>
          <a:graphicData uri="http://schemas.openxmlformats.org/drawingml/2006/table">
            <a:tbl>
              <a:tblPr/>
              <a:tblGrid>
                <a:gridCol w="2627280"/>
                <a:gridCol w="1944720"/>
                <a:gridCol w="2016000"/>
                <a:gridCol w="255600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вязыв-ых элементо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заимод-щи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частиц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ханизм образования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валентная неполярная связь</a:t>
                      </a: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-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динаковы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томы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 общих электронных пар, размещение пары посередине между атомам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056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«Крестики-нол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«Ковалентная неполярная связ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24210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F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I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«Ковалентная полярная связ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24210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aF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I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           «Ионная связ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24210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Br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1294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Выполните 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Для приведенных веществ определите тип связи, изобразите схемы образования связей в молекулах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ru-RU" sz="36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aF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OF</a:t>
            </a:r>
            <a:r>
              <a:rPr b="0" lang="ru-RU" sz="36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268280"/>
          <a:ext cx="8229600" cy="5367600"/>
        </p:xfrm>
        <a:graphic>
          <a:graphicData uri="http://schemas.openxmlformats.org/drawingml/2006/table">
            <a:tbl>
              <a:tblPr/>
              <a:tblGrid>
                <a:gridCol w="1306440"/>
                <a:gridCol w="2376720"/>
                <a:gridCol w="2489040"/>
                <a:gridCol w="20574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ар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ормулы веществ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Cl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S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a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r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O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aI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iF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g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Cl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F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a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Домашнее задание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повтор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§ 18 – 21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§ 38 - 4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Зн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пределение понятия химическая связ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иды химической связ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механизмы образования каждого вида связ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Ум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пределять вид связи по формуле вещест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записывать схему образования каждого вида связ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овероч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Согласно плану-алгоритму, дайте характеристику элементу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1 вариант –  натр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2 вариант –  кремн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3 вариант -  с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– взаимодействие между атомами, приводящее к образованию устойчив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↓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     ↓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ионная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ковалентная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металл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                      ↓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(полярная связ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полярная связ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араметры характеристики св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Тип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Тип связываемых эле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ид взаимодействующих част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Механизм образования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1600200"/>
          <a:ext cx="9144000" cy="4751280"/>
        </p:xfrm>
        <a:graphic>
          <a:graphicData uri="http://schemas.openxmlformats.org/drawingml/2006/table">
            <a:tbl>
              <a:tblPr/>
              <a:tblGrid>
                <a:gridCol w="1908000"/>
                <a:gridCol w="1872000"/>
                <a:gridCol w="2376360"/>
                <a:gridCol w="298764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связи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вязыв-ых элементов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заимод-щи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частиц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ханизм образования связи</a:t>
                      </a: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онная связь</a:t>
                      </a: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талл-неметалл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оны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ередача электронов от одного атома другому, образование ионов, электростатическое взаимодействие ионов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1484280"/>
          <a:ext cx="9144000" cy="5040360"/>
        </p:xfrm>
        <a:graphic>
          <a:graphicData uri="http://schemas.openxmlformats.org/drawingml/2006/table">
            <a:tbl>
              <a:tblPr/>
              <a:tblGrid>
                <a:gridCol w="2627280"/>
                <a:gridCol w="1944720"/>
                <a:gridCol w="2016000"/>
                <a:gridCol w="255600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вязыв-ых элементо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заимод-щи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частиц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ханизм образования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валентная полярная связь</a:t>
                      </a: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-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зные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томы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 общих электронных пар, смещение общей пары к более электроотрицательному атому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7:50:52Z</dcterms:created>
  <dc:creator>Tarantino</dc:creator>
  <dc:description/>
  <dc:language>en-US</dc:language>
  <cp:lastModifiedBy>LEGION</cp:lastModifiedBy>
  <dcterms:modified xsi:type="dcterms:W3CDTF">2015-05-04T06:45:12Z</dcterms:modified>
  <cp:revision>6</cp:revision>
  <dc:subject/>
  <dc:title>Виды химической связи в неорганических веществах</dc:title>
</cp:coreProperties>
</file>