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CBA5-300A-4949-845B-2B73DFFC38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alibri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Выполнить на доске №5, страница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ласс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: записать образование молекул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H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Br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LiCl.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пределить вид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D139-8DEF-4A34-8A43-0FE5C52C74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3A30-C7AD-483A-AA20-6504FA1E65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смещен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общие электронные пары, а, следовательно, на каком из атомов будет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отрицательный заряд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(он будет обозначаться буквой «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» – греч. дельта), а, значит, где будет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отрицательный полюс молеку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2119-5FB9-4839-8EC6-021632B767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азумеется, атомы менее электроотрицательного элемента будут иметь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положительный заря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т.е. будут представлять собой как бы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положительный полюс молекул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 зарядом 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от вам и стало понятно название этой разновидности ковалентной связи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полярная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FB69-6703-4F81-AB9A-96D719674B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не смещен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и к одному из атомов, поэтому они не имеют заряда – полюса и это </a:t>
            </a: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неполярная ковалентная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6CA3-75AC-48C0-B4A6-10761094D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перь давайте с вами запишем алгоритм образования молекулы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SCl</a:t>
            </a:r>
            <a:r>
              <a:rPr b="1" lang="en-US" sz="1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B09E-807B-4DF0-95CA-7855F68F09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число внешних электронов у атомов неметаллов и  по формуле 8 –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число неспаренных электронов. Записать электронные формулы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A62A-6C38-464C-9C45-EC17743C2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символ элемента – неметалла, который представлен одним атомом (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, в центр и знаком «плюс» – два атома другого элемента (С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l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7A3E-2980-4185-BF30-7C50C316AF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электронную и структурную формулы получившейся молек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l – S - 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CA02-484D-4C65-8866-F057BFD84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 S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+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269C-2003-4EAD-9301-EB36371372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66"/>
                </a:solidFill>
                <a:latin typeface="Calibri"/>
              </a:rPr>
              <a:t>Закреп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пражнение №2 на странице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1BB7-1DF9-455D-97B0-560C855AC2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ы условно разделили элементы на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не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Рассмотрели, как образуются связи между атомами металлов и неметаллов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между атомами одного и того же элемента неметалла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7DB9-808A-4706-A3AA-2B2B202690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Calibri"/>
              </a:rPr>
              <a:t>Домашнее зад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§11, закончить №2, стр.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вторить все виды химической связи: определения, механизм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D3FC-0649-4E64-A1BB-C74B58AC17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разных неметаллов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D856-8D1E-438D-AE4E-2AD52DC4CC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чевидно, опять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овалентную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– засчет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 ведь элементы – то разны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66C5-923F-444F-88F3-5B4563DA4F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C2D1-C0CC-42D3-8E16-745C33FBC9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валентная поляр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Урок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A7C3-A1FC-476C-904A-9E2B86DD1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Продолжить формирование понятия о ковалентной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D0CC-6F25-4119-AAE1-12A539C6EE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электроотрицательнос-тью (Э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FE7F-BB3B-4FC1-8C87-7AE89A48C4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Ряд электроотрицательност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H As I Si P Se C S Br Cl N O 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2060"/>
                </a:solidFill>
                <a:latin typeface="Calibri"/>
              </a:rPr>
              <a:t>Усиление электроотрица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AB5B-60CF-47F1-A123-A0EF67C15A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214280"/>
            <a:ext cx="655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Arial"/>
              </a:rPr>
              <a:t>Задание:</a:t>
            </a:r>
            <a:endParaRPr b="0" lang="en-US" sz="6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2960" y="2285640"/>
            <a:ext cx="81770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. Выполнить на доске №5, страница 6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. </a:t>
            </a:r>
            <a:r>
              <a:rPr b="1" i="1" lang="ru-RU" sz="4800" spc="-1" strike="noStrike" u="sng">
                <a:solidFill>
                  <a:srgbClr val="002060"/>
                </a:solidFill>
                <a:uFillTx/>
                <a:latin typeface="Times New Roman"/>
              </a:rPr>
              <a:t>Класс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: записать образование молекул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H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Br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LiCl.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пределить вид химической связ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928520"/>
            <a:ext cx="7858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157176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смещен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общие электронные пары, а, следовательно, на каком из атомов будет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отрицательный заряд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он будет обозначаться буквой «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» – греч. дельта), а, значит, где будет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отрицательный полюс молекул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400" y="157140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азумеется, атомы менее электроотрицательного элемента будут имет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положительный заря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т.е. будут представлять собой как бы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положительный полюс молекулы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 зарядом 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от вам и стало понятно название этой разновидности ковалентной связи –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Times New Roman"/>
              </a:rPr>
              <a:t>полярная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7120" y="1714680"/>
            <a:ext cx="8462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не смещены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и к одному из атомов, поэтому они не имеют заряда – полюса и это </a:t>
            </a: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неполярная ковалентная связ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3880" y="214308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Теперь давайте с вами запишем алгоритм образования молекулы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SCl</a:t>
            </a:r>
            <a:r>
              <a:rPr b="1" lang="en-US" sz="60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85520" y="1714320"/>
            <a:ext cx="7643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число внешних электронов у атомов неметаллов и  по формуле 8 –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число неспаренных электронов. Записать электронные формулы атомо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57240" y="5143680"/>
            <a:ext cx="5499360" cy="107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71680" y="1571400"/>
            <a:ext cx="792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символ элемента – неметалла, который представлен одним атомом (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, в центр и знаком «плюс» – два атома другого элемента (С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42960" y="4500720"/>
            <a:ext cx="8013600" cy="1285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5520" y="85716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электронную и структурную формулы получившейся молекул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l – S - C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000840" cy="96336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5"/>
          <p:cNvCxnSpPr/>
          <p:nvPr/>
        </p:nvCxnSpPr>
        <p:spPr>
          <a:xfrm>
            <a:off x="7429680" y="3071880"/>
            <a:ext cx="78624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214280" y="3643200"/>
            <a:ext cx="5886720" cy="171468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8"/>
          <p:cNvCxnSpPr/>
          <p:nvPr/>
        </p:nvCxnSpPr>
        <p:spPr>
          <a:xfrm>
            <a:off x="7000560" y="4500720"/>
            <a:ext cx="114372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1214280"/>
            <a:ext cx="8286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 S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Прямая со стрелкой 4"/>
          <p:cNvCxnSpPr/>
          <p:nvPr/>
        </p:nvCxnSpPr>
        <p:spPr>
          <a:xfrm flipH="1" flipV="1">
            <a:off x="3142800" y="500040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16" name="Прямая со стрелкой 6"/>
          <p:cNvCxnSpPr/>
          <p:nvPr/>
        </p:nvCxnSpPr>
        <p:spPr>
          <a:xfrm>
            <a:off x="4929120" y="500076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</p:spTree>
  </p:cSld>
  <p:transition>
    <p:diamond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560" y="17143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Закрепление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56800" y="2499840"/>
            <a:ext cx="76438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Упражнение №2 на странице 6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1356840"/>
            <a:ext cx="89298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ы условно разделили элементы на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е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Рассмотрели, как образуются связи между атомами металлов и неметаллов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, между атомами одного и того же элемента неметалла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00" y="1785960"/>
            <a:ext cx="83912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§11, закончить №2, стр. 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овторить все виды химической связи: определения, механизм 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Рисунок 3" descr="Сова анимация синяя.gif"/>
          <p:cNvPicPr/>
          <p:nvPr/>
        </p:nvPicPr>
        <p:blipFill>
          <a:blip r:embed="rId1"/>
          <a:stretch/>
        </p:blipFill>
        <p:spPr>
          <a:xfrm>
            <a:off x="6858000" y="3500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2000160"/>
            <a:ext cx="8391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разных неметаллов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1428480"/>
            <a:ext cx="90010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Очевидно, опять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</a:rPr>
              <a:t>ковалентную связь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– засчет образования общих электронных па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о ведь элементы – то разные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6760" y="1642680"/>
            <a:ext cx="85726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376000"/>
            <a:ext cx="604836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валентная полярная химическая связ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6048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Урок на тему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560" y="8568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642680"/>
            <a:ext cx="91440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Продолжить формирование понятия о ковалентной химической связ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929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249228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электроотрицательнос-тью (ЭО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7864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Ряд электроотрицательности химических элементов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2999880"/>
            <a:ext cx="83912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H As I Si P Se C S Br Cl N O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силение электроотрица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Прямая со стрелкой 4"/>
          <p:cNvCxnSpPr/>
          <p:nvPr/>
        </p:nvCxnSpPr>
        <p:spPr>
          <a:xfrm>
            <a:off x="928800" y="4142880"/>
            <a:ext cx="7572960" cy="252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heel spokes="2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21:33Z</dcterms:created>
  <dc:creator>user</dc:creator>
  <dc:description/>
  <dc:language>en-US</dc:language>
  <cp:lastModifiedBy>LEGION</cp:lastModifiedBy>
  <dcterms:modified xsi:type="dcterms:W3CDTF">2015-05-04T06:45:46Z</dcterms:modified>
  <cp:revision>26</cp:revision>
  <dc:subject/>
  <dc:title>Задание</dc:title>
</cp:coreProperties>
</file>