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DB39-DBAA-457C-ACEC-9C18308D5CF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обальные проблемы человече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логическая пробле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BA04C-280D-4F63-9D53-F6947A1DEBB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 экологическая проблема распространена в мире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ктически </a:t>
            </a: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повсеместн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айонах с развитой </a:t>
            </a: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промышленностью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айонах с высокой плотностью </a:t>
            </a:r>
            <a:r>
              <a:rPr b="0" lang="ru-RU" sz="1200" spc="-1" strike="noStrike">
                <a:solidFill>
                  <a:srgbClr val="808080"/>
                </a:solidFill>
                <a:latin typeface="Times New Roman"/>
              </a:rPr>
              <a:t>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18910-4798-4FD9-B0AE-D072F68096D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ите пути решения экологической пробл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1FB23-EA07-4E23-AA6C-BC42694BC41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берите ваш прогноз развития экологической проблем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A8B6-EBA1-468C-95CA-56A0295B39D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ЗЫВАТЬ ПРИЗНАКИ ПОНЯТИЯ «ГЛОБАЛЬНЫЕ ПРОБЛЕМЫ ЧЕЛОВЕЧЕСТВА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ЗЫВАТЬ ГЛОБАЛЬНЫЕ ПРОБЛЕМЫ, ИХ СУЩНОСТ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ЗЫВАТЬ ПРИМЕРЫ ПРОЯВЛЕНИЯ ЭКОЛОГИЧЕСКОЙ  ПРОБЛЕМЫ В ПОВСЕДНЕВНОЙ ЖИЗН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ЯТЬ РАСПРОСТРАНЁННОСТЬ ЭКОЛОГИЧЕСКОЙ ПРОБЛЕМЫ ПО СТРАНАМ И РЕГИОНА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АГАТЬ ПУТИ РЕШЕНИЯ ЭКОЛОГИЧЕСКОЙ  ПРОБЛЕМ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НОЗИРОВАТЬ ОБОСТРЕНИЕ ИЛИ ОСЛАБЛЕНИЕ ЭКОЛОГИЧЕСКОЙ ПРОБЛ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C77D9-8BC4-4D27-81D3-468A62A45BC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0349C-B0B1-4A0D-92A8-0800FAAEC5E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обальные проблемы человечества – это проблемы, касающиеся всего человечества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 одно государство не в состоянии справиться с этими проблема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чему глобальные проблемы называются глобальными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и проблемы затрагивают интересы не отдельных стран, а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сего человечеств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 одно государство не в состояни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амостоятельно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ешить эти пробл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9C16-AFD8-41BB-8964-9EBF9AC83F8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обальные проблем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логическ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мографическ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довольстве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ырьевая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ругие пробл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A1131-8CB4-4BCE-9CB0-EEC626A9863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логическая проблема 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проблема взаимоотношений общества и природы, сохранения окружающей сред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 резко возросла нагрузка на окружающую среду во второй половине 20 ве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ждый час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5 человек отравляются и погибают от пестицидов и других химикат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00 человек умирают от отравленной вод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00 т кислотных дождей выпадает в северном полушар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EF04-6577-4BCF-8C8C-5E3338C7BCC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аковы основные причины обострения экологической проблемы в последние десятилетия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зультате интенсивной индустриализации 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езультате роста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озяйственные нагрузки стали превышать способность экологических систем к самоочищени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3E17-6530-45AA-8A82-67AF46CF7D5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зовите основные причины загрязнения окружающей среды в порядке убыван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18940-125D-43BE-8E39-B331B53ED61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экологическая проблема проявляется в повседневной жизн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CA440-D2FC-43FE-ABAF-D6D54719A60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1682E-F950-45A5-B8E3-C816C7DE0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F8BA-DA5D-47BC-8505-25BF07F1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E0B6-1B32-4EFC-9244-716A6A1BA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BB6C-AB4A-4A16-BF28-23895F1BB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C558E-E0E9-4A04-9606-E604EB11E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E690-54CB-442E-8E54-D1FFF0F7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08904-F0DF-4A6B-9DF9-FAEC3E495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12ECA-4ECC-42E2-B27C-5D668D315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DB497-25D8-45B0-BFAE-7D75C7C1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08F12-E196-4B65-AB62-353289163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7FF86-A7F2-43EC-B707-FED70B1C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4CC9-8C62-451D-8812-DFB5F269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E78FC-B79C-4CD3-81E3-515B115D1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8716-5283-4ACE-A174-61F936D3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ED9CB-A937-4E12-822A-AD89905F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585B-3D19-4ECC-B6FE-9559FA9F9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0B759-B80B-4F97-80EF-80D8B850B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5CF3-380B-40DB-9A81-D904001B2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FD85-CFF0-4D36-997D-EDF61124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0692-696D-4E8C-B1C6-53357CAA4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5F24-9561-40B7-A661-C97F84A92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A974-EFEF-44C4-8CCE-15A386841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B014-E49D-421F-90E3-5BBE202E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063F-87A8-44AF-81E6-07DC3D51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F323-1007-4758-81C2-8EFA83438F0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3421-0307-46FA-81A4-76B568192A2F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cecff"/>
                </a:solidFill>
                <a:latin typeface="Arial"/>
              </a:rPr>
              <a:t>Глобальные проблемы человечества.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кологическая пробле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6" descr="1"/>
          <p:cNvPicPr/>
          <p:nvPr/>
        </p:nvPicPr>
        <p:blipFill>
          <a:blip r:embed="rId1"/>
          <a:srcRect l="0" t="0" r="-8" b="13"/>
          <a:stretch/>
        </p:blipFill>
        <p:spPr>
          <a:xfrm>
            <a:off x="250920" y="1268280"/>
            <a:ext cx="8567640" cy="511020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Как экологическая проблема распространена в мире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4581000"/>
            <a:ext cx="822960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актически </a:t>
            </a:r>
            <a:r>
              <a:rPr b="0" lang="ru-RU" sz="2400" spc="-1" strike="noStrike">
                <a:solidFill>
                  <a:srgbClr val="003b76"/>
                </a:solidFill>
                <a:latin typeface="Verdana"/>
              </a:rPr>
              <a:t>повсеместно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районах с развитой </a:t>
            </a:r>
            <a:r>
              <a:rPr b="0" lang="ru-RU" sz="2400" spc="-1" strike="noStrike">
                <a:solidFill>
                  <a:srgbClr val="003b76"/>
                </a:solidFill>
                <a:latin typeface="Verdana"/>
              </a:rPr>
              <a:t>промышленностью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ctr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районах с высокой плотностью </a:t>
            </a:r>
            <a:r>
              <a:rPr b="0" lang="ru-RU" sz="2400" spc="-1" strike="noStrike">
                <a:solidFill>
                  <a:srgbClr val="003b76"/>
                </a:solidFill>
                <a:latin typeface="Verdana"/>
              </a:rPr>
              <a:t>населе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Freeform 11"/>
          <p:cNvSpPr/>
          <p:nvPr/>
        </p:nvSpPr>
        <p:spPr>
          <a:xfrm>
            <a:off x="2916360" y="2060640"/>
            <a:ext cx="1920600" cy="1042920"/>
          </a:xfrm>
          <a:custGeom>
            <a:avLst/>
            <a:gdLst/>
            <a:ahLst/>
            <a:rect l="l" t="t" r="r" b="b"/>
            <a:pathLst>
              <a:path w="1210" h="657">
                <a:moveTo>
                  <a:pt x="477" y="15"/>
                </a:moveTo>
                <a:cubicBezTo>
                  <a:pt x="659" y="0"/>
                  <a:pt x="1104" y="98"/>
                  <a:pt x="1157" y="196"/>
                </a:cubicBezTo>
                <a:cubicBezTo>
                  <a:pt x="1210" y="294"/>
                  <a:pt x="922" y="551"/>
                  <a:pt x="794" y="604"/>
                </a:cubicBezTo>
                <a:cubicBezTo>
                  <a:pt x="666" y="657"/>
                  <a:pt x="499" y="529"/>
                  <a:pt x="386" y="514"/>
                </a:cubicBezTo>
                <a:cubicBezTo>
                  <a:pt x="273" y="499"/>
                  <a:pt x="167" y="552"/>
                  <a:pt x="114" y="514"/>
                </a:cubicBezTo>
                <a:cubicBezTo>
                  <a:pt x="61" y="476"/>
                  <a:pt x="0" y="370"/>
                  <a:pt x="68" y="287"/>
                </a:cubicBezTo>
                <a:cubicBezTo>
                  <a:pt x="136" y="204"/>
                  <a:pt x="295" y="30"/>
                  <a:pt x="477" y="15"/>
                </a:cubicBezTo>
                <a:close/>
              </a:path>
            </a:pathLst>
          </a:custGeom>
          <a:noFill/>
          <a:ln w="22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Freeform 13"/>
          <p:cNvSpPr/>
          <p:nvPr/>
        </p:nvSpPr>
        <p:spPr>
          <a:xfrm>
            <a:off x="4356000" y="2708280"/>
            <a:ext cx="1440000" cy="1081080"/>
          </a:xfrm>
          <a:custGeom>
            <a:avLst/>
            <a:gdLst/>
            <a:ahLst/>
            <a:rect l="l" t="t" r="r" b="b"/>
            <a:pathLst>
              <a:path w="1058" h="1036">
                <a:moveTo>
                  <a:pt x="604" y="83"/>
                </a:moveTo>
                <a:cubicBezTo>
                  <a:pt x="664" y="53"/>
                  <a:pt x="847" y="0"/>
                  <a:pt x="922" y="38"/>
                </a:cubicBezTo>
                <a:cubicBezTo>
                  <a:pt x="997" y="76"/>
                  <a:pt x="1058" y="219"/>
                  <a:pt x="1058" y="310"/>
                </a:cubicBezTo>
                <a:cubicBezTo>
                  <a:pt x="1058" y="401"/>
                  <a:pt x="990" y="484"/>
                  <a:pt x="922" y="582"/>
                </a:cubicBezTo>
                <a:cubicBezTo>
                  <a:pt x="854" y="680"/>
                  <a:pt x="771" y="840"/>
                  <a:pt x="650" y="900"/>
                </a:cubicBezTo>
                <a:cubicBezTo>
                  <a:pt x="529" y="960"/>
                  <a:pt x="294" y="1036"/>
                  <a:pt x="196" y="945"/>
                </a:cubicBezTo>
                <a:cubicBezTo>
                  <a:pt x="98" y="854"/>
                  <a:pt x="0" y="476"/>
                  <a:pt x="60" y="355"/>
                </a:cubicBezTo>
                <a:cubicBezTo>
                  <a:pt x="120" y="234"/>
                  <a:pt x="468" y="272"/>
                  <a:pt x="559" y="219"/>
                </a:cubicBezTo>
                <a:cubicBezTo>
                  <a:pt x="650" y="166"/>
                  <a:pt x="544" y="113"/>
                  <a:pt x="604" y="83"/>
                </a:cubicBez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Line 18"/>
          <p:cNvSpPr/>
          <p:nvPr/>
        </p:nvSpPr>
        <p:spPr>
          <a:xfrm flipV="1">
            <a:off x="971640" y="2781000"/>
            <a:ext cx="2663640" cy="2592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Line 19"/>
          <p:cNvSpPr/>
          <p:nvPr/>
        </p:nvSpPr>
        <p:spPr>
          <a:xfrm flipV="1">
            <a:off x="900000" y="3573360"/>
            <a:ext cx="3816360" cy="216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редложите пути решения экологической проблемы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07" name="Picture 10" descr="Малоотходные процессы"/>
          <p:cNvPicPr/>
          <p:nvPr/>
        </p:nvPicPr>
        <p:blipFill>
          <a:blip r:embed="rId1"/>
          <a:stretch/>
        </p:blipFill>
        <p:spPr>
          <a:xfrm>
            <a:off x="611280" y="1600200"/>
            <a:ext cx="3889440" cy="21891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Автомобили"/>
          <p:cNvPicPr/>
          <p:nvPr/>
        </p:nvPicPr>
        <p:blipFill>
          <a:blip r:embed="rId2"/>
          <a:stretch/>
        </p:blipFill>
        <p:spPr>
          <a:xfrm>
            <a:off x="539640" y="3933720"/>
            <a:ext cx="3961080" cy="2519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3" descr="Семьи африканских народов многодетны"/>
          <p:cNvPicPr/>
          <p:nvPr/>
        </p:nvPicPr>
        <p:blipFill>
          <a:blip r:embed="rId3"/>
          <a:stretch/>
        </p:blipFill>
        <p:spPr>
          <a:xfrm>
            <a:off x="4788000" y="3887640"/>
            <a:ext cx="3816360" cy="2565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5" descr="losinmyself"/>
          <p:cNvPicPr/>
          <p:nvPr/>
        </p:nvPicPr>
        <p:blipFill>
          <a:blip r:embed="rId4"/>
          <a:stretch/>
        </p:blipFill>
        <p:spPr>
          <a:xfrm>
            <a:off x="4788000" y="1600200"/>
            <a:ext cx="3744720" cy="218916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02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Выберите ваш прогноз развития экологической проблемы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3" name="Picture 8" descr="Березовая роща"/>
          <p:cNvPicPr/>
          <p:nvPr/>
        </p:nvPicPr>
        <p:blipFill>
          <a:blip r:embed="rId1"/>
          <a:stretch/>
        </p:blipFill>
        <p:spPr>
          <a:xfrm>
            <a:off x="4643280" y="1844640"/>
            <a:ext cx="4038840" cy="4032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Последствия взрыва в Хиросиме"/>
          <p:cNvPicPr/>
          <p:nvPr/>
        </p:nvPicPr>
        <p:blipFill>
          <a:blip r:embed="rId2"/>
          <a:stretch/>
        </p:blipFill>
        <p:spPr>
          <a:xfrm>
            <a:off x="468360" y="1844640"/>
            <a:ext cx="4038480" cy="4032360"/>
          </a:xfrm>
          <a:prstGeom prst="rect">
            <a:avLst/>
          </a:prstGeom>
          <a:ln w="0">
            <a:noFill/>
          </a:ln>
        </p:spPr>
      </p:pic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ЗЫВАТЬ ПРИЗНАКИ ПОНЯТИЯ «ГЛОБАЛЬНЫЕ ПРОБЛЕМЫ ЧЕЛОВЕЧЕСТВА»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ЗЫВАТЬ ГЛОБАЛЬНЫЕ ПРОБЛЕМЫ, ИХ СУЩНОСТЬ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НАЗЫВАТЬ ПРИМЕРЫ ПРОЯВЛЕНИЯ ЭКОЛОГИЧЕСКОЙ  ПРОБЛЕМЫ В ПОВСЕДНЕВНОЙ ЖИЗНИ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ПРЕДЕЛЯТЬ РАСПРОСТРАНЁННОСТЬ ЭКОЛОГИЧЕСКОЙ ПРОБЛЕМЫ ПО СТРАНАМ И РЕГИОНАМ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ЕДЛАГАТЬ ПУТИ РЕШЕНИЯ ЭКОЛОГИЧЕСКОЙ  ПРОБЛЕМ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ПРОГНОЗИРОВАТЬ ОБОСТРЕНИЕ ИЛИ ОСЛАБЛЕНИЕ ЭКОЛОГИЧЕСКОЙ ПРОБЛЕМЫ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7" descr="Земля из космоса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4533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23270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Глобальные проблемы человечества – это проблемы, касающиеся всего человечества.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Ни одно государство не в состоянии справиться с этими проблемам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2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" dur="2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" dur="2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5" descr="Земля из космоса"/>
          <p:cNvPicPr/>
          <p:nvPr/>
        </p:nvPicPr>
        <p:blipFill>
          <a:blip r:embed="rId1"/>
          <a:stretch/>
        </p:blipFill>
        <p:spPr>
          <a:xfrm>
            <a:off x="395280" y="549360"/>
            <a:ext cx="8424720" cy="59752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очему глобальные проблемы называются глобальными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ти проблемы затрагивают интересы не отдельных стран, а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сего человечеств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 algn="just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Ни одно государство не в состоянии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самостоятельно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решить эти проблем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6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7" dur="indefinite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лобальные проблем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Экологическа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емографическа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родовольственна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ырьевая и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Другие проблемы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0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кологическая проблема -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это проблема взаимоотношений общества и природы, сохранения окружающей среды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Особенно резко возросла нагрузка на окружающую среду во второй половине 20 века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Каждый час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55 человек отравляются и погибают от пестицидов и других химикатов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1000 человек умирают от отравленной воды;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2000 т кислотных дождей выпадает в северном полушарии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Каковы основные причины обострения экологической проблемы в последние десятилетия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3941280"/>
            <a:ext cx="82296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результате интенсивной индустриализации 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в результате роста населе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Verdana"/>
              </a:rPr>
              <a:t>хозяйственные нагрузки стали превышать способность экологических систем к самоочищению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Picture 8" descr="Нефтеперерабатывающий завод"/>
          <p:cNvPicPr/>
          <p:nvPr/>
        </p:nvPicPr>
        <p:blipFill>
          <a:blip r:embed="rId1"/>
          <a:stretch/>
        </p:blipFill>
        <p:spPr>
          <a:xfrm>
            <a:off x="1015920" y="1600200"/>
            <a:ext cx="2919600" cy="21891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Австралийский город"/>
          <p:cNvPicPr/>
          <p:nvPr/>
        </p:nvPicPr>
        <p:blipFill>
          <a:blip r:embed="rId2"/>
          <a:stretch/>
        </p:blipFill>
        <p:spPr>
          <a:xfrm>
            <a:off x="5207040" y="1600200"/>
            <a:ext cx="2919240" cy="218916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0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Назовите основные причины загрязнения окружающей среды в порядке убывания: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0" name="Picture 5" descr="Загрязнение атмосферы"/>
          <p:cNvPicPr/>
          <p:nvPr/>
        </p:nvPicPr>
        <p:blipFill>
          <a:blip r:embed="rId1"/>
          <a:stretch/>
        </p:blipFill>
        <p:spPr>
          <a:xfrm>
            <a:off x="395280" y="1600200"/>
            <a:ext cx="8353440" cy="453060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Как экологическая проблема проявляется в повседневной жизни?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93" name="Picture 9" descr="Определение ветра по дыму"/>
          <p:cNvPicPr/>
          <p:nvPr/>
        </p:nvPicPr>
        <p:blipFill>
          <a:blip r:embed="rId1"/>
          <a:stretch/>
        </p:blipFill>
        <p:spPr>
          <a:xfrm>
            <a:off x="755640" y="1557360"/>
            <a:ext cx="3672000" cy="21891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Загрязнение окружающей среды"/>
          <p:cNvPicPr/>
          <p:nvPr/>
        </p:nvPicPr>
        <p:blipFill>
          <a:blip r:embed="rId2"/>
          <a:stretch/>
        </p:blipFill>
        <p:spPr>
          <a:xfrm>
            <a:off x="4788000" y="1557360"/>
            <a:ext cx="3960720" cy="21589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Загрязнение береговой линии"/>
          <p:cNvPicPr/>
          <p:nvPr/>
        </p:nvPicPr>
        <p:blipFill>
          <a:blip r:embed="rId3"/>
          <a:stretch/>
        </p:blipFill>
        <p:spPr>
          <a:xfrm>
            <a:off x="684360" y="3933720"/>
            <a:ext cx="3816360" cy="2448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Лес после кислотного дождя"/>
          <p:cNvPicPr/>
          <p:nvPr/>
        </p:nvPicPr>
        <p:blipFill>
          <a:blip r:embed="rId4"/>
          <a:stretch/>
        </p:blipFill>
        <p:spPr>
          <a:xfrm>
            <a:off x="4788000" y="3933720"/>
            <a:ext cx="3960720" cy="244800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74214s006.edusite.ru</dc:description>
  <dc:language>en-US</dc:language>
  <cp:lastModifiedBy>LEGION</cp:lastModifiedBy>
  <dcterms:modified xsi:type="dcterms:W3CDTF">2015-05-06T08:04:20Z</dcterms:modified>
  <cp:revision>16</cp:revision>
  <dc:subject/>
  <dc:title>Глобальные проблемы современ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009000000000001024140</vt:lpwstr>
  </property>
</Properties>
</file>