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8870-3ABC-4147-B46A-F94DC5F910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 человеч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95BF-24D2-4F86-902F-9375776D13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экологическая проблема распространена в мир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овсемест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йонах с развитой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омышленностью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йонах с высокой плотностью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80DF-1124-4BF8-9B88-AAD86217385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экологическ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CC7E-2EED-4524-8310-9F93811DE21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ерите ваш прогноз развития экологической пробл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0FCC-E406-4D94-A585-7BFE1D1D827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ТЬ ПРИЗНАКИ ПОНЯТИЯ «ГЛОБАЛЬНЫЕ ПРОБЛЕМЫ ЧЕЛОВЕЧЕСТВА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ТЬ ГЛОБАЛЬНЫЕ ПРОБЛЕМЫ, ИХ СУЩ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ТЬ ПРИМЕРЫ ПРОЯВЛЕНИЯ ЭКОЛОГИЧЕСКОЙ  ПРОБЛЕМЫ В ПОВСЕДНЕВНОЙ ЖИЗН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РАСПРОСТРАНЁННОСТЬ ЭКОЛОГИЧЕСКОЙ ПРОБЛЕМЫ ПО СТРАНАМ И РЕГИОН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АГАТЬ ПУТИ РЕШЕНИЯ ЭКОЛОГИЧЕСКОЙ  ПРОБЛЕМ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НОЗИРОВАТЬ ОБОСТРЕНИЕ ИЛИ ОСЛАБЛЕНИЕ ЭКОЛОГИЧЕСКОЙ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295A-921D-45F8-B637-5BE3B97CB87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B353-5BA1-4F4C-9B26-E9EA6309DE9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 человечества – это проблемы, касающиеся всего человечеств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 одно государство не в состоянии справиться с этими проблем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чему глобальные проблемы называются глобальным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 проблемы затрагивают интересы не отдельных стран, 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го человеч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 одно государство не в состоян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амостоятельн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шить эти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A67E-11C8-4422-9EA9-0FB6A347A40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мограф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овольств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ырьевая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B9C1-A673-45E9-9019-BAC75B225BD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ая проблема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облема взаимоотношений общества и природы, сохра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 резко возросла нагрузка на окружающую среду во второй половине 20 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ча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5 человек отравляются и погибают от пестицидов и других химика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00 человек умирают от отравленной вод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00 т кислотных дождей выпадает в северном полуша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2363-B62C-4802-B80C-01C6FE147D9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овы основные причины обострения экологической проблемы в последние десятилети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интенсивной индустриализации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роста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зяйственные нагрузки стали превышать способность экологических систем к самоочищ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B8A3-2F51-4544-8E2A-C4E1B686F01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овите основные причины загрязнения окружающей среды в порядке убы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F3D2-3E60-408C-8B36-CD80F2E2D87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экологическая проблема проявляется в повседневной жизн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F03F-D9C0-4359-88FB-B6E8BD8712E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8A1-5433-4C49-A12F-24480D81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4AE3-40D1-4DC6-96CB-7C91FCCF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A78A-9454-4189-B02C-985AFF42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30FF-225A-487D-BAA7-E70F3B0C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9388-DA57-4AEB-85D3-7315EF33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9EE6-F63B-4EAA-8570-6EBEE290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32B4-B44E-4572-93B0-4F3E1010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8793-AA57-4185-BA28-3D11B1AF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7BD7-33C7-4CE6-B4B8-10E61475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7E25-2FE3-4E27-9966-0F838B18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29A5-57E4-4594-B2CB-ACD527DF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6563-2D5B-4154-8FC3-B4E87B5D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715A-1512-43A7-8BCB-F0592ABD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7752-030B-4A6E-B5EF-9BBC9EF8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A719-7BAB-4C17-9EED-3E3FC98F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B92F-8358-42CA-BB0C-90CD30C7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CBB4-8318-4E4E-8DB1-FBC11095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0852-C8CC-4FD7-8A15-D494A033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690-3CD8-41B3-8E3C-B09C1E99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EA1B-52E0-4452-9F2C-0DCA8C19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019-3C4B-4B6B-8D83-49B6F3A9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83C-968C-43AF-AB73-45A602CA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C9B-6EE1-46C0-BB73-15BEF92A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B27-7851-4F61-820A-C9738B2A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81EF-E2AE-4035-AA08-DAB5CFE51F5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A7C3-5A66-4EB6-9FCA-0F327164752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Глобальные проблемы человечеств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ческая пробле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1"/>
          <p:cNvPicPr/>
          <p:nvPr/>
        </p:nvPicPr>
        <p:blipFill>
          <a:blip r:embed="rId1"/>
          <a:srcRect l="0" t="0" r="-8" b="13"/>
          <a:stretch/>
        </p:blipFill>
        <p:spPr>
          <a:xfrm>
            <a:off x="250920" y="1268280"/>
            <a:ext cx="8567640" cy="51102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 экологическая проблема распространена в мире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актически </a:t>
            </a: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повсеместн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айонах с развитой </a:t>
            </a: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промышленностью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айонах с высокой плотностью </a:t>
            </a: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Freeform 11"/>
          <p:cNvSpPr/>
          <p:nvPr/>
        </p:nvSpPr>
        <p:spPr>
          <a:xfrm>
            <a:off x="2916360" y="2060640"/>
            <a:ext cx="1920600" cy="1042920"/>
          </a:xfrm>
          <a:custGeom>
            <a:avLst/>
            <a:gdLst/>
            <a:ahLst/>
            <a:rect l="l" t="t" r="r" b="b"/>
            <a:pathLst>
              <a:path w="1210" h="657">
                <a:moveTo>
                  <a:pt x="477" y="15"/>
                </a:moveTo>
                <a:cubicBezTo>
                  <a:pt x="659" y="0"/>
                  <a:pt x="1104" y="98"/>
                  <a:pt x="1157" y="196"/>
                </a:cubicBezTo>
                <a:cubicBezTo>
                  <a:pt x="1210" y="294"/>
                  <a:pt x="922" y="551"/>
                  <a:pt x="794" y="604"/>
                </a:cubicBezTo>
                <a:cubicBezTo>
                  <a:pt x="666" y="657"/>
                  <a:pt x="499" y="529"/>
                  <a:pt x="386" y="514"/>
                </a:cubicBezTo>
                <a:cubicBezTo>
                  <a:pt x="273" y="499"/>
                  <a:pt x="167" y="552"/>
                  <a:pt x="114" y="514"/>
                </a:cubicBezTo>
                <a:cubicBezTo>
                  <a:pt x="61" y="476"/>
                  <a:pt x="0" y="370"/>
                  <a:pt x="68" y="287"/>
                </a:cubicBezTo>
                <a:cubicBezTo>
                  <a:pt x="136" y="204"/>
                  <a:pt x="295" y="30"/>
                  <a:pt x="477" y="15"/>
                </a:cubicBezTo>
                <a:close/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Freeform 13"/>
          <p:cNvSpPr/>
          <p:nvPr/>
        </p:nvSpPr>
        <p:spPr>
          <a:xfrm>
            <a:off x="4356000" y="2708280"/>
            <a:ext cx="1440000" cy="1081080"/>
          </a:xfrm>
          <a:custGeom>
            <a:avLst/>
            <a:gdLst/>
            <a:ahLst/>
            <a:rect l="l" t="t" r="r" b="b"/>
            <a:pathLst>
              <a:path w="1058" h="1036">
                <a:moveTo>
                  <a:pt x="604" y="83"/>
                </a:moveTo>
                <a:cubicBezTo>
                  <a:pt x="664" y="53"/>
                  <a:pt x="847" y="0"/>
                  <a:pt x="922" y="38"/>
                </a:cubicBezTo>
                <a:cubicBezTo>
                  <a:pt x="997" y="76"/>
                  <a:pt x="1058" y="219"/>
                  <a:pt x="1058" y="310"/>
                </a:cubicBezTo>
                <a:cubicBezTo>
                  <a:pt x="1058" y="401"/>
                  <a:pt x="990" y="484"/>
                  <a:pt x="922" y="582"/>
                </a:cubicBezTo>
                <a:cubicBezTo>
                  <a:pt x="854" y="680"/>
                  <a:pt x="771" y="840"/>
                  <a:pt x="650" y="900"/>
                </a:cubicBezTo>
                <a:cubicBezTo>
                  <a:pt x="529" y="960"/>
                  <a:pt x="294" y="1036"/>
                  <a:pt x="196" y="945"/>
                </a:cubicBezTo>
                <a:cubicBezTo>
                  <a:pt x="98" y="854"/>
                  <a:pt x="0" y="476"/>
                  <a:pt x="60" y="355"/>
                </a:cubicBezTo>
                <a:cubicBezTo>
                  <a:pt x="120" y="234"/>
                  <a:pt x="468" y="272"/>
                  <a:pt x="559" y="219"/>
                </a:cubicBezTo>
                <a:cubicBezTo>
                  <a:pt x="650" y="166"/>
                  <a:pt x="544" y="113"/>
                  <a:pt x="604" y="83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Line 18"/>
          <p:cNvSpPr/>
          <p:nvPr/>
        </p:nvSpPr>
        <p:spPr>
          <a:xfrm flipV="1">
            <a:off x="971640" y="2781000"/>
            <a:ext cx="2663640" cy="259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Line 19"/>
          <p:cNvSpPr/>
          <p:nvPr/>
        </p:nvSpPr>
        <p:spPr>
          <a:xfrm flipV="1">
            <a:off x="900000" y="3573360"/>
            <a:ext cx="3816360" cy="216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едложите пути решения экологической проблем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7" name="Picture 10" descr="Малоотходные процессы"/>
          <p:cNvPicPr/>
          <p:nvPr/>
        </p:nvPicPr>
        <p:blipFill>
          <a:blip r:embed="rId1"/>
          <a:stretch/>
        </p:blipFill>
        <p:spPr>
          <a:xfrm>
            <a:off x="611280" y="1600200"/>
            <a:ext cx="3889440" cy="218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Автомобили"/>
          <p:cNvPicPr/>
          <p:nvPr/>
        </p:nvPicPr>
        <p:blipFill>
          <a:blip r:embed="rId2"/>
          <a:stretch/>
        </p:blipFill>
        <p:spPr>
          <a:xfrm>
            <a:off x="539640" y="3933720"/>
            <a:ext cx="3961080" cy="2519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Семьи африканских народов многодетны"/>
          <p:cNvPicPr/>
          <p:nvPr/>
        </p:nvPicPr>
        <p:blipFill>
          <a:blip r:embed="rId3"/>
          <a:stretch/>
        </p:blipFill>
        <p:spPr>
          <a:xfrm>
            <a:off x="4788000" y="3887640"/>
            <a:ext cx="3816360" cy="2565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losinmyself"/>
          <p:cNvPicPr/>
          <p:nvPr/>
        </p:nvPicPr>
        <p:blipFill>
          <a:blip r:embed="rId4"/>
          <a:stretch/>
        </p:blipFill>
        <p:spPr>
          <a:xfrm>
            <a:off x="4788000" y="1600200"/>
            <a:ext cx="3744720" cy="218916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ыберите ваш прогноз развития экологической проблем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Picture 8" descr="Березовая роща"/>
          <p:cNvPicPr/>
          <p:nvPr/>
        </p:nvPicPr>
        <p:blipFill>
          <a:blip r:embed="rId1"/>
          <a:stretch/>
        </p:blipFill>
        <p:spPr>
          <a:xfrm>
            <a:off x="4643280" y="1844640"/>
            <a:ext cx="4038840" cy="4032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Последствия взрыва в Хиросиме"/>
          <p:cNvPicPr/>
          <p:nvPr/>
        </p:nvPicPr>
        <p:blipFill>
          <a:blip r:embed="rId2"/>
          <a:stretch/>
        </p:blipFill>
        <p:spPr>
          <a:xfrm>
            <a:off x="468360" y="1844640"/>
            <a:ext cx="4038480" cy="403236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ТЬ ПРИЗНАКИ ПОНЯТИЯ «ГЛОБАЛЬНЫЕ ПРОБЛЕМЫ ЧЕЛОВЕЧЕСТВА»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ТЬ ГЛОБАЛЬНЫЕ ПРОБЛЕМЫ, ИХ СУЩНОСТЬ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ТЬ ПРИМЕРЫ ПРОЯВЛЕНИЯ ЭКОЛОГИЧЕСКОЙ  ПРОБЛЕМЫ В ПОВСЕДНЕВНОЙ ЖИЗН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РЕДЕЛЯТЬ РАСПРОСТРАНЁННОСТЬ ЭКОЛОГИЧЕСКОЙ ПРОБЛЕМЫ ПО СТРАНАМ И РЕГИОНА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ДЛАГАТЬ ПУТИ РЕШЕНИЯ ЭКОЛОГИЧЕСКОЙ  ПРОБЛЕМ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ОГНОЗИРОВАТЬ ОБОСТРЕНИЕ ИЛИ ОСЛАБЛЕНИЕ ЭКОЛОГИЧЕСКОЙ ПРОБЛЕ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Земля из космоса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обальные проблемы человечества – это проблемы, касающиеся всего человечества.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 одно государство не в состоянии справиться с этими проблемам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Земля из космоса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975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чему глобальные проблемы называются глобальным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и проблемы затрагивают интересы не отдельных стран, 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го человечеств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одно государство не в состоянии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амостоятельн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решить эти проблем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6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7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лобальные проблем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ческ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мографическ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довольственн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рьевая 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е проблем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логическая проблема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это проблема взаимоотношений общества и природы, сохранения окружающей сред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обенно резко возросла нагрузка на окружающую среду во второй половине 20 ве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ждый час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5 человек отравляются и погибают от пестицидов и других химикат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000 человек умирают от отравленной вод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000 т кислотных дождей выпадает в северном полушар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овы основные причины обострения экологической проблемы в последние десятилетия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езультате интенсивной индустриализации 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езультате роста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хозяйственные нагрузки стали превышать способность экологических систем к самоочищению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8" descr="Нефтеперерабатывающий завод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Австралийский город"/>
          <p:cNvPicPr/>
          <p:nvPr/>
        </p:nvPicPr>
        <p:blipFill>
          <a:blip r:embed="rId2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Назовите основные причины загрязнения окружающей среды в порядке убывания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Picture 5" descr="Загрязнение атмосферы"/>
          <p:cNvPicPr/>
          <p:nvPr/>
        </p:nvPicPr>
        <p:blipFill>
          <a:blip r:embed="rId1"/>
          <a:stretch/>
        </p:blipFill>
        <p:spPr>
          <a:xfrm>
            <a:off x="395280" y="1600200"/>
            <a:ext cx="8353440" cy="45306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Как экологическая проблема проявляется в повседневной жизни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9" descr="Определение ветра по дыму"/>
          <p:cNvPicPr/>
          <p:nvPr/>
        </p:nvPicPr>
        <p:blipFill>
          <a:blip r:embed="rId1"/>
          <a:stretch/>
        </p:blipFill>
        <p:spPr>
          <a:xfrm>
            <a:off x="755640" y="1557360"/>
            <a:ext cx="3672000" cy="2189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Загрязнение окружающей среды"/>
          <p:cNvPicPr/>
          <p:nvPr/>
        </p:nvPicPr>
        <p:blipFill>
          <a:blip r:embed="rId2"/>
          <a:stretch/>
        </p:blipFill>
        <p:spPr>
          <a:xfrm>
            <a:off x="4788000" y="1557360"/>
            <a:ext cx="3960720" cy="2158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Загрязнение береговой линии"/>
          <p:cNvPicPr/>
          <p:nvPr/>
        </p:nvPicPr>
        <p:blipFill>
          <a:blip r:embed="rId3"/>
          <a:stretch/>
        </p:blipFill>
        <p:spPr>
          <a:xfrm>
            <a:off x="684360" y="3933720"/>
            <a:ext cx="3816360" cy="244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Лес после кислотного дождя"/>
          <p:cNvPicPr/>
          <p:nvPr/>
        </p:nvPicPr>
        <p:blipFill>
          <a:blip r:embed="rId4"/>
          <a:stretch/>
        </p:blipFill>
        <p:spPr>
          <a:xfrm>
            <a:off x="4788000" y="393372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74214s006.edusite.ru</dc:description>
  <dc:language>en-US</dc:language>
  <cp:lastModifiedBy>LEGION</cp:lastModifiedBy>
  <dcterms:modified xsi:type="dcterms:W3CDTF">2015-05-06T08:04:20Z</dcterms:modified>
  <cp:revision>16</cp:revision>
  <dc:subject/>
  <dc:title>Глобальные проблемы современ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9000000000001024140</vt:lpwstr>
  </property>
</Properties>
</file>