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898E-2B8D-492E-B398-093ADE1EB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941E-A9A2-4423-97D9-6E7FBD9C33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5C4A-E474-4507-AB70-BD12F3F077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DBD2-A1EC-461A-AEEB-BD95E0DB6F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ED71-4804-4826-AC66-44B77C4B13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B16A-9D2F-4E39-9C15-19CA7F7407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6D92-E79C-41C7-BA99-C671944BA4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5B24-3D56-4B2B-8A77-72465F26B6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6AC0-6F3A-4DAE-86EF-284CD45191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4A9C-2299-47F3-AEE2-B65CAD7E45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ABC4-D0E6-411A-BDFA-0A49CD6ACE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DC82-495E-4356-BC5C-1B8C1F03C9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6B6-47CC-4E3C-97A8-D5CBAD8F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9D9-9B66-4A1F-AE11-7F0D0433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1E6-8FA6-4751-8ED9-F0E3D059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53A-E763-4231-8E7E-D2C01D9C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A36-AB0A-46E9-83AB-46E5936E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E2A-6537-4625-B998-848C92ED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E75-E4FC-4E4E-B448-9E67B0B2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374-1007-4790-BF28-F1D53758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042-A6C4-44D9-946E-B0779DD7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CF6-E2D1-49E4-A30C-7AE2951A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B2F-A8D5-4F72-BD37-4ABA1905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6F8-A303-4A22-BE7A-FBFE091D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00CF-ED76-4A08-81BE-61C794A50E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" Target="slide7.xml"/><Relationship Id="rId7" Type="http://schemas.openxmlformats.org/officeDocument/2006/relationships/image" Target="../media/image10.jpeg"/><Relationship Id="rId8" Type="http://schemas.openxmlformats.org/officeDocument/2006/relationships/slide" Target="slide8.xml"/><Relationship Id="rId9" Type="http://schemas.openxmlformats.org/officeDocument/2006/relationships/image" Target="../media/image11.jpeg"/><Relationship Id="rId10" Type="http://schemas.openxmlformats.org/officeDocument/2006/relationships/slide" Target="slide9.xml"/><Relationship Id="rId11" Type="http://schemas.openxmlformats.org/officeDocument/2006/relationships/image" Target="../media/image12.jpeg"/><Relationship Id="rId12" Type="http://schemas.openxmlformats.org/officeDocument/2006/relationships/slide" Target="slide10.xml"/><Relationship Id="rId13" Type="http://schemas.openxmlformats.org/officeDocument/2006/relationships/image" Target="../media/image13.jpeg"/><Relationship Id="rId14" Type="http://schemas.openxmlformats.org/officeDocument/2006/relationships/slide" Target="slide11.xml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ic #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Pic #1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4952880"/>
            <a:ext cx="888984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427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8172360" y="6237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rirod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50130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ic #2-1"/>
          <p:cNvPicPr/>
          <p:nvPr/>
        </p:nvPicPr>
        <p:blipFill>
          <a:blip r:embed="rId1"/>
          <a:stretch/>
        </p:blipFill>
        <p:spPr>
          <a:xfrm>
            <a:off x="-47520" y="-47520"/>
            <a:ext cx="9191520" cy="691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Pic #2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3789360"/>
            <a:ext cx="1054080" cy="380880"/>
          </a:xfrm>
          <a:prstGeom prst="rect">
            <a:avLst/>
          </a:prstGeom>
          <a:ln w="0">
            <a:noFill/>
          </a:ln>
        </p:spPr>
      </p:pic>
      <p:pic>
        <p:nvPicPr>
          <p:cNvPr id="53" name="01 Ошибка Windows .mp3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_2ab4_832b760a_XL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59280" y="4581360"/>
            <a:ext cx="3384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1" descr="0829ed3b2973b7db572c0102bff7e9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2" descr="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393372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003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5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03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7" descr="6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003640" y="386064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7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771640" y="5157720"/>
            <a:ext cx="3606840" cy="6984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46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>
            <a:hlinkClick r:id="" action="ppaction://hlinkshowjump?jump=previousslide"/>
          </p:cNvPr>
          <p:cNvSpPr/>
          <p:nvPr/>
        </p:nvSpPr>
        <p:spPr>
          <a:xfrm>
            <a:off x="8028000" y="602136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aa47_bd65805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72007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Organization Chart 9"/>
          <p:cNvGrpSpPr/>
          <p:nvPr/>
        </p:nvGrpSpPr>
        <p:grpSpPr>
          <a:xfrm>
            <a:off x="179280" y="2421000"/>
            <a:ext cx="8820720" cy="3815280"/>
            <a:chOff x="179280" y="2421000"/>
            <a:chExt cx="8820720" cy="3815280"/>
          </a:xfrm>
        </p:grpSpPr>
        <p:cxnSp>
          <p:nvCxnSpPr>
            <p:cNvPr id="77" name="_s1028"/>
            <p:cNvCxnSpPr>
              <a:stCxn id="78" idx="0"/>
              <a:endCxn id="79" idx="2"/>
            </p:cNvCxnSpPr>
            <p:nvPr/>
          </p:nvCxnSpPr>
          <p:spPr>
            <a:xfrm flipV="1">
              <a:off x="696420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1029"/>
            <p:cNvCxnSpPr>
              <a:stCxn id="81" idx="0"/>
              <a:endCxn id="82" idx="2"/>
            </p:cNvCxnSpPr>
            <p:nvPr/>
          </p:nvCxnSpPr>
          <p:spPr>
            <a:xfrm flipV="1">
              <a:off x="221436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0"/>
            <p:cNvCxnSpPr>
              <a:stCxn id="79" idx="0"/>
              <a:endCxn id="84" idx="2"/>
            </p:cNvCxnSpPr>
            <p:nvPr/>
          </p:nvCxnSpPr>
          <p:spPr>
            <a:xfrm flipV="1" rot="16200000">
              <a:off x="5538240" y="2424600"/>
              <a:ext cx="477360" cy="237600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31"/>
            <p:cNvCxnSpPr>
              <a:stCxn id="82" idx="0"/>
              <a:endCxn id="84" idx="2"/>
            </p:cNvCxnSpPr>
            <p:nvPr/>
          </p:nvCxnSpPr>
          <p:spPr>
            <a:xfrm flipH="1" flipV="1" rot="5400000">
              <a:off x="3162600" y="2425680"/>
              <a:ext cx="477360" cy="237456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32"/>
            <p:cNvSpPr/>
            <p:nvPr/>
          </p:nvSpPr>
          <p:spPr>
            <a:xfrm>
              <a:off x="2553480" y="242100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Виды катастроф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3"/>
            <p:cNvSpPr/>
            <p:nvPr/>
          </p:nvSpPr>
          <p:spPr>
            <a:xfrm>
              <a:off x="17928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Лок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4"/>
            <p:cNvSpPr/>
            <p:nvPr/>
          </p:nvSpPr>
          <p:spPr>
            <a:xfrm>
              <a:off x="492876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Глоб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5"/>
            <p:cNvSpPr/>
            <p:nvPr/>
          </p:nvSpPr>
          <p:spPr>
            <a:xfrm>
              <a:off x="179280" y="5282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рушение одной или боле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окальных экологических систе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6"/>
            <p:cNvSpPr/>
            <p:nvPr/>
          </p:nvSpPr>
          <p:spPr>
            <a:xfrm>
              <a:off x="4928760" y="5282640"/>
              <a:ext cx="4071240" cy="95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евышения предела внешним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ли внутренни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оздействием на экологическую систему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AutoShape 23"/>
          <p:cNvSpPr/>
          <p:nvPr/>
        </p:nvSpPr>
        <p:spPr>
          <a:xfrm>
            <a:off x="8317080" y="638172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0_33b5c_463e3ef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775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Organization Chart 6"/>
          <p:cNvGrpSpPr/>
          <p:nvPr/>
        </p:nvGrpSpPr>
        <p:grpSpPr>
          <a:xfrm>
            <a:off x="395280" y="3429000"/>
            <a:ext cx="8353080" cy="2447280"/>
            <a:chOff x="395280" y="3429000"/>
            <a:chExt cx="8353080" cy="2447280"/>
          </a:xfrm>
        </p:grpSpPr>
        <p:cxnSp>
          <p:nvCxnSpPr>
            <p:cNvPr id="92" name="_s2052"/>
            <p:cNvCxnSpPr>
              <a:stCxn id="93" idx="0"/>
              <a:endCxn id="94" idx="2"/>
            </p:cNvCxnSpPr>
            <p:nvPr/>
          </p:nvCxnSpPr>
          <p:spPr>
            <a:xfrm flipH="1" flipV="1" rot="5400000">
              <a:off x="3108600" y="3432960"/>
              <a:ext cx="489600" cy="243828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2053"/>
            <p:cNvCxnSpPr>
              <a:stCxn id="96" idx="0"/>
              <a:endCxn id="94" idx="2"/>
            </p:cNvCxnSpPr>
            <p:nvPr/>
          </p:nvCxnSpPr>
          <p:spPr>
            <a:xfrm flipV="1" rot="16200000">
              <a:off x="49366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54"/>
            <p:cNvCxnSpPr>
              <a:stCxn id="98" idx="0"/>
              <a:endCxn id="94" idx="2"/>
            </p:cNvCxnSpPr>
            <p:nvPr/>
          </p:nvCxnSpPr>
          <p:spPr>
            <a:xfrm flipV="1" rot="16200000">
              <a:off x="5545440" y="3433680"/>
              <a:ext cx="489600" cy="24368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55"/>
            <p:cNvCxnSpPr>
              <a:stCxn id="100" idx="0"/>
              <a:endCxn id="94" idx="2"/>
            </p:cNvCxnSpPr>
            <p:nvPr/>
          </p:nvCxnSpPr>
          <p:spPr>
            <a:xfrm flipV="1" rot="16200000">
              <a:off x="6154200" y="2824920"/>
              <a:ext cx="489600" cy="365436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056"/>
            <p:cNvCxnSpPr>
              <a:stCxn id="102" idx="0"/>
              <a:endCxn id="94" idx="2"/>
            </p:cNvCxnSpPr>
            <p:nvPr/>
          </p:nvCxnSpPr>
          <p:spPr>
            <a:xfrm flipV="1">
              <a:off x="4572000" y="4407480"/>
              <a:ext cx="1800" cy="48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057"/>
            <p:cNvCxnSpPr>
              <a:stCxn id="104" idx="0"/>
              <a:endCxn id="94" idx="2"/>
            </p:cNvCxnSpPr>
            <p:nvPr/>
          </p:nvCxnSpPr>
          <p:spPr>
            <a:xfrm flipH="1" flipV="1" rot="5400000">
              <a:off x="37180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058"/>
            <p:cNvCxnSpPr>
              <a:stCxn id="106" idx="0"/>
              <a:endCxn id="94" idx="2"/>
            </p:cNvCxnSpPr>
            <p:nvPr/>
          </p:nvCxnSpPr>
          <p:spPr>
            <a:xfrm flipH="1" flipV="1" rot="5400000">
              <a:off x="2499840" y="2824560"/>
              <a:ext cx="489600" cy="36554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4" name="_s2059"/>
            <p:cNvSpPr/>
            <p:nvPr/>
          </p:nvSpPr>
          <p:spPr>
            <a:xfrm>
              <a:off x="4048920" y="342900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сновны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загрязнител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60"/>
            <p:cNvSpPr/>
            <p:nvPr/>
          </p:nvSpPr>
          <p:spPr>
            <a:xfrm>
              <a:off x="39528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 углеро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1"/>
            <p:cNvSpPr/>
            <p:nvPr/>
          </p:nvSpPr>
          <p:spPr>
            <a:xfrm>
              <a:off x="28314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ы азо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2"/>
            <p:cNvSpPr/>
            <p:nvPr/>
          </p:nvSpPr>
          <p:spPr>
            <a:xfrm>
              <a:off x="4050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Диоксид се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63"/>
            <p:cNvSpPr/>
            <p:nvPr/>
          </p:nvSpPr>
          <p:spPr>
            <a:xfrm>
              <a:off x="7704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Тяжёлые металл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64"/>
            <p:cNvSpPr/>
            <p:nvPr/>
          </p:nvSpPr>
          <p:spPr>
            <a:xfrm>
              <a:off x="64864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льдеги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65"/>
            <p:cNvSpPr/>
            <p:nvPr/>
          </p:nvSpPr>
          <p:spPr>
            <a:xfrm>
              <a:off x="526896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Углеводоро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6"/>
            <p:cNvSpPr/>
            <p:nvPr/>
          </p:nvSpPr>
          <p:spPr>
            <a:xfrm>
              <a:off x="16138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тмосферная пы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23"/>
          <p:cNvSpPr/>
          <p:nvPr/>
        </p:nvSpPr>
        <p:spPr>
          <a:xfrm>
            <a:off x="7885080" y="616572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2815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Diagram 39"/>
          <p:cNvGrpSpPr/>
          <p:nvPr/>
        </p:nvGrpSpPr>
        <p:grpSpPr>
          <a:xfrm>
            <a:off x="2977560" y="3755160"/>
            <a:ext cx="3548160" cy="2363760"/>
            <a:chOff x="2977560" y="3755160"/>
            <a:chExt cx="3548160" cy="2363760"/>
          </a:xfrm>
        </p:grpSpPr>
        <p:sp>
          <p:nvSpPr>
            <p:cNvPr id="113" name="_s3076"/>
            <p:cNvSpPr/>
            <p:nvPr/>
          </p:nvSpPr>
          <p:spPr>
            <a:xfrm flipV="1">
              <a:off x="4159800" y="3755160"/>
              <a:ext cx="1184040" cy="788400"/>
            </a:xfrm>
            <a:custGeom>
              <a:avLst/>
              <a:gdLst>
                <a:gd name="textAreaLeft" fmla="*/ 424800 w 1184040"/>
                <a:gd name="textAreaRight" fmla="*/ 759240 w 1184040"/>
                <a:gd name="textAreaTop" fmla="*/ 282960 h 788400"/>
                <a:gd name="textAreaBottom" fmla="*/ 5054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ожд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77"/>
            <p:cNvSpPr/>
            <p:nvPr/>
          </p:nvSpPr>
          <p:spPr>
            <a:xfrm flipV="1">
              <a:off x="3569760" y="4543920"/>
              <a:ext cx="2363760" cy="788400"/>
            </a:xfrm>
            <a:custGeom>
              <a:avLst/>
              <a:gdLst>
                <a:gd name="textAreaLeft" fmla="*/ 519840 w 2363760"/>
                <a:gd name="textAreaRight" fmla="*/ 1843920 w 2363760"/>
                <a:gd name="textAreaTop" fmla="*/ 173160 h 788400"/>
                <a:gd name="textAreaBottom" fmla="*/ 6152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падание в возду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078"/>
            <p:cNvSpPr/>
            <p:nvPr/>
          </p:nvSpPr>
          <p:spPr>
            <a:xfrm flipV="1">
              <a:off x="2977560" y="5331960"/>
              <a:ext cx="3548160" cy="786600"/>
            </a:xfrm>
            <a:custGeom>
              <a:avLst/>
              <a:gdLst>
                <a:gd name="textAreaLeft" fmla="*/ 615960 w 3548160"/>
                <a:gd name="textAreaRight" fmla="*/ 2932200 w 3548160"/>
                <a:gd name="textAreaTop" fmla="*/ 136440 h 786600"/>
                <a:gd name="textAreaBottom" fmla="*/ 650160 h 78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ислотный окс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45"/>
          <p:cNvSpPr/>
          <p:nvPr/>
        </p:nvSpPr>
        <p:spPr>
          <a:xfrm>
            <a:off x="7956720" y="5805360"/>
            <a:ext cx="936360" cy="576360"/>
          </a:xfrm>
          <a:custGeom>
            <a:avLst/>
            <a:gdLst>
              <a:gd name="textAreaLeft" fmla="*/ 37080 w 936360"/>
              <a:gd name="textAreaRight" fmla="*/ 899280 w 93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83" h="21600">
                <a:moveTo>
                  <a:pt x="0" y="0"/>
                </a:moveTo>
                <a:lnTo>
                  <a:pt x="35083" y="0"/>
                </a:lnTo>
                <a:lnTo>
                  <a:pt x="35083" y="21600"/>
                </a:lnTo>
                <a:lnTo>
                  <a:pt x="0" y="21600"/>
                </a:lnTo>
                <a:close/>
              </a:path>
              <a:path fill="lightenLess" w="35083" h="21600">
                <a:moveTo>
                  <a:pt x="0" y="0"/>
                </a:moveTo>
                <a:lnTo>
                  <a:pt x="35083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3" h="21600">
                <a:moveTo>
                  <a:pt x="35083" y="0"/>
                </a:moveTo>
                <a:lnTo>
                  <a:pt x="35083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3" h="21600">
                <a:moveTo>
                  <a:pt x="35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3" h="21600">
                <a:moveTo>
                  <a:pt x="10535" y="10800"/>
                </a:moveTo>
                <a:lnTo>
                  <a:pt x="24548" y="3794"/>
                </a:lnTo>
                <a:lnTo>
                  <a:pt x="245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811237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831708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2:16:38Z</dcterms:created>
  <dc:creator>МОУ СОШ № 31</dc:creator>
  <dc:description>www.school31novochek.narod.ru
</dc:description>
  <dc:language>en-US</dc:language>
  <cp:lastModifiedBy>LEGION</cp:lastModifiedBy>
  <dcterms:modified xsi:type="dcterms:W3CDTF">2015-05-06T08:04:50Z</dcterms:modified>
  <cp:revision>9</cp:revision>
  <dc:subject/>
  <dc:title>Экологические пробле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b000000000001024140</vt:lpwstr>
  </property>
</Properties>
</file>