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BA0-388E-4C08-B8B5-B8270EFB0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8DAE-B023-4CEF-8DE1-BB5BE1FA6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F58F-B4E4-403C-AB55-F061823DD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9E8B-EA9B-4512-AE06-DC8C4EA81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1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2BF8-3BA6-4EC5-810E-A0095034D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7FA5-C661-4442-A138-41C839768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2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7319-022A-4CA9-9084-635762266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EC4F-4BA4-49C8-B526-87A26E187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19E-BE34-49D0-806B-F32C188CD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5DBB-CA8C-4985-A86F-7C931D857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8A17-C835-447E-96D9-F2686DA55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5891-9EF4-43A2-9C83-637A5E37B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9CB-0CAC-4748-BFFE-B243564A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71C-72F6-41B3-873D-A58401ED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060-C7DD-4A4B-9EA5-B4386B88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D59-ABE8-4C25-A95E-78EFF73B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51D-A2A8-4FA3-9705-CAA65605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019-55B7-4CEB-B44E-1ECD6DBB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A42-9592-4756-947E-AF339AD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BF2-C501-41E7-8840-C990CEF3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445-9F57-4D50-B626-E0906A3A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760-A420-43BF-B233-C228CA6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786-7C80-4080-B871-5EA95DE8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4DA-B7D3-4D4A-894A-AC478350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6963-4D0C-4C47-BBBC-6E54B24D6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7.xml"/><Relationship Id="rId7" Type="http://schemas.openxmlformats.org/officeDocument/2006/relationships/image" Target="../media/image10.jpeg"/><Relationship Id="rId8" Type="http://schemas.openxmlformats.org/officeDocument/2006/relationships/slide" Target="slide8.xml"/><Relationship Id="rId9" Type="http://schemas.openxmlformats.org/officeDocument/2006/relationships/image" Target="../media/image11.jpeg"/><Relationship Id="rId10" Type="http://schemas.openxmlformats.org/officeDocument/2006/relationships/slide" Target="slide9.xml"/><Relationship Id="rId11" Type="http://schemas.openxmlformats.org/officeDocument/2006/relationships/image" Target="../media/image12.jpeg"/><Relationship Id="rId12" Type="http://schemas.openxmlformats.org/officeDocument/2006/relationships/slide" Target="slide10.xml"/><Relationship Id="rId13" Type="http://schemas.openxmlformats.org/officeDocument/2006/relationships/image" Target="../media/image13.jpeg"/><Relationship Id="rId14" Type="http://schemas.openxmlformats.org/officeDocument/2006/relationships/slide" Target="slide11.xml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 #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c #1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952880"/>
            <a:ext cx="88898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427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anco"/>
              </a:rPr>
              <a:t>Генофонд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valon Medium"/>
              </a:rPr>
              <a:t>Генофонд — понятие из популяционной генетики, описывающее совокупность всех генных вариаций (аллелей) определённой популяции.</a:t>
            </a: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 Популяция располагает всеми своими аллелями для оптимального приспособления к окружающе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valon Medium"/>
              </a:rPr>
              <a:t>Более крупный генофонд с множеством разных вариантом отдельных генов ведёт к лучшему приспособлению потомства к меняющейся окружающей среде. Разнообразие аллелей позволяет приспособиться к изменениям значительно быстрее, если соотвествующие аллели уже имеются в наличии, чем если они должны появиться вследствие мутации. Тем не менее, в неменяющейся окружающей среде, меньшее число аллелей может быть более выгодным, чтобы по совпадению не возникало слишком много неблагоприятных комбинаций алл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17236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rirod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anco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5013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Бьорн Ломборг "Охладите! Глобальное потеп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Википедиа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200" spc="-1" strike="noStrike">
                <a:solidFill>
                  <a:srgbClr val="ffffff"/>
                </a:solidFill>
                <a:latin typeface="Avalon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ic #2-1"/>
          <p:cNvPicPr/>
          <p:nvPr/>
        </p:nvPicPr>
        <p:blipFill>
          <a:blip r:embed="rId1"/>
          <a:stretch/>
        </p:blipFill>
        <p:spPr>
          <a:xfrm>
            <a:off x="-47520" y="-47520"/>
            <a:ext cx="9191520" cy="691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Pic #2-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105408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01 Ошибка Windows 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_2ab4_832b760a_XL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nco"/>
              </a:rPr>
              <a:t>Презентация по экологии на тему: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я в жизни человека</a:t>
            </a:r>
            <a:r>
              <a:rPr b="0" lang="en-US" sz="4000" spc="-1" strike="noStrike">
                <a:solidFill>
                  <a:srgbClr val="000000"/>
                </a:solidFill>
                <a:latin typeface="Banco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59280" y="4581360"/>
            <a:ext cx="338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Выполн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ученица 11-б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г. Новочеркас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Богатова 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0829ed3b2973b7db572c0102bff7e9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2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393372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03640" y="1413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5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03640" y="2637000"/>
            <a:ext cx="360684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003640" y="3860640"/>
            <a:ext cx="360684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7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771640" y="5157720"/>
            <a:ext cx="3606840" cy="698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46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co"/>
              </a:rPr>
              <a:t>Экология. Что это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valon Medium"/>
              </a:rPr>
              <a:t>Экология - биологическая наука, которая исследует структуру и функционирование систем надорганизменного уровня (популяции, сообщества, экосистемы) в пространстве и времени в естественных и измененных человеком условиях. Это определение дано </a:t>
            </a: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на 5-м Международном экологическом конгрессе (1990)  с целью противодействия размыванию понятия экологии, наблюдаемому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valon Medium"/>
              </a:rPr>
              <a:t>Экология — это познание экономики природы, одновременное исследование всех взаимоотношений живого с органическими и неорганическими компонентами среды… Одним словом, экология — это наука, изучающая все сложные взаимосвязи в природе, рассматриваемые Дарвином как условия борьбы за существ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aa47_bd65805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72007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valon Medium"/>
              </a:rPr>
              <a:t>Экологи́ческая катастро́фа                        — необратимое изменение природных комплексов, связанное с массовой гибелью живых 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9"/>
          <p:cNvGrpSpPr/>
          <p:nvPr/>
        </p:nvGrpSpPr>
        <p:grpSpPr>
          <a:xfrm>
            <a:off x="179280" y="2421000"/>
            <a:ext cx="8820720" cy="3815280"/>
            <a:chOff x="179280" y="2421000"/>
            <a:chExt cx="8820720" cy="38152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>
              <a:off x="696420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82" idx="2"/>
            </p:cNvCxnSpPr>
            <p:nvPr/>
          </p:nvCxnSpPr>
          <p:spPr>
            <a:xfrm flipV="1">
              <a:off x="2214360" y="4805280"/>
              <a:ext cx="468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79" idx="0"/>
              <a:endCxn id="84" idx="2"/>
            </p:cNvCxnSpPr>
            <p:nvPr/>
          </p:nvCxnSpPr>
          <p:spPr>
            <a:xfrm flipV="1" rot="16200000">
              <a:off x="5538240" y="2424600"/>
              <a:ext cx="477360" cy="237600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31"/>
            <p:cNvCxnSpPr>
              <a:stCxn id="82" idx="0"/>
              <a:endCxn id="84" idx="2"/>
            </p:cNvCxnSpPr>
            <p:nvPr/>
          </p:nvCxnSpPr>
          <p:spPr>
            <a:xfrm flipH="1" flipV="1" rot="5400000">
              <a:off x="3162600" y="2425680"/>
              <a:ext cx="477360" cy="2374560"/>
            </a:xfrm>
            <a:prstGeom prst="bentConnector3">
              <a:avLst>
                <a:gd name="adj1" fmla="val 446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32"/>
            <p:cNvSpPr/>
            <p:nvPr/>
          </p:nvSpPr>
          <p:spPr>
            <a:xfrm>
              <a:off x="2553480" y="242100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Виды катастроф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17928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Лок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4928760" y="3851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лобальна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5"/>
            <p:cNvSpPr/>
            <p:nvPr/>
          </p:nvSpPr>
          <p:spPr>
            <a:xfrm>
              <a:off x="179280" y="5282640"/>
              <a:ext cx="4071240" cy="95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рушение одной или боле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окальных экологических систе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928760" y="5282640"/>
              <a:ext cx="4071240" cy="95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евышения предела внешни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или внутренни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здействием на экологическую систем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23"/>
          <p:cNvSpPr/>
          <p:nvPr/>
        </p:nvSpPr>
        <p:spPr>
          <a:xfrm>
            <a:off x="8317080" y="6381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_33b5c_463e3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nco"/>
              </a:rPr>
              <a:t>Загрязнение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Загрязнение атмосферы — привнесение в атмосферный воздух новых не характерных для него физических, химических и биологических веществ или изменение естественной среднемноголетней концентрации этих агентов в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Organization Chart 6"/>
          <p:cNvGrpSpPr/>
          <p:nvPr/>
        </p:nvGrpSpPr>
        <p:grpSpPr>
          <a:xfrm>
            <a:off x="395280" y="3429000"/>
            <a:ext cx="8353080" cy="2447280"/>
            <a:chOff x="395280" y="3429000"/>
            <a:chExt cx="8353080" cy="2447280"/>
          </a:xfrm>
        </p:grpSpPr>
        <p:cxnSp>
          <p:nvCxnSpPr>
            <p:cNvPr id="92" name="_s2052"/>
            <p:cNvCxnSpPr>
              <a:stCxn id="93" idx="0"/>
              <a:endCxn id="94" idx="2"/>
            </p:cNvCxnSpPr>
            <p:nvPr/>
          </p:nvCxnSpPr>
          <p:spPr>
            <a:xfrm flipH="1" flipV="1" rot="5400000">
              <a:off x="3108600" y="3432960"/>
              <a:ext cx="489600" cy="243828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53"/>
            <p:cNvCxnSpPr>
              <a:stCxn id="96" idx="0"/>
              <a:endCxn id="94" idx="2"/>
            </p:cNvCxnSpPr>
            <p:nvPr/>
          </p:nvCxnSpPr>
          <p:spPr>
            <a:xfrm flipV="1" rot="16200000">
              <a:off x="49366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54"/>
            <p:cNvCxnSpPr>
              <a:stCxn id="98" idx="0"/>
              <a:endCxn id="94" idx="2"/>
            </p:cNvCxnSpPr>
            <p:nvPr/>
          </p:nvCxnSpPr>
          <p:spPr>
            <a:xfrm flipV="1" rot="16200000">
              <a:off x="5545440" y="3433680"/>
              <a:ext cx="489600" cy="24368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55"/>
            <p:cNvCxnSpPr>
              <a:stCxn id="100" idx="0"/>
              <a:endCxn id="94" idx="2"/>
            </p:cNvCxnSpPr>
            <p:nvPr/>
          </p:nvCxnSpPr>
          <p:spPr>
            <a:xfrm flipV="1" rot="16200000">
              <a:off x="6154200" y="2824920"/>
              <a:ext cx="489600" cy="365436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056"/>
            <p:cNvCxnSpPr>
              <a:stCxn id="102" idx="0"/>
              <a:endCxn id="94" idx="2"/>
            </p:cNvCxnSpPr>
            <p:nvPr/>
          </p:nvCxnSpPr>
          <p:spPr>
            <a:xfrm flipV="1">
              <a:off x="4572000" y="4407480"/>
              <a:ext cx="180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57"/>
            <p:cNvCxnSpPr>
              <a:stCxn id="104" idx="0"/>
              <a:endCxn id="94" idx="2"/>
            </p:cNvCxnSpPr>
            <p:nvPr/>
          </p:nvCxnSpPr>
          <p:spPr>
            <a:xfrm flipH="1" flipV="1" rot="5400000">
              <a:off x="3718080" y="4042440"/>
              <a:ext cx="489600" cy="121932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58"/>
            <p:cNvCxnSpPr>
              <a:stCxn id="106" idx="0"/>
              <a:endCxn id="94" idx="2"/>
            </p:cNvCxnSpPr>
            <p:nvPr/>
          </p:nvCxnSpPr>
          <p:spPr>
            <a:xfrm flipH="1" flipV="1" rot="5400000">
              <a:off x="2499840" y="2824560"/>
              <a:ext cx="489600" cy="3655440"/>
            </a:xfrm>
            <a:prstGeom prst="bentConnector3">
              <a:avLst>
                <a:gd name="adj1" fmla="val 179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2059"/>
            <p:cNvSpPr/>
            <p:nvPr/>
          </p:nvSpPr>
          <p:spPr>
            <a:xfrm>
              <a:off x="4048920" y="342900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загрязните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0"/>
            <p:cNvSpPr/>
            <p:nvPr/>
          </p:nvSpPr>
          <p:spPr>
            <a:xfrm>
              <a:off x="39528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 углеро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1"/>
            <p:cNvSpPr/>
            <p:nvPr/>
          </p:nvSpPr>
          <p:spPr>
            <a:xfrm>
              <a:off x="28314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Оксиды аз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2"/>
            <p:cNvSpPr/>
            <p:nvPr/>
          </p:nvSpPr>
          <p:spPr>
            <a:xfrm>
              <a:off x="4050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Диоксид с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63"/>
            <p:cNvSpPr/>
            <p:nvPr/>
          </p:nvSpPr>
          <p:spPr>
            <a:xfrm>
              <a:off x="7704000" y="4897440"/>
              <a:ext cx="104436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Тяжёлые металл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4"/>
            <p:cNvSpPr/>
            <p:nvPr/>
          </p:nvSpPr>
          <p:spPr>
            <a:xfrm>
              <a:off x="64864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льдеги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5"/>
            <p:cNvSpPr/>
            <p:nvPr/>
          </p:nvSpPr>
          <p:spPr>
            <a:xfrm>
              <a:off x="526896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глеводород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6"/>
            <p:cNvSpPr/>
            <p:nvPr/>
          </p:nvSpPr>
          <p:spPr>
            <a:xfrm>
              <a:off x="1613880" y="4897440"/>
              <a:ext cx="1043280" cy="97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Атмосферная пы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23"/>
          <p:cNvSpPr/>
          <p:nvPr/>
        </p:nvSpPr>
        <p:spPr>
          <a:xfrm>
            <a:off x="7885080" y="616572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815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anco"/>
              </a:rPr>
              <a:t>Кислотные дож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valon Medium"/>
              </a:rPr>
              <a:t>Кисло́тный дождь — все виды метеорологических осадков — дождь, снег, град, туман, дождь со снегом, при котором наблюдается понижение pH дождевых осадков из-за загрязнений воздуха кислотными оксидами (обычно — оксидами серы, оксидами аз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Diagram 39"/>
          <p:cNvGrpSpPr/>
          <p:nvPr/>
        </p:nvGrpSpPr>
        <p:grpSpPr>
          <a:xfrm>
            <a:off x="2977560" y="3755160"/>
            <a:ext cx="3548160" cy="2363760"/>
            <a:chOff x="2977560" y="3755160"/>
            <a:chExt cx="3548160" cy="2363760"/>
          </a:xfrm>
        </p:grpSpPr>
        <p:sp>
          <p:nvSpPr>
            <p:cNvPr id="113" name="_s3076"/>
            <p:cNvSpPr/>
            <p:nvPr/>
          </p:nvSpPr>
          <p:spPr>
            <a:xfrm flipV="1">
              <a:off x="4159800" y="3755160"/>
              <a:ext cx="1184040" cy="788400"/>
            </a:xfrm>
            <a:custGeom>
              <a:avLst/>
              <a:gdLst>
                <a:gd name="textAreaLeft" fmla="*/ 424800 w 1184040"/>
                <a:gd name="textAreaRight" fmla="*/ 759240 w 1184040"/>
                <a:gd name="textAreaTop" fmla="*/ 282960 h 788400"/>
                <a:gd name="textAreaBottom" fmla="*/ 5054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Дож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7"/>
            <p:cNvSpPr/>
            <p:nvPr/>
          </p:nvSpPr>
          <p:spPr>
            <a:xfrm flipV="1">
              <a:off x="3569760" y="4543920"/>
              <a:ext cx="2363760" cy="788400"/>
            </a:xfrm>
            <a:custGeom>
              <a:avLst/>
              <a:gdLst>
                <a:gd name="textAreaLeft" fmla="*/ 519840 w 2363760"/>
                <a:gd name="textAreaRight" fmla="*/ 1843920 w 2363760"/>
                <a:gd name="textAreaTop" fmla="*/ 173160 h 788400"/>
                <a:gd name="textAreaBottom" fmla="*/ 6152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падание в возду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078"/>
            <p:cNvSpPr/>
            <p:nvPr/>
          </p:nvSpPr>
          <p:spPr>
            <a:xfrm flipV="1">
              <a:off x="2977560" y="5331960"/>
              <a:ext cx="3548160" cy="786600"/>
            </a:xfrm>
            <a:custGeom>
              <a:avLst/>
              <a:gdLst>
                <a:gd name="textAreaLeft" fmla="*/ 615960 w 3548160"/>
                <a:gd name="textAreaRight" fmla="*/ 2932200 w 3548160"/>
                <a:gd name="textAreaTop" fmla="*/ 136440 h 786600"/>
                <a:gd name="textAreaBottom" fmla="*/ 650160 h 7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ислотный окс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45"/>
          <p:cNvSpPr/>
          <p:nvPr/>
        </p:nvSpPr>
        <p:spPr>
          <a:xfrm>
            <a:off x="7956720" y="5805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3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81123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nco"/>
              </a:rPr>
              <a:t>Экологическая напряж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Экологическая ситуация — это пространственно-временное сочетание различных, в том числе позитивных и негативных с точки зрения проживания и состояния человека условий и факторов, создающих определённую экологическую обстановку на территории разной степени благополучия или неблагополуч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valon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valon Medium"/>
              </a:rPr>
              <a:t>Напряжённая ситуация характеризуется негативными изменениями в отдельных компонентах ландшафтов, что ведёт к нарушению или деградации отдельных природных ресурсов и, в ряде случаев, к ухудшению условий проживания населения; при соблюдении природоохранных мер напряжённость экологической ситуации, как правило, с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31708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2:16:38Z</dcterms:created>
  <dc:creator>МОУ СОШ № 31</dc:creator>
  <dc:description>www.school31novochek.narod.ru
</dc:description>
  <dc:language>en-US</dc:language>
  <cp:lastModifiedBy>LEGION</cp:lastModifiedBy>
  <dcterms:modified xsi:type="dcterms:W3CDTF">2015-05-06T08:04:50Z</dcterms:modified>
  <cp:revision>9</cp:revision>
  <dc:subject/>
  <dc:title>Экологические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b000000000001024140</vt:lpwstr>
  </property>
</Properties>
</file>