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00CE-FEEB-4463-AC51-F34030BE22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экологически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6053-29B6-417F-BD5A-E03CE4540F2A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клад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ене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1EDC-C38E-4956-9B8E-753CE7095C1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пос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условия существования людей в населенных пунктах различных типов и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б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185D-E196-431F-AD8E-0C67FDB1833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жизнь человека в социально-культурн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FAE1-E713-414D-9EB3-33E22F585902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.Геккель,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7863-D39B-460B-8C15-F0958762ABB0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щая своей целью сохранение  жизни на Земл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BA83-B9E2-45E9-9F32-2AFE3AC6EBE7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истематическ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амфи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BF4-316B-4183-826B-E84A0DAFE69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иерархии жи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нд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я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леток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рганов и 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з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с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C819-F10D-4D22-AA54-67D0E416BEE0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актори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лияние на организмы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3264-589F-4778-9EC2-9B42CC610D27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ред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4584-0F3A-4840-BEC5-5EDB858DF8FA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общие экологически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эколог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F3B8-9772-4FB8-9DC8-9ADA15F796F7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но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экологические процессы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он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е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4317-35D7-4472-88E3-047DED9BD8BC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4FA-B5AF-42CA-BCDC-EB2513FA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0C9-22A3-4B9D-84C8-C2DBCB30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A83-6A8D-453A-8B25-A74D71AE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A32-74EE-40AF-8F35-A8649FF0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DA3C-4336-4273-84E7-A15F3556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4C99-6AD4-4A64-9B7C-0897A1F5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D002-5B0A-4D0E-9782-AFE785D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68D8-BE0A-4C9F-A897-0C0DBC40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706B-EE12-48CE-8DCE-F8E46A8C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071F-84C1-4711-910C-3A303964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B0DC-D758-4ECB-8568-BA4E2735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A0F-D8A6-4976-8881-67784C7A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53CF-640A-4E53-AF1C-709134DE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5AC6-93A8-4870-9A6B-43FE067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3F7E-6539-4C48-BDD2-6D94CE00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7B46-6ED9-4CC7-B6E8-52A1134E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0DFB-19B1-4733-BF3C-49A72643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32A-6345-42D9-9C95-B6536A0B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3CD-F2D3-4EF7-BE6F-718DE7E7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FBB-3179-4036-A2E4-887DEC79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F3F-F1ED-470B-859F-4123A102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0D8-CCFA-40B4-9EDC-398705B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C4E-8B1F-4A39-AC98-2EA6B5D5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346-FC0C-41F3-8B66-A6196505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10D-E9E5-43B7-B691-537BB578C2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A609-670B-4EA1-AE88-CEBF08B849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Структура экологических зна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13" descr="GBI_1C37_006Nf"/>
          <p:cNvPicPr/>
          <p:nvPr/>
        </p:nvPicPr>
        <p:blipFill>
          <a:blip r:embed="rId1"/>
          <a:stretch/>
        </p:blipFill>
        <p:spPr>
          <a:xfrm>
            <a:off x="250920" y="3068640"/>
            <a:ext cx="273672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j0185197"/>
          <p:cNvPicPr/>
          <p:nvPr/>
        </p:nvPicPr>
        <p:blipFill>
          <a:blip r:embed="rId2"/>
          <a:stretch/>
        </p:blipFill>
        <p:spPr>
          <a:xfrm>
            <a:off x="2124000" y="4149720"/>
            <a:ext cx="287964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_genome"/>
          <p:cNvPicPr/>
          <p:nvPr/>
        </p:nvPicPr>
        <p:blipFill>
          <a:blip r:embed="rId1"/>
          <a:stretch/>
        </p:blipFill>
        <p:spPr>
          <a:xfrm>
            <a:off x="1187280" y="4394160"/>
            <a:ext cx="648036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>ppt.3dn.ru</dc:description>
  <dc:language>en-US</dc:language>
  <cp:lastModifiedBy>LEGION</cp:lastModifiedBy>
  <dcterms:modified xsi:type="dcterms:W3CDTF">2015-05-06T08:51:51Z</dcterms:modified>
  <cp:revision>10</cp:revision>
  <dc:subject/>
  <dc:title>Проблемы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5000000000001024140</vt:lpwstr>
  </property>
</Properties>
</file>