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4E9-99AF-4079-A202-25C8801E05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экологически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036-DA93-4F0A-8995-4197917F0C13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иклад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ене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98F9-A97A-4C34-8D69-615ABB84848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пос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условия существования людей в населенных пунктах различных типов и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б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B1B-AD8C-4125-A2A1-51163E59C43D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жизнь человека в социально-культурн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6400-B980-4C2F-85BD-552D02FE6437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.Геккель,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477-A4A2-413D-9324-43A7C7EE6C9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вящая своей целью сохранение  жизни на Земл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88BA-9292-4968-9F0E-F3A957E10F4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истематическ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амфиб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FC5-0CFB-4DEC-BBFC-8ADD9C6E9D19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иерархии жи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нд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яр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клеток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рганов и 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зоэколог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ос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8B1E-817E-469F-AB1F-A94378EBD736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актори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лияние на организмы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22B-7E6E-4249-9404-B2C13FD1E0E1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логия сред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тун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8D3-48F8-4254-9CDE-3ADDEA3E73B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общие экологически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эколог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ческ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DA7-6E6C-4A3A-BD7C-04FDA1404B60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оноэколог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экологические процессы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онная эк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е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е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487-ECCE-40FA-A657-95566163386A}" type="slidenum">
              <a:rPr b="0" i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7D8-6FCD-42D4-ABCC-147E8116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12B-5738-4452-AA1C-F38C28A1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834-B176-403B-80BE-A614C318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2CF-0A81-48F0-9408-B37431BE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917-0C9C-41FA-95AD-F7C5765E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610A-11BA-4BC0-87E5-6110F286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61F-B1DB-49CC-BDC3-6CFB7CA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69A-B4FF-4160-A5FD-D73D51A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A044-7AE1-4939-9C4F-853309D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F51A-8530-4101-BADB-50840200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CF01-B2B3-4762-98B5-3FB786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349-6754-4224-AA94-78DA4434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F20-94F3-4E2B-AD39-7C8103D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496B-837D-4243-8C72-E2D9A04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504-8C3E-4014-80B1-B1CFDA52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CCFC-25EE-4041-A189-5012884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2302-6D5E-4AFE-8057-E782699A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703-23BF-4C2A-A236-BB405E6D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07C-D9FE-4109-8116-27ED82C2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55F-C3CE-48B6-B487-64132529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510-2BA2-44F3-AAE9-438A8D15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7C6-D004-4CE6-BFDA-C744417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109-DB83-4937-B79C-AF409A7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982-D1CF-4F55-9193-44FEE67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497-0597-4EF0-A704-22CF90F6E2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9AF2-EB46-4750-9D51-C8EF8A1A14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Структура экологических зна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6" name="Picture 13" descr="GBI_1C37_006Nf"/>
          <p:cNvPicPr/>
          <p:nvPr/>
        </p:nvPicPr>
        <p:blipFill>
          <a:blip r:embed="rId1"/>
          <a:stretch/>
        </p:blipFill>
        <p:spPr>
          <a:xfrm>
            <a:off x="250920" y="3068640"/>
            <a:ext cx="2736720" cy="2239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j0185197"/>
          <p:cNvPicPr/>
          <p:nvPr/>
        </p:nvPicPr>
        <p:blipFill>
          <a:blip r:embed="rId2"/>
          <a:stretch/>
        </p:blipFill>
        <p:spPr>
          <a:xfrm>
            <a:off x="2124000" y="4149720"/>
            <a:ext cx="287964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_genome"/>
          <p:cNvPicPr/>
          <p:nvPr/>
        </p:nvPicPr>
        <p:blipFill>
          <a:blip r:embed="rId1"/>
          <a:stretch/>
        </p:blipFill>
        <p:spPr>
          <a:xfrm>
            <a:off x="1187280" y="4394160"/>
            <a:ext cx="6480360" cy="18986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>ppt.3dn.ru</dc:description>
  <dc:language>en-US</dc:language>
  <cp:lastModifiedBy>LEGION</cp:lastModifiedBy>
  <dcterms:modified xsi:type="dcterms:W3CDTF">2015-05-06T08:51:51Z</dcterms:modified>
  <cp:revision>10</cp:revision>
  <dc:subject/>
  <dc:title>Проблемы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5000000000001024140</vt:lpwstr>
  </property>
</Properties>
</file>