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15780-EDC4-4E59-BB4E-686870532CF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Georgia"/>
              </a:rPr>
              <a:t>Эколог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omic Sans MS"/>
              </a:rPr>
              <a:t>Автор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3333ff"/>
                </a:solidFill>
                <a:latin typeface="Comic Sans MS"/>
              </a:rPr>
              <a:t>ученицы 8г класса школы № 26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omic Sans MS"/>
              </a:rPr>
              <a:t>Лапшина Екатерина, Курбетова Эс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081B6-BFB0-4737-85F7-83A7F83454C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всех направлений современной экологии лежат фундаментальные биологические идеи об отношении живых организмов с окружающей их средой. Таким образом современная экология – универсально развивающаяся, комплексная наука, имеющая большое практическое значение для всех жителей нашей планеты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логия – наука будуще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 возможно, само существование человека будет зависеть от прогресса этой науки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456B-F3E7-4656-8AED-4C7F0C326A9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то изучает экология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колог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образован от двух греческих с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йокос – дом, жилище, родина, и логос – наука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значающих дословно «наука о местообитани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олее общем смысле экология – это нау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ающая взаимоотношения организмов и и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бществ с окружающей их средой обит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е значение экологии как нау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–настоящему стали понимать лишь недав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му есть объяснение, которое связано с тем, чт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численности населения Земли и усиливающее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ействие человека на природную среду постави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перед необходимостью решать ряд нов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зненно важных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FAB77-B6F5-407B-8FBD-DC1E5D94D81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Экология живот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1449A-84D3-4D0C-9B87-6D0F941984F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зучении процессов, которые происходят 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вой природе, большую помощь оказывают  экспериментальные методы. В опытах исследуется влияние разных условий на организмы, выясняется их реакция на заданные воздействия. Изучая отношения организмов со средой обитания в искусственных условиях, можно глубже разобраться в происходящих явлениях природы. Совершенно очевидно, что взаимосвязи живых организмов с окружающей их средой могут быть изучены наиболее полно лишь в природе. Но это дело нелёгкое, особенно если учесть, до какой степени сложна даже самая простая среда. Поэтому в экологии натурные наблюдения и эксперименты занимают важное мест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02BF9-67C8-4DF6-8969-C231B45EFCB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сооб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3DD87-7E27-4767-BF5D-98E9A905AA6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ироде совместно обитающие популяции различных организмов образуют определённое единство, называемое сообществом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обществ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устойчивое биологическое образование, так как обладает способностью к самоподдержанию своих природных свойств и видового состава при внешних воздействиях, вызываемых обычными изменениями климатических и других факторов. Устойчивость сообщества определяется  особенностями взаимодействия между входящими в него популяциями. Изучение сообществ позволяет более точно определять причины изменений численности отдельных групп организмов, правильно организовывать ведение сельского, охотничьего или лесного хозяйства, разрабатывать способы борьбы с инфекциями, планировать размещение населённых пунктов и т. д. Здесь мы сталкиваемся со следующим, ещё более сложным разделом экологии – экологией сообще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9AC80-199C-4525-B5BF-0149309CFB9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F12F8-94C4-49DE-8CEB-9A92D4E9A09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кологии имеются и другие подразделения. Одно из них ставит в центр внимания изучение человека. Эту отрасль экологии, использующую экологический подход применительно к человеческому обществу, называют сейчас наукой об окружающей среде, или экологией человека. Экология – жизненно важная для человека наука, изучающая его непосредственное природное окружение. Человек, наблюдая природу и присущую ей гармонию, невольно стремился внести эту гармонию в свою жизнь. Это желание стало особенно острым лишь сравнительно недавно, после того как сделались очень заметными последствия неразумной хозяйственной деятельности, приводящие к разрушению природной среды. А это в конечном итоге оказало неблагоприятное влияние на самого человека. Вот почему термин «экология» получил такое широкое распростран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B1B40-8A0F-49FA-B593-2B768102DB0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9C07-6841-4625-8EAF-FE60B24AB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7AA9-FABC-42E3-9580-AF317241E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59BA-B917-41D9-8749-E3BB75618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27C4-F164-4544-AF5A-19B8B507B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787125-63BD-47C6-9B84-C7314A02E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433AFC-FAC8-477D-BD86-93BFDD12F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FEC15D-D687-4966-B41D-11E0E058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B237BB-6205-4B6D-AA45-531CFB45F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A3D325-A8DE-4CA5-A6DE-54EA180EA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4F0A34-78DC-41FC-A94A-D7462EB2E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66DA8F-7166-445F-B226-2635F278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1709-F622-4D36-8609-91231DF9C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0B4472-9210-41B6-AC53-C0E32E2C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7119DB-7938-458A-AB8C-22BAD18D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ED6096-A141-4C0C-B0B6-5CFF13320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42ABFE-A92C-48A5-B3E6-04161162A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5D7A30-2CCB-4E7D-98C6-0AF0AE78E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70D0-796B-4103-BA2E-E10CA6E0B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211E-4AAB-43A1-BD56-6C675B5C4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30DB-5DFF-453D-A2D3-152F2566A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A75E-AA36-474B-AAC4-D165EB9EA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04D8-B107-441A-895E-10B810A2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E4B8-863B-4B97-943D-7E51E3C3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C55A-C65D-47CB-83FB-657C087A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9A8FB-A2B3-47EA-9C30-0995649693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8F7EC-B78C-40F4-90F2-19E19D0DD44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3924000" y="5157720"/>
            <a:ext cx="50403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Comic Sans MS"/>
              </a:rPr>
              <a:t>Авторы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3333ff"/>
                </a:solidFill>
                <a:latin typeface="Comic Sans MS"/>
              </a:rPr>
              <a:t>ученицы 8г класса школы № 26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Comic Sans MS"/>
              </a:rPr>
              <a:t>Лапшина Екатерина, Курбетова Эсмир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WordArt 5"/>
          <p:cNvSpPr txBox="1"/>
          <p:nvPr/>
        </p:nvSpPr>
        <p:spPr>
          <a:xfrm>
            <a:off x="2340000" y="2565360"/>
            <a:ext cx="4608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Georgia"/>
              </a:rPr>
              <a:t>Экология</a:t>
            </a:r>
            <a:endParaRPr b="1" lang="en-US" sz="4800" spc="1" strike="noStrike">
              <a:ln w="9360">
                <a:solidFill>
                  <a:srgbClr val="0000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92" name="Бетховен3.mp3" descr=""/>
          <p:cNvPicPr/>
          <p:nvPr/>
        </p:nvPicPr>
        <p:blipFill>
          <a:blip r:embed="rId3"/>
          <a:stretch/>
        </p:blipFill>
        <p:spPr>
          <a:xfrm>
            <a:off x="8847000" y="6561000"/>
            <a:ext cx="297000" cy="2970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5000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1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основе всех направлений современной экологии лежат фундаментальные биологические идеи об отношении живых организмов с окружающей их средой. Таким образом современная экология – универсально развивающаяся, комплексная наука, имеющая большое практическое значение для всех жителей нашей планеты.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Экология – наука будущего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и возможно, само существование человека будет зависеть от прогресса этой науки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Бетховен3.mp3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0000">
    <p:fad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1" dur="30600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4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79640" y="260280"/>
            <a:ext cx="5627520" cy="76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Что изучает экология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рмин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экологи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образован от двух греческих сл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йокос – дом, жилище, родина, и логос – наука)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значающих дословно «наука о местообитании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более общем смысле экология – это наука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учающая взаимоотношения организмов и и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обществ с окружающей их средой обита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ольшое значение экологии как наук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 –настоящему стали понимать лишь недавно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ому есть объяснение, которое связано с тем, чт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ст численности населения Земли и усиливающеес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здействие человека на природную среду поставил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го перед необходимостью решать ряд новы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изненно важных задач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42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46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8600"/>
                            </p:stCondLst>
                            <p:childTnLst>
                              <p:par>
                                <p:cTn id="50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100"/>
                            </p:stCondLst>
                            <p:childTnLst>
                              <p:par>
                                <p:cTn id="54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1600"/>
                            </p:stCondLst>
                            <p:childTnLst>
                              <p:par>
                                <p:cTn id="58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3100"/>
                            </p:stCondLst>
                            <p:childTnLst>
                              <p:par>
                                <p:cTn id="62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4600"/>
                            </p:stCondLst>
                            <p:childTnLst>
                              <p:par>
                                <p:cTn id="66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6100"/>
                            </p:stCondLst>
                            <p:childTnLst>
                              <p:par>
                                <p:cTn id="70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7600"/>
                            </p:stCondLst>
                            <p:childTnLst>
                              <p:par>
                                <p:cTn id="74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9100"/>
                            </p:stCondLst>
                            <p:childTnLst>
                              <p:par>
                                <p:cTn id="78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20600"/>
                            </p:stCondLst>
                            <p:childTnLst>
                              <p:par>
                                <p:cTn id="82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2100"/>
                            </p:stCondLst>
                            <p:childTnLst>
                              <p:par>
                                <p:cTn id="86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3600"/>
                            </p:stCondLst>
                            <p:childTnLst>
                              <p:par>
                                <p:cTn id="90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AutoShape 21"/>
          <p:cNvSpPr/>
          <p:nvPr/>
        </p:nvSpPr>
        <p:spPr>
          <a:xfrm rot="17613000">
            <a:off x="2447640" y="367920"/>
            <a:ext cx="1800360" cy="2016000"/>
          </a:xfrm>
          <a:prstGeom prst="cloudCallout">
            <a:avLst>
              <a:gd name="adj1" fmla="val -82421"/>
              <a:gd name="adj2" fmla="val 30833"/>
            </a:avLst>
          </a:prstGeom>
          <a:solidFill>
            <a:srgbClr val="ffb9d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4f4f"/>
                </a:solidFill>
                <a:latin typeface="Tahoma"/>
              </a:rPr>
              <a:t>Экологи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4f4f"/>
                </a:solidFill>
                <a:latin typeface="Tahoma"/>
              </a:rPr>
              <a:t>челове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AutoShape 22"/>
          <p:cNvSpPr/>
          <p:nvPr/>
        </p:nvSpPr>
        <p:spPr>
          <a:xfrm rot="483000">
            <a:off x="4995360" y="1568160"/>
            <a:ext cx="1951200" cy="1936800"/>
          </a:xfrm>
          <a:prstGeom prst="cloudCallout">
            <a:avLst>
              <a:gd name="adj1" fmla="val -70532"/>
              <a:gd name="adj2" fmla="val 77365"/>
            </a:avLst>
          </a:prstGeom>
          <a:solidFill>
            <a:srgbClr val="8dff8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Tahoma"/>
              </a:rPr>
              <a:t>Эколог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Tahoma"/>
              </a:rPr>
              <a:t>животны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AutoShape 25"/>
          <p:cNvSpPr/>
          <p:nvPr/>
        </p:nvSpPr>
        <p:spPr>
          <a:xfrm rot="1111200">
            <a:off x="5928840" y="3831840"/>
            <a:ext cx="1952640" cy="1744560"/>
          </a:xfrm>
          <a:prstGeom prst="cloudCallout">
            <a:avLst>
              <a:gd name="adj1" fmla="val -93754"/>
              <a:gd name="adj2" fmla="val 55162"/>
            </a:avLst>
          </a:prstGeom>
          <a:solidFill>
            <a:srgbClr val="ffff6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Экологи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сообщест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AutoShape 26"/>
          <p:cNvSpPr/>
          <p:nvPr/>
        </p:nvSpPr>
        <p:spPr>
          <a:xfrm>
            <a:off x="1908000" y="3645000"/>
            <a:ext cx="2016360" cy="1944720"/>
          </a:xfrm>
          <a:custGeom>
            <a:avLst/>
            <a:gdLst>
              <a:gd name="textAreaLeft" fmla="*/ 460080 w 2016360"/>
              <a:gd name="textAreaRight" fmla="*/ 1556280 w 2016360"/>
              <a:gd name="textAreaTop" fmla="*/ 443880 h 1944720"/>
              <a:gd name="textAreaBottom" fmla="*/ 150084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Эколог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Экология животных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7" descr="888"/>
          <p:cNvPicPr/>
          <p:nvPr/>
        </p:nvPicPr>
        <p:blipFill>
          <a:blip r:embed="rId1"/>
          <a:stretch/>
        </p:blipFill>
        <p:spPr>
          <a:xfrm>
            <a:off x="324000" y="1484280"/>
            <a:ext cx="8496000" cy="511344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изучении процессов, которые происходят 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ивой природе, большую помощь оказывают  экспериментальные методы. В опытах исследуется влияние разных условий на организмы, выясняется их реакция на заданные воздействия. Изучая отношения организмов со средой обитания в искусственных условиях, можно глубже разобраться в происходящих явлениях природы. Совершенно очевидно, что взаимосвязи живых организмов с окружающей их средой могут быть изучены наиболее полно лишь в природе. Но это дело нелёгкое, особенно если учесть, до какой степени сложна даже самая простая среда. Поэтому в экологии натурные наблюдения и эксперименты занимают важное мест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AutoShape 27"/>
          <p:cNvSpPr/>
          <p:nvPr/>
        </p:nvSpPr>
        <p:spPr>
          <a:xfrm>
            <a:off x="7740720" y="6308640"/>
            <a:ext cx="1081080" cy="3603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757" h="21600">
                <a:moveTo>
                  <a:pt x="0" y="0"/>
                </a:moveTo>
                <a:lnTo>
                  <a:pt x="64757" y="0"/>
                </a:lnTo>
                <a:lnTo>
                  <a:pt x="64757" y="21600"/>
                </a:lnTo>
                <a:lnTo>
                  <a:pt x="0" y="21600"/>
                </a:lnTo>
                <a:close/>
              </a:path>
              <a:path fill="lightenLess" w="64757" h="21600">
                <a:moveTo>
                  <a:pt x="0" y="0"/>
                </a:moveTo>
                <a:lnTo>
                  <a:pt x="64757" y="0"/>
                </a:lnTo>
                <a:lnTo>
                  <a:pt x="63357" y="1400"/>
                </a:lnTo>
                <a:lnTo>
                  <a:pt x="1400" y="1400"/>
                </a:lnTo>
                <a:close/>
              </a:path>
              <a:path fill="darken" w="64757" h="21600">
                <a:moveTo>
                  <a:pt x="64757" y="0"/>
                </a:moveTo>
                <a:lnTo>
                  <a:pt x="64757" y="21600"/>
                </a:lnTo>
                <a:lnTo>
                  <a:pt x="63357" y="20200"/>
                </a:lnTo>
                <a:lnTo>
                  <a:pt x="63357" y="1400"/>
                </a:lnTo>
                <a:close/>
              </a:path>
              <a:path fill="darkenLess" w="64757" h="21600">
                <a:moveTo>
                  <a:pt x="647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7" y="20200"/>
                </a:lnTo>
                <a:close/>
              </a:path>
              <a:path fill="lighten" w="647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ен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0000">
    <p:fad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3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9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Экология сообщест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6" descr="Замок"/>
          <p:cNvPicPr/>
          <p:nvPr/>
        </p:nvPicPr>
        <p:blipFill>
          <a:blip r:embed="rId1"/>
          <a:stretch/>
        </p:blipFill>
        <p:spPr>
          <a:xfrm>
            <a:off x="324000" y="1484280"/>
            <a:ext cx="8569080" cy="511344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mph" presetID="28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14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animClr clrSpc="rgb">
                                      <p:cBhvr>
                                        <p:cTn id="14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14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4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4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природе совместно обитающие популяции различных организмов образуют определённое единство, называемое сообществом.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ообщество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устойчивое биологическое образование, так как обладает способностью к самоподдержанию своих природных свойств и видового состава при внешних воздействиях, вызываемых обычными изменениями климатических и других факторов. Устойчивость сообщества определяется  особенностями взаимодействия между входящими в него популяциями. Изучение сообществ позволяет более точно определять причины изменений численности отдельных групп организмов, правильно организовывать ведение сельского, охотничьего или лесного хозяйства, разрабатывать способы борьбы с инфекциями, планировать размещение населённых пунктов и т. д. Здесь мы сталкиваемся со следующим, ещё более сложным разделом экологии – экологией сообщест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7885080" y="6381720"/>
            <a:ext cx="1081080" cy="3603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757" h="21600">
                <a:moveTo>
                  <a:pt x="0" y="0"/>
                </a:moveTo>
                <a:lnTo>
                  <a:pt x="64757" y="0"/>
                </a:lnTo>
                <a:lnTo>
                  <a:pt x="64757" y="21600"/>
                </a:lnTo>
                <a:lnTo>
                  <a:pt x="0" y="21600"/>
                </a:lnTo>
                <a:close/>
              </a:path>
              <a:path fill="lightenLess" w="64757" h="21600">
                <a:moveTo>
                  <a:pt x="0" y="0"/>
                </a:moveTo>
                <a:lnTo>
                  <a:pt x="64757" y="0"/>
                </a:lnTo>
                <a:lnTo>
                  <a:pt x="63357" y="1400"/>
                </a:lnTo>
                <a:lnTo>
                  <a:pt x="1400" y="1400"/>
                </a:lnTo>
                <a:close/>
              </a:path>
              <a:path fill="darken" w="64757" h="21600">
                <a:moveTo>
                  <a:pt x="64757" y="0"/>
                </a:moveTo>
                <a:lnTo>
                  <a:pt x="64757" y="21600"/>
                </a:lnTo>
                <a:lnTo>
                  <a:pt x="63357" y="20200"/>
                </a:lnTo>
                <a:lnTo>
                  <a:pt x="63357" y="1400"/>
                </a:lnTo>
                <a:close/>
              </a:path>
              <a:path fill="darkenLess" w="64757" h="21600">
                <a:moveTo>
                  <a:pt x="647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7" y="20200"/>
                </a:lnTo>
                <a:close/>
              </a:path>
              <a:path fill="lighten" w="647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ен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0000">
    <p:fad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Экология человек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6" descr="spring_plant"/>
          <p:cNvPicPr/>
          <p:nvPr/>
        </p:nvPicPr>
        <p:blipFill>
          <a:blip r:embed="rId1"/>
          <a:stretch/>
        </p:blipFill>
        <p:spPr>
          <a:xfrm>
            <a:off x="250920" y="1484280"/>
            <a:ext cx="8893080" cy="511344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fad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mph" presetID="28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16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16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6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-108000" y="33336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экологии имеются и другие подразделения. Одно из них ставит в центр внимания изучение человека. Эту отрасль экологии, использующую экологический подход применительно к человеческому обществу, называют сейчас наукой об окружающей среде, или экологией человека. Экология – жизненно важная для человека наука, изучающая его непосредственное природное окружение. Человек, наблюдая природу и присущую ей гармонию, невольно стремился внести эту гармонию в свою жизнь. Это желание стало особенно острым лишь сравнительно недавно, после того как сделались очень заметными последствия неразумной хозяйственной деятельности, приводящие к разрушению природной среды. А это в конечном итоге оказало неблагоприятное влияние на самого человека. Вот почему термин «экология» получил такое широкое распространени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7740720" y="6308640"/>
            <a:ext cx="1081080" cy="3603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757" h="21600">
                <a:moveTo>
                  <a:pt x="0" y="0"/>
                </a:moveTo>
                <a:lnTo>
                  <a:pt x="64757" y="0"/>
                </a:lnTo>
                <a:lnTo>
                  <a:pt x="64757" y="21600"/>
                </a:lnTo>
                <a:lnTo>
                  <a:pt x="0" y="21600"/>
                </a:lnTo>
                <a:close/>
              </a:path>
              <a:path fill="lightenLess" w="64757" h="21600">
                <a:moveTo>
                  <a:pt x="0" y="0"/>
                </a:moveTo>
                <a:lnTo>
                  <a:pt x="64757" y="0"/>
                </a:lnTo>
                <a:lnTo>
                  <a:pt x="63357" y="1400"/>
                </a:lnTo>
                <a:lnTo>
                  <a:pt x="1400" y="1400"/>
                </a:lnTo>
                <a:close/>
              </a:path>
              <a:path fill="darken" w="64757" h="21600">
                <a:moveTo>
                  <a:pt x="64757" y="0"/>
                </a:moveTo>
                <a:lnTo>
                  <a:pt x="64757" y="21600"/>
                </a:lnTo>
                <a:lnTo>
                  <a:pt x="63357" y="20200"/>
                </a:lnTo>
                <a:lnTo>
                  <a:pt x="63357" y="1400"/>
                </a:lnTo>
                <a:close/>
              </a:path>
              <a:path fill="darkenLess" w="64757" h="21600">
                <a:moveTo>
                  <a:pt x="647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7" y="20200"/>
                </a:lnTo>
                <a:close/>
              </a:path>
              <a:path fill="lighten" w="647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ен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7740720" y="6308640"/>
            <a:ext cx="1081080" cy="360360"/>
          </a:xfrm>
          <a:custGeom>
            <a:avLst/>
            <a:gdLst>
              <a:gd name="textAreaLeft" fmla="*/ 23040 w 1081080"/>
              <a:gd name="textAreaRight" fmla="*/ 1058040 w 1081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4757" h="21600">
                <a:moveTo>
                  <a:pt x="0" y="0"/>
                </a:moveTo>
                <a:lnTo>
                  <a:pt x="64757" y="0"/>
                </a:lnTo>
                <a:lnTo>
                  <a:pt x="64757" y="21600"/>
                </a:lnTo>
                <a:lnTo>
                  <a:pt x="0" y="21600"/>
                </a:lnTo>
                <a:close/>
              </a:path>
              <a:path fill="lightenLess" w="64757" h="21600">
                <a:moveTo>
                  <a:pt x="0" y="0"/>
                </a:moveTo>
                <a:lnTo>
                  <a:pt x="64757" y="0"/>
                </a:lnTo>
                <a:lnTo>
                  <a:pt x="63357" y="1400"/>
                </a:lnTo>
                <a:lnTo>
                  <a:pt x="1400" y="1400"/>
                </a:lnTo>
                <a:close/>
              </a:path>
              <a:path fill="darken" w="64757" h="21600">
                <a:moveTo>
                  <a:pt x="64757" y="0"/>
                </a:moveTo>
                <a:lnTo>
                  <a:pt x="64757" y="21600"/>
                </a:lnTo>
                <a:lnTo>
                  <a:pt x="63357" y="20200"/>
                </a:lnTo>
                <a:lnTo>
                  <a:pt x="63357" y="1400"/>
                </a:lnTo>
                <a:close/>
              </a:path>
              <a:path fill="darkenLess" w="64757" h="21600">
                <a:moveTo>
                  <a:pt x="647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57" y="20200"/>
                </a:lnTo>
                <a:close/>
              </a:path>
              <a:path fill="lighten" w="647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ен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0000">
    <p:fad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0T12:42:14Z</dcterms:created>
  <dc:creator>Катя</dc:creator>
  <dc:description>emc.spb.ru</dc:description>
  <dc:language>en-US</dc:language>
  <cp:lastModifiedBy>LEGION</cp:lastModifiedBy>
  <dcterms:modified xsi:type="dcterms:W3CDTF">2015-05-06T08:06:27Z</dcterms:modified>
  <cp:revision>33</cp:revision>
  <dc:subject/>
  <dc:title>Сообщест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e04000000000001024140</vt:lpwstr>
  </property>
</Properties>
</file>