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B214-127F-460C-93F4-D9B724B386C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Эк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Ав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ученицы 8г класса школы № 2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Лапшина Екатерина, Курбетова Эс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A7BF-E59F-48A1-B667-2F20D4B5ADE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сех направлений современной экологии лежат фундаментальные биологические идеи об отношении живых организмов с окружающей их средой. Таким образом современная экология – универсально развивающаяся, комплексная наука, имеющая большое практическое значение для всех жителей нашей планет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– наука будущ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возможно, само существование человека будет зависеть от прогресса этой наук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05CA-83E3-4F4B-BCBF-6A9276C8AD5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изучает эколог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образован от двух греческих с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йокос – дом, жилище, родина, и логос – наук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чающих дословно «наука о местообитан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ее общем смысле экология – это нау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щая взаимоотношения организмов и 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ств с окружающей их средой об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экологии как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–настоящему стали понимать лишь недав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му есть объяснение, которое связано с тем, ч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численности населения Земли и усиливающее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человека на природную среду постав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еред необходимостью решать ряд н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о важ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277C-4AB1-47ED-8730-97DF511E033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логия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BF73-7B8D-4555-9BAF-9DB7DC2023E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зучении процессов, которые происходят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й природе, большую помощь оказывают  экспериментальные методы. В опытах исследуется влияние разных условий на организмы, выясняется их реакция на заданные воздействия. Изучая отношения организмов со средой обитания в искусственных условиях, можно глубже разобраться в происходящих явлениях природы. Совершенно очевидно, что взаимосвязи живых организмов с окружающей их средой могут быть изучены наиболее полно лишь в природе. Но это дело нелёгкое, особенно если учесть, до какой степени сложна даже самая простая среда. Поэтому в экологии натурные наблюдения и эксперименты занимают важ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D600-9880-4EA7-86CB-F559F348BC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ооб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0C87-ACE3-403C-B98E-2D8996A7F97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роде совместно обитающие популяции различных организмов образуют определённое единство, называемое сообществом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бще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устойчивое биологическое образование, так как обладает способностью к самоподдержанию своих природных свойств и видового состава при внешних воздействиях, вызываемых обычными изменениями климатических и других факторов. Устойчивость сообщества определяется  особенностями взаимодействия между входящими в него популяциями. Изучение сообществ позволяет более точно определять причины изменений численности отдельных групп организмов, правильно организовывать ведение сельского, охотничьего или лесного хозяйства, разрабатывать способы борьбы с инфекциями, планировать размещение населённых пунктов и т. д. Здесь мы сталкиваемся со следующим, ещё более сложным разделом экологии – экологией сооб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49A4-FAC4-445B-94B4-9FA7D6CE591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BF65-73B6-4150-9344-7AAB331FC2F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кологии имеются и другие подразделения. Одно из них ставит в центр внимания изучение человека. Эту отрасль экологии, использующую экологический подход применительно к человеческому обществу, называют сейчас наукой об окружающей среде, или экологией человека. Экология – жизненно важная для человека наука, изучающая его непосредственное природное окружение. Человек, наблюдая природу и присущую ей гармонию, невольно стремился внести эту гармонию в свою жизнь. Это желание стало особенно острым лишь сравнительно недавно, после того как сделались очень заметными последствия неразумной хозяйственной деятельности, приводящие к разрушению природной среды. А это в конечном итоге оказало неблагоприятное влияние на самого человека. Вот почему термин «экология» получил такое широкое распростран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4B4C-396F-42A9-BE62-612E901593A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9790-8C6B-44D5-8929-F27AC03C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47D-6446-4CB4-A1D7-8D771A00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139-C366-4B8D-8B43-A52E32CE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06F-9033-46BC-9F00-B9ECA4F8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BA376-D604-4693-A288-49ADA83C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BE5CC-CF7E-43EF-BBFB-807D005D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D3E99-E137-421A-B05D-115F04B0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737BF-1082-4347-AF6C-1D4377F4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A8B53-F2BB-4D4E-B712-71E8239A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A5942-FE75-4B23-BA07-EB851808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E26A0-58E0-462F-A723-55AD64B4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BDF-0C4E-474D-80C7-DBC3998A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6C27A-195A-4503-AD1C-C9F033CE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D5847-E77C-402A-B0FA-C8C5F733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6D22C-3799-49E4-B947-303E1DDE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442A6-A667-4887-9763-9D88599E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76698-CE44-462B-BE3E-1FADECAC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7A1E-1887-4702-9D16-77B52D9C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F81C-7C3F-4F33-B3FA-E226D831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CE28-2847-413E-9AF1-AB2FC025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50CC-EE0E-4611-AFF9-A9C43021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24E-CE08-435E-9740-2027A2E7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E0E-0454-4AAD-81B2-B96FD148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558-64A2-40AB-B65B-1D89E2E8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C470-F6AB-4037-9A57-F957764F11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DB67-E363-4C92-AE1E-F96C09E93F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924000" y="5157720"/>
            <a:ext cx="504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Автор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ученицы 8г класса школы № 26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Лапшина Екатерина, Курбетова Эсми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340000" y="2565360"/>
            <a:ext cx="460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eorgia"/>
              </a:rPr>
              <a:t>Экология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92" name="Бетховен3.mp3" descr=""/>
          <p:cNvPicPr/>
          <p:nvPr/>
        </p:nvPicPr>
        <p:blipFill>
          <a:blip r:embed="rId3"/>
          <a:stretch/>
        </p:blipFill>
        <p:spPr>
          <a:xfrm>
            <a:off x="8847000" y="656100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снове всех направлений современной экологии лежат фундаментальные биологические идеи об отношении живых организмов с окружающей их средой. Таким образом современная экология – универсально развивающаяся, комплексная наука, имеющая большое практическое значение для всех жителей нашей планеты.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кология – наука будущег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и возможно, само существование человека будет зависеть от прогресса этой науки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Бетховен3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306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562752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изучает эколог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эколог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образован от двух греческих с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йокос – дом, жилище, родина, и логос – наука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значающих дословно «наука о местообитани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более общем смысле экология – это наук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ающая взаимоотношения организмов и 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обществ с окружающей их средой обит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ьшое значение экологии как нау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–настоящему стали понимать лишь недав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му есть объяснение, которое связано с тем, ч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т численности населения Земли и усиливающее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действие человека на природную среду постав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го перед необходимостью решать ряд нов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зненно важных зада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36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1"/>
          <p:cNvSpPr/>
          <p:nvPr/>
        </p:nvSpPr>
        <p:spPr>
          <a:xfrm rot="17613000">
            <a:off x="2447640" y="367920"/>
            <a:ext cx="1800360" cy="2016000"/>
          </a:xfrm>
          <a:prstGeom prst="cloudCallout">
            <a:avLst>
              <a:gd name="adj1" fmla="val -82421"/>
              <a:gd name="adj2" fmla="val 30833"/>
            </a:avLst>
          </a:prstGeom>
          <a:solidFill>
            <a:srgbClr val="ffb9d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4f4f"/>
                </a:solidFill>
                <a:latin typeface="Tahoma"/>
              </a:rPr>
              <a:t>Эколог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4f4f"/>
                </a:solidFill>
                <a:latin typeface="Tahoma"/>
              </a:rPr>
              <a:t>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22"/>
          <p:cNvSpPr/>
          <p:nvPr/>
        </p:nvSpPr>
        <p:spPr>
          <a:xfrm rot="483000">
            <a:off x="4995360" y="1568160"/>
            <a:ext cx="1951200" cy="1936800"/>
          </a:xfrm>
          <a:prstGeom prst="cloudCallout">
            <a:avLst>
              <a:gd name="adj1" fmla="val -70532"/>
              <a:gd name="adj2" fmla="val 77365"/>
            </a:avLst>
          </a:prstGeom>
          <a:solidFill>
            <a:srgbClr val="8dff8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Эколо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живот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25"/>
          <p:cNvSpPr/>
          <p:nvPr/>
        </p:nvSpPr>
        <p:spPr>
          <a:xfrm rot="1111200">
            <a:off x="5928840" y="3831840"/>
            <a:ext cx="1952640" cy="1744560"/>
          </a:xfrm>
          <a:prstGeom prst="cloudCallout">
            <a:avLst>
              <a:gd name="adj1" fmla="val -93754"/>
              <a:gd name="adj2" fmla="val 55162"/>
            </a:avLst>
          </a:prstGeom>
          <a:solidFill>
            <a:srgbClr val="ffff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Эколог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сообще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26"/>
          <p:cNvSpPr/>
          <p:nvPr/>
        </p:nvSpPr>
        <p:spPr>
          <a:xfrm>
            <a:off x="1908000" y="3645000"/>
            <a:ext cx="2016360" cy="1944720"/>
          </a:xfrm>
          <a:custGeom>
            <a:avLst/>
            <a:gdLst>
              <a:gd name="textAreaLeft" fmla="*/ 460080 w 2016360"/>
              <a:gd name="textAreaRight" fmla="*/ 1556280 w 2016360"/>
              <a:gd name="textAreaTop" fmla="*/ 443880 h 1944720"/>
              <a:gd name="textAreaBottom" fmla="*/ 15008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Эколо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Экология живот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888"/>
          <p:cNvPicPr/>
          <p:nvPr/>
        </p:nvPicPr>
        <p:blipFill>
          <a:blip r:embed="rId1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изучении процессов, которые происходят 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вой природе, большую помощь оказывают  экспериментальные методы. В опытах исследуется влияние разных условий на организмы, выясняется их реакция на заданные воздействия. Изучая отношения организмов со средой обитания в искусственных условиях, можно глубже разобраться в происходящих явлениях природы. Совершенно очевидно, что взаимосвязи живых организмов с окружающей их средой могут быть изучены наиболее полно лишь в природе. Но это дело нелёгкое, особенно если учесть, до какой степени сложна даже самая простая среда. Поэтому в экологии натурные наблюдения и эксперименты занимают важное мес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9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кология сообщест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Замок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1134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2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animClr clrSpc="rgb">
                                      <p:cBhvr>
                                        <p:cTn id="1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рироде совместно обитающие популяции различных организмов образуют определённое единство, называемое сообществом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обще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устойчивое биологическое образование, так как обладает способностью к самоподдержанию своих природных свойств и видового состава при внешних воздействиях, вызываемых обычными изменениями климатических и других факторов. Устойчивость сообщества определяется  особенностями взаимодействия между входящими в него популяциями. Изучение сообществ позволяет более точно определять причины изменений численности отдельных групп организмов, правильно организовывать ведение сельского, охотничьего или лесного хозяйства, разрабатывать способы борьбы с инфекциями, планировать размещение населённых пунктов и т. д. Здесь мы сталкиваемся со следующим, ещё более сложным разделом экологии – экологией сообще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7885080" y="6381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кология челове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6" descr="spring_plant"/>
          <p:cNvPicPr/>
          <p:nvPr/>
        </p:nvPicPr>
        <p:blipFill>
          <a:blip r:embed="rId1"/>
          <a:stretch/>
        </p:blipFill>
        <p:spPr>
          <a:xfrm>
            <a:off x="250920" y="1484280"/>
            <a:ext cx="8893080" cy="51134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mph" presetID="2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1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108000" y="33336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кологии имеются и другие подразделения. Одно из них ставит в центр внимания изучение человека. Эту отрасль экологии, использующую экологический подход применительно к человеческому обществу, называют сейчас наукой об окружающей среде, или экологией человека. Экология – жизненно важная для человека наука, изучающая его непосредственное природное окружение. Человек, наблюдая природу и присущую ей гармонию, невольно стремился внести эту гармонию в свою жизнь. Это желание стало особенно острым лишь сравнительно недавно, после того как сделались очень заметными последствия неразумной хозяйственной деятельности, приводящие к разрушению природной среды. А это в конечном итоге оказало неблагоприятное влияние на самого человека. Вот почему термин «экология» получил такое широкое распростран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2:42:14Z</dcterms:created>
  <dc:creator>Катя</dc:creator>
  <dc:description>emc.spb.ru</dc:description>
  <dc:language>en-US</dc:language>
  <cp:lastModifiedBy>LEGION</cp:lastModifiedBy>
  <dcterms:modified xsi:type="dcterms:W3CDTF">2015-05-06T08:06:27Z</dcterms:modified>
  <cp:revision>33</cp:revision>
  <dc:subject/>
  <dc:title>Сообщ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4000000000001024140</vt:lpwstr>
  </property>
</Properties>
</file>