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6647-9AD8-43C4-AFBC-8090C8AA49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Эк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EBC-95F7-4EED-8BC6-ADA0D3E5E6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наука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озможно, само существование человека будет зависеть от прогресса этой нау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3253-948E-40FB-BA89-DBC20EF6A0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зучает эколог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бразован от двух греческих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йокос – дом, жилище, родина, и логос – нау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ющих дословно «наука о местообит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общем смысле экология – это нау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взаимоотношения организмов и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 с окружающей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экологии как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–настоящему стали понимать лишь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му есть объяснение, которое связано с тем, ч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численности населения Земли и усилива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человека на природную среду постав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еред необходимостью решать ряд н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 важ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8A6A-56C1-4333-8478-50B6552684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06D8-D9AA-4FCA-B1EE-E78EE64C6F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зучении процессов, которые происходя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D924-D7BA-4DF7-A477-9D78EC65A9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076-3CDB-4BBE-98D7-47F3C80262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6B1B-A4DF-4DB8-B7C1-135775DD7D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155D-278E-4D8A-BA7F-4B43CA395F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87F7-EC06-4A8E-9CF0-0E7B3225FB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8E1-44B1-4BEC-869D-AB9272C5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4F0-DBDE-4D4D-A49B-7F8E69A2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30B-8E15-42B1-8E42-B07CC5AF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48A-5516-44BF-BF9A-3D7614A6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295E5-D3E2-44C7-8BDE-903490B0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E8A20-1A42-4DF1-9542-C8461FC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EF2E9-490B-4958-9263-E5BE38F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9A67F-F499-4025-B126-14523DEC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C52CB-92B0-4788-B7C0-16B58F41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42CDF-6F19-4F81-A847-AD9CFADC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7ED55-492A-4A8A-B732-665EE770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E64-3524-473F-B736-C0F92ED9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47D1F-7F6C-4AF3-AD24-A24A4656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9CE75-71B0-4359-9AC5-D5482C70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E37EA-2A6E-49D1-99E2-C8CE066E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1E680-F12D-4433-A760-51700926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6F755-CDA4-42F1-BA8E-4B7F3D06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BCE-4F88-4BB5-B5C7-2E5C0D65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034-7ACE-4E23-849C-95D729B4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FD4-2358-4B19-9C3E-A50420BC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CC6-DB68-4158-831D-8511A99D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5DB-4DE0-49AD-BF34-23E9B55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362-8AEE-48B4-A822-D90CDC6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C4F-E8AB-4915-8265-55947CAD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9664-F796-4371-BC45-B45903F1D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C976-2EBD-4E46-B54B-AEF6D6612B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24000" y="5157720"/>
            <a:ext cx="50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40000" y="2565360"/>
            <a:ext cx="460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Экология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2" name="Бетховен3.mp3" descr=""/>
          <p:cNvPicPr/>
          <p:nvPr/>
        </p:nvPicPr>
        <p:blipFill>
          <a:blip r:embed="rId3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я – наука будущ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возможно, само существование человека будет зависеть от прогресса этой нау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Бетховен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06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27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изучает эколог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образован от двух гречески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йокос – дом, жилище, родина, и логос – наук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чающих дословно «наука о местообитан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ее общем смысле экология – это нау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ая взаимоотношения организмов 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бществ с окружающей их средой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экологии как нау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–настоящему стали понимать лишь недав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му есть объяснение, которое связано с те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численности населения Земли и усиливающе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ействие человека на природную среду постав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го перед необходимостью решать ряд н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енно важн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1"/>
          <p:cNvSpPr/>
          <p:nvPr/>
        </p:nvSpPr>
        <p:spPr>
          <a:xfrm rot="17613000">
            <a:off x="2447640" y="367920"/>
            <a:ext cx="1800360" cy="2016000"/>
          </a:xfrm>
          <a:prstGeom prst="cloudCallout">
            <a:avLst>
              <a:gd name="adj1" fmla="val -82421"/>
              <a:gd name="adj2" fmla="val 30833"/>
            </a:avLst>
          </a:prstGeom>
          <a:solidFill>
            <a:srgbClr val="ffb9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Эколог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22"/>
          <p:cNvSpPr/>
          <p:nvPr/>
        </p:nvSpPr>
        <p:spPr>
          <a:xfrm rot="483000">
            <a:off x="4995360" y="1568160"/>
            <a:ext cx="1951200" cy="1936800"/>
          </a:xfrm>
          <a:prstGeom prst="cloudCallout">
            <a:avLst>
              <a:gd name="adj1" fmla="val -70532"/>
              <a:gd name="adj2" fmla="val 77365"/>
            </a:avLst>
          </a:prstGeom>
          <a:solidFill>
            <a:srgbClr val="8dff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5"/>
          <p:cNvSpPr/>
          <p:nvPr/>
        </p:nvSpPr>
        <p:spPr>
          <a:xfrm rot="1111200">
            <a:off x="5928840" y="3831840"/>
            <a:ext cx="1952640" cy="1744560"/>
          </a:xfrm>
          <a:prstGeom prst="cloudCallout">
            <a:avLst>
              <a:gd name="adj1" fmla="val -93754"/>
              <a:gd name="adj2" fmla="val 55162"/>
            </a:avLst>
          </a:prstGeom>
          <a:solidFill>
            <a:srgbClr val="ffff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Эколог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ооб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1908000" y="3645000"/>
            <a:ext cx="2016360" cy="19447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кология живот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888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учении процессов, которые происходят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сообще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Замок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885080" y="6381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spring_plant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08000" y="333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2:14Z</dcterms:created>
  <dc:creator>Катя</dc:creator>
  <dc:description>emc.spb.ru</dc:description>
  <dc:language>en-US</dc:language>
  <cp:lastModifiedBy>LEGION</cp:lastModifiedBy>
  <dcterms:modified xsi:type="dcterms:W3CDTF">2015-05-06T08:06:27Z</dcterms:modified>
  <cp:revision>33</cp:revision>
  <dc:subject/>
  <dc:title>Со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</Properties>
</file>