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F8D8-5509-4866-B226-E551983CB1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Эк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2B02-0F37-4AB3-A058-CE003A6465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наука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озможно, само существование человека будет зависеть от прогресса этой наук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693B-24C0-47BA-B45E-64F34C77FAC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изучает эколог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бразован от двух греческих 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йокос – дом, жилище, родина, и логос – наук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ющих дословно «наука о местообитан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общем смысле экология – это нау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ая взаимоотношения организмов и 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ств с окружающей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экологии как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–настоящему стали понимать лишь недав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му есть объяснение, которое связано с тем, ч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численности населения Земли и усилива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человека на природную среду постав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еред необходимостью решать ряд н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 важ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B86D-801E-453B-A3E4-BC7DE6F977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0B94-1A29-4502-8BA7-DB76055CA1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зучении процессов, которые происходя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C2AE-A8C1-4F7D-A6D8-505E1894D4C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22E2-966D-4029-8459-1D29539161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б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764B-D461-4EA3-AEF9-283FC5E63A8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DEEC-E10E-4C85-A547-A0962C6CD2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5F44-9C12-4D3C-90FF-E9A6083A359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7C8-C4BD-41A7-B569-AFA03C56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DDD-425D-4408-930F-3EA0A0E4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844-1B01-49E0-B7E0-3C45822F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DD4-AA47-4A55-8CCF-E265600B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93E8D-9988-40C8-82C9-9257F9AA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4CA68-6901-4A66-BD1F-9A1E3500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579F2-690C-4355-B080-81786B99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190BE-7223-4604-A5DF-63FF593D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62828-C0BA-4BDF-B665-921D6637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61ABA-4033-4BAD-9C26-04238AA4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133AF-BE64-41FD-B20B-C57063CA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A3D-B450-4976-8F78-5E53BE9C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23C5C-AFB2-4519-BF5A-66017449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EDAF5-73DB-4879-B698-88F6C472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C5B43-F696-454B-A105-AA968F47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E6DAD-5C62-4EEF-BF61-BF521828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959E5-E76F-45E2-9105-63B1F1CA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4E8-20EA-42A8-B084-123FACF3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477-21DB-41CE-BF58-34725DBC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1C9-CD9C-4492-B413-3B47E9F7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044-9FF5-4234-B61A-8B520A96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CD4-3417-41BE-A0FA-DD1E87D7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8B1-B8A7-42C7-8C3A-5AE7276C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576-BFAF-4095-ADB8-966A6795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9DFE-3D46-4892-A93C-B367FDDEC4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7A77-DA67-4067-A95C-D81337FED0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924000" y="5157720"/>
            <a:ext cx="504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340000" y="2565360"/>
            <a:ext cx="460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eorgia"/>
              </a:rPr>
              <a:t>Экология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92" name="Бетховен3.mp3" descr=""/>
          <p:cNvPicPr/>
          <p:nvPr/>
        </p:nvPicPr>
        <p:blipFill>
          <a:blip r:embed="rId3"/>
          <a:stretch/>
        </p:blipFill>
        <p:spPr>
          <a:xfrm>
            <a:off x="8847000" y="656100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я – наука будущег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и возможно, само существование человека будет зависеть от прогресса этой науки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Бетховен3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306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6275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изучает эколог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эколог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образован от двух греческих с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йокос – дом, жилище, родина, и логос – наука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начающих дословно «наука о местообитани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более общем смысле экология – это нау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щая взаимоотношения организмов и 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обществ с окружающей их средой об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ое значение экологии как нау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–настоящему стали понимать лишь недав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му есть объяснение, которое связано с тем, 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 численности населения Земли и усиливающее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действие человека на природную среду постав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го перед необходимостью решать ряд нов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зненно важных зада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36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1"/>
          <p:cNvSpPr/>
          <p:nvPr/>
        </p:nvSpPr>
        <p:spPr>
          <a:xfrm rot="17613000">
            <a:off x="2447640" y="367920"/>
            <a:ext cx="1800360" cy="2016000"/>
          </a:xfrm>
          <a:prstGeom prst="cloudCallout">
            <a:avLst>
              <a:gd name="adj1" fmla="val -82421"/>
              <a:gd name="adj2" fmla="val 30833"/>
            </a:avLst>
          </a:prstGeom>
          <a:solidFill>
            <a:srgbClr val="ffb9d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Эколог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22"/>
          <p:cNvSpPr/>
          <p:nvPr/>
        </p:nvSpPr>
        <p:spPr>
          <a:xfrm rot="483000">
            <a:off x="4995360" y="1568160"/>
            <a:ext cx="1951200" cy="1936800"/>
          </a:xfrm>
          <a:prstGeom prst="cloudCallout">
            <a:avLst>
              <a:gd name="adj1" fmla="val -70532"/>
              <a:gd name="adj2" fmla="val 77365"/>
            </a:avLst>
          </a:prstGeom>
          <a:solidFill>
            <a:srgbClr val="8dff8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живот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25"/>
          <p:cNvSpPr/>
          <p:nvPr/>
        </p:nvSpPr>
        <p:spPr>
          <a:xfrm rot="1111200">
            <a:off x="5928840" y="3831840"/>
            <a:ext cx="1952640" cy="1744560"/>
          </a:xfrm>
          <a:prstGeom prst="cloudCallout">
            <a:avLst>
              <a:gd name="adj1" fmla="val -93754"/>
              <a:gd name="adj2" fmla="val 55162"/>
            </a:avLst>
          </a:prstGeom>
          <a:solidFill>
            <a:srgbClr val="ffff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Эколог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сооб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26"/>
          <p:cNvSpPr/>
          <p:nvPr/>
        </p:nvSpPr>
        <p:spPr>
          <a:xfrm>
            <a:off x="1908000" y="3645000"/>
            <a:ext cx="2016360" cy="1944720"/>
          </a:xfrm>
          <a:custGeom>
            <a:avLst/>
            <a:gdLst>
              <a:gd name="textAreaLeft" fmla="*/ 460080 w 2016360"/>
              <a:gd name="textAreaRight" fmla="*/ 1556280 w 2016360"/>
              <a:gd name="textAreaTop" fmla="*/ 443880 h 1944720"/>
              <a:gd name="textAreaBottom" fmla="*/ 15008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Экология живот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888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учении процессов, которые происходят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сообщест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Замок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animClr clrSpc="rgb">
                                      <p:cBhvr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обще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885080" y="6381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челове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6" descr="spring_plant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51134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108000" y="33336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42:14Z</dcterms:created>
  <dc:creator>Катя</dc:creator>
  <dc:description>emc.spb.ru</dc:description>
  <dc:language>en-US</dc:language>
  <cp:lastModifiedBy>LEGION</cp:lastModifiedBy>
  <dcterms:modified xsi:type="dcterms:W3CDTF">2015-05-06T08:06:27Z</dcterms:modified>
  <cp:revision>33</cp:revision>
  <dc:subject/>
  <dc:title>Со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4000000000001024140</vt:lpwstr>
  </property>
</Properties>
</file>