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51AA-06CA-4013-8AA0-D914374A1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86;&#1090;&#1086;" TargetMode="External"/><Relationship Id="rId2" Type="http://schemas.openxmlformats.org/officeDocument/2006/relationships/hyperlink" Target="http://ru.wikipedia.org/wiki/&#1071;&#1087;&#1086;&#1085;&#1080;&#1103;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0;&#1097;&#1077;&#1074;&#1072;&#1088;&#1080;&#1090;&#1077;&#1083;&#1100;&#1085;&#1072;&#1103;_&#1092;&#1077;&#1088;&#1084;&#1077;&#1085;&#1090;&#1072;&#1094;&#1080;&#1103;&amp;action=edit" TargetMode="External"/><Relationship Id="rId2" Type="http://schemas.openxmlformats.org/officeDocument/2006/relationships/hyperlink" Target="http://ru.wikipedia.org/w/index.php?title=&#1056;&#1080;&#1089;&#1086;&#1074;&#1086;&#1076;&#1089;&#1090;&#1074;&#1086;&amp;action=edit" TargetMode="External"/><Relationship Id="rId3" Type="http://schemas.openxmlformats.org/officeDocument/2006/relationships/hyperlink" Target="http://ru.wikipedia.org/wiki/&#1041;&#1080;&#1086;&#1084;&#1072;&#1089;&#1089;&#1072;" TargetMode="External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AE5A-AED7-49EF-8663-8AC3999172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Последствия парникового эффекта для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климат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не можем точно сказать к каким изменениям климата может привести глобальное потепление. Однако, 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 мнению многих ученых, если сохранится тенденция глобального потепления, это приведет к изменению погоды и увеличению количества осадков, что, в свою очередь, приведет к подъему уровня Mирового оке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ША и бывшем СССР последние 30-40 лет выпадает осадков на 10 процентов больше, чем в прош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то же время, количество осадков над экватором сократилась на те же десять процен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F322-7CB1-47D6-B2B6-1BA93524AA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Наиболее благоприятные условия для выращивания культур сложатся в сельскохозяйственных регионах России и обильные осадки будут выпадать в Северной Африке, где засуха продолжается с 1970-го года. Кроме того, повышение температуры увеличит испарение влаги с поверхности океана. Это приведет к увеличению выпадения осадков на 11 проц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ствия потепления климата будут ощущаться на Северном и Южном полюсах, где увеличившаяся температура приведет к подтаиванию ледников. По расчетам ученых увеличение температуры на 10 градусов по Цельсию, вызовет повышение уровн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рового океана на 5-6 метров, что приведет к затоплению многих прибрежных территорий во всем ми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56AC-257E-479D-AEA2-E2F94E12C7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Уже сегодня мы сталкиваемся с участившимися климатическими  аномалиями. Это и всё более сильные ураганы и штормы, наводнения, засуха, выпадание снега там, где его никогда не ждали, необычайно тёплые зимы в северных широт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11E9-F8A3-4FED-9F30-C6A2D8C472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чувствительными к потеплению климата являются ледн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едник Упсала в Патагонии (Аргентина) был одним из самых больших ледников Южной Америки, но теперь исчезает на 200 метров в г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B531-F0F9-47A8-A2D5-1FB2965060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D28C-386C-4A25-829F-CF172974FD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D728-E20F-4DD6-988F-13158EB74A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влияния парникового эффекта на климат земли является одной из важнейших задач, требующих скорейшего решения. Начальным этапом решения проблемы стали международные договорённости по сокращению выбросов парниковых газов в атмосфе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A73A-BF70-465C-A37B-1BAD9BF05C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международный документ, принятый в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иот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Япо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в декабре 1997 года в дополнение к Рамочной конвенции ООН об изменении климата . Период подписания протокола открылся 16 марта 1998 года и завершился 15 марта 199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CBDB-12C1-48E7-A12A-0718965D20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етали согла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иотский протокол стал первым глобальным соглашением об охране окружающей среды, основанным на рыночных механизмах регулирования — механизме международной торговли квотами на выбросы парниковых газ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н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ц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Протокола определили для себя количественные обязательства по ограничению либо сокращению выбросов на период с 1 января 2008 до 31 декабря 2012 года. Цель ограничений — снизить в этот период совокупный средний уровень выбросов 6 типов газов (CO2, CH4,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гидрофторуглеводороды, </a:t>
            </a: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перфторуглеводород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N2O, SF6) на 5,2 % по сравнению с уровнем 1990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DA30-3AEB-4069-B5B8-7B038C0CE1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я Киотского проток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состоянию на 14 февраля 2006 года Протокол был ратифицирован 161 страной мира (совокупно ответственными за более чем 61 % общемировых выбросов). Заметным исключением из этого списка являются СШ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76C9-3371-42A1-8615-8AFC83128E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арниковый эффек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й эффект. Как он действу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е га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парникового эффекта на климат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  мифов о глобальном потеп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D301-1597-482F-B1B0-A081CA8509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Человек с древних времен склонен верить мифам. Часть из них не лишена логики, но все таки большая половина оказывается полным бредом. То же самое и с </a:t>
            </a:r>
            <a:r>
              <a:rPr b="1" lang="en-US" sz="1200" spc="-1" strike="noStrike">
                <a:solidFill>
                  <a:srgbClr val="3399ff"/>
                </a:solidFill>
                <a:latin typeface="Arial"/>
              </a:rPr>
              <a:t>глобальным потеплением</a:t>
            </a: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. Вот распространенные заблуждения, связанные с ним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). Глобального потепления вообще не происходи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К сожалению происходит. Наукой не раз доказано, а фактами подтверждено, что температура быстро раст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). Глобальное потепление - естественный процес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корее всего нет (повышение температуры, особенно с 70-х годов, намного превышают естественные изменения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). В любом случае последствия будут постепенным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ильные штормы становятся все чаще, а историей доказано, резкое изменение климатических условий может наступить внезапно, буквально за несколько л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F87F-8872-4511-8A89-41106AF144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). Глобальное потепление приведет к всемирному пото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потепление будет идти теми же темпами, то уровень мирового океана поднимется на 1 метр. Если же допустить, что все ледники растают, что конечно же невозможно, то вода поднимется на 10 метров. И если учесть, что средняя высота суши над уровнем океана - 840 метров, то переживать так сильно по поводу затопления не сто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). Глобальное потепление - единственная причина резких, непредсказуемых изменений пог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леко не единственная. Существует ряд естественных, циклических процессов, к которым глобальное потепление не имеет никакого отношения. И именно они являются тем, что может вызвать резкое потепление или похолодание. Такими факторами могут послужить океанские течения, циклоны, изменение магнитного поля Земли и просто совпа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51BB-62FC-4853-BFCF-DA301E19C0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). Выбросы углекислого газа слишком незначительны, чтобы спровоцировать глобальное потепление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отелось бы верить, но пока факты это отрицают. По статистическим данным, которым можно доверять были построены графики концентрации углекислого газа в атмосфере и температуры в это время. Они совпад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). Из-за глобального потепления температура скоро вырастет настолько, что мы все погибнем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 настолько и не скоро. За последние 100 лет температура выросла на 0,7°С, - 1° С. И по самым смелым прогнозам в ближайшие 100 лет может вырасти еще на 4,6° С, но скорее всего это увеличение не превысит 2°С. С меньшей вероятностью, но есть модели, предсказывающие да же похолод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). От глобального потепления мы получим только вы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некоторых районах можно будет порадоваться необычно теплой погодой, но цена негативных последствий превысит любые выгоды. Число болезней и смертей из-за жары выраст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0D1A-5475-4486-8BB8-EE1DBB887C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). Сельскому хозяйству это будет только на ру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глекислый газ может повысить урожайность ряда культур, но так же возрастет и количество сорняков и вредителей. Растения не смогут хорошо расти на том же месте из-за климатического сдви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). Правительство о нас позаботи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мимо прянятия Киотского протокола (который только ограничивает выбросы) несколькими странами, исключая США (крупнейший источник вредным выбросов) больше ничего сделано не было. Правительства боятся экономических последствий борьбы с глобальным потеп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). Проблема не так серьезна, как национальная безопас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у как посмотреть. Если учесть, что потепление затронет каждого жителя планеты (при чем больно ударив по нему), то думаю будет посерьез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). Причины глобального потепления известны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ногие верят, что в глобальном потеплении полностью виновен человек и что только остановив промышленную деятельность, можно избежать катастрофы. В действительности же проблема изменения климата настолько нова, что сейчас невозможно с точностью сказать о ее причинах. То, что оно происходит - это факт, но то что это результат антропогенной деятельности человека далеко не единственная версия. Так, например, существует версия, что это результат естественных процессов, происходящих в системе Солнце - Земля - Космо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409A-D2EB-4615-B714-BAC4B8E246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). Мы знаем, как бороться с глобальным потеплением, у нас есть техноло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тегический план находится в разработке. Существует несколько масштабных вариантов борьбы с глобальным потеплением, но все они из области фантастики, да и требуют колоссальных вложений, сравнимых с бюджетом США, но лучше много мелких изменений, чем одно больш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). Мы не можем ничего с этим подел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ждый уже сейчас может внести свой вклад в борьбу с глобальным потеплением хотя бы просто соблюдая рационализм в своей потребительск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39FB-2D68-46AA-967C-8248086060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лючении хочется отметить, что существует версия, о том, что влияние парникового эффекта на глобальное  потепление климата не так значительно, а нынешнее потепление – это лишь очередной этап в циклическом изменении климата нашей планеты. Ведь не стоит забывать, что по геологическим меркам последний ледниковый период на Земле был не так уж и дав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B8F4-C92F-46DE-A2F9-110D64C01E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арниковый эффек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рнико́вый эффе́к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повышение температуры нижних слоёв атмосферы планеты по сравнению с эффективной температурой, т. е. температурой теплового излучения планеты, наблюдаемого из косм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1521-BE6E-490F-A315-3C49B931DC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й эффект. Как э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копление углекислого газа в атмосфере - одна из основ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ин парникового эффекта. Углекислый газ действует в атмосфере, как стекло в оранжерее: он пропускает солнечную радиацию и не пропускает обратно в космос инфракрасное (тепловое) излучение Зем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049F-59F6-4B35-9C2E-5A4322C15C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никовые г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Водяной пар — основной естественный парниковый газ, ответственный более, чем за 60 % эффе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Углекислый газ (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CO2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и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сточниками углекислого газа в атмосфере Земли являются вулканические выбросы, жизнедеятельность организмов, деятельность челове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Метан (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CH4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- о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сновными антропогенными источниками метана являются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ищеварительная ферментация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у скота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исоводство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, горение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иомассы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(в т. ч. сведение ле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зон (О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сид углерода (С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фре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628F-4849-49E6-A302-F4B682B74C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лияние парникового эффекта на климат Зем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27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ду французский физик Жозеф Фурье предположил, что атмосфера земли выполняет функцию своего рода стекла в теплице: воздух пропуска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лнечное тепл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не давая ему при этом испариться обратно в космос. Этот эффект достигается благодаря некоторым атмосферным газам второстепенного значения, каковыми являются, например, водяные испарения и углекислый газ. Они пропускают видимый и «ближний» инфракрасный свет, излучаемый солнцем, но поглощают «далекое» инфракрасное излучение, имеющее более низкую частоту и образующееся при нагревании земной поверхности солнечными лучами. Если бы этого не происходило, Земля была бы примерно 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 градусов холодне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чем сейчас, и жизнь бы на ней практически замер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550B-A6EF-4EC4-92E8-2F8F6B8DDD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, 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последние 100 л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язи с активной деятельностью челове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доля двуокиси углерода имеет тенденцию роста приблизительно на 25% и средняя температур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емли повысилась 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,7º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Земля нагревается однако неравномерно, температуры на полюсах увеличиваются более экстремально, чем в других областях земли. Если эта тенденция не остановится, то наступят климатические изменения – более долгие периоды засухи, интенсивное выпадение осадков и более мощные ураганы – уровень моря может подняться. Плодородные регионы побережья станут жертвой моря и будут затоплены. Может возникнуть угроза голода и миграции народов с губительными социальными последствиями.  Климат Земли грозит нам еще большими неприятностями, нежели те, что он преподнес в последние годы - катастрофические ураганы, бурные наводнения и жестокие засухи. Они, вероятно, будут повторяться все чаще и станут разрушительнее. Продолжаться это будет до тех пор, пока человечество не найдет способ значительно уменьшить содержание парниковых газов разогревающих атмосфе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42B7-5841-40D4-B7C5-A2EF89BE36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: основным следствием парникового эффекта является 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1DC0-3335-4413-ACCB-9A4C090907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944-3F50-42DC-8CBB-8EA8497C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C32-D518-499E-9BD1-909BC23F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D53CD6-1AFB-43AF-B2F5-C0D3998B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7568B9-B9E8-4D3B-91D2-906DD164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AB8A6B-C0D2-4778-919B-BF987A24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033A88-F34C-4DD9-A4F2-FEBA259D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1CF4C4-C681-4749-B6D7-1FB413FE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F6E477-B6C2-458D-98DC-C17D6DB5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55E702-903B-4BFF-8D9B-23820712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3543ED-D3C7-4989-AC85-A5024E07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AE27AD-3E52-4644-B574-2391FB9B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45949-9B0D-4279-8C57-A0E64525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627-1D2E-486A-AF75-8CCB8FA1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8B536-C315-4C49-B6A6-D5B8252A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D9BBA-C0D3-4227-BE44-738CD1D1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5E9EB-0A52-48A0-858B-68CDFBF6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DC95F-6218-4C01-BD78-36738A2D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73100-CEA1-4C01-A9FB-56DFA466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F90B3-D864-4630-9511-E3A94BDC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C743B-8266-478F-A7FA-17D29859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E2B13-FDA8-4EE1-9349-DBC16E33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8B2FB-D7F1-4117-8F52-AA8A85AC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3B576-FF46-4B44-8D8E-93CE367B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6696-CDD4-4FC3-A4A1-3C424685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7F26B-A531-4E82-8FC7-92375167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70780-F74A-4A32-8ECF-9163C15D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7C880-3968-46D2-B5DC-DF431AF2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26B02-E92D-4EA1-8A98-88393E58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8FDC8-A06F-4F30-92F9-97A88E53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42E97-AFD3-41C1-B288-A221B44D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33958-81C2-425C-9858-13CCCBF3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962E8-EE34-47D4-AD4E-79A6270D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09943-F3EB-4BDE-B473-CF600EEA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15E8D-D342-4AB4-AAB3-CD85C01A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EC0D-4315-4CAC-B46E-38E2C40D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F61D2-6AFD-4A79-BBEA-D3346EBA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924E9-AEB9-4EC1-A935-835530A7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D72A0-E032-4E57-A1D7-CBCD2AD1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FAC77-48BB-48C1-B103-FF9E77BB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C9B20-157D-4CCF-9270-1A3460E0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CAA61-EDF8-4792-9375-B814E568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29693-A76A-4E15-8359-32BCB713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35D1F-5B62-4ADA-8F75-E8A79C91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4D44A-97F4-4204-A0A2-776D2099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10C2D-A892-4261-BD19-0FF7652D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1C29-4092-4AFA-BD86-C21C0C96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086C2-0155-4263-A435-1C7A7538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7EEB8-4529-4353-BC21-987A1E17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4214E-BEE9-4375-9229-8DA0059E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6FA08-9C96-456C-8BD0-BBE56692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051DD-243C-4B44-A6DA-3314AEA1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DB002-5BE8-4011-A154-426FC7F7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A6579A-A007-4CEB-A42C-7BD4BF74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666630-AA2A-44E4-B723-90ED64B6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D4D4A-74EC-4562-9372-DB6DF31B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5C7AA7-9BC3-4E1B-96D9-3966B4F4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833A-C2CD-4950-A652-10D42E26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A8998-5926-4869-BDFD-4C33101C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92E536-C3C5-4805-8167-40CD1768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25658-FB62-4E19-AB23-E81F2C63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43DBF-DBE9-469C-BE00-02780152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015F9-3BF2-499A-8A3F-6BE1B75B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6EDCB-D3D0-43F2-B146-0451B4BA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BFE99-D38F-4D64-BC75-3882E3C9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E1BB6E-1814-4CA3-9ABE-9935B524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DEE00-B765-490D-9FB3-1CCB09B2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2AFCE5-CCF0-4100-94EB-38082F24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B652-D661-41AC-921D-0C87DB0C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8717F9-0535-4D23-BAD7-09A043E9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183724-582A-4C8C-A1AD-97F893FE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A65A26-EBE5-4653-BA86-3C1BB236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DA7C5-D138-4AA4-8980-E04BA5C4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AC4B5-62D8-4A4D-A872-A684E7DA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7662D9-5303-47E4-A015-F885C390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14B542-F3CC-4D15-8405-72098262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285D26-A52C-4BE6-A70A-C46992D6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E7E48-420E-43D5-9776-8F776FC8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39DA-2540-4D5D-BDB7-7A59E89E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100D-F696-43A8-888C-DDFABB4B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8386-D616-47CA-849B-434C7CD8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24F-5D0E-447F-B0DD-7E40B5A6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73B3-8C5B-4786-A08D-AB985D48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C2EF-71C0-423B-81D8-1A0A7C16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0DF5-3FAA-48A2-A239-175451FC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09C8-F6A7-4542-BEFF-E4C92A14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F0AB-060D-467D-AC41-6162BC8D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EC753-9CBA-4530-A4EC-CBE8705D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F4C0F-5367-4F0A-9F40-DCBA4DC8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512C4-309E-421E-A0D0-D6C32A1A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94B0C-A8F8-451B-B04C-2D76F16A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51C67-905F-425B-99F6-F0BC1F3B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B0A1-8DB7-4C38-B340-77931A47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B1297-1538-4AAC-B60E-F57E86B3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B8B44-BC90-4B2A-B35B-464DC5EB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AB9FF-79F3-4CC5-9A1E-B3F619A1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076EE-E1B7-4DF3-843A-D4E3D053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E5CBB-254D-4EDD-A94C-DF56A9EA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ABA18-9F13-4159-9A3A-10E38987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AF81E-3907-43CE-9604-A3E5EBE5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949A9B-B592-4FF5-9C3A-B9D1A516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D019C3-3F93-4DA3-B387-0A91376E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3DF155-4A46-47A8-B838-2FE67839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A06-D13C-4529-B176-1A189C83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B8E43A-2E0E-40CA-8D5F-3AEE8592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AC4B63-F2CD-4F25-BE75-7FC2E62B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808FFF-9659-409A-A2CF-AB282487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94D20C-3989-4375-9785-44333264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01048E-FF09-471D-9911-7197C51A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8881EF-DF39-4393-BF60-6E113419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ED2A75-2842-43E1-A47E-C57D4201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0FE0E7-E44B-44E8-9CC3-B683471E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DC0CC2-5FA0-4BC5-907A-9642FEE2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5C807-B596-4D31-B2CB-8F50A10A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10C-1226-441B-844E-60543083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3997F-5BC1-4FE5-9E1E-8CA9CC31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D8254-CC40-434E-89F7-0B5F01C7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6BEE3-CF21-43AA-8706-1A9D01D5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59EB6-6734-4B1C-9C20-1BF1E72D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CCA67-3052-4663-91C3-439DE5EA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02770-CAE5-401A-9A77-71482EA6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3A1E8-CB16-4E26-B298-750546EA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641B5-F09D-4087-B8D6-6DABBED9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599B0-3994-4811-A15D-504C92AA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9FBA2-1E0F-49C5-B0C9-0DBC27C1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C1B-09DE-4A6F-A0A4-5799FB70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BACBF-B6E5-4CE0-BC04-D28C4C5C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64BBB-0E76-424F-A995-378B7E63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F0669-86FF-4325-B2C0-0685C731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AD523-4870-4AFB-A296-D9D0A27C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00EB3-1E04-4E5D-B01B-FD6EDB80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B8BA1-4455-4A8E-A3F2-08E2EC48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3B3D8-0A3D-4FEA-9B69-BE26A6DA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8485C-5DB8-4559-A1A4-DBC940D2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D3EBE-D2C3-4838-BF72-8DD65EFB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B360F-64F6-4979-9795-83D51065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5DD4-293B-492A-BEE7-C13C111B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4063A-786E-4F97-81A8-F1E7CA5A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98FA2-F6B1-4685-9FE3-FD84439B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E03D1-C6F9-47A9-A680-B550645C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B3ACD-8B1A-4DCA-942F-B355FEE9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D8E80-897A-4657-8208-E3619170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57CCE-3C6A-4E91-9AA6-62D850FB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A6D47-5AF5-4B89-97B4-E16E263C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2A58A-9D4D-4C87-89E7-2D86DA4F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6CFF7-E932-4523-81D0-1E7163F9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8A237-2930-4C58-884D-2EC3CC2D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D273-B239-490A-9D3C-515400F2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3D056-1827-424E-BF3B-41E25D39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7C179-D330-43AA-B3D6-F5F2BF33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83EC4-9917-4EC9-B6EB-7C1D0FA0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4E9D6-55C8-46A4-97B8-3C37BD3B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ABC06-DEBE-45CE-8942-0E75A4EC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B9AA5-4B90-4FF9-BD29-92A72962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0761E-BC73-4AE7-A530-7E0EE3C9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31A8F-8AF6-4C32-AF26-431BF0B4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C619D-51DA-4D10-BC66-257C3960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3B3C1-D438-4E63-887F-6E88D235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B8E-6063-4CAB-9DF2-D5552518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7516A-7E5D-433B-9754-1DD42126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F78AD-4BBE-4708-82AF-159AFBE6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91A8E-20C9-4D92-A271-90EBA1EF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FD6ED-C2E5-4ADA-9269-C6B1C1DE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DC92B-4C49-4384-9869-550F2C0D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28766-DBB6-427D-8620-6D730FDB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7801A-6BBC-40E8-9E42-6C3573FB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55660E-BCFC-4F56-9B75-3976E304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3F53A8-A5B0-43F9-89BD-5634BA14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AB0131-0F97-4185-809D-2AAAB553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41DE-B8DE-4D7F-9D97-A18124D16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AA58-A30D-4A95-96AF-40742E67F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1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A98E-1455-4BC4-800A-2024F4982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6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24DE-9EC4-4F16-AEEA-E4AC68893C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3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7D47-E4FE-4550-8CC4-A4BEFBFB21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8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8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8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69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1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1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1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7C89-B14C-4415-9853-9FF2594A943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A26E-F595-495E-A74C-244082B89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9EE4-AC6E-434E-89A7-F27E59EFC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C1FB-7347-403D-BD8E-394F30612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3C9D-6B2E-41FE-9680-9460C67294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5F0E-2647-4BCE-813C-5CA58A71B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230F-F4A3-41C0-9C2D-6AFBDD8457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79E5-87E4-4464-96C5-A42E390D06D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44C0-71A1-49CF-BD09-FE2E372D9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86;&#1090;&#1086;" TargetMode="External"/><Relationship Id="rId2" Type="http://schemas.openxmlformats.org/officeDocument/2006/relationships/hyperlink" Target="http://ru.wikipedia.org/wiki/&#1071;&#1087;&#1086;&#1085;&#1080;&#1103;" TargetMode="External"/><Relationship Id="rId3" Type="http://schemas.openxmlformats.org/officeDocument/2006/relationships/hyperlink" Target="http://ru.wikipedia.org/wiki/1997" TargetMode="External"/><Relationship Id="rId4" Type="http://schemas.openxmlformats.org/officeDocument/2006/relationships/hyperlink" Target="http://ru.wikipedia.org/wiki/&#1056;&#1072;&#1084;&#1086;&#1095;&#1085;&#1072;&#1103;_&#1082;&#1086;&#1085;&#1074;&#1077;&#1085;&#1094;&#1080;&#1103;_&#1054;&#1054;&#1053;_&#1086;&#1073;_&#1080;&#1079;&#1084;&#1077;&#1085;&#1077;&#1085;&#1080;&#1080;_&#1082;&#1083;&#1080;&#1084;&#1072;&#1090;&#1072;" TargetMode="External"/><Relationship Id="rId5" Type="http://schemas.openxmlformats.org/officeDocument/2006/relationships/hyperlink" Target="http://ru.wikipedia.org/wiki/16_&#1084;&#1072;&#1088;&#1090;&#1072;" TargetMode="External"/><Relationship Id="rId6" Type="http://schemas.openxmlformats.org/officeDocument/2006/relationships/hyperlink" Target="http://ru.wikipedia.org/wiki/1998" TargetMode="External"/><Relationship Id="rId7" Type="http://schemas.openxmlformats.org/officeDocument/2006/relationships/hyperlink" Target="http://ru.wikipedia.org/wiki/15_&#1084;&#1072;&#1088;&#1090;&#1072;" TargetMode="External"/><Relationship Id="rId8" Type="http://schemas.openxmlformats.org/officeDocument/2006/relationships/hyperlink" Target="http://ru.wikipedia.org/wiki/1999" TargetMode="External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6" TargetMode="External"/><Relationship Id="rId2" Type="http://schemas.openxmlformats.org/officeDocument/2006/relationships/hyperlink" Target="http://ru.wikipedia.org/wiki/&#1057;&#1064;&#1040;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0;&#1097;&#1077;&#1074;&#1072;&#1088;&#1080;&#1090;&#1077;&#1083;&#1100;&#1085;&#1072;&#1103;_&#1092;&#1077;&#1088;&#1084;&#1077;&#1085;&#1090;&#1072;&#1094;&#1080;&#1103;&amp;action=edit" TargetMode="External"/><Relationship Id="rId2" Type="http://schemas.openxmlformats.org/officeDocument/2006/relationships/hyperlink" Target="http://ru.wikipedia.org/w/index.php?title=&#1056;&#1080;&#1089;&#1086;&#1074;&#1086;&#1076;&#1089;&#1090;&#1074;&#1086;&amp;action=edit" TargetMode="External"/><Relationship Id="rId3" Type="http://schemas.openxmlformats.org/officeDocument/2006/relationships/hyperlink" Target="http://ru.wikipedia.org/wiki/&#1041;&#1080;&#1086;&#1084;&#1072;&#1089;&#1089;&#1072;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WordArt 5"/>
          <p:cNvSpPr txBox="1"/>
          <p:nvPr/>
        </p:nvSpPr>
        <p:spPr>
          <a:xfrm>
            <a:off x="395280" y="2421000"/>
            <a:ext cx="8569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ледствия парникового эффекта для Земл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8" name="MSj01187.wav" descr=""/>
          <p:cNvPicPr/>
          <p:nvPr/>
        </p:nvPicPr>
        <p:blipFill>
          <a:blip r:embed="rId1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17"/>
          <p:cNvSpPr/>
          <p:nvPr/>
        </p:nvSpPr>
        <p:spPr>
          <a:xfrm>
            <a:off x="6084720" y="4797360"/>
            <a:ext cx="288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зентация по географ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ченицы 11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”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ласс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Буглевской Анн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6235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климата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не можем точно сказать к каким изменениям климата может привести глобальное потепление. Однако, 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мнению многих ученых, если сохранится тенденция глобального потепления, это приведет к изменению погоды и увеличению количества осадков, что, в свою очередь, приведет к подъему уровня Mирового океан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ША и бывшем СССР последние 30-40 лет выпадает осадков на 10 процентов больше, чем в прош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о же время, количество осадков над экватором сократилась на те же десять процент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лим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Наиболее благоприятные условия для выращивания культур сложатся в сельскохозяйственных регионах России и обильные осадки будут выпадать в Северной Африке, где засуха продолжается с 1970-го года. Кроме того, повышение температуры увеличит испарение влаги с поверхности океана. Это приведет к увеличению выпадения осадков на 11 проц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дствия потепления климата будут ощущаться на Северном и Южном полюсах, где увеличившаяся температура приведет к подтаиванию ледников. По расчетам ученых увеличение температуры на 10 градусов по Цельсию, вызовет повышение уровн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рового океана на 5-6 метров, что приведет к затоплению многих прибрежных территорий во все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Уже сегодня мы сталкиваемся с участившимися климатическими  аномалиями. Это и всё более сильные ураганы и штормы, наводнения, засуха, выпадание снега там, где его никогда не ждали, необычайно тёплые зимы в северных широта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2" name="Picture 4" descr="images3"/>
          <p:cNvPicPr/>
          <p:nvPr/>
        </p:nvPicPr>
        <p:blipFill>
          <a:blip r:embed="rId1"/>
          <a:stretch/>
        </p:blipFill>
        <p:spPr>
          <a:xfrm>
            <a:off x="395280" y="4221000"/>
            <a:ext cx="1944720" cy="223236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5" descr="untitled1"/>
          <p:cNvPicPr/>
          <p:nvPr/>
        </p:nvPicPr>
        <p:blipFill>
          <a:blip r:embed="rId2"/>
          <a:stretch/>
        </p:blipFill>
        <p:spPr>
          <a:xfrm>
            <a:off x="4284720" y="3213000"/>
            <a:ext cx="4572000" cy="3335400"/>
          </a:xfrm>
          <a:prstGeom prst="rect">
            <a:avLst/>
          </a:prstGeom>
          <a:ln w="0">
            <a:noFill/>
          </a:ln>
        </p:spPr>
      </p:pic>
      <p:sp>
        <p:nvSpPr>
          <p:cNvPr id="8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иболее чувствительными к потеплению климата являются ледни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Упсала в Патагонии (Аргентина) был одним из самых больших ледников Южной Америки, но теперь исчезает на 200 метров в год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7" name="Picture 4" descr=""/>
          <p:cNvPicPr/>
          <p:nvPr/>
        </p:nvPicPr>
        <p:blipFill>
          <a:blip r:embed="rId1"/>
          <a:stretch/>
        </p:blipFill>
        <p:spPr>
          <a:xfrm>
            <a:off x="2771640" y="342900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81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043520" cy="283680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4"/>
          <p:cNvSpPr/>
          <p:nvPr/>
        </p:nvSpPr>
        <p:spPr>
          <a:xfrm>
            <a:off x="1332000" y="1706760"/>
            <a:ext cx="63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Роун, Валаис, Швейцария поднялся вверх на 450 метров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4" name="Picture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475160" cy="26208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4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2114640" cy="190512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5"/>
          <p:cNvSpPr/>
          <p:nvPr/>
        </p:nvSpPr>
        <p:spPr>
          <a:xfrm>
            <a:off x="5434200" y="566028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портадж в Аляск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27" name="MSj01250.wav" descr=""/>
          <p:cNvPicPr/>
          <p:nvPr/>
        </p:nvPicPr>
        <p:blipFill>
          <a:blip r:embed="rId3"/>
          <a:stretch/>
        </p:blipFill>
        <p:spPr>
          <a:xfrm>
            <a:off x="716436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2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7590" fill="hold"/>
                                        <p:tgtEl>
                                          <p:spTgt spid="8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иотский протоко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блема влияния парникового эффекта на климат земли является одной из важнейших задач, требующих скорейшего решения. Начальным этапом решения проблемы стали международные договорённости по сокращению выбросов парниковых газов в атмосфер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иотский протоко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иотский протоко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— международный документ, принятый в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иот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Япо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в декабре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199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года в дополнение к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Рамочной конвенции ООН об изменении клима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 Период подписания протокола открылся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16 мар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199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года и завершился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15 мар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199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4" descr="Picture2"/>
          <p:cNvPicPr/>
          <p:nvPr/>
        </p:nvPicPr>
        <p:blipFill>
          <a:blip r:embed="rId1"/>
          <a:stretch/>
        </p:blipFill>
        <p:spPr>
          <a:xfrm>
            <a:off x="539640" y="1628640"/>
            <a:ext cx="8207640" cy="468000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5"/>
          <p:cNvSpPr/>
          <p:nvPr/>
        </p:nvSpPr>
        <p:spPr>
          <a:xfrm>
            <a:off x="1476360" y="2421000"/>
            <a:ext cx="6983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Киотский протокол стал первым глобальным соглашением об охране окружающей среды, основанным на рыночных механизмах регулирования — механизме международной торговли квотами на выбросы парниковых газ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траны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участницы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Протокола определили для себя количественные обязательства по ограничению либо сокращению выбросов на период с 1 января 2008 до 31 декабря 2012 года. Цель ограничений — снизить в этот период совокупный средний уровень выбросов 6 типов газов (CO2, CH4,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гидрофторуглеводороды, </a:t>
            </a:r>
            <a:r>
              <a:rPr b="0" lang="en-US" sz="1800" spc="-1" strike="noStrike">
                <a:solidFill>
                  <a:srgbClr val="a50021"/>
                </a:solidFill>
                <a:latin typeface="Garamond"/>
              </a:rPr>
              <a:t>перфторуглеводороды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N2O, SF6) на 5,2 % по сравнению с уровнем 1990 год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WordArt 6"/>
          <p:cNvSpPr txBox="1"/>
          <p:nvPr/>
        </p:nvSpPr>
        <p:spPr>
          <a:xfrm>
            <a:off x="2556000" y="620640"/>
            <a:ext cx="40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тали соглашения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еография Киотского протокол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 состоянию на 14 февраля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2006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года Протокол был ратифицирован 161 страной мира (совокупно ответственными за более чем 61 % общемировых выбросов). Заметным исключением из этого списка являются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США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1" name="Picture 4" descr="Kyoto"/>
          <p:cNvPicPr/>
          <p:nvPr/>
        </p:nvPicPr>
        <p:blipFill>
          <a:blip r:embed="rId3"/>
          <a:stretch/>
        </p:blipFill>
        <p:spPr>
          <a:xfrm>
            <a:off x="900000" y="2852640"/>
            <a:ext cx="7620120" cy="3524400"/>
          </a:xfrm>
          <a:prstGeom prst="rect">
            <a:avLst/>
          </a:prstGeom>
          <a:ln w="0">
            <a:noFill/>
          </a:ln>
        </p:spPr>
      </p:pic>
      <p:sp>
        <p:nvSpPr>
          <p:cNvPr id="8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то такое парниковый эффек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арниковый эффект. Как он действуе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арниковые газ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лияние парникового эффекта на климат Земл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янье ледников- индикатор потепления клима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иотский протоко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4  мифов о глобальном потеплен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2" name="WordArt 4"/>
          <p:cNvSpPr txBox="1"/>
          <p:nvPr/>
        </p:nvSpPr>
        <p:spPr>
          <a:xfrm>
            <a:off x="1835280" y="549360"/>
            <a:ext cx="5329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держание презентаци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ff"/>
                </a:solidFill>
                <a:latin typeface="Tahoma"/>
              </a:rPr>
              <a:t>Человек с древних времен склонен верить мифам. Часть из них не лишена логики, но все таки большая половина оказывается полным бредом. То же самое и с </a:t>
            </a:r>
            <a:r>
              <a:rPr b="1" lang="en-US" sz="1600" spc="-1" strike="noStrike">
                <a:solidFill>
                  <a:srgbClr val="3399ff"/>
                </a:solidFill>
                <a:latin typeface="Tahoma"/>
              </a:rPr>
              <a:t>глобальным потеплением</a:t>
            </a:r>
            <a:r>
              <a:rPr b="0" lang="en-US" sz="1600" spc="-1" strike="noStrike">
                <a:solidFill>
                  <a:srgbClr val="3399ff"/>
                </a:solidFill>
                <a:latin typeface="Tahoma"/>
              </a:rPr>
              <a:t>. Вот распространенные заблуждения, связанные с ним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). Глобального потепления вообще не происходи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К сожалению происходит. Наукой не раз доказано, а фактами подтверждено, что температура быстро раст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). Глобальное потепление - естественный процес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корее всего нет (повышение температуры, особенно с 70-х годов, намного превышают естественные изменения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). В любом случае последствия будут постепенны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ильные штормы становятся все чаще, а историей доказано, резкое изменение климатических условий может наступить внезапно, буквально за несколько л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5" name="Picture 4" descr="eart-on-fire"/>
          <p:cNvPicPr/>
          <p:nvPr/>
        </p:nvPicPr>
        <p:blipFill>
          <a:blip r:embed="rId1"/>
          <a:stretch/>
        </p:blipFill>
        <p:spPr>
          <a:xfrm>
            <a:off x="6300720" y="4869000"/>
            <a:ext cx="2266920" cy="1989000"/>
          </a:xfrm>
          <a:prstGeom prst="rect">
            <a:avLst/>
          </a:prstGeom>
          <a:ln w="0">
            <a:noFill/>
          </a:ln>
        </p:spPr>
      </p:pic>
      <p:sp>
        <p:nvSpPr>
          <p:cNvPr id="8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). Глобальное потепление приведет к всемирному потоп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Если потепление будет идти теми же темпами, то уровень мирового океана поднимется на 1 метр. Если же допустить, что все ледники растают, что конечно же невозможно, то вода поднимется на 10 метров. И если учесть, что средняя высота суши над уровнем океана - 840 метров, то переживать так сильно по поводу затопления не стои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5). Глобальное потепление - единственная причина резких, непредсказуемых изменений пого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Далеко не единственная. Существует ряд естественных, циклических процессов, к которым глобальное потепление не имеет никакого отношения. И именно они являются тем, что может вызвать резкое потепление или похолодание. Такими факторами могут послужить океанские течения, циклоны, изменение магнитного поля Земли и просто совпад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9" name="Picture 5" descr="small-gletscher"/>
          <p:cNvPicPr/>
          <p:nvPr/>
        </p:nvPicPr>
        <p:blipFill>
          <a:blip r:embed="rId1"/>
          <a:stretch/>
        </p:blipFill>
        <p:spPr>
          <a:xfrm>
            <a:off x="6248520" y="4952880"/>
            <a:ext cx="2895480" cy="1905120"/>
          </a:xfrm>
          <a:prstGeom prst="rect">
            <a:avLst/>
          </a:prstGeom>
          <a:ln w="0">
            <a:noFill/>
          </a:ln>
        </p:spPr>
      </p:pic>
      <p:sp>
        <p:nvSpPr>
          <p:cNvPr id="8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6). Выбросы углекислого газа слишком незначительны, чтобы спровоцировать глобальное потепление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Хотелось бы верить, но пока факты это отрицают. По статистическим данным, которым можно доверять были построены графики концентрации углекислого газа в атмосфере и температуры в это время. Они совпадаю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7). Из-за глобального потепления температура скоро вырастет настолько, что мы все погибнем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е настолько и не скоро. За последние 100 лет температура выросла на 0,7°С, - 1° С. И по самым смелым прогнозам в ближайшие 100 лет может вырасти еще на 4,6° С, но скорее всего это увеличение не превысит 2°С. С меньшей вероятностью, но есть модели, предсказывающие да же похолодани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8). От глобального потепления мы получим только выгод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некоторых районах можно будет порадоваться необычно теплой погодой, но цена негативных последствий превысит любые выгоды. Число болезней и смертей из-за жары выраст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3" name="Picture 4" descr="sity-on-smoge"/>
          <p:cNvPicPr/>
          <p:nvPr/>
        </p:nvPicPr>
        <p:blipFill>
          <a:blip r:embed="rId1"/>
          <a:stretch/>
        </p:blipFill>
        <p:spPr>
          <a:xfrm>
            <a:off x="5003640" y="4952880"/>
            <a:ext cx="3009960" cy="1905120"/>
          </a:xfrm>
          <a:prstGeom prst="rect">
            <a:avLst/>
          </a:prstGeom>
          <a:ln w="0">
            <a:noFill/>
          </a:ln>
        </p:spPr>
      </p:pic>
      <p:sp>
        <p:nvSpPr>
          <p:cNvPr id="8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9). Сельскому хозяйству это будет только на рук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глекислый газ может повысить урожайность ряда культур, но так же возрастет и количество сорняков и вредителей. Растения не смогут хорошо расти на том же месте из-за климатического сдвиг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0). Правительство о нас позаботитс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омимо прянятия Киотского протокола (который только ограничивает выбросы) несколькими странами, исключая США (крупнейший источник вредным выбросов) больше ничего сделано не было. Правительства боятся экономических последствий борьбы с глобальным потепление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1). Проблема не так серьезна, как национальная безопасност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у как посмотреть. Если учесть, что потепление затронет каждого жителя планеты (при чем больно ударив по нему), то думаю будет посерьезн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2). Причины глобального потепления известны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Многие верят, что в глобальном потеплении полностью виновен человек и что только остановив промышленную деятельность, можно избежать катастрофы. В действительности же проблема изменения климата настолько нова, что сейчас невозможно с точностью сказать о ее причинах. То, что оно происходит - это факт, но то что это результат антропогенной деятельности человека далеко не единственная версия. Так, например, существует версия, что это результат естественных процессов, происходящих в системе Солнце - Земля - Космо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3). Мы знаем, как бороться с глобальным потеплением, у нас есть технолог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Стратегический план находится в разработке. Существует несколько масштабных вариантов борьбы с глобальным потеплением, но все они из области фантастики, да и требуют колоссальных вложений, сравнимых с бюджетом США, но лучше много мелких изменений, чем одно большо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4). Мы не можем ничего с этим подела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аждый уже сейчас может внести свой вклад в борьбу с глобальным потеплением хотя бы просто соблюдая рационализм в своей потребительской деятельност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заключении хочется отметить, что существует версия, о том, что влияние парникового эффекта на глобальное  потепление климата не так значительно, а нынешнее потепление – это лишь очередной этап в циклическом изменении климата нашей планеты. Ведь не стоит забывать, что по геологическим меркам последний ледниковый период на Земле был не так уж и дав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парниковый эффект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арнико́вый эффе́к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— повыше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ператур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нижних слоёв атмосферы планеты по сравнению с эффективной температурой, т. е. температурой теплового излучения планеты, наблюдаемого из космос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арниковый эффект. Как это происходит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9" name="Picture 4" descr="CLIMATE_CHANGE"/>
          <p:cNvPicPr/>
          <p:nvPr/>
        </p:nvPicPr>
        <p:blipFill>
          <a:blip r:embed="rId1"/>
          <a:stretch/>
        </p:blipFill>
        <p:spPr>
          <a:xfrm>
            <a:off x="684360" y="3213000"/>
            <a:ext cx="7775280" cy="3456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6" descr="Picture2"/>
          <p:cNvPicPr/>
          <p:nvPr/>
        </p:nvPicPr>
        <p:blipFill>
          <a:blip r:embed="rId2"/>
          <a:stretch/>
        </p:blipFill>
        <p:spPr>
          <a:xfrm>
            <a:off x="684360" y="1197000"/>
            <a:ext cx="7775280" cy="2016000"/>
          </a:xfrm>
          <a:prstGeom prst="rect">
            <a:avLst/>
          </a:prstGeom>
          <a:ln w="0">
            <a:noFill/>
          </a:ln>
        </p:spPr>
      </p:pic>
      <p:sp>
        <p:nvSpPr>
          <p:cNvPr id="781" name="Text Box 7"/>
          <p:cNvSpPr/>
          <p:nvPr/>
        </p:nvSpPr>
        <p:spPr>
          <a:xfrm>
            <a:off x="1619280" y="1557360"/>
            <a:ext cx="6553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Накопление углекислого газа в атмосфере - одна из основных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ричин парникового эффекта. Углекислый газ действует в атмосфере, как стекло в оранжерее: он пропускает солнечную радиацию и не пропускает обратно в космос инфракрасное (тепловое) излучение Земл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4" name="Picture 3" descr="Air_4"/>
          <p:cNvPicPr/>
          <p:nvPr/>
        </p:nvPicPr>
        <p:blipFill>
          <a:blip r:embed="rId1"/>
          <a:stretch/>
        </p:blipFill>
        <p:spPr>
          <a:xfrm>
            <a:off x="468360" y="33336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7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арниковые газы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Водяной пар — основной естественный парниковый газ, ответственный более, чем за 60 % эффек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Углекислый газ (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CO2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сточниками углекислого газа в атмосфере Земли являются вулканические выбросы, жизнедеятельность организмов, деятельность чело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Метан (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CH4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- о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сновными антропогенными источниками метана являются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ищеварительная ферментация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у скота,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рисоводство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, горение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биомассы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(в т. ч. сведение лесов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зон (О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ксид углерода (С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фрео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8" name="Picture 4" descr="140px-Carbon-dioxide-3D-vdW"/>
          <p:cNvPicPr/>
          <p:nvPr/>
        </p:nvPicPr>
        <p:blipFill>
          <a:blip r:embed="rId4"/>
          <a:stretch/>
        </p:blipFill>
        <p:spPr>
          <a:xfrm>
            <a:off x="539640" y="5013360"/>
            <a:ext cx="1333440" cy="87624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5" descr="100px-Methane-3D-space-filling"/>
          <p:cNvPicPr/>
          <p:nvPr/>
        </p:nvPicPr>
        <p:blipFill>
          <a:blip r:embed="rId5"/>
          <a:stretch/>
        </p:blipFill>
        <p:spPr>
          <a:xfrm>
            <a:off x="3995640" y="5157720"/>
            <a:ext cx="952560" cy="7923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6" descr="200px-Ozone_molecule_ball_and_stick"/>
          <p:cNvPicPr/>
          <p:nvPr/>
        </p:nvPicPr>
        <p:blipFill>
          <a:blip r:embed="rId6"/>
          <a:stretch/>
        </p:blipFill>
        <p:spPr>
          <a:xfrm>
            <a:off x="7164360" y="5229360"/>
            <a:ext cx="1368360" cy="79200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7" descr="140px-Carbon-dioxide-2D-dimensions"/>
          <p:cNvPicPr/>
          <p:nvPr/>
        </p:nvPicPr>
        <p:blipFill>
          <a:blip r:embed="rId7"/>
          <a:stretch/>
        </p:blipFill>
        <p:spPr>
          <a:xfrm>
            <a:off x="539640" y="5950080"/>
            <a:ext cx="1333440" cy="68580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8" descr="100px-Methane-2D"/>
          <p:cNvPicPr/>
          <p:nvPr/>
        </p:nvPicPr>
        <p:blipFill>
          <a:blip r:embed="rId8"/>
          <a:stretch/>
        </p:blipFill>
        <p:spPr>
          <a:xfrm>
            <a:off x="4932360" y="5589720"/>
            <a:ext cx="952560" cy="1000080"/>
          </a:xfrm>
          <a:prstGeom prst="rect">
            <a:avLst/>
          </a:prstGeom>
          <a:ln w="0">
            <a:noFill/>
          </a:ln>
        </p:spPr>
      </p:pic>
      <p:sp>
        <p:nvSpPr>
          <p:cNvPr id="7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лияние парникового эффекта на климат Земли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95" name="Picture 4" descr="Picture3"/>
          <p:cNvPicPr/>
          <p:nvPr/>
        </p:nvPicPr>
        <p:blipFill>
          <a:blip r:embed="rId1"/>
          <a:stretch/>
        </p:blipFill>
        <p:spPr>
          <a:xfrm>
            <a:off x="250920" y="1628640"/>
            <a:ext cx="8569080" cy="504036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5"/>
          <p:cNvSpPr/>
          <p:nvPr/>
        </p:nvSpPr>
        <p:spPr>
          <a:xfrm>
            <a:off x="1187280" y="242100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Text Box 7"/>
          <p:cNvSpPr/>
          <p:nvPr/>
        </p:nvSpPr>
        <p:spPr>
          <a:xfrm>
            <a:off x="1116000" y="2492280"/>
            <a:ext cx="712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Ещё в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1827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году французский физик Жозеф Фурье предположил, что атмосфера земли выполняет функцию своего рода стекла в теплице: воздух пропускает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солнечное тепло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не давая ему при этом испариться обратно в космос. Этот эффект достигается благодаря некоторым атмосферным газам второстепенного значения, каковыми являются, например, водяные испарения и углекислый газ. Они пропускают видимый и «ближний» инфракрасный свет, излучаемый солнцем, но поглощают «далекое» инфракрасное излучение, имеющее более низкую частоту и образующееся при нагревании земной поверхности солнечными лучами. Если бы этого не происходило, Земля была бы примерно на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30 градусов холоднее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чем сейчас, и жизнь бы на ней практически замерл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6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нако, з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 последние 100 лет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вязи с активной деятельностью человек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доля двуокиси углерода имеет тенденцию роста приблизительно на 25% и средняя температура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земли повысилась н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,7º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Земля нагревается однако неравномерно, температуры на полюсах увеличиваются более экстремально, чем в других областях земли. Если эта тенденция не остановится, то наступят климатические изменения – более долгие периоды засухи, интенсивное выпадение осадков и более мощные ураганы – уровень моря может подняться. Плодородные регионы побережья станут жертвой моря и будут затоплены. Может возникнуть угроза голода и миграции народов с губительными социальными последствиями.  Климат Земли грозит нам еще большими неприятностями, нежели те, что он преподнес в последние годы - катастрофические ураганы, бурные наводнения и жестокие засухи. Они, вероятно, будут повторяться все чаще и станут разрушительнее. Продолжаться это будет до тех пор, пока человечество не найдет способ значительно уменьшить содержание парниковых газов разогревающих атмосфер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: основным следствием парникового эффекта является глобальное поте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7:48:18Z</dcterms:created>
  <dc:creator> juri</dc:creator>
  <dc:description>ppt.3dn.ru</dc:description>
  <dc:language>en-US</dc:language>
  <cp:lastModifiedBy>LEGION</cp:lastModifiedBy>
  <dcterms:modified xsi:type="dcterms:W3CDTF">2015-05-06T08:07:56Z</dcterms:modified>
  <cp:revision>29</cp:revision>
  <dc:subject/>
  <dc:title>Потепление клима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a000000000001024140</vt:lpwstr>
  </property>
  <property fmtid="{D5CDD505-2E9C-101B-9397-08002B2CF9AE}" pid="3" name="Version">
    <vt:r8>6</vt:r8>
  </property>
</Properties>
</file>