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wmf" ContentType="image/x-wmf"/>
  <Override PartName="/ppt/media/image6.jpeg" ContentType="image/jpeg"/>
  <Override PartName="/ppt/media/image5.wmf" ContentType="image/x-wmf"/>
  <Override PartName="/ppt/media/image10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11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5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6A60D-C5FD-4C49-9FD2-259572C85C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0;&#1086;&#1090;&#1086;" TargetMode="External"/><Relationship Id="rId2" Type="http://schemas.openxmlformats.org/officeDocument/2006/relationships/hyperlink" Target="http://ru.wikipedia.org/wiki/&#1071;&#1087;&#1086;&#1085;&#1080;&#1103;" TargetMode="External"/><Relationship Id="rId3" Type="http://schemas.openxmlformats.org/officeDocument/2006/relationships/slide" Target="../slides/slide17.xml"/><Relationship Id="rId4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55;&#1080;&#1097;&#1077;&#1074;&#1072;&#1088;&#1080;&#1090;&#1077;&#1083;&#1100;&#1085;&#1072;&#1103;_&#1092;&#1077;&#1088;&#1084;&#1077;&#1085;&#1090;&#1072;&#1094;&#1080;&#1103;&amp;action=edit" TargetMode="External"/><Relationship Id="rId2" Type="http://schemas.openxmlformats.org/officeDocument/2006/relationships/hyperlink" Target="http://ru.wikipedia.org/w/index.php?title=&#1056;&#1080;&#1089;&#1086;&#1074;&#1086;&#1076;&#1089;&#1090;&#1074;&#1086;&amp;action=edit" TargetMode="External"/><Relationship Id="rId3" Type="http://schemas.openxmlformats.org/officeDocument/2006/relationships/hyperlink" Target="http://ru.wikipedia.org/wiki/&#1041;&#1080;&#1086;&#1084;&#1072;&#1089;&#1089;&#1072;" TargetMode="External"/><Relationship Id="rId4" Type="http://schemas.openxmlformats.org/officeDocument/2006/relationships/slide" Target="../slides/slide6.xml"/><Relationship Id="rId5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6E886-7295-45CB-8EF3-9E40AE30CA8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Последствия парникового эффекта для Зем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озможные последствия глобального потепления климата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не можем точно сказать к каким изменениям климата может привести глобальное потепление. Однако, п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 мнению многих ученых, если сохранится тенденция глобального потепления, это приведет к изменению погоды и увеличению количества осадков, что, в свою очередь, приведет к подъему уровня Mирового океан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ак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США и бывшем СССР последние 30-40 лет выпадает осадков на 10 процентов больше, чем в прошл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то же время, количество осадков над экватором сократилась на те же десять процент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BC773-432F-488A-9C80-82DAD188F71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озможные последствия глобального потепления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лим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альнейшее изменение в системе выпадения осадков окажет огромное воздействие на сельское хозяйство, смещая зоны возделывания культур в северные районы Северной Америки и Евразии. Наиболее благоприятные условия для выращивания культур сложатся в сельскохозяйственных регионах России и обильные осадки будут выпадать в Северной Африке, где засуха продолжается с 1970-го года. Кроме того, повышение температуры увеличит испарение влаги с поверхности океана. Это приведет к увеличению выпадения осадков на 11 процент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следствия потепления климата будут ощущаться на Северном и Южном полюсах, где увеличившаяся температура приведет к подтаиванию ледников. По расчетам ученых увеличение температуры на 10 градусов по Цельсию, вызовет повышение уровн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рового океана на 5-6 метров, что приведет к затоплению многих прибрежных территорий во всем мир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D9F90-FA8E-4691-B67F-8AEAD416149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Уже сегодня мы сталкиваемся с участившимися климатическими  аномалиями. Это и всё более сильные ураганы и штормы, наводнения, засуха, выпадание снега там, где его никогда не ждали, необычайно тёплые зимы в северных широт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F7EBC-BABC-407E-9F06-C776EB0C0BA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янье ледников- индикатор потепления клима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иболее чувствительными к потеплению климата являются ледни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Ледник Упсала в Патагонии (Аргентина) был одним из самых больших ледников Южной Америки, но теперь исчезает на 200 метров в год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A2792-BFF5-4AD7-8E02-77D12458ABE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янье ледников- индикатор потепления клима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D75BB-2059-487C-8108-151E313B595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янье ледников- индикатор потепления клима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B71FF-1811-4763-BE13-250B65B89F8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иотский протоко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лема влияния парникового эффекта на климат земли является одной из важнейших задач, требующих скорейшего решения. Начальным этапом решения проблемы стали международные договорённости по сокращению выбросов парниковых газов в атмосфер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75247-8AF8-4060-9B1A-E93E521DB79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иотский протоко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Киотский протоко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— международный документ, принятый в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Киот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Япони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в декабре 1997 года в дополнение к Рамочной конвенции ООН об изменении климата . Период подписания протокола открылся 16 марта 1998 года и завершился 15 марта 199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B63D8-716F-48F5-A260-4F8AA986024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Детали соглаш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иотский протокол стал первым глобальным соглашением об охране окружающей среды, основанным на рыночных механизмах регулирования — механизме международной торговли квотами на выбросы парниковых газ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траны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ниц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Протокола определили для себя количественные обязательства по ограничению либо сокращению выбросов на период с 1 января 2008 до 31 декабря 2012 года. Цель ограничений — снизить в этот период совокупный средний уровень выбросов 6 типов газов (CO2, CH4,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гидрофторуглеводороды, </a:t>
            </a: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перфторуглеводород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N2O, SF6) на 5,2 % по сравнению с уровнем 1990 г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03768-3DE5-410D-9983-CFC514E34B9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еография Киотского протоко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 состоянию на 14 февраля 2006 года Протокол был ратифицирован 161 страной мира (совокупно ответственными за более чем 61 % общемировых выбросов). Заметным исключением из этого списка являются СШ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3CA03-89F0-4F01-ABDB-37DE425FB9D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презен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парниковый эффек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рниковый эффект. Как он действуе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рниковые газ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ияние парникового эффекта на климат Зем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янье ледников- индикатор потепления клима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иотский протоко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  мифов о глобальном потепле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80B54-9D43-43A7-AE7B-28AC832E11E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 мифов о глобальном потеплен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99ff"/>
                </a:solidFill>
                <a:latin typeface="Arial"/>
              </a:rPr>
              <a:t>Человек с древних времен склонен верить мифам. Часть из них не лишена логики, но все таки большая половина оказывается полным бредом. То же самое и с </a:t>
            </a:r>
            <a:r>
              <a:rPr b="1" lang="en-US" sz="1200" spc="-1" strike="noStrike">
                <a:solidFill>
                  <a:srgbClr val="3399ff"/>
                </a:solidFill>
                <a:latin typeface="Arial"/>
              </a:rPr>
              <a:t>глобальным потеплением</a:t>
            </a:r>
            <a:r>
              <a:rPr b="0" lang="en-US" sz="1200" spc="-1" strike="noStrike">
                <a:solidFill>
                  <a:srgbClr val="3399ff"/>
                </a:solidFill>
                <a:latin typeface="Arial"/>
              </a:rPr>
              <a:t>. Вот распространенные заблуждения, связанные с ним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). Глобального потепления вообще не происходит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К сожалению происходит. Наукой не раз доказано, а фактами подтверждено, что температура быстро растет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). Глобальное потепление - естественный процесс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Скорее всего нет (повышение температуры, особенно с 70-х годов, намного превышают естественные изменения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). В любом случае последствия будут постепенными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Сильные штормы становятся все чаще, а историей доказано, резкое изменение климатических условий может наступить внезапно, буквально за несколько лет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C0717-AE1B-4830-970B-5FFC95AF6A4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4 мифов о глобальном потепле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). Глобальное потепление приведет к всемирному потоп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Если потепление будет идти теми же темпами, то уровень мирового океана поднимется на 1 метр. Если же допустить, что все ледники растают, что конечно же невозможно, то вода поднимется на 10 метров. И если учесть, что средняя высота суши над уровнем океана - 840 метров, то переживать так сильно по поводу затопления не стои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). Глобальное потепление - единственная причина резких, непредсказуемых изменений пог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алеко не единственная. Существует ряд естественных, циклических процессов, к которым глобальное потепление не имеет никакого отношения. И именно они являются тем, что может вызвать резкое потепление или похолодание. Такими факторами могут послужить океанские течения, циклоны, изменение магнитного поля Земли и просто совпа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9E85A-AA8A-4CC9-A3CB-7A7B1EF8F1E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4 мифов о глобальном потепле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). Выбросы углекислого газа слишком незначительны, чтобы спровоцировать глобальное потепление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Хотелось бы верить, но пока факты это отрицают. По статистическим данным, которым можно доверять были построены графики концентрации углекислого газа в атмосфере и температуры в это время. Они совпадаю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). Из-за глобального потепления температура скоро вырастет настолько, что мы все погибнем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е настолько и не скоро. За последние 100 лет температура выросла на 0,7°С, - 1° С. И по самым смелым прогнозам в ближайшие 100 лет может вырасти еще на 4,6° С, но скорее всего это увеличение не превысит 2°С. С меньшей вероятностью, но есть модели, предсказывающие да же похолода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). От глобального потепления мы получим только выгод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некоторых районах можно будет порадоваться необычно теплой погодой, но цена негативных последствий превысит любые выгоды. Число болезней и смертей из-за жары выраст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9B7F5-D9A9-4932-BB7E-19FE6A3C8D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4 мифов о глобальном потепле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). Сельскому хозяйству это будет только на ру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Углекислый газ может повысить урожайность ряда культур, но так же возрастет и количество сорняков и вредителей. Растения не смогут хорошо расти на том же месте из-за климатического сдвиг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). Правительство о нас позаботи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мимо прянятия Киотского протокола (который только ограничивает выбросы) несколькими странами, исключая США (крупнейший источник вредным выбросов) больше ничего сделано не было. Правительства боятся экономических последствий борьбы с глобальным потеплени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1). Проблема не так серьезна, как национальная безопас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у как посмотреть. Если учесть, что потепление затронет каждого жителя планеты (при чем больно ударив по нему), то думаю будет посерьезне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). Причины глобального потепления известны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ногие верят, что в глобальном потеплении полностью виновен человек и что только остановив промышленную деятельность, можно избежать катастрофы. В действительности же проблема изменения климата настолько нова, что сейчас невозможно с точностью сказать о ее причинах. То, что оно происходит - это факт, но то что это результат антропогенной деятельности человека далеко не единственная версия. Так, например, существует версия, что это результат естественных процессов, происходящих в системе Солнце - Земля - Космо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B2DA0-4A4C-47B4-8A63-0244F34E0DB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 мифов о глобальном потепл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3). Мы знаем, как бороться с глобальным потеплением, у нас есть технолог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тратегический план находится в разработке. Существует несколько масштабных вариантов борьбы с глобальным потеплением, но все они из области фантастики, да и требуют колоссальных вложений, сравнимых с бюджетом США, но лучше много мелких изменений, чем одно больш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4). Мы не можем ничего с этим подела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аждый уже сейчас может внести свой вклад в борьбу с глобальным потеплением хотя бы просто соблюдая рационализм в своей потребительской деятель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7B29E-40E2-4289-9340-C95196F7E61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аключении хочется отметить, что существует версия, о том, что влияние парникового эффекта на глобальное  потепление климата не так значительно, а нынешнее потепление – это лишь очередной этап в циклическом изменении климата нашей планеты. Ведь не стоит забывать, что по геологическим меркам последний ледниковый период на Земле был не так уж и дав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D2B32-4358-4285-BCCB-56BE163F568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парниковый эффек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арнико́вый эффе́к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— повышение температуры нижних слоёв атмосферы планеты по сравнению с эффективной температурой, т. е. температурой теплового излучения планеты, наблюдаемого из космос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5D034-0F1C-4810-B87B-6DD54E9B045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рниковый эффект. Как это происходи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акопление углекислого газа в атмосфере - одна из основных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ичин парникового эффекта. Углекислый газ действует в атмосфере, как стекло в оранжерее: он пропускает солнечную радиацию и не пропускает обратно в космос инфракрасное (тепловое) излучение Земл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A8FCC-B962-470D-AC38-DC8B8AFA562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никовые га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Водяной пар — основной естественный парниковый газ, ответственный более, чем за 60 % эффек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Углекислый газ (</a:t>
            </a:r>
            <a:r>
              <a:rPr b="0" lang="en-US" sz="1100" spc="-1" strike="noStrike">
                <a:solidFill>
                  <a:srgbClr val="009999"/>
                </a:solidFill>
                <a:latin typeface="Arial"/>
              </a:rPr>
              <a:t>CO2</a:t>
            </a:r>
            <a:r>
              <a:rPr b="0" lang="ru-RU" sz="1100" spc="-1" strike="noStrike">
                <a:solidFill>
                  <a:srgbClr val="009999"/>
                </a:solidFill>
                <a:latin typeface="Arial"/>
              </a:rPr>
              <a:t>)</a:t>
            </a: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- </a:t>
            </a:r>
            <a:r>
              <a:rPr b="0" lang="ru-RU" sz="1100" spc="-1" strike="noStrike">
                <a:solidFill>
                  <a:srgbClr val="009999"/>
                </a:solidFill>
                <a:latin typeface="Arial"/>
              </a:rPr>
              <a:t>и</a:t>
            </a:r>
            <a:r>
              <a:rPr b="0" lang="en-US" sz="1100" spc="-1" strike="noStrike">
                <a:solidFill>
                  <a:srgbClr val="009999"/>
                </a:solidFill>
                <a:latin typeface="Arial"/>
              </a:rPr>
              <a:t>сточниками углекислого газа в атмосфере Земли являются вулканические выбросы, жизнедеятельность организмов, деятельность человек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Метан (</a:t>
            </a:r>
            <a:r>
              <a:rPr b="0" lang="en-US" sz="1100" spc="-1" strike="noStrike">
                <a:solidFill>
                  <a:srgbClr val="009999"/>
                </a:solidFill>
                <a:latin typeface="Arial"/>
              </a:rPr>
              <a:t>CH4</a:t>
            </a:r>
            <a:r>
              <a:rPr b="0" lang="ru-RU" sz="1100" spc="-1" strike="noStrike">
                <a:solidFill>
                  <a:srgbClr val="009999"/>
                </a:solidFill>
                <a:latin typeface="Arial"/>
              </a:rPr>
              <a:t>)</a:t>
            </a: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- о</a:t>
            </a: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сновными антропогенными источниками метана являются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пищеварительная ферментация</a:t>
            </a: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 у скота,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рисоводство</a:t>
            </a: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, горение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биомассы</a:t>
            </a: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 (в т. ч. сведение лесов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Озон (О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Оксид углерода (С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фрео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7BE01-FC10-4257-A9B5-AAB11AE537D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лияние парникового эффекта на климат Земл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Ещё в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827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году французский физик Жозеф Фурье предположил, что атмосфера земли выполняет функцию своего рода стекла в теплице: воздух пропускае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олнечное тепл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не давая ему при этом испариться обратно в космос. Этот эффект достигается благодаря некоторым атмосферным газам второстепенного значения, каковыми являются, например, водяные испарения и углекислый газ. Они пропускают видимый и «ближний» инфракрасный свет, излучаемый солнцем, но поглощают «далекое» инфракрасное излучение, имеющее более низкую частоту и образующееся при нагревании земной поверхности солнечными лучами. Если бы этого не происходило, Земля была бы примерно на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0 градусов холодне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чем сейчас, и жизнь бы на ней практически замер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E3025-8E92-42FD-B743-B5C564738CA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лияние парникового эффекта на климат Зем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ако, з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 последние 100 лет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вязи с активной деятельностью человек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доля двуокиси углерода имеет тенденцию роста приблизительно на 25% и средняя температура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земли повысилась на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,7º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Земля нагревается однако неравномерно, температуры на полюсах увеличиваются более экстремально, чем в других областях земли. Если эта тенденция не остановится, то наступят климатические изменения – более долгие периоды засухи, интенсивное выпадение осадков и более мощные ураганы – уровень моря может подняться. Плодородные регионы побережья станут жертвой моря и будут затоплены. Может возникнуть угроза голода и миграции народов с губительными социальными последствиями.  Климат Земли грозит нам еще большими неприятностями, нежели те, что он преподнес в последние годы - катастрофические ураганы, бурные наводнения и жестокие засухи. Они, вероятно, будут повторяться все чаще и станут разрушительнее. Продолжаться это будет до тех пор, пока человечество не найдет способ значительно уменьшить содержание парниковых газов разогревающих атмосфер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87092-5B89-4430-B6D4-26C904118F2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Влияние парникового эффекта на климат Зем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так: основным следствием парникового эффекта является глобальное потеп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1B866-7856-4125-82A5-DF5759BEAB0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0FE4-4E23-4F0D-9643-232C99BCB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9FD8-201F-478B-B703-BF3FD6F31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E73ADBC-E383-4150-9721-11665A728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56C2EB7-3B75-4D6E-B0D8-89584FC67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E925901-3780-4369-91EB-02D97A34B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9405F95-C47E-4787-9D69-2B3D66FA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8D86DB8-086A-4AA8-9061-513C57A83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D1890BB-0E94-46E7-A061-C7C982A1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14CE8C-67B1-4434-844C-650EC578A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CC6954E-0AB0-4A28-9964-7F17053FC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1DB9599-AEA8-4CBE-B961-A97183021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316F41-B939-4C4B-843C-FF11E65A1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89B6-FC26-4A09-A482-A9CCFC208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E39DB1-3C36-43DB-87D6-A9EAFAF54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8DC50C-0FDA-40DE-B68F-75E84D703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9C9DAB-0D44-4249-B8E9-B0653622D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ED5EBE-80B9-4BBD-A8FC-78EE3BDC7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805D32-BC46-4951-8B36-BDDFB9194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957A11-D003-489A-96E7-588DDFB28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1EB398-CE33-43E7-9419-130CB696C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342F44-9332-4487-97AF-E6504162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11C7B3-4897-4353-ADA2-FD1B214A1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D133D4-C3B9-4E41-B0C0-B0F2DC164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4B38-8C15-49C7-9D3F-B4D4FCC67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A51003-57A0-4435-832A-C0F4209C4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19B5C3-9E26-404F-AE61-5091C8AEF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37AA22-1870-4CC9-9861-40AF058CA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60E1E2-5E32-4812-868E-0BBB3D4AD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C57E3D-CC87-4329-89B3-EF2C43587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F482C4-8AAD-408B-B1B8-E5B5B403A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3AC6B9-08CC-4F24-A881-9F334B574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EA2E3A-35E1-4388-B5DC-20BD30A1C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FB62A0-D470-49F4-8559-FD637CB8A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A3B38D-2938-4CB8-8618-3233607A7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5206C-CB13-4A48-B4F4-FDCC7F0AB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60BA3D-9162-4C90-A41D-A7E44E346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C5DD81-5754-46C8-B1F4-D4A1741EF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C72685-DE63-4E62-8123-08E6F83C2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AFFFBF-5B4B-4300-88BF-E1CB13171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69F0B1-14A5-4293-A50B-2F503C17A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6BA76E-B615-4C0B-87D7-E7425C2B0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E41FFB-5806-4CDD-8D53-B2E8B17E7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FC14DC-011A-4047-9571-5742A5E0E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BE6ECB-CE5B-457E-8F13-9022EC462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859001-5531-443B-9E14-E7D2CBA9E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0F353-9EC6-4619-8086-60B50F45E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6B6FB2-998C-47F1-B938-28218382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E3983E-4E6B-405F-B829-39C7F9D0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E292D0-7723-49C7-98B0-32F4EA90E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D97281-98E9-4B8C-93D4-B28BCA8D0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D11526-5EFA-4B0A-933B-CF1D9F629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A5B57A-8577-4206-80C0-03592499D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D5F8BC-F551-429F-B5AD-B38522861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BD68C6-DC8C-4671-9921-1F175F03F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8D8332-0983-47FB-A633-C7ED6985B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1A16CE-1130-4FE2-8EA4-F21A9401F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49047-2308-4996-9E72-54A540D26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C67F2B-CB8E-4CFF-B86E-6123CFD36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A07F13-3CB6-4F96-BF9E-DCE40C400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394385-6670-4139-AF51-DE91BEBD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92D52E-A7B3-4E86-8F51-394E72440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A777CA-FE77-41A5-B210-299AD155B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019436-A394-4916-9C98-6BC4AD027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E0BBC0-AF77-4B00-965E-951AA32D1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D3BF23-39E4-41BF-A2E7-620BE2E99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74542F-4E9D-48A1-833F-EEE3A997F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3FB748-C01F-4D79-B265-6E8704AA0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E5043-52E7-4180-8DB4-3321A2D9E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E52C70-AB09-42D9-9A35-666764AA6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10B9ED-C2FE-4998-80F2-1A8DDCDC6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C928FF-6BD0-49DB-806E-EE8DA03FB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2E2EE8-EEFA-470C-9C91-777F0183F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8329F5-AB4C-432F-B64F-0F9B11779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BC2CB8-D5C6-4C21-A8D7-BD2B44A60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2CECBF-9DF4-48C8-84B0-C233D4017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07E66B-6484-46C4-9B36-8DF54F854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8CDC36-C834-49C3-A4E1-4EB8E34F2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12478-0C7D-433E-B9C3-43691F26A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81565-B862-4A96-9C54-DBA265F33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52B5D-2872-4D88-B551-C3CF4632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EC4A-8601-4111-92C1-F589C4285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6350F-5978-4E52-BC09-4AB82D34F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007D1-6A84-46CD-ACE2-C11DB72C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85142-BF6F-44F1-93B7-64114391B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83D1A-F4AF-4807-AC9D-F19AB879A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37397-0974-4EBE-BDFA-AE9D1A65A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C8E84-775C-4D64-A092-48557E8C7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CD584-4518-4D6C-ABB2-9E43E7A9D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BFE97-0AC2-408D-BB01-6748EE3E7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6BCFE-FF62-4237-B9C2-20228F606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56EBA-13C5-465A-9440-7AD61752F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FFE9-7747-4968-9CD3-F254F0D3C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8ED3D-1781-403F-8D50-D353D1975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ECE64-C9D7-48C5-837D-97A2C3624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5B512-B47F-4BCF-9626-8E54F261D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4E5D5-73A9-439B-BD39-52B53E295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96C0C-EEE1-4ABF-B95D-21466EE6B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AF5F7-1A6D-4C19-A361-D8800B46A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1675A-A33E-44C5-A5F0-4415DE1F0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5FC582-7C37-4616-B2F0-EC06868C6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D55C4D-BCC9-41DA-A174-2E1CD3AA8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0A256A-F1FF-446A-BF25-EBE348EE4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E3B7-3FED-44F0-9CB1-18E94F48C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90A1E8-4337-4E80-B6C8-FC1096485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A722DE-3EF3-4A5A-A830-2C17EA335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2511C9-8B58-4BEB-A826-5D02768F1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2F490E-A7ED-4120-91A8-2461CCC8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64B1A3-D3D1-4C71-BCFC-EF3F10DAB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330370-FCF5-43A5-B266-A891CBA6C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B6916E-1F72-4A56-8B9D-CB2DCDBF0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7A2511-A427-497F-BCEF-DE31E533B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66C8DF-E896-452C-A4E0-62F444BC1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AA599E-B6A4-4055-88E5-7B5E4C2F4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81DA-7D91-492D-85D4-D45EE3693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03A214-C69C-4A0F-9C84-8F3E83526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485C88-3738-4138-B239-BFF962802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B6264E-B37E-4ED4-8374-76351F1A4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0779E4-6816-4274-B594-EC9978C1D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D650A0-6C26-4764-83C6-754BFB1BA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6FC8B-9B80-4A0A-9D96-28F35762F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500F3B-C26C-48A2-965B-B0EE937E6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B55134-7948-47AF-BBBA-D356B37C8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E018D-CDFC-407D-9A37-71EC64A9A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895EE6-ACFB-4D54-B384-B25D8D227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8491-FAE6-4720-A9C5-235142C1B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CAF4C5-40A6-490F-825E-A004A5529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88C9F2-95E6-47E0-A5FD-0AAF15E3A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2B5384-E384-4B84-B978-D55EE0D40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482B83-C3F8-4146-96E2-F30A618A8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9455E4-B42E-4475-9705-5A4CC8277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CEF958-6549-40C7-8BAA-B605E1C4B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BE8348-5E64-4223-B594-D5A9BBA1F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E50C42-5E40-4517-ABB5-D52966BB6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35059E-036C-4299-BC76-917D68DD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46C59-1F41-4E65-B24C-0AF15B18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CEEA-D696-404F-8038-15F7D30C0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EBF03F-E21E-4597-A6AD-B426B2D4A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E6AD19-89FE-47D7-9532-7E70E6785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5FFC58-C73D-4200-A171-D4BEDE697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E4855E-E1E0-4A0C-843A-31E547675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CEB304-8075-47ED-A2DA-A7321CC51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22C20D-E52A-42C6-9CFE-572AD6EF9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5968DD-0C40-46C1-A7AE-0307A37EA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D59B80-8821-4555-974E-EBE1EF205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ABBCDC-CFD2-4783-860B-151FAF5CA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378787-E8E5-4A61-93C4-406AE5CF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124F-5EC1-4C09-B58B-F8FD78689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73B66C-34C2-44FF-B3BE-DD1ACA0F4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58D6B9-0AFC-40EC-A6E2-019451A13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2C7ACC-78C2-4A61-AC8F-1B750C67F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585147-3EE5-4F8E-96E0-DD2C730FD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7E2928-012E-483B-A6B0-88A409C82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1A7191-2739-4AA4-B3FA-704E07581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418E14-35E6-4CE4-94AD-073548968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C4742A-D74F-4B89-BB91-61FBBC6CF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97C081-B39F-4BC8-A91C-818BF600F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791B2E-829A-463C-B7FC-41CD3249B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7C2D-F149-4FBC-8FC1-2597E23D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756D7C-4F59-4404-A2BA-5E392D49A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0DDB5F-7CF5-460E-BEF2-46B132E51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1D6D2D-F6E4-41C5-AAA2-E4B9ECECB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6304C5-4645-49D0-9BA9-7ECD1E10D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67051E-6B02-42C2-9974-DC5FB34EC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769889-B282-47B2-99B5-C41642142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68AE6A-FA9C-4AC1-AF34-58D6554F6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0BAE2B6-5547-4115-92E4-DA170486F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ABB37EA-25D7-4F8C-9F08-49E5C5147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EB8AB68-0AFE-44E1-BAE5-3743AF7DF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BB2F7-DECC-4E1C-8FDF-74CFB964F8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64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65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66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67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69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2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2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AF31B-A82E-4AFA-952C-DA98405AFD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2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13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14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15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16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17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18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19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2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D4CFF-74F8-4BC5-AFBC-706E576D7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1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562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63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64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65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66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67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68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69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0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1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2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3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4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5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6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7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8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9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0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1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2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3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4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5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6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7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8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9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0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1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2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3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4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5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dt" idx="3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ftr" idx="3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sldNum" idx="3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1B6BC-311B-4B3E-818B-22AD5012A6D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7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638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9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F2038-2BCB-4A7D-87EB-A4547ADE1DA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1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682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3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4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685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686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87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88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89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90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91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92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93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94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95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96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97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98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699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2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3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4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5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6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7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8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9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710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711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12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13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14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15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716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7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F0493-5845-4BED-8020-DCB5FBE63C7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F2DB4-83A5-4E7A-8961-47A979A3A1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83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4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5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6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7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8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9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DBE76-2529-4DCB-923A-C4FF95F760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dt" idx="10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ldNum" idx="11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B9020-9FA1-4FC9-A6C7-321055839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34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35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36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7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8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9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40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41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2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43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83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4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5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6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7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8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9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0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1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2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3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4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5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6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7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8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9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0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1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2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3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4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5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6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7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8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9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0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1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2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3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4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5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6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3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4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BDA08-8559-4335-A034-1224AB31FA2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9AD64-CE5E-43EA-8E9C-084976B295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300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01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E3AA9-745A-4584-ABB3-0505764843A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344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45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46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347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348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49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0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1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2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3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4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5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6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7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8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9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60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361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2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3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4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5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6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7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8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9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70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71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372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73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74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75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76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77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378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79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BEE07-76C0-48E1-92BC-C38B69D7946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ftr" idx="2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A61A3-F237-4DE7-B4FB-AF84A56B5C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0;&#1086;&#1090;&#1086;" TargetMode="External"/><Relationship Id="rId2" Type="http://schemas.openxmlformats.org/officeDocument/2006/relationships/hyperlink" Target="http://ru.wikipedia.org/wiki/&#1071;&#1087;&#1086;&#1085;&#1080;&#1103;" TargetMode="External"/><Relationship Id="rId3" Type="http://schemas.openxmlformats.org/officeDocument/2006/relationships/hyperlink" Target="http://ru.wikipedia.org/wiki/1997" TargetMode="External"/><Relationship Id="rId4" Type="http://schemas.openxmlformats.org/officeDocument/2006/relationships/hyperlink" Target="http://ru.wikipedia.org/wiki/&#1056;&#1072;&#1084;&#1086;&#1095;&#1085;&#1072;&#1103;_&#1082;&#1086;&#1085;&#1074;&#1077;&#1085;&#1094;&#1080;&#1103;_&#1054;&#1054;&#1053;_&#1086;&#1073;_&#1080;&#1079;&#1084;&#1077;&#1085;&#1077;&#1085;&#1080;&#1080;_&#1082;&#1083;&#1080;&#1084;&#1072;&#1090;&#1072;" TargetMode="External"/><Relationship Id="rId5" Type="http://schemas.openxmlformats.org/officeDocument/2006/relationships/hyperlink" Target="http://ru.wikipedia.org/wiki/16_&#1084;&#1072;&#1088;&#1090;&#1072;" TargetMode="External"/><Relationship Id="rId6" Type="http://schemas.openxmlformats.org/officeDocument/2006/relationships/hyperlink" Target="http://ru.wikipedia.org/wiki/1998" TargetMode="External"/><Relationship Id="rId7" Type="http://schemas.openxmlformats.org/officeDocument/2006/relationships/hyperlink" Target="http://ru.wikipedia.org/wiki/15_&#1084;&#1072;&#1088;&#1090;&#1072;" TargetMode="External"/><Relationship Id="rId8" Type="http://schemas.openxmlformats.org/officeDocument/2006/relationships/hyperlink" Target="http://ru.wikipedia.org/wiki/1999" TargetMode="External"/><Relationship Id="rId9" Type="http://schemas.openxmlformats.org/officeDocument/2006/relationships/slideLayout" Target="../slideLayouts/slideLayout73.xml"/><Relationship Id="rId10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2006" TargetMode="External"/><Relationship Id="rId2" Type="http://schemas.openxmlformats.org/officeDocument/2006/relationships/hyperlink" Target="http://ru.wikipedia.org/wiki/&#1057;&#1064;&#1040;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55;&#1080;&#1097;&#1077;&#1074;&#1072;&#1088;&#1080;&#1090;&#1077;&#1083;&#1100;&#1085;&#1072;&#1103;_&#1092;&#1077;&#1088;&#1084;&#1077;&#1085;&#1090;&#1072;&#1094;&#1080;&#1103;&amp;action=edit" TargetMode="External"/><Relationship Id="rId2" Type="http://schemas.openxmlformats.org/officeDocument/2006/relationships/hyperlink" Target="http://ru.wikipedia.org/w/index.php?title=&#1056;&#1080;&#1089;&#1086;&#1074;&#1086;&#1076;&#1089;&#1090;&#1074;&#1086;&amp;action=edit" TargetMode="External"/><Relationship Id="rId3" Type="http://schemas.openxmlformats.org/officeDocument/2006/relationships/hyperlink" Target="http://ru.wikipedia.org/wiki/&#1041;&#1080;&#1086;&#1084;&#1072;&#1089;&#1089;&#1072;" TargetMode="External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49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7" name="WordArt 5"/>
          <p:cNvSpPr txBox="1"/>
          <p:nvPr/>
        </p:nvSpPr>
        <p:spPr>
          <a:xfrm>
            <a:off x="395280" y="2421000"/>
            <a:ext cx="8569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следствия парникового эффекта для Земли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68" name="MSj01187.wav" descr=""/>
          <p:cNvPicPr/>
          <p:nvPr/>
        </p:nvPicPr>
        <p:blipFill>
          <a:blip r:embed="rId1"/>
          <a:stretch/>
        </p:blipFill>
        <p:spPr>
          <a:xfrm>
            <a:off x="8839080" y="6381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69" name="Text Box 17"/>
          <p:cNvSpPr/>
          <p:nvPr/>
        </p:nvSpPr>
        <p:spPr>
          <a:xfrm>
            <a:off x="6084720" y="4797360"/>
            <a:ext cx="2880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резентация по географи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ученицы 11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”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Б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”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класс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Буглевской Анны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" restart="whenNotActive" nodeType="interactiveSeq" fill="hold">
                <p:stCondLst>
                  <p:cond evt="onClick">
                    <p:tgtEl>
                      <p:spTgt spid="768"/>
                    </p:tgtEl>
                  </p:cond>
                </p:stCondLst>
                <p:childTnLst>
                  <p:par>
                    <p:cTn id="12" nodeType="clickEffect" fill="hold">
                      <p:stCondLst>
                        <p:cond evt="onClick">
                          <p:tgtEl>
                            <p:spTgt spid="768"/>
                          </p:tgtEl>
                        </p:cond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6235" fill="hold"/>
                                        <p:tgtEl>
                                          <p:spTgt spid="7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Возможные последствия глобального потепления климата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ы не можем точно сказать к каким изменениям климата может привести глобальное потепление. Однако, 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 мнению многих ученых, если сохранится тенденция глобального потепления, это приведет к изменению погоды и увеличению количества осадков, что, в свою очередь, приведет к подъему уровня Mирового океана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а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США и бывшем СССР последние 30-40 лет выпадает осадков на 10 процентов больше, чем в прошл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то же время, количество осадков над экватором сократилась на те же десять проценто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Возможные последствия глобального потепления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клима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льнейшее изменение в системе выпадения осадков окажет огромное воздействие на сельское хозяйство, смещая зоны возделывания культур в северные районы Северной Америки и Евразии. Наиболее благоприятные условия для выращивания культур сложатся в сельскохозяйственных регионах России и обильные осадки будут выпадать в Северной Африке, где засуха продолжается с 1970-го года. Кроме того, повышение температуры увеличит испарение влаги с поверхности океана. Это приведет к увеличению выпадения осадков на 11 процент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следствия потепления климата будут ощущаться на Северном и Южном полюсах, где увеличившаяся температура приведет к подтаиванию ледников. По расчетам ученых увеличение температуры на 10 градусов по Цельсию, вызовет повышение уровн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рового океана на 5-6 метров, что приведет к затоплению многих прибрежных территорий во всем мир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2000" spc="-1" strike="noStrike">
                <a:solidFill>
                  <a:srgbClr val="ffff00"/>
                </a:solidFill>
                <a:latin typeface="Garamond"/>
              </a:rPr>
              <a:t>Уже сегодня мы сталкиваемся с участившимися климатическими  аномалиями. Это и всё более сильные ураганы и штормы, наводнения, засуха, выпадание снега там, где его никогда не ждали, необычайно тёплые зимы в северных широтах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12" name="Picture 4" descr="images3"/>
          <p:cNvPicPr/>
          <p:nvPr/>
        </p:nvPicPr>
        <p:blipFill>
          <a:blip r:embed="rId1"/>
          <a:stretch/>
        </p:blipFill>
        <p:spPr>
          <a:xfrm>
            <a:off x="395280" y="4221000"/>
            <a:ext cx="1944720" cy="2232360"/>
          </a:xfrm>
          <a:prstGeom prst="rect">
            <a:avLst/>
          </a:prstGeom>
          <a:ln w="0">
            <a:noFill/>
          </a:ln>
        </p:spPr>
      </p:pic>
      <p:pic>
        <p:nvPicPr>
          <p:cNvPr id="813" name="Picture 5" descr="untitled1"/>
          <p:cNvPicPr/>
          <p:nvPr/>
        </p:nvPicPr>
        <p:blipFill>
          <a:blip r:embed="rId2"/>
          <a:stretch/>
        </p:blipFill>
        <p:spPr>
          <a:xfrm>
            <a:off x="4284720" y="3213000"/>
            <a:ext cx="4572000" cy="3335400"/>
          </a:xfrm>
          <a:prstGeom prst="rect">
            <a:avLst/>
          </a:prstGeom>
          <a:ln w="0">
            <a:noFill/>
          </a:ln>
        </p:spPr>
      </p:pic>
      <p:sp>
        <p:nvSpPr>
          <p:cNvPr id="81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Таянье ледников- индикатор потепления климата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иболее чувствительными к потеплению климата являются ледник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Ледник Упсала в Патагонии (Аргентина) был одним из самых больших ледников Южной Америки, но теперь исчезает на 200 метров в год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17" name="Picture 4" descr=""/>
          <p:cNvPicPr/>
          <p:nvPr/>
        </p:nvPicPr>
        <p:blipFill>
          <a:blip r:embed="rId1"/>
          <a:stretch/>
        </p:blipFill>
        <p:spPr>
          <a:xfrm>
            <a:off x="2771640" y="3429000"/>
            <a:ext cx="3529080" cy="2376360"/>
          </a:xfrm>
          <a:prstGeom prst="rect">
            <a:avLst/>
          </a:prstGeom>
          <a:ln w="0">
            <a:noFill/>
          </a:ln>
        </p:spPr>
      </p:pic>
      <p:sp>
        <p:nvSpPr>
          <p:cNvPr id="81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Таянье ледников- индикатор потепления климата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820" name="Picture 3" descr=""/>
          <p:cNvPicPr/>
          <p:nvPr/>
        </p:nvPicPr>
        <p:blipFill>
          <a:blip r:embed="rId1"/>
          <a:stretch/>
        </p:blipFill>
        <p:spPr>
          <a:xfrm>
            <a:off x="2627280" y="2421000"/>
            <a:ext cx="4043520" cy="2836800"/>
          </a:xfrm>
          <a:prstGeom prst="rect">
            <a:avLst/>
          </a:prstGeom>
          <a:ln w="0">
            <a:noFill/>
          </a:ln>
        </p:spPr>
      </p:pic>
      <p:sp>
        <p:nvSpPr>
          <p:cNvPr id="821" name="Rectangle 4"/>
          <p:cNvSpPr/>
          <p:nvPr/>
        </p:nvSpPr>
        <p:spPr>
          <a:xfrm>
            <a:off x="1332000" y="1706760"/>
            <a:ext cx="636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Ледник Роун, Валаис, Швейцария поднялся вверх на 450 метров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Таянье ледников- индикатор потепления климата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824" name="Picture 3" descr=""/>
          <p:cNvPicPr/>
          <p:nvPr/>
        </p:nvPicPr>
        <p:blipFill>
          <a:blip r:embed="rId1"/>
          <a:stretch/>
        </p:blipFill>
        <p:spPr>
          <a:xfrm>
            <a:off x="2340000" y="1557360"/>
            <a:ext cx="4475160" cy="2620800"/>
          </a:xfrm>
          <a:prstGeom prst="rect">
            <a:avLst/>
          </a:prstGeom>
          <a:ln w="0">
            <a:noFill/>
          </a:ln>
        </p:spPr>
      </p:pic>
      <p:pic>
        <p:nvPicPr>
          <p:cNvPr id="825" name="Picture 4" descr=""/>
          <p:cNvPicPr/>
          <p:nvPr/>
        </p:nvPicPr>
        <p:blipFill>
          <a:blip r:embed="rId2"/>
          <a:stretch/>
        </p:blipFill>
        <p:spPr>
          <a:xfrm>
            <a:off x="3492360" y="4149720"/>
            <a:ext cx="2114640" cy="1905120"/>
          </a:xfrm>
          <a:prstGeom prst="rect">
            <a:avLst/>
          </a:prstGeom>
          <a:ln w="0">
            <a:noFill/>
          </a:ln>
        </p:spPr>
      </p:pic>
      <p:sp>
        <p:nvSpPr>
          <p:cNvPr id="826" name="Rectangle 5"/>
          <p:cNvSpPr/>
          <p:nvPr/>
        </p:nvSpPr>
        <p:spPr>
          <a:xfrm>
            <a:off x="5434200" y="5660280"/>
            <a:ext cx="324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Ледник портадж в Аляске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27" name="MSj01250.wav" descr=""/>
          <p:cNvPicPr/>
          <p:nvPr/>
        </p:nvPicPr>
        <p:blipFill>
          <a:blip r:embed="rId3"/>
          <a:stretch/>
        </p:blipFill>
        <p:spPr>
          <a:xfrm>
            <a:off x="7164360" y="62373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82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7590" fill="hold"/>
                                        <p:tgtEl>
                                          <p:spTgt spid="8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Киотский протоко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облема влияния парникового эффекта на климат земли является одной из важнейших задач, требующих скорейшего решения. Начальным этапом решения проблемы стали международные договорённости по сокращению выбросов парниковых газов в атмосферу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" dur="2000"/>
                                        <p:tgtEl>
                                          <p:spTgt spid="8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Киотский протокол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Киотский протокол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— международный документ, принятый в 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Киото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Япония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 в декабре 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1997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года в дополнение к 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Рамочной конвенции ООН об изменении климат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. Период подписания протокола открылся 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5"/>
              </a:rPr>
              <a:t>16 март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6"/>
              </a:rPr>
              <a:t>1998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года и завершился 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7"/>
              </a:rPr>
              <a:t>15 март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8"/>
              </a:rPr>
              <a:t>1999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5" name="Picture 4" descr="Picture2"/>
          <p:cNvPicPr/>
          <p:nvPr/>
        </p:nvPicPr>
        <p:blipFill>
          <a:blip r:embed="rId1"/>
          <a:stretch/>
        </p:blipFill>
        <p:spPr>
          <a:xfrm>
            <a:off x="539640" y="1628640"/>
            <a:ext cx="8207640" cy="4680000"/>
          </a:xfrm>
          <a:prstGeom prst="rect">
            <a:avLst/>
          </a:prstGeom>
          <a:ln w="0">
            <a:noFill/>
          </a:ln>
        </p:spPr>
      </p:pic>
      <p:sp>
        <p:nvSpPr>
          <p:cNvPr id="836" name="Text Box 5"/>
          <p:cNvSpPr/>
          <p:nvPr/>
        </p:nvSpPr>
        <p:spPr>
          <a:xfrm>
            <a:off x="1476360" y="2421000"/>
            <a:ext cx="6983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Киотский протокол стал первым глобальным соглашением об охране окружающей среды, основанным на рыночных механизмах регулирования — механизме международной торговли квотами на выбросы парниковых газов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Страны 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участницы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Протокола определили для себя количественные обязательства по ограничению либо сокращению выбросов на период с 1 января 2008 до 31 декабря 2012 года. Цель ограничений — снизить в этот период совокупный средний уровень выбросов 6 типов газов (CO2, CH4, </a:t>
            </a:r>
            <a:r>
              <a:rPr b="0" lang="en-US" sz="1800" spc="-1" strike="noStrike">
                <a:solidFill>
                  <a:srgbClr val="ff0000"/>
                </a:solidFill>
                <a:latin typeface="Garamond"/>
              </a:rPr>
              <a:t>гидрофторуглеводороды, </a:t>
            </a:r>
            <a:r>
              <a:rPr b="0" lang="en-US" sz="1800" spc="-1" strike="noStrike">
                <a:solidFill>
                  <a:srgbClr val="a50021"/>
                </a:solidFill>
                <a:latin typeface="Garamond"/>
              </a:rPr>
              <a:t>перфторуглеводороды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, N2O, SF6) на 5,2 % по сравнению с уровнем 1990 год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7" name="WordArt 6"/>
          <p:cNvSpPr txBox="1"/>
          <p:nvPr/>
        </p:nvSpPr>
        <p:spPr>
          <a:xfrm>
            <a:off x="2556000" y="620640"/>
            <a:ext cx="4086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етали соглашения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4" dur="2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География Киотского протокола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По состоянию на 14 февраля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2006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года Протокол был ратифицирован 161 страной мира (совокупно ответственными за более чем 61 % общемировых выбросов). Заметным исключением из этого списка являются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США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41" name="Picture 4" descr="Kyoto"/>
          <p:cNvPicPr/>
          <p:nvPr/>
        </p:nvPicPr>
        <p:blipFill>
          <a:blip r:embed="rId3"/>
          <a:stretch/>
        </p:blipFill>
        <p:spPr>
          <a:xfrm>
            <a:off x="900000" y="2852640"/>
            <a:ext cx="7620120" cy="3524400"/>
          </a:xfrm>
          <a:prstGeom prst="rect">
            <a:avLst/>
          </a:prstGeom>
          <a:ln w="0">
            <a:noFill/>
          </a:ln>
        </p:spPr>
      </p:pic>
      <p:sp>
        <p:nvSpPr>
          <p:cNvPr id="84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Что такое парниковый эффект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арниковый эффект. Как он действует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арниковые газы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лияние парникового эффекта на климат Земл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Таянье ледников- индикатор потепления климат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Киотский протоко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14  мифов о глобальном потеплени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2" name="WordArt 4"/>
          <p:cNvSpPr txBox="1"/>
          <p:nvPr/>
        </p:nvSpPr>
        <p:spPr>
          <a:xfrm>
            <a:off x="1835280" y="549360"/>
            <a:ext cx="53290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Содержание презентации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7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7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7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7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7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7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7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4 мифов о глобальном потеплении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99ff"/>
                </a:solidFill>
                <a:latin typeface="Tahoma"/>
              </a:rPr>
              <a:t>Человек с древних времен склонен верить мифам. Часть из них не лишена логики, но все таки большая половина оказывается полным бредом. То же самое и с </a:t>
            </a:r>
            <a:r>
              <a:rPr b="1" lang="en-US" sz="1600" spc="-1" strike="noStrike">
                <a:solidFill>
                  <a:srgbClr val="3399ff"/>
                </a:solidFill>
                <a:latin typeface="Tahoma"/>
              </a:rPr>
              <a:t>глобальным потеплением</a:t>
            </a:r>
            <a:r>
              <a:rPr b="0" lang="en-US" sz="1600" spc="-1" strike="noStrike">
                <a:solidFill>
                  <a:srgbClr val="3399ff"/>
                </a:solidFill>
                <a:latin typeface="Tahoma"/>
              </a:rPr>
              <a:t>. Вот распространенные заблуждения, связанные с ним: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1). Глобального потепления вообще не происходит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К сожалению происходит. Наукой не раз доказано, а фактами подтверждено, что температура быстро растет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2). Глобальное потепление - естественный процесс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Скорее всего нет (повышение температуры, особенно с 70-х годов, намного превышают естественные изменения)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3). В любом случае последствия будут постепенными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Сильные штормы становятся все чаще, а историей доказано, резкое изменение климатических условий может наступить внезапно, буквально за несколько лет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5" name="Picture 4" descr="eart-on-fire"/>
          <p:cNvPicPr/>
          <p:nvPr/>
        </p:nvPicPr>
        <p:blipFill>
          <a:blip r:embed="rId1"/>
          <a:stretch/>
        </p:blipFill>
        <p:spPr>
          <a:xfrm>
            <a:off x="6300720" y="4869000"/>
            <a:ext cx="2266920" cy="1989000"/>
          </a:xfrm>
          <a:prstGeom prst="rect">
            <a:avLst/>
          </a:prstGeom>
          <a:ln w="0">
            <a:noFill/>
          </a:ln>
        </p:spPr>
      </p:pic>
      <p:sp>
        <p:nvSpPr>
          <p:cNvPr id="8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4 мифов о глобальном потеплени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4). Глобальное потепление приведет к всемирному потопу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Если потепление будет идти теми же темпами, то уровень мирового океана поднимется на 1 метр. Если же допустить, что все ледники растают, что конечно же невозможно, то вода поднимется на 10 метров. И если учесть, что средняя высота суши над уровнем океана - 840 метров, то переживать так сильно по поводу затопления не стоит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5). Глобальное потепление - единственная причина резких, непредсказуемых изменений погоды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Далеко не единственная. Существует ряд естественных, циклических процессов, к которым глобальное потепление не имеет никакого отношения. И именно они являются тем, что может вызвать резкое потепление или похолодание. Такими факторами могут послужить океанские течения, циклоны, изменение магнитного поля Земли и просто совпадения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9" name="Picture 5" descr="small-gletscher"/>
          <p:cNvPicPr/>
          <p:nvPr/>
        </p:nvPicPr>
        <p:blipFill>
          <a:blip r:embed="rId1"/>
          <a:stretch/>
        </p:blipFill>
        <p:spPr>
          <a:xfrm>
            <a:off x="6248520" y="4952880"/>
            <a:ext cx="2895480" cy="1905120"/>
          </a:xfrm>
          <a:prstGeom prst="rect">
            <a:avLst/>
          </a:prstGeom>
          <a:ln w="0">
            <a:noFill/>
          </a:ln>
        </p:spPr>
      </p:pic>
      <p:sp>
        <p:nvSpPr>
          <p:cNvPr id="8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4 мифов о глобальном потеплени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6). Выбросы углекислого газа слишком незначительны, чтобы спровоцировать глобальное потепление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Хотелось бы верить, но пока факты это отрицают. По статистическим данным, которым можно доверять были построены графики концентрации углекислого газа в атмосфере и температуры в это время. Они совпадают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7). Из-за глобального потепления температура скоро вырастет настолько, что мы все погибнем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Не настолько и не скоро. За последние 100 лет температура выросла на 0,7°С, - 1° С. И по самым смелым прогнозам в ближайшие 100 лет может вырасти еще на 4,6° С, но скорее всего это увеличение не превысит 2°С. С меньшей вероятностью, но есть модели, предсказывающие да же похолодание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8). От глобального потепления мы получим только выгоду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В некоторых районах можно будет порадоваться необычно теплой погодой, но цена негативных последствий превысит любые выгоды. Число болезней и смертей из-за жары вырастет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3" name="Picture 4" descr="sity-on-smoge"/>
          <p:cNvPicPr/>
          <p:nvPr/>
        </p:nvPicPr>
        <p:blipFill>
          <a:blip r:embed="rId1"/>
          <a:stretch/>
        </p:blipFill>
        <p:spPr>
          <a:xfrm>
            <a:off x="5003640" y="4952880"/>
            <a:ext cx="3009960" cy="1905120"/>
          </a:xfrm>
          <a:prstGeom prst="rect">
            <a:avLst/>
          </a:prstGeom>
          <a:ln w="0">
            <a:noFill/>
          </a:ln>
        </p:spPr>
      </p:pic>
      <p:sp>
        <p:nvSpPr>
          <p:cNvPr id="8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4 мифов о глобальном потеплени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9). Сельскому хозяйству это будет только на руку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Углекислый газ может повысить урожайность ряда культур, но так же возрастет и количество сорняков и вредителей. Растения не смогут хорошо расти на том же месте из-за климатического сдвиг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10). Правительство о нас позаботится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Помимо прянятия Киотского протокола (который только ограничивает выбросы) несколькими странами, исключая США (крупнейший источник вредным выбросов) больше ничего сделано не было. Правительства боятся экономических последствий борьбы с глобальным потеплением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11). Проблема не так серьезна, как национальная безопасность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Ну как посмотреть. Если учесть, что потепление затронет каждого жителя планеты (при чем больно ударив по нему), то думаю будет посерьезне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12). Причины глобального потепления известны.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Многие верят, что в глобальном потеплении полностью виновен человек и что только остановив промышленную деятельность, можно избежать катастрофы. В действительности же проблема изменения климата настолько нова, что сейчас невозможно с точностью сказать о ее причинах. То, что оно происходит - это факт, но то что это результат антропогенной деятельности человека далеко не единственная версия. Так, например, существует версия, что это результат естественных процессов, происходящих в системе Солнце - Земля - Космос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4 мифов о глобальном потеплени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13). Мы знаем, как бороться с глобальным потеплением, у нас есть технологи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Стратегический план находится в разработке. Существует несколько масштабных вариантов борьбы с глобальным потеплением, но все они из области фантастики, да и требуют колоссальных вложений, сравнимых с бюджетом США, но лучше много мелких изменений, чем одно большо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14). Мы не можем ничего с этим поделать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Каждый уже сейчас может внести свой вклад в борьбу с глобальным потеплением хотя бы просто соблюдая рационализм в своей потребительской деятельности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заключении хочется отметить, что существует версия, о том, что влияние парникового эффекта на глобальное  потепление климата не так значительно, а нынешнее потепление – это лишь очередной этап в циклическом изменении климата нашей планеты. Ведь не стоит забывать, что по геологическим меркам последний ледниковый период на Земле был не так уж и давно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Что такое парниковый эффект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арнико́вый эффе́к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— повышение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емпературы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нижних слоёв атмосферы планеты по сравнению с эффективной температурой, т. е. температурой теплового излучения планеты, наблюдаемого из космос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Парниковый эффект. Как это происходит?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79" name="Picture 4" descr="CLIMATE_CHANGE"/>
          <p:cNvPicPr/>
          <p:nvPr/>
        </p:nvPicPr>
        <p:blipFill>
          <a:blip r:embed="rId1"/>
          <a:stretch/>
        </p:blipFill>
        <p:spPr>
          <a:xfrm>
            <a:off x="684360" y="3213000"/>
            <a:ext cx="7775280" cy="3456000"/>
          </a:xfrm>
          <a:prstGeom prst="rect">
            <a:avLst/>
          </a:prstGeom>
          <a:ln w="0">
            <a:noFill/>
          </a:ln>
        </p:spPr>
      </p:pic>
      <p:pic>
        <p:nvPicPr>
          <p:cNvPr id="780" name="Picture 6" descr="Picture2"/>
          <p:cNvPicPr/>
          <p:nvPr/>
        </p:nvPicPr>
        <p:blipFill>
          <a:blip r:embed="rId2"/>
          <a:stretch/>
        </p:blipFill>
        <p:spPr>
          <a:xfrm>
            <a:off x="684360" y="1197000"/>
            <a:ext cx="7775280" cy="2016000"/>
          </a:xfrm>
          <a:prstGeom prst="rect">
            <a:avLst/>
          </a:prstGeom>
          <a:ln w="0">
            <a:noFill/>
          </a:ln>
        </p:spPr>
      </p:pic>
      <p:sp>
        <p:nvSpPr>
          <p:cNvPr id="781" name="Text Box 7"/>
          <p:cNvSpPr/>
          <p:nvPr/>
        </p:nvSpPr>
        <p:spPr>
          <a:xfrm>
            <a:off x="1619280" y="1557360"/>
            <a:ext cx="655308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Накопление углекислого газа в атмосфере - одна из основных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причин парникового эффекта. Углекислый газ действует в атмосфере, как стекло в оранжерее: он пропускает солнечную радиацию и не пропускает обратно в космос инфракрасное (тепловое) излучение Земли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84" name="Picture 3" descr="Air_4"/>
          <p:cNvPicPr/>
          <p:nvPr/>
        </p:nvPicPr>
        <p:blipFill>
          <a:blip r:embed="rId1"/>
          <a:stretch/>
        </p:blipFill>
        <p:spPr>
          <a:xfrm>
            <a:off x="468360" y="333360"/>
            <a:ext cx="8136000" cy="5688000"/>
          </a:xfrm>
          <a:prstGeom prst="rect">
            <a:avLst/>
          </a:prstGeom>
          <a:ln w="0">
            <a:noFill/>
          </a:ln>
        </p:spPr>
      </p:pic>
      <p:sp>
        <p:nvSpPr>
          <p:cNvPr id="78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Парниковые газы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Водяной пар — основной естественный парниковый газ, ответственный более, чем за 60 % эффект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Tahoma"/>
              </a:rPr>
              <a:t>Углекислый газ (</a:t>
            </a:r>
            <a:r>
              <a:rPr b="0" lang="en-US" sz="1800" spc="-1" strike="noStrike">
                <a:solidFill>
                  <a:srgbClr val="ffcc66"/>
                </a:solidFill>
                <a:latin typeface="Tahoma"/>
              </a:rPr>
              <a:t>CO2</a:t>
            </a:r>
            <a:r>
              <a:rPr b="0" lang="ru-RU" sz="1800" spc="-1" strike="noStrike">
                <a:solidFill>
                  <a:srgbClr val="ffcc66"/>
                </a:solidFill>
                <a:latin typeface="Tahoma"/>
              </a:rPr>
              <a:t>)</a:t>
            </a:r>
            <a:r>
              <a:rPr b="0" lang="ru-RU" sz="2000" spc="-1" strike="noStrike">
                <a:solidFill>
                  <a:srgbClr val="ffcc66"/>
                </a:solidFill>
                <a:latin typeface="Tahoma"/>
              </a:rPr>
              <a:t>- </a:t>
            </a:r>
            <a:r>
              <a:rPr b="0" lang="ru-RU" sz="1800" spc="-1" strike="noStrike">
                <a:solidFill>
                  <a:srgbClr val="ffcc66"/>
                </a:solidFill>
                <a:latin typeface="Tahoma"/>
              </a:rPr>
              <a:t>и</a:t>
            </a:r>
            <a:r>
              <a:rPr b="0" lang="en-US" sz="1800" spc="-1" strike="noStrike">
                <a:solidFill>
                  <a:srgbClr val="ffcc66"/>
                </a:solidFill>
                <a:latin typeface="Tahoma"/>
              </a:rPr>
              <a:t>сточниками углекислого газа в атмосфере Земли являются вулканические выбросы, жизнедеятельность организмов, деятельность человек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Tahoma"/>
              </a:rPr>
              <a:t>Метан (</a:t>
            </a:r>
            <a:r>
              <a:rPr b="0" lang="en-US" sz="1800" spc="-1" strike="noStrike">
                <a:solidFill>
                  <a:srgbClr val="ffcc66"/>
                </a:solidFill>
                <a:latin typeface="Tahoma"/>
              </a:rPr>
              <a:t>CH4</a:t>
            </a:r>
            <a:r>
              <a:rPr b="0" lang="ru-RU" sz="1800" spc="-1" strike="noStrike">
                <a:solidFill>
                  <a:srgbClr val="ffcc66"/>
                </a:solidFill>
                <a:latin typeface="Tahoma"/>
              </a:rPr>
              <a:t>)</a:t>
            </a:r>
            <a:r>
              <a:rPr b="0" lang="ru-RU" sz="2000" spc="-1" strike="noStrike">
                <a:solidFill>
                  <a:srgbClr val="ffcc66"/>
                </a:solidFill>
                <a:latin typeface="Tahoma"/>
              </a:rPr>
              <a:t>- о</a:t>
            </a: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сновными антропогенными источниками метана являются </a:t>
            </a:r>
            <a:r>
              <a:rPr b="0" lang="en-US" sz="20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пищеварительная ферментация</a:t>
            </a: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 у скота, </a:t>
            </a:r>
            <a:r>
              <a:rPr b="0" lang="en-US" sz="20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рисоводство</a:t>
            </a: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, горение </a:t>
            </a:r>
            <a:r>
              <a:rPr b="0" lang="en-US" sz="20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биомассы</a:t>
            </a: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 (в т. ч. сведение лесов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Tahoma"/>
              </a:rPr>
              <a:t>Озон (О3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Tahoma"/>
              </a:rPr>
              <a:t>Оксид углерода (СО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Tahoma"/>
              </a:rPr>
              <a:t>фреон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88" name="Picture 4" descr="140px-Carbon-dioxide-3D-vdW"/>
          <p:cNvPicPr/>
          <p:nvPr/>
        </p:nvPicPr>
        <p:blipFill>
          <a:blip r:embed="rId4"/>
          <a:stretch/>
        </p:blipFill>
        <p:spPr>
          <a:xfrm>
            <a:off x="539640" y="5013360"/>
            <a:ext cx="1333440" cy="87624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5" descr="100px-Methane-3D-space-filling"/>
          <p:cNvPicPr/>
          <p:nvPr/>
        </p:nvPicPr>
        <p:blipFill>
          <a:blip r:embed="rId5"/>
          <a:stretch/>
        </p:blipFill>
        <p:spPr>
          <a:xfrm>
            <a:off x="3995640" y="5157720"/>
            <a:ext cx="952560" cy="792360"/>
          </a:xfrm>
          <a:prstGeom prst="rect">
            <a:avLst/>
          </a:prstGeom>
          <a:ln w="0">
            <a:noFill/>
          </a:ln>
        </p:spPr>
      </p:pic>
      <p:pic>
        <p:nvPicPr>
          <p:cNvPr id="790" name="Picture 6" descr="200px-Ozone_molecule_ball_and_stick"/>
          <p:cNvPicPr/>
          <p:nvPr/>
        </p:nvPicPr>
        <p:blipFill>
          <a:blip r:embed="rId6"/>
          <a:stretch/>
        </p:blipFill>
        <p:spPr>
          <a:xfrm>
            <a:off x="7164360" y="5229360"/>
            <a:ext cx="1368360" cy="792000"/>
          </a:xfrm>
          <a:prstGeom prst="rect">
            <a:avLst/>
          </a:prstGeom>
          <a:ln w="0">
            <a:noFill/>
          </a:ln>
        </p:spPr>
      </p:pic>
      <p:pic>
        <p:nvPicPr>
          <p:cNvPr id="791" name="Picture 7" descr="140px-Carbon-dioxide-2D-dimensions"/>
          <p:cNvPicPr/>
          <p:nvPr/>
        </p:nvPicPr>
        <p:blipFill>
          <a:blip r:embed="rId7"/>
          <a:stretch/>
        </p:blipFill>
        <p:spPr>
          <a:xfrm>
            <a:off x="539640" y="5950080"/>
            <a:ext cx="1333440" cy="685800"/>
          </a:xfrm>
          <a:prstGeom prst="rect">
            <a:avLst/>
          </a:prstGeom>
          <a:ln w="0">
            <a:noFill/>
          </a:ln>
        </p:spPr>
      </p:pic>
      <p:pic>
        <p:nvPicPr>
          <p:cNvPr id="792" name="Picture 8" descr="100px-Methane-2D"/>
          <p:cNvPicPr/>
          <p:nvPr/>
        </p:nvPicPr>
        <p:blipFill>
          <a:blip r:embed="rId8"/>
          <a:stretch/>
        </p:blipFill>
        <p:spPr>
          <a:xfrm>
            <a:off x="4932360" y="5589720"/>
            <a:ext cx="952560" cy="1000080"/>
          </a:xfrm>
          <a:prstGeom prst="rect">
            <a:avLst/>
          </a:prstGeom>
          <a:ln w="0">
            <a:noFill/>
          </a:ln>
        </p:spPr>
      </p:pic>
      <p:sp>
        <p:nvSpPr>
          <p:cNvPr id="79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7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7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" dur="2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3" dur="2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Влияние парникового эффекта на климат Земли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795" name="Picture 4" descr="Picture3"/>
          <p:cNvPicPr/>
          <p:nvPr/>
        </p:nvPicPr>
        <p:blipFill>
          <a:blip r:embed="rId1"/>
          <a:stretch/>
        </p:blipFill>
        <p:spPr>
          <a:xfrm>
            <a:off x="250920" y="1628640"/>
            <a:ext cx="8569080" cy="504036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5"/>
          <p:cNvSpPr/>
          <p:nvPr/>
        </p:nvSpPr>
        <p:spPr>
          <a:xfrm>
            <a:off x="1187280" y="2421000"/>
            <a:ext cx="720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7" name="Text Box 7"/>
          <p:cNvSpPr/>
          <p:nvPr/>
        </p:nvSpPr>
        <p:spPr>
          <a:xfrm>
            <a:off x="1116000" y="2492280"/>
            <a:ext cx="7129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Ещё в 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1827 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году французский физик Жозеф Фурье предположил, что атмосфера земли выполняет функцию своего рода стекла в теплице: воздух пропускает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солнечное тепло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, не давая ему при этом испариться обратно в космос. Этот эффект достигается благодаря некоторым атмосферным газам второстепенного значения, каковыми являются, например, водяные испарения и углекислый газ. Они пропускают видимый и «ближний» инфракрасный свет, излучаемый солнцем, но поглощают «далекое» инфракрасное излучение, имеющее более низкую частоту и образующееся при нагревании земной поверхности солнечными лучами. Если бы этого не происходило, Земля была бы примерно на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30 градусов холоднее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, чем сейчас, и жизнь бы на ней практически замерл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лияние парникового эффекта на климат Земл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46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днако, з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 последние 100 лет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связи с активной деятельностью человека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доля двуокиси углерода имеет тенденцию роста приблизительно на 25% и средняя температура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земли повысилась на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0,7ºС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 Земля нагревается однако неравномерно, температуры на полюсах увеличиваются более экстремально, чем в других областях земли. Если эта тенденция не остановится, то наступят климатические изменения – более долгие периоды засухи, интенсивное выпадение осадков и более мощные ураганы – уровень моря может подняться. Плодородные регионы побережья станут жертвой моря и будут затоплены. Может возникнуть угроза голода и миграции народов с губительными социальными последствиями.  Климат Земли грозит нам еще большими неприятностями, нежели те, что он преподнес в последние годы - катастрофические ураганы, бурные наводнения и жестокие засухи. Они, вероятно, будут повторяться все чаще и станут разрушительнее. Продолжаться это будет до тех пор, пока человечество не найдет способ значительно уменьшить содержание парниковых газов разогревающих атмосферу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лияние парникового эффекта на климат Зем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так: основным следствием парникового эффекта является глобальное потеп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17:48:18Z</dcterms:created>
  <dc:creator> juri</dc:creator>
  <dc:description>ppt.3dn.ru</dc:description>
  <dc:language>en-US</dc:language>
  <cp:lastModifiedBy>LEGION</cp:lastModifiedBy>
  <dcterms:modified xsi:type="dcterms:W3CDTF">2015-05-06T08:07:56Z</dcterms:modified>
  <cp:revision>29</cp:revision>
  <dc:subject/>
  <dc:title>Потепление климат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e0a000000000001024140</vt:lpwstr>
  </property>
  <property fmtid="{D5CDD505-2E9C-101B-9397-08002B2CF9AE}" pid="3" name="Version">
    <vt:r8>6</vt:r8>
  </property>
</Properties>
</file>