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AEFF-C156-43E0-8E43-9ADAAE407E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к действует принцип бумеран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Сорока Лидия Александровна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 СОШ с. Большая Сакма Краснопартизанского рай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F33A-30A6-478A-9047-E311AB1AD3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 рес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BB26-3E5C-4AE0-B8E8-8A14902875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чему изменяется ми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мы меняем клима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33EE-463C-4868-A35D-E66C544AE7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основными факторами влияющими на климат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 закономерностями распределения климата в 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знания о причинах изменения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искать, выбирать нужную информацию и анализировать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E0B4-249B-4DE9-92EB-22D7EA2386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ообразу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595-5253-46A8-90B1-B6284CF731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 на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характеризующие 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ет повлиять на изменение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лиматической ди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мы составляем прогноз по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22AB-27C6-40E0-A0CC-76107035DF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измен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3509-20A7-4BCA-BC4C-20478DC301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и челове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5A45-8B69-4214-B21A-5739E1A6E1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особенности климата на любой территории нашей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оль климатообразующий факторов, закономерности их влияние на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ть и объяснять климат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8692-517B-4B1F-909E-C6BC428185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158-CF97-4E92-996F-B6E28145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635-D09C-4DE0-B726-88F5EF56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64D-BBF5-4789-986A-8E7C1A7F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AE3-76A6-4172-89D5-DEC635A0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1353D-706F-4C37-B2C0-49EF0DD1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277C4-9530-4753-89A2-52CA6D8C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BC813-E7A3-492F-A6E1-81B2025A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65F97-B1E7-4CAC-924C-40730DD2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86FC1-3D45-4F36-9DC6-94236FDE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21C4F-60E5-401F-A21D-3350568B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13290-E0F7-4988-9A0B-04039AF3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B66-D08A-4A95-ADA8-A68A56FF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BC07E-301D-461E-B625-F1FA1318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936F6-4F90-40D0-BF4A-DB6047B9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1C4AE-DCF9-4D9D-B9C7-FB9C9976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5956D-85B1-4F36-86B2-2D1AA9A5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66DF8-86A2-432F-B7F9-F386E733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CB0-A02A-48F8-9BF6-2F483378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296-EA9C-4194-9FB0-2BA29FC1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661-D686-4E88-A4DC-C6EC0EDB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082-DEA2-4433-BE82-A4DC949F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53C-6D2E-4991-A678-913072F8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FE7-A573-4803-A608-EA93AD02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593-5A34-40F9-A77A-2087DC81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4C36-78D2-4900-BC56-6B359A60A3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548-09B5-47B1-A3BE-78CF01188A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ак действует принцип бумеранга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 Сорока Лидия Александровн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учитель географ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 СОШ с. Большая Сакма Краснопартиза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графическая энциклопе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ему изменяется мир?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мы меняем клима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основными факторами влияющими на климат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 закономерностями распределения климата в 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знания о причинах изменения кли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ить учащихся искать, выбирать нужную информацию и анализировать резуль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7"/>
          <p:cNvSpPr/>
          <p:nvPr/>
        </p:nvSpPr>
        <p:spPr>
          <a:xfrm>
            <a:off x="684360" y="76500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68360" y="350028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5219640" y="692280"/>
            <a:ext cx="309744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итории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57336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фактор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84360" y="1628640"/>
            <a:ext cx="244764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08360" y="1628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843280" y="285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516720" y="170028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х м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9640" y="429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ая ради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284720" y="393372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300720" y="5229360"/>
            <a:ext cx="2735280" cy="863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е масс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мосферные фро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клоны, антицикл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 flipH="1">
            <a:off x="971640" y="2565360"/>
            <a:ext cx="50472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356000" y="2565360"/>
            <a:ext cx="144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 flipH="1">
            <a:off x="7451280" y="2637000"/>
            <a:ext cx="289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435640" y="2492280"/>
            <a:ext cx="28872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омерности распредел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мата на территории Росс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ели характеризующие клим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повлиять на изменение клим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климатической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мы составляем прогноз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0920" y="1844640"/>
            <a:ext cx="2448000" cy="3240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зо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ннее глоб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те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юди поддержив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олее тёпл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 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дотврат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овый леднико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34800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заимодей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вержения вулкан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леденение, дрей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нтинент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мещение полю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емли- мощ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оцессы вли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а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44364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послед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ысячеле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явились н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ы, чужд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меняющие клима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нтроп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4000" y="2133720"/>
            <a:ext cx="2160360" cy="1726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35280" y="119700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12400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ь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21964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чтож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32720" y="2060640"/>
            <a:ext cx="216036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ышле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2484360" y="2060640"/>
            <a:ext cx="12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347640" y="2924280"/>
            <a:ext cx="792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219640" y="2924280"/>
            <a:ext cx="936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5796000" y="206064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ог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ь особенности климата на любой территории нашей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роль климатообразующий факторов, закономерности их влияние на эко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тать и объяснять климат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08:01Z</dcterms:created>
  <dc:creator>Ирина</dc:creator>
  <dc:description>ppt.3dn.ru</dc:description>
  <dc:language>en-US</dc:language>
  <cp:lastModifiedBy>LEGION</cp:lastModifiedBy>
  <dcterms:modified xsi:type="dcterms:W3CDTF">2015-05-06T08:08:20Z</dcterms:modified>
  <cp:revision>13</cp:revision>
  <dc:subject/>
  <dc:title>Климат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2000000000001024140</vt:lpwstr>
  </property>
</Properties>
</file>