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696D-5839-42FB-BDEF-D4387794D5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к действует принцип бумеран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Сорока Лидия Александровна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 СОШ с. Большая Сакма Краснопартизанского рай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т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A347-8449-4BD9-BEBB-3EBF4679E1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энциклоп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 рес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8558-269B-440B-BEFB-88418465FA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чему изменяется ми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ак мы меняем климат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C173-AE75-4E00-AD6A-910DEF3DD3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основными факторами влияющими на климат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 закономерностями распределения климата в 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знания о причинах изменения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искать, выбирать нужную информацию и анализировать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EEB7-16D8-49C3-A5C7-2793A831F3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ообразу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о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17BC-1D8C-425C-A731-3EDFC69F34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спредел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 на территори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характеризующие кли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ет повлиять на изменение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лиматической ди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мы составляем прогноз по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039E-C37F-4A83-B7D2-A4360EA747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измен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B0AD-BA38-4630-A3B1-C4169FD778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и челове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A3C4-284E-4CB4-8DF7-8E0B999661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особенности климата на любой территории нашей стр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оль климатообразующий факторов, закономерности их влияние на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ть и объяснять климат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6218-5202-41FC-94B3-A50E8A2F66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58A7-6899-48A1-ACE8-28BC5754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1F2-2A14-4AE5-85E9-FB17DABE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DFC-67DE-445C-9106-81B626E9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6B4-11C8-4405-9729-74F20887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1DA2C-B0B0-434D-AB6F-F9437607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D55B0-0CDB-4C4B-BB1A-5EC8342E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0FB22-4A34-4B03-ABB2-869248CC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42ACD-1C8B-4354-90A4-DB341C3B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6FFC9-4381-4826-BD7C-01906D9E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9499C-2431-4CB3-8868-50738D05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8B885-2D09-454E-9305-49DE6AC3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AE7-4D7E-4983-8796-CBCEB3B7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2C80A-DD04-4F75-8159-55F4EDA1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31E5D-08AA-4AB8-A3D0-C141358C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6588C-92F6-4C12-9B96-77F56878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309DB-8B3B-4841-8356-FA331F44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305E5-5DB6-4EDA-837B-6BF59CF8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D33-7CAB-48F0-9872-229951E0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F76-BC34-4198-8A80-49015162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9A3-AB86-4D89-944E-5BFB973F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D3A-B0FF-4AE6-8128-14C7BFC9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398-E4B0-411B-A53D-840894A1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738-F664-4A28-AB67-AAEFB414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EB2-17BE-429A-A98A-75FC55F4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BADA-4C57-4F33-B116-2B460B8F07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511C-23CE-4084-8A75-92C7D2A40A6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Как действует принцип бумеранга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484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: Сорока Лидия Александровн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учитель географ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 СОШ с. Большая Сакма Краснопартизанского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ратовской обла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ографическая энциклопе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эк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 рессур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чему изменяется мир?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Как мы меняем клима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и и задачи проек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основными факторами влияющими на климат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 закономерностями распределения климата в 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ировать знания о причинах изменения клим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учить учащихся искать, выбирать нужную информацию и анализировать результ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7"/>
          <p:cNvSpPr/>
          <p:nvPr/>
        </p:nvSpPr>
        <p:spPr>
          <a:xfrm>
            <a:off x="684360" y="76500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468360" y="350028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5219640" y="692280"/>
            <a:ext cx="309744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омер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ритории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57336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факторы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84360" y="1628640"/>
            <a:ext cx="244764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708360" y="1628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843280" y="285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6516720" y="170028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ркуля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х м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39640" y="429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ечная ради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284720" y="393372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300720" y="5229360"/>
            <a:ext cx="2735280" cy="863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е масс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мосферные фро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клоны, антицикл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 flipH="1">
            <a:off x="971640" y="2565360"/>
            <a:ext cx="50472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 flipH="1">
            <a:off x="4356000" y="2565360"/>
            <a:ext cx="14472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 flipH="1">
            <a:off x="7451280" y="2637000"/>
            <a:ext cx="289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435640" y="2492280"/>
            <a:ext cx="28872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ономерности распределени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имата на территории Росси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ели характеризующие клим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повлиять на изменение клим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климатической диа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мы составляем прогноз по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50920" y="1844640"/>
            <a:ext cx="2448000" cy="3240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зо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ннее глоб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теп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юди поддержив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олее тёплы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 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дотврат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овый ледников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34800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заимодейств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вержения вулкан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леденение, дрей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нтинентов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мещение полю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емли- мощ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оцессы влия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а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44364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ремен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ипоте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 послед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ысячеле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явились н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ы, чужд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естественн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меняющие климат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нтропог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24000" y="2133720"/>
            <a:ext cx="2160360" cy="1726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35280" y="119700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12400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ь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21964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чтож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732720" y="2060640"/>
            <a:ext cx="216036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мышлен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H="1">
            <a:off x="2484360" y="2060640"/>
            <a:ext cx="1224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3347640" y="2924280"/>
            <a:ext cx="792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5219640" y="2924280"/>
            <a:ext cx="93672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5796000" y="2060640"/>
            <a:ext cx="936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тоги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ь особенности климата на любой территории нашей стр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роль климатообразующий факторов, закономерности их влияние на эко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тать и объяснять климат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6:08:01Z</dcterms:created>
  <dc:creator>Ирина</dc:creator>
  <dc:description>ppt.3dn.ru</dc:description>
  <dc:language>en-US</dc:language>
  <cp:lastModifiedBy>LEGION</cp:lastModifiedBy>
  <dcterms:modified xsi:type="dcterms:W3CDTF">2015-05-06T08:08:20Z</dcterms:modified>
  <cp:revision>13</cp:revision>
  <dc:subject/>
  <dc:title>Климат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2000000000001024140</vt:lpwstr>
  </property>
</Properties>
</file>