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76BE-73F6-41E6-AD23-98F6171A48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к действует принцип бумеран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Сорока Лидия Александровна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учитель географ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 СОШ с. Большая Сакма Краснопартизанского рай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F3CC-C156-446A-98F1-0EC40E64E3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энциклоп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 рес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A76-4A08-4F8D-AF1E-73E7CD51FB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чему изменяется ми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Как мы меняем климат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5BA4-5BB6-4CA2-AE78-BB56628D112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основными факторами влияющими на климат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 закономерностями распределения климата в 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знания о причинах изменения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искать, выбирать нужную информацию и анализировать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DA40-3478-46FD-8CFE-6B0F072056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ообразу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о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2155-8A22-45DE-80B8-490E97C5A75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спредел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 на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характеризующие кли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ет повлиять на изменение 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климатической диа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мы составляем прогноз по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96E0-6FDD-47ED-AFF2-E5B6990ED9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измен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1AD6-DEED-4F49-B179-A429FF22E0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 и челове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A49A-B10D-4F20-AF16-99048EE4868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особенности климата на любой территории нашей стр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оль климатообразующий факторов, закономерности их влияние на эко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ть и объяснять климатогра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309A-2646-464D-BD74-5486BAFF99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F8-0AF8-4A46-83E0-53E319B4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14E-F027-4766-9D3E-1E4EB6E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F1D-89BB-46E2-BE6B-FF1F5E87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BE6-9E9F-4245-9D2F-0C6139AC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C4EFE-8114-4D59-89C6-4662E3A2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7D760-E682-4450-A335-75217BA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BF794-FD78-4EBA-9B1E-17741032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A80C3-14DA-4E7D-9F2E-9A9E41F8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A2F3C-5B3F-4CC4-B40B-53D22D62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F9695-1738-4212-AB44-AA2F465E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F3702-91E6-43DC-949F-14446BC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F4E-BDA2-4BC4-95A2-07A6BB98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050DF-6E17-469E-B507-0F49177D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EE6AF-9646-4772-897C-98C9F374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E35FF-2258-4EC2-B9F7-8E24CEC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BEC2B-F023-4D20-BB8B-EDF1CB36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66C3-6853-4F16-ABE9-A8D179CF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8E6-17D1-40D5-B76C-213F78B3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EED4-BEF6-444D-B8BA-C7A5BE3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2DA-D4CC-4FBA-AE48-C79C875B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5948-C569-4AED-A50F-CCE10A2A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91E-1667-4336-88BE-4D6672D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FA7D-EB7F-40C5-96F8-DE9B9A9C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91A-1C78-4858-B59F-BF7804D1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802B-A13D-4F3F-A7A9-8DB0C0D48A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9D37-E9F9-4543-A83F-B907966EA2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Как действует принцип бумеранга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484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: Сорока Лидия Александровна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учитель географ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« СОШ с. Большая Сакма Краснопартизанского рай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ратовской област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Ресурс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ографическая энциклопед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бник эколог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 рессур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очему изменяется мир?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Как мы меняем клима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Цели и задачи проек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основными факторами влияющими на климат Росс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 закономерностями распределения климата в  Ро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формировать знания о причинах изменения кли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комить с неблагоприятными климатическими явлениями, причинами их возникновения и показать  причины экологических проб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учить учащихся искать, выбирать нужную информацию и анализировать 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7"/>
          <p:cNvSpPr/>
          <p:nvPr/>
        </p:nvSpPr>
        <p:spPr>
          <a:xfrm>
            <a:off x="684360" y="76500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68360" y="350028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5219640" y="692280"/>
            <a:ext cx="309744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е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а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итории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573360"/>
            <a:ext cx="3097080" cy="158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ообразующи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факторы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84360" y="1628640"/>
            <a:ext cx="244764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ограф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708360" y="1628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843280" y="285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ье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16720" y="170028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ркуля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х м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9640" y="429264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нечная ради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284720" y="3933720"/>
            <a:ext cx="2448000" cy="9144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стилающ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ерх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6300720" y="5229360"/>
            <a:ext cx="2735280" cy="8636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душные масс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мосферные фро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иклоны, антицикл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15"/>
          <p:cNvSpPr/>
          <p:nvPr/>
        </p:nvSpPr>
        <p:spPr>
          <a:xfrm flipH="1">
            <a:off x="971640" y="2565360"/>
            <a:ext cx="50472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 flipH="1">
            <a:off x="4356000" y="2565360"/>
            <a:ext cx="14472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 flipH="1">
            <a:off x="7451280" y="2637000"/>
            <a:ext cx="289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5435640" y="2492280"/>
            <a:ext cx="288720" cy="144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омерности распределения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имата на территории Росси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атели характеризующие клима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повлиять на изменение клим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ление климатической диаграм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мы составляем прогноз пог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е измене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50920" y="1844640"/>
            <a:ext cx="2448000" cy="324000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бзо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аннее глобаль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теп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юди поддержива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более тёплый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 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дотврати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овый ледников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34800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заимодейств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вержения вулкан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леденение, дрей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континентов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мещение полюс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емли- мощ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оцессы влия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а клим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443640" y="1844640"/>
            <a:ext cx="2448000" cy="31687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рем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поте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 послед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ысячеле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оявились 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акторы, чужд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естественным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зменяющие климат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нтроп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имат и человек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24000" y="2133720"/>
            <a:ext cx="2160360" cy="1726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доровь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35280" y="119700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има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12400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ь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219640" y="4076640"/>
            <a:ext cx="216072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чтож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732720" y="2060640"/>
            <a:ext cx="2160360" cy="1727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мышленно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484360" y="2060640"/>
            <a:ext cx="1224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3347640" y="2924280"/>
            <a:ext cx="79236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5219640" y="2924280"/>
            <a:ext cx="93672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5796000" y="2060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Итоги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яснить особенности климата на любой территории нашей стр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имать роль климатообразующий факторов, закономерности их влияние на эко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тать и объяснять климат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овать экологические  проблемы климата  и предлагать аргументированные  р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ьзовать Интернет и различное программное обеспечение для создания презентаций, объясняющих результаты географического и экологического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8:01Z</dcterms:created>
  <dc:creator>Ирина</dc:creator>
  <dc:description>ppt.3dn.ru</dc:description>
  <dc:language>en-US</dc:language>
  <cp:lastModifiedBy>LEGION</cp:lastModifiedBy>
  <dcterms:modified xsi:type="dcterms:W3CDTF">2015-05-06T08:08:20Z</dcterms:modified>
  <cp:revision>13</cp:revision>
  <dc:subject/>
  <dc:title>Климат Росс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802000000000001024140</vt:lpwstr>
  </property>
</Properties>
</file>