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E9D9-3570-4B66-835D-330FFEE5AC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Экология 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ядо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0BF6-37D1-4D7B-BE18-4E6DAE271C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счерпывание запасов пресной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C41F-1E3B-485B-B094-63346C4E3C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счерпывание запасов полезных ископае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FD29-EE27-4617-AC75-3D5B782FC5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худшение состояния почвы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а и многие другие проблемы, связанные с халатностью человека по отношению к природным ресурс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ACFF-3802-4E90-AC8C-5282BF4BBF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Решение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ля решения этих глобальных проблем и прежде всего проблемы интенсификации и рационального использования, сохранения и воспроизводства ресурсов биосферы, экология объединяет в научном поиске усилия ботаников, зоологов и микробиологов, придает эволюционному учению, генетике, биохимии и биофизике их истинную универсаль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о и не только их! И мы можем внести свой вклад в отношении спасения Земли от неминуемой гибел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6742-3914-40EC-8E58-3B0BE37D8E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траница гиперссы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сточники информации во всемирной паутин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7C8E-8640-44A4-BB34-F908F3C3BE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Всту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Эколо́гия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(от греч. οικος — дом, жилище, родина и λόγος — учение, наука) — наука, изучающая взаимоотношения живой и неживой прир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о порой мы с вами и сами не задумываемся о самом факте значения существования этой науки, не замечая или просто забывая продолжаем с каждым днём всё больше и больше загрязнять атмосферу Нашей планеты, губить её флору и фауну, совершать непоправимые ошиб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анная презентация как раз поможет Вам ещё раз вспомнить, что же значит для нас это простая, с виду, наука «Экология» и что живой и неживой миры взаимосвязаны друг с другом намного больше, чем мы предполаг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8FEB-173D-4F15-8B8D-DE6EAF2931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2D7E-CF63-4F39-9C25-3DE442DF3C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Опред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овременное значение слова экология имеет более широкое значение, чем в первые десятилетия развития этой науки. Предлагаю рассмотреть 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1, Экология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— познание экономики природы, одновременное исследование всех взаимоотношений живого с органическими и неорганическими компонентами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2,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Экология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— это наука, изучающая все сложные взаимосвязи в природе, рассматриваемые Дарвином как условия борьбы за существ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3, Экология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- биологическая наука, которая исследует структуру и функционирование систем надорганизменного уровня в пространстве и времени в естественных и измененных человеком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B118-C83F-48EE-AB15-D9A8A5C09A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вязи экологии с другими нау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кология обычно рассматривается как подотрасль биологии, общей науки о живых организм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о экология также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вязана со многими другими науками именно потому, что она изучает организацию живых организмов на очень высоком уровне, исследует связи между организмами и их средой об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E233-0C26-42E9-9DA2-B4017EB5AF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Экологически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Экологические факторы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– это элементы окружающей среды, которые вызывают у живых организмов и их сообществ приспособительные реакции (адаптаци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, температур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, влаж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, вете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4, наличие пищ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5, хищни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6, парази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7, конкуренты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9E4A-9BFC-4B48-82B5-64A1620DB4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ая задача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ная же теоретическая и практическая задача экологии —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раскрыть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общие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закономерности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организации жизни и на этой основе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разработать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принципы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рационального использования природных ресурсов в условиях все возрастающего влияния человека на биосферу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450A-AEA3-4810-92DE-CDE494AC19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заимодействие человеческого общества и природы стало одной из важнейших проблем современности, поскольку положение, которое складывается в отношениях человека с природой, часто становится критичес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0BC3-52FC-43E0-BA07-912582681F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худшение состояния водного и воздушного бассей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B642-B3FD-486F-81BC-1D458A4FE7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CD73-E2FE-4DC6-8517-30D3323C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B6A5-36AE-42B0-A875-E1C01B83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3598-B6D8-4DE3-A3C1-905B9AE25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C575-B934-4B91-80D5-A40781810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F65B-86C0-44CA-81AA-C6D9DBC3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3AFF-B097-4C6A-9CEF-09030BB9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6AA9-11DB-41A2-84DE-4F789945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C91A-82C1-481E-8B12-C4E8AF28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78C7-8803-47DE-AF79-6BBF63C9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C4BC-0A8C-42AB-9665-26C7D9FF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38C9-BCCC-4CE2-BA6D-84945CFF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3346-575A-4F68-867E-D32D944F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AD05-C92B-47A9-A4B8-9DCAD77049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13.xml"/><Relationship Id="rId11" Type="http://schemas.openxmlformats.org/officeDocument/2006/relationships/slide" Target="slide15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547640" y="952560"/>
            <a:ext cx="71996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9999"/>
                </a:solidFill>
                <a:latin typeface="Comic Sans MS"/>
              </a:rPr>
              <a:t>Экология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ru-RU" sz="6600" spc="-1" strike="noStrike">
                <a:solidFill>
                  <a:srgbClr val="009999"/>
                </a:solidFill>
                <a:latin typeface="Comic Sans MS"/>
              </a:rPr>
              <a:t>ядом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403280" y="5775480"/>
            <a:ext cx="47847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езентация составлена ученицей ГОУ СОШ № 186 Косяченко О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0"/>
            <a:ext cx="1332000" cy="665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Копия ecology"/>
          <p:cNvPicPr/>
          <p:nvPr/>
        </p:nvPicPr>
        <p:blipFill>
          <a:blip r:embed="rId1"/>
          <a:stretch/>
        </p:blipFill>
        <p:spPr>
          <a:xfrm>
            <a:off x="5580000" y="2908440"/>
            <a:ext cx="2025720" cy="16524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8"/>
          <p:cNvSpPr/>
          <p:nvPr/>
        </p:nvSpPr>
        <p:spPr>
          <a:xfrm rot="1091400">
            <a:off x="5157360" y="2770200"/>
            <a:ext cx="2735280" cy="19573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Вперёд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8000" y="6194520"/>
            <a:ext cx="942840" cy="3556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1476360" y="2708280"/>
            <a:ext cx="41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черпывание запасов пресной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1"/>
          <a:stretch/>
        </p:blipFill>
        <p:spPr>
          <a:xfrm>
            <a:off x="5724360" y="2133720"/>
            <a:ext cx="2857680" cy="28000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0"/>
          <p:cNvSpPr/>
          <p:nvPr/>
        </p:nvSpPr>
        <p:spPr>
          <a:xfrm>
            <a:off x="1619280" y="47628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1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1692360" y="285264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черпывание запасов полезных ископае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"/>
          <p:cNvPicPr/>
          <p:nvPr/>
        </p:nvPicPr>
        <p:blipFill>
          <a:blip r:embed="rId1"/>
          <a:stretch/>
        </p:blipFill>
        <p:spPr>
          <a:xfrm>
            <a:off x="5364000" y="2565360"/>
            <a:ext cx="3427560" cy="25686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0"/>
          <p:cNvSpPr/>
          <p:nvPr/>
        </p:nvSpPr>
        <p:spPr>
          <a:xfrm>
            <a:off x="1619280" y="54936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1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9" descr="лес_240"/>
          <p:cNvPicPr/>
          <p:nvPr/>
        </p:nvPicPr>
        <p:blipFill>
          <a:blip r:embed="rId1"/>
          <a:stretch/>
        </p:blipFill>
        <p:spPr>
          <a:xfrm>
            <a:off x="2195640" y="2852640"/>
            <a:ext cx="2808000" cy="1943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0"/>
          <p:cNvSpPr/>
          <p:nvPr/>
        </p:nvSpPr>
        <p:spPr>
          <a:xfrm>
            <a:off x="2843280" y="5084640"/>
            <a:ext cx="518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а и многие другие проблемы, связанные с халатностью человека по отношению к природным ресурс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1" descr=""/>
          <p:cNvPicPr/>
          <p:nvPr/>
        </p:nvPicPr>
        <p:blipFill>
          <a:blip r:embed="rId2"/>
          <a:stretch/>
        </p:blipFill>
        <p:spPr>
          <a:xfrm>
            <a:off x="6084720" y="981000"/>
            <a:ext cx="2762280" cy="20764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2"/>
          <p:cNvSpPr/>
          <p:nvPr/>
        </p:nvSpPr>
        <p:spPr>
          <a:xfrm>
            <a:off x="1619280" y="1557360"/>
            <a:ext cx="36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худшение состояния почвы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161928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4" descr="Наза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5" descr="Домой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6" descr="Вперёд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5"/>
          <p:cNvSpPr/>
          <p:nvPr/>
        </p:nvSpPr>
        <p:spPr>
          <a:xfrm>
            <a:off x="2124000" y="549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Решение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692360" y="1989000"/>
            <a:ext cx="698328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ля решения этих глобальных проблем и прежде всего проблемы интенсификации и рационального использования, сохранения и воспроизводства ресурсов биосферы, экология объединяет в научном поиске усилия ботаников, зоологов и микробиологов, придает эволюционному учению, генетике, биохимии и биофизике их истинную универса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и не только их! И мы можем внести свой вклад в отношении спасения Земли от неминуемой гибел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0" descr="20050514_4"/>
          <p:cNvPicPr/>
          <p:nvPr/>
        </p:nvPicPr>
        <p:blipFill>
          <a:blip r:embed="rId1"/>
          <a:stretch/>
        </p:blipFill>
        <p:spPr>
          <a:xfrm>
            <a:off x="250920" y="33336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01"/>
          <p:cNvPicPr/>
          <p:nvPr/>
        </p:nvPicPr>
        <p:blipFill>
          <a:blip r:embed="rId2"/>
          <a:stretch/>
        </p:blipFill>
        <p:spPr>
          <a:xfrm>
            <a:off x="3708360" y="2421000"/>
            <a:ext cx="5079960" cy="380988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12"/>
          <p:cNvSpPr/>
          <p:nvPr/>
        </p:nvSpPr>
        <p:spPr>
          <a:xfrm>
            <a:off x="179280" y="189000"/>
            <a:ext cx="540000" cy="3960720"/>
          </a:xfrm>
          <a:custGeom>
            <a:avLst/>
            <a:gdLst>
              <a:gd name="textAreaLeft" fmla="*/ 158760 w 540000"/>
              <a:gd name="textAreaRight" fmla="*/ 540360 w 540000"/>
              <a:gd name="textAreaTop" fmla="*/ 164880 h 3960720"/>
              <a:gd name="textAreaBottom" fmla="*/ 3795840 h 39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8388360" y="2205000"/>
            <a:ext cx="576360" cy="4176720"/>
          </a:xfrm>
          <a:custGeom>
            <a:avLst/>
            <a:gdLst>
              <a:gd name="textAreaLeft" fmla="*/ 0 w 576360"/>
              <a:gd name="textAreaRight" fmla="*/ 404280 w 576360"/>
              <a:gd name="textAreaTop" fmla="*/ 173880 h 4176720"/>
              <a:gd name="textAreaBottom" fmla="*/ 400284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4" descr="Наза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5" descr="Домой"/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6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1835280" y="98100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Страница гиперссы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1692360" y="2205000"/>
            <a:ext cx="63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точники информации во всемирной паути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Домой"/>
          <p:cNvPicPr/>
          <p:nvPr/>
        </p:nvPicPr>
        <p:blipFill>
          <a:blip r:embed="rId2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1"/>
          <p:cNvSpPr/>
          <p:nvPr/>
        </p:nvSpPr>
        <p:spPr>
          <a:xfrm>
            <a:off x="1835280" y="4508640"/>
            <a:ext cx="66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Comic Sans MS"/>
              </a:rPr>
              <a:t>Спасибо за просмотр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1547640" y="2925720"/>
            <a:ext cx="648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http://ru.wikipedia.org/wiki/Эк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http://www.sbio.inf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0"/>
          <p:cNvSpPr/>
          <p:nvPr/>
        </p:nvSpPr>
        <p:spPr>
          <a:xfrm>
            <a:off x="2340000" y="1989000"/>
            <a:ext cx="633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Эколо́г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от греч. οικος — дом, жилище, родина и λόγος — учение, наука) — наука, изучающая взаимоотношения живой и неживой прир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124000" y="18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Вступ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1547640" y="3716280"/>
            <a:ext cx="633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порой мы с вами и сами не задумываемся о самом факте значения существования этой науки, не замечая или просто забывая продолжаем с каждым днём всё больше и больше загрязнять атмосферу Нашей планеты, губить её флору и фауну, совершать непоправимые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1979640" y="2637000"/>
            <a:ext cx="6335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анная презентация как раз поможет Вам ещё раз вспомнить, что же значит для нас это простая, с виду, наука «Экология» и что живой и неживой миры взаимосвязаны друг с другом намного больше, чем мы предполага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0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3"/>
          <p:cNvSpPr/>
          <p:nvPr/>
        </p:nvSpPr>
        <p:spPr>
          <a:xfrm>
            <a:off x="7164360" y="551664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Дальше </a:t>
            </a:r>
            <a:r>
              <a:rPr b="0" lang="ru-RU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124000" y="476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9"/>
          <p:cNvSpPr/>
          <p:nvPr/>
        </p:nvSpPr>
        <p:spPr>
          <a:xfrm>
            <a:off x="1619280" y="1484280"/>
            <a:ext cx="28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О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1763640" y="2062080"/>
            <a:ext cx="640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Связи экологии с другими нау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1619280" y="2637000"/>
            <a:ext cx="655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7" action="ppaction://hlinksldjump"/>
              </a:rPr>
              <a:t>Экологические фа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1763640" y="3213000"/>
            <a:ext cx="619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8" action="ppaction://hlinksldjump"/>
              </a:rPr>
              <a:t>Главная задача эк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1619280" y="3789360"/>
            <a:ext cx="604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9" action="ppaction://hlinksldjump"/>
              </a:rPr>
              <a:t>Главные проблемы челове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1763640" y="4365720"/>
            <a:ext cx="662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0" action="ppaction://hlinksldjump"/>
              </a:rPr>
              <a:t>Решение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1619280" y="4941720"/>
            <a:ext cx="655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7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1" action="ppaction://hlinksldjump"/>
              </a:rPr>
              <a:t>Страница гиперссы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7"/>
          <p:cNvSpPr/>
          <p:nvPr/>
        </p:nvSpPr>
        <p:spPr>
          <a:xfrm>
            <a:off x="2124000" y="18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Опред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692360" y="105264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временное значение слова экология имеет более широкое значение, чем в первые десятилетия развития этой науки. Предлагаю рассмотреть и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1476360" y="2421000"/>
            <a:ext cx="3745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Comic Sans MS"/>
              </a:rPr>
              <a:t>1, Экология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— познание экономики природы, одновременное исследование всех взаимоотношений живого с органическими и неорганическими компонентами сре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5435640" y="2708280"/>
            <a:ext cx="3527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Comic Sans MS"/>
              </a:rPr>
              <a:t>2,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9999"/>
                </a:solidFill>
                <a:latin typeface="Comic Sans MS"/>
              </a:rPr>
              <a:t>Экология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— это наука, изучающая все сложные взаимосвязи в природе, рассматриваемые Дарвином как условия борьбы за существ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2771640" y="4581360"/>
            <a:ext cx="388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Comic Sans MS"/>
              </a:rPr>
              <a:t>3, Экология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- биологическая наука, которая исследует структуру и функционирование систем надорганизменного уровня в пространстве и времени в естественных и измененных человеком услов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3"/>
          <p:cNvSpPr/>
          <p:nvPr/>
        </p:nvSpPr>
        <p:spPr>
          <a:xfrm>
            <a:off x="5364000" y="2637000"/>
            <a:ext cx="3384720" cy="1728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4"/>
          <p:cNvSpPr/>
          <p:nvPr/>
        </p:nvSpPr>
        <p:spPr>
          <a:xfrm>
            <a:off x="1403280" y="2276640"/>
            <a:ext cx="3816360" cy="18716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5"/>
          <p:cNvSpPr/>
          <p:nvPr/>
        </p:nvSpPr>
        <p:spPr>
          <a:xfrm>
            <a:off x="2700360" y="4508640"/>
            <a:ext cx="3743280" cy="18730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6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1403280" y="333360"/>
            <a:ext cx="77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Связи экологии с другими нау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763640" y="3860640"/>
            <a:ext cx="68407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кология обычно рассматривается как подотрасль биологии, общей науки о живых организм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экология такж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вязана со многими другими науками именно потому, что она изучает организацию живых организмов на очень высоком уровне, исследует связи между организмами и их средой об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2625840" y="2924280"/>
            <a:ext cx="1511280" cy="57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2770200" y="299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5"/>
          <p:cNvSpPr/>
          <p:nvPr/>
        </p:nvSpPr>
        <p:spPr>
          <a:xfrm>
            <a:off x="4786200" y="2925720"/>
            <a:ext cx="1295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6"/>
          <p:cNvSpPr/>
          <p:nvPr/>
        </p:nvSpPr>
        <p:spPr>
          <a:xfrm>
            <a:off x="6657840" y="2925720"/>
            <a:ext cx="1295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4930920" y="29973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2"/>
          <p:cNvSpPr/>
          <p:nvPr/>
        </p:nvSpPr>
        <p:spPr>
          <a:xfrm>
            <a:off x="6802560" y="29973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3"/>
          <p:cNvSpPr/>
          <p:nvPr/>
        </p:nvSpPr>
        <p:spPr>
          <a:xfrm>
            <a:off x="4788000" y="1341360"/>
            <a:ext cx="143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Эк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4"/>
          <p:cNvSpPr/>
          <p:nvPr/>
        </p:nvSpPr>
        <p:spPr>
          <a:xfrm flipH="1">
            <a:off x="3708360" y="1701720"/>
            <a:ext cx="1224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5"/>
          <p:cNvSpPr/>
          <p:nvPr/>
        </p:nvSpPr>
        <p:spPr>
          <a:xfrm>
            <a:off x="5940360" y="1701720"/>
            <a:ext cx="9367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6"/>
          <p:cNvSpPr/>
          <p:nvPr/>
        </p:nvSpPr>
        <p:spPr>
          <a:xfrm flipH="1">
            <a:off x="3851280" y="1701720"/>
            <a:ext cx="14414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7"/>
          <p:cNvSpPr/>
          <p:nvPr/>
        </p:nvSpPr>
        <p:spPr>
          <a:xfrm>
            <a:off x="5435640" y="170172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8"/>
          <p:cNvSpPr/>
          <p:nvPr/>
        </p:nvSpPr>
        <p:spPr>
          <a:xfrm>
            <a:off x="5580000" y="1701720"/>
            <a:ext cx="1440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9"/>
          <p:cNvSpPr/>
          <p:nvPr/>
        </p:nvSpPr>
        <p:spPr>
          <a:xfrm>
            <a:off x="6946920" y="1846440"/>
            <a:ext cx="1728720" cy="57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0"/>
          <p:cNvSpPr/>
          <p:nvPr/>
        </p:nvSpPr>
        <p:spPr>
          <a:xfrm>
            <a:off x="7020000" y="1917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1"/>
          <p:cNvSpPr/>
          <p:nvPr/>
        </p:nvSpPr>
        <p:spPr>
          <a:xfrm>
            <a:off x="1763640" y="1917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2"/>
          <p:cNvSpPr/>
          <p:nvPr/>
        </p:nvSpPr>
        <p:spPr>
          <a:xfrm>
            <a:off x="1908000" y="198900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е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3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4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5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2124000" y="549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Экологические фак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1692360" y="141300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Экологические факторы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это элементы окружающей среды, которые вызывают у живых организмов и их сообществ приспособительные реакции (адаптац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835280" y="3141720"/>
            <a:ext cx="540072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, температур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, влажнос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, ветер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, наличие пищ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5, хищни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6, парази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7, конкуренты и т. 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5"/>
          <p:cNvSpPr/>
          <p:nvPr/>
        </p:nvSpPr>
        <p:spPr>
          <a:xfrm>
            <a:off x="2124000" y="476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ая задача эк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1692360" y="2565360"/>
            <a:ext cx="633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лавная же теоретическая и практическая задача экологии — </a:t>
            </a: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раскрыт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общие </a:t>
            </a: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закономерност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организации жизни и на этой основе </a:t>
            </a: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разработат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принципы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рационального использования природных ресурсов в условиях все возрастающего влияния человека на биосферу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Копия (2) Экология 1"/>
          <p:cNvPicPr/>
          <p:nvPr/>
        </p:nvPicPr>
        <p:blipFill>
          <a:blip r:embed="rId1"/>
          <a:stretch/>
        </p:blipFill>
        <p:spPr>
          <a:xfrm>
            <a:off x="7596360" y="620640"/>
            <a:ext cx="1238040" cy="1238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161928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763640" y="1341360"/>
            <a:ext cx="67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заимодействие человеческого общества и природы стало одной из важнейших проблем современности, поскольку положение, которое складывается в отношениях человека с природой, часто становится критичес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2" descr="carbon01"/>
          <p:cNvPicPr/>
          <p:nvPr/>
        </p:nvPicPr>
        <p:blipFill>
          <a:blip r:embed="rId1"/>
          <a:stretch/>
        </p:blipFill>
        <p:spPr>
          <a:xfrm>
            <a:off x="3924360" y="3213000"/>
            <a:ext cx="2340000" cy="29527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03"/>
          <p:cNvSpPr/>
          <p:nvPr/>
        </p:nvSpPr>
        <p:spPr>
          <a:xfrm>
            <a:off x="3635280" y="5877000"/>
            <a:ext cx="2665440" cy="6476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4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5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6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5"/>
          <p:cNvSpPr/>
          <p:nvPr/>
        </p:nvSpPr>
        <p:spPr>
          <a:xfrm>
            <a:off x="1258920" y="278136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худшение состояния водного и воздушного бассей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" descr=""/>
          <p:cNvPicPr/>
          <p:nvPr/>
        </p:nvPicPr>
        <p:blipFill>
          <a:blip r:embed="rId1"/>
          <a:stretch/>
        </p:blipFill>
        <p:spPr>
          <a:xfrm>
            <a:off x="6372360" y="3573360"/>
            <a:ext cx="2319120" cy="2217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e560688110e3"/>
          <p:cNvPicPr/>
          <p:nvPr/>
        </p:nvPicPr>
        <p:blipFill>
          <a:blip r:embed="rId2"/>
          <a:stretch/>
        </p:blipFill>
        <p:spPr>
          <a:xfrm>
            <a:off x="6732720" y="1700280"/>
            <a:ext cx="1895400" cy="14223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20"/>
          <p:cNvSpPr/>
          <p:nvPr/>
        </p:nvSpPr>
        <p:spPr>
          <a:xfrm>
            <a:off x="1619280" y="54936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1" descr="Наза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2" descr="Домой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3" descr="Вперёд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20:45:26Z</dcterms:created>
  <dc:creator>CoYoko</dc:creator>
  <dc:description/>
  <dc:language>en-US</dc:language>
  <cp:lastModifiedBy>LEGION</cp:lastModifiedBy>
  <dcterms:modified xsi:type="dcterms:W3CDTF">2015-05-06T08:09:41Z</dcterms:modified>
  <cp:revision>9</cp:revision>
  <dc:subject/>
  <dc:title>Экология Рядом!</dc:title>
</cp:coreProperties>
</file>