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A471-83CF-4AEF-B4DC-B29515BF4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яд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AE68-36C1-4D62-971F-5396C6FC2A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549C-7B08-4F95-886C-FC649B1BAB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931-D4AE-4726-BB53-72D6C6F3D8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FDF9-3EEB-4B3C-9161-D83D451F59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770C-1492-4A8B-AF14-E29719A68B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траница гиперссы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D53E-608F-4E9C-83E1-B96131A54D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В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́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03E2-8AB2-45BB-BC2A-73DFA216D8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AA0B-07F9-4BE7-B85E-E1B9214E2F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1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2,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3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28CF-3FFE-4BA5-9336-6317A99A33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язи эколог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3B81-5719-4ECC-84FF-EEAA52467A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075D-5842-489E-81E1-329BAA9D7F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ая задач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скры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закономерности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зработа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инцип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0909-FB2B-408E-9C15-A3B853970D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CE16-43BC-41CA-8BBC-14A6CEC03A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5C03-ABDD-49CD-A804-F83CC4BD37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177-265F-4BA1-A9D5-3B835BCB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D59-3E8B-47F8-A379-70A568A2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6AA-F9E4-41A3-83EC-F75891D8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641-D66C-49A0-857F-1A5E2253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599-C4C7-4506-B53D-2B718B6B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29E-9F88-4DB9-868B-9F471085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0A1-4AA4-420A-8B13-C4CB28E1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5E5-DBB9-43C3-8207-B9102B4B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1D7-221F-41FD-A7AB-14A5677D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49E-4829-40ED-B4A6-0BFF3792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90B-D202-4FDD-BF0A-38772A72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49A-DACE-49F2-96E4-B0169C62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D47B-4DC0-4C31-A373-B7AA37B5B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47640" y="952560"/>
            <a:ext cx="7199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Экология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ядо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03280" y="5775480"/>
            <a:ext cx="4784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составлена ученицей ГОУ СОШ № 186 Косяченко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1332000" cy="665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ecology"/>
          <p:cNvPicPr/>
          <p:nvPr/>
        </p:nvPicPr>
        <p:blipFill>
          <a:blip r:embed="rId1"/>
          <a:stretch/>
        </p:blipFill>
        <p:spPr>
          <a:xfrm>
            <a:off x="5580000" y="2908440"/>
            <a:ext cx="2025720" cy="16524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 rot="1091400">
            <a:off x="5157360" y="2770200"/>
            <a:ext cx="27352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476360" y="2708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857680" cy="2800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1619280" y="476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692360" y="285264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427560" cy="2568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лес_240"/>
          <p:cNvPicPr/>
          <p:nvPr/>
        </p:nvPicPr>
        <p:blipFill>
          <a:blip r:embed="rId1"/>
          <a:stretch/>
        </p:blipFill>
        <p:spPr>
          <a:xfrm>
            <a:off x="2195640" y="285264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2843280" y="508464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619280" y="1557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692360" y="1989000"/>
            <a:ext cx="6983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20050514_4"/>
          <p:cNvPicPr/>
          <p:nvPr/>
        </p:nvPicPr>
        <p:blipFill>
          <a:blip r:embed="rId1"/>
          <a:stretch/>
        </p:blipFill>
        <p:spPr>
          <a:xfrm>
            <a:off x="250920" y="3333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01"/>
          <p:cNvPicPr/>
          <p:nvPr/>
        </p:nvPicPr>
        <p:blipFill>
          <a:blip r:embed="rId2"/>
          <a:stretch/>
        </p:blipFill>
        <p:spPr>
          <a:xfrm>
            <a:off x="3708360" y="2421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2"/>
          <p:cNvSpPr/>
          <p:nvPr/>
        </p:nvSpPr>
        <p:spPr>
          <a:xfrm>
            <a:off x="179280" y="189000"/>
            <a:ext cx="540000" cy="3960720"/>
          </a:xfrm>
          <a:custGeom>
            <a:avLst/>
            <a:gdLst>
              <a:gd name="textAreaLeft" fmla="*/ 158760 w 540000"/>
              <a:gd name="textAreaRight" fmla="*/ 540360 w 540000"/>
              <a:gd name="textAreaTop" fmla="*/ 164880 h 3960720"/>
              <a:gd name="textAreaBottom" fmla="*/ 379584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8388360" y="2205000"/>
            <a:ext cx="576360" cy="4176720"/>
          </a:xfrm>
          <a:custGeom>
            <a:avLst/>
            <a:gdLst>
              <a:gd name="textAreaLeft" fmla="*/ 0 w 576360"/>
              <a:gd name="textAreaRight" fmla="*/ 404280 w 5763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Домой"/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1835280" y="981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траница гипер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692360" y="2205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835280" y="4508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47640" y="292572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ru.wikipedia.org/wiki/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bio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2340000" y="198900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47640" y="3716280"/>
            <a:ext cx="63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979640" y="263700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7164360" y="551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альше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619280" y="14842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763640" y="2062080"/>
            <a:ext cx="64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вязи эк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619280" y="263700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Эк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763640" y="3213000"/>
            <a:ext cx="619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Главная задача эк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619280" y="3789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Главные проблемы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763640" y="436572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Реш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619280" y="49417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Страница гиперсс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5364000" y="2637000"/>
            <a:ext cx="338472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403280" y="2276640"/>
            <a:ext cx="3816360" cy="187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2700360" y="4508640"/>
            <a:ext cx="374328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63640" y="3860640"/>
            <a:ext cx="684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93092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802560" y="2997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7020000" y="191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692360" y="1413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835280" y="3141720"/>
            <a:ext cx="54007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692360" y="2565360"/>
            <a:ext cx="63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63640" y="1341360"/>
            <a:ext cx="67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258920" y="278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319120" cy="22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e560688110e3"/>
          <p:cNvPicPr/>
          <p:nvPr/>
        </p:nvPicPr>
        <p:blipFill>
          <a:blip r:embed="rId2"/>
          <a:stretch/>
        </p:blipFill>
        <p:spPr>
          <a:xfrm>
            <a:off x="6732720" y="1700280"/>
            <a:ext cx="1895400" cy="142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LEGION</cp:lastModifiedBy>
  <dcterms:modified xsi:type="dcterms:W3CDTF">2015-05-06T08:09:41Z</dcterms:modified>
  <cp:revision>9</cp:revision>
  <dc:subject/>
  <dc:title>Экология Рядом!</dc:title>
</cp:coreProperties>
</file>