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925F-9569-4A61-8420-482886F278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яд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C278-EF77-415D-95E2-8CCE978A89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458A-8B9F-48DF-9626-9304E3B7B6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3F6A-2D0A-4B22-B82D-18D67A9228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0FED-D93F-4EE7-A0C9-3C1F7DF491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6EB7-48AA-4B35-9EBB-3CD5383775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траница гиперссы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AF1D-F75C-4669-913D-196B2EF6B4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В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́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4160-A69D-4A2A-BD1E-C08A3DE5E3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F856-C031-4918-BE95-CC3A99DECB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2,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3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B239-D820-425F-BEA2-2D93709349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язи эколог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4F0A-3F6E-4173-AF83-A50BBA67B4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10B4-0F31-48B6-BDBA-F9E802D20A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ая задач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скры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закономерност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зработа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инцип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A01E-9BD9-40B2-A75D-A563E6D979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DFB-F069-4AB1-8B3E-D870515790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99EC-B901-46A1-9617-361338A546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146-6385-46F2-855F-027048F5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682-3EFD-42D8-B2C0-8F172289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FB9-836D-459F-B631-16D84781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D1A-5B31-479D-AAA9-79D0496A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9C7-4C27-4C69-9F79-CE820DD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13B-95AF-4F65-9473-0D553EB8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209-5F35-41CA-BD88-37DAF14B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7F1-03E1-4D15-BAE2-744172F7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F0D-D90B-42AA-B489-BDDB7B39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B98-175E-4CA5-A39D-5621D3A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3C8-19C1-44D9-996F-D8DE2203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5FC-4E58-4D60-8956-F6D7E91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D673-4411-4C9A-A5D3-A06E823C1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47640" y="952560"/>
            <a:ext cx="719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Экология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ядо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03280" y="5775480"/>
            <a:ext cx="4784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составлена ученицей ГОУ СОШ № 186 Косяченко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1332000" cy="665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ecology"/>
          <p:cNvPicPr/>
          <p:nvPr/>
        </p:nvPicPr>
        <p:blipFill>
          <a:blip r:embed="rId1"/>
          <a:stretch/>
        </p:blipFill>
        <p:spPr>
          <a:xfrm>
            <a:off x="5580000" y="2908440"/>
            <a:ext cx="2025720" cy="1652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091400">
            <a:off x="5157360" y="2770200"/>
            <a:ext cx="27352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476360" y="2708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857680" cy="2800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1619280" y="476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692360" y="2852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427560" cy="2568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лес_240"/>
          <p:cNvPicPr/>
          <p:nvPr/>
        </p:nvPicPr>
        <p:blipFill>
          <a:blip r:embed="rId1"/>
          <a:stretch/>
        </p:blipFill>
        <p:spPr>
          <a:xfrm>
            <a:off x="2195640" y="285264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843280" y="50846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619280" y="1557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692360" y="1989000"/>
            <a:ext cx="698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50514_4"/>
          <p:cNvPicPr/>
          <p:nvPr/>
        </p:nvPicPr>
        <p:blipFill>
          <a:blip r:embed="rId1"/>
          <a:stretch/>
        </p:blipFill>
        <p:spPr>
          <a:xfrm>
            <a:off x="250920" y="3333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01"/>
          <p:cNvPicPr/>
          <p:nvPr/>
        </p:nvPicPr>
        <p:blipFill>
          <a:blip r:embed="rId2"/>
          <a:stretch/>
        </p:blipFill>
        <p:spPr>
          <a:xfrm>
            <a:off x="3708360" y="2421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2"/>
          <p:cNvSpPr/>
          <p:nvPr/>
        </p:nvSpPr>
        <p:spPr>
          <a:xfrm>
            <a:off x="179280" y="189000"/>
            <a:ext cx="540000" cy="3960720"/>
          </a:xfrm>
          <a:custGeom>
            <a:avLst/>
            <a:gdLst>
              <a:gd name="textAreaLeft" fmla="*/ 158760 w 540000"/>
              <a:gd name="textAreaRight" fmla="*/ 540360 w 54000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8388360" y="2205000"/>
            <a:ext cx="576360" cy="4176720"/>
          </a:xfrm>
          <a:custGeom>
            <a:avLst/>
            <a:gdLst>
              <a:gd name="textAreaLeft" fmla="*/ 0 w 576360"/>
              <a:gd name="textAreaRight" fmla="*/ 404280 w 576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Домой"/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835280" y="981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траница гипер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692360" y="2205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835280" y="4508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47640" y="292572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ru.wikipedia.org/wiki/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bio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2340000" y="198900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47640" y="3716280"/>
            <a:ext cx="63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979640" y="263700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7164360" y="551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альше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619280" y="14842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63640" y="206208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вязи эк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619280" y="26370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Эк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763640" y="3213000"/>
            <a:ext cx="61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Главная задача эк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619280" y="3789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Главные проблемы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63640" y="436572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Реш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619280" y="4941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Страница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364000" y="2637000"/>
            <a:ext cx="338472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403280" y="2276640"/>
            <a:ext cx="3816360" cy="187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2700360" y="4508640"/>
            <a:ext cx="374328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3640" y="3860640"/>
            <a:ext cx="68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93092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802560" y="2997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7020000" y="191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692360" y="1413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835280" y="3141720"/>
            <a:ext cx="54007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692360" y="2565360"/>
            <a:ext cx="63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1341360"/>
            <a:ext cx="67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258920" y="278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319120" cy="22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e560688110e3"/>
          <p:cNvPicPr/>
          <p:nvPr/>
        </p:nvPicPr>
        <p:blipFill>
          <a:blip r:embed="rId2"/>
          <a:stretch/>
        </p:blipFill>
        <p:spPr>
          <a:xfrm>
            <a:off x="6732720" y="1700280"/>
            <a:ext cx="1895400" cy="142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LEGION</cp:lastModifiedBy>
  <dcterms:modified xsi:type="dcterms:W3CDTF">2015-05-06T08:09:41Z</dcterms:modified>
  <cp:revision>9</cp:revision>
  <dc:subject/>
  <dc:title>Экология Рядом!</dc:title>
</cp:coreProperties>
</file>