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272B-19AF-4F9B-A781-7B46F442E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E57B-BD28-4FB4-92DB-9BFBDE2FD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EE3F-1EED-436B-8A1A-0FCD1E1C8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BA1A-9C83-46C2-B2F4-0C6FA2949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E61B-6D07-4040-BF5C-8A9A38B43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6EE0-8684-4492-9B2C-51DF83C10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0ED1-8D80-438F-9BC0-CCD2F2FD2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B82B-23BD-49EA-AF8E-C322CCAE5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5EB6-D448-4B96-A382-82263CF14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3CAF-54AA-4898-B362-D52E5BD75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4A1E-CAEA-4775-91F0-E6ACDC108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DD47-C7D2-46F3-B31C-459C5455B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A4EC-BEB5-4A75-BA88-C61E6E11E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D8E8-C505-4B99-890A-DD4D9E70D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EF05-7686-483D-B1B4-99C3B5A02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1F70-5CDB-47E6-BB5E-D8310FB54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AEB4-11B9-4F6A-83DA-358583FA0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CCFF-D7F0-4F36-B230-81EE496EAB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6672-F213-4B11-816E-E8D9010C5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A6B8-9D03-4968-A68C-9A25620D1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8B50-0A9A-40BA-8D68-93BA90F77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D7EA-4FD3-4B77-A29B-FE44EE72F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F38E-9063-4955-AFD3-C33575BF13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725E-B7E7-4C6E-8442-721044748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8391-F8B6-44B7-A6D7-4B15ECCFE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5455-094D-468D-B885-126D989B9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B7A1-EA00-4043-8D16-753217000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3F52-2BA5-4232-AB81-7523ED17F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3295-7910-4FD1-BD54-CF2FB3336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8C88-63E5-4E0E-BD8E-F7EDE1E991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7D43-C2A3-4B10-A84B-CE924E538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BBB6-D815-4CB9-946D-468A461C6D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0C8D-D971-4931-B28C-93EF4AD0B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4F4B-ED61-44F4-850C-2B3A00AEF6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2D85-2D41-478D-A1E5-0FD97022C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200"/>
            </a:br>
            <a:br>
              <a:rPr sz="12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8770-2F29-423F-BE41-BAEB55C11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1A10-6E91-4BDC-AE7F-5129BEA57B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953-E320-4D15-AFB3-D2A3EB33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D46-0358-4AD6-AD53-151E3C5F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12C-55E8-498A-949E-C665412F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35B-EE1A-4AFB-96C1-7069BF47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3FA-FECD-44F6-9069-90B988D7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3DD-2DF9-4E66-86D8-E34C036E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C1C-4572-4B25-BF78-72161DCB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772-13AF-4C5A-AFAA-B7F33CB2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E19-A33B-4A9D-9D52-1E494D03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D98-8B21-4171-BF2F-11DBB876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F3D-917A-4347-9481-8993DDF9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53D-E4E3-49C5-ADBC-24C9AB06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2A20-35FE-43F3-A155-CF80E7B02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 rot="10800000">
            <a:off x="3238200" y="4030200"/>
            <a:ext cx="3598920" cy="251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994200"/>
            <a:ext cx="806760" cy="1971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6804720" y="6081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65480" y="3094200"/>
            <a:ext cx="1079640" cy="323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не)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489480" y="2949480"/>
            <a:ext cx="61092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5110200" y="2949480"/>
            <a:ext cx="61128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rot="10800000">
            <a:off x="325080" y="4258800"/>
            <a:ext cx="8637480" cy="234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на же и глаголы сами по себе подобны мысли без связы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разъединения, например «человек» или «белое»;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прибавляется, нет ни ложного, ни истинного, хот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и обозначают что-то: ведь и «козлоолень» что-то обознач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щё не истинно и не ложно, когда не прибавлен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лагол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ыть» или «не быть» – либо вообще, либо касательно врем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rot="10800000">
            <a:off x="539640" y="3381120"/>
            <a:ext cx="647856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й я называю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сылку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 или не присущем ни одн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астной – о присущем или не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м или присущем не все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ределённой – о присущем ил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м без указания т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ая ли она или частная, как, например, </a:t>
            </a:r>
            <a:br>
              <a:rPr sz="1800"/>
            </a:b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удовольствие не есть благо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381480"/>
            <a:ext cx="968400" cy="2367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6798240" y="6081840"/>
            <a:ext cx="229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Перв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5"/>
          <p:cNvSpPr/>
          <p:nvPr/>
        </p:nvSpPr>
        <p:spPr>
          <a:xfrm>
            <a:off x="4138560" y="5829480"/>
            <a:ext cx="71928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140360" y="4570560"/>
            <a:ext cx="71892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2050920" y="2698920"/>
            <a:ext cx="50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термин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распределён в посылк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не может быть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пределён в вы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305080" y="2698920"/>
            <a:ext cx="449892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иллог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συλλογισμό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умозаключени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котор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авл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ое отнош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 понятия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их отно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екоему третьему поня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3201840" y="334656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201840" y="183528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201840" y="5433840"/>
            <a:ext cx="2735280" cy="719280"/>
          </a:xfrm>
          <a:prstGeom prst="rightArrow">
            <a:avLst>
              <a:gd name="adj1" fmla="val 50000"/>
              <a:gd name="adj2" fmla="val 9507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798560" y="5073480"/>
            <a:ext cx="144000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593712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870200" y="4570560"/>
            <a:ext cx="54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593712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179856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179856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93712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8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9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0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1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233856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22220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7197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3400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7197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608184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22220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608184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48 0 E">
                                      <p:cBhvr>
                                        <p:cTn id="126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1 0 E">
                                      <p:cBhvr>
                                        <p:cTn id="127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29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445 0 E">
                                      <p:cBhvr>
                                        <p:cTn id="129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12622 0.00185 E">
                                      <p:cBhvr>
                                        <p:cTn id="131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0.17726 0.00185 E">
                                      <p:cBhvr>
                                        <p:cTn id="132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14618 0.00185 E">
                                      <p:cBhvr>
                                        <p:cTn id="134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63 0 E">
                                      <p:cBhvr>
                                        <p:cTn id="134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872 0 E">
                                      <p:cBhvr>
                                        <p:cTn id="1402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"/>
          <p:cNvSpPr/>
          <p:nvPr/>
        </p:nvSpPr>
        <p:spPr>
          <a:xfrm>
            <a:off x="1222200" y="240984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284148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6081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12222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6081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770112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284148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70112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4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84 0 E">
                                      <p:cBhvr>
                                        <p:cTn id="150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150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5 0 E">
                                      <p:cBhvr>
                                        <p:cTn id="152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822 0 E">
                                      <p:cBhvr>
                                        <p:cTn id="153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6 0 E">
                                      <p:cBhvr>
                                        <p:cTn id="1554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267 0 E">
                                      <p:cBhvr>
                                        <p:cTn id="155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604 0 E">
                                      <p:cBhvr>
                                        <p:cTn id="157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 E">
                                      <p:cBhvr>
                                        <p:cTn id="158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 rot="16200000">
            <a:off x="759204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3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25"/>
          <p:cNvSpPr/>
          <p:nvPr/>
        </p:nvSpPr>
        <p:spPr>
          <a:xfrm>
            <a:off x="7197840" y="511020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233856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539640" y="212256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165420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719784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2340000" y="348948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7197840" y="348948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5397480" y="212256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539640" y="374184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1"/>
          <p:cNvSpPr/>
          <p:nvPr/>
        </p:nvSpPr>
        <p:spPr>
          <a:xfrm>
            <a:off x="5397480" y="374184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651348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3"/>
          <p:cNvSpPr/>
          <p:nvPr/>
        </p:nvSpPr>
        <p:spPr>
          <a:xfrm>
            <a:off x="165420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4"/>
          <p:cNvSpPr/>
          <p:nvPr/>
        </p:nvSpPr>
        <p:spPr>
          <a:xfrm>
            <a:off x="651348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53964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539748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53964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539748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374920" y="511020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539640" y="536112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22"/>
          <p:cNvSpPr/>
          <p:nvPr/>
        </p:nvSpPr>
        <p:spPr>
          <a:xfrm>
            <a:off x="5397480" y="536112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3"/>
          <p:cNvSpPr/>
          <p:nvPr/>
        </p:nvSpPr>
        <p:spPr>
          <a:xfrm>
            <a:off x="165420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4"/>
          <p:cNvSpPr/>
          <p:nvPr/>
        </p:nvSpPr>
        <p:spPr>
          <a:xfrm>
            <a:off x="651348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53964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539748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5 0 E">
                                      <p:cBhvr>
                                        <p:cTn id="1738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82 0 E">
                                      <p:cBhvr>
                                        <p:cTn id="1742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04 0 E">
                                      <p:cBhvr>
                                        <p:cTn id="176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76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46 0 E">
                                      <p:cBhvr>
                                        <p:cTn id="178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521 0 E">
                                      <p:cBhvr>
                                        <p:cTn id="179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5 0 E">
                                      <p:cBhvr>
                                        <p:cTn id="181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43 0 E">
                                      <p:cBhvr>
                                        <p:cTn id="1817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4 0 E">
                                      <p:cBhvr>
                                        <p:cTn id="183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41 0 E">
                                      <p:cBhvr>
                                        <p:cTn id="1841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302 0 E">
                                      <p:cBhvr>
                                        <p:cTn id="1845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4 0 E">
                                      <p:cBhvr>
                                        <p:cTn id="186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870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3640" y="2878200"/>
            <a:ext cx="403848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445800" y="5576760"/>
            <a:ext cx="16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84-3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ristoteles (Kopenhagen, Ny Carlsberg Glyptothek 1 - red-ed)"/>
          <p:cNvPicPr/>
          <p:nvPr/>
        </p:nvPicPr>
        <p:blipFill>
          <a:blip r:embed="rId1"/>
          <a:stretch/>
        </p:blipFill>
        <p:spPr>
          <a:xfrm>
            <a:off x="5937120" y="1619280"/>
            <a:ext cx="26290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 rot="10800000">
            <a:off x="69480" y="1294920"/>
            <a:ext cx="7916760" cy="54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727380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521480" y="2014560"/>
            <a:ext cx="1454400" cy="35510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5760" y="1349280"/>
            <a:ext cx="8589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nodeType="clickEffect" fill="hold">
                      <p:stCondLst>
                        <p:cond delay="indefinite"/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3"/>
          <p:cNvSpPr/>
          <p:nvPr/>
        </p:nvSpPr>
        <p:spPr>
          <a:xfrm rot="10800000">
            <a:off x="250920" y="172656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nodeType="clickEffect" fill="hold">
                      <p:stCondLst>
                        <p:cond delay="indefinite"/>
                      </p:stCondLst>
                      <p:childTnLst>
                        <p:par>
                          <p:cTn id="2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17928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161928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5" name="AutoShape 8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6" name="AutoShape 9"/>
          <p:cNvCxnSpPr/>
          <p:nvPr/>
        </p:nvCxnSpPr>
        <p:spPr>
          <a:xfrm>
            <a:off x="755604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07" name="AutoShape 10"/>
          <p:cNvSpPr/>
          <p:nvPr/>
        </p:nvSpPr>
        <p:spPr>
          <a:xfrm>
            <a:off x="314784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6116760" y="305748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исключё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AutoShape 12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0" name="Line 13"/>
          <p:cNvSpPr/>
          <p:nvPr/>
        </p:nvSpPr>
        <p:spPr>
          <a:xfrm>
            <a:off x="458784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64764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61620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A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1"/>
          <p:cNvSpPr/>
          <p:nvPr/>
        </p:nvSpPr>
        <p:spPr>
          <a:xfrm>
            <a:off x="3184200" y="5218200"/>
            <a:ext cx="287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могут бы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временно истинны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а  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я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6585120" y="4497480"/>
            <a:ext cx="1942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~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4" descr="or"/>
          <p:cNvPicPr/>
          <p:nvPr/>
        </p:nvPicPr>
        <p:blipFill>
          <a:blip r:embed="rId1"/>
          <a:stretch/>
        </p:blipFill>
        <p:spPr>
          <a:xfrm>
            <a:off x="155520" y="46080"/>
            <a:ext cx="95400" cy="1047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5"/>
          <p:cNvSpPr/>
          <p:nvPr/>
        </p:nvSpPr>
        <p:spPr>
          <a:xfrm>
            <a:off x="6131160" y="5218200"/>
            <a:ext cx="289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дву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й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 непременно исти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78120" y="5218200"/>
            <a:ext cx="308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гические вывод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дёжны лишь при услови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все понятия (термины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пределах рассужд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еют один и тот же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nodeType="clickEffect" fill="hold">
                      <p:stCondLst>
                        <p:cond delay="indefinite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nodeType="clickEffect" fill="hold">
                      <p:stCondLst>
                        <p:cond delay="0"/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delay="indefinite"/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rot="10800000">
            <a:off x="53964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10800000">
            <a:off x="312732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5000" y="597384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ма Акв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мма теолог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ма Аквинский (Гоццоли - red)"/>
          <p:cNvPicPr/>
          <p:nvPr/>
        </p:nvPicPr>
        <p:blipFill>
          <a:blip r:embed="rId1"/>
          <a:stretch/>
        </p:blipFill>
        <p:spPr>
          <a:xfrm>
            <a:off x="216000" y="1727280"/>
            <a:ext cx="2657520" cy="39337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619280" y="1978200"/>
            <a:ext cx="5938920" cy="313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87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5"/>
          <p:cNvCxnSpPr/>
          <p:nvPr/>
        </p:nvCxnSpPr>
        <p:spPr>
          <a:xfrm>
            <a:off x="14378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1" name="Oval 6"/>
          <p:cNvSpPr/>
          <p:nvPr/>
        </p:nvSpPr>
        <p:spPr>
          <a:xfrm>
            <a:off x="1619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87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1619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9"/>
          <p:cNvCxnSpPr/>
          <p:nvPr/>
        </p:nvCxnSpPr>
        <p:spPr>
          <a:xfrm>
            <a:off x="14378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5" name="Oval 10"/>
          <p:cNvSpPr/>
          <p:nvPr/>
        </p:nvSpPr>
        <p:spPr>
          <a:xfrm>
            <a:off x="287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авр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1"/>
          <p:cNvCxnSpPr/>
          <p:nvPr/>
        </p:nvCxnSpPr>
        <p:spPr>
          <a:xfrm>
            <a:off x="14378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7" name="Oval 12"/>
          <p:cNvSpPr/>
          <p:nvPr/>
        </p:nvSpPr>
        <p:spPr>
          <a:xfrm>
            <a:off x="1619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лебоп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4"/>
          <p:cNvCxnSpPr/>
          <p:nvPr/>
        </p:nvCxnSpPr>
        <p:spPr>
          <a:xfrm>
            <a:off x="4462200" y="2517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89" name="AutoShape 17"/>
          <p:cNvCxnSpPr/>
          <p:nvPr/>
        </p:nvCxnSpPr>
        <p:spPr>
          <a:xfrm>
            <a:off x="4462200" y="403020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0" name="Rectangle 19"/>
          <p:cNvSpPr/>
          <p:nvPr/>
        </p:nvSpPr>
        <p:spPr>
          <a:xfrm>
            <a:off x="6405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20"/>
          <p:cNvCxnSpPr/>
          <p:nvPr/>
        </p:nvCxnSpPr>
        <p:spPr>
          <a:xfrm>
            <a:off x="75560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2" name="Rectangle 21"/>
          <p:cNvSpPr/>
          <p:nvPr/>
        </p:nvSpPr>
        <p:spPr>
          <a:xfrm>
            <a:off x="7737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путник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6405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23"/>
          <p:cNvCxnSpPr/>
          <p:nvPr/>
        </p:nvCxnSpPr>
        <p:spPr>
          <a:xfrm>
            <a:off x="75560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5" name="Rectangle 24"/>
          <p:cNvSpPr/>
          <p:nvPr/>
        </p:nvSpPr>
        <p:spPr>
          <a:xfrm>
            <a:off x="7737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олица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ра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6405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26"/>
          <p:cNvCxnSpPr/>
          <p:nvPr/>
        </p:nvCxnSpPr>
        <p:spPr>
          <a:xfrm>
            <a:off x="75560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8" name="Rectangle 27"/>
          <p:cNvSpPr/>
          <p:nvPr/>
        </p:nvSpPr>
        <p:spPr>
          <a:xfrm>
            <a:off x="7737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втор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Отел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9"/>
          <p:cNvCxnSpPr/>
          <p:nvPr/>
        </p:nvCxnSpPr>
        <p:spPr>
          <a:xfrm>
            <a:off x="4462200" y="5541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00" name="AutoShape 13"/>
          <p:cNvSpPr/>
          <p:nvPr/>
        </p:nvSpPr>
        <p:spPr>
          <a:xfrm>
            <a:off x="2986200" y="1762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4678200" y="1762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2986200" y="327348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и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4678200" y="327348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я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8"/>
          <p:cNvSpPr/>
          <p:nvPr/>
        </p:nvSpPr>
        <p:spPr>
          <a:xfrm>
            <a:off x="2986200" y="4786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0"/>
          <p:cNvSpPr/>
          <p:nvPr/>
        </p:nvSpPr>
        <p:spPr>
          <a:xfrm>
            <a:off x="4678200" y="4786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6"/>
          <p:cNvSpPr/>
          <p:nvPr/>
        </p:nvSpPr>
        <p:spPr>
          <a:xfrm>
            <a:off x="6116760" y="4317840"/>
            <a:ext cx="2519280" cy="24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6189840" y="521820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7"/>
          <p:cNvSpPr/>
          <p:nvPr/>
        </p:nvSpPr>
        <p:spPr>
          <a:xfrm>
            <a:off x="6189840" y="449748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9"/>
          <p:cNvSpPr/>
          <p:nvPr/>
        </p:nvSpPr>
        <p:spPr>
          <a:xfrm rot="2700000">
            <a:off x="7016760" y="5145120"/>
            <a:ext cx="719280" cy="7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3327480" y="431784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9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7" name="AutoShape 10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8" name="AutoShape 11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19" name="AutoShape 15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мо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8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2" name="Line 19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539640" y="4317840"/>
            <a:ext cx="1224000" cy="1224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1870200" y="431784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3381480" y="437184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7"/>
          <p:cNvSpPr/>
          <p:nvPr/>
        </p:nvSpPr>
        <p:spPr>
          <a:xfrm>
            <a:off x="4713120" y="437184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3327480" y="557676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539640" y="5576760"/>
            <a:ext cx="118764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1870200" y="557676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Спут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462560" y="4875120"/>
            <a:ext cx="252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3381480" y="563076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462560" y="6135840"/>
            <a:ext cx="252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5"/>
          <p:cNvSpPr/>
          <p:nvPr/>
        </p:nvSpPr>
        <p:spPr>
          <a:xfrm>
            <a:off x="4713120" y="5630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путник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6189840" y="5937120"/>
            <a:ext cx="2374560" cy="64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0"/>
          <p:cNvSpPr/>
          <p:nvPr/>
        </p:nvSpPr>
        <p:spPr>
          <a:xfrm>
            <a:off x="6224760" y="453384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232760" y="4786200"/>
            <a:ext cx="287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7521480" y="453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6224760" y="525312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7232760" y="550548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5"/>
          <p:cNvSpPr/>
          <p:nvPr/>
        </p:nvSpPr>
        <p:spPr>
          <a:xfrm>
            <a:off x="7521480" y="525312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6224760" y="597384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ед.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7232760" y="622476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7521480" y="597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100000">
                                      <p:cBhvr>
                                        <p:cTn id="4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2:15:44Z</dcterms:created>
  <dc:creator>Николай Бирюков / Nikolai Biryukov</dc:creator>
  <dc:description>Редакция декабря 2009 г.</dc:description>
  <dc:language>en-US</dc:language>
  <cp:lastModifiedBy>LEGION</cp:lastModifiedBy>
  <dcterms:modified xsi:type="dcterms:W3CDTF">2014-11-11T09:36:04Z</dcterms:modified>
  <cp:revision>455</cp:revision>
  <dc:subject>Основы философии - Тема 5, часть 2</dc:subject>
  <dc:title>Философия Аристотеля: теория познания и логика</dc:title>
</cp:coreProperties>
</file>