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6E20-9133-4029-94B7-8D532AD10E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ч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, жилище, убежище, род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учение,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упомянуто Э. Геккелем – наука об отношениях организмов с окружающей 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A8AB-B050-486F-B052-0ED966FF1D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област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ая экология (изучает воздействие предприятий на окружающую сред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56C2-95D3-443E-B8E5-166941B7D1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рмины подчеткивают связь химии и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D164-8008-4C76-ABA2-C4301482F0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химические основы экологических явлений 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EE36-D4C7-48B2-9C68-6BDBF3555B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019C-A687-44B4-8BD3-E742B5D13D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C463-3F54-4D9B-971F-40D645BFD5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78B7-021B-47C8-9BC4-9FD9F79A40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и разнообразные воздействия , которые разрушают естественн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AEC7-93E7-4623-83DA-D29EA201C7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меры естественных загрязн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тря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улканиче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пож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ое самозагрязнение водоемов (цвет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о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82D6-F99A-4CCC-B8FD-560499C245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раткосрочное изменение состава окружающей среды в результате деятельности вулка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азообразных веществ %о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7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1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+HCl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r 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A6E9-D500-43D5-AE9D-DAEFC3B19F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ыбросы –пыль, ды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а, сажа, оксиды серы, азота,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, 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g, Cd, Pb, Cu, Z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27CE-74D8-46F6-A2F9-3BEE31268B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Аг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8D38-5A5A-4E6D-BB70-2C29A5D18B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1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51D5-5302-4338-8600-DFC699226F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лассификация элементов в живых организмах по системе В.И. Вернадск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держанию % м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лементы – более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- 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, S, Cl, Na, Mg – 0,23-0,0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65E7-9A56-4546-A247-3C4FB0F72D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акро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, H, O, N, P,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основу биомолекулы клетки: белкиб нуклеиновые кислоты, липиды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иогенные эле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9315-4887-4209-8634-5352A54562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екоторыхэлементов в органах, тканях и биожидкостя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, Mg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ная жидкост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Са,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сы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, As,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, Li, Na, Ca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Se, Mo, Zn, Ca, Mg, K,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C2D5-9F51-43FA-B3DA-7096B05603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ые способы защиты от загряз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ы серы и азота – кисл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ейтрализуют веществами основного характера – известь Са(ОН)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ксид маг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O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×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4NO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2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окис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=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=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3C39-C71C-430D-B4BF-6B3BCC412A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«полиэтиленовой пле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ают темпы сжигания топлива, растет количество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ызывает повышение средней температуры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B9AF-387E-4F91-8CDF-38C17F194A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которой степени аэрозоли снижают 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 необходимо снижать поступление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 приемлемых путей решения этой проблемы пока не найд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9F63-3FE2-4422-B241-97A143F706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DD13-2DC2-496C-9A51-64210198D8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AEEA-6312-467A-B8F5-7572036E56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экологии в естествозн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B426-9CB3-47A4-A0E4-56A74535D6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2933-A938-4722-822D-322C450E27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эта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Н. Сукачев-1942г понятие биогеоцен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 учение о би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4 г. Им введено понятие но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0-1950 гг экология превращается в точную нау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CAEA-2D6F-4D3A-B00C-261C1C549B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4 г. Г. Гаага (Нидерлан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онгресс экологов, основано Международное общество экологов (ИНТ-ЭКО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 В России принят Закон об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B1A2-83D6-4E8E-8FAD-D2C88CF268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ь основных исторических этап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г.г.-термин экология применяется к исследованию сообществ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0 г.г. – объект пристального изучения глобальная экосистема – би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стоящее время – этап признания ответственности общества за судьбу всей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D436-6D76-4099-870D-CABAA9DBC2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F71-A390-4B65-A73C-426BADBA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2D5-5ADF-4976-B18A-3B09D8CD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324-42F2-4923-AC04-1A1CC60E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DE8-0088-4C7B-B0BE-E61CFEED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275-77FA-4B7D-9162-72A253C9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D94-ABF9-4E28-9DE8-C60CB489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F55-61E3-458C-B878-CCCB552E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9EA7-6B0E-40D5-BF87-949027D6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871-9716-47E2-B542-96B05415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4DD-50BC-4C26-BF75-B5DD8806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646-B462-4B97-904D-62185568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0334-2A11-4657-A3D4-B21AC1D6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C9BC-576B-4583-90B1-019477A311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, жилище, убежище, 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, учение, на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ервые упомянуто Э. Геккелем – наука об отношениях организмов с окружающей 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области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шленная экология (изучает воздействие предприятий на окружающую сред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термины подчеткивают связь химии и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ая хи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, изучающая химические основы экологических явлений и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численные и разнообразные воздействия , которые разрушают естественн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естественных загряз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лкан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ческое самозагрязнение водоемов (цвет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срочное изменение состава окружающей среды в результате деятельности вул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азообразных веществ %о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яной пар – 7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+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+HCl+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r 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виды загряз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дные выбросы –пыль, д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, сажа, оксиды серы, азота,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,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g, Cd, Pb, Cu, 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П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ьер Аг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ь 1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техногенное влияние на литосферу"/>
          <p:cNvPicPr/>
          <p:nvPr/>
        </p:nvPicPr>
        <p:blipFill>
          <a:blip r:embed="rId1"/>
          <a:stretch/>
        </p:blipFill>
        <p:spPr>
          <a:xfrm>
            <a:off x="2038320" y="1517760"/>
            <a:ext cx="5067360" cy="382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элементов в живых организмах по системе В.И. Верна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одержанию % м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роэлементы – более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-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-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, S, Cl, Na, Mg – 0,23-0,0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акро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, H, O, N, P, 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ляют основу биомолекулы клетки: белкиб нуклеиновые кислоты, липиды, угле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иогенные элемент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некоторыхэлементов в органах, тканях и биожидкостях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зг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ная жидкост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 – Са,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к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осы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, As,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в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, Li, Na, Ca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Se, Mo, Zn, Ca, Mg, K,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которые способы защиты от загрязне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сиды серы и азота – кисл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нейтрализуют веществами основного характера – известь Са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ксид маг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O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NO+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2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ок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=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никовый эфф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 «полиэтиленовой пле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ают темпы сжигания топлива, растет количество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тмосф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вызывает повышение средней температуры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некоторой степени аэрозоли снижают парниковый эфф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 не менее необходимо снижать поступление 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тмосф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и приемлемых путей решения этой проблемы пока не найд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элементы менее 10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, Cu, As, F, Br, Sr, Ba, C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то экологии в естествозн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mage12"/>
          <p:cNvPicPr/>
          <p:nvPr/>
        </p:nvPicPr>
        <p:blipFill>
          <a:blip r:embed="rId1"/>
          <a:stretch/>
        </p:blipFill>
        <p:spPr>
          <a:xfrm>
            <a:off x="539640" y="1685880"/>
            <a:ext cx="8136000" cy="462276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эта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Н. Сукачев-1942г понятие биогеоце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 Вернадский учение о био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4 г. Им введено понятие но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0-1950 гг экология превращается в точную на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74 г. Г. Гаага (Нидерланд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й конгресс экологов, основано Международное общество экологов (ИНТ-ЭК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92 г. В России принят Закон об охране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ять основных исторических этап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20 г.г.-термин экология применяется к исследованию сообществ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70 г.г. – объект пристального изучения глобальная экосистема – 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астоящее время – этап признания ответственности общества за судьбу всей би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9:40:03Z</dcterms:created>
  <dc:creator>Маргарита</dc:creator>
  <dc:description/>
  <dc:language>en-US</dc:language>
  <cp:lastModifiedBy>LEGION</cp:lastModifiedBy>
  <dcterms:modified xsi:type="dcterms:W3CDTF">2015-05-06T08:10:25Z</dcterms:modified>
  <cp:revision>4</cp:revision>
  <dc:subject/>
  <dc:title>Экология</dc:title>
</cp:coreProperties>
</file>