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6F69C-35B2-4891-9449-8FD034B2CE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еч.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kos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, жилище, убежище, род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gos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, учение, нау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упомянуто Э. Геккелем – наука об отношениях организмов с окружающей 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8C7C-6F62-45C9-89B0-AA79D25829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области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шленная экология (изучает воздействие предприятий на окружающую сред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слов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я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эколог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9710-89FB-4F85-BFAD-B3B7D4C171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о химических азаимодействиях между живыми организмами или между живой и неживой приро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термины подчеткивают связь химии и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077D-D670-468D-82D2-76331C2A8E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ая 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 о химических процессах и азаимодействиях в окружающей среде, а также о последствиях таких взаимо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а, изучающая химические основы экологических явлений и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349D-54CE-4D99-91BE-B5C6475252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экологической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зменений химического состава окружающей среды и прогнозирования возможных экологических последствий таких изме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8960-E5BC-4208-AFFA-DA6AB39727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экологической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энерго и ресурсосберегающих технологий, сведение к минимуму выбросов в атмосферу и гидро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гается путем комплексного использования сырья, внедрение безотходных производст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7E08-6A26-4C8E-9FFE-08C84F825B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овышение эффективности очистки выбрасываемых в атмосферу газов и сбрасываемых в водоемы сточных вод вредны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ценка воздействия на окружающую среду загрязняющих веществ и прогнозирование их дальнейшего поведения, распространения и превращения в другие вещества подвлиянием факторов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B4CA-4828-4A62-B3D9-DF562A0D7D7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численные и разнообразные воздействия , которые разрушают естественн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ют как в силу естественных причин, так и врезультате деятельности человека(антропогенные загрязн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8017-6BFD-47A2-BC4E-9394C489E8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имеры естественных загрязне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етряс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улканическ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сные пож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ческое самозагрязнение водоемов (цвет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роз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F9B68-4654-480A-A593-6BA525070C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раткосрочное изменение состава окружающей среды в результате деятельности вулкан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газообразных веществ %о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яной пар – 7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1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7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+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+HCl+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Ar – 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503F-126A-41AA-94C9-F9E916709A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виды загряз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ные выбросы –пыль, ды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ла, сажа, оксиды серы, азота,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О, С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чные воды предприятий, животноводческих ферм, бытовые с.в., содержащие неорганические, органические в-ва, микроорганиз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грязнения водной среды и почвы нефтепродуктами, минеральными солями, тяжелыми металлами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g, Cd, Pb, Cu, Z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р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СП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F5DD-7333-4142-BBBF-0C82D75176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ьер Аг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узкий ученый эколог «экология наука не только естественная, она должна включать в себя и другие дисциплины, например такие, как экономика право, экономика, социология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B3147-0234-40CB-BA0A-6133A3FD26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10.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7061-C39B-4373-A451-C43DA09F97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лассификация элементов в живых организмах по системе В.И. Вернадског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одержанию % м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роэлементы – более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- 6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- 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–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 –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, S, Cl, Na, Mg – 0,23-0,0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04C1-1786-460D-ADFC-729A13C20D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макроэлем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, H, O, N, P, 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яют основу биомолекулы клетки: белкиб нуклеиновые кислоты, липиды, угле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</a:t>
            </a: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иогенные элемент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лементы, необходимые для построения и жизнедеятельности различных клеток и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6D7F-3754-4372-B139-0858E70B9C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некоторыхэлементов в органах, тканях и биожидкостях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, Mg,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зная жидкость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 – Са,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кие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, 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осы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, As,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вь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, Li, Na, Ca, 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чень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, Se, Mo, Zn, Ca, Mg, K, 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D3A6-2D98-443C-8465-53B3FBFD51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которые способы защиты от загрязнени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сиды серы и азота – кислот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нейтрализуют веществами основного характера – известь Са(ОН)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ксид магния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O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д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N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×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аталитическое вос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4NO+C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= 2N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2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Каталитическое окис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0,5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=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O=H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S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CO+0,5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 =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089A-67B9-474F-A273-5AD3E716CD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никовы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озрачен для солнечного света, но не пропускает в атмосферу инфракрасное излучение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 «полиэтиленовой плен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ают темпы сжигания топлива, растет количество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тмо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ызывает повышение средней температуры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4112-EC41-4FE9-B725-0E8F35089D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некоторой степени аэрозоли снижают парниковый эфф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золи снижают способность атмосферы пропускать солнечный свет и снижают температуру земной поверх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не менее необходимо снижать поступление СО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тмосфер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 приемлемых путей решения этой проблемы пока не найде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66C9-9EB9-4EFE-A988-2A07B641F7D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циклопедический слов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07EB-9930-4C6D-8FA2-2D1D15F133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циклопедический слов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FF42-6423-4BCB-BB5D-B24467534D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экологии в естествозн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19D8-408E-47DC-9128-30602783F4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эк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 знание химических механизмов взаимодействия между человеком, средой обитания и отдельными экосистем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система – совокупность разных обитающих вместе организмов, а также физических и химических компонентов среды, необходимых для их существования или являющихся продуктами их жизне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5C93-E2A6-44F2-8CDE-A445FD22EC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которые эта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Н. Сукачев-1942г понятие биогеоцено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И. Вернадский учение о биосфе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44 г. Им введено понятие ноо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40-1950 гг экология превращается в точную нау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68 г. Париж межправительствееная конференция ЮНЕСКО принята международная программа исследований «Человек и биосфе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5184-35A6-483D-AB69-C2A6BC2398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4 г. Г. Гаага (Нидерлан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й конгресс экологов, основано Международное общество экологов (ИНТ-ЭКО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92 г. В России принят Закон об охране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9B46-6ADE-443E-8AB5-14261DAD37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ь основных исторических этап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чисто биологического исследования связей отдельных организмов между собой и окружающей сре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20 г.г.-термин экология применяется к исследованию сообществ организм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50 г.г. – введены определяющие для экологии как науки термины «экосистема» и «биогеоценоз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970 г.г. – объект пристального изучения глобальная экосистема – биосф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астоящее время – этап признания ответственности общества за судьбу всей би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35C99-0A43-4071-B91D-FC26EE6535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B9A9-9B2D-4270-8C17-3A29AC2C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B571-CEDB-45DE-971E-89F5FCF8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6181-40F2-4861-B2F7-07903650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AAB9-03C1-48C9-A924-058F5B6B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8AC7-B224-47F9-8601-C9D94C4F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9287-4C7F-4D65-A2AC-8ECBAD646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EB83-94F4-4D95-BC15-B5F5AA0C0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7902-08A0-45EA-B57E-EB31716CB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F290-6F04-4476-AE11-FB5A392C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53B3-75F4-4123-836A-B6AC6E5D4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7C57-AFA0-4EA9-B66B-469F19C8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7C62-8EFC-46F9-9E28-5389F4A0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FF6F-E3C2-4055-B056-1973030772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еч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ikos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, жилище, убежище, род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os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нятие, учение, нау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первые упомянуто Э. Геккелем – наука об отношениях организмов с окружающей  сре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которые области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эк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мышленная экология (изучает воздействие предприятий на окружающую сред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мысловая эк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циальная экология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ая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 о химических азаимодействиях между живыми организмами или между живой и неживой приро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и термины подчеткивают связь химии и эко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ая хим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 о химических процессах и азаимодействиях в окружающей среде, а также о последствиях таких взаимодейств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ка, изучающая химические основы экологических явлений и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экологической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учение изменений химического состава окружающей среды и прогнозирования возможных экологических последствий таких измен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экологической хим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ка энерго и ресурсосберегающих технологий, сведение к минимуму выбросов в атмосферу и гидросф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стигается путем комплексного использования сырья, внедрение безотходных производств и 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Повышение эффективности очистки выбрасываемых в атмосферу газов и сбрасываемых в водоемы сточных вод вредных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Оценка воздействия на окружающую среду загрязняющих веществ и прогнозирование их дальнейшего поведения, распространения и превращения в другие вещества подвлиянием факторов сре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рязнен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ногочисленные и разнообразные воздействия , которые разрушают естественную ср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никают как в силу естественных причин, так и врезультате деятельности человека(антропогенные загрязне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имеры естественных загрязнен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емлетряс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улканическ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сные пож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ологическое самозагрязнение водоемов (цвет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роз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ткосрочное изменение состава окружающей среды в результате деятельности вулк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газообразных веществ %о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яной пар – 7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+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+HCl+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Ar – 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которые виды загрязне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редные выбросы –пыль, ды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ола, сажа, оксиды серы, азота, С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О, С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чные воды предприятий, животноводческих ферм, бытовые с.в., содержащие неорганические, органические в-ва, микроорганиз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я водной среды и почвы нефтепродуктами, минеральными солями, тяжелыми металлам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g, Cd, Pb, Cu, Z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СП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ьер Агес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ранцузкий ученый эколог «экология наука не только естественная, она должна включать в себя и другие дисциплины, например такие, как экономика право, экономика, социология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дель 10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техногенное влияние на литосферу"/>
          <p:cNvPicPr/>
          <p:nvPr/>
        </p:nvPicPr>
        <p:blipFill>
          <a:blip r:embed="rId1"/>
          <a:stretch/>
        </p:blipFill>
        <p:spPr>
          <a:xfrm>
            <a:off x="2038320" y="1517760"/>
            <a:ext cx="5067360" cy="38224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ификация элементов в живых организмах по системе В.И. Вернадск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содержанию % м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роэлементы – более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- 6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-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 –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–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 –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, S, Cl, Na, Mg – 0,23-0,0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макроэлемен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, H, O, N, P, 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оставляют основу биомолекулы клетки: белкиб нуклеиновые кислоты, липиды, углево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биогенные элементы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элементы, необходимые для построения и жизнедеятельности различных клеток и организм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некоторыхэлементов в органах, тканях и биожидкостях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зг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, Mg,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зная жидкость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дце – Са, 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гкие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,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лосы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, As,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овь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, Li, Na, Ca,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чень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, Se, Mo, Zn, Ca, Mg, K, C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екоторые способы защиты от загрязнени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ксиды серы и азота – кислот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нейтрализуют веществами основного характера – известь Са(ОН)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ксид магн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gO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д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талитическое восстано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NO+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2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2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талитическое окис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0,5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=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=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+0,5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рниковый эфф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прозрачен для солнечного света, но не пропускает в атмосферу инфракрасное излучение Зем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 «полиэтиленовой пленк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растают темпы сжигания топлива, растет количество СО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атмосфе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вызывает повышение средней температуры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некоторой степени аэрозоли снижают парниковый эфф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эрозоли снижают способность атмосферы пропускать солнечный свет и снижают температуру земной поверх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 не менее необходимо снижать поступление СО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атмосф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номически приемлемых путей решения этой проблемы пока не найд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икроэлементы менее 10</a:t>
            </a:r>
            <a:r>
              <a:rPr b="0" lang="ru-RU" sz="4400" spc="-1" strike="noStrike" baseline="30000">
                <a:solidFill>
                  <a:srgbClr val="000000"/>
                </a:solidFill>
                <a:latin typeface="Arial"/>
              </a:rPr>
              <a:t>-3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, Cu, As, F, Br, Sr, Ba, C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циклопедический 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циклопедический словар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экология – наука об отношениях растительных и животных организмов и образуемых ими сообществ между собой и окружающей средой…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есто экологии в естествозна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image12"/>
          <p:cNvPicPr/>
          <p:nvPr/>
        </p:nvPicPr>
        <p:blipFill>
          <a:blip r:embed="rId1"/>
          <a:stretch/>
        </p:blipFill>
        <p:spPr>
          <a:xfrm>
            <a:off x="539640" y="1685880"/>
            <a:ext cx="8136000" cy="462276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имическая 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 знание химических механизмов взаимодействия между человеком, средой обитания и отдельными экосистем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система – совокупность разных обитающих вместе организмов, а также физических и химических компонентов среды, необходимых для их существования или являющихся продуктами их жизне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которые этап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 Н. Сукачев-1942г понятие биогеоцено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.И. Вернадский учение о биосфе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44 г. Им введено понятие ноосф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40-1950 гг экология превращается в точную нау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968 г. Париж межправительствееная конференция ЮНЕСКО принята международная программа исследований «Человек и биосфе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974 г. Г. Гаага (Нидерланды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ждународный конгресс экологов, основано Международное общество экологов (ИНТ-ЭКО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92 г. В России принят Закон об охране окружающей ср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ять основных исторических этап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иод чисто биологического исследования связей отдельных организмов между собой и окружающей ср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20 г.г.-термин экология применяется к исследованию сообществ организ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50 г.г. – введены определяющие для экологии как науки термины «экосистема» и «биогеоценоз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70 г.г. – объект пристального изучения глобальная экосистема – биосф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настоящее время – этап признания ответственности общества за судьбу всей би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6T19:40:03Z</dcterms:created>
  <dc:creator>Маргарита</dc:creator>
  <dc:description/>
  <dc:language>en-US</dc:language>
  <cp:lastModifiedBy>LEGION</cp:lastModifiedBy>
  <dcterms:modified xsi:type="dcterms:W3CDTF">2015-05-06T08:10:25Z</dcterms:modified>
  <cp:revision>4</cp:revision>
  <dc:subject/>
  <dc:title>Экология</dc:title>
</cp:coreProperties>
</file>