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177A-8066-481F-832F-1AAA70170A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ч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, жилище, убежище, род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учение,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упомянуто Э. Геккелем – наука об отношениях организмов с окружающей 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7414-CBA4-476E-AA50-EE1EFAD8C2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област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ая экология (изучает воздействие предприятий на окружающую сред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D04D-1F3F-4422-981A-5D436DAF24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рмины подчеткивают связь химии и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ED82-C992-4DF1-AF12-609F211D6E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химические основы экологических явлений 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FF49-3FEC-43ED-A111-073FD5A767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BD24-6DE7-40FD-B2EC-D8CA296287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8348-A6A8-418E-8539-D5C3E19056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DA16-6476-48DD-B429-16A2621E60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и разнообразные воздействия , которые разрушают естественн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23A0-8254-4B6C-ABEC-5FB28B9C9B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меры естественных загрязн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тря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улканиче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пож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ое самозагрязнение водоемов (цвет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о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A001-F63D-4E63-A3BD-125D29A609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раткосрочное изменение состава окружающей среды в результате деятельности вулка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азообразных веществ %о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7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1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+HCl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r 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F16A-864B-4880-AB86-795225B3DE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ыбросы –пыль, ды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а, сажа, оксиды серы, азота,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, 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g, Cd, Pb, Cu, Z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ECB1-12DA-4F44-BDCE-7A8A4051AF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Аг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87F2-30C0-47D1-B5D6-049BCBAA43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1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4F3D-CC94-436D-8566-537703F448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лассификация элементов в живых организмах по системе В.И. Вернадск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держанию % м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лементы – более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- 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, S, Cl, Na, Mg – 0,23-0,0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B62E-1BAB-48B8-A0CD-5FBB688FE9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акро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, H, O, N, P,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основу биомолекулы клетки: белкиб нуклеиновые кислоты, липиды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иогенные эле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676E-2666-41EA-8424-5A4B6E0C4C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екоторыхэлементов в органах, тканях и биожидкостя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, Mg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ная жидкост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Са,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сы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, As,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, Li, Na, Ca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Se, Mo, Zn, Ca, Mg, K,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BA5B-2C93-4FC5-A9D1-2B78493C88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ые способы защиты от загряз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ы серы и азота – кисл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ейтрализуют веществами основного характера – известь Са(ОН)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ксид маг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O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×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4NO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2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окис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=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=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C374-95E1-49D2-A741-4E0B99F881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«полиэтиленовой пле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ают темпы сжигания топлива, растет количество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ызывает повышение средней температуры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1A3C-2CFF-44CE-AEE8-EB7C7B02AA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которой степени аэрозоли снижают 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 необходимо снижать поступление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 приемлемых путей решения этой проблемы пока не найд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E56C-9432-4836-8027-692B46E2F0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1223-29FF-41D4-BA4F-16BA42227E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3D3F-E2D7-4C38-8FA3-EDCB5BE9B1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экологии в естествозн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BA33-8BA2-448B-98E5-079EF4FB45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7730-6BB6-4654-A919-1EA262BB90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эта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Н. Сукачев-1942г понятие биогеоцен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 учение о би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4 г. Им введено понятие но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0-1950 гг экология превращается в точную нау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031A-9F30-4103-B87F-53C36199C8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4 г. Г. Гаага (Нидерлан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онгресс экологов, основано Международное общество экологов (ИНТ-ЭКО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 В России принят Закон об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31C7-8B03-4C2E-B72B-804ADA757B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ь основных исторических этап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г.г.-термин экология применяется к исследованию сообществ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0 г.г. – объект пристального изучения глобальная экосистема – би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стоящее время – этап признания ответственности общества за судьбу всей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25D3-B83F-417C-BE82-3DCCF8CCD4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50C-6A00-41EC-9499-A986B751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B25-618C-4228-9B43-C823853D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DC1-AA75-486B-A1C8-6B5967D1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DF79-2CE0-4999-9AE3-B4121176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897-A786-4F00-B034-0CB49BD2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591-6839-4A02-9822-062B90B4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195-4634-42AC-AF9F-BD8AC4E4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7E4-5FF9-42D7-9BCB-8A39FD28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21D-EE24-47BD-8C5A-DD1F69BA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C8A-C87F-41E3-8FE4-DCA055BC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F09-F830-4A16-A4B2-3F58735D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D72-959C-4DB4-83B9-5EE9E360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A539-69F1-46EA-A9BA-0B643B242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, жилище, убежище, 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, учение, на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ервые упомянуто Э. Геккелем – наука об отношениях организмов с окружающей 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области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шленная экология (изучает воздействие предприятий на окружающую сред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термины подчеткивают связь химии и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ая хи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, изучающая химические основы экологических явлений и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численные и разнообразные воздействия , которые разрушают естественн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естественных загряз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лкан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ческое самозагрязнение водоемов (цвет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срочное изменение состава окружающей среды в результате деятельности вул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азообразных веществ %о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яной пар – 7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+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+HCl+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r 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виды загряз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дные выбросы –пыль, д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, сажа, оксиды серы, азота,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,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g, Cd, Pb, Cu, 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П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ьер Аг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ь 1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техногенное влияние на литосферу"/>
          <p:cNvPicPr/>
          <p:nvPr/>
        </p:nvPicPr>
        <p:blipFill>
          <a:blip r:embed="rId1"/>
          <a:stretch/>
        </p:blipFill>
        <p:spPr>
          <a:xfrm>
            <a:off x="2038320" y="1517760"/>
            <a:ext cx="5067360" cy="382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элементов в живых организмах по системе В.И. Верна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одержанию % м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роэлементы – более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-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-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, S, Cl, Na, Mg – 0,23-0,0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акро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, H, O, N, P, 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ляют основу биомолекулы клетки: белкиб нуклеиновые кислоты, липиды, угле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иогенные элемент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некоторыхэлементов в органах, тканях и биожидкостях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зг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ная жидкост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 – Са,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к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осы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, As,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в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, Li, Na, Ca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Se, Mo, Zn, Ca, Mg, K,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которые способы защиты от загрязне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сиды серы и азота – кисл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нейтрализуют веществами основного характера – известь Са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ксид маг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O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NO+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2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ок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=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никовый эфф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 «полиэтиленовой пле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ают темпы сжигания топлива, растет количество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тмосф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вызывает повышение средней температуры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некоторой степени аэрозоли снижают парниковый эфф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 не менее необходимо снижать поступление 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тмосф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и приемлемых путей решения этой проблемы пока не найд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элементы менее 10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, Cu, As, F, Br, Sr, Ba, C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то экологии в естествозн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mage12"/>
          <p:cNvPicPr/>
          <p:nvPr/>
        </p:nvPicPr>
        <p:blipFill>
          <a:blip r:embed="rId1"/>
          <a:stretch/>
        </p:blipFill>
        <p:spPr>
          <a:xfrm>
            <a:off x="539640" y="1685880"/>
            <a:ext cx="8136000" cy="462276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эта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Н. Сукачев-1942г понятие биогеоце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 Вернадский учение о био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4 г. Им введено понятие но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0-1950 гг экология превращается в точную на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74 г. Г. Гаага (Нидерланд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й конгресс экологов, основано Международное общество экологов (ИНТ-ЭК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92 г. В России принят Закон об охране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ять основных исторических этап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20 г.г.-термин экология применяется к исследованию сообществ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70 г.г. – объект пристального изучения глобальная экосистема – 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астоящее время – этап признания ответственности общества за судьбу всей би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9:40:03Z</dcterms:created>
  <dc:creator>Маргарита</dc:creator>
  <dc:description/>
  <dc:language>en-US</dc:language>
  <cp:lastModifiedBy>LEGION</cp:lastModifiedBy>
  <dcterms:modified xsi:type="dcterms:W3CDTF">2015-05-06T08:10:25Z</dcterms:modified>
  <cp:revision>4</cp:revision>
  <dc:subject/>
  <dc:title>Экология</dc:title>
</cp:coreProperties>
</file>