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6.wmf" ContentType="image/x-wmf"/>
  <Override PartName="/ppt/media/image6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49.jpeg" ContentType="image/jpeg"/>
  <Override PartName="/ppt/media/image47.png" ContentType="image/pn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65.jpeg" ContentType="image/jpeg"/>
  <Override PartName="/ppt/media/image23.gif" ContentType="image/gif"/>
  <Override PartName="/ppt/media/image8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26.jpeg" ContentType="image/jpeg"/>
  <Override PartName="/ppt/media/image61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55.png" ContentType="image/png"/>
  <Override PartName="/ppt/media/image20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68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2.jpeg" ContentType="image/jpeg"/>
  <Override PartName="/ppt/media/image4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8B14-0B35-469A-A6A1-DC7E0597982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FE85-D684-43D1-8F78-7D846061352E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ЕНИЕ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ПУСТЫ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Юго-В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оч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E366-D5D7-408E-A591-EE27739D7D38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3B68-A1D1-4BCC-92D7-C6E02817B56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ED65-F287-4502-886A-5E005B09510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ВЫВ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Сущность пробл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ос отходов в окружающую сре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контроля за технолог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ричины возникнов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тролируемое изменение климата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, возникновение экологическ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 в различных районах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ути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и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очистных сооруж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размещение грязных произво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безотход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26F2-A595-41E8-97B6-A493A9C077FF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,6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анализируйте карту и ответьте на вопрос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 каких регионах мира четко выра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кризи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их регионах мира чет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положите, как будет мен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политическая обстановка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положение России на данной кар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05D5-8FB4-4BA3-911C-834EBB778FFF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84E0-4D12-423C-B799-22802757AEF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75F6-E479-426A-A215-CC8D7BF8B76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ория демографического перех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переход включает четыре отдельные фазы (смотри график-схему Б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8BE4-C80F-45C8-997C-AACD95DBDD66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7EB5-A8BA-431D-8AA5-EC151F9A3C74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довольственн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Земле существует </a:t>
            </a:r>
            <a:r>
              <a:rPr b="0" lang="ru-RU" sz="1200" spc="-1" strike="noStrike" u="sng">
                <a:solidFill>
                  <a:srgbClr val="ff121e"/>
                </a:solidFill>
                <a:uFillTx/>
                <a:latin typeface="Calibri"/>
              </a:rPr>
              <a:t>по-яс гол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на Земле можно выдели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яс переед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Arial Black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экс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сширение пахотных и пастбищных угод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ин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C825-DB74-49D1-B3F2-E8DCE720AE59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взаимодействия общества с природой на совре-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 глобальных пробле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острения глобальных проблем, суть их возник-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 Выявить географические аспекты глобальных проблем чело-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аботы со статистическими ма-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65D2-4E9A-4C59-9812-3AF454918779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ЭНЕРГЕТИЧЕСКАЯ И СЫРЬЕВ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504d"/>
                </a:solidFill>
                <a:uFillTx/>
                <a:latin typeface="Calibri"/>
              </a:rPr>
              <a:t>Энергетическая и сырьевая пробл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ышение коэффициента полезного использования уже добытого сырья и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0095-42A2-4B71-A123-00BB29F5E74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. Провер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чему именно во второй половине ХХ  века обострились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жно ли сказать, что глобальные проблемы актуальны лишь для стран с низким уровнем разв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еречислите основные глобальные проблемы современ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ие глобальные проблемы актуальны для современной Росс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чём состоят главные особенности географического подхода к анализу глобальных пробл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очему проблема терроризма стала глобальной? Что такое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уга нестаби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очему проблема разоружения стала глобальной? В чём состоит концепция ядерной зи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очему экологические проблемы стали наиболее актуаль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из социальных проблем современности вы считаете наиболее актуальными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Какая социальная проблема в современной России наиболее ост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DAE7-240E-42C9-9E89-8CEA84DFBFE0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ОСНОВНЫЕ ОСОБЕННОСТИ СОВРЕ-МЕННОГО ЭТАПА ВЗАИМОДЕЙСТ-ВИЯ ПРИРОДЫ И ОБЩЕСТВ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ктическое применение мощ-нейшего источника энергии – ядер-ной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Интенсификация использования природы, возрастание «давления» на при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8C7B-3649-4B36-BD62-A5478F85EF82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 Какие же причины привели к обостре-нию глобальных про-блем? В некоторых источниках эти при-чины называю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«Пять никог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ь во второй половине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для жизнеобеспечения не требовалось такого количества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 возникало такой глобальной мировой экономики, такой единой мировой информацио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«холодная война» не подводила человечество так близко к рубежу само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752F-0F65-47AD-83C9-2B4FF3D70056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 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ЛАССИФИКАЦ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отвращение ядерной вой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тойчивого разви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я  мирового со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ение мир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культуры,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демокра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здоровь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-ЭКОНОМ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;                  - Сырьева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;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а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конфли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авар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5A38-8FC3-4DE2-8C86-410AE3A38BC3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фактором нестабильности для современ-ного мира ста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лигиозный (исламский) фундамен-т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56BC-CCAE-43E3-9ADC-2546CECA12A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РЕГИОНАЛЬНЫЕ КОНФЛИ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3450-9BDB-4FA9-8112-AD03C452316F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лема мира и разоружения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ность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мире накоплены чудовищные средства массового 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 возникнов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нка во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нестабильность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ору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азоруж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ные догов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3939"/>
                </a:solidFill>
                <a:uFillTx/>
                <a:latin typeface="Calibri"/>
              </a:rPr>
              <a:t>ЗАД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отрите карту и ответьте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траны мира обладают ядерным оружие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ана лидирует по количеству боеголов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ядер-ная зи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что повлечет гибель всего ж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1D1E-778C-4DC2-AB87-F49AC8CE932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щаяся в атмосфере двуокись углерода (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, что создает угрозу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арникового эфф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аметного потепления климата, таяния льдов, повышения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иливает парниковый эффект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6B6C-1BEE-4A4C-AD09-6A9DA1268463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C3F-FD4F-4F83-B863-5802CBF8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EE7-D606-49AF-A1C2-0EBA4C7A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DD6-CDBC-4933-9DCD-442FAA63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286-41A9-4E8B-AFCC-F424E500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854-E44F-4B3F-9255-12CF933E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5A1-3487-43C0-9D1D-4DE2B6A1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255-2A55-4287-BE84-C121AC94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5C9-FFFD-471D-98E5-A96C1D68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2BB-647C-4D06-A110-9013318C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11E-0B9C-46E6-AF0C-446BE2F5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859-B522-4FF9-8F1A-94630CA3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184-BA60-4AB6-BAC9-55FA9C91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C866-2B59-4C41-B1AB-B5E86177F1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5.png"/><Relationship Id="rId3" Type="http://schemas.openxmlformats.org/officeDocument/2006/relationships/image" Target="../media/image49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9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60.jpe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7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23.gif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23.gif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gif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wmf"/><Relationship Id="rId6" Type="http://schemas.openxmlformats.org/officeDocument/2006/relationships/image" Target="../media/image22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200"/>
          <p:cNvPicPr/>
          <p:nvPr/>
        </p:nvPicPr>
        <p:blipFill>
          <a:blip r:embed="rId1"/>
          <a:stretch/>
        </p:blipFill>
        <p:spPr>
          <a:xfrm>
            <a:off x="0" y="0"/>
            <a:ext cx="2473200" cy="2311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700360" y="208080"/>
            <a:ext cx="630540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terror"/>
          <p:cNvPicPr/>
          <p:nvPr/>
        </p:nvPicPr>
        <p:blipFill>
          <a:blip r:embed="rId2"/>
          <a:stretch/>
        </p:blipFill>
        <p:spPr>
          <a:xfrm>
            <a:off x="1979640" y="2346480"/>
            <a:ext cx="1344600" cy="100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ew1"/>
          <p:cNvPicPr/>
          <p:nvPr/>
        </p:nvPicPr>
        <p:blipFill>
          <a:blip r:embed="rId3"/>
          <a:stretch/>
        </p:blipFill>
        <p:spPr>
          <a:xfrm>
            <a:off x="3503520" y="3578400"/>
            <a:ext cx="1344600" cy="161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9012"/>
          <p:cNvPicPr/>
          <p:nvPr/>
        </p:nvPicPr>
        <p:blipFill>
          <a:blip r:embed="rId4"/>
          <a:stretch/>
        </p:blipFill>
        <p:spPr>
          <a:xfrm>
            <a:off x="0" y="4514760"/>
            <a:ext cx="142236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010"/>
          <p:cNvPicPr/>
          <p:nvPr/>
        </p:nvPicPr>
        <p:blipFill>
          <a:blip r:embed="rId5"/>
          <a:stretch/>
        </p:blipFill>
        <p:spPr>
          <a:xfrm>
            <a:off x="7596360" y="923760"/>
            <a:ext cx="1355400" cy="1073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w_mxc_hlopok_1"/>
          <p:cNvPicPr/>
          <p:nvPr/>
        </p:nvPicPr>
        <p:blipFill>
          <a:blip r:embed="rId6"/>
          <a:stretch/>
        </p:blipFill>
        <p:spPr>
          <a:xfrm>
            <a:off x="4067280" y="1871640"/>
            <a:ext cx="1790640" cy="17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a08a"/>
          <p:cNvPicPr/>
          <p:nvPr/>
        </p:nvPicPr>
        <p:blipFill>
          <a:blip r:embed="rId7"/>
          <a:stretch/>
        </p:blipFill>
        <p:spPr>
          <a:xfrm>
            <a:off x="5076720" y="3905280"/>
            <a:ext cx="1623960" cy="153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r_032"/>
          <p:cNvPicPr/>
          <p:nvPr/>
        </p:nvPicPr>
        <p:blipFill>
          <a:blip r:embed="rId8"/>
          <a:stretch/>
        </p:blipFill>
        <p:spPr>
          <a:xfrm>
            <a:off x="6300720" y="5057640"/>
            <a:ext cx="936720" cy="135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1085156957-1"/>
          <p:cNvPicPr/>
          <p:nvPr/>
        </p:nvPicPr>
        <p:blipFill>
          <a:blip r:embed="rId9"/>
          <a:stretch/>
        </p:blipFill>
        <p:spPr>
          <a:xfrm>
            <a:off x="1069920" y="5124600"/>
            <a:ext cx="1805040" cy="128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810"/>
          <p:cNvPicPr/>
          <p:nvPr/>
        </p:nvPicPr>
        <p:blipFill>
          <a:blip r:embed="rId10"/>
          <a:stretch/>
        </p:blipFill>
        <p:spPr>
          <a:xfrm>
            <a:off x="7334280" y="4776840"/>
            <a:ext cx="1703520" cy="170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174mir"/>
          <p:cNvPicPr/>
          <p:nvPr/>
        </p:nvPicPr>
        <p:blipFill>
          <a:blip r:embed="rId11"/>
          <a:stretch/>
        </p:blipFill>
        <p:spPr>
          <a:xfrm>
            <a:off x="6588000" y="2008080"/>
            <a:ext cx="2248200" cy="168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tungus"/>
          <p:cNvPicPr/>
          <p:nvPr/>
        </p:nvPicPr>
        <p:blipFill>
          <a:blip r:embed="rId12"/>
          <a:stretch/>
        </p:blipFill>
        <p:spPr>
          <a:xfrm>
            <a:off x="1258920" y="34513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100988"/>
          <p:cNvPicPr/>
          <p:nvPr/>
        </p:nvPicPr>
        <p:blipFill>
          <a:blip r:embed="rId13"/>
          <a:stretch/>
        </p:blipFill>
        <p:spPr>
          <a:xfrm>
            <a:off x="179280" y="2414520"/>
            <a:ext cx="165420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katastrofa"/>
          <p:cNvPicPr/>
          <p:nvPr/>
        </p:nvPicPr>
        <p:blipFill>
          <a:blip r:embed="rId14"/>
          <a:stretch/>
        </p:blipFill>
        <p:spPr>
          <a:xfrm>
            <a:off x="3059280" y="5192640"/>
            <a:ext cx="1761840" cy="11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katastrofy"/>
          <p:cNvPicPr/>
          <p:nvPr/>
        </p:nvPicPr>
        <p:blipFill>
          <a:blip r:embed="rId15"/>
          <a:stretch/>
        </p:blipFill>
        <p:spPr>
          <a:xfrm>
            <a:off x="2700360" y="990720"/>
            <a:ext cx="1073160" cy="12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m"/>
          <p:cNvPicPr/>
          <p:nvPr/>
        </p:nvPicPr>
        <p:blipFill>
          <a:blip r:embed="rId16"/>
          <a:stretch/>
        </p:blipFill>
        <p:spPr>
          <a:xfrm>
            <a:off x="76320" y="3716280"/>
            <a:ext cx="977760" cy="73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york"/>
          <p:cNvPicPr/>
          <p:nvPr/>
        </p:nvPicPr>
        <p:blipFill>
          <a:blip r:embed="rId17"/>
          <a:stretch/>
        </p:blipFill>
        <p:spPr>
          <a:xfrm>
            <a:off x="5003640" y="5479920"/>
            <a:ext cx="1195560" cy="97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Бедный юг богатый север"/>
          <p:cNvPicPr/>
          <p:nvPr/>
        </p:nvPicPr>
        <p:blipFill>
          <a:blip r:embed="rId18"/>
          <a:stretch/>
        </p:blipFill>
        <p:spPr>
          <a:xfrm>
            <a:off x="6950160" y="3714840"/>
            <a:ext cx="1692360" cy="98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Logo"/>
          <p:cNvPicPr/>
          <p:nvPr/>
        </p:nvPicPr>
        <p:blipFill>
          <a:blip r:embed="rId19"/>
          <a:stretch/>
        </p:blipFill>
        <p:spPr>
          <a:xfrm>
            <a:off x="0" y="5600880"/>
            <a:ext cx="1015920" cy="70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usa_world_war"/>
          <p:cNvPicPr/>
          <p:nvPr/>
        </p:nvPicPr>
        <p:blipFill>
          <a:blip r:embed="rId20"/>
          <a:stretch/>
        </p:blipFill>
        <p:spPr>
          <a:xfrm>
            <a:off x="6012000" y="1465200"/>
            <a:ext cx="880920" cy="88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WordArt 13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611280" y="1743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311720" y="765000"/>
            <a:ext cx="4653000" cy="398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0" descr="карта мира"/>
          <p:cNvPicPr/>
          <p:nvPr/>
        </p:nvPicPr>
        <p:blipFill>
          <a:blip r:embed="rId2"/>
          <a:srcRect l="0" t="11966" r="12538" b="16225"/>
          <a:stretch/>
        </p:blipFill>
        <p:spPr>
          <a:xfrm>
            <a:off x="179280" y="2565360"/>
            <a:ext cx="5040360" cy="2592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8"/>
          <p:cNvSpPr/>
          <p:nvPr/>
        </p:nvSpPr>
        <p:spPr>
          <a:xfrm>
            <a:off x="4119480" y="1192320"/>
            <a:ext cx="5024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и Юго-Восточной Ази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7"/>
          <p:cNvSpPr/>
          <p:nvPr/>
        </p:nvSpPr>
        <p:spPr>
          <a:xfrm>
            <a:off x="4094280" y="3495600"/>
            <a:ext cx="1066680" cy="7239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672" h="456">
                <a:moveTo>
                  <a:pt x="295" y="60"/>
                </a:moveTo>
                <a:cubicBezTo>
                  <a:pt x="254" y="55"/>
                  <a:pt x="225" y="49"/>
                  <a:pt x="187" y="36"/>
                </a:cubicBezTo>
                <a:cubicBezTo>
                  <a:pt x="173" y="31"/>
                  <a:pt x="165" y="17"/>
                  <a:pt x="151" y="12"/>
                </a:cubicBezTo>
                <a:cubicBezTo>
                  <a:pt x="139" y="8"/>
                  <a:pt x="115" y="0"/>
                  <a:pt x="115" y="0"/>
                </a:cubicBezTo>
                <a:cubicBezTo>
                  <a:pt x="87" y="2"/>
                  <a:pt x="59" y="1"/>
                  <a:pt x="31" y="6"/>
                </a:cubicBezTo>
                <a:cubicBezTo>
                  <a:pt x="12" y="9"/>
                  <a:pt x="1" y="54"/>
                  <a:pt x="1" y="54"/>
                </a:cubicBezTo>
                <a:cubicBezTo>
                  <a:pt x="6" y="93"/>
                  <a:pt x="0" y="111"/>
                  <a:pt x="31" y="132"/>
                </a:cubicBezTo>
                <a:cubicBezTo>
                  <a:pt x="56" y="170"/>
                  <a:pt x="59" y="192"/>
                  <a:pt x="73" y="234"/>
                </a:cubicBezTo>
                <a:cubicBezTo>
                  <a:pt x="75" y="264"/>
                  <a:pt x="74" y="294"/>
                  <a:pt x="79" y="324"/>
                </a:cubicBezTo>
                <a:cubicBezTo>
                  <a:pt x="80" y="331"/>
                  <a:pt x="88" y="336"/>
                  <a:pt x="91" y="342"/>
                </a:cubicBezTo>
                <a:cubicBezTo>
                  <a:pt x="116" y="393"/>
                  <a:pt x="167" y="399"/>
                  <a:pt x="217" y="414"/>
                </a:cubicBezTo>
                <a:cubicBezTo>
                  <a:pt x="251" y="424"/>
                  <a:pt x="285" y="435"/>
                  <a:pt x="319" y="444"/>
                </a:cubicBezTo>
                <a:cubicBezTo>
                  <a:pt x="331" y="447"/>
                  <a:pt x="355" y="456"/>
                  <a:pt x="355" y="456"/>
                </a:cubicBezTo>
                <a:cubicBezTo>
                  <a:pt x="454" y="448"/>
                  <a:pt x="549" y="437"/>
                  <a:pt x="649" y="432"/>
                </a:cubicBezTo>
                <a:cubicBezTo>
                  <a:pt x="672" y="364"/>
                  <a:pt x="569" y="365"/>
                  <a:pt x="529" y="360"/>
                </a:cubicBezTo>
                <a:cubicBezTo>
                  <a:pt x="478" y="343"/>
                  <a:pt x="425" y="331"/>
                  <a:pt x="373" y="318"/>
                </a:cubicBezTo>
                <a:cubicBezTo>
                  <a:pt x="342" y="297"/>
                  <a:pt x="349" y="310"/>
                  <a:pt x="361" y="252"/>
                </a:cubicBezTo>
                <a:cubicBezTo>
                  <a:pt x="363" y="240"/>
                  <a:pt x="373" y="216"/>
                  <a:pt x="373" y="216"/>
                </a:cubicBezTo>
                <a:cubicBezTo>
                  <a:pt x="368" y="175"/>
                  <a:pt x="376" y="151"/>
                  <a:pt x="337" y="138"/>
                </a:cubicBezTo>
                <a:cubicBezTo>
                  <a:pt x="284" y="144"/>
                  <a:pt x="280" y="136"/>
                  <a:pt x="265" y="180"/>
                </a:cubicBezTo>
                <a:cubicBezTo>
                  <a:pt x="259" y="238"/>
                  <a:pt x="269" y="243"/>
                  <a:pt x="223" y="258"/>
                </a:cubicBezTo>
                <a:cubicBezTo>
                  <a:pt x="217" y="256"/>
                  <a:pt x="209" y="257"/>
                  <a:pt x="205" y="252"/>
                </a:cubicBezTo>
                <a:cubicBezTo>
                  <a:pt x="191" y="232"/>
                  <a:pt x="185" y="186"/>
                  <a:pt x="181" y="162"/>
                </a:cubicBezTo>
                <a:cubicBezTo>
                  <a:pt x="183" y="150"/>
                  <a:pt x="179" y="135"/>
                  <a:pt x="187" y="126"/>
                </a:cubicBezTo>
                <a:cubicBezTo>
                  <a:pt x="199" y="112"/>
                  <a:pt x="278" y="108"/>
                  <a:pt x="283" y="108"/>
                </a:cubicBezTo>
                <a:cubicBezTo>
                  <a:pt x="289" y="104"/>
                  <a:pt x="314" y="92"/>
                  <a:pt x="307" y="78"/>
                </a:cubicBezTo>
                <a:cubicBezTo>
                  <a:pt x="294" y="52"/>
                  <a:pt x="280" y="91"/>
                  <a:pt x="295" y="60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58760" y="4513320"/>
            <a:ext cx="3117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словные знаки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зона вырубк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опических лесо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0"/>
          <p:cNvSpPr/>
          <p:nvPr/>
        </p:nvSpPr>
        <p:spPr>
          <a:xfrm>
            <a:off x="235080" y="4836960"/>
            <a:ext cx="253800" cy="158760"/>
          </a:xfrm>
          <a:custGeom>
            <a:avLst/>
            <a:gdLst>
              <a:gd name="textAreaLeft" fmla="*/ 0 w 253800"/>
              <a:gd name="textAreaRight" fmla="*/ 254160 w 2538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60" h="100">
                <a:moveTo>
                  <a:pt x="4" y="33"/>
                </a:moveTo>
                <a:cubicBezTo>
                  <a:pt x="23" y="90"/>
                  <a:pt x="6" y="72"/>
                  <a:pt x="44" y="97"/>
                </a:cubicBezTo>
                <a:cubicBezTo>
                  <a:pt x="79" y="92"/>
                  <a:pt x="160" y="100"/>
                  <a:pt x="92" y="17"/>
                </a:cubicBezTo>
                <a:cubicBezTo>
                  <a:pt x="78" y="0"/>
                  <a:pt x="28" y="1"/>
                  <a:pt x="28" y="1"/>
                </a:cubicBezTo>
                <a:cubicBezTo>
                  <a:pt x="0" y="20"/>
                  <a:pt x="4" y="7"/>
                  <a:pt x="4" y="33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1"/>
          <p:cNvSpPr/>
          <p:nvPr/>
        </p:nvSpPr>
        <p:spPr>
          <a:xfrm>
            <a:off x="179280" y="2708280"/>
            <a:ext cx="1871640" cy="720720"/>
          </a:xfrm>
          <a:prstGeom prst="wedgeRectCallout">
            <a:avLst>
              <a:gd name="adj1" fmla="val 31847"/>
              <a:gd name="adj2" fmla="val 148898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Амазония. Массовые вырубки под пастбища, развивается целлюлозно-бумажное производство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2"/>
          <p:cNvSpPr/>
          <p:nvPr/>
        </p:nvSpPr>
        <p:spPr>
          <a:xfrm>
            <a:off x="1620720" y="5084640"/>
            <a:ext cx="2446560" cy="576360"/>
          </a:xfrm>
          <a:prstGeom prst="wedgeRectCallout">
            <a:avLst>
              <a:gd name="adj1" fmla="val -3472"/>
              <a:gd name="adj2" fmla="val -2356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Тропические леса Африки. Заготовка леса для экспорта. Нарушение водного режима огромных территорий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1"/>
          <p:cNvSpPr/>
          <p:nvPr/>
        </p:nvSpPr>
        <p:spPr>
          <a:xfrm>
            <a:off x="2457360" y="3860640"/>
            <a:ext cx="755640" cy="365400"/>
          </a:xfrm>
          <a:custGeom>
            <a:avLst/>
            <a:gdLst>
              <a:gd name="textAreaLeft" fmla="*/ 0 w 755640"/>
              <a:gd name="textAreaRight" fmla="*/ 756000 w 75564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476" h="230">
                <a:moveTo>
                  <a:pt x="0" y="30"/>
                </a:moveTo>
                <a:cubicBezTo>
                  <a:pt x="55" y="12"/>
                  <a:pt x="96" y="5"/>
                  <a:pt x="156" y="0"/>
                </a:cubicBezTo>
                <a:cubicBezTo>
                  <a:pt x="203" y="5"/>
                  <a:pt x="243" y="19"/>
                  <a:pt x="288" y="30"/>
                </a:cubicBezTo>
                <a:cubicBezTo>
                  <a:pt x="322" y="52"/>
                  <a:pt x="363" y="54"/>
                  <a:pt x="402" y="60"/>
                </a:cubicBezTo>
                <a:cubicBezTo>
                  <a:pt x="476" y="109"/>
                  <a:pt x="400" y="207"/>
                  <a:pt x="336" y="222"/>
                </a:cubicBezTo>
                <a:cubicBezTo>
                  <a:pt x="301" y="230"/>
                  <a:pt x="251" y="228"/>
                  <a:pt x="216" y="228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3"/>
          <p:cNvSpPr/>
          <p:nvPr/>
        </p:nvSpPr>
        <p:spPr>
          <a:xfrm>
            <a:off x="1371600" y="3927600"/>
            <a:ext cx="619200" cy="542880"/>
          </a:xfrm>
          <a:custGeom>
            <a:avLst/>
            <a:gdLst>
              <a:gd name="textAreaLeft" fmla="*/ 0 w 619200"/>
              <a:gd name="textAreaRight" fmla="*/ 619560 w 619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90" h="342">
                <a:moveTo>
                  <a:pt x="234" y="0"/>
                </a:moveTo>
                <a:cubicBezTo>
                  <a:pt x="187" y="16"/>
                  <a:pt x="232" y="51"/>
                  <a:pt x="186" y="66"/>
                </a:cubicBezTo>
                <a:cubicBezTo>
                  <a:pt x="174" y="62"/>
                  <a:pt x="162" y="58"/>
                  <a:pt x="150" y="54"/>
                </a:cubicBezTo>
                <a:cubicBezTo>
                  <a:pt x="136" y="49"/>
                  <a:pt x="114" y="30"/>
                  <a:pt x="114" y="30"/>
                </a:cubicBezTo>
                <a:cubicBezTo>
                  <a:pt x="42" y="37"/>
                  <a:pt x="23" y="32"/>
                  <a:pt x="0" y="102"/>
                </a:cubicBezTo>
                <a:cubicBezTo>
                  <a:pt x="2" y="118"/>
                  <a:pt x="0" y="135"/>
                  <a:pt x="6" y="150"/>
                </a:cubicBezTo>
                <a:cubicBezTo>
                  <a:pt x="9" y="157"/>
                  <a:pt x="19" y="157"/>
                  <a:pt x="24" y="162"/>
                </a:cubicBezTo>
                <a:cubicBezTo>
                  <a:pt x="29" y="167"/>
                  <a:pt x="30" y="176"/>
                  <a:pt x="36" y="180"/>
                </a:cubicBezTo>
                <a:cubicBezTo>
                  <a:pt x="60" y="195"/>
                  <a:pt x="89" y="199"/>
                  <a:pt x="114" y="216"/>
                </a:cubicBezTo>
                <a:cubicBezTo>
                  <a:pt x="118" y="228"/>
                  <a:pt x="125" y="239"/>
                  <a:pt x="126" y="252"/>
                </a:cubicBezTo>
                <a:cubicBezTo>
                  <a:pt x="128" y="280"/>
                  <a:pt x="125" y="309"/>
                  <a:pt x="132" y="336"/>
                </a:cubicBezTo>
                <a:cubicBezTo>
                  <a:pt x="134" y="342"/>
                  <a:pt x="144" y="340"/>
                  <a:pt x="150" y="342"/>
                </a:cubicBezTo>
                <a:cubicBezTo>
                  <a:pt x="197" y="330"/>
                  <a:pt x="192" y="297"/>
                  <a:pt x="204" y="258"/>
                </a:cubicBezTo>
                <a:cubicBezTo>
                  <a:pt x="208" y="246"/>
                  <a:pt x="205" y="229"/>
                  <a:pt x="216" y="222"/>
                </a:cubicBezTo>
                <a:cubicBezTo>
                  <a:pt x="234" y="210"/>
                  <a:pt x="254" y="206"/>
                  <a:pt x="270" y="192"/>
                </a:cubicBezTo>
                <a:cubicBezTo>
                  <a:pt x="286" y="179"/>
                  <a:pt x="287" y="171"/>
                  <a:pt x="306" y="162"/>
                </a:cubicBezTo>
                <a:cubicBezTo>
                  <a:pt x="333" y="150"/>
                  <a:pt x="363" y="145"/>
                  <a:pt x="390" y="132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3"/>
          <p:cNvSpPr/>
          <p:nvPr/>
        </p:nvSpPr>
        <p:spPr>
          <a:xfrm>
            <a:off x="3203640" y="2565360"/>
            <a:ext cx="2016000" cy="792360"/>
          </a:xfrm>
          <a:prstGeom prst="wedgeRectCallout">
            <a:avLst>
              <a:gd name="adj1" fmla="val 11259"/>
              <a:gd name="adj2" fmla="val 135773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Ценная древесина тропических лесов Юго-Восточной Азии заготавливается для экспорта. Уничтожается уникальный генофонд тропических лесов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611280" y="2205000"/>
            <a:ext cx="345924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5291280" y="2565360"/>
            <a:ext cx="37447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5200560" y="2917800"/>
            <a:ext cx="39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47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5291280" y="3870360"/>
            <a:ext cx="3744720" cy="2006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8" descr="земля высыхает"/>
          <p:cNvPicPr/>
          <p:nvPr/>
        </p:nvPicPr>
        <p:blipFill>
          <a:blip r:embed="rId4"/>
          <a:stretch/>
        </p:blipFill>
        <p:spPr>
          <a:xfrm>
            <a:off x="179280" y="5257800"/>
            <a:ext cx="1078200" cy="148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332000" y="5799240"/>
            <a:ext cx="77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9"/>
          <p:cNvSpPr/>
          <p:nvPr/>
        </p:nvSpPr>
        <p:spPr>
          <a:xfrm>
            <a:off x="6741360" y="386064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огда-то здесь было море</a:t>
            </a:r>
            <a:r>
              <a:rPr b="1" lang="ru-RU" sz="1400" spc="-1" strike="noStrike">
                <a:solidFill>
                  <a:srgbClr val="bcf0ef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WordArt 9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6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611280" y="2679840"/>
            <a:ext cx="342900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4249800" y="765000"/>
            <a:ext cx="485928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31" descr="Последствия водного дефицита доставка пресной воды по солёной В этом мешке Waterbag 30 тысяч тонн воды"/>
          <p:cNvPicPr/>
          <p:nvPr/>
        </p:nvPicPr>
        <p:blipFill>
          <a:blip r:embed="rId2"/>
          <a:stretch/>
        </p:blipFill>
        <p:spPr>
          <a:xfrm>
            <a:off x="611280" y="1284120"/>
            <a:ext cx="3456000" cy="1352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2"/>
          <p:cNvSpPr/>
          <p:nvPr/>
        </p:nvSpPr>
        <p:spPr>
          <a:xfrm>
            <a:off x="592200" y="2276640"/>
            <a:ext cx="347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Доставка пресной воды по океану. В мешке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Waterbag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30 тыс. т воды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4119480" y="1266840"/>
            <a:ext cx="502452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34" descr="clean"/>
          <p:cNvPicPr/>
          <p:nvPr/>
        </p:nvPicPr>
        <p:blipFill>
          <a:blip r:embed="rId3"/>
          <a:srcRect l="0" t="0" r="4992" b="609"/>
          <a:stretch/>
        </p:blipFill>
        <p:spPr>
          <a:xfrm>
            <a:off x="250920" y="3068640"/>
            <a:ext cx="4105080" cy="360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327960" y="314172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ция по очистке в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4427640" y="3021120"/>
            <a:ext cx="47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. Страны мира, испытывающие дефицит чистой воды (где менее 50% населения имеет доступ к чистой питьевой воде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00720" y="3500280"/>
          <a:ext cx="4464000" cy="3303720"/>
        </p:xfrm>
        <a:graphic>
          <a:graphicData uri="http://schemas.openxmlformats.org/drawingml/2006/table">
            <a:tbl>
              <a:tblPr/>
              <a:tblGrid>
                <a:gridCol w="2233440"/>
                <a:gridCol w="2230560"/>
              </a:tblGrid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ление, имеющее доступ к чистой воде, в 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3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ганист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ьерра-Ле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бодж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врит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о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анд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пуа - Нов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ваториальн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итр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и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12"/>
          <p:cNvSpPr txBox="1"/>
          <p:nvPr/>
        </p:nvSpPr>
        <p:spPr>
          <a:xfrm>
            <a:off x="393840" y="841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628200" y="3141720"/>
            <a:ext cx="343296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4273920" y="765000"/>
            <a:ext cx="483336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7" descr="катастрофа танкер PRESTIGE"/>
          <p:cNvPicPr/>
          <p:nvPr/>
        </p:nvPicPr>
        <p:blipFill>
          <a:blip r:embed="rId2"/>
          <a:stretch/>
        </p:blipFill>
        <p:spPr>
          <a:xfrm>
            <a:off x="4284720" y="126828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8" descr="нефтяная пленка в мо"/>
          <p:cNvPicPr/>
          <p:nvPr/>
        </p:nvPicPr>
        <p:blipFill>
          <a:blip r:embed="rId3"/>
          <a:stretch/>
        </p:blipFill>
        <p:spPr>
          <a:xfrm>
            <a:off x="34920" y="3524400"/>
            <a:ext cx="4249800" cy="2712960"/>
          </a:xfrm>
          <a:prstGeom prst="rect">
            <a:avLst/>
          </a:prstGeom>
          <a:ln w="3240">
            <a:solidFill>
              <a:srgbClr val="333333"/>
            </a:solidFill>
            <a:miter/>
          </a:ln>
        </p:spPr>
      </p:pic>
      <p:pic>
        <p:nvPicPr>
          <p:cNvPr id="335" name="Picture 29" descr="tanker"/>
          <p:cNvPicPr/>
          <p:nvPr/>
        </p:nvPicPr>
        <p:blipFill>
          <a:blip r:embed="rId4"/>
          <a:stretch/>
        </p:blipFill>
        <p:spPr>
          <a:xfrm>
            <a:off x="4284720" y="458136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0" descr="танкер для перевозки нефтепродуктов"/>
          <p:cNvPicPr/>
          <p:nvPr/>
        </p:nvPicPr>
        <p:blipFill>
          <a:blip r:embed="rId5"/>
          <a:stretch/>
        </p:blipFill>
        <p:spPr>
          <a:xfrm>
            <a:off x="6769080" y="4581360"/>
            <a:ext cx="2340000" cy="1656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1"/>
          <p:cNvSpPr/>
          <p:nvPr/>
        </p:nvSpPr>
        <p:spPr>
          <a:xfrm>
            <a:off x="-34920" y="3500280"/>
            <a:ext cx="4135680" cy="30708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рта. Нефтяная пленка на поверхности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15840" y="6235560"/>
            <a:ext cx="91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2349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tanker"/>
          <p:cNvPicPr/>
          <p:nvPr/>
        </p:nvPicPr>
        <p:blipFill>
          <a:blip r:embed="rId2"/>
          <a:stretch/>
        </p:blipFill>
        <p:spPr>
          <a:xfrm>
            <a:off x="2987640" y="2276640"/>
            <a:ext cx="3168720" cy="180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3995640" y="4076640"/>
            <a:ext cx="5148360" cy="2759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4489"/>
          <p:cNvPicPr/>
          <p:nvPr/>
        </p:nvPicPr>
        <p:blipFill>
          <a:blip r:embed="rId4"/>
          <a:stretch/>
        </p:blipFill>
        <p:spPr>
          <a:xfrm>
            <a:off x="0" y="220500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ity2"/>
          <p:cNvPicPr/>
          <p:nvPr/>
        </p:nvPicPr>
        <p:blipFill>
          <a:blip r:embed="rId5"/>
          <a:srcRect l="0" t="25320" r="0" b="0"/>
          <a:stretch/>
        </p:blipFill>
        <p:spPr>
          <a:xfrm>
            <a:off x="0" y="0"/>
            <a:ext cx="4537080" cy="2276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1085156957-1"/>
          <p:cNvPicPr/>
          <p:nvPr/>
        </p:nvPicPr>
        <p:blipFill>
          <a:blip r:embed="rId6"/>
          <a:stretch/>
        </p:blipFill>
        <p:spPr>
          <a:xfrm>
            <a:off x="6146640" y="2205000"/>
            <a:ext cx="2997360" cy="1881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108000" y="44280"/>
            <a:ext cx="439272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clean"/>
          <p:cNvPicPr/>
          <p:nvPr/>
        </p:nvPicPr>
        <p:blipFill>
          <a:blip r:embed="rId7"/>
          <a:srcRect l="0" t="19400" r="4992" b="609"/>
          <a:stretch/>
        </p:blipFill>
        <p:spPr>
          <a:xfrm>
            <a:off x="-36360" y="4076640"/>
            <a:ext cx="3960720" cy="2795760"/>
          </a:xfrm>
          <a:prstGeom prst="rect">
            <a:avLst/>
          </a:prstGeom>
          <a:ln w="0">
            <a:noFill/>
          </a:ln>
        </p:spPr>
      </p:pic>
      <p:sp>
        <p:nvSpPr>
          <p:cNvPr id="348" name="WordArt 12"/>
          <p:cNvSpPr txBox="1"/>
          <p:nvPr/>
        </p:nvSpPr>
        <p:spPr>
          <a:xfrm>
            <a:off x="419040" y="120600"/>
            <a:ext cx="37213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1042920" y="981000"/>
            <a:ext cx="7201080" cy="518472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1403280" y="1197000"/>
            <a:ext cx="6481800" cy="4392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рос отходов в окружающую среду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технолог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контроля за технология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нтролируемое изменение климата Земли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ологический кризис, возникновение экологических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тастроф в различных районах мир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ути реш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во и контроль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ительство очистных сооружен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циональное размещение грязных производств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безотходных технологи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WordArt 16"/>
          <p:cNvSpPr txBox="1"/>
          <p:nvPr/>
        </p:nvSpPr>
        <p:spPr>
          <a:xfrm>
            <a:off x="1979640" y="5632560"/>
            <a:ext cx="4943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Земля только одна!"</a:t>
            </a: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WordArt 7"/>
          <p:cNvSpPr txBox="1"/>
          <p:nvPr/>
        </p:nvSpPr>
        <p:spPr>
          <a:xfrm>
            <a:off x="684360" y="620640"/>
            <a:ext cx="82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31840" y="1557360"/>
            <a:ext cx="8732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6 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 го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2"/>
          <a:srcRect l="0" t="0" r="2132" b="0"/>
          <a:stretch/>
        </p:blipFill>
        <p:spPr>
          <a:xfrm>
            <a:off x="-36360" y="3062160"/>
            <a:ext cx="5760720" cy="3679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0"/>
          <p:cNvSpPr/>
          <p:nvPr/>
        </p:nvSpPr>
        <p:spPr>
          <a:xfrm>
            <a:off x="1306080" y="270828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ЕДНЕГОДОВЫЕ ТЕМПЫ РОСТА НАСЕЛ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 1995 по 2000 год (в %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6"/>
          <p:cNvSpPr/>
          <p:nvPr/>
        </p:nvSpPr>
        <p:spPr>
          <a:xfrm>
            <a:off x="5219640" y="2421000"/>
            <a:ext cx="3851280" cy="1875600"/>
          </a:xfrm>
          <a:prstGeom prst="rect">
            <a:avLst/>
          </a:prstGeom>
          <a:solidFill>
            <a:srgbClr val="ffcc99">
              <a:alpha val="63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карту и ответьте на вопросы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. В каких регионах мира четко выражен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кризис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. В каких регионах мира четко выражен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взрыв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3. Предположите, как будет меняться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еополитическая обстановка в мире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4. Каково положение России на данной карте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7"/>
          <p:cNvSpPr/>
          <p:nvPr/>
        </p:nvSpPr>
        <p:spPr>
          <a:xfrm>
            <a:off x="5724360" y="4435560"/>
            <a:ext cx="3333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-142920" y="981000"/>
            <a:ext cx="94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Динамика изменений десятки крупнейших по численности стран мира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(1990 – 2050 гг.),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млн чел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6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7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WordArt 8"/>
          <p:cNvSpPr txBox="1"/>
          <p:nvPr/>
        </p:nvSpPr>
        <p:spPr>
          <a:xfrm>
            <a:off x="684360" y="331920"/>
            <a:ext cx="820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cf0ef"/>
                    </a:gs>
                    <a:gs pos="50000">
                      <a:srgbClr val="c1ff45"/>
                    </a:gs>
                    <a:gs pos="100000">
                      <a:srgbClr val="bcf0ef"/>
                    </a:gs>
                  </a:gsLst>
                  <a:lin ang="27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cf0ef"/>
                  </a:gs>
                  <a:gs pos="50000">
                    <a:srgbClr val="c1ff45"/>
                  </a:gs>
                  <a:gs pos="100000">
                    <a:srgbClr val="bcf0e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50920" y="1268280"/>
          <a:ext cx="8642160" cy="4246560"/>
        </p:xfrm>
        <a:graphic>
          <a:graphicData uri="http://schemas.openxmlformats.org/drawingml/2006/table">
            <a:tbl>
              <a:tblPr/>
              <a:tblGrid>
                <a:gridCol w="1182600"/>
                <a:gridCol w="517680"/>
                <a:gridCol w="1180800"/>
                <a:gridCol w="517680"/>
                <a:gridCol w="1182600"/>
                <a:gridCol w="590760"/>
                <a:gridCol w="1180800"/>
                <a:gridCol w="590760"/>
                <a:gridCol w="1122480"/>
                <a:gridCol w="5760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гноз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о-Венг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69" name="Rectangle 435"/>
          <p:cNvSpPr/>
          <p:nvPr/>
        </p:nvSpPr>
        <p:spPr>
          <a:xfrm>
            <a:off x="250920" y="5516640"/>
            <a:ext cx="1873080" cy="21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ющиеся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36"/>
          <p:cNvSpPr/>
          <p:nvPr/>
        </p:nvSpPr>
        <p:spPr>
          <a:xfrm>
            <a:off x="250920" y="5734080"/>
            <a:ext cx="1873080" cy="216000"/>
          </a:xfrm>
          <a:prstGeom prst="rect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ые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38"/>
          <p:cNvSpPr/>
          <p:nvPr/>
        </p:nvSpPr>
        <p:spPr>
          <a:xfrm>
            <a:off x="250920" y="2349360"/>
            <a:ext cx="6408720" cy="3167280"/>
          </a:xfrm>
          <a:custGeom>
            <a:avLst/>
            <a:gdLst>
              <a:gd name="textAreaLeft" fmla="*/ 0 w 6408720"/>
              <a:gd name="textAreaRight" fmla="*/ 6409080 w 64087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4037" h="1995">
                <a:moveTo>
                  <a:pt x="0" y="0"/>
                </a:moveTo>
                <a:cubicBezTo>
                  <a:pt x="344" y="41"/>
                  <a:pt x="689" y="83"/>
                  <a:pt x="1044" y="181"/>
                </a:cubicBezTo>
                <a:cubicBezTo>
                  <a:pt x="1399" y="279"/>
                  <a:pt x="1762" y="468"/>
                  <a:pt x="2132" y="589"/>
                </a:cubicBezTo>
                <a:cubicBezTo>
                  <a:pt x="2502" y="710"/>
                  <a:pt x="2948" y="673"/>
                  <a:pt x="3266" y="907"/>
                </a:cubicBezTo>
                <a:cubicBezTo>
                  <a:pt x="3584" y="1141"/>
                  <a:pt x="3909" y="1814"/>
                  <a:pt x="4037" y="1995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39"/>
          <p:cNvSpPr/>
          <p:nvPr/>
        </p:nvSpPr>
        <p:spPr>
          <a:xfrm>
            <a:off x="250920" y="6154560"/>
            <a:ext cx="64908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440"/>
          <p:cNvSpPr/>
          <p:nvPr/>
        </p:nvSpPr>
        <p:spPr>
          <a:xfrm>
            <a:off x="900000" y="593892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менение места России в числе стран –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41"/>
          <p:cNvSpPr/>
          <p:nvPr/>
        </p:nvSpPr>
        <p:spPr>
          <a:xfrm>
            <a:off x="3780000" y="5589720"/>
            <a:ext cx="536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1. Сравните первую десятку стран – лидеров по численности населения с 1900 по 2003 гг. Как изменяли свое место развитые страны, как – развивающиеся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Как изменялось место России в числе этих стран? Каковы прогноз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2"/>
          <a:srcRect l="0" t="0" r="2406" b="15275"/>
          <a:stretch/>
        </p:blipFill>
        <p:spPr>
          <a:xfrm>
            <a:off x="228600" y="1371600"/>
            <a:ext cx="7848720" cy="36813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7"/>
          <p:cNvSpPr/>
          <p:nvPr/>
        </p:nvSpPr>
        <p:spPr>
          <a:xfrm>
            <a:off x="380880" y="1393920"/>
            <a:ext cx="41148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: «Мировые демографические тенденции и расп-ределение соотношения населения Севера (развитых стран) и Юга (развивающихся стран)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11240" y="5048280"/>
            <a:ext cx="880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9" descr=""/>
          <p:cNvPicPr/>
          <p:nvPr/>
        </p:nvPicPr>
        <p:blipFill>
          <a:blip r:embed="rId3"/>
          <a:stretch/>
        </p:blipFill>
        <p:spPr>
          <a:xfrm>
            <a:off x="8001000" y="1523880"/>
            <a:ext cx="1117440" cy="1339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"/>
          <p:cNvPicPr/>
          <p:nvPr/>
        </p:nvPicPr>
        <p:blipFill>
          <a:blip r:embed="rId4"/>
          <a:stretch/>
        </p:blipFill>
        <p:spPr>
          <a:xfrm>
            <a:off x="3835440" y="1905120"/>
            <a:ext cx="1879560" cy="15318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390" name="Object 6"/>
          <p:cNvGraphicFramePr/>
          <p:nvPr/>
        </p:nvGraphicFramePr>
        <p:xfrm>
          <a:off x="-76320" y="1542960"/>
          <a:ext cx="4343400" cy="25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542960"/>
                    <a:ext cx="43434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76320" y="1219320"/>
            <a:ext cx="42195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«Изменение роста численности населения мира по сравнению с предыдущим годом, в 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191120" y="1311120"/>
            <a:ext cx="49528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ия демографического перех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переход включает четыре отдельные фазы (смотри график-схему Б)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Object 9"/>
          <p:cNvGraphicFramePr/>
          <p:nvPr/>
        </p:nvGraphicFramePr>
        <p:xfrm>
          <a:off x="76320" y="4419720"/>
          <a:ext cx="41148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419720"/>
                    <a:ext cx="4114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0"/>
          <p:cNvSpPr/>
          <p:nvPr/>
        </p:nvSpPr>
        <p:spPr>
          <a:xfrm>
            <a:off x="154440" y="4114800"/>
            <a:ext cx="31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-схема демографического переход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915840" y="61722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1753920" y="61722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2668320" y="617220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3507120" y="6172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916560" y="5791320"/>
            <a:ext cx="10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МЕРТ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2364480" y="495288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ОЖДАЕМ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285480" y="4876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МИТИВ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2876400" y="58071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ОВРЕМЕН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 rot="16225200">
            <a:off x="1580040" y="524736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рос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684360" y="27000"/>
            <a:ext cx="784836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216000" y="1293840"/>
            <a:ext cx="869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28600" y="2362320"/>
          <a:ext cx="8763120" cy="2636640"/>
        </p:xfrm>
        <a:graphic>
          <a:graphicData uri="http://schemas.openxmlformats.org/drawingml/2006/table">
            <a:tbl>
              <a:tblPr/>
              <a:tblGrid>
                <a:gridCol w="4422600"/>
                <a:gridCol w="434052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, где наблюдается депопуляция населен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 с высоким естественным приростом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экономического стимулирования рождаемости - семейные пособия, поощрительные выплаты, льготы многодетным семьям и молодоженам при распределении жилья, расширение сети детских учреждени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рение производства сравнительно простых в употреблении, дешевых и повсеместно доступных контрацептивных средств. Административные штрафы за многодетность, поощрения и стимулиро-вание поздних браков, более позднее появление на свет потомства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AutoShape 18"/>
          <p:cNvSpPr/>
          <p:nvPr/>
        </p:nvSpPr>
        <p:spPr>
          <a:xfrm>
            <a:off x="-181080" y="2781360"/>
            <a:ext cx="9290160" cy="4032360"/>
          </a:xfrm>
          <a:prstGeom prst="leftArrowCallout">
            <a:avLst>
              <a:gd name="adj1" fmla="val 23993"/>
              <a:gd name="adj2" fmla="val 50000"/>
              <a:gd name="adj3" fmla="val -46795"/>
              <a:gd name="adj4" fmla="val 66673"/>
            </a:avLst>
          </a:prstGeom>
          <a:solidFill>
            <a:srgbClr val="ffff99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еренаселение, неравномерность рассел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Демографический взрыв в развивающихся странах, демографически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зис в развитых странах мира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Региональные конфлик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Различный уровень эконом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Несовершенство демографической полит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Ухудшение социальных условий жизн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Наличие горячих точек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ути решения этой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экономического и социального уровней развития развиваю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щихся стран, улучшение условий жизни людей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Активная демографическая полити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довольственн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5"/>
          <p:cNvSpPr/>
          <p:nvPr/>
        </p:nvSpPr>
        <p:spPr>
          <a:xfrm>
            <a:off x="76320" y="685800"/>
            <a:ext cx="3200400" cy="8715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оценкам ВОЗ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а пит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еловека составля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2971800" y="685800"/>
            <a:ext cx="3124080" cy="871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доед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9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5943600" y="685800"/>
            <a:ext cx="3124080" cy="8715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вственны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оло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0" y="1604880"/>
            <a:ext cx="9102600" cy="1325160"/>
          </a:xfrm>
          <a:prstGeom prst="rect">
            <a:avLst/>
          </a:prstGeom>
          <a:gradFill rotWithShape="0">
            <a:gsLst>
              <a:gs pos="0">
                <a:srgbClr val="cc525a">
                  <a:alpha val="38039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5803920" y="2708280"/>
            <a:ext cx="18921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 Земле существует </a:t>
            </a:r>
            <a:r>
              <a:rPr b="1" lang="ru-RU" sz="1100" spc="-1" strike="noStrike" u="sng">
                <a:solidFill>
                  <a:srgbClr val="ff121e"/>
                </a:solidFill>
                <a:uFillTx/>
                <a:latin typeface="Times New Roman"/>
              </a:rPr>
              <a:t>по-яс голод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WordArt 10"/>
          <p:cNvSpPr txBox="1"/>
          <p:nvPr/>
        </p:nvSpPr>
        <p:spPr>
          <a:xfrm>
            <a:off x="6227640" y="5445000"/>
            <a:ext cx="2362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Пути решения:</a:t>
            </a:r>
            <a:endParaRPr b="1" lang="en-US" sz="1600" spc="1" strike="noStrike">
              <a:ln w="1584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424" name="Picture 11" descr=""/>
          <p:cNvPicPr/>
          <p:nvPr/>
        </p:nvPicPr>
        <p:blipFill>
          <a:blip r:embed="rId2"/>
          <a:stretch/>
        </p:blipFill>
        <p:spPr>
          <a:xfrm>
            <a:off x="7696080" y="2751120"/>
            <a:ext cx="1524240" cy="14400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2"/>
          <p:cNvSpPr/>
          <p:nvPr/>
        </p:nvSpPr>
        <p:spPr>
          <a:xfrm>
            <a:off x="5791320" y="4440240"/>
            <a:ext cx="3276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 тоже время на Земле можно выделить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яс переедания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7705800" y="3809880"/>
            <a:ext cx="1514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а руках у матери умирающий от голода сын.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5838840" y="5661000"/>
            <a:ext cx="3305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экс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расширение пахотных и пастбищных угодий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ин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5" descr="Продовольственная проблема"/>
          <p:cNvPicPr/>
          <p:nvPr/>
        </p:nvPicPr>
        <p:blipFill>
          <a:blip r:embed="rId3"/>
          <a:stretch/>
        </p:blipFill>
        <p:spPr>
          <a:xfrm>
            <a:off x="71280" y="2997360"/>
            <a:ext cx="5724720" cy="382428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16"/>
          <p:cNvSpPr/>
          <p:nvPr/>
        </p:nvSpPr>
        <p:spPr>
          <a:xfrm>
            <a:off x="2482920" y="6165720"/>
            <a:ext cx="3313080" cy="692280"/>
          </a:xfrm>
          <a:prstGeom prst="wedgeRoundRectCallout">
            <a:avLst>
              <a:gd name="adj1" fmla="val 43625"/>
              <a:gd name="adj2" fmla="val -221328"/>
              <a:gd name="adj3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будьте, что это среднестатистические пока-затели. То есть если один человек съел две курицы, а второй ни одной, то по статистике каждый из них съел по курице!!!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"/>
          <p:cNvSpPr/>
          <p:nvPr/>
        </p:nvSpPr>
        <p:spPr>
          <a:xfrm>
            <a:off x="0" y="6062760"/>
            <a:ext cx="2411280" cy="8240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Рассмотрите карту. В каких регионах мира суточный рацион питания ниже нормы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33"/>
          <p:cNvSpPr/>
          <p:nvPr/>
        </p:nvSpPr>
        <p:spPr>
          <a:xfrm rot="14085000">
            <a:off x="277920" y="2735640"/>
            <a:ext cx="1899000" cy="1807920"/>
          </a:xfrm>
          <a:custGeom>
            <a:avLst/>
            <a:gdLst>
              <a:gd name="textAreaLeft" fmla="*/ 474840 w 1899000"/>
              <a:gd name="textAreaRight" fmla="*/ 1424520 w 1899000"/>
              <a:gd name="textAreaTop" fmla="*/ 451800 h 1807920"/>
              <a:gd name="textAreaBottom" fmla="*/ 1754640 h 180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егодня на урок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ассмотрим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979640" y="1484280"/>
            <a:ext cx="7093080" cy="642600"/>
          </a:xfrm>
          <a:prstGeom prst="rect">
            <a:avLst/>
          </a:prstGeom>
          <a:solidFill>
            <a:srgbClr val="ccffcc"/>
          </a:solidFill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002"/>
          <p:cNvPicPr/>
          <p:nvPr/>
        </p:nvPicPr>
        <p:blipFill>
          <a:blip r:embed="rId1"/>
          <a:stretch/>
        </p:blipFill>
        <p:spPr>
          <a:xfrm>
            <a:off x="-36360" y="-57240"/>
            <a:ext cx="1974600" cy="21909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2195640" y="220680"/>
            <a:ext cx="669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142920" y="0"/>
            <a:ext cx="1260360" cy="576360"/>
          </a:xfrm>
          <a:prstGeom prst="cloudCallout">
            <a:avLst>
              <a:gd name="adj1" fmla="val -46097"/>
              <a:gd name="adj2" fmla="val 8884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CY"/>
              </a:rPr>
              <a:t>Один не справлюсь</a:t>
            </a:r>
            <a:r>
              <a:rPr b="0" lang="ru-RU" sz="900" spc="-1" strike="noStrike">
                <a:solidFill>
                  <a:srgbClr val="000000"/>
                </a:solidFill>
                <a:latin typeface="Times CY"/>
              </a:rPr>
              <a:t>!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340000" y="227016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-менном этапе развития чело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340000" y="299088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о глобальных проблемах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40000" y="340992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ы обострения глобальных проблем, суть их возник-нов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340000" y="412920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340000" y="456264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340000" y="501336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2124000" y="2133720"/>
            <a:ext cx="0" cy="64764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2124000" y="2781360"/>
            <a:ext cx="0" cy="107928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2124000" y="3716280"/>
            <a:ext cx="0" cy="93672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2124000" y="4437000"/>
            <a:ext cx="0" cy="79236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2124000" y="522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2124000" y="4797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2124000" y="436572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2124000" y="378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2124000" y="3213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0"/>
          <p:cNvSpPr/>
          <p:nvPr/>
        </p:nvSpPr>
        <p:spPr>
          <a:xfrm>
            <a:off x="2124000" y="2637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1" descr="globus3"/>
          <p:cNvPicPr/>
          <p:nvPr/>
        </p:nvPicPr>
        <p:blipFill>
          <a:blip r:embed="rId2"/>
          <a:stretch/>
        </p:blipFill>
        <p:spPr>
          <a:xfrm>
            <a:off x="0" y="5369040"/>
            <a:ext cx="1692360" cy="1373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2"/>
          <p:cNvSpPr/>
          <p:nvPr/>
        </p:nvSpPr>
        <p:spPr>
          <a:xfrm>
            <a:off x="1600200" y="5445000"/>
            <a:ext cx="6932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и урок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Выявить географические аспекты глобальных проблем чело-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Совершенствовать навыки работы со статистическими ма-териалам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243 -0.00648 0.0092 -0.00394 0.04583 -0.00185 C 0.04861 -0.0007 0.05139 0.00069 0.05416 0.00185 C 0.05555 0.00255 0.05833 0.0037 0.05833 0.0037 C 0.06337 0.01389 0.06458 0.01643 0.06666 0.02778 C 0.06614 0.03588 0.06597 0.04375 0.06528 0.05185 C 0.06354 0.0706 0.05156 0.07824 0.04166 0.08704 C 0.03941 0.0868 0.02899 0.08634 0.025 0.08333 C 0.0118 0.07361 0.00625 0.05949 0.00278 0.04074 C 0.00121 0.00856 0.00243 0.02222 4.72222E-006 -7.40741E-007 Z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потребление энерги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360" y="4076640"/>
            <a:ext cx="3490920" cy="2843280"/>
          </a:xfrm>
          <a:prstGeom prst="rect">
            <a:avLst/>
          </a:prstGeom>
          <a:ln w="0">
            <a:noFill/>
          </a:ln>
        </p:spPr>
      </p:pic>
      <p:sp>
        <p:nvSpPr>
          <p:cNvPr id="433" name="WordArt 3"/>
          <p:cNvSpPr txBox="1"/>
          <p:nvPr/>
        </p:nvSpPr>
        <p:spPr>
          <a:xfrm>
            <a:off x="4572000" y="297180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Пути решения: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ЕТИЧЕСКАЯ И СЫРЬЕВ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5" descr="globe2"/>
          <p:cNvPicPr/>
          <p:nvPr/>
        </p:nvPicPr>
        <p:blipFill>
          <a:blip r:embed="rId4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7"/>
          <p:cNvGrpSpPr/>
          <p:nvPr/>
        </p:nvGrpSpPr>
        <p:grpSpPr>
          <a:xfrm>
            <a:off x="0" y="685800"/>
            <a:ext cx="3886200" cy="3390840"/>
            <a:chOff x="0" y="685800"/>
            <a:chExt cx="3886200" cy="3390840"/>
          </a:xfrm>
        </p:grpSpPr>
        <p:pic>
          <p:nvPicPr>
            <p:cNvPr id="438" name="Picture 8" descr="Буровая платформа для добычи нефти"/>
            <p:cNvPicPr/>
            <p:nvPr/>
          </p:nvPicPr>
          <p:blipFill>
            <a:blip r:embed="rId5"/>
            <a:stretch/>
          </p:blipFill>
          <p:spPr>
            <a:xfrm>
              <a:off x="0" y="685800"/>
              <a:ext cx="3886200" cy="25938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sp>
          <p:nvSpPr>
            <p:cNvPr id="439" name="Rectangle 9"/>
            <p:cNvSpPr/>
            <p:nvPr/>
          </p:nvSpPr>
          <p:spPr>
            <a:xfrm>
              <a:off x="0" y="3298680"/>
              <a:ext cx="3886200" cy="77796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орская буровая платформа в Северном море, считая от основания ее стальных ног и до верхушки буровой вышки, достигает высоты небоскреба. Обслуживаются персоналом до 300 человек, имеют одну - две буровые вышки, жилые поме-щения, резервуары, площадку для вертолетов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Rectangle 10"/>
          <p:cNvSpPr/>
          <p:nvPr/>
        </p:nvSpPr>
        <p:spPr>
          <a:xfrm>
            <a:off x="3895560" y="685800"/>
            <a:ext cx="52484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Энергетическая и сырьев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3352680" y="589608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Проанализируйте диаграммы. Какие регионы мира являются лидерами в потреблении топлива? Что используется в качестве главных энергоносителей 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12" descr=""/>
          <p:cNvPicPr/>
          <p:nvPr/>
        </p:nvPicPr>
        <p:blipFill>
          <a:blip r:embed="rId6"/>
          <a:stretch/>
        </p:blipFill>
        <p:spPr>
          <a:xfrm>
            <a:off x="3886200" y="411480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3"/>
          <p:cNvSpPr/>
          <p:nvPr/>
        </p:nvSpPr>
        <p:spPr>
          <a:xfrm>
            <a:off x="4010040" y="3198960"/>
            <a:ext cx="513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коэффициента полезного использования уже добытого сырья и топлив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4" descr=""/>
          <p:cNvPicPr/>
          <p:nvPr/>
        </p:nvPicPr>
        <p:blipFill>
          <a:blip r:embed="rId7"/>
          <a:stretch/>
        </p:blipFill>
        <p:spPr>
          <a:xfrm>
            <a:off x="6553080" y="4114800"/>
            <a:ext cx="2514600" cy="1646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5"/>
          <p:cNvSpPr/>
          <p:nvPr/>
        </p:nvSpPr>
        <p:spPr>
          <a:xfrm>
            <a:off x="3808440" y="556272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етровой парк. Дан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477120" y="5410080"/>
            <a:ext cx="2595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м с использованием солнечной энергии. Египет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17" descr=""/>
          <p:cNvPicPr/>
          <p:nvPr/>
        </p:nvPicPr>
        <p:blipFill>
          <a:blip r:embed="rId8"/>
          <a:stretch/>
        </p:blipFill>
        <p:spPr>
          <a:xfrm>
            <a:off x="6858000" y="5791320"/>
            <a:ext cx="2209680" cy="1004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7588440" y="655308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олнечная батаре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250920" y="220680"/>
            <a:ext cx="87548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WordArt 3"/>
          <p:cNvSpPr txBox="1"/>
          <p:nvPr/>
        </p:nvSpPr>
        <p:spPr>
          <a:xfrm>
            <a:off x="395280" y="1484280"/>
            <a:ext cx="72010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общение. Проверь себя.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31840" y="1916280"/>
            <a:ext cx="8732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Что такое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чему именно во второй половине ХХ  века обострились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Можно ли сказать, что глобальные проблемы актуальны лишь для стран с низким уровнем развития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Перечислите основные глобальные проблемы современного мир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Какие глобальные проблемы актуальны для современной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. В чём состоят главные особенности географического подхода к анализу глобальных проблем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. Почему проблема терроризма стала глобальной? Что такое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уга нестабиль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. Почему проблема разоружения стала глобальной? В чём состоит концепция ядерной зи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. Почему экологические проблемы стали наиболее актуальн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Какие из социальных проблем современности вы считаете наиболее актуальными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. Какая социальная проблема в современной России наиболее остр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WordArt 5"/>
          <p:cNvSpPr txBox="1"/>
          <p:nvPr/>
        </p:nvSpPr>
        <p:spPr>
          <a:xfrm rot="20295000">
            <a:off x="107640" y="5183280"/>
            <a:ext cx="22384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6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ческое задание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6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476360" y="5661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одготовить сообщение о любой глобальной проблеме не рассмотренной в данной презентации, выявить суть проблемы, причины возникновения и пути решения, какие меры уже принимаются для решения данной проблем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-22320"/>
            <a:ext cx="7775280" cy="703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общество и природа"/>
          <p:cNvPicPr/>
          <p:nvPr/>
        </p:nvPicPr>
        <p:blipFill>
          <a:blip r:embed="rId2"/>
          <a:stretch/>
        </p:blipFill>
        <p:spPr>
          <a:xfrm>
            <a:off x="108000" y="765000"/>
            <a:ext cx="5472000" cy="358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Line 11"/>
          <p:cNvSpPr/>
          <p:nvPr/>
        </p:nvSpPr>
        <p:spPr>
          <a:xfrm>
            <a:off x="442764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55087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 flipH="1">
            <a:off x="4859280" y="4076640"/>
            <a:ext cx="64944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2509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25092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250920" y="4076640"/>
            <a:ext cx="57600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5559480" y="735120"/>
            <a:ext cx="358452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современной эпохи развития человечества характерно качествен-но новое состояние взаимодействий общества и природы. Это связано с развитием научно - технического прогресса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никогда достигнут планетар-ный масштаб производственно-хо-зяйственной деятельности общества. Постепенно очаги человеческой деятельности расширялись, усложнялись связи между ними. И вот, когда практически весь земной шар стал ареной человеческой деятельности, началось освоение космического пространств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08000" y="4365720"/>
            <a:ext cx="547200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сунок демонстрирует современное состояние взаимодействия общества и прир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26"/>
          <p:cNvSpPr txBox="1"/>
          <p:nvPr/>
        </p:nvSpPr>
        <p:spPr>
          <a:xfrm>
            <a:off x="271440" y="5013360"/>
            <a:ext cx="2571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ы для реферато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230040" y="5346720"/>
            <a:ext cx="8734680" cy="131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обенности взаимоотношения человека и географической среды от древности до наших дне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ледствия резких изменений во взаимоотношениях человека с природной средой во второй половине ХХ век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воение человеком труднодоступных территорий планеты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2963880" y="5033880"/>
            <a:ext cx="39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Это можно выполнить как дополнительное задание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651640" y="692280"/>
            <a:ext cx="3492360" cy="487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СНОВНЫЕ ОСОБЕННОСТИ СОВРЕ-МЕННОГО ЭТАПА ВЗАИМОДЕЙСТ-ВИЯ ПРИРОДЫ И ОБЩЕ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рактическое применение мощ-нейшего источника энергии – ядер-ной энерг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Интенсификация использования природы, возрастание «давления» на природу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84360" y="0"/>
            <a:ext cx="7848360" cy="752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4920" y="1413000"/>
            <a:ext cx="9109080" cy="863640"/>
          </a:xfrm>
          <a:prstGeom prst="wedgeRectCallout">
            <a:avLst>
              <a:gd name="adj1" fmla="val -42976"/>
              <a:gd name="adj2" fmla="val -784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83240" y="754200"/>
            <a:ext cx="508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4920" y="2421000"/>
            <a:ext cx="2987640" cy="179892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ись во второй половине ХХ ве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4920" y="4437000"/>
            <a:ext cx="2016000" cy="164376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же причины привели к обостре-нию глобальных про-блем? В некоторых источниках эти при-чины называют –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«Пять никогда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york"/>
          <p:cNvPicPr/>
          <p:nvPr/>
        </p:nvPicPr>
        <p:blipFill>
          <a:blip r:embed="rId2"/>
          <a:srcRect l="0" t="7322" r="0" b="0"/>
          <a:stretch/>
        </p:blipFill>
        <p:spPr>
          <a:xfrm>
            <a:off x="7956720" y="2421000"/>
            <a:ext cx="1198440" cy="83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174mir"/>
          <p:cNvPicPr/>
          <p:nvPr/>
        </p:nvPicPr>
        <p:blipFill>
          <a:blip r:embed="rId3"/>
          <a:stretch/>
        </p:blipFill>
        <p:spPr>
          <a:xfrm>
            <a:off x="7956720" y="3333600"/>
            <a:ext cx="1187280" cy="816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Буровая платформа для добычи нефти"/>
          <p:cNvPicPr/>
          <p:nvPr/>
        </p:nvPicPr>
        <p:blipFill>
          <a:blip r:embed="rId4"/>
          <a:stretch/>
        </p:blipFill>
        <p:spPr>
          <a:xfrm>
            <a:off x="7956720" y="4221000"/>
            <a:ext cx="118728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Господин Доллар США"/>
          <p:cNvPicPr/>
          <p:nvPr/>
        </p:nvPicPr>
        <p:blipFill>
          <a:blip r:embed="rId5"/>
          <a:srcRect l="0" t="0" r="0" b="18090"/>
          <a:stretch/>
        </p:blipFill>
        <p:spPr>
          <a:xfrm>
            <a:off x="7956720" y="5084640"/>
            <a:ext cx="1187280" cy="7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810"/>
          <p:cNvPicPr/>
          <p:nvPr/>
        </p:nvPicPr>
        <p:blipFill>
          <a:blip r:embed="rId6"/>
          <a:stretch/>
        </p:blipFill>
        <p:spPr>
          <a:xfrm>
            <a:off x="7956720" y="5908680"/>
            <a:ext cx="1187280" cy="7603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1"/>
          <p:cNvSpPr/>
          <p:nvPr/>
        </p:nvSpPr>
        <p:spPr>
          <a:xfrm>
            <a:off x="3059280" y="2421000"/>
            <a:ext cx="4897440" cy="4248000"/>
          </a:xfrm>
          <a:prstGeom prst="wedgeRectCallout">
            <a:avLst>
              <a:gd name="adj1" fmla="val -69254"/>
              <a:gd name="adj2" fmla="val 18574"/>
            </a:avLst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для жизнеобеспечения не требовалось такого количества ресурсов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е возникало такой глобальной мировой экономики, такой единой мировой информационной систем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«холодная война» не подводила человечество так близко к рубежу само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10"/>
          <p:cNvSpPr/>
          <p:nvPr/>
        </p:nvSpPr>
        <p:spPr>
          <a:xfrm>
            <a:off x="179280" y="2419200"/>
            <a:ext cx="273528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буют объединение все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н и народ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179280" y="1916280"/>
            <a:ext cx="2735280" cy="502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ют угрозу для настоящего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будуще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79280" y="1484280"/>
            <a:ext cx="2735280" cy="4320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хватывают весь ми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0"/>
            <a:ext cx="7775280" cy="678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 Классификация глобальных пробле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754200" y="765000"/>
            <a:ext cx="1441440" cy="648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ьн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9" descr="взаимосязь глобальных проблем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2997360"/>
            <a:ext cx="3995640" cy="3884400"/>
          </a:xfrm>
          <a:prstGeom prst="rect">
            <a:avLst/>
          </a:prstGeom>
          <a:ln w="0">
            <a:noFill/>
          </a:ln>
        </p:spPr>
      </p:pic>
      <p:sp>
        <p:nvSpPr>
          <p:cNvPr id="133" name="Line 72"/>
          <p:cNvSpPr/>
          <p:nvPr/>
        </p:nvSpPr>
        <p:spPr>
          <a:xfrm flipH="1">
            <a:off x="39492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73"/>
          <p:cNvSpPr/>
          <p:nvPr/>
        </p:nvSpPr>
        <p:spPr>
          <a:xfrm flipH="1">
            <a:off x="3456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4"/>
          <p:cNvSpPr/>
          <p:nvPr/>
        </p:nvSpPr>
        <p:spPr>
          <a:xfrm>
            <a:off x="3492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5"/>
          <p:cNvSpPr/>
          <p:nvPr/>
        </p:nvSpPr>
        <p:spPr>
          <a:xfrm>
            <a:off x="349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6"/>
          <p:cNvSpPr/>
          <p:nvPr/>
        </p:nvSpPr>
        <p:spPr>
          <a:xfrm>
            <a:off x="349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77"/>
          <p:cNvSpPr/>
          <p:nvPr/>
        </p:nvSpPr>
        <p:spPr>
          <a:xfrm>
            <a:off x="349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9"/>
          <p:cNvSpPr/>
          <p:nvPr/>
        </p:nvSpPr>
        <p:spPr>
          <a:xfrm>
            <a:off x="3492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0"/>
          <p:cNvSpPr/>
          <p:nvPr/>
        </p:nvSpPr>
        <p:spPr>
          <a:xfrm>
            <a:off x="34920" y="17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1"/>
          <p:cNvSpPr/>
          <p:nvPr/>
        </p:nvSpPr>
        <p:spPr>
          <a:xfrm>
            <a:off x="3059280" y="765000"/>
            <a:ext cx="5905440" cy="307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ЛАССИФИКАЦИЯ ГЛОБАЛЬНЫХ ПРОБЛЕ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2"/>
          <p:cNvSpPr/>
          <p:nvPr/>
        </p:nvSpPr>
        <p:spPr>
          <a:xfrm>
            <a:off x="3059280" y="1127160"/>
            <a:ext cx="2376360" cy="246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ЛИТ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3"/>
          <p:cNvSpPr/>
          <p:nvPr/>
        </p:nvSpPr>
        <p:spPr>
          <a:xfrm>
            <a:off x="3059280" y="1355760"/>
            <a:ext cx="2376360" cy="703080"/>
          </a:xfrm>
          <a:prstGeom prst="rect">
            <a:avLst/>
          </a:prstGeom>
          <a:solidFill>
            <a:srgbClr val="ffe887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Предотвращение ядерной войны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разви-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ия  мирового сооб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Сохранение мира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3059280" y="2421000"/>
            <a:ext cx="2376360" cy="855360"/>
          </a:xfrm>
          <a:prstGeom prst="rect">
            <a:avLst/>
          </a:prstGeom>
          <a:solidFill>
            <a:srgbClr val="bcf0e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ежнациональные отношения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 культуры, нравственност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фицит демократи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храна здоровь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6"/>
          <p:cNvSpPr/>
          <p:nvPr/>
        </p:nvSpPr>
        <p:spPr>
          <a:xfrm>
            <a:off x="3059280" y="2205000"/>
            <a:ext cx="2376360" cy="261360"/>
          </a:xfrm>
          <a:prstGeom prst="rect">
            <a:avLst/>
          </a:prstGeom>
          <a:solidFill>
            <a:srgbClr val="8ae4e2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ЦИАЛЬ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7"/>
          <p:cNvSpPr/>
          <p:nvPr/>
        </p:nvSpPr>
        <p:spPr>
          <a:xfrm>
            <a:off x="5651640" y="1125360"/>
            <a:ext cx="3313080" cy="24624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ИРОДНО-ЭКОНОМ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8"/>
          <p:cNvSpPr/>
          <p:nvPr/>
        </p:nvSpPr>
        <p:spPr>
          <a:xfrm>
            <a:off x="5651640" y="1341360"/>
            <a:ext cx="3313080" cy="668520"/>
          </a:xfrm>
          <a:prstGeom prst="rect">
            <a:avLst/>
          </a:prstGeom>
          <a:solidFill>
            <a:srgbClr val="83ff83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кологическая;                  - Сырьева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нергетическая;    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рового океана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довольственная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93"/>
          <p:cNvGrpSpPr/>
          <p:nvPr/>
        </p:nvGrpSpPr>
        <p:grpSpPr>
          <a:xfrm>
            <a:off x="5651640" y="1989000"/>
            <a:ext cx="3313080" cy="814320"/>
            <a:chOff x="5651640" y="1989000"/>
            <a:chExt cx="3313080" cy="814320"/>
          </a:xfrm>
        </p:grpSpPr>
        <p:sp>
          <p:nvSpPr>
            <p:cNvPr id="149" name="Text Box 89"/>
            <p:cNvSpPr/>
            <p:nvPr/>
          </p:nvSpPr>
          <p:spPr>
            <a:xfrm>
              <a:off x="5651640" y="1989000"/>
              <a:ext cx="3313080" cy="261360"/>
            </a:xfrm>
            <a:prstGeom prst="rect">
              <a:avLst/>
            </a:prstGeom>
            <a:solidFill>
              <a:srgbClr val="ff66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МЕШАННОГО ХАРАКТЕРА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90"/>
            <p:cNvSpPr/>
            <p:nvPr/>
          </p:nvSpPr>
          <p:spPr>
            <a:xfrm>
              <a:off x="5653080" y="2252520"/>
              <a:ext cx="3311640" cy="550800"/>
            </a:xfrm>
            <a:prstGeom prst="rect">
              <a:avLst/>
            </a:prstGeom>
            <a:solidFill>
              <a:srgbClr val="ff97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гиональные конфликты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рроризм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хнологические аварии и др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91"/>
          <p:cNvSpPr/>
          <p:nvPr/>
        </p:nvSpPr>
        <p:spPr>
          <a:xfrm>
            <a:off x="5651640" y="2781360"/>
            <a:ext cx="3313080" cy="261360"/>
          </a:xfrm>
          <a:prstGeom prst="rect">
            <a:avLst/>
          </a:prstGeom>
          <a:solidFill>
            <a:srgbClr val="6699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УЧ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2"/>
          <p:cNvSpPr/>
          <p:nvPr/>
        </p:nvSpPr>
        <p:spPr>
          <a:xfrm>
            <a:off x="5651640" y="3036960"/>
            <a:ext cx="3313080" cy="246240"/>
          </a:xfrm>
          <a:prstGeom prst="rect">
            <a:avLst/>
          </a:prstGeom>
          <a:solidFill>
            <a:srgbClr val="c1ff45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Освоение космос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6"/>
          <p:cNvSpPr/>
          <p:nvPr/>
        </p:nvSpPr>
        <p:spPr>
          <a:xfrm>
            <a:off x="3975120" y="3524400"/>
            <a:ext cx="4989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7"/>
          <p:cNvSpPr/>
          <p:nvPr/>
        </p:nvSpPr>
        <p:spPr>
          <a:xfrm>
            <a:off x="1476360" y="4437000"/>
            <a:ext cx="914400" cy="914400"/>
          </a:xfrm>
          <a:prstGeom prst="ellipse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глобальных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terror"/>
          <p:cNvPicPr/>
          <p:nvPr/>
        </p:nvPicPr>
        <p:blipFill>
          <a:blip r:embed="rId2"/>
          <a:stretch/>
        </p:blipFill>
        <p:spPr>
          <a:xfrm>
            <a:off x="4500720" y="836640"/>
            <a:ext cx="1787400" cy="133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100988"/>
          <p:cNvPicPr/>
          <p:nvPr/>
        </p:nvPicPr>
        <p:blipFill>
          <a:blip r:embed="rId3"/>
          <a:stretch/>
        </p:blipFill>
        <p:spPr>
          <a:xfrm>
            <a:off x="6350040" y="476280"/>
            <a:ext cx="2793960" cy="1968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m"/>
          <p:cNvPicPr/>
          <p:nvPr/>
        </p:nvPicPr>
        <p:blipFill>
          <a:blip r:embed="rId4"/>
          <a:srcRect l="12871" t="0" r="0" b="12940"/>
          <a:stretch/>
        </p:blipFill>
        <p:spPr>
          <a:xfrm>
            <a:off x="5219640" y="2479680"/>
            <a:ext cx="1946160" cy="1452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m_1860"/>
          <p:cNvPicPr/>
          <p:nvPr/>
        </p:nvPicPr>
        <p:blipFill>
          <a:blip r:embed="rId5"/>
          <a:stretch/>
        </p:blipFill>
        <p:spPr>
          <a:xfrm>
            <a:off x="7184880" y="2492280"/>
            <a:ext cx="1959120" cy="1440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1095071866_e69335eda7c5e714bbbc685143c00080"/>
          <p:cNvPicPr/>
          <p:nvPr/>
        </p:nvPicPr>
        <p:blipFill>
          <a:blip r:embed="rId6"/>
          <a:srcRect l="0" t="0" r="0" b="11278"/>
          <a:stretch/>
        </p:blipFill>
        <p:spPr>
          <a:xfrm>
            <a:off x="5219640" y="4005360"/>
            <a:ext cx="194472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14"/>
          <p:cNvPicPr/>
          <p:nvPr/>
        </p:nvPicPr>
        <p:blipFill>
          <a:blip r:embed="rId7"/>
          <a:stretch/>
        </p:blipFill>
        <p:spPr>
          <a:xfrm>
            <a:off x="7199280" y="4005360"/>
            <a:ext cx="1944720" cy="1382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3"/>
          <p:cNvSpPr txBox="1"/>
          <p:nvPr/>
        </p:nvSpPr>
        <p:spPr>
          <a:xfrm>
            <a:off x="108000" y="836640"/>
            <a:ext cx="46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7752600" y="54756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5149080" y="2428920"/>
            <a:ext cx="174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Бен Ладен – террорист №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148360" y="393228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Бислане  сентябрь 2004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161120" y="3940200"/>
            <a:ext cx="187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агедия  в Москв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«Норд-Ост» октябрь 2002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0" y="1989000"/>
            <a:ext cx="51483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жным фактором нестабильности для современ-ного мира стал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озный (исламский) фундамен-тализ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7104240" y="2428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-12600" y="5300640"/>
            <a:ext cx="91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971640" y="115920"/>
            <a:ext cx="63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175" name="Picture 5" descr="11698"/>
          <p:cNvPicPr/>
          <p:nvPr/>
        </p:nvPicPr>
        <p:blipFill>
          <a:blip r:embed="rId1"/>
          <a:stretch/>
        </p:blipFill>
        <p:spPr>
          <a:xfrm>
            <a:off x="7545240" y="0"/>
            <a:ext cx="1563840" cy="191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Израиль палестина"/>
          <p:cNvPicPr/>
          <p:nvPr/>
        </p:nvPicPr>
        <p:blipFill>
          <a:blip r:embed="rId2"/>
          <a:srcRect l="2756" t="0" r="0" b="0"/>
          <a:stretch/>
        </p:blipFill>
        <p:spPr>
          <a:xfrm>
            <a:off x="4932360" y="1106640"/>
            <a:ext cx="257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ShowImage1"/>
          <p:cNvPicPr/>
          <p:nvPr/>
        </p:nvPicPr>
        <p:blipFill>
          <a:blip r:embed="rId3"/>
          <a:stretch/>
        </p:blipFill>
        <p:spPr>
          <a:xfrm>
            <a:off x="7567560" y="1989000"/>
            <a:ext cx="157644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Американцы в ираке"/>
          <p:cNvPicPr/>
          <p:nvPr/>
        </p:nvPicPr>
        <p:blipFill>
          <a:blip r:embed="rId4"/>
          <a:stretch/>
        </p:blipFill>
        <p:spPr>
          <a:xfrm>
            <a:off x="4932360" y="3056040"/>
            <a:ext cx="2592360" cy="188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_23126"/>
          <p:cNvPicPr/>
          <p:nvPr/>
        </p:nvPicPr>
        <p:blipFill>
          <a:blip r:embed="rId5"/>
          <a:stretch/>
        </p:blipFill>
        <p:spPr>
          <a:xfrm>
            <a:off x="4932360" y="4962600"/>
            <a:ext cx="2592360" cy="1851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Афганистан"/>
          <p:cNvPicPr/>
          <p:nvPr/>
        </p:nvPicPr>
        <p:blipFill>
          <a:blip r:embed="rId6"/>
          <a:stretch/>
        </p:blipFill>
        <p:spPr>
          <a:xfrm>
            <a:off x="7572240" y="5570640"/>
            <a:ext cx="1571760" cy="117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216"/>
          <p:cNvPicPr/>
          <p:nvPr/>
        </p:nvPicPr>
        <p:blipFill>
          <a:blip r:embed="rId7"/>
          <a:stretch/>
        </p:blipFill>
        <p:spPr>
          <a:xfrm>
            <a:off x="7596360" y="386064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globe2"/>
          <p:cNvPicPr/>
          <p:nvPr/>
        </p:nvPicPr>
        <p:blipFill>
          <a:blip r:embed="rId8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Конфликты в современном мире"/>
          <p:cNvPicPr/>
          <p:nvPr/>
        </p:nvPicPr>
        <p:blipFill>
          <a:blip r:embed="rId9"/>
          <a:srcRect l="6763" t="9342" r="0" b="29776"/>
          <a:stretch/>
        </p:blipFill>
        <p:spPr>
          <a:xfrm>
            <a:off x="252360" y="1773360"/>
            <a:ext cx="4464000" cy="1873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8"/>
          <p:cNvSpPr/>
          <p:nvPr/>
        </p:nvSpPr>
        <p:spPr>
          <a:xfrm>
            <a:off x="7524720" y="155736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Ясир Арафат – лидер палестинской автономии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4914720" y="278136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Израиль и Палестина. До мира еще далеко.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911840" y="3040200"/>
            <a:ext cx="198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мериканские войска а Ирак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4860000" y="6597720"/>
            <a:ext cx="268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Генеральный секретарь ООН Кофи Анна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108000" y="4292640"/>
            <a:ext cx="473544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33"/>
          <p:cNvSpPr/>
          <p:nvPr/>
        </p:nvSpPr>
        <p:spPr>
          <a:xfrm>
            <a:off x="179280" y="3571920"/>
            <a:ext cx="1584360" cy="793800"/>
          </a:xfrm>
          <a:prstGeom prst="wedgeRectCallout">
            <a:avLst>
              <a:gd name="adj1" fmla="val 93685"/>
              <a:gd name="adj2" fmla="val -106398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нутринациональные конфликты в странах Тропической Африки (Бурунди, Конго, Сома-ли и др.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474480" y="981000"/>
            <a:ext cx="424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РЕГИОНАЛЬНЫЕ КОНФЛИКТ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5"/>
          <p:cNvSpPr/>
          <p:nvPr/>
        </p:nvSpPr>
        <p:spPr>
          <a:xfrm>
            <a:off x="179280" y="2565360"/>
            <a:ext cx="1152720" cy="503280"/>
          </a:xfrm>
          <a:prstGeom prst="wedgeRectCallout">
            <a:avLst>
              <a:gd name="adj1" fmla="val 150962"/>
              <a:gd name="adj2" fmla="val -58833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рабо-израильская борьба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38"/>
          <p:cNvSpPr/>
          <p:nvPr/>
        </p:nvSpPr>
        <p:spPr>
          <a:xfrm>
            <a:off x="2771640" y="4005360"/>
            <a:ext cx="1079640" cy="215640"/>
          </a:xfrm>
          <a:prstGeom prst="wedgeRectCallout">
            <a:avLst>
              <a:gd name="adj1" fmla="val -47351"/>
              <a:gd name="adj2" fmla="val -739703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ойна в Ирак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4140360" y="2349360"/>
            <a:ext cx="863280" cy="358920"/>
          </a:xfrm>
          <a:prstGeom prst="wedgeRectCallout">
            <a:avLst>
              <a:gd name="adj1" fmla="val -185476"/>
              <a:gd name="adj2" fmla="val -19027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фганский кризис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2013120" y="1841400"/>
            <a:ext cx="2673360" cy="17463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w="1684" h="1100">
                <a:moveTo>
                  <a:pt x="1628" y="1100"/>
                </a:moveTo>
                <a:cubicBezTo>
                  <a:pt x="1636" y="1069"/>
                  <a:pt x="1646" y="1051"/>
                  <a:pt x="1664" y="1024"/>
                </a:cubicBezTo>
                <a:cubicBezTo>
                  <a:pt x="1674" y="1010"/>
                  <a:pt x="1674" y="991"/>
                  <a:pt x="1684" y="976"/>
                </a:cubicBezTo>
                <a:cubicBezTo>
                  <a:pt x="1666" y="949"/>
                  <a:pt x="1620" y="935"/>
                  <a:pt x="1592" y="916"/>
                </a:cubicBezTo>
                <a:cubicBezTo>
                  <a:pt x="1587" y="913"/>
                  <a:pt x="1585" y="907"/>
                  <a:pt x="1580" y="904"/>
                </a:cubicBezTo>
                <a:cubicBezTo>
                  <a:pt x="1573" y="900"/>
                  <a:pt x="1556" y="896"/>
                  <a:pt x="1556" y="896"/>
                </a:cubicBezTo>
                <a:cubicBezTo>
                  <a:pt x="1555" y="892"/>
                  <a:pt x="1555" y="887"/>
                  <a:pt x="1552" y="884"/>
                </a:cubicBezTo>
                <a:cubicBezTo>
                  <a:pt x="1545" y="877"/>
                  <a:pt x="1525" y="873"/>
                  <a:pt x="1516" y="868"/>
                </a:cubicBezTo>
                <a:cubicBezTo>
                  <a:pt x="1490" y="855"/>
                  <a:pt x="1519" y="866"/>
                  <a:pt x="1492" y="848"/>
                </a:cubicBezTo>
                <a:cubicBezTo>
                  <a:pt x="1481" y="840"/>
                  <a:pt x="1456" y="828"/>
                  <a:pt x="1456" y="828"/>
                </a:cubicBezTo>
                <a:cubicBezTo>
                  <a:pt x="1445" y="811"/>
                  <a:pt x="1428" y="811"/>
                  <a:pt x="1412" y="800"/>
                </a:cubicBezTo>
                <a:cubicBezTo>
                  <a:pt x="1401" y="784"/>
                  <a:pt x="1384" y="771"/>
                  <a:pt x="1368" y="760"/>
                </a:cubicBezTo>
                <a:cubicBezTo>
                  <a:pt x="1359" y="732"/>
                  <a:pt x="1337" y="734"/>
                  <a:pt x="1316" y="720"/>
                </a:cubicBezTo>
                <a:cubicBezTo>
                  <a:pt x="1298" y="708"/>
                  <a:pt x="1283" y="697"/>
                  <a:pt x="1264" y="688"/>
                </a:cubicBezTo>
                <a:cubicBezTo>
                  <a:pt x="1241" y="654"/>
                  <a:pt x="1272" y="694"/>
                  <a:pt x="1244" y="672"/>
                </a:cubicBezTo>
                <a:cubicBezTo>
                  <a:pt x="1240" y="669"/>
                  <a:pt x="1239" y="663"/>
                  <a:pt x="1236" y="660"/>
                </a:cubicBezTo>
                <a:cubicBezTo>
                  <a:pt x="1233" y="657"/>
                  <a:pt x="1228" y="655"/>
                  <a:pt x="1224" y="652"/>
                </a:cubicBezTo>
                <a:cubicBezTo>
                  <a:pt x="1208" y="627"/>
                  <a:pt x="1180" y="618"/>
                  <a:pt x="1156" y="604"/>
                </a:cubicBezTo>
                <a:cubicBezTo>
                  <a:pt x="1119" y="584"/>
                  <a:pt x="1073" y="536"/>
                  <a:pt x="1036" y="524"/>
                </a:cubicBezTo>
                <a:cubicBezTo>
                  <a:pt x="1024" y="512"/>
                  <a:pt x="1020" y="501"/>
                  <a:pt x="1004" y="496"/>
                </a:cubicBezTo>
                <a:cubicBezTo>
                  <a:pt x="978" y="470"/>
                  <a:pt x="904" y="432"/>
                  <a:pt x="868" y="420"/>
                </a:cubicBezTo>
                <a:cubicBezTo>
                  <a:pt x="847" y="399"/>
                  <a:pt x="816" y="387"/>
                  <a:pt x="788" y="380"/>
                </a:cubicBezTo>
                <a:cubicBezTo>
                  <a:pt x="759" y="361"/>
                  <a:pt x="721" y="355"/>
                  <a:pt x="688" y="344"/>
                </a:cubicBezTo>
                <a:cubicBezTo>
                  <a:pt x="632" y="325"/>
                  <a:pt x="574" y="306"/>
                  <a:pt x="516" y="300"/>
                </a:cubicBezTo>
                <a:cubicBezTo>
                  <a:pt x="445" y="276"/>
                  <a:pt x="372" y="254"/>
                  <a:pt x="300" y="236"/>
                </a:cubicBezTo>
                <a:cubicBezTo>
                  <a:pt x="289" y="229"/>
                  <a:pt x="275" y="227"/>
                  <a:pt x="264" y="220"/>
                </a:cubicBezTo>
                <a:cubicBezTo>
                  <a:pt x="248" y="209"/>
                  <a:pt x="232" y="199"/>
                  <a:pt x="216" y="188"/>
                </a:cubicBezTo>
                <a:cubicBezTo>
                  <a:pt x="198" y="176"/>
                  <a:pt x="181" y="177"/>
                  <a:pt x="164" y="160"/>
                </a:cubicBezTo>
                <a:cubicBezTo>
                  <a:pt x="150" y="146"/>
                  <a:pt x="130" y="138"/>
                  <a:pt x="116" y="124"/>
                </a:cubicBezTo>
                <a:cubicBezTo>
                  <a:pt x="103" y="111"/>
                  <a:pt x="88" y="90"/>
                  <a:pt x="72" y="80"/>
                </a:cubicBezTo>
                <a:cubicBezTo>
                  <a:pt x="62" y="65"/>
                  <a:pt x="47" y="50"/>
                  <a:pt x="32" y="40"/>
                </a:cubicBezTo>
                <a:cubicBezTo>
                  <a:pt x="20" y="22"/>
                  <a:pt x="14" y="14"/>
                  <a:pt x="0" y="0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25"/>
          <p:cNvSpPr/>
          <p:nvPr/>
        </p:nvSpPr>
        <p:spPr>
          <a:xfrm>
            <a:off x="1860480" y="1855800"/>
            <a:ext cx="2724120" cy="1725480"/>
          </a:xfrm>
          <a:custGeom>
            <a:avLst/>
            <a:gdLst>
              <a:gd name="textAreaLeft" fmla="*/ 0 w 2724120"/>
              <a:gd name="textAreaRight" fmla="*/ 2724480 w 2724120"/>
              <a:gd name="textAreaTop" fmla="*/ 0 h 1725480"/>
              <a:gd name="textAreaBottom" fmla="*/ 1725840 h 1725480"/>
            </a:gdLst>
            <a:ahLst/>
            <a:rect l="textAreaLeft" t="textAreaTop" r="textAreaRight" b="textAreaBottom"/>
            <a:pathLst>
              <a:path w="1716" h="1087">
                <a:moveTo>
                  <a:pt x="1716" y="1087"/>
                </a:moveTo>
                <a:cubicBezTo>
                  <a:pt x="1705" y="1071"/>
                  <a:pt x="1689" y="1068"/>
                  <a:pt x="1672" y="1059"/>
                </a:cubicBezTo>
                <a:cubicBezTo>
                  <a:pt x="1639" y="1042"/>
                  <a:pt x="1607" y="1024"/>
                  <a:pt x="1576" y="1003"/>
                </a:cubicBezTo>
                <a:cubicBezTo>
                  <a:pt x="1563" y="994"/>
                  <a:pt x="1543" y="986"/>
                  <a:pt x="1528" y="979"/>
                </a:cubicBezTo>
                <a:cubicBezTo>
                  <a:pt x="1520" y="976"/>
                  <a:pt x="1504" y="971"/>
                  <a:pt x="1504" y="971"/>
                </a:cubicBezTo>
                <a:cubicBezTo>
                  <a:pt x="1470" y="974"/>
                  <a:pt x="1442" y="980"/>
                  <a:pt x="1408" y="983"/>
                </a:cubicBezTo>
                <a:cubicBezTo>
                  <a:pt x="1355" y="1018"/>
                  <a:pt x="1394" y="999"/>
                  <a:pt x="1280" y="995"/>
                </a:cubicBezTo>
                <a:cubicBezTo>
                  <a:pt x="1245" y="983"/>
                  <a:pt x="1201" y="979"/>
                  <a:pt x="1164" y="975"/>
                </a:cubicBezTo>
                <a:cubicBezTo>
                  <a:pt x="1127" y="963"/>
                  <a:pt x="1097" y="939"/>
                  <a:pt x="1060" y="927"/>
                </a:cubicBezTo>
                <a:cubicBezTo>
                  <a:pt x="1029" y="896"/>
                  <a:pt x="967" y="854"/>
                  <a:pt x="928" y="835"/>
                </a:cubicBezTo>
                <a:cubicBezTo>
                  <a:pt x="911" y="826"/>
                  <a:pt x="900" y="803"/>
                  <a:pt x="880" y="799"/>
                </a:cubicBezTo>
                <a:cubicBezTo>
                  <a:pt x="853" y="794"/>
                  <a:pt x="827" y="785"/>
                  <a:pt x="800" y="779"/>
                </a:cubicBezTo>
                <a:cubicBezTo>
                  <a:pt x="792" y="777"/>
                  <a:pt x="784" y="777"/>
                  <a:pt x="776" y="775"/>
                </a:cubicBezTo>
                <a:cubicBezTo>
                  <a:pt x="768" y="773"/>
                  <a:pt x="752" y="767"/>
                  <a:pt x="752" y="767"/>
                </a:cubicBezTo>
                <a:cubicBezTo>
                  <a:pt x="680" y="773"/>
                  <a:pt x="647" y="776"/>
                  <a:pt x="564" y="779"/>
                </a:cubicBezTo>
                <a:cubicBezTo>
                  <a:pt x="536" y="775"/>
                  <a:pt x="524" y="766"/>
                  <a:pt x="500" y="755"/>
                </a:cubicBezTo>
                <a:cubicBezTo>
                  <a:pt x="492" y="752"/>
                  <a:pt x="476" y="747"/>
                  <a:pt x="476" y="747"/>
                </a:cubicBezTo>
                <a:cubicBezTo>
                  <a:pt x="471" y="731"/>
                  <a:pt x="446" y="705"/>
                  <a:pt x="432" y="691"/>
                </a:cubicBezTo>
                <a:cubicBezTo>
                  <a:pt x="428" y="678"/>
                  <a:pt x="419" y="668"/>
                  <a:pt x="416" y="655"/>
                </a:cubicBezTo>
                <a:cubicBezTo>
                  <a:pt x="403" y="604"/>
                  <a:pt x="393" y="553"/>
                  <a:pt x="376" y="503"/>
                </a:cubicBezTo>
                <a:cubicBezTo>
                  <a:pt x="370" y="486"/>
                  <a:pt x="358" y="472"/>
                  <a:pt x="352" y="455"/>
                </a:cubicBezTo>
                <a:cubicBezTo>
                  <a:pt x="351" y="451"/>
                  <a:pt x="344" y="452"/>
                  <a:pt x="340" y="451"/>
                </a:cubicBezTo>
                <a:cubicBezTo>
                  <a:pt x="315" y="426"/>
                  <a:pt x="309" y="426"/>
                  <a:pt x="280" y="407"/>
                </a:cubicBezTo>
                <a:cubicBezTo>
                  <a:pt x="260" y="393"/>
                  <a:pt x="244" y="375"/>
                  <a:pt x="220" y="367"/>
                </a:cubicBezTo>
                <a:cubicBezTo>
                  <a:pt x="209" y="351"/>
                  <a:pt x="183" y="343"/>
                  <a:pt x="164" y="335"/>
                </a:cubicBezTo>
                <a:cubicBezTo>
                  <a:pt x="156" y="332"/>
                  <a:pt x="140" y="327"/>
                  <a:pt x="140" y="327"/>
                </a:cubicBezTo>
                <a:cubicBezTo>
                  <a:pt x="130" y="313"/>
                  <a:pt x="122" y="312"/>
                  <a:pt x="108" y="303"/>
                </a:cubicBezTo>
                <a:cubicBezTo>
                  <a:pt x="96" y="285"/>
                  <a:pt x="87" y="270"/>
                  <a:pt x="72" y="255"/>
                </a:cubicBezTo>
                <a:cubicBezTo>
                  <a:pt x="63" y="219"/>
                  <a:pt x="46" y="181"/>
                  <a:pt x="20" y="155"/>
                </a:cubicBezTo>
                <a:cubicBezTo>
                  <a:pt x="15" y="140"/>
                  <a:pt x="5" y="134"/>
                  <a:pt x="0" y="119"/>
                </a:cubicBezTo>
                <a:cubicBezTo>
                  <a:pt x="5" y="82"/>
                  <a:pt x="3" y="95"/>
                  <a:pt x="28" y="79"/>
                </a:cubicBezTo>
                <a:cubicBezTo>
                  <a:pt x="47" y="51"/>
                  <a:pt x="36" y="60"/>
                  <a:pt x="56" y="47"/>
                </a:cubicBezTo>
                <a:cubicBezTo>
                  <a:pt x="67" y="30"/>
                  <a:pt x="64" y="25"/>
                  <a:pt x="84" y="15"/>
                </a:cubicBezTo>
                <a:cubicBezTo>
                  <a:pt x="89" y="0"/>
                  <a:pt x="84" y="3"/>
                  <a:pt x="96" y="3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250920" y="1773360"/>
            <a:ext cx="144144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Условные обозначения: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----------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- дуга нестабильности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939"/>
                </a:solidFill>
                <a:latin typeface="Times New Roman"/>
                <a:ea typeface="Times New Roman"/>
              </a:rPr>
              <a:t>•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чаги конфликтов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108000" y="1268280"/>
            <a:ext cx="1944720" cy="503280"/>
          </a:xfrm>
          <a:prstGeom prst="wedgeRectCallout">
            <a:avLst>
              <a:gd name="adj1" fmla="val 61592"/>
              <a:gd name="adj2" fmla="val 154731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фликты на территории бывшей Югославии (Косово, Босния и Герцеговина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1"/>
          <p:cNvSpPr/>
          <p:nvPr/>
        </p:nvSpPr>
        <p:spPr>
          <a:xfrm>
            <a:off x="2843280" y="1341360"/>
            <a:ext cx="2089080" cy="358920"/>
          </a:xfrm>
          <a:prstGeom prst="wedgeRectCallout">
            <a:avLst>
              <a:gd name="adj1" fmla="val -60032"/>
              <a:gd name="adj2" fmla="val 215930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ы на территории СНГ (Чечня, Грузия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20" y="990720"/>
            <a:ext cx="5792760" cy="2438280"/>
          </a:xfrm>
          <a:prstGeom prst="rect">
            <a:avLst/>
          </a:prstGeom>
          <a:ln w="9360">
            <a:solidFill>
              <a:srgbClr val="808080"/>
            </a:solidFill>
            <a:prstDash val="sysDot"/>
            <a:miter/>
          </a:ln>
        </p:spPr>
      </p:pic>
      <p:sp>
        <p:nvSpPr>
          <p:cNvPr id="201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а мира и разору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" descr="globe2"/>
          <p:cNvPicPr/>
          <p:nvPr/>
        </p:nvPicPr>
        <p:blipFill>
          <a:blip r:embed="rId2"/>
          <a:stretch/>
        </p:blipFill>
        <p:spPr>
          <a:xfrm>
            <a:off x="0" y="-2700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763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мира и разоружен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1066680" cy="750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4"/>
          <a:stretch/>
        </p:blipFill>
        <p:spPr>
          <a:xfrm>
            <a:off x="6858000" y="5562720"/>
            <a:ext cx="2133720" cy="1218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5889600" y="760320"/>
            <a:ext cx="310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5927760" y="2174760"/>
            <a:ext cx="3063960" cy="12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939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ассмотрите карту и ответьте на вопрос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страны мира обладают ядерным оружием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ая страна лидирует по количеству боеголовок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84600" y="1676520"/>
            <a:ext cx="236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рт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«Ядерные державы мира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7" descr=""/>
          <p:cNvPicPr/>
          <p:nvPr/>
        </p:nvPicPr>
        <p:blipFill>
          <a:blip r:embed="rId5"/>
          <a:srcRect l="0" t="23811" r="0" b="0"/>
          <a:stretch/>
        </p:blipFill>
        <p:spPr>
          <a:xfrm>
            <a:off x="6858000" y="40384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6"/>
          <a:stretch/>
        </p:blipFill>
        <p:spPr>
          <a:xfrm>
            <a:off x="4395960" y="3505320"/>
            <a:ext cx="2309760" cy="320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9"/>
          <p:cNvSpPr/>
          <p:nvPr/>
        </p:nvSpPr>
        <p:spPr>
          <a:xfrm>
            <a:off x="6858000" y="3429000"/>
            <a:ext cx="217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Лидер Пакистана Наваз Шараф объявляет о том, что Пакистан стал первой ядерной державой в исламском мир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6781680" y="524196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еверная Корея (КНДР) готовится стать ядерной державой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434448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дерная зи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4724280" y="3214800"/>
            <a:ext cx="125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Ядерный гриб (взрыв)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60480" y="3414600"/>
            <a:ext cx="4282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ядер-ная зи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, что повлечет гибель всего живог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152280" y="1143000"/>
            <a:ext cx="5715000" cy="243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ущность проблем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в мире накоплены чудовищные средства массового 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ы возникнов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онка вооруж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итическая нестабильность в мир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ти реш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оружение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оль за разоружением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рные договор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4356000" y="765000"/>
            <a:ext cx="4608720" cy="429120"/>
          </a:xfrm>
          <a:prstGeom prst="rect">
            <a:avLst/>
          </a:prstGeom>
          <a:solidFill>
            <a:srgbClr val="bcf0ef">
              <a:alpha val="56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611280" y="1311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5" descr="парниковй эффект"/>
          <p:cNvPicPr/>
          <p:nvPr/>
        </p:nvPicPr>
        <p:blipFill>
          <a:blip r:embed="rId2"/>
          <a:stretch/>
        </p:blipFill>
        <p:spPr>
          <a:xfrm>
            <a:off x="71280" y="1700280"/>
            <a:ext cx="428472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3"/>
          <a:stretch/>
        </p:blipFill>
        <p:spPr>
          <a:xfrm>
            <a:off x="4356000" y="1268280"/>
            <a:ext cx="4608720" cy="2152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7"/>
          <p:cNvSpPr/>
          <p:nvPr/>
        </p:nvSpPr>
        <p:spPr>
          <a:xfrm>
            <a:off x="108000" y="3429000"/>
            <a:ext cx="88567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держащаяся в атмосфере двуокись углерода (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природе, что создает угроз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арникового эффект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заметного потепления климата, таяния льдов, повышения уровня Мирового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30"/>
          <p:cNvGraphicFramePr/>
          <p:nvPr/>
        </p:nvGraphicFramePr>
        <p:xfrm>
          <a:off x="61920" y="4343400"/>
          <a:ext cx="4890960" cy="33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20" y="4343400"/>
                    <a:ext cx="4890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1"/>
          <p:cNvSpPr/>
          <p:nvPr/>
        </p:nvSpPr>
        <p:spPr>
          <a:xfrm>
            <a:off x="3411360" y="4794120"/>
            <a:ext cx="2303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диаграмму.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ие отрасли являются самыми «грязными»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ложите основные нап-равления действий по сокра-щению загрязнения атмос-феры этими отрасля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2"/>
          <p:cNvSpPr/>
          <p:nvPr/>
        </p:nvSpPr>
        <p:spPr>
          <a:xfrm>
            <a:off x="176400" y="4508640"/>
            <a:ext cx="54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Загрязнение атмосферы планеты различными отраслями промышленност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5508720" y="1268280"/>
            <a:ext cx="3457440" cy="766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усиливает парниковый эффек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34" descr="GLOBUS3"/>
          <p:cNvPicPr/>
          <p:nvPr/>
        </p:nvPicPr>
        <p:blipFill>
          <a:blip r:embed="rId6"/>
          <a:stretch/>
        </p:blipFill>
        <p:spPr>
          <a:xfrm>
            <a:off x="6781680" y="4267080"/>
            <a:ext cx="997200" cy="666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5"/>
          <p:cNvSpPr/>
          <p:nvPr/>
        </p:nvSpPr>
        <p:spPr>
          <a:xfrm>
            <a:off x="6746760" y="4797360"/>
            <a:ext cx="2397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атмосферы двуокисью серы и окислами азота породило такое явления, как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ные дожд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Ими уничтожено почти полови-на лесной растительности Европ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6" descr=""/>
          <p:cNvPicPr/>
          <p:nvPr/>
        </p:nvPicPr>
        <p:blipFill>
          <a:blip r:embed="rId7"/>
          <a:stretch/>
        </p:blipFill>
        <p:spPr>
          <a:xfrm>
            <a:off x="5638680" y="4495680"/>
            <a:ext cx="1175040" cy="2106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EGION</cp:lastModifiedBy>
  <dcterms:modified xsi:type="dcterms:W3CDTF">2015-05-06T08:14:56Z</dcterms:modified>
  <cp:revision>83</cp:revision>
  <dc:subject/>
  <dc:title>PowerPoint Presentation</dc:title>
</cp:coreProperties>
</file>