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A88C-BD24-4DEA-8B7C-AED5DC86FC1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3D7D-9D20-4D12-BEBC-93402C180F4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ЕНИЕ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ПУСТЫ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Юго-В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оч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F710-DD76-46F7-8C21-D7A73405C9A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033B-1766-4190-AA96-8E47A310F5C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EB09-52C4-4BF2-9894-727ED78AF56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Сущность пробл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ос отходов в окружающую сре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контроля за технолог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ричины возникнов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ое изменение климата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, возникновение экологическ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 в различных районах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ути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и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очистных сооруж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размещение грязных произво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безотход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C31B-C982-419E-97D5-57E82EA639E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,6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анализируйте карту и ответьте на вопрос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 каких регионах мира четко выра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кризи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их регионах мира чет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положите, как будет мен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политическая обстановка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положение России на данной кар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89C4-6F9A-44EF-AE69-FE84B51E764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F044-D56E-415F-AFDB-72F138F8A7B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2E1E-6546-4EAD-B25B-FBC398AD345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ория демографического пере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переход включает четыре отдельные фазы (смотри график-схему Б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FEA7-8B57-4006-A456-847E5537929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128B-808D-42C1-8EEC-C9256A561A5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довольственн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емле существует </a:t>
            </a:r>
            <a:r>
              <a:rPr b="0" lang="ru-RU" sz="1200" spc="-1" strike="noStrike" u="sng">
                <a:solidFill>
                  <a:srgbClr val="ff121e"/>
                </a:solidFill>
                <a:uFillTx/>
                <a:latin typeface="Calibri"/>
              </a:rPr>
              <a:t>по-яс гол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на Земле можно выдели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яс переед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Arial Black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экс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ширение пахотных и пастбищных угод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ин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00E2-B3D3-4EF0-85A3-F9DDF319343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взаимодействия общества с природой на совре-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 глобальных пробле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острения глобальных проблем, суть их возник-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 Выявить географические аспекты глобальных проблем чело-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аботы со статистическими ма-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5237-E82B-42DB-BAB3-F62D1D6C536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НЕРГЕТИЧЕСКАЯ И СЫРЬЕВ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504d"/>
                </a:solidFill>
                <a:uFillTx/>
                <a:latin typeface="Calibri"/>
              </a:rPr>
              <a:t>Энергетическая и сырьевая пробл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ышение коэффициента полезного использования уже добытого сырья и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F522-ED49-43D3-B43F-4AC980D5F0D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Провер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чему именно во второй половине ХХ  века обострились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жно ли сказать, что глобальные проблемы актуальны лишь для стран с низким уровнем разв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еречислите основные глобальные проблемы современ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ие глобальные проблемы актуальны для современной Росс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чём состоят главные особенности географического подхода к анализу глобальных пробл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чему проблема терроризма стала глобальной? Что такое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уга нестаби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очему проблема разоружения стала глобальной? В чём состоит концепция ядерной зи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очему экологические проблемы стали наиболее актуаль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из социальных проблем современности вы считаете наиболее актуальными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Какая социальная проблема в современной России наиболее ост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059F-3C80-4AA9-BBF9-31648666250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ОСНОВНЫЕ ОСОБЕННОСТИ СОВРЕ-МЕННОГО ЭТАПА ВЗАИМОДЕЙСТ-ВИЯ ПРИРОДЫ И ОБЩЕСТВ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ктическое применение мощ-нейшего источника энергии – ядер-ной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Интенсификация использования природы, возрастание «давления» на при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88B4-7687-4025-8E8D-934AC4678F7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 Какие же причины привели к обостре-нию глобальных про-блем? В некоторых источниках эти при-чины называю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«Пять никог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ь во второй половине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для жизнеобеспечения не требовалось такого количества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 возникало такой глобальной мировой экономики, такой единой мировой информацио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«холодная война» не подводила человечество так близко к рубежу само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56BA-F94A-4D2E-BC25-D814534E808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 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ЛАССИФИКАЦ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отвращение ядерной вой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тойчивого разви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я  мирового со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ение ми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культуры,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демокра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здоровь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-ЭКОНОМ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;                  - Сырьева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;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а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конфли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авар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F97C-6B41-4202-93A9-53F9CE522C5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фактором нестабильности для современ-ного мира ста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лигиозный (исламский) фундамен-т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19BA-219C-4514-A8FB-7417B4C31D1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РЕГИОНАЛЬНЫЕ КОНФЛИ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BE5B-5C79-464E-91E4-3D9794F77A2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лема мира и разоружен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ность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мире накоплены чудовищные средства массового 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 возникнов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нка во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нестабильность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ору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азоруж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ные догов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3939"/>
                </a:solidFill>
                <a:uFillTx/>
                <a:latin typeface="Calibri"/>
              </a:rPr>
              <a:t>ЗАД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отрите карту и ответьте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траны мира обладают ядерным оружие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ана лидирует по количеству боеголов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ядер-ная зи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что повлечет гибель всего ж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B95E-1E8E-463E-B57A-2F9E511E869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щаяся в атмосфере двуокись углерода (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, что создает угрозу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арникового эфф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метного потепления климата, таяния льдов, повышения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иливает парниковый эффект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F504-F328-4371-8DE1-512FADE1E9F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BDD-4AAB-4B46-AD20-C7D894EE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C7B-46A6-4A7F-AA72-1E832939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0DF-3037-4C47-978B-F286BBB2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BB9-8984-4CBE-B906-C6D0E6A7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73B-FCFC-4B29-834D-B2B04708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831-E7D5-4180-9225-8C377FC4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0B4-D171-4A74-99DE-472CD2EE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65C-D210-4712-A535-C3CCEF35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F54-5644-4911-8CFA-214CEB32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8CF-DF0C-49D3-B638-CABBBF8C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629-5128-424F-9385-FEFAEE6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A36-4A6F-4D29-8D38-9C262531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F5BB-ABDD-490C-99B7-3ACFBE33A7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473200" cy="2311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00360" y="208080"/>
            <a:ext cx="63054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terror"/>
          <p:cNvPicPr/>
          <p:nvPr/>
        </p:nvPicPr>
        <p:blipFill>
          <a:blip r:embed="rId2"/>
          <a:stretch/>
        </p:blipFill>
        <p:spPr>
          <a:xfrm>
            <a:off x="1979640" y="2346480"/>
            <a:ext cx="134460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1"/>
          <p:cNvPicPr/>
          <p:nvPr/>
        </p:nvPicPr>
        <p:blipFill>
          <a:blip r:embed="rId3"/>
          <a:stretch/>
        </p:blipFill>
        <p:spPr>
          <a:xfrm>
            <a:off x="3503520" y="3578400"/>
            <a:ext cx="1344600" cy="16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012"/>
          <p:cNvPicPr/>
          <p:nvPr/>
        </p:nvPicPr>
        <p:blipFill>
          <a:blip r:embed="rId4"/>
          <a:stretch/>
        </p:blipFill>
        <p:spPr>
          <a:xfrm>
            <a:off x="0" y="4514760"/>
            <a:ext cx="142236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10"/>
          <p:cNvPicPr/>
          <p:nvPr/>
        </p:nvPicPr>
        <p:blipFill>
          <a:blip r:embed="rId5"/>
          <a:stretch/>
        </p:blipFill>
        <p:spPr>
          <a:xfrm>
            <a:off x="7596360" y="923760"/>
            <a:ext cx="135540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871640"/>
            <a:ext cx="1790640" cy="17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a08a"/>
          <p:cNvPicPr/>
          <p:nvPr/>
        </p:nvPicPr>
        <p:blipFill>
          <a:blip r:embed="rId7"/>
          <a:stretch/>
        </p:blipFill>
        <p:spPr>
          <a:xfrm>
            <a:off x="5076720" y="3905280"/>
            <a:ext cx="162396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r_032"/>
          <p:cNvPicPr/>
          <p:nvPr/>
        </p:nvPicPr>
        <p:blipFill>
          <a:blip r:embed="rId8"/>
          <a:stretch/>
        </p:blipFill>
        <p:spPr>
          <a:xfrm>
            <a:off x="6300720" y="505764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124600"/>
            <a:ext cx="1805040" cy="128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810"/>
          <p:cNvPicPr/>
          <p:nvPr/>
        </p:nvPicPr>
        <p:blipFill>
          <a:blip r:embed="rId10"/>
          <a:stretch/>
        </p:blipFill>
        <p:spPr>
          <a:xfrm>
            <a:off x="7334280" y="4776840"/>
            <a:ext cx="1703520" cy="170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174mir"/>
          <p:cNvPicPr/>
          <p:nvPr/>
        </p:nvPicPr>
        <p:blipFill>
          <a:blip r:embed="rId11"/>
          <a:stretch/>
        </p:blipFill>
        <p:spPr>
          <a:xfrm>
            <a:off x="6588000" y="2008080"/>
            <a:ext cx="2248200" cy="16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tungus"/>
          <p:cNvPicPr/>
          <p:nvPr/>
        </p:nvPicPr>
        <p:blipFill>
          <a:blip r:embed="rId12"/>
          <a:stretch/>
        </p:blipFill>
        <p:spPr>
          <a:xfrm>
            <a:off x="1258920" y="34513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100988"/>
          <p:cNvPicPr/>
          <p:nvPr/>
        </p:nvPicPr>
        <p:blipFill>
          <a:blip r:embed="rId13"/>
          <a:stretch/>
        </p:blipFill>
        <p:spPr>
          <a:xfrm>
            <a:off x="179280" y="2414520"/>
            <a:ext cx="165420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katastrofa"/>
          <p:cNvPicPr/>
          <p:nvPr/>
        </p:nvPicPr>
        <p:blipFill>
          <a:blip r:embed="rId14"/>
          <a:stretch/>
        </p:blipFill>
        <p:spPr>
          <a:xfrm>
            <a:off x="3059280" y="5192640"/>
            <a:ext cx="1761840" cy="11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katastrofy"/>
          <p:cNvPicPr/>
          <p:nvPr/>
        </p:nvPicPr>
        <p:blipFill>
          <a:blip r:embed="rId15"/>
          <a:stretch/>
        </p:blipFill>
        <p:spPr>
          <a:xfrm>
            <a:off x="2700360" y="990720"/>
            <a:ext cx="107316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m"/>
          <p:cNvPicPr/>
          <p:nvPr/>
        </p:nvPicPr>
        <p:blipFill>
          <a:blip r:embed="rId16"/>
          <a:stretch/>
        </p:blipFill>
        <p:spPr>
          <a:xfrm>
            <a:off x="76320" y="3716280"/>
            <a:ext cx="977760" cy="73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york"/>
          <p:cNvPicPr/>
          <p:nvPr/>
        </p:nvPicPr>
        <p:blipFill>
          <a:blip r:embed="rId17"/>
          <a:stretch/>
        </p:blipFill>
        <p:spPr>
          <a:xfrm>
            <a:off x="5003640" y="5479920"/>
            <a:ext cx="119556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714840"/>
            <a:ext cx="169236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Logo"/>
          <p:cNvPicPr/>
          <p:nvPr/>
        </p:nvPicPr>
        <p:blipFill>
          <a:blip r:embed="rId19"/>
          <a:stretch/>
        </p:blipFill>
        <p:spPr>
          <a:xfrm>
            <a:off x="0" y="5600880"/>
            <a:ext cx="1015920" cy="70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465200"/>
            <a:ext cx="880920" cy="88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7"/>
          <p:cNvSpPr/>
          <p:nvPr/>
        </p:nvSpPr>
        <p:spPr>
          <a:xfrm>
            <a:off x="4094280" y="3495600"/>
            <a:ext cx="1066680" cy="723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72" h="456">
                <a:moveTo>
                  <a:pt x="295" y="60"/>
                </a:moveTo>
                <a:cubicBezTo>
                  <a:pt x="254" y="55"/>
                  <a:pt x="225" y="49"/>
                  <a:pt x="187" y="36"/>
                </a:cubicBezTo>
                <a:cubicBezTo>
                  <a:pt x="173" y="31"/>
                  <a:pt x="165" y="17"/>
                  <a:pt x="151" y="12"/>
                </a:cubicBezTo>
                <a:cubicBezTo>
                  <a:pt x="139" y="8"/>
                  <a:pt x="115" y="0"/>
                  <a:pt x="115" y="0"/>
                </a:cubicBezTo>
                <a:cubicBezTo>
                  <a:pt x="87" y="2"/>
                  <a:pt x="59" y="1"/>
                  <a:pt x="31" y="6"/>
                </a:cubicBezTo>
                <a:cubicBezTo>
                  <a:pt x="12" y="9"/>
                  <a:pt x="1" y="54"/>
                  <a:pt x="1" y="54"/>
                </a:cubicBezTo>
                <a:cubicBezTo>
                  <a:pt x="6" y="93"/>
                  <a:pt x="0" y="111"/>
                  <a:pt x="31" y="132"/>
                </a:cubicBezTo>
                <a:cubicBezTo>
                  <a:pt x="56" y="170"/>
                  <a:pt x="59" y="192"/>
                  <a:pt x="73" y="234"/>
                </a:cubicBezTo>
                <a:cubicBezTo>
                  <a:pt x="75" y="264"/>
                  <a:pt x="74" y="294"/>
                  <a:pt x="79" y="324"/>
                </a:cubicBezTo>
                <a:cubicBezTo>
                  <a:pt x="80" y="331"/>
                  <a:pt x="88" y="336"/>
                  <a:pt x="91" y="342"/>
                </a:cubicBezTo>
                <a:cubicBezTo>
                  <a:pt x="116" y="393"/>
                  <a:pt x="167" y="399"/>
                  <a:pt x="217" y="414"/>
                </a:cubicBezTo>
                <a:cubicBezTo>
                  <a:pt x="251" y="424"/>
                  <a:pt x="285" y="435"/>
                  <a:pt x="319" y="444"/>
                </a:cubicBezTo>
                <a:cubicBezTo>
                  <a:pt x="331" y="447"/>
                  <a:pt x="355" y="456"/>
                  <a:pt x="355" y="456"/>
                </a:cubicBezTo>
                <a:cubicBezTo>
                  <a:pt x="454" y="448"/>
                  <a:pt x="549" y="437"/>
                  <a:pt x="649" y="432"/>
                </a:cubicBezTo>
                <a:cubicBezTo>
                  <a:pt x="672" y="364"/>
                  <a:pt x="569" y="365"/>
                  <a:pt x="529" y="360"/>
                </a:cubicBezTo>
                <a:cubicBezTo>
                  <a:pt x="478" y="343"/>
                  <a:pt x="425" y="331"/>
                  <a:pt x="373" y="318"/>
                </a:cubicBezTo>
                <a:cubicBezTo>
                  <a:pt x="342" y="297"/>
                  <a:pt x="349" y="310"/>
                  <a:pt x="361" y="252"/>
                </a:cubicBezTo>
                <a:cubicBezTo>
                  <a:pt x="363" y="240"/>
                  <a:pt x="373" y="216"/>
                  <a:pt x="373" y="216"/>
                </a:cubicBezTo>
                <a:cubicBezTo>
                  <a:pt x="368" y="175"/>
                  <a:pt x="376" y="151"/>
                  <a:pt x="337" y="138"/>
                </a:cubicBezTo>
                <a:cubicBezTo>
                  <a:pt x="284" y="144"/>
                  <a:pt x="280" y="136"/>
                  <a:pt x="265" y="180"/>
                </a:cubicBezTo>
                <a:cubicBezTo>
                  <a:pt x="259" y="238"/>
                  <a:pt x="269" y="243"/>
                  <a:pt x="223" y="258"/>
                </a:cubicBezTo>
                <a:cubicBezTo>
                  <a:pt x="217" y="256"/>
                  <a:pt x="209" y="257"/>
                  <a:pt x="205" y="252"/>
                </a:cubicBezTo>
                <a:cubicBezTo>
                  <a:pt x="191" y="232"/>
                  <a:pt x="185" y="186"/>
                  <a:pt x="181" y="162"/>
                </a:cubicBezTo>
                <a:cubicBezTo>
                  <a:pt x="183" y="150"/>
                  <a:pt x="179" y="135"/>
                  <a:pt x="187" y="126"/>
                </a:cubicBezTo>
                <a:cubicBezTo>
                  <a:pt x="199" y="112"/>
                  <a:pt x="278" y="108"/>
                  <a:pt x="283" y="108"/>
                </a:cubicBezTo>
                <a:cubicBezTo>
                  <a:pt x="289" y="104"/>
                  <a:pt x="314" y="92"/>
                  <a:pt x="307" y="78"/>
                </a:cubicBezTo>
                <a:cubicBezTo>
                  <a:pt x="294" y="52"/>
                  <a:pt x="280" y="91"/>
                  <a:pt x="295" y="60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235080" y="4836960"/>
            <a:ext cx="253800" cy="158760"/>
          </a:xfrm>
          <a:custGeom>
            <a:avLst/>
            <a:gdLst>
              <a:gd name="textAreaLeft" fmla="*/ 0 w 253800"/>
              <a:gd name="textAreaRight" fmla="*/ 254160 w 2538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" h="100">
                <a:moveTo>
                  <a:pt x="4" y="33"/>
                </a:moveTo>
                <a:cubicBezTo>
                  <a:pt x="23" y="90"/>
                  <a:pt x="6" y="72"/>
                  <a:pt x="44" y="97"/>
                </a:cubicBezTo>
                <a:cubicBezTo>
                  <a:pt x="79" y="92"/>
                  <a:pt x="160" y="100"/>
                  <a:pt x="92" y="17"/>
                </a:cubicBezTo>
                <a:cubicBezTo>
                  <a:pt x="78" y="0"/>
                  <a:pt x="28" y="1"/>
                  <a:pt x="28" y="1"/>
                </a:cubicBezTo>
                <a:cubicBezTo>
                  <a:pt x="0" y="20"/>
                  <a:pt x="4" y="7"/>
                  <a:pt x="4" y="33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2457360" y="3860640"/>
            <a:ext cx="755640" cy="365400"/>
          </a:xfrm>
          <a:custGeom>
            <a:avLst/>
            <a:gdLst>
              <a:gd name="textAreaLeft" fmla="*/ 0 w 755640"/>
              <a:gd name="textAreaRight" fmla="*/ 756000 w 755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476" h="230">
                <a:moveTo>
                  <a:pt x="0" y="30"/>
                </a:moveTo>
                <a:cubicBezTo>
                  <a:pt x="55" y="12"/>
                  <a:pt x="96" y="5"/>
                  <a:pt x="156" y="0"/>
                </a:cubicBezTo>
                <a:cubicBezTo>
                  <a:pt x="203" y="5"/>
                  <a:pt x="243" y="19"/>
                  <a:pt x="288" y="30"/>
                </a:cubicBezTo>
                <a:cubicBezTo>
                  <a:pt x="322" y="52"/>
                  <a:pt x="363" y="54"/>
                  <a:pt x="402" y="60"/>
                </a:cubicBezTo>
                <a:cubicBezTo>
                  <a:pt x="476" y="109"/>
                  <a:pt x="400" y="207"/>
                  <a:pt x="336" y="222"/>
                </a:cubicBezTo>
                <a:cubicBezTo>
                  <a:pt x="301" y="230"/>
                  <a:pt x="251" y="228"/>
                  <a:pt x="216" y="228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1371600" y="3927600"/>
            <a:ext cx="619200" cy="542880"/>
          </a:xfrm>
          <a:custGeom>
            <a:avLst/>
            <a:gdLst>
              <a:gd name="textAreaLeft" fmla="*/ 0 w 619200"/>
              <a:gd name="textAreaRight" fmla="*/ 619560 w 619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90" h="342">
                <a:moveTo>
                  <a:pt x="234" y="0"/>
                </a:moveTo>
                <a:cubicBezTo>
                  <a:pt x="187" y="16"/>
                  <a:pt x="232" y="51"/>
                  <a:pt x="186" y="66"/>
                </a:cubicBezTo>
                <a:cubicBezTo>
                  <a:pt x="174" y="62"/>
                  <a:pt x="162" y="58"/>
                  <a:pt x="150" y="54"/>
                </a:cubicBezTo>
                <a:cubicBezTo>
                  <a:pt x="136" y="49"/>
                  <a:pt x="114" y="30"/>
                  <a:pt x="114" y="30"/>
                </a:cubicBezTo>
                <a:cubicBezTo>
                  <a:pt x="42" y="37"/>
                  <a:pt x="23" y="32"/>
                  <a:pt x="0" y="102"/>
                </a:cubicBezTo>
                <a:cubicBezTo>
                  <a:pt x="2" y="118"/>
                  <a:pt x="0" y="135"/>
                  <a:pt x="6" y="150"/>
                </a:cubicBezTo>
                <a:cubicBezTo>
                  <a:pt x="9" y="157"/>
                  <a:pt x="19" y="157"/>
                  <a:pt x="24" y="162"/>
                </a:cubicBezTo>
                <a:cubicBezTo>
                  <a:pt x="29" y="167"/>
                  <a:pt x="30" y="176"/>
                  <a:pt x="36" y="180"/>
                </a:cubicBezTo>
                <a:cubicBezTo>
                  <a:pt x="60" y="195"/>
                  <a:pt x="89" y="199"/>
                  <a:pt x="114" y="216"/>
                </a:cubicBezTo>
                <a:cubicBezTo>
                  <a:pt x="118" y="228"/>
                  <a:pt x="125" y="239"/>
                  <a:pt x="126" y="252"/>
                </a:cubicBezTo>
                <a:cubicBezTo>
                  <a:pt x="128" y="280"/>
                  <a:pt x="125" y="309"/>
                  <a:pt x="132" y="336"/>
                </a:cubicBezTo>
                <a:cubicBezTo>
                  <a:pt x="134" y="342"/>
                  <a:pt x="144" y="340"/>
                  <a:pt x="150" y="342"/>
                </a:cubicBezTo>
                <a:cubicBezTo>
                  <a:pt x="197" y="330"/>
                  <a:pt x="192" y="297"/>
                  <a:pt x="204" y="258"/>
                </a:cubicBezTo>
                <a:cubicBezTo>
                  <a:pt x="208" y="246"/>
                  <a:pt x="205" y="229"/>
                  <a:pt x="216" y="222"/>
                </a:cubicBezTo>
                <a:cubicBezTo>
                  <a:pt x="234" y="210"/>
                  <a:pt x="254" y="206"/>
                  <a:pt x="270" y="192"/>
                </a:cubicBezTo>
                <a:cubicBezTo>
                  <a:pt x="286" y="179"/>
                  <a:pt x="287" y="171"/>
                  <a:pt x="306" y="162"/>
                </a:cubicBezTo>
                <a:cubicBezTo>
                  <a:pt x="333" y="150"/>
                  <a:pt x="363" y="145"/>
                  <a:pt x="390" y="132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35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38"/>
          <p:cNvSpPr/>
          <p:nvPr/>
        </p:nvSpPr>
        <p:spPr>
          <a:xfrm>
            <a:off x="250920" y="2349360"/>
            <a:ext cx="6408720" cy="316728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4037" h="1995">
                <a:moveTo>
                  <a:pt x="0" y="0"/>
                </a:moveTo>
                <a:cubicBezTo>
                  <a:pt x="344" y="41"/>
                  <a:pt x="689" y="83"/>
                  <a:pt x="1044" y="181"/>
                </a:cubicBezTo>
                <a:cubicBezTo>
                  <a:pt x="1399" y="279"/>
                  <a:pt x="1762" y="468"/>
                  <a:pt x="2132" y="589"/>
                </a:cubicBezTo>
                <a:cubicBezTo>
                  <a:pt x="2502" y="710"/>
                  <a:pt x="2948" y="673"/>
                  <a:pt x="3266" y="907"/>
                </a:cubicBezTo>
                <a:cubicBezTo>
                  <a:pt x="3584" y="1141"/>
                  <a:pt x="3909" y="1814"/>
                  <a:pt x="4037" y="1995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33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38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39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е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33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49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75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2013120" y="1841400"/>
            <a:ext cx="2673360" cy="17463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1684" h="1100">
                <a:moveTo>
                  <a:pt x="1628" y="1100"/>
                </a:moveTo>
                <a:cubicBezTo>
                  <a:pt x="1636" y="1069"/>
                  <a:pt x="1646" y="1051"/>
                  <a:pt x="1664" y="1024"/>
                </a:cubicBezTo>
                <a:cubicBezTo>
                  <a:pt x="1674" y="1010"/>
                  <a:pt x="1674" y="991"/>
                  <a:pt x="1684" y="976"/>
                </a:cubicBezTo>
                <a:cubicBezTo>
                  <a:pt x="1666" y="949"/>
                  <a:pt x="1620" y="935"/>
                  <a:pt x="1592" y="916"/>
                </a:cubicBezTo>
                <a:cubicBezTo>
                  <a:pt x="1587" y="913"/>
                  <a:pt x="1585" y="907"/>
                  <a:pt x="1580" y="904"/>
                </a:cubicBezTo>
                <a:cubicBezTo>
                  <a:pt x="1573" y="900"/>
                  <a:pt x="1556" y="896"/>
                  <a:pt x="1556" y="896"/>
                </a:cubicBezTo>
                <a:cubicBezTo>
                  <a:pt x="1555" y="892"/>
                  <a:pt x="1555" y="887"/>
                  <a:pt x="1552" y="884"/>
                </a:cubicBezTo>
                <a:cubicBezTo>
                  <a:pt x="1545" y="877"/>
                  <a:pt x="1525" y="873"/>
                  <a:pt x="1516" y="868"/>
                </a:cubicBezTo>
                <a:cubicBezTo>
                  <a:pt x="1490" y="855"/>
                  <a:pt x="1519" y="866"/>
                  <a:pt x="1492" y="848"/>
                </a:cubicBezTo>
                <a:cubicBezTo>
                  <a:pt x="1481" y="840"/>
                  <a:pt x="1456" y="828"/>
                  <a:pt x="1456" y="828"/>
                </a:cubicBezTo>
                <a:cubicBezTo>
                  <a:pt x="1445" y="811"/>
                  <a:pt x="1428" y="811"/>
                  <a:pt x="1412" y="800"/>
                </a:cubicBezTo>
                <a:cubicBezTo>
                  <a:pt x="1401" y="784"/>
                  <a:pt x="1384" y="771"/>
                  <a:pt x="1368" y="760"/>
                </a:cubicBezTo>
                <a:cubicBezTo>
                  <a:pt x="1359" y="732"/>
                  <a:pt x="1337" y="734"/>
                  <a:pt x="1316" y="720"/>
                </a:cubicBezTo>
                <a:cubicBezTo>
                  <a:pt x="1298" y="708"/>
                  <a:pt x="1283" y="697"/>
                  <a:pt x="1264" y="688"/>
                </a:cubicBezTo>
                <a:cubicBezTo>
                  <a:pt x="1241" y="654"/>
                  <a:pt x="1272" y="694"/>
                  <a:pt x="1244" y="672"/>
                </a:cubicBezTo>
                <a:cubicBezTo>
                  <a:pt x="1240" y="669"/>
                  <a:pt x="1239" y="663"/>
                  <a:pt x="1236" y="660"/>
                </a:cubicBezTo>
                <a:cubicBezTo>
                  <a:pt x="1233" y="657"/>
                  <a:pt x="1228" y="655"/>
                  <a:pt x="1224" y="652"/>
                </a:cubicBezTo>
                <a:cubicBezTo>
                  <a:pt x="1208" y="627"/>
                  <a:pt x="1180" y="618"/>
                  <a:pt x="1156" y="604"/>
                </a:cubicBezTo>
                <a:cubicBezTo>
                  <a:pt x="1119" y="584"/>
                  <a:pt x="1073" y="536"/>
                  <a:pt x="1036" y="524"/>
                </a:cubicBezTo>
                <a:cubicBezTo>
                  <a:pt x="1024" y="512"/>
                  <a:pt x="1020" y="501"/>
                  <a:pt x="1004" y="496"/>
                </a:cubicBezTo>
                <a:cubicBezTo>
                  <a:pt x="978" y="470"/>
                  <a:pt x="904" y="432"/>
                  <a:pt x="868" y="420"/>
                </a:cubicBezTo>
                <a:cubicBezTo>
                  <a:pt x="847" y="399"/>
                  <a:pt x="816" y="387"/>
                  <a:pt x="788" y="380"/>
                </a:cubicBezTo>
                <a:cubicBezTo>
                  <a:pt x="759" y="361"/>
                  <a:pt x="721" y="355"/>
                  <a:pt x="688" y="344"/>
                </a:cubicBezTo>
                <a:cubicBezTo>
                  <a:pt x="632" y="325"/>
                  <a:pt x="574" y="306"/>
                  <a:pt x="516" y="300"/>
                </a:cubicBezTo>
                <a:cubicBezTo>
                  <a:pt x="445" y="276"/>
                  <a:pt x="372" y="254"/>
                  <a:pt x="300" y="236"/>
                </a:cubicBezTo>
                <a:cubicBezTo>
                  <a:pt x="289" y="229"/>
                  <a:pt x="275" y="227"/>
                  <a:pt x="264" y="220"/>
                </a:cubicBezTo>
                <a:cubicBezTo>
                  <a:pt x="248" y="209"/>
                  <a:pt x="232" y="199"/>
                  <a:pt x="216" y="188"/>
                </a:cubicBezTo>
                <a:cubicBezTo>
                  <a:pt x="198" y="176"/>
                  <a:pt x="181" y="177"/>
                  <a:pt x="164" y="160"/>
                </a:cubicBezTo>
                <a:cubicBezTo>
                  <a:pt x="150" y="146"/>
                  <a:pt x="130" y="138"/>
                  <a:pt x="116" y="124"/>
                </a:cubicBezTo>
                <a:cubicBezTo>
                  <a:pt x="103" y="111"/>
                  <a:pt x="88" y="90"/>
                  <a:pt x="72" y="80"/>
                </a:cubicBezTo>
                <a:cubicBezTo>
                  <a:pt x="62" y="65"/>
                  <a:pt x="47" y="50"/>
                  <a:pt x="32" y="40"/>
                </a:cubicBezTo>
                <a:cubicBezTo>
                  <a:pt x="20" y="22"/>
                  <a:pt x="14" y="1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>
            <a:off x="1860480" y="1855800"/>
            <a:ext cx="2724120" cy="1725480"/>
          </a:xfrm>
          <a:custGeom>
            <a:avLst/>
            <a:gdLst>
              <a:gd name="textAreaLeft" fmla="*/ 0 w 2724120"/>
              <a:gd name="textAreaRight" fmla="*/ 2724480 w 272412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1716" h="1087">
                <a:moveTo>
                  <a:pt x="1716" y="1087"/>
                </a:moveTo>
                <a:cubicBezTo>
                  <a:pt x="1705" y="1071"/>
                  <a:pt x="1689" y="1068"/>
                  <a:pt x="1672" y="1059"/>
                </a:cubicBezTo>
                <a:cubicBezTo>
                  <a:pt x="1639" y="1042"/>
                  <a:pt x="1607" y="1024"/>
                  <a:pt x="1576" y="1003"/>
                </a:cubicBezTo>
                <a:cubicBezTo>
                  <a:pt x="1563" y="994"/>
                  <a:pt x="1543" y="986"/>
                  <a:pt x="1528" y="979"/>
                </a:cubicBezTo>
                <a:cubicBezTo>
                  <a:pt x="1520" y="976"/>
                  <a:pt x="1504" y="971"/>
                  <a:pt x="1504" y="971"/>
                </a:cubicBezTo>
                <a:cubicBezTo>
                  <a:pt x="1470" y="974"/>
                  <a:pt x="1442" y="980"/>
                  <a:pt x="1408" y="983"/>
                </a:cubicBezTo>
                <a:cubicBezTo>
                  <a:pt x="1355" y="1018"/>
                  <a:pt x="1394" y="999"/>
                  <a:pt x="1280" y="995"/>
                </a:cubicBezTo>
                <a:cubicBezTo>
                  <a:pt x="1245" y="983"/>
                  <a:pt x="1201" y="979"/>
                  <a:pt x="1164" y="975"/>
                </a:cubicBezTo>
                <a:cubicBezTo>
                  <a:pt x="1127" y="963"/>
                  <a:pt x="1097" y="939"/>
                  <a:pt x="1060" y="927"/>
                </a:cubicBezTo>
                <a:cubicBezTo>
                  <a:pt x="1029" y="896"/>
                  <a:pt x="967" y="854"/>
                  <a:pt x="928" y="835"/>
                </a:cubicBezTo>
                <a:cubicBezTo>
                  <a:pt x="911" y="826"/>
                  <a:pt x="900" y="803"/>
                  <a:pt x="880" y="799"/>
                </a:cubicBezTo>
                <a:cubicBezTo>
                  <a:pt x="853" y="794"/>
                  <a:pt x="827" y="785"/>
                  <a:pt x="800" y="779"/>
                </a:cubicBezTo>
                <a:cubicBezTo>
                  <a:pt x="792" y="777"/>
                  <a:pt x="784" y="777"/>
                  <a:pt x="776" y="775"/>
                </a:cubicBezTo>
                <a:cubicBezTo>
                  <a:pt x="768" y="773"/>
                  <a:pt x="752" y="767"/>
                  <a:pt x="752" y="767"/>
                </a:cubicBezTo>
                <a:cubicBezTo>
                  <a:pt x="680" y="773"/>
                  <a:pt x="647" y="776"/>
                  <a:pt x="564" y="779"/>
                </a:cubicBezTo>
                <a:cubicBezTo>
                  <a:pt x="536" y="775"/>
                  <a:pt x="524" y="766"/>
                  <a:pt x="500" y="755"/>
                </a:cubicBezTo>
                <a:cubicBezTo>
                  <a:pt x="492" y="752"/>
                  <a:pt x="476" y="747"/>
                  <a:pt x="476" y="747"/>
                </a:cubicBezTo>
                <a:cubicBezTo>
                  <a:pt x="471" y="731"/>
                  <a:pt x="446" y="705"/>
                  <a:pt x="432" y="691"/>
                </a:cubicBezTo>
                <a:cubicBezTo>
                  <a:pt x="428" y="678"/>
                  <a:pt x="419" y="668"/>
                  <a:pt x="416" y="655"/>
                </a:cubicBezTo>
                <a:cubicBezTo>
                  <a:pt x="403" y="604"/>
                  <a:pt x="393" y="553"/>
                  <a:pt x="376" y="503"/>
                </a:cubicBezTo>
                <a:cubicBezTo>
                  <a:pt x="370" y="486"/>
                  <a:pt x="358" y="472"/>
                  <a:pt x="352" y="455"/>
                </a:cubicBezTo>
                <a:cubicBezTo>
                  <a:pt x="351" y="451"/>
                  <a:pt x="344" y="452"/>
                  <a:pt x="340" y="451"/>
                </a:cubicBezTo>
                <a:cubicBezTo>
                  <a:pt x="315" y="426"/>
                  <a:pt x="309" y="426"/>
                  <a:pt x="280" y="407"/>
                </a:cubicBezTo>
                <a:cubicBezTo>
                  <a:pt x="260" y="393"/>
                  <a:pt x="244" y="375"/>
                  <a:pt x="220" y="367"/>
                </a:cubicBezTo>
                <a:cubicBezTo>
                  <a:pt x="209" y="351"/>
                  <a:pt x="183" y="343"/>
                  <a:pt x="164" y="335"/>
                </a:cubicBezTo>
                <a:cubicBezTo>
                  <a:pt x="156" y="332"/>
                  <a:pt x="140" y="327"/>
                  <a:pt x="140" y="327"/>
                </a:cubicBezTo>
                <a:cubicBezTo>
                  <a:pt x="130" y="313"/>
                  <a:pt x="122" y="312"/>
                  <a:pt x="108" y="303"/>
                </a:cubicBezTo>
                <a:cubicBezTo>
                  <a:pt x="96" y="285"/>
                  <a:pt x="87" y="270"/>
                  <a:pt x="72" y="255"/>
                </a:cubicBezTo>
                <a:cubicBezTo>
                  <a:pt x="63" y="219"/>
                  <a:pt x="46" y="181"/>
                  <a:pt x="20" y="155"/>
                </a:cubicBezTo>
                <a:cubicBezTo>
                  <a:pt x="15" y="140"/>
                  <a:pt x="5" y="134"/>
                  <a:pt x="0" y="119"/>
                </a:cubicBezTo>
                <a:cubicBezTo>
                  <a:pt x="5" y="82"/>
                  <a:pt x="3" y="95"/>
                  <a:pt x="28" y="79"/>
                </a:cubicBezTo>
                <a:cubicBezTo>
                  <a:pt x="47" y="51"/>
                  <a:pt x="36" y="60"/>
                  <a:pt x="56" y="47"/>
                </a:cubicBezTo>
                <a:cubicBezTo>
                  <a:pt x="67" y="30"/>
                  <a:pt x="64" y="25"/>
                  <a:pt x="84" y="15"/>
                </a:cubicBezTo>
                <a:cubicBezTo>
                  <a:pt x="89" y="0"/>
                  <a:pt x="84" y="3"/>
                  <a:pt x="96" y="3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201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EGION</cp:lastModifiedBy>
  <dcterms:modified xsi:type="dcterms:W3CDTF">2015-05-06T08:14:56Z</dcterms:modified>
  <cp:revision>83</cp:revision>
  <dc:subject/>
  <dc:title>PowerPoint Presentation</dc:title>
</cp:coreProperties>
</file>