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0FDC-878F-4CF4-AF58-D9524FBE0F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5EC8-8B89-4A9B-8ADB-BB5A015F171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 и нрав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5DA4-BED6-45EA-9525-8F84F6E72EF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й стране также растёт число тех, кто активно выступает за оздоровление экологической обстановки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были многочисленные выступления в защиту озера Байкал, когда люди протестовали против строительства на нем целлюлозно-бумажного комбин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801E-A196-4CB4-92D2-CCED4709FE1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рошения всё новых земель под хлопчатник стали забирать воду из рек Сырдарьи и Амударьи. Реки обмелели, засолилось Аральское море. Начались соляные бури. И тут пришли к мысли о переброске сибирских ре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иозерске был закрыт мебельный комбинат, приостановлено осуществление проекта переброски р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A070-DACD-45DF-9318-271C02FE8B0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егодня каждому из нас стоит задуматься, какие нравственные требования предъявляет сложившаяся экологическая ситуация к людям, какой собственный вклад мы могли бы внести в дело защиты окружающей сре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0489-3356-462D-806D-4D23C705715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 и нравств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ствия неразумного отношения к прир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од для оптим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2884-91E1-42F4-B168-28FAA97ECDF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дной из публикаций в журнале «Знание – сила», содержащей размышления о причинах, порождающих экологический кризис, приведён следующий пример: «Несколько десятилетий тому назад подняли целинные земли. Сделали это не задумываясь о роли почвы в биосфер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 распахивают степь сплошь в то время как можно лишь полосами. Лесопосадки тоже оказались лишн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B706-D10C-492E-ADED-2303BAD9EAE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br>
              <a:rPr sz="16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 уничтожили уникальные сообщества трав, животных, насекомых. В большом количестве исчезли овцы, лошади, коровы. Нет прежнего режима почв. Нет скотоводства. Происходят страшные пыльные бур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A366-6DD3-4C4E-A3AB-87101AFCED1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худшение экологической обстановки в данной местности происходит не из-за отсутствия современной техники, а из-за неумелого ведения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C3E6-C181-4AC6-8C6B-1D4E7D0B4C1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логическая катастрофа                                                                                           наступ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ие люди в отношении с экологией строят свое поведение в соответствии с эгоистическими принципами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наш век хвати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, &l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нас хоть пото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, недооценивающие опасность экологического кризиса, говорят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, в городах вода и воздух, конечно, неважные, а стоит отъехать на пару десятков километров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7325-1704-4A59-ADCA-B1399AD3173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и и геологи говорят о наступившей беде с конкретными цифрами в руках. Писатели-фантасты изображают будущее человечества: безжизненная, изгаженная, обезображенная земля и человек, превратившийся из властелина в изгоя, вынужденный отыскивать для жизни клочки, оазисы еще не окончательно отравленной план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6623-E3F4-4E34-B931-4E4C2AADFFD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 наступи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07E0-DEE4-4934-A400-F0A9DFA3228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инство людей, все больше проникаясь чувством ответственности перед грядущим поколением, перед всем живущим на Земле, понимают, что сейчас уже недостаточно произносить пылкие слова в защиту прир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яде зарубежных стран отдельные группы людей объединились в защиту окружающей среды, образовали парти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лены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2459-4DC8-4781-8400-A567FF000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6A21-2D9C-4C61-BFB6-7FF074D4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283F-4763-452B-AF97-55A7B9368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52AB-9C31-4AF7-B213-241415F26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42045-8133-4D32-95DC-6F61D05A1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1AF64-6B33-4C4E-B5F8-1BB3B7ED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D7DD0-4114-4313-8176-AE3D2920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19A1F-B594-4910-A942-C8E900C1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F9D54-639B-4E4D-8E94-E7F41179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4C469-A668-4303-ADDC-02FD0D34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5A387-9B09-480E-AECA-B10AF446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7F57-AD8D-4DAB-BAF0-DB04C311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267FA3-C90A-42A4-B293-74457246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392C9-56ED-42AA-AD6D-97F1F359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C746A-6DEA-4377-BF5F-39E2101A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514F0-D526-4107-AB0F-7AA35141A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07393-7CD6-4A5E-91FE-2824428C6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EF05-BDC4-4DC1-88FA-91AF1BD8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4679-1669-40BA-ADD3-C12D7CB2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D418-306F-40F9-B13A-DA0994A8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5E4A-613F-4518-9B58-3FA11A81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7BA8-AFE3-472B-8EFA-D18FEA19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7EB7-0556-4893-A573-5C91CA9D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0748-391B-4962-9167-1569FE15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E06B-DA40-4256-BAB5-FC3757A57C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9128-987F-4049-94D0-3DD53052071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я и нравствен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ашей стране также растёт число тех, кто активно выступает за оздоровление экологической обстановки.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России были многочисленные выступления в защиту озера Байкал, когда люди протестовали против строительства на нем целлюлозно-бумажного комбинат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орошения всё новых земель под хлопчатник стали забирать воду из рек Сырдарьи и Амударьи. Реки обмелели, засолилось Аральское море. Начались соляные бури. И тут пришли к мысли о переброске сибирских рек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риозерске был закрыт мебельный комбинат, приостановлено осуществление проекта переброски ре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сегодня каждому из нас стоит задуматься, какие нравственные требования предъявляет сложившаяся экологическая ситуация к людям, какой собственный вклад мы могли бы внести в дело защиты окружающей сре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я и нравственность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ледствия неразумного отношения к природ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од для оптимиз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дной из публикаций в журнале «Знание – сила», содержащей размышления о причинах, порождающих экологический кризис, приведён следующий пример: «Несколько десятилетий тому назад подняли целинные земли. Сделали это не задумываясь о роли почвы в биосфере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юди распахивают степь сплошь в то время как можно лишь полосами. Лесопосадки тоже оказались лишни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br>
              <a:rPr sz="40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юди уничтожили уникальные сообщества трав, животных, насекомых. В большом количестве исчезли овцы, лошади, коровы. Нет прежнего режима почв. Нет скотоводства. Происходят страшные пыльные бур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худшение экологической обстановки в данной местности происходит не из-за отсутствия современной техники, а из-за неумелого ведения хозяй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кологическая катастрофа                                                                                           наступае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ногие люди в отношении с экологией строят свое поведение в соответствии с эгоистическими принципами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наш век хватит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, &l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сле нас хоть потоп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юди, недооценивающие опасность экологического кризиса, говорят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&l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у, в городах вода и воздух, конечно, неважные, а стоит отъехать на пару десятков километров…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иологи и геологи говорят о наступившей беде с конкретными цифрами в руках. Писатели-фантасты изображают будущее человечества: безжизненная, изгаженная, обезображенная земля и человек, превратившийся из властелина в изгоя, вынужденный отыскивать для жизни клочки, оазисы еще не окончательно отравленной плане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кологическая катастрофа наступил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9" descr="8"/>
          <p:cNvPicPr/>
          <p:nvPr/>
        </p:nvPicPr>
        <p:blipFill>
          <a:blip r:embed="rId2"/>
          <a:stretch/>
        </p:blipFill>
        <p:spPr>
          <a:xfrm>
            <a:off x="457200" y="1981080"/>
            <a:ext cx="3962520" cy="1981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6"/>
          <p:cNvPicPr/>
          <p:nvPr/>
        </p:nvPicPr>
        <p:blipFill>
          <a:blip r:embed="rId3"/>
          <a:stretch/>
        </p:blipFill>
        <p:spPr>
          <a:xfrm>
            <a:off x="457200" y="4114800"/>
            <a:ext cx="3962520" cy="2209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12"/>
          <p:cNvPicPr/>
          <p:nvPr/>
        </p:nvPicPr>
        <p:blipFill>
          <a:blip r:embed="rId4"/>
          <a:stretch/>
        </p:blipFill>
        <p:spPr>
          <a:xfrm>
            <a:off x="4648320" y="1981080"/>
            <a:ext cx="4114800" cy="1981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2"/>
          <p:cNvPicPr/>
          <p:nvPr/>
        </p:nvPicPr>
        <p:blipFill>
          <a:blip r:embed="rId5"/>
          <a:stretch/>
        </p:blipFill>
        <p:spPr>
          <a:xfrm>
            <a:off x="4648320" y="4114800"/>
            <a:ext cx="4114800" cy="22096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ольшинство людей, все больше проникаясь чувством ответственности перед грядущим поколением, перед всем живущим на Земле, понимают, что сейчас уже недостаточно произносить пылкие слова в защиту прир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ряде зарубежных стран отдельные группы людей объединились в защиту окружающей среды, образовали парти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еленых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1:58:51Z</dcterms:created>
  <dc:creator>Ирина Николаевна</dc:creator>
  <dc:description/>
  <dc:language>en-US</dc:language>
  <cp:lastModifiedBy>LEGION</cp:lastModifiedBy>
  <dcterms:modified xsi:type="dcterms:W3CDTF">2015-05-06T08:15:19Z</dcterms:modified>
  <cp:revision>25</cp:revision>
  <dc:subject/>
  <dc:title>Экология и нравственность</dc:title>
</cp:coreProperties>
</file>