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393B-C364-48F7-9FA6-2EDECC8DD6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 человечества:</a:t>
            </a:r>
            <a:br>
              <a:rPr sz="1200"/>
            </a:b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Разрушение природн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B4E0-7A1A-459D-A1BB-310BA72747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загрязнения вод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292A-CE3D-4C32-8C1C-3038175A31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1A7B-67E1-4D47-8154-0B27200C59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E913-7DDA-4992-A2E5-F03D51A5C5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C82A-6FF7-435F-B152-CD41C03B02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3B58-FFD2-4DF2-89F3-4F7D3316C2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C7E8-F577-4490-BC9B-1816F14A50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99C1-D182-4888-B1D3-05CBF66DB7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BDF5-C8B2-4125-8BB8-2F78B613D5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9968-06CC-4E79-B0D2-E5A6092ADA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0D8B-2BEA-4BB5-A0DE-7D6450D900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E01E-E559-464A-B3E2-F7236AB8E7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8ED5-2D2E-4AD6-8BDE-221A20AD1A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4EBB-9A37-43B3-A16B-489C778A81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A8E6-1641-4D0F-AF87-8F88D150B8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01F6-E8C7-4832-A1A8-933F025073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распространенные загрязнители атмосферы поступают в нее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м в двух видах: либо в виде взвешенных частиц, либо в виде газ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0D8E-45D9-4691-9F65-27921036FC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эрозолевые частицы, поступают в атмосферу из естественных источ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3103-FF02-4CBC-8FF2-A731B9BE0D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4A61-E74B-477F-95BE-E7AC32322D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536E-460D-438D-ABBF-C7D9379613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FB0-CE08-4D91-81F2-1B38AA0E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AA3-3102-4B23-B5DF-49BF21FE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C78-7433-4760-A7DF-00833E41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E18-5011-4DB4-9F1E-28B72F22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2116-C990-4F5B-A1B8-E9A5A586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E818-D17C-424B-A1F4-9EE48124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714B-30D4-4FD2-86BE-911AB724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C34E-6FC9-40B3-B81D-C474E28F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46F0-C46B-4744-8594-F7E66CF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7E28-8AF8-4440-A1C2-03ADA353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8C3F-C51A-4D9B-8BF9-BE8A5911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E03-6790-4989-980F-0963BC04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82C5-6D12-421B-815C-2B07AA9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B9F7-D8BA-4CD5-A8AA-C0AD65A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26B0-59B4-4C0D-903A-F199DDCC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41F9-FD73-4723-A4C2-50F30AA1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B30F-2E29-4D99-9823-D8F1DA6A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FE9-8EA9-4034-8B8A-FBBB4574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7D0-F969-4C70-AAE3-0EA930C8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2F2-41C5-4E3A-B52F-A5C4DC34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605-D967-4F41-A7C6-44E6E032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B95-CA33-4F6F-BF06-CABA427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053-A249-4604-A6C5-0DC4F673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9B0-E235-4D91-882A-DCF902D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19E5-24C0-4EF8-817D-D59103155E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615E-B0CA-4ACB-87B0-E7A96125D49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Глобальные проблемы человечества:</a:t>
            </a:r>
            <a:br>
              <a:rPr sz="4000"/>
            </a:br>
            <a:r>
              <a:rPr b="0" lang="ru-RU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6" name="Picture 5" descr="fon%20lend%20"/>
          <p:cNvPicPr/>
          <p:nvPr/>
        </p:nvPicPr>
        <p:blipFill>
          <a:blip r:embed="rId1"/>
          <a:stretch/>
        </p:blipFill>
        <p:spPr>
          <a:xfrm>
            <a:off x="838080" y="2590920"/>
            <a:ext cx="746784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3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6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51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6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2856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ecologiy_zagryznenie1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3143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6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7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0" name="Picture 8" descr="08-1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429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иболее распространенные загрязнители атмосферы поступают в нее 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1600200" y="3733920"/>
            <a:ext cx="5867280" cy="2971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7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21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2" name="Picture 6" descr="m_1198587561"/>
          <p:cNvPicPr/>
          <p:nvPr/>
        </p:nvPicPr>
        <p:blipFill>
          <a:blip r:embed="rId1"/>
          <a:stretch/>
        </p:blipFill>
        <p:spPr>
          <a:xfrm>
            <a:off x="1371600" y="2743200"/>
            <a:ext cx="6172200" cy="35053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