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E96B1-B929-4751-99DF-2D5576BA185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обальные проблемы человечества:</a:t>
            </a:r>
            <a:br>
              <a:rPr sz="1200"/>
            </a:br>
            <a:r>
              <a:rPr b="0" lang="ru-RU" sz="1200" spc="-1" strike="noStrike">
                <a:solidFill>
                  <a:srgbClr val="f5f4ed"/>
                </a:solidFill>
                <a:latin typeface="Calibri"/>
              </a:rPr>
              <a:t>Разрушение природной сре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3641D-D572-416C-BF90-6A2B07D7C3A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 вида загрязнения вод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C9E9C-AB55-4037-8453-C317B97F2BC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грязнение океанов и морей происходит вследствие поступления загрязняющих веществ с речными стоками, их выпадения из атмосферы и, наконец, благодаря деятельности человека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обое место в загрязнении океанов занимает загрязнение нефтью и нефтепродуктами. Естественное загрязнение происходит в результате просачивания нефти из нефтеносных слоев, главным образом, на шельфе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ибольший вклад в нефтяное загрязнение океана вносят морские перевозки нефти, а также внезапные разливы больших количеств нефти при авариях танкеров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1C07C-DE83-4C7E-BC60-DD56931F8CA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среднем в атмосфере Земли ежесекундно образуется и исчезает около 100 т. озона. Даже при небольшом повышении дозы у человека появляется ожоги на кожи. Заболевания раком кожи, а также болезни глаз, приводит к слепоте, связано с ростом интенсивности УФ - радиации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04E07-AF32-4647-BC5A-E6F16AEF8B5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иологическое действие УФ радиации обусловлено высокой чувствительностью нуклеиновых кислот, которые могут разрушаться, что приводит к гибели клеток или возникновению мутаций. Мир узнал о глобальной экологической проблеме “озоновых дыр”. В первую очередь разрушение озонового слоя является все более развивающиеся гражданская авиация и химические производства. Применения азотных удобрений в сельском хозяйстве; хлорирование питьевой воды, широкое использование фреонов холодильных установках, для тушения пожаров, в качестве растворителей и в аэрозолях привело к тому, что миллионы тонн хлорфторметанов поступают в нижний слой атмосферы в виде бесцветного нейтрального газа. Распространяясь вверх, хлорфторменторметаны под действием УФ – излучения разрушаются, выделяя фтор и хлор, которые активно вступают в процессы разрушения озона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962E4-EA3A-4446-9079-108E73DA943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блема кислотных дождей. При изучении кислотных дождей нужно, прежде всего, ответить на два основных вопроса: что является причиной кислотных дождей и, как они воздействуют на окружающую среду. Ежегодно в атмосферу Земли выбрасывается около 200 мил. твердых частиц (пыль, сажа, и др.) 200 мил. т. сернистого газа (SO2), 700.мил. т. оксида углерода , 150.мил. т. оксидов азота (Noх), что в сумме составляет более 1 млрд. т. вредных веществ. Кислотные дожди (или, более правильно), кислотные осадки, так как выпадение вредных веществ может происходить как в виде дождя, так и в виде снега, града, наносят экологический, экономический и эстетический ущерб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5E9EA-96A1-498C-AF0A-02B7BB670BB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ти ре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се глобальные проблемы современности тесно связаны друг с другом и взаимно обусловлены, так что изолированное решение их практически невозможно. Так, обеспечение дальнейшего экономического развития человечества природными ресурсами заведомо предполагает предотвращение нарастающего загрязнения окружающей среды, иначе это уже в обозримом будущем приведет к экологической катастрофе в планетарных масштабах. Именно поэтому обе эти глобальные проблемы справедливо называют экологическими и даже с определенным основанием рассматривают как две стороны единой экологической проблемы. В свою очередь, эту экологическую проблему может решить лишь на пути нового типа экологического развития, плодотворно используя потенциал научно- технической революции, одновременно предотвращая ее отрицательные последств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D36F9-E02E-44B1-97FE-D7CB7EC0BCC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хотя темпы экологического роста за истекшие четыре десятилетия в целом в развивающихся времени этот разрыв увеличился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тистические расчеты показывают: если бы ежегодный прирост населения в развивающихся стран был таким же, как в развитых, то контраст между ними по уровню дохода на душу населения сократился бы к настоящему времени. До 1:8 и мог бы оказаться в сопоставимых размерах на душу населения вдвое выше, чем сейчас. Однако сам этот “демографический взрыв” в развивающиеся странах, как считают ученые, обусловлен их сохраняющейся экономической, социальной и культурной отсталостью. Неспособность человечества развить хотя бы одну из глобальных проблем самым отрицательным образом повлияет на возможность решения всем остальных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DCE7E-D920-4113-8337-202BE63ECCD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едставлении некоторых западных ученых взаимосвязь и взаимообуслоленость глобальных проблем образуют некий “порочный круг” неразрешимых для человечества бедствий, из которого либо вообще нет выхода, либо единственное спасение состоит в немедленном прекращении экологического роста и роста населения. Такой подход к глобальным проблемам сопровождается различными алармистскими, пессимистическими прогнозами будущего человечества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70697-1810-4627-88EE-A5CB59982AA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современном этапе развития человечества столкнулось, быть может, с наиболее горячей проблемой – как сохранить природу, поскольку никто не знает, когда и в каком виде можно подвинуться экологической катастрофе. А человечество еще даже близко не подошло к созданию общемирового механизма регулирования природопользователя, но продолжает уничтожать колоссальные дары природы. Нет сомнения, что изобретательный человеческий ум в конце, концов все же найдет им замену. Но вот человеческий организм, выдержит ли он, сможет ли он приспособится к ненормальным условиям жизни?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E95F5-A4A0-47F1-AEEE-74D041CD6BE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ибельно это не только для природы, но и для человека и его культуры, которая во все времена придавала гармонию отношениям человека с природой. Поэтому создать новую искусственную среду означало бы уничтожить и культуру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еловек не может существовать без природы не только физически (телесно), что само собой разумеется, но и духовно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мысл современности экологической этики заключается в том, чтобы поставить над ценностью природопреобразовательной деятельности высшие нравственные ценности человека. При этом принцип ценностного равноправия всего живого (равноценности) предстает как основа экологической этики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DFB3B-CAC3-4B3A-B616-812D7CE59E7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сегодняшний день самой большой и опасной проблемой является истощение и разрушение природной среды, нарушение внутри нее экологического равновесия в результате растущей и плохо контролируемой деятельностью людей. Исключительный вред приносят производственные и транспортные катастрофы, которые ведут к массовой гибели живых организмов, заражению и загрязнению мирового океана, атмосферы, почвы. Но еще большее негативное воздействие оказывают непрерывные выбросы вредных веществ в окружающую сре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5456F-EA69-4883-8D80-5285017A0E9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0589B-C090-4D78-9BEB-82C6B2ACF55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- первых, сильное влияние людей. Люди порой очень расточительно используют природные богатства, в следствие чего начинается дефицит сырья и топли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1380F-013F-4D40-86CA-83E4EEEADEE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 вторых, исчезают многие виды животных и растений, что ведёт к появлению опасных микроорганизмов, нарушается природный баланс, радиоактивные выбросы ведут к мутации особ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0B185-B91E-42DC-B54A-C2003B88FA0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- третьих, люди населяют землю  городами, и природные ландшафты, реки, озёра, леса превращаются в бетонные своды. Также большое влияние оказывает парниковый эффек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CFEC1-5454-4179-9989-2633F81FDDB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иболее распространенные загрязнители атмосферы поступают в нее в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новном в двух видах: либо в виде взвешенных частиц, либо в виде газ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глекислый газ. В результате сжигания топлива, а также производства цемента в атмосферу поступает огромное количество этого газа. Сам этот газ не ядови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гарный газ. Сжигание топлива, которое создает большую часть газообразных, да и аэрозольных загрязнений атмосферы, служит источником другого углеродного соединения – угарного газ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5DF7D-1E80-4B8E-9404-C1374D87958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глеводороды, поступающие в атмосферу в результате деятельности человека, составляют небольшую долю от углеводородов естественного происхождения, но загрязнение ими имеет весьма важное значение. Их поступление в атмосферу может происходить на любой стадии производства, обработки, хранения, перевозки и использования веществ и материалов, содержащих углеводород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ернистый газ. Загрязнение атмосферы соединениями серы имеет важные экологические последствия. Главные источники сернистого газа – вулканическая деятельность, а также процессы окисления сероводорода и других соединений серы. 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эрозолевые частицы, поступают в атмосферу из естественных источников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FC3C1-E9BD-43ED-996E-06DFD2F4205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ти все загрязняющие вещества, которые первоначально попали в атмосферу, в конечном итоге оказываются на поверхности суши и воды. Оседающие аэрозоли могут содержать ядовитые тяжелые металлы – свинец, ртуть, медь, ванадий, кобальт, никель. Обычно они малоподвижны и накапливаются в почве. Но в почву попадают с дождями также кислоты. Соединяясь с ним, металлы могут переходить в растворимые соединения, доступные растениям. В растворимые формы переходят также вещества, постоянно присутствующие в почве, что иногда приводит к гибели растений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0B1E9-21C7-4A83-A526-F652D77D749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пользованная человеком вода в конечном счете возвращается в природную среду. Но, кроме испарившейся, это уже не чистая вода, а бытовая, промышленные и сельскохозяйственные сточные воды, обычно не очищенные или очищенные недостаточно. Таким образом, происходит загрязнение пресноводных водоемов – рек, озер, суши и прибрежных участков морей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2A55F-130D-44E7-8243-DBFA321A966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07FE-0749-4EBA-805C-CF511F50A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B917-BD2A-43D7-936F-848171EC0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76C6-8E48-4C12-9516-9BBAD5A72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60FB-C5B1-4FBA-A513-3672E7628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BADA0-A45B-45C5-8BBD-BE820BA02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42868-18EB-45D7-96C0-ADC16040B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11954-5276-404C-A03F-6A618FE41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0394E-4FCE-468D-B607-260F22CB2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1BCDC-25C1-4D4D-8177-775D81446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51B72-C192-4552-8374-5013E45FD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B1502-724B-4401-8744-394A756D6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3082-9377-4303-BA7B-500DB4796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65041-ED03-48FC-A689-87A1BF694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70006-859C-4590-BB55-162CBDBE2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FC358-E299-4CF0-B6AF-027AE30D1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69418-C4F5-419B-91B4-BC27EEE46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E6D02-731E-468F-85F7-71BD77C81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422E-E016-4DF2-9C7D-4B5DFB545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776C-5CC7-42C1-A6C4-4E7996560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2F80-2662-414B-9E83-99D6C23E5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E980-3093-4457-B933-7B35F11A4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AB96-20F9-47BD-B1C0-74A7623C9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E897-3527-484E-B1A2-EEBD64682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764A-B4AD-438E-82E3-C6E177C6E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3300"/>
                </a:gs>
                <a:gs pos="100000">
                  <a:srgbClr val="008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c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27c3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1ff8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9BF33-422C-4288-8FDF-EFE408A32FB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3300"/>
                </a:gs>
                <a:gs pos="100000">
                  <a:srgbClr val="008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c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27c3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1ff8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7C41B-E1AB-4DC5-9DE5-69B93A2409DC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c0c0"/>
                </a:solidFill>
                <a:latin typeface="Arial"/>
              </a:rPr>
              <a:t>Глобальные проблемы человечества:</a:t>
            </a:r>
            <a:br>
              <a:rPr sz="4000"/>
            </a:br>
            <a:r>
              <a:rPr b="0" lang="ru-RU" sz="4000" spc="-1" strike="noStrike">
                <a:solidFill>
                  <a:srgbClr val="1aff1a"/>
                </a:solidFill>
                <a:latin typeface="Arial"/>
              </a:rPr>
              <a:t>Разрушение природной среды</a:t>
            </a: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106" name="Picture 5" descr="fon%20lend%20"/>
          <p:cNvPicPr/>
          <p:nvPr/>
        </p:nvPicPr>
        <p:blipFill>
          <a:blip r:embed="rId1"/>
          <a:stretch/>
        </p:blipFill>
        <p:spPr>
          <a:xfrm>
            <a:off x="838080" y="2590920"/>
            <a:ext cx="7467840" cy="380988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Три вида загрязнения вод: 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457200" y="2209680"/>
            <a:ext cx="4114800" cy="1524240"/>
          </a:xfrm>
          <a:prstGeom prst="ellipse">
            <a:avLst/>
          </a:prstGeom>
          <a:solidFill>
            <a:srgbClr val="008000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иологическ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Oval 5"/>
          <p:cNvSpPr/>
          <p:nvPr/>
        </p:nvSpPr>
        <p:spPr>
          <a:xfrm>
            <a:off x="2590920" y="4419720"/>
            <a:ext cx="4495680" cy="1523880"/>
          </a:xfrm>
          <a:prstGeom prst="ellipse">
            <a:avLst/>
          </a:prstGeom>
          <a:solidFill>
            <a:srgbClr val="008000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изическо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Oval 6"/>
          <p:cNvSpPr/>
          <p:nvPr/>
        </p:nvSpPr>
        <p:spPr>
          <a:xfrm>
            <a:off x="4876920" y="2133720"/>
            <a:ext cx="4267080" cy="1676160"/>
          </a:xfrm>
          <a:prstGeom prst="ellipse">
            <a:avLst/>
          </a:prstGeom>
          <a:solidFill>
            <a:srgbClr val="008000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химическ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9"/>
          <p:cNvSpPr/>
          <p:nvPr/>
        </p:nvSpPr>
        <p:spPr>
          <a:xfrm>
            <a:off x="380880" y="2057400"/>
            <a:ext cx="4114800" cy="1523880"/>
          </a:xfrm>
          <a:prstGeom prst="ellipse">
            <a:avLst/>
          </a:prstGeom>
          <a:solidFill>
            <a:srgbClr val="008000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иологическ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Oval 10"/>
          <p:cNvSpPr/>
          <p:nvPr/>
        </p:nvSpPr>
        <p:spPr>
          <a:xfrm>
            <a:off x="2362320" y="4343400"/>
            <a:ext cx="4495680" cy="1523880"/>
          </a:xfrm>
          <a:prstGeom prst="ellipse">
            <a:avLst/>
          </a:prstGeom>
          <a:solidFill>
            <a:srgbClr val="008000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зическо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277560"/>
            <a:ext cx="9448920" cy="3989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c0c0"/>
                </a:solidFill>
                <a:latin typeface="Arial"/>
              </a:rPr>
              <a:t>Загрязнение океанов и морей происходит вследствие поступления загрязняющих веществ с речными стоками, их выпадения из атмосферы и, наконец, благодаря деятельности человека. </a:t>
            </a:r>
            <a:br>
              <a:rPr sz="2000"/>
            </a:br>
            <a:r>
              <a:rPr b="1" lang="ru-RU" sz="2000" spc="-1" strike="noStrike">
                <a:solidFill>
                  <a:srgbClr val="c0c0c0"/>
                </a:solidFill>
                <a:latin typeface="Arial"/>
              </a:rPr>
              <a:t>Особое место в загрязнении океанов занимает загрязнение нефтью и нефтепродуктами. Естественное загрязнение происходит в результате просачивания нефти из нефтеносных слоев, главным образом, на шельфе. </a:t>
            </a:r>
            <a:br>
              <a:rPr sz="2000"/>
            </a:br>
            <a:r>
              <a:rPr b="1" lang="ru-RU" sz="2000" spc="-1" strike="noStrike">
                <a:solidFill>
                  <a:srgbClr val="c0c0c0"/>
                </a:solidFill>
                <a:latin typeface="Arial"/>
              </a:rPr>
              <a:t>Наибольший вклад в нефтяное загрязнение океана вносят морские перевозки нефти, а также внезапные разливы больших количеств нефти при авариях танкеров. </a:t>
            </a:r>
            <a:br>
              <a:rPr sz="2000"/>
            </a:br>
            <a:endParaRPr b="0" lang="en-US" sz="20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143" name="Picture 8" descr="microsoil"/>
          <p:cNvPicPr/>
          <p:nvPr/>
        </p:nvPicPr>
        <p:blipFill>
          <a:blip r:embed="rId1"/>
          <a:stretch/>
        </p:blipFill>
        <p:spPr>
          <a:xfrm>
            <a:off x="1676520" y="3809880"/>
            <a:ext cx="5715000" cy="2819520"/>
          </a:xfrm>
          <a:prstGeom prst="rect">
            <a:avLst/>
          </a:prstGeom>
          <a:ln w="76320">
            <a:solidFill>
              <a:srgbClr val="c1ff83"/>
            </a:solidFill>
            <a:miter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231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c0c0"/>
                </a:solidFill>
                <a:latin typeface="Arial"/>
              </a:rPr>
              <a:t>В среднем в атмосфере Земли ежесекундно образуется и исчезает около 100 т. озона. Даже при небольшом повышении дозы у человека появляется ожоги на кожи. Заболевания раком кожи, а также болезни глаз, приводит к слепоте, связано с ростом интенсивности УФ - радиации. </a:t>
            </a:r>
            <a:br>
              <a:rPr sz="2000"/>
            </a:br>
            <a:endParaRPr b="0" lang="en-US" sz="20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146" name="Picture 6" descr="uv_rays"/>
          <p:cNvPicPr/>
          <p:nvPr/>
        </p:nvPicPr>
        <p:blipFill>
          <a:blip r:embed="rId1"/>
          <a:stretch/>
        </p:blipFill>
        <p:spPr>
          <a:xfrm>
            <a:off x="2382840" y="2286000"/>
            <a:ext cx="4210200" cy="4362480"/>
          </a:xfrm>
          <a:prstGeom prst="rect">
            <a:avLst/>
          </a:prstGeom>
          <a:ln w="76320">
            <a:solidFill>
              <a:srgbClr val="c1ff83"/>
            </a:solidFill>
            <a:miter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c0c0"/>
                </a:solidFill>
                <a:latin typeface="Arial"/>
              </a:rPr>
              <a:t>Биологическое действие УФ радиации обусловлено высокой чувствительностью нуклеиновых кислот, которые могут разрушаться, что приводит к гибели клеток или возникновению мутаций. Мир узнал о глобальной экологической проблеме “озоновых дыр”. В первую очередь разрушение озонового слоя является все более развивающиеся гражданская авиация и химические производства. Применения азотных удобрений в сельском хозяйстве; хлорирование питьевой воды, широкое использование фреонов холодильных установках, для тушения пожаров, в качестве растворителей и в аэрозолях привело к тому, что миллионы тонн хлорфторметанов поступают в нижний слой атмосферы в виде бесцветного нейтрального газа. Распространяясь вверх, хлорфторменторметаны под действием УФ – излучения разрушаются, выделяя фтор и хлор, которые активно вступают в процессы разрушения озона. </a:t>
            </a:r>
            <a:br>
              <a:rPr sz="2000"/>
            </a:br>
            <a:endParaRPr b="0" lang="en-US" sz="2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227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c0c0"/>
                </a:solidFill>
                <a:latin typeface="Arial"/>
              </a:rPr>
              <a:t>Проблема кислотных дождей. При изучении кислотных дождей нужно, прежде всего, ответить на два основных вопроса: что является причиной кислотных дождей и, как они воздействуют на окружающую среду. Ежегодно в атмосферу Земли выбрасывается около 200 мил. твердых частиц (пыль, сажа, и др.) 200 мил. т. сернистого газа (SO2), 700.мил. т. оксида углерода , 150.мил. т. оксидов азота (Noх), что в сумме составляет более 1 млрд. т. вредных веществ. Кислотные дожди (или, более правильно), кислотные осадки, так как выпадение вредных веществ может происходить как в виде дождя, так и в виде снега, града, наносят экологический, экономический и эстетический ущерб. </a:t>
            </a:r>
            <a:br>
              <a:rPr sz="1800"/>
            </a:br>
            <a:endParaRPr b="0" lang="en-US" sz="18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151" name="Picture 6" descr="rain3"/>
          <p:cNvPicPr/>
          <p:nvPr/>
        </p:nvPicPr>
        <p:blipFill>
          <a:blip r:embed="rId1"/>
          <a:stretch/>
        </p:blipFill>
        <p:spPr>
          <a:xfrm>
            <a:off x="1143000" y="3581280"/>
            <a:ext cx="6705720" cy="327672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Пути решения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е глобальные проблемы современности тесно связаны друг с другом и взаимно обусловлены, так что изолированное решение их практически невозможно. Так, обеспечение дальнейшего экономического развития человечества природными ресурсами заведомо предполагает предотвращение нарастающего загрязнения окружающей среды, иначе это уже в обозримом будущем приведет к экологической катастрофе в планетарных масштабах. Именно поэтому обе эти глобальные проблемы справедливо называют экологическими и даже с определенным основанием рассматривают как две стороны единой экологической проблемы. В свою очередь, эту экологическую проблему может решить лишь на пути нового типа экологического развития, плодотворно используя потенциал научно- технической революции, одновременно предотвращая ее отрицательные последстви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066680"/>
            <a:ext cx="8381880" cy="4523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c0c0"/>
                </a:solidFill>
                <a:latin typeface="Arial"/>
              </a:rPr>
              <a:t>И хотя темпы экологического роста за истекшие четыре десятилетия в целом в развивающихся времени этот разрыв увеличился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c0c0c0"/>
                </a:solidFill>
                <a:latin typeface="Arial"/>
              </a:rPr>
              <a:t>Статистические расчеты показывают: если бы ежегодный прирост населения в развивающихся стран был таким же, как в развитых, то контраст между ними по уровню дохода на душу населения сократился бы к настоящему времени. До 1:8 и мог бы оказаться в сопоставимых размерах на душу населения вдвое выше, чем сейчас. Однако сам этот “демографический взрыв” в развивающиеся странах, как считают ученые, обусловлен их сохраняющейся экономической, социальной и культурной отсталостью. Неспособность человечества развить хотя бы одну из глобальных проблем самым отрицательным образом повлияет на возможность решения всем остальных. </a:t>
            </a:r>
            <a:br>
              <a:rPr sz="2000"/>
            </a:br>
            <a:endParaRPr b="0" lang="en-US" sz="2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1237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c0c0"/>
                </a:solidFill>
                <a:latin typeface="Arial"/>
              </a:rPr>
              <a:t>В представлении некоторых западных ученых взаимосвязь и взаимообуслоленость глобальных проблем образуют некий “порочный круг” неразрешимых для человечества бедствий, из которого либо вообще нет выхода, либо единственное спасение состоит в немедленном прекращении экологического роста и роста населения. Такой подход к глобальным проблемам сопровождается различными алармистскими, пессимистическими прогнозами будущего человечества.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c0c0c0"/>
                </a:solidFill>
                <a:latin typeface="Arial"/>
              </a:rPr>
              <a:t>. </a:t>
            </a:r>
            <a:br>
              <a:rPr sz="2800"/>
            </a:br>
            <a:endParaRPr b="0" lang="en-US" sz="28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Заключение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современном этапе развития человечества столкнулось, быть может, с наиболее горячей проблемой – как сохранить природу, поскольку никто не знает, когда и в каком виде можно подвинуться экологической катастрофе. А человечество еще даже близко не подошло к созданию общемирового механизма регулирования природопользователя, но продолжает уничтожать колоссальные дары природы. Нет сомнения, что изобретательный человеческий ум в конце, концов все же найдет им замену. Но вот человеческий организм, выдержит ли он, сможет ли он приспособится к ненормальным условиям жизни?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1760" y="1371240"/>
            <a:ext cx="7848360" cy="9428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c0c0"/>
                </a:solidFill>
                <a:latin typeface="Arial"/>
              </a:rPr>
              <a:t>Гибельно это не только для природы, но и для человека и его культуры, которая во все времена придавала гармонию отношениям человека с природой. Поэтому создать новую искусственную среду означало бы уничтожить и культуру. </a:t>
            </a:r>
            <a:br>
              <a:rPr sz="1800"/>
            </a:br>
            <a:r>
              <a:rPr b="1" lang="ru-RU" sz="1800" spc="-1" strike="noStrike">
                <a:solidFill>
                  <a:srgbClr val="c0c0c0"/>
                </a:solidFill>
                <a:latin typeface="Arial"/>
              </a:rPr>
              <a:t>Человек не может существовать без природы не только физически (телесно), что само собой разумеется, но и духовно. </a:t>
            </a:r>
            <a:br>
              <a:rPr sz="1800"/>
            </a:br>
            <a:r>
              <a:rPr b="1" lang="ru-RU" sz="1800" spc="-1" strike="noStrike">
                <a:solidFill>
                  <a:srgbClr val="c0c0c0"/>
                </a:solidFill>
                <a:latin typeface="Arial"/>
              </a:rPr>
              <a:t>Смысл современности экологической этики заключается в том, чтобы поставить над ценностью природопреобразовательной деятельности высшие нравственные ценности человека. При этом принцип ценностного равноправия всего живого (равноценности) предстает как основа экологической этики.</a:t>
            </a:r>
            <a:br>
              <a:rPr sz="1800"/>
            </a:br>
            <a:endParaRPr b="0" lang="en-US" sz="18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164" name="Picture 6" descr="%D0%9F%D1%80%D0%B8%D1%80%D0%BE%D0%B4%D0%B0%20%D0%9A%D0%B0%D1%80%D0%B5%D0%BB%D0%B8%D0%B8%201"/>
          <p:cNvPicPr/>
          <p:nvPr/>
        </p:nvPicPr>
        <p:blipFill>
          <a:blip r:embed="rId1"/>
          <a:stretch/>
        </p:blipFill>
        <p:spPr>
          <a:xfrm>
            <a:off x="1066680" y="3338640"/>
            <a:ext cx="7010640" cy="3519360"/>
          </a:xfrm>
          <a:prstGeom prst="rect">
            <a:avLst/>
          </a:prstGeom>
          <a:ln w="76320">
            <a:solidFill>
              <a:srgbClr val="33cc33"/>
            </a:solidFill>
            <a:miter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c0c0"/>
                </a:solidFill>
                <a:latin typeface="Arial"/>
              </a:rPr>
              <a:t>Введение</a:t>
            </a:r>
            <a:endParaRPr b="0" lang="en-US" sz="48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80880" y="167652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сегодняшний день самой большой и опасной проблемой является истощение и разрушение природной среды, нарушение внутри нее экологического равновесия в результате растущей и плохо контролируемой деятельностью людей. Исключительный вред приносят производственные и транспортные катастрофы, которые ведут к массовой гибели живых организмов, заражению и загрязнению мирового океана, атмосферы, почвы. Но еще большее негативное воздействие оказывают непрерывные выбросы вредных веществ в окружающую сред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5" descr="40671641c5cf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617220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438280" y="2285640"/>
            <a:ext cx="51055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Причины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- первых, сильное влияние людей. Люди порой очень расточительно используют природные богатства, в следствие чего начинается дефицит сырья и топли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5" descr="ecologiy_zagryznenie1"/>
          <p:cNvPicPr/>
          <p:nvPr/>
        </p:nvPicPr>
        <p:blipFill>
          <a:blip r:embed="rId1"/>
          <a:stretch/>
        </p:blipFill>
        <p:spPr>
          <a:xfrm>
            <a:off x="1143000" y="3429000"/>
            <a:ext cx="7086600" cy="314316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2770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- вторых, исчезают многие виды животных и растений, что ведёт к появлению опасных микроорганизмов, нарушается природный баланс, радиоактивные выбросы ведут к мутации особей</a:t>
            </a:r>
            <a:endParaRPr b="0" lang="en-US" sz="28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116" name="Picture 8" descr="bacillus_anthracis"/>
          <p:cNvPicPr/>
          <p:nvPr/>
        </p:nvPicPr>
        <p:blipFill>
          <a:blip r:embed="rId1"/>
          <a:stretch/>
        </p:blipFill>
        <p:spPr>
          <a:xfrm>
            <a:off x="4876920" y="3276720"/>
            <a:ext cx="3619440" cy="311472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  <p:pic>
        <p:nvPicPr>
          <p:cNvPr id="117" name="Picture 10" descr="1236711893_bakr"/>
          <p:cNvPicPr/>
          <p:nvPr/>
        </p:nvPicPr>
        <p:blipFill>
          <a:blip r:embed="rId2"/>
          <a:stretch/>
        </p:blipFill>
        <p:spPr>
          <a:xfrm>
            <a:off x="608040" y="3273480"/>
            <a:ext cx="3621240" cy="312588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305920" cy="2465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- третьих, люди населяют землю  городами, и природные ландшафты, реки, озёра, леса превращаются в бетонные своды. Также большое влияние оказывает парниковый эффект.</a:t>
            </a:r>
            <a:endParaRPr b="0" lang="en-US" sz="24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120" name="Picture 8" descr="08-1"/>
          <p:cNvPicPr/>
          <p:nvPr/>
        </p:nvPicPr>
        <p:blipFill>
          <a:blip r:embed="rId1"/>
          <a:stretch/>
        </p:blipFill>
        <p:spPr>
          <a:xfrm>
            <a:off x="1905120" y="2286000"/>
            <a:ext cx="5715000" cy="429588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Суть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иболее распространенные загрязнители атмосферы поступают в нее в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сновном в двух видах: либо в виде взвешенных частиц, либо в виде газов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глекислый газ. В результате сжигания топлива, а также производства цемента в атмосферу поступает огромное количество этого газа. Сам этот газ не ядовит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гарный газ. Сжигание топлива, которое создает большую часть газообразных, да и аэрозольных загрязнений атмосферы, служит источником другого углеродного соединения – угарного газа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4" descr="2"/>
          <p:cNvPicPr/>
          <p:nvPr/>
        </p:nvPicPr>
        <p:blipFill>
          <a:blip r:embed="rId1"/>
          <a:stretch/>
        </p:blipFill>
        <p:spPr>
          <a:xfrm>
            <a:off x="1600200" y="3733920"/>
            <a:ext cx="5867280" cy="297180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240" y="1143000"/>
            <a:ext cx="8534520" cy="1905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c0c0c0"/>
                </a:solidFill>
                <a:latin typeface="Arial"/>
              </a:rPr>
              <a:t>Углеводороды, поступающие в атмосферу в результате деятельности человека, составляют небольшую долю от углеводородов естественного происхождения, но загрязнение ими имеет весьма важное значение. Их поступление в атмосферу может происходить на любой стадии производства, обработки, хранения, перевозки и использования веществ и материалов, содержащих углеводород. </a:t>
            </a:r>
            <a:br>
              <a:rPr sz="1700"/>
            </a:br>
            <a:r>
              <a:rPr b="1" lang="ru-RU" sz="1700" spc="-1" strike="noStrike">
                <a:solidFill>
                  <a:srgbClr val="c0c0c0"/>
                </a:solidFill>
                <a:latin typeface="Arial"/>
              </a:rPr>
              <a:t>Сернистый газ. Загрязнение атмосферы соединениями серы имеет важные экологические последствия. Главные источники сернистого газа – вулканическая деятельность, а также процессы окисления сероводорода и других соединений серы. . </a:t>
            </a:r>
            <a:br>
              <a:rPr sz="1700"/>
            </a:br>
            <a:r>
              <a:rPr b="1" lang="ru-RU" sz="1700" spc="-1" strike="noStrike">
                <a:solidFill>
                  <a:srgbClr val="c0c0c0"/>
                </a:solidFill>
                <a:latin typeface="Arial"/>
              </a:rPr>
              <a:t>Аэрозолевые частицы, поступают в атмосферу из естественных источников. </a:t>
            </a:r>
            <a:br>
              <a:rPr sz="1700"/>
            </a:br>
            <a:endParaRPr b="0" lang="en-US" sz="17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127" name="Picture 6" descr="acec59f97e964f232fb03afb17f6e83a_full1"/>
          <p:cNvPicPr/>
          <p:nvPr/>
        </p:nvPicPr>
        <p:blipFill>
          <a:blip r:embed="rId1"/>
          <a:stretch/>
        </p:blipFill>
        <p:spPr>
          <a:xfrm>
            <a:off x="1371600" y="3581280"/>
            <a:ext cx="6248520" cy="327672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819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c0c0"/>
                </a:solidFill>
                <a:latin typeface="Arial"/>
              </a:rPr>
              <a:t>Почти все загрязняющие вещества, которые первоначально попали в атмосферу, в конечном итоге оказываются на поверхности суши и воды. Оседающие аэрозоли могут содержать ядовитые тяжелые металлы – свинец, ртуть, медь, ванадий, кобальт, никель. Обычно они малоподвижны и накапливаются в почве. Но в почву попадают с дождями также кислоты. Соединяясь с ним, металлы могут переходить в растворимые соединения, доступные растениям. В растворимые формы переходят также вещества, постоянно присутствующие в почве, что иногда приводит к гибели растений. </a:t>
            </a:r>
            <a:br>
              <a:rPr sz="2800"/>
            </a:br>
            <a:endParaRPr b="0" lang="en-US" sz="28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153280" cy="2160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c0c0"/>
                </a:solidFill>
                <a:latin typeface="Arial"/>
              </a:rPr>
              <a:t>Использованная человеком вода в конечном счете возвращается в природную среду. Но, кроме испарившейся, это уже не чистая вода, а бытовая, промышленные и сельскохозяйственные сточные воды, обычно не очищенные или очищенные недостаточно. Таким образом, происходит загрязнение пресноводных водоемов – рек, озер, суши и прибрежных участков морей. </a:t>
            </a:r>
            <a:br>
              <a:rPr sz="1800"/>
            </a:br>
            <a:endParaRPr b="0" lang="en-US" sz="18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132" name="Picture 6" descr="m_1198587561"/>
          <p:cNvPicPr/>
          <p:nvPr/>
        </p:nvPicPr>
        <p:blipFill>
          <a:blip r:embed="rId1"/>
          <a:stretch/>
        </p:blipFill>
        <p:spPr>
          <a:xfrm>
            <a:off x="1371600" y="2743200"/>
            <a:ext cx="6172200" cy="3505320"/>
          </a:xfrm>
          <a:prstGeom prst="rect">
            <a:avLst/>
          </a:prstGeom>
          <a:ln w="76320">
            <a:solidFill>
              <a:srgbClr val="33cc33"/>
            </a:solidFill>
            <a:miter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5-06T08:15:56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