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7DCE-120D-43E7-9CCD-F1148C3DFD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E0F6-2AE2-443A-A2F3-685A480C6F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 экологической проблеме относятся: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опустынивание территорий в результате нерациональной хозяйственной деятельности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33D-55BC-4DC9-A4AB-845B006686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уничтожены и продолжают уничтожаться тысячи видов растений и животн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в значительной мере истреблен лесной покр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стремительно сокращается имеющийся запас полезных ископаем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CA82-1EC8-4353-8A4A-DB12FE2E40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7BEA-A8F0-4D8B-940F-12E2ACC096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BA9-C191-4A91-ADDB-4209E63D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D4F-D137-4C27-AF1C-B2412601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A0A-2F2D-4D40-8E09-6CA809D0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F72-D950-42D3-8624-1A0FF053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368F-8558-4158-A9B2-CC17D4C0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3D31-46C2-4216-855B-CD3CCADA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3ED0-88FA-43C5-AA95-F04598F9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A122-ADB6-4C1E-8CF6-62AED6B5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C6DA-425C-498E-9330-FC7A6DB4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FB73-B255-42B1-8AB4-87692C15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F571-260C-43BD-B1C9-C14E9D1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2F1-BFA1-42DC-BFE1-42EA2F3A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B60-A860-41D4-B3D6-26BE7EB4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6531-86A4-485C-AAAE-4284CC08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D1E6-2AA9-45FC-BF4A-89DD11CA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AD51-E0BE-4086-BE08-9E77D5C1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6C8B-4D11-4339-A33C-8F0A6874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9A04-35DA-41D0-B453-32352FED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F9DC-1D2B-40E8-B325-B34A44CA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3FA4-99E7-474E-9259-E8756CD3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B099-85B2-4FBC-9FD2-BA1490EF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4AEF-1BA5-46B0-A695-B745E1C5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211-E1FD-4DAE-B6E8-3BF9E642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7311-8F01-4363-BD05-A5AAE88F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1E58-C9A1-452D-ADAA-F0DA09F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FEC1-C3B7-48FC-8D9D-3DEBE10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4B39-1233-484D-AD28-8D29131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835C-A520-4609-B5E6-0A6225A6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2F4C-BDC9-4BD9-98F4-582E636B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57FE-36E3-436A-9242-0ACD32CF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E0609-A49E-4BED-9241-41F1358B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8174-229A-4CC7-B8CF-00E33E9A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CE9D-23E1-4F04-96F8-D2603902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64F-1B41-402B-A6FD-C54666E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AE80-83A6-4560-8E43-E3DED43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A669E-8D70-416C-839D-C5DE59D3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B5CC-5349-40F2-8567-C41BE4A9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1445-9F9D-4FF1-AF0C-5F3D5923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AC03-93D8-4212-8A03-49760104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FF9B-9ADF-4E02-9DA7-D6134C0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906A8-EB19-410B-9985-EA3D19BD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B03F-18EB-4FA6-BC17-043C81BC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FCED-93EF-446B-9BB4-2B7009BF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96B6-9859-4C3D-8915-47E72EA6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CE0-C70F-4D22-AB44-6ABDDBF7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5433-AEDD-4BA1-91CF-4BC0377F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EDE4B-9C9E-4E4D-96FE-8BCB89CC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AF440-4A11-4849-AE19-DE3CC8D3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7E4BE-70C6-425C-8C60-AC05C8E3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4539-E068-4DC0-B308-24F72BA0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E287-7BEE-481F-A5D7-C0525151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32DE-A149-4895-9AF7-E240D40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FD29C-EE6F-4C45-A4FA-ADAD4A6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6DA08-F8B8-499B-8A62-CEC33CA5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8966C-0BDD-41B9-B6B4-216D0450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836-B98C-462A-9068-0A21E4F0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509D-51D3-42C3-8FD6-1EA466AA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2440A-F293-4669-9A78-2360AA91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46443-511B-4026-A160-EA360069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9045-8E18-4A88-B14A-A592BC56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02D72-BE48-4329-A003-7B9B2D1F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023B4-46A4-47EB-9E7D-9B294A40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5CBA1-361B-4887-BDCD-1AF299A4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1481C-B26E-4A51-A16C-88E336FA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2D32-15C8-40A2-8ECE-6C7D454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9790E-4309-41A4-B95B-CC3BA6DD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081-A71B-47EE-83AC-19CD4179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3019C-6E7A-4F55-85B4-0991D76A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2971-0D69-4CD4-9048-80E4ECD3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18D1D-AC1B-4A60-8B3A-08E8D405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47C12-5B21-472F-BC36-5FAEA8C9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D0E96-38BA-4FC4-BFF9-F88DADCC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6D0DD-53C5-4F0B-A092-D9BB9129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A2E4-B19C-422E-980F-14572502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28EE9-BCD8-4225-BF0E-38BAD83B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4DC6E-9273-45E2-8A72-1A8AD720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147FE-539D-4577-AB8A-6A6AB918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BAB-A6FE-4364-86AD-24A2F72B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BC3F4-3C18-45AE-B310-36D464FC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BB8AA-7E4D-4442-A486-3FB3450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B8896-B3F6-421E-BCC3-599A0EC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5B989-12AC-4171-9462-1BA183DD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3D00-1EA9-4E5E-A819-BA6C1FF7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286-131E-4C1E-BAE9-5F0DE3E8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E62-B398-41D6-94D5-55C00B2D228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1D4-0787-4A55-AC4C-2F5C83AFBF8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7827-8554-4920-A606-153294C2BF4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457F-BA55-4B62-B62B-4490A5C1D2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0646-D835-42CD-8DFB-5CF423742D5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A616-2361-490F-9589-F629802E75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1B0F-851D-45D7-B2A1-BFD322093E8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2BBE-D6D7-4F55-BDED-8B7E355893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C538-2385-484B-8793-A4CD652889D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4C5A-004A-4141-AD53-EA1E32D1E7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153D-CEE5-4393-8FFA-A3DB5513DD3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E9BE-EF41-484C-80FF-C9F88008E1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4FE5-6E1E-4FAE-8647-E3B7623BC96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0EBF-B6A5-491E-A821-1DE833A73A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C:\Documents and Settings\Новая Тараба\Рабочий стол\г3.gif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1571760" y="785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3"/>
          <p:cNvSpPr/>
          <p:nvPr/>
        </p:nvSpPr>
        <p:spPr>
          <a:xfrm>
            <a:off x="2357280" y="214200"/>
            <a:ext cx="442944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К экологической проблеме относятся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опустынивание территорий в результате нерациональной хозяйственной деятельности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Documents and Settings\Новая Тараба\Рабочий стол\г2.jpeg"/>
          <p:cNvPicPr/>
          <p:nvPr/>
        </p:nvPicPr>
        <p:blipFill>
          <a:blip r:embed="rId1"/>
          <a:stretch/>
        </p:blipFill>
        <p:spPr>
          <a:xfrm>
            <a:off x="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4"/>
          <p:cNvSpPr/>
          <p:nvPr/>
        </p:nvSpPr>
        <p:spPr>
          <a:xfrm>
            <a:off x="500040" y="3366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уничтожены и продолжают уничтожаться тысячи видов растений и животн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в значительной мере истреблен лесной покр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стремительно сокращается имеющийся запас полезных ископаем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Documents and Settings\Новая Тараба\Рабочий стол\г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35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2"/>
          <p:cNvSpPr/>
          <p:nvPr/>
        </p:nvSpPr>
        <p:spPr>
          <a:xfrm>
            <a:off x="1357200" y="1779480"/>
            <a:ext cx="77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11:21Z</dcterms:created>
  <dc:creator>Новая Тараба</dc:creator>
  <dc:description/>
  <dc:language>en-US</dc:language>
  <cp:lastModifiedBy>LEGION</cp:lastModifiedBy>
  <dcterms:modified xsi:type="dcterms:W3CDTF">2015-05-06T08:16:21Z</dcterms:modified>
  <cp:revision>19</cp:revision>
  <dc:subject/>
  <dc:title>Загрязнение окружающей среды</dc:title>
</cp:coreProperties>
</file>