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B65B1-3DDF-4785-AF27-ADDC29FD5FF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 целый ряд целенаправленных мер по экологизации производства: природосберегающие технологии, обязательная экологическая экспертиза новых проектов, создание безотходных технологий замкнутого цикл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гой мерой, направленной на улучшение взаимоотношений человека и природы, является разумное самоограничение в расходовании природных ресурсов, особенно — энергетических источников (нефть, уголь), имеющих для жизни человечества важнейшее зна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48B6E-CBB4-49F1-BA14-B8974954A11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Экологическая проблема - глобальная проблема человечества, возникшая с началом индустриальной деятельности человечества и особенно обострившаяся во второй половине 20 века. Кроме индустриализации, углублению экологической проблемы способствовали ядерные испытания, проводимые в трех средах географической оболочки Зем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К экологической проблеме относятся: 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- сокращение площади лесов в умеренном и в тропическом поясах, следствием чего является сокращение источников поступления кислорода в атмосферу; 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- опустынивание территорий в результате нерациональной хозяйственной деятельности; 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- уменьшение биологического разнообразия растений и животных Земли из-за разрушения среды их обитания и д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BE1F8-A22A-43A1-A448-B22B6962EE4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Сегодня экологическую ситуацию в мире можно охарактеризовать как близкую к критической. Среди глобальных экологических проблем можно отметить следующие:</a:t>
            </a:r>
            <a:br>
              <a:rPr sz="1200"/>
            </a:b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- уничтожены и продолжают уничтожаться тысячи видов растений и животных;</a:t>
            </a:r>
            <a:br>
              <a:rPr sz="1200"/>
            </a:b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- в значительной мере истреблен лесной покров;</a:t>
            </a:r>
            <a:br>
              <a:rPr sz="1200"/>
            </a:b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- стремительно сокращается имеющийся запас полезных ископаемых;</a:t>
            </a:r>
            <a:br>
              <a:rPr sz="1200"/>
            </a:b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- мировой океан не только истощается в результате уничтожения живых организмов, но и перестает быть регулятором природных процессов;</a:t>
            </a:r>
            <a:br>
              <a:rPr sz="1200"/>
            </a:b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- атмосфера во многих местах загрязнена до предельно допустимых размеров, а чистый воздух становится дефицитом;</a:t>
            </a:r>
            <a:br>
              <a:rPr sz="1200"/>
            </a:b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- частично нарушен озоновый слой, защищающий от губительного для всего живого космического излуч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34D83-AA9D-4E74-AD0F-F2A364F1E8B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Ныне межгосударственные формы сотрудничества выходят на качественно новый уровень. Заключаются международные конвенции по охране окружающей среды (квоты по вылову рыб, запрет на промысел китов и др.), осуществляются самые различные совместные разработки и программы. Активизировалась деятельность общественных организаций по защите окружающей среды — «зеленые» («Гринпис»). Экологический интернационал Зеленого Креста и Зеленого Полумесяца в настоящее время разрабатывает программу по решению проблемы «озоновых дыр» в атмосфере Земли. Однако следует признать, что при весьма различном уровне социально-политического развития государств мира международное сотрудничество в экологической сфере еще весьма далеко от своего совершенства.</a:t>
            </a:r>
            <a:br>
              <a:rPr sz="1200"/>
            </a:b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Еще одним направлением для решения экологической проблемы, и может быть в перспективе — самым важным из всех, является формирование в обществе экологического сознания, понимания людьми природы как другого живого существа, над которым нельзя властвовать без ущерба для него и себя. Экологическое обучение и воспитание в обществе должны быть поставлены на государственный уровень, проводиться с раннего дет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4B3C8-C43C-4637-A18E-E00F92F7DE0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FFD5-12DA-42D1-9645-3E0347711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1EDD-E2C8-490F-9CE3-E4012BAF2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9D79-4858-44FA-9862-EB54E3107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ECD7-8BAA-455D-A951-1CA0CB0C1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B245E-4226-4B8C-9596-3514702C3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31149-50C6-436F-9162-6FDA3AE7F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53680-244F-4E40-8BE4-4DB21E5B0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DF62A-F194-4D73-A694-EBB2997DD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F559B-01D4-4B4B-B6FF-B90E94628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7FFE6-4B2D-457A-A24B-4AAB46232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D73A6-2272-4E0E-A47E-F1808CE3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9777-6986-4E5D-9268-BD985AE88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6E8B6-9EC4-467E-87AA-0BC13F4C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6D142-E426-4DB9-AD3E-CC423F77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5D2E5-F04F-4A07-9AA1-5847F7007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538B7-9CD8-4256-BEB8-CCA0A7661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7A2B3-98FB-4859-A5B0-D6024D40E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DE85A-2AEB-422D-B607-116B8D35A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19C77-40EA-46CF-A079-85A96D5B1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84AD5-9861-4E6E-AD40-967B4901C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F6516-E3E7-41BB-83A1-1D7B747C5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1DABB-70B3-4833-AB9A-A90BFAE17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0E2A-A21E-4F61-8DA1-545829F00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AA4BB-E00A-49FF-8D8E-9D5357A61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504B3-5A66-441D-8D00-64F19103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542E0-8E6F-4114-8AA5-36B5FC18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F6A1A-15F1-4F01-B9D1-AE6074D3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4EF22-D29D-486F-B404-5027186D6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7B75B-2337-4386-9061-FB682F4FA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A503E-6038-453B-9908-D30379079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03E70-FB58-481F-AD55-832944BC8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52326-A8EF-45A6-8B28-7859E97C5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6F3AB-FFE0-4070-B6C7-3F20FDF2B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08EA-B2EF-4601-AFBE-40E437EBB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62288-F23C-4416-B3DE-C765018EC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2B14A-D71F-4815-B5C4-17B1C449B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FDB80-26C2-4B6F-866E-B2B4AB789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53BD8-96DE-4498-A4E0-8435A1EA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21BFC-D015-4154-8397-E3013239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8A275-5F96-457B-A75D-6CF3EB5F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F09AF-D594-41D4-937B-43CE9EFC2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D7E9D-DF8B-469E-861D-FAEBBB31F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26E01-9594-4248-9AAB-639323045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7E5A5-ED2B-4498-B01C-7130D0591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AD1E-21AD-4F3F-9FE0-F0B466DC4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EBB91-63B5-4ED2-A340-E51058EDC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30832-D4B1-40CC-B3CB-96F377001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9252B-44B8-427A-8DED-1ABB2CEFE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0B0A3-8502-4C63-9506-B97E2A142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E6668-F625-4DEC-A879-BA472A9DF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4EE80-768F-470C-980F-9E1F8C42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660E8-36E4-4948-BCC2-9570821A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5F6DE-266F-44F2-B49E-BAD06AE9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AF95F-5426-4C9C-96E7-BDA36B9B9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64EDE-C6DE-415C-AAD5-448CE8E79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F1C8-2146-4B2D-9A90-9DC00ED8E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EFBD4-0AE8-44B6-A08F-8FA904136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79F35-F96A-4FA9-9851-05E9DA300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BE4B1F-EF29-4545-931A-16614E885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950A4-6974-4E09-B29B-571790E23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DFA1A-74AA-4E12-B74C-EBF72C70A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FA42E-BA0F-4CF9-82AF-579CD1A62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3C7BF-2796-4FA5-8EB9-47E4378AB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50C12-03D3-4E83-88B0-1AD2BAC0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FD824-850E-4EDD-AF12-C7892033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761C7-862D-4A95-AB3F-F3BC95A4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F131-27B4-483C-80E2-29C24C5A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E9688-F9DB-463D-A461-098721D72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F9F4F-0747-41C8-8015-C158CF18F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BBC800-CFE6-4B38-962A-3C22F3381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1A921B-F682-4134-85E6-3B9EA3617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EF1C4-A251-44F1-BC14-AC3E6456A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07D89F-2316-4912-8634-D79EA59E9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AA1B6-2061-496D-BA29-9B83289D3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C24171-D4DE-43B0-A0C3-8BF2CB7AD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02AD2-841E-4E13-A248-F7EE2066B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C9517F-EF22-410B-8EE6-3117D7AF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F1F4-2FC7-4F68-9389-536BE2CC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3E522-D207-47F4-B83E-A3E6B37D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3C4FA4-2022-4B0F-BE7B-126D6FA2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1A317-E450-4363-8E5F-DD02D4515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20AC07-26AF-4DCA-81C2-6C6F2A384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8F3FBE-9ACB-46E5-9D0E-76FD07C7F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A82B-FA78-4A98-913C-4CA250A2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7FA8D-FAA6-43BB-B965-DDDF7717496B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4C497-DC3C-49A4-8C41-6A9169A36B1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52BB5-CEF2-4019-8F62-B9068EADAF82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AE590-8B6E-410D-974C-622E923492D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1FB0C-4F21-49E7-B5FF-12B49BCFA74E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F5ECA-B46A-4585-A33C-893A82B0A5E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D881B-C89F-446F-9E09-6B00563E0B8A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79408-B022-4B5A-BBF1-06CB5C1E753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44623-F13D-4976-8084-2AE4E9990AF4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1A9B4-16DE-41DC-8014-AE0ACE2A42A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82D41-836D-4BFD-ADC8-9220C1934DEE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22770-31C5-4059-973E-FB352B88319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057A1-BA5E-4B8F-8801-15849427C343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638E7-756C-45EE-8812-0ABA8720C7D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5" descr="C:\Documents and Settings\Новая Тараба\Рабочий стол\г3.gif"/>
          <p:cNvPicPr/>
          <p:nvPr/>
        </p:nvPicPr>
        <p:blipFill>
          <a:blip r:embed="rId1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326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6" name="Прямоугольник 2"/>
          <p:cNvSpPr/>
          <p:nvPr/>
        </p:nvSpPr>
        <p:spPr>
          <a:xfrm>
            <a:off x="1571760" y="785880"/>
            <a:ext cx="52862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еобходим целый ряд целенаправленных мер по экологизации производства: природосберегающие технологии, обязательная экологическая экспертиза новых проектов, создание безотходных технологий замкнутого цикл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Другой мерой, направленной на улучшение взаимоотношений человека и природы, является разумное самоограничение в расходовании природных ресурсов, особенно — энергетических источников (нефть, уголь), имеющих для жизни человечества важнейшее знач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9" name="Прямоугольник 3"/>
          <p:cNvSpPr/>
          <p:nvPr/>
        </p:nvSpPr>
        <p:spPr>
          <a:xfrm>
            <a:off x="2357280" y="214200"/>
            <a:ext cx="4429440" cy="80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orbel"/>
              </a:rPr>
              <a:t>Экологическая проблема - глобальная проблема человечества, возникшая с началом индустриальной деятельности человечества и особенно обострившаяся во второй половине 20 века. Кроме индустриализации, углублению экологической проблемы способствовали ядерные испытания, проводимые в трех средах географической оболочки Зем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orbel"/>
              </a:rPr>
              <a:t>К экологической проблеме относятся: 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Corbel"/>
              </a:rPr>
              <a:t>- сокращение площади лесов в умеренном и в тропическом поясах, следствием чего является сокращение источников поступления кислорода в атмосферу; 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Corbel"/>
              </a:rPr>
              <a:t>- опустынивание территорий в результате нерациональной хозяйственной деятельности; 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Corbel"/>
              </a:rPr>
              <a:t>- уменьшение биологического разнообразия растений и животных Земли из-за разрушения среды их обитания и д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3" name="Picture 2" descr="C:\Documents and Settings\Новая Тараба\Рабочий стол\г2.jpeg"/>
          <p:cNvPicPr/>
          <p:nvPr/>
        </p:nvPicPr>
        <p:blipFill>
          <a:blip r:embed="rId1"/>
          <a:stretch/>
        </p:blipFill>
        <p:spPr>
          <a:xfrm>
            <a:off x="0" y="0"/>
            <a:ext cx="9148680" cy="6861240"/>
          </a:xfrm>
          <a:prstGeom prst="rect">
            <a:avLst/>
          </a:prstGeom>
          <a:ln w="0">
            <a:noFill/>
          </a:ln>
        </p:spPr>
      </p:pic>
      <p:sp>
        <p:nvSpPr>
          <p:cNvPr id="334" name="Прямоугольник 4"/>
          <p:cNvSpPr/>
          <p:nvPr/>
        </p:nvSpPr>
        <p:spPr>
          <a:xfrm>
            <a:off x="500040" y="336600"/>
            <a:ext cx="8143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orbel"/>
              </a:rPr>
              <a:t>Сегодня экологическую ситуацию в мире можно охарактеризовать как близкую к критической. Среди глобальных экологических проблем можно отметить следующие:</a:t>
            </a:r>
            <a:br>
              <a:rPr sz="1800"/>
            </a:br>
            <a:r>
              <a:rPr b="0" lang="ru-RU" sz="1800" spc="-1" strike="noStrike">
                <a:solidFill>
                  <a:srgbClr val="7030a0"/>
                </a:solidFill>
                <a:latin typeface="Corbel"/>
              </a:rPr>
              <a:t>- уничтожены и продолжают уничтожаться тысячи видов растений и животных;</a:t>
            </a:r>
            <a:br>
              <a:rPr sz="1800"/>
            </a:br>
            <a:r>
              <a:rPr b="0" lang="ru-RU" sz="1800" spc="-1" strike="noStrike">
                <a:solidFill>
                  <a:srgbClr val="7030a0"/>
                </a:solidFill>
                <a:latin typeface="Corbel"/>
              </a:rPr>
              <a:t>- в значительной мере истреблен лесной покров;</a:t>
            </a:r>
            <a:br>
              <a:rPr sz="1800"/>
            </a:br>
            <a:r>
              <a:rPr b="0" lang="ru-RU" sz="1800" spc="-1" strike="noStrike">
                <a:solidFill>
                  <a:srgbClr val="7030a0"/>
                </a:solidFill>
                <a:latin typeface="Corbel"/>
              </a:rPr>
              <a:t>- стремительно сокращается имеющийся запас полезных ископаемых;</a:t>
            </a:r>
            <a:br>
              <a:rPr sz="1800"/>
            </a:br>
            <a:r>
              <a:rPr b="0" lang="ru-RU" sz="1800" spc="-1" strike="noStrike">
                <a:solidFill>
                  <a:srgbClr val="7030a0"/>
                </a:solidFill>
                <a:latin typeface="Corbel"/>
              </a:rPr>
              <a:t>- мировой океан не только истощается в результате уничтожения живых организмов, но и перестает быть регулятором природных процессов;</a:t>
            </a:r>
            <a:br>
              <a:rPr sz="1800"/>
            </a:br>
            <a:r>
              <a:rPr b="0" lang="ru-RU" sz="1800" spc="-1" strike="noStrike">
                <a:solidFill>
                  <a:srgbClr val="7030a0"/>
                </a:solidFill>
                <a:latin typeface="Corbel"/>
              </a:rPr>
              <a:t>- атмосфера во многих местах загрязнена до предельно допустимых размеров, а чистый воздух становится дефицитом;</a:t>
            </a:r>
            <a:br>
              <a:rPr sz="1800"/>
            </a:br>
            <a:r>
              <a:rPr b="0" lang="ru-RU" sz="1800" spc="-1" strike="noStrike">
                <a:solidFill>
                  <a:srgbClr val="7030a0"/>
                </a:solidFill>
                <a:latin typeface="Corbel"/>
              </a:rPr>
              <a:t>- частично нарушен озоновый слой, защищающий от губительного для всего живого космического излучения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;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28240" cy="6858000"/>
          </a:xfrm>
          <a:prstGeom prst="rect">
            <a:avLst/>
          </a:prstGeom>
          <a:ln w="0">
            <a:noFill/>
          </a:ln>
        </p:spPr>
      </p:pic>
      <p:sp>
        <p:nvSpPr>
          <p:cNvPr id="338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1" name="Picture 2" descr="C:\Documents and Settings\Новая Тараба\Рабочий стол\г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2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4" name="Picture 3" descr="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910560"/>
          </a:xfrm>
          <a:prstGeom prst="rect">
            <a:avLst/>
          </a:prstGeom>
          <a:ln w="0">
            <a:noFill/>
          </a:ln>
        </p:spPr>
      </p:pic>
      <p:sp>
        <p:nvSpPr>
          <p:cNvPr id="345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7" name="Picture 2" descr=""/>
          <p:cNvPicPr/>
          <p:nvPr/>
        </p:nvPicPr>
        <p:blipFill>
          <a:blip r:embed="rId1"/>
          <a:stretch/>
        </p:blipFill>
        <p:spPr>
          <a:xfrm>
            <a:off x="0" y="-4140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348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985080"/>
          </a:xfrm>
          <a:prstGeom prst="rect">
            <a:avLst/>
          </a:prstGeom>
          <a:ln w="0">
            <a:noFill/>
          </a:ln>
        </p:spPr>
      </p:pic>
      <p:sp>
        <p:nvSpPr>
          <p:cNvPr id="351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>
            <a:off x="0" y="-6048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353" name="Прямоугольник 2"/>
          <p:cNvSpPr/>
          <p:nvPr/>
        </p:nvSpPr>
        <p:spPr>
          <a:xfrm>
            <a:off x="1357200" y="1779480"/>
            <a:ext cx="77868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rbel"/>
              </a:rPr>
              <a:t>Ныне межгосударственные формы сотрудничества выходят на качественно новый уровень. Заключаются международные конвенции по охране окружающей среды (квоты по вылову рыб, запрет на промысел китов и др.), осуществляются самые различные совместные разработки и программы. Активизировалась деятельность общественных организаций по защите окружающей среды — «зеленые» («Гринпис»). Экологический интернационал Зеленого Креста и Зеленого Полумесяца в настоящее время разрабатывает программу по решению проблемы «озоновых дыр» в атмосфере Земли. Однако следует признать, что при весьма различном уровне социально-политического развития государств мира международное сотрудничество в экологической сфере еще весьма далеко от своего совершенства.</a:t>
            </a:r>
            <a:br>
              <a:rPr sz="1800"/>
            </a:br>
            <a:r>
              <a:rPr b="0" lang="ru-RU" sz="1800" spc="-1" strike="noStrike">
                <a:solidFill>
                  <a:srgbClr val="ff0000"/>
                </a:solidFill>
                <a:latin typeface="Corbel"/>
              </a:rPr>
              <a:t>Еще одним направлением для решения экологической проблемы, и может быть в перспективе — самым важным из всех, является формирование в обществе экологического сознания, понимания людьми природы как другого живого существа, над которым нельзя властвовать без ущерба для него и себя. Экологическое обучение и воспитание в обществе должны быть поставлены на государственный уровень, проводиться с раннего дет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05:11:21Z</dcterms:created>
  <dc:creator>Новая Тараба</dc:creator>
  <dc:description/>
  <dc:language>en-US</dc:language>
  <cp:lastModifiedBy>LEGION</cp:lastModifiedBy>
  <dcterms:modified xsi:type="dcterms:W3CDTF">2015-05-06T08:16:21Z</dcterms:modified>
  <cp:revision>19</cp:revision>
  <dc:subject/>
  <dc:title>Загрязнение окружающей среды</dc:title>
</cp:coreProperties>
</file>