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7916-B10A-4F89-96EB-768352BA9F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полнила: Шаповалова Дарь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7357-33C5-4D01-BFC4-88D250553A27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46BF-D9B0-4C3B-B440-E9104382955B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глобальны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E9AA-E1AD-42C4-8A44-D9C97288BA67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561C-86F0-4C33-AF48-C60119C00EC9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1F48-AC97-4A85-AB4A-92775232AE38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954D-7270-46DA-A36E-E093E9623765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076-49F6-459F-8EAD-224569FEEFDA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8F6D-D9F9-4AA0-A5E5-7D9261A5F620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BB23-93D1-4A0F-807E-A1A5D4DA2188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е задумываемся каждый день о мировых пробл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046B-A0D4-4FE3-A6F5-17CC841D782B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A8F-5333-4C94-A0AC-9212AB70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A0E-FF3E-48CE-A5C5-63D89A89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F6E-0413-48DD-A765-186CEF9F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17F-AAEF-47AA-A139-8A900EFA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E719-70E8-49FD-9BEE-32E7908C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94F9-FC40-4DF1-8D5C-BCF645FD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3D81-57B7-4383-A802-95763C35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DE11-AA96-4583-A09D-842FA845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EC85-7AE3-4090-B5EA-09B82D5A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BB81-863A-426C-8C23-67A0957A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A187-70A9-4C1D-988F-B2F069D8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EA3-58C3-4A40-8735-A0D6D36A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75EB-3E27-4DD9-9BB4-77C6CCCB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321E-3171-4D87-8D46-AB332C2B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3092-64F9-4D18-93E1-1B07C495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ADAF-099F-4FCB-802F-E3275F8E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63FA-442C-41D8-8E7F-83E50EE7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EFC-F0A8-41B9-B01B-D9DF9C08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EEF-1C38-4E8C-9398-94B04E68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03D-FCA8-4A89-BB2E-02D78820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6F8-6C73-4DC0-B760-5C7D0BF7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2B8-7FBA-40BC-B3ED-B268DF9F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2A9-E083-4336-856A-544C4397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BB8-F814-49A8-A3D0-6DF8D80F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E9AC-6A67-4E51-A92F-AAC0AF090E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86DC-BB5A-40AC-9A5D-B2B43EDE3157}" type="slidenum">
              <a:rPr b="0" lang="ru-RU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0000" y="5661000"/>
            <a:ext cx="335304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Выполнила: Шаповалова Дарья.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ассмотрим модель взаимосвязи глобальных проблем"/>
          <p:cNvPicPr/>
          <p:nvPr/>
        </p:nvPicPr>
        <p:blipFill>
          <a:blip r:embed="rId1"/>
          <a:stretch/>
        </p:blipFill>
        <p:spPr>
          <a:xfrm>
            <a:off x="1476360" y="620640"/>
            <a:ext cx="7345440" cy="5259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ешение проблем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Что такое глобальны проблемы?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404280"/>
            <a:ext cx="75801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47280" y="47592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00200" y="47628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00200" y="69228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6237360"/>
            <a:ext cx="45356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5ff"/>
                </a:solidFill>
                <a:latin typeface="Arial"/>
              </a:rPr>
              <a:t>Взаимосвязь глобальных проблем</a:t>
            </a: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pic>
        <p:nvPicPr>
          <p:cNvPr id="107" name="Picture 4" descr="взаимосвязь глобальных проблем"/>
          <p:cNvPicPr/>
          <p:nvPr/>
        </p:nvPicPr>
        <p:blipFill>
          <a:blip r:embed="rId1"/>
          <a:stretch/>
        </p:blipFill>
        <p:spPr>
          <a:xfrm>
            <a:off x="684360" y="404640"/>
            <a:ext cx="7943760" cy="5810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Мы не задумываемся каждый день о мировых проблемах</a:t>
            </a:r>
            <a:endParaRPr b="0" lang="en-US" sz="1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0" name="Picture 4" descr="Мы не задумываемся каждый день о мировых проблемах"/>
          <p:cNvPicPr/>
          <p:nvPr/>
        </p:nvPicPr>
        <p:blipFill>
          <a:blip r:embed="rId1"/>
          <a:stretch/>
        </p:blipFill>
        <p:spPr>
          <a:xfrm>
            <a:off x="2843280" y="1557360"/>
            <a:ext cx="3970440" cy="482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0:01:27Z</dcterms:created>
  <dc:creator>USER</dc:creator>
  <dc:description/>
  <dc:language>en-US</dc:language>
  <cp:lastModifiedBy>LEGION</cp:lastModifiedBy>
  <dcterms:modified xsi:type="dcterms:W3CDTF">2015-05-06T08:16:42Z</dcterms:modified>
  <cp:revision>4</cp:revision>
  <dc:subject/>
  <dc:title>Взаимосвязь глобальных проблем. Преодоление отсталости развивающихся стран – крупнейшая общемировая проблем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72120</vt:lpwstr>
  </property>
  <property fmtid="{D5CDD505-2E9C-101B-9397-08002B2CF9AE}" pid="7" name="AssetType">
    <vt:lpwstr>TP</vt:lpwstr>
  </property>
  <property fmtid="{D5CDD505-2E9C-101B-9397-08002B2CF9AE}" pid="8" name="AuthoringAssetId">
    <vt:lpwstr>TP00107212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false</vt:lpwstr>
  </property>
  <property fmtid="{D5CDD505-2E9C-101B-9397-08002B2CF9AE}" pid="15" name="IsSearchable">
    <vt:lpwstr>false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true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Blue and green ball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Slide 1</vt:lpwstr>
  </property>
  <property fmtid="{D5CDD505-2E9C-101B-9397-08002B2CF9AE}" pid="33" name="TPInstallLocation">
    <vt:lpwstr>{My Templates}</vt:lpwstr>
  </property>
  <property fmtid="{D5CDD505-2E9C-101B-9397-08002B2CF9AE}" pid="34" name="TPNamespace">
    <vt:lpwstr>POWERPNT</vt:lpwstr>
  </property>
  <property fmtid="{D5CDD505-2E9C-101B-9397-08002B2CF9AE}" pid="35" name="Title">
    <vt:lpwstr>Blue and green balls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Comments">
    <vt:lpwstr/>
  </property>
  <property fmtid="{D5CDD505-2E9C-101B-9397-08002B2CF9AE}" pid="39" name="UALocRecommendation">
    <vt:lpwstr>Localize</vt:lpwstr>
  </property>
  <property fmtid="{D5CDD505-2E9C-101B-9397-08002B2CF9AE}" pid="40" name="UANotes">
    <vt:lpwstr>429034L. June 2003 retrofit</vt:lpwstr>
  </property>
  <property fmtid="{D5CDD505-2E9C-101B-9397-08002B2CF9AE}" pid="41" name="Version">
    <vt:r8>2</vt:r8>
  </property>
</Properties>
</file>