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5751-38A5-41A7-B8A5-34E659B09E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полнила: Шаповалова Дарь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10ED-65BC-4138-85C5-B4ECB9729E96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068F-7325-47E0-93A5-C3946F941AE9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глобальны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2872-2219-45E0-8705-8B2E359F39AE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13BB-883F-475D-8B06-E46462374B64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9E99-D3F8-457D-BFA5-93CA2F5BB9D6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A66C-4B84-4FFF-A10B-096C08E69715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C988-61D7-425F-B810-69B24021F70D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FC49-9476-4640-A26C-53BFECD5EFFE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A594-0C01-4ABC-A31A-6B0EA3FD935E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е задумываемся каждый день о мировых пробл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E618-4765-4BA1-B879-72F79F1E7C71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BEF-75CB-4F8A-A7F2-8190744B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640-0013-46A5-BCF7-14707A5A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711-AF00-4ABD-B9CB-0F78E911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CDA-2D4F-4960-B831-783246A9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50D3-2267-4DA0-B432-202A9182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A2FA-B044-4E12-94B4-191F4D84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4A9A-D35C-47CC-A167-1D2170C7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A31D-A698-470E-9F30-3B129F85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75D9-44E2-461D-A0ED-A6C423D8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2BC5-4CE0-40DC-BE17-5BC80058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C9CB-5D6D-4867-A9CC-E3C53CE4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A5B-9F9E-4880-AB3F-789F552B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5BEF-A096-44C9-B7EC-84ECD721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4EBC-455E-40E6-AB67-E2AE3B3A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8B88-2299-4CAA-8419-5962716C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EB50-2E40-4E63-B7F9-BA47A9F9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EC7A-819A-4A18-AE98-7E79874E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871-12CB-4E93-9CBE-D716B0C8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40B-3AF1-4B38-9816-8E90181D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CDF-62DB-439B-AD6B-7B69360D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2F4-141F-4817-A9B8-159B9119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9D2-AAC4-4E8D-8698-26810AC0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87C-C1CC-4F39-B1F4-BB99BB64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A43-923E-4226-94FE-189915CE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83B0-3933-4F0A-B522-AB90AC62B3A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E4D8-ACB5-4335-996D-6F3054C43C4E}" type="slidenum">
              <a:rPr b="0" lang="ru-RU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0872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580000" y="5661000"/>
            <a:ext cx="335304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Выполнила: Шаповалова Дарья.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Рассмотрим модель взаимосвязи глобальных проблем"/>
          <p:cNvPicPr/>
          <p:nvPr/>
        </p:nvPicPr>
        <p:blipFill>
          <a:blip r:embed="rId1"/>
          <a:stretch/>
        </p:blipFill>
        <p:spPr>
          <a:xfrm>
            <a:off x="1476360" y="620640"/>
            <a:ext cx="7345440" cy="5259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ешение проблем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Что такое глобальны проблемы?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58920" y="404280"/>
            <a:ext cx="75801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47280" y="47592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00200" y="47628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00200" y="69228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6237360"/>
            <a:ext cx="45356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5ff"/>
                </a:solidFill>
                <a:latin typeface="Arial"/>
              </a:rPr>
              <a:t>Взаимосвязь глобальных проблем</a:t>
            </a: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pic>
        <p:nvPicPr>
          <p:cNvPr id="107" name="Picture 4" descr="взаимосвязь глобальных проблем"/>
          <p:cNvPicPr/>
          <p:nvPr/>
        </p:nvPicPr>
        <p:blipFill>
          <a:blip r:embed="rId1"/>
          <a:stretch/>
        </p:blipFill>
        <p:spPr>
          <a:xfrm>
            <a:off x="684360" y="404640"/>
            <a:ext cx="7943760" cy="5810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Мы не задумываемся каждый день о мировых проблемах</a:t>
            </a:r>
            <a:endParaRPr b="0" lang="en-US" sz="1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0" name="Picture 4" descr="Мы не задумываемся каждый день о мировых проблемах"/>
          <p:cNvPicPr/>
          <p:nvPr/>
        </p:nvPicPr>
        <p:blipFill>
          <a:blip r:embed="rId1"/>
          <a:stretch/>
        </p:blipFill>
        <p:spPr>
          <a:xfrm>
            <a:off x="2843280" y="1557360"/>
            <a:ext cx="3970440" cy="482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0:01:27Z</dcterms:created>
  <dc:creator>USER</dc:creator>
  <dc:description/>
  <dc:language>en-US</dc:language>
  <cp:lastModifiedBy>LEGION</cp:lastModifiedBy>
  <dcterms:modified xsi:type="dcterms:W3CDTF">2015-05-06T08:16:42Z</dcterms:modified>
  <cp:revision>4</cp:revision>
  <dc:subject/>
  <dc:title>Взаимосвязь глобальных проблем. Преодоление отсталости развивающихся стран – крупнейшая общемировая проблем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72120</vt:lpwstr>
  </property>
  <property fmtid="{D5CDD505-2E9C-101B-9397-08002B2CF9AE}" pid="7" name="AssetType">
    <vt:lpwstr>TP</vt:lpwstr>
  </property>
  <property fmtid="{D5CDD505-2E9C-101B-9397-08002B2CF9AE}" pid="8" name="AuthoringAssetId">
    <vt:lpwstr>TP00107212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false</vt:lpwstr>
  </property>
  <property fmtid="{D5CDD505-2E9C-101B-9397-08002B2CF9AE}" pid="15" name="IsSearchable">
    <vt:lpwstr>false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true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Blue and green ball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Slide 1</vt:lpwstr>
  </property>
  <property fmtid="{D5CDD505-2E9C-101B-9397-08002B2CF9AE}" pid="33" name="TPInstallLocation">
    <vt:lpwstr>{My Templates}</vt:lpwstr>
  </property>
  <property fmtid="{D5CDD505-2E9C-101B-9397-08002B2CF9AE}" pid="34" name="TPNamespace">
    <vt:lpwstr>POWERPNT</vt:lpwstr>
  </property>
  <property fmtid="{D5CDD505-2E9C-101B-9397-08002B2CF9AE}" pid="35" name="Title">
    <vt:lpwstr>Blue and green balls design template</vt:lpwstr>
  </property>
  <property fmtid="{D5CDD505-2E9C-101B-9397-08002B2CF9AE}" pid="36" name="TrustLevel">
    <vt:lpwstr>Microsoft Managed Content</vt:lpwstr>
  </property>
  <property fmtid="{D5CDD505-2E9C-101B-9397-08002B2CF9AE}" pid="37" name="UACurrentWords">
    <vt:lpwstr>0</vt:lpwstr>
  </property>
  <property fmtid="{D5CDD505-2E9C-101B-9397-08002B2CF9AE}" pid="38" name="UALocComments">
    <vt:lpwstr/>
  </property>
  <property fmtid="{D5CDD505-2E9C-101B-9397-08002B2CF9AE}" pid="39" name="UALocRecommendation">
    <vt:lpwstr>Localize</vt:lpwstr>
  </property>
  <property fmtid="{D5CDD505-2E9C-101B-9397-08002B2CF9AE}" pid="40" name="UANotes">
    <vt:lpwstr>429034L. June 2003 retrofit</vt:lpwstr>
  </property>
  <property fmtid="{D5CDD505-2E9C-101B-9397-08002B2CF9AE}" pid="41" name="Version">
    <vt:r8>2</vt:r8>
  </property>
</Properties>
</file>