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0F47-78C9-424B-8C9C-87F8AC9A855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ь глобальных проблем. Преодоление отсталости развивающихся стран – крупнейшая общемиров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полнила: Шаповалова Дарь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2043-2A74-4DED-83C8-8AA79EF2C68B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пути решения заключаются в проведение коренных социально – экономических преобразований во всех сферах жизни и деятельности этих стран, в развитии научно – технического  прогресса, международного сотрудничества, в демилитар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2DB6-4DB4-4DDE-AC85-B60F696319D3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глобальны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из определений  относит  к  глобальным  "проблемы,  возникающие  в результате  объективного   развития   общества,   создающие   угрозы   всему человечеству и  требующие  для  своего  решения  объединенных  усилий  всего мирового сообщества"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BECD-B607-4816-A6B9-873BA612E58C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сть этого определения зависит от того, какие проблемы относить к глобальным. Если это  узкий  круг  высших,  планетарных  проблем,  то  оно вполне соответствует истине. Если  же  добавить  сюда  такие  проблемы,  как стихийные бедствия (она глобальна лишь в  смысле  возможности  проявления  в регионе), тогда это определение оказывается узким, ограничивающим, в  чем  и состоит его смыс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0A80-3695-4323-A90A-84D9FB902CCE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ь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видели, каждая из глобальных проблем человечества имеет свое конкретное содержание. Но все они тесно взаимосвязаны: энергетическая и сырьевая с экологической, экологическая с демографической, демографическая с продовольственной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B3B6-04BB-4AC2-B4E1-3A4E582E5CE8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предотвращения новой мировой войны непосредственно затрагивает и все остальные проблемы. Однако теперь, когда начался переход от экономики вооружения к экономике разоружения, центр тяжести большинства глобальных проблем все больше перемещается в страны развивающегося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36BC-2047-41C0-AAA6-B68CA7A26470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асштабы их отсталости поистине огромны. Главное проявление и одновременно причина этой отсталости — бедность, нищета. В странах Азии, Африки и Латинской Америки в условиях абсолютной нищеты обитает 40% населения. Жители городских трущоб и сельской глубинки вынуждены довольствоваться жизненным уровнем, составляющим 5—10% от уровня жизни в наиболее богатых странах. Да и в целом разрыв в уровнях жизни между Севером и Югом составляет примерно 20: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AA23-44B7-4A82-B3F5-0BCCAEE9BCF5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луй, наиболее драматический, даже катастрофический, характер приобрела в развивающихся странах продовольственная проблема. Конечно, голод и недоедание существуют в мире начиная с самых истоков развития человечества. Уже в 19-20 вв. многие миллионы жизней унесли вспышки голода в Китае, Индии, Ирландии, во многих странах Африки и в Советском Союзе. Но существование голода в эпоху НТР и перепроизводства продовольствия в экономически развитых странах Запада — это поистине один из парадоксов нашего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FBE9-B121-49E1-9F5F-C629956AE58D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ь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8072-183D-40D5-96FC-A5810C9DBF42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не задумываемся каждый день о мировых пробл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391F-4362-462D-969E-0A207EF54231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5C36-F766-4D21-9183-ABD8CEBC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D31B-981F-46EC-8B92-1D3E48CA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27C4-8D48-4412-B85F-470D3C95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784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548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784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548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6A2-D7DA-4BE6-89EF-BD9F580A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EBF7-25C0-4B3E-AADC-3AE40BE0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69F3-0330-4A5A-9993-CA17479F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D633-B6F4-43FA-B599-3D6E324C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ABF3-7594-4C8D-B621-C89C2292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C980-0C68-465E-8394-42FD9313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AF67-110C-448B-B809-EF93E33D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D05B-5861-442A-AE31-D97C4576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DAA9-F2D7-4E78-8AD3-7A8720D1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62B7-1469-4B41-8092-8F6DC39C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C98D-1269-46E1-8959-95E7E64D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4027-1FED-4843-8CAA-C49AB220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ADE7-CCEC-477F-A5DB-8917F8D6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784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548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020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784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548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C280-5237-4EE6-B8D9-1D35DA6D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36C1-0255-41BF-8EB9-E05C72CD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C0F-A875-4D7B-8894-82CA7007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3424-9DA7-4EC2-8C2E-73F40729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491F-199E-4EAE-AF7D-70585960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B72B-BCB5-4412-9DA7-4B02AAE7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2A81-01A6-4AD1-8E38-629C8008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9AD9-1219-426A-A93F-2A2CD434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1FA8-ADE4-4CDD-BD12-673BE47C0EB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95E6-3AAA-42BB-A2D3-41C4194D93B7}" type="slidenum">
              <a:rPr b="0" lang="ru-RU" sz="1000" spc="-1" strike="noStrike">
                <a:solidFill>
                  <a:srgbClr val="ebf5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0872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заимосвязь глобальных проблем. Преодоление отсталости развивающихся стран – крупнейшая общемировая проблема.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580000" y="5661000"/>
            <a:ext cx="335304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5ff"/>
                </a:solidFill>
                <a:latin typeface="Arial"/>
              </a:rPr>
              <a:t>Выполнила: Шаповалова Дарья.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Рассмотрим модель взаимосвязи глобальных проблем"/>
          <p:cNvPicPr/>
          <p:nvPr/>
        </p:nvPicPr>
        <p:blipFill>
          <a:blip r:embed="rId1"/>
          <a:stretch/>
        </p:blipFill>
        <p:spPr>
          <a:xfrm>
            <a:off x="1476360" y="620640"/>
            <a:ext cx="7345440" cy="52596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Решение проблем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Главные пути решения заключаются в проведение коренных социально – экономических преобразований во всех сферах жизни и деятельности этих стран, в развитии научно – технического  прогресса, международного сотрудничества, в демилитаризации.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 Black"/>
              </a:rPr>
              <a:t>Что такое глобальны проблемы?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Одно из определений  относит  к  глобальным  "проблемы,  возникающие  в результате  объективного   развития   общества,   создающие   угрозы   всему человечеству и  требующие  для  своего  решения  объединенных  усилий  всего мирового сообщества"1. 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258920" y="404280"/>
            <a:ext cx="75801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5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bf5ff"/>
                </a:solidFill>
                <a:latin typeface="Arial"/>
              </a:rPr>
              <a:t>Правильность этого определения зависит от того, какие проблемы относить к глобальным. Если это  узкий  круг  высших,  планетарных  проблем,  то  оно вполне соответствует истине. Если  же  добавить  сюда  такие  проблемы,  как стихийные бедствия (она глобальна лишь в  смысле  возможности  проявления  в регионе), тогда это определение оказывается узким, ограничивающим, в  чем  и состоит его смысл. 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 Black"/>
              </a:rPr>
              <a:t>Взаимосвязь глобальных проблем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Как вы видели, каждая из глобальных проблем человечества имеет свое конкретное содержание. Но все они тесно взаимосвязаны: энергетическая и сырьевая с экологической, экологическая с демографической, демографическая с продовольственной и т. д. 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47280" y="475920"/>
            <a:ext cx="7239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Проблема предотвращения новой мировой войны непосредственно затрагивает и все остальные проблемы. Однако теперь, когда начался переход от экономики вооружения к экономике разоружения, центр тяжести большинства глобальных проблем все больше перемещается в страны развивающегося мира. 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600200" y="476280"/>
            <a:ext cx="72388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5ff"/>
                </a:solidFill>
                <a:latin typeface="Arial"/>
              </a:rPr>
              <a:t>. Масштабы их отсталости поистине огромны. Главное проявление и одновременно причина этой отсталости — бедность, нищета. В странах Азии, Африки и Латинской Америки в условиях абсолютной нищеты обитает 40% населения. Жители городских трущоб и сельской глубинки вынуждены довольствоваться жизненным уровнем, составляющим 5—10% от уровня жизни в наиболее богатых странах. Да и в целом разрыв в уровнях жизни между Севером и Югом составляет примерно 20:1.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600200" y="692280"/>
            <a:ext cx="7238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5ff"/>
                </a:solidFill>
                <a:latin typeface="Arial"/>
              </a:rPr>
              <a:t>Пожалуй, наиболее драматический, даже катастрофический, характер приобрела в развивающихся странах продовольственная проблема. Конечно, голод и недоедание существуют в мире начиная с самых истоков развития человечества. Уже в 19-20 вв. многие миллионы жизней унесли вспышки голода в Китае, Индии, Ирландии, во многих странах Африки и в Советском Союзе. Но существование голода в эпоху НТР и перепроизводства продовольствия в экономически развитых странах Запада — это поистине один из парадоксов нашего времени. 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68000" y="6237360"/>
            <a:ext cx="453564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5ff"/>
                </a:solidFill>
                <a:latin typeface="Arial"/>
              </a:rPr>
              <a:t>Взаимосвязь глобальных проблем</a:t>
            </a:r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pic>
        <p:nvPicPr>
          <p:cNvPr id="107" name="Picture 4" descr="взаимосвязь глобальных проблем"/>
          <p:cNvPicPr/>
          <p:nvPr/>
        </p:nvPicPr>
        <p:blipFill>
          <a:blip r:embed="rId1"/>
          <a:stretch/>
        </p:blipFill>
        <p:spPr>
          <a:xfrm>
            <a:off x="684360" y="404640"/>
            <a:ext cx="7943760" cy="58104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 Black"/>
              </a:rPr>
              <a:t>Мы не задумываемся каждый день о мировых проблемах</a:t>
            </a:r>
            <a:endParaRPr b="0" lang="en-US" sz="18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10" name="Picture 4" descr="Мы не задумываемся каждый день о мировых проблемах"/>
          <p:cNvPicPr/>
          <p:nvPr/>
        </p:nvPicPr>
        <p:blipFill>
          <a:blip r:embed="rId1"/>
          <a:stretch/>
        </p:blipFill>
        <p:spPr>
          <a:xfrm>
            <a:off x="2843280" y="1557360"/>
            <a:ext cx="3970440" cy="4824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0:01:27Z</dcterms:created>
  <dc:creator>USER</dc:creator>
  <dc:description/>
  <dc:language>en-US</dc:language>
  <cp:lastModifiedBy>LEGION</cp:lastModifiedBy>
  <dcterms:modified xsi:type="dcterms:W3CDTF">2015-05-06T08:16:42Z</dcterms:modified>
  <cp:revision>4</cp:revision>
  <dc:subject/>
  <dc:title>Взаимосвязь глобальных проблем. Преодоление отсталости развивающихся стран – крупнейшая общемировая проблем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TrustLevel">
    <vt:lpwstr>1.00000000000000</vt:lpwstr>
  </property>
  <property fmtid="{D5CDD505-2E9C-101B-9397-08002B2CF9AE}" pid="5" name="Applications">
    <vt:lpwstr>172;#Office 2000;#-1;#TBD;#-1;#TBD;#-1;#TBD;#-1;#TBD;#-1;#TBD;#-1;#TBD</vt:lpwstr>
  </property>
  <property fmtid="{D5CDD505-2E9C-101B-9397-08002B2CF9AE}" pid="6" name="AssetId">
    <vt:lpwstr>TS001072120</vt:lpwstr>
  </property>
  <property fmtid="{D5CDD505-2E9C-101B-9397-08002B2CF9AE}" pid="7" name="AssetType">
    <vt:lpwstr>TP</vt:lpwstr>
  </property>
  <property fmtid="{D5CDD505-2E9C-101B-9397-08002B2CF9AE}" pid="8" name="AuthoringAssetId">
    <vt:lpwstr>TP001072120</vt:lpwstr>
  </property>
  <property fmtid="{D5CDD505-2E9C-101B-9397-08002B2CF9AE}" pid="9" name="CHMName">
    <vt:lpwstr/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1F9DE411C1B38343BE78B0080F632418</vt:lpwstr>
  </property>
  <property fmtid="{D5CDD505-2E9C-101B-9397-08002B2CF9AE}" pid="12" name="DirectSourceMarket">
    <vt:lpwstr>english</vt:lpwstr>
  </property>
  <property fmtid="{D5CDD505-2E9C-101B-9397-08002B2CF9AE}" pid="13" name="EditorialStatus">
    <vt:lpwstr/>
  </property>
  <property fmtid="{D5CDD505-2E9C-101B-9397-08002B2CF9AE}" pid="14" name="IsDeleted">
    <vt:lpwstr>false</vt:lpwstr>
  </property>
  <property fmtid="{D5CDD505-2E9C-101B-9397-08002B2CF9AE}" pid="15" name="IsSearchable">
    <vt:lpwstr>false</vt:lpwstr>
  </property>
  <property fmtid="{D5CDD505-2E9C-101B-9397-08002B2CF9AE}" pid="16" name="LCID">
    <vt:lpwstr>1049</vt:lpwstr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true</vt:lpwstr>
  </property>
  <property fmtid="{D5CDD505-2E9C-101B-9397-08002B2CF9AE}" pid="23" name="Provider">
    <vt:lpwstr>EY006220130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Blue and green balls design template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/n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Slide 1</vt:lpwstr>
  </property>
  <property fmtid="{D5CDD505-2E9C-101B-9397-08002B2CF9AE}" pid="33" name="TPInstallLocation">
    <vt:lpwstr>{My Templates}</vt:lpwstr>
  </property>
  <property fmtid="{D5CDD505-2E9C-101B-9397-08002B2CF9AE}" pid="34" name="TPNamespace">
    <vt:lpwstr>POWERPNT</vt:lpwstr>
  </property>
  <property fmtid="{D5CDD505-2E9C-101B-9397-08002B2CF9AE}" pid="35" name="Title">
    <vt:lpwstr>Blue and green balls design template</vt:lpwstr>
  </property>
  <property fmtid="{D5CDD505-2E9C-101B-9397-08002B2CF9AE}" pid="36" name="TrustLevel">
    <vt:lpwstr>Microsoft Managed Content</vt:lpwstr>
  </property>
  <property fmtid="{D5CDD505-2E9C-101B-9397-08002B2CF9AE}" pid="37" name="UACurrentWords">
    <vt:lpwstr>0</vt:lpwstr>
  </property>
  <property fmtid="{D5CDD505-2E9C-101B-9397-08002B2CF9AE}" pid="38" name="UALocComments">
    <vt:lpwstr/>
  </property>
  <property fmtid="{D5CDD505-2E9C-101B-9397-08002B2CF9AE}" pid="39" name="UALocRecommendation">
    <vt:lpwstr>Localize</vt:lpwstr>
  </property>
  <property fmtid="{D5CDD505-2E9C-101B-9397-08002B2CF9AE}" pid="40" name="UANotes">
    <vt:lpwstr>429034L. June 2003 retrofit</vt:lpwstr>
  </property>
  <property fmtid="{D5CDD505-2E9C-101B-9397-08002B2CF9AE}" pid="41" name="Version">
    <vt:r8>2</vt:r8>
  </property>
</Properties>
</file>