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F2AF-2EAA-45C7-834C-CB33EA32B3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5fa16"/>
                </a:solidFill>
                <a:latin typeface="Arial"/>
                <a:ea typeface="Arial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E69B-E0A7-4F40-A92B-BA579037D4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сновные мо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 окружающая сре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 современности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уго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EE9F-074A-40E6-A6A4-3DAF55ED7A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еловек и окружающая среда</a:t>
            </a: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история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                                      взаимодейств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стороны ни смотри, но говорить о том, что в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ьезные изменения, произошедшие в природной ср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ремя существования планеты, - дело рук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бы верхом самоуверенности. Никто сегодня не бу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ить с тем, что воздействие человека на прир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на фоне естественных изменений, масшта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порой бывают очень значитель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за последние десятки тысячелетий одним из глав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одобных фоновых перестроек ландшафтов бы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существование гигантских ледников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ах Северной Евразии и Северной Амер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екло за собой серьезные климатическ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по всей Земле. Исследователи также отме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определенных циклов для этих самых перестро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B4F9-1ED2-4CD2-AEB6-2B164C8BB1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Природа парникового эфф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6CE8-DECF-4446-95C7-9815A229D5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парникового эфф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щё в </a:t>
            </a:r>
            <a:r>
              <a:rPr b="0" lang="ru-RU" sz="1200" spc="-1" strike="noStrike">
                <a:solidFill>
                  <a:srgbClr val="800000"/>
                </a:solidFill>
                <a:latin typeface="Verdana"/>
              </a:rPr>
              <a:t>1827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году французский физик Жозеф Фур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ожил, что атмосфера земли выпол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ариться обратно в космос. Этот эффек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сходило, Земля была бы примерно на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ктически за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8446-2689-4478-89CA-3E68B83FD9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центрации парниковых газов в атм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х океанов и нарушит устойчивые т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ркуляции и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лабление озонового слоя усиливает пото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числа раковых образований кож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тения и живот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780D-B8DC-4A38-BEFE-51F843F1D5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и экологических пробл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вызо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аяние ль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днятие уровня Мирового океана на 1 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топление многих прибрежных райо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ущественное изменение влагообмена на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и, количества осадков и направления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тметил В.Вернадский, обрело такую мощ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5D96-60EF-4E15-BBBE-9D53DA4FB3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255-7082-47A7-BC4E-A375828F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BF1-771E-4A8B-8194-B510AF89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2D0-0CF3-4CBC-89DA-363B3968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DDD-C4DD-42EC-B921-CFEC436C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82F7-72A1-40C4-AE02-EF103DC2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FC98-C188-47D3-896F-E31F00D8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E06F-BB57-4204-B75E-D0F7A5E5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F097-0F7A-4F14-97EC-4F642FA2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FBC9-EC22-42E9-B844-159F6BC8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1B7C-83FE-412B-92A6-7A938DFF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5E04-6AC2-42A2-A746-BC3FCC7A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57D-F15A-4E2A-87A8-BD2DC7BE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CC1D-24EE-4F51-8836-E5BF6534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7345-F999-4642-B0DA-826F3AB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602F-A0E2-42BA-9220-3FC2C75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9550-7D35-4B55-B5DE-F24FE809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FD9A-C2A0-420E-A962-7E8C86D0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4B2-DE28-4D8E-8113-78639EDC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908-506B-4445-BEFA-90CDBC11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836-5032-4C0F-8814-29A5FAD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5C3-418E-40BE-814F-B7B983BF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D26-4ED7-4826-B44B-199345B9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E4E2-5498-4C54-AF13-713B543C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96C-69BA-4065-B94B-8F21A5B5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CCFE-2C82-4B04-834E-A3ED5CAE41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DBE0-4AF1-4FB1-816A-4C5DE9B3F89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R_Earth_Radian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2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71600" y="1371600"/>
            <a:ext cx="624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5fa1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ческие проблемы</a:t>
            </a:r>
            <a:endParaRPr b="0" lang="en-US" sz="1800" spc="1" strike="noStrike">
              <a:ln w="0">
                <a:noFill/>
              </a:ln>
              <a:solidFill>
                <a:srgbClr val="f5fa1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0574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андеев Юрий (11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сновные моме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и окружающая сре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ые экологические проблемы современности такие к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никовый эффе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оновые ды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уго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еловек и окружающая сред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рия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взаимодействия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акой стороны ни смотри, но говорить о том, что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ьезные изменения, произошедшие в природной сре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существования планеты, - дело рук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бы верхом самоуверенности. Никто сегодня не буд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рить с тем, что воздействие человека на прир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на фоне естественных изменений, масшта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ых порой бывают очень значитель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за последние десятки тысячелетий одним из гла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кторов подобных фоновых перестроек ландшафтов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существование гигантских ледников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ранствах Северной Евразии и Северной Амер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екло за собой серьезные климатические из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по всей Земле. Исследователи также отмеч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пределенных циклов для этих самых перестро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ирода парникового эффект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4" descr="Рис. 1. Тепловое излучение поверхности Земли и атмосферное поглощение в ИК-диапазон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523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479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епловое излучение поверхности Земли и атмосферное поглощение в ИК - диапаз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рода парникового эффек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04440" y="1484280"/>
            <a:ext cx="64414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ё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827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году французский физик Жозеф Фур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ил, что атмосфера земли выполня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ариться обратно в космос. Этот эффе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исходило, Земля была бы примерно на 3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и замер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8600" y="304920"/>
            <a:ext cx="6324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центрации парниковых газов в атмосфер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овых океанов и нарушит устойчивые ти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циркуляции и пог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40120" y="2590920"/>
            <a:ext cx="440388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 rot="3498000">
            <a:off x="5714280" y="114264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3048120"/>
            <a:ext cx="354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лабление озонового слоя усиливает по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т числа раковых образований к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тения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11228400">
            <a:off x="3903840" y="38862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выз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Таяние ль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однятие уровня Мирового океана на 1 ме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Затопление многих прибрежных район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Существенное изменение влагообмена на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, количества осадков и направления в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10640" y="4419720"/>
            <a:ext cx="6419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отметил В.Вернадский, обрело такую 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цел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Итоги экологических пробле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8" descr="i?id=40540036-01"/>
          <p:cNvPicPr/>
          <p:nvPr/>
        </p:nvPicPr>
        <p:blipFill>
          <a:blip r:embed="rId1"/>
          <a:stretch/>
        </p:blipFill>
        <p:spPr>
          <a:xfrm>
            <a:off x="380880" y="3886200"/>
            <a:ext cx="1710000" cy="2419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