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74D0-E03D-4C59-89E9-EB5545E294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5fa16"/>
                </a:solidFill>
                <a:latin typeface="Arial"/>
                <a:ea typeface="Arial"/>
              </a:rPr>
              <a:t>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FA22-FF3F-4FCB-A73E-4E41EBC975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сновные мо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и окружающая сре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экологические проблемы современности такие ка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никовый эффе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оновые ды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руго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1046-00AC-4F73-AA2B-9F9D0DC8A7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еловек и окружающая среда</a:t>
            </a:r>
            <a:r>
              <a:rPr b="1" lang="en-US" sz="1400" spc="-1" strike="noStrike">
                <a:solidFill>
                  <a:srgbClr val="800000"/>
                </a:solidFill>
                <a:latin typeface="Calibri"/>
              </a:rPr>
              <a:t>,</a:t>
            </a: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 история 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                                       взаимодейств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й стороны ни смотри, но говорить о том, что в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ьезные изменения, произошедшие в природной сре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время существования планеты, - дело рук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бы верхом самоуверенности. Никто сегодня не буд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ить с тем, что воздействие человека на приро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на фоне естественных изменений, масшта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х порой бывают очень значитель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за последние десятки тысячелетий одним из глав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одобных фоновых перестроек ландшафтов бы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существование гигантских ледников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ах Северной Евразии и Северной Амер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екло за собой серьезные климатические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по всей Земле. Исследователи также отмеч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определенных циклов для этих самых перестро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2330-73E8-4FE9-9365-4FBD3C8A4A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Природа парникового эфф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E9AD-7F78-4C26-A360-0D0ED77020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парникового эфф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щё в </a:t>
            </a:r>
            <a:r>
              <a:rPr b="0" lang="ru-RU" sz="1200" spc="-1" strike="noStrike">
                <a:solidFill>
                  <a:srgbClr val="800000"/>
                </a:solidFill>
                <a:latin typeface="Verdana"/>
              </a:rPr>
              <a:t>1827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году французский физик Жозеф Фурь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оложил, что атмосфера земли выпол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ункцию своего рода стекла в теплице: возду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пускает солнечное тепло, не давая ему при э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париться обратно в космос. Этот эффек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стигается благодаря некоторым атмосферным газ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торостепенного значения, каковыми являют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водяные испарения и углекислый г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и пропускают видимый и «ближний» инфракра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ет, излучаемый солнцем, но поглощают «далекое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ракрасное излучение, имеющее более низк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стоту и образующееся при нагревании зем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верхности солнечными лучами. Если бы этого 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сходило, Земля была бы примерно на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дусов холоднее, чем сейчас, и жизнь бы на 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ктически замер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FD7B-EB0B-4639-8150-D9F3B6EA82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 человека приводит к повыш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центрации парниковых газов в атмосф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величение концентрации парниковых газов привед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 разогреву нижних слоев атмосферы и поверх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емли. Любое изменение в способности Земли отраж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поглощать тепло, в том числе вызванное увелич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держания в атмосфере тепличных газов и аэрозо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ведет к изменению температуры атмосфер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х океанов и нарушит устойчивые т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иркуляции и по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лабление озонового слоя усиливает пото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лнечной радиации на землю и вызывает у люде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ост числа раковых образований кож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же от повышенного уровня излучения страдаю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тения и животны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сохранится тенденция глобального потепле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о приведет к изменению погоды и увеличению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личества осадков, что, в свою очередь, приведе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 подъему уровня мирового океана. Количество осадков над экватором сократилась на  те же десять процентов. 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8833-EE02-4629-81BE-EAD717BF69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тоги экологических пробле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о вызо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Таяние ль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однятие уровня Мирового океана на 1 ме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топление многих прибрежных райо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ущественное изменение влагообмена на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и, количества осадков и направления ве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итоге сегодня человечество, как справедли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тметил В.Вернадский, обрело такую мощь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еобразовании окружающего мира, что оно начин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ущественно влиять на эволюцию биосферы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л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42E7-6EDB-42FE-B78F-91982A3C5B8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BAF-0FD8-4BB3-A9CC-6FF7384A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6A7A-9C26-4084-8778-08925C94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B654-9B40-422C-BD18-AE998266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608-415B-4065-872E-32E92725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0650-B9D5-4E45-9F6E-0146DDE9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0A3F-9969-4550-A4EE-253454C1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529F-24A9-4669-B093-F37BB768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426E-A767-4F38-AF17-704B335E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95E3-1915-4B61-852D-4917DF34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32B4-F4D8-44E5-9412-E7D8F92C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0CE2-F0CF-43D0-9126-7F6BEE6F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4544-95EB-4BFB-A0ED-CC094B17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A00F-E940-4749-8916-8BE31E0B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0898-C71D-410A-A7EE-21C8DE17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2611-1ED1-4FEB-BD3F-A0D7E63B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3698-8946-489D-A038-F8A5C311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0103-1A37-4459-A572-706C8F36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32A-240E-43C6-B647-3B9F5029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B388-A956-4831-9427-8D04BAD3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708-7342-4CF1-950C-90499A9F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0E7-CB54-469F-AD5B-34CD6BB6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347-D2CA-495D-94FB-124425B4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8D3F-945C-465A-9997-25A12054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4F0-857F-41DB-9A62-18A0FEEC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BC9F-F8D1-461E-A62D-2A763C8F7CD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6BBA-3545-451F-B119-F79A3FD08D4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IR_Earth_Radianc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27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371600" y="1371600"/>
            <a:ext cx="62485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5fa1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кологические проблемы</a:t>
            </a:r>
            <a:endParaRPr b="0" lang="en-US" sz="1800" spc="1" strike="noStrike">
              <a:ln w="0">
                <a:noFill/>
              </a:ln>
              <a:solidFill>
                <a:srgbClr val="f5fa1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057400" y="4572000"/>
            <a:ext cx="556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андеев Юрий (11 клас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Основные момент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и окружающая сред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стор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имодейств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ьные экологические проблемы современности такие к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никовый эффек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оновые ды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руго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Человек и окружающая среда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история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взаимодействия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какой стороны ни смотри, но говорить о том, что вс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ьезные изменения, произошедшие в природной сред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время существования планеты, - дело рук челове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ло бы верхом самоуверенности. Никто сегодня не буд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рить с тем, что воздействие человека на природ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исходит на фоне естественных изменений, масшта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орых порой бывают очень значитель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 за последние десятки тысячелетий одним из глав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кторов подобных фоновых перестроек ландшафтов бы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мат существование гигантских ледников 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транствах Северной Евразии и Северной Амери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лекло за собой серьезные климатические измен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чески по всей Земле. Исследователи также отмеч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личие определенных циклов для этих самых перестрое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рирода парникового эффект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4" descr="Рис. 1. Тепловое излучение поверхности Земли и атмосферное поглощение в ИК-диапазоне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52388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447920" y="5943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ис. 1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епловое излучение поверхности Земли и атмосферное поглощение в ИК - диапазо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Природа парникового эффект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04440" y="1484280"/>
            <a:ext cx="644148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щё в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1827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году французский физик Жозеф Фурь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положил, что атмосфера земли выполня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ункцию своего рода стекла в теплице: возду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пускает солнечное тепло, не давая ему при эт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ариться обратно в космос. Этот эффек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стигается благодаря некоторым атмосферным газ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торостепенного значения, каковыми являютс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, водяные испарения и углекислый га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ни пропускают видимый и «ближний» инфракра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вет, излучаемый солнцем, но поглощают «далекое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фракрасное излучение, имеющее более низку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астоту и образующееся при нагревании зем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верхности солнечными лучами. Если бы этого 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исходило, Земля была бы примерно на 3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радусов холоднее, чем сейчас, и жизнь бы на н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ктически замер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28600" y="304920"/>
            <a:ext cx="63244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ятельность человека приводит к повышени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нцентрации парниковых газов в атмосфер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величение концентрации парниковых газов приведе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 разогреву нижних слоев атмосферы и поверх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емли. Любое изменение в способности Земли отража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 поглощать тепло, в том числе вызванное увеличение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одержания в атмосфере тепличных газов и аэрозоле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иведет к изменению температуры атмосферы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ировых океанов и нарушит устойчивые ти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циркуляции и пого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740120" y="2590920"/>
            <a:ext cx="440388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сли сохранится тенденция глобального потепления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это приведет к изменению погоды и увеличени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оличества осадков, что, в свою очередь, привед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 подъему уровня мирового океана. Количество осадков над экватором сократилась на  те же десять процентов. Дальнейшее изменение в системе выпадения осадков окажет огромно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оздействие на сельское хозяйство, смещая зоны возделывания культур в северные районы Северной Америки и Евраз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 rot="3498000">
            <a:off x="5714280" y="1142640"/>
            <a:ext cx="2057400" cy="114300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80880" y="3048120"/>
            <a:ext cx="354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лабление озонового слоя усиливает пот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лнечной радиации на землю и вызывает у люд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ст числа раковых образований кож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акже от повышенного уровня излучения страда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тения и живот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 rot="11228400">
            <a:off x="3903840" y="3886200"/>
            <a:ext cx="761760" cy="457200"/>
          </a:xfrm>
          <a:custGeom>
            <a:avLst/>
            <a:gdLst>
              <a:gd name="textAreaLeft" fmla="*/ 11880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то вызо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Таяние льд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Поднятие уровня Мирового океана на 1 ме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Затопление многих прибрежных район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Существенное изменение влагообмена на поверх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мли, количества осадков и направления вет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510640" y="4419720"/>
            <a:ext cx="64198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В итоге сегодня человечество, как справедли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отметил В.Вернадский, обрело такую мощь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преобразовании окружающего мира, что оно начин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ущественно влиять на эволюцию биосферы ка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цел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Итоги экологических пробле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8" descr="i?id=40540036-01"/>
          <p:cNvPicPr/>
          <p:nvPr/>
        </p:nvPicPr>
        <p:blipFill>
          <a:blip r:embed="rId1"/>
          <a:stretch/>
        </p:blipFill>
        <p:spPr>
          <a:xfrm>
            <a:off x="380880" y="3886200"/>
            <a:ext cx="1710000" cy="2419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7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