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0D10A-0D75-4FB2-B4E4-5B8927C8B44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Georgia"/>
              </a:rPr>
              <a:t>Экологические кризисы и экологические катастроф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Подготови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студентка 41 груп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Сидоркина Васили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950FD-B783-489E-A286-30F30FA07B0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Georgia"/>
              </a:rPr>
              <a:t>Неисчерпаемые полезные ископаемы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Georgia"/>
              </a:rPr>
              <a:t>Климатические ресурсы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(атмосферный воздух, энергия ветр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Georgia"/>
              </a:rPr>
              <a:t>Космические ресурсы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(солнечная радиация и энергия морских приливов и отливов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Georgia"/>
              </a:rPr>
              <a:t>Водные ресурсы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(воды Мирового океан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FC5DE-E598-45C5-A048-741F7BD0BAA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99"/>
                </a:solidFill>
                <a:latin typeface="Georgia"/>
              </a:rPr>
              <a:t>Аспекты охраны природ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Georgia"/>
              </a:rPr>
              <a:t>Хозяйственно-экономический аспект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(важнейшая сторона охраны природы, т.к. любые продукты, употребляемые людьми, создаются за счет расходования природных ресурсов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3BA39-2913-4E43-B0EC-C7A8A5C5608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Georgia"/>
              </a:rPr>
              <a:t>Социально-политический аспект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(результаты воздействия человека на природу зависят не только от развития технического прогресса и роста населения, но и от социальных условий, в которых они проявляются. Развивающиеся страны служат важным источником сырья для развитых стран, стремящихся размещать в них добывающую промышленность, использова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их минеральное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сельскохозяйственно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сырье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444E5-200A-4EA7-ABA8-F348B3E2276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Georgia"/>
              </a:rPr>
              <a:t>Здравоохранительный аспект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(загрязнение окружающей среды вредными веществами наносит большой ущерб здоровью людей, в связи с этим оздоровительный аспект охраны природы приобретает исключительно важное значение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D286D-3826-4928-8BB0-9531FD7001E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Georgia"/>
              </a:rPr>
              <a:t>Эстетический аспект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(природа – источник не только материальных благ, но и удовлетворения эстетических потребностей человека, которые не менее важны первых. Поэтому особое внимание необходимо уделять и охране эстетических ценных мест Земл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DA95D-AADB-46D1-9469-CB7377D0368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Georgia"/>
              </a:rPr>
              <a:t>Воспитательный аспект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(любовь к природе развивает в человеке положительные черты характера: доброту, бережное отношение, патриотизм и т.д.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B3B44-3719-425A-B15E-443573A1969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Georgia"/>
              </a:rPr>
              <a:t>Научно-познавательный аспект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(связан с необходимостью сохранения для исследований естественных, ненарушенных человеком территорий; изучение природы позволяет выяснять закономерности изменений, вносимых в природу человеческой деятельностью, делать прогнозы этих изменений, разрабатывать практические меры по охране природ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C696-45EB-4E0C-B4FF-8B1E3C6753A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00"/>
                </a:solidFill>
                <a:latin typeface="Georgia"/>
              </a:rPr>
              <a:t>Принципы и правила охраны природ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99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99ff"/>
                </a:solidFill>
                <a:latin typeface="Georgia"/>
              </a:rPr>
              <a:t>В</a:t>
            </a:r>
            <a:r>
              <a:rPr b="0" lang="ru-RU" sz="1200" spc="-1" strike="noStrike">
                <a:solidFill>
                  <a:srgbClr val="0099ff"/>
                </a:solidFill>
                <a:latin typeface="Georgia"/>
              </a:rPr>
              <a:t>се природные явления имеют для человека множественное значение и должны оцениваться со всех точек зрения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(т.е. к каждому явлению следует подходить с учетом интересов разных отраслей хозяйства и сохранения восстановительных сил самой природ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AABA2-6D03-4398-81B8-7BE925C5FD7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ff"/>
                </a:solidFill>
                <a:latin typeface="Georgia"/>
              </a:rPr>
              <a:t>При использовании природных ресурсов необходимо руководствоваться правилом региональности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(необходимо учитывать при использовании недр, водных ресурсов, лесов и животного мир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200" spc="-1" strike="noStrike">
                <a:solidFill>
                  <a:srgbClr val="0099ff"/>
                </a:solidFill>
                <a:latin typeface="Georgia"/>
              </a:rPr>
              <a:t>охрана одного природного объекта может означать одновременно охрану и других объектов, тесно с ним связанных</a:t>
            </a:r>
            <a:r>
              <a:rPr b="0" lang="ru-RU" sz="12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(напр., охрана водоема от загрязнения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=&gt;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охрана животных, обитающих в нем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B5F4A-9CDD-4806-A20E-08151243B23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писок использованной лит-р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http://ru.wikipedia.org/wiki/%DD%EA%EE%EB%EE%E3%E8%F7%E5%F1%EA%E8%E9_%EA%F0%E8%E7%E8%F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http://ru.wikipedia.org/wiki/%D0%AD%D0%BA%D0%BE%D0%BB%D0%BE%D0%B3%D0%B8%D1%87%D0%B5%D1%81%D0%BA%D0%B0%D1%8F_%D0%BA%D0%B0%D1%82%D0%B0%D1%81%D1%82%D1%80%D0%BE%D1%84%D0%B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Georgia"/>
              </a:rPr>
              <a:t>В.М. Константинов, Ю.Б. Челидзе уч.пособие «Экологические основы природопользован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53141-EF8E-44D8-9E4C-99563C4750B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200" spc="-1" strike="noStrike">
                <a:solidFill>
                  <a:srgbClr val="ff00ff"/>
                </a:solidFill>
                <a:latin typeface="Georgia"/>
              </a:rPr>
              <a:t>Экологический кризис –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критическое состояние окружающей среды, угрожающее существованию человека и отражающее несоответствие развития производительных сил и производственны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98927-79F1-4681-9E43-3ECBF92C821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Экологический кризис может бы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200" spc="-1" strike="noStrike">
                <a:solidFill>
                  <a:srgbClr val="ff00ff"/>
                </a:solidFill>
                <a:latin typeface="Georgia"/>
              </a:rPr>
              <a:t>глобальным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(напряженное состояние взаимоотношений между человечеством и природой, характеризующееся несоответствием развития производительных сил и производственных отношений в человеческом обществе ресурсно-экологическим возможностям биосфер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200" spc="-1" strike="noStrike">
                <a:solidFill>
                  <a:srgbClr val="ff00ff"/>
                </a:solidFill>
                <a:latin typeface="Georgia"/>
              </a:rPr>
              <a:t>локальным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CF611-2169-42CE-8151-A8ABAF5EB92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99ff"/>
                </a:solidFill>
                <a:latin typeface="Georgia"/>
              </a:rPr>
              <a:t>Виды экологических кризисов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99"/>
                </a:solidFill>
                <a:latin typeface="Georgia"/>
              </a:rPr>
              <a:t>Кризис присваивающего хозяйства: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собирательства и примитивной охоты (возник в связи с истощением естественных запасов плодов и съедобных растений, с истреблением небольших животных в местах обитания древних люде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66C41-D622-4CFA-B269-3B217B396D0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99"/>
                </a:solidFill>
                <a:latin typeface="Georgia"/>
              </a:rPr>
              <a:t>Кризис, связанный с перепромыслом крупных зверей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(возник в конце ледникового периода, когда стали исчезать крупные животные – шерстистый носорог, пещерный медведь, мамонт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8CFF2-9616-4730-B9E1-F287F42CB0B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99"/>
                </a:solidFill>
                <a:latin typeface="Georgia"/>
              </a:rPr>
              <a:t>Кризис, возникший в местах древнего орошаемого земледелия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(возник из-за полного сведения лесов, чрезмерной нагрузки животноводства и примитивного земледелия на почвы, вызвавшие их ускоренную эрозию и засоление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A8A24-A798-4B82-B29C-A20D38E5346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66"/>
                </a:solidFill>
                <a:latin typeface="Georgia"/>
              </a:rPr>
              <a:t>    </a:t>
            </a:r>
            <a:r>
              <a:rPr b="0" lang="ru-RU" sz="1200" spc="-1" strike="noStrike">
                <a:solidFill>
                  <a:srgbClr val="ff9966"/>
                </a:solidFill>
                <a:latin typeface="Georgia"/>
              </a:rPr>
              <a:t>Экологическая катастрофа -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необратимое изменение природных комплексов, связанное с массовой гибелью живых организмов. (Чернобыльская катастрофа, авария на АЭС Фукусима, взрыв нефтяной платформы в Мексиканском залив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04B6E-074A-4901-9C3E-34ABA039092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cc"/>
                </a:solidFill>
                <a:latin typeface="Georgia"/>
              </a:rPr>
              <a:t>Природные ресурсы 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компоненты и свойства природной среды, которые используются или могут быть использованы для удовлетворения разнообразных физических и духовных потребностей человеческого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135E3-CC14-499F-B393-332D0C0A351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Georgia"/>
              </a:rPr>
              <a:t>Исчерпаемые полезные ископаемы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cccc"/>
                </a:solidFill>
                <a:uFillTx/>
                <a:latin typeface="Georgia"/>
              </a:rPr>
              <a:t>Возобновимые природные ресурсы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(почва, пресные подземные воды, зоны активного водообмена, растительность и животный мир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cccc"/>
                </a:solidFill>
                <a:uFillTx/>
                <a:latin typeface="Georgia"/>
              </a:rPr>
              <a:t>Невозобновимые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(каменный уголь, нефть, - т.е. ресурсы, которые не возрождаются или восстанавливаются в сотни раз медленнее, чем расходуютс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69D16-859D-42FF-BBBC-37BCF86BF9A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1F6C-8A70-4FD3-9C58-4DB47B2B2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9665-88C7-48E5-ACD6-6A84A7D42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563B-2E51-4B98-8B54-95C22CAAD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2C27-9612-4875-B711-EDC73DAAE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46CAB4-9697-4800-BB3C-4DE3C7BC8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2A2585-65E0-4E02-9F73-D686EC1AE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7FF55B-E7B8-43C9-BADF-D67B31D79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580532-A594-4136-B6F0-F82CA1D6F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F16FDB-B3B4-45AC-81D4-A2A276AB5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867EB8-C903-4488-ABD0-EACEB89EB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E9684D-05A6-4786-AE7C-1A9DB19E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E0CF-CB78-4330-B82C-0076F74D6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CF9712-675A-4A61-95BF-DD4CE531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270661-C208-4B2A-8660-B05A8EDF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0E1A01-C502-4994-A9E9-A9ACB2747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F7E262-B9F3-4522-A552-D77F4AD7F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F81870-C3D6-4EC1-97BE-FF0E99684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CC10-9491-4742-8CA1-E4BE945FB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8FCD-94DC-416B-920F-251C70A35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4119-66EB-492E-9890-5E83FDCCF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4E04-595C-4096-A4F1-1E72A9C9D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E413-50B7-45D7-913B-CFF63E8B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5A80-9667-47D8-AC3E-D56EAC4B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C166-8767-48EB-AE12-9C3A0753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5DA7C-3A11-4CD3-B1CE-63BB0E7AD7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A6C81-6C8D-4A96-932C-F18A5B7CC46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%DD%EA%EE%EB%EE%E3%E8%F7%E5%F1%EA%E8%E9_%EA%F0%E8%E7%E8%F1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99"/>
                </a:solidFill>
                <a:latin typeface="Georgia"/>
              </a:rPr>
              <a:t>Экологические кризисы и экологические катастроф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514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Подготовил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студентка 41 групп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Сидоркина Васили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4" descr="z_"/>
          <p:cNvPicPr/>
          <p:nvPr/>
        </p:nvPicPr>
        <p:blipFill>
          <a:blip r:embed="rId1"/>
          <a:stretch/>
        </p:blipFill>
        <p:spPr>
          <a:xfrm>
            <a:off x="990720" y="1447920"/>
            <a:ext cx="4952880" cy="37116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cc66"/>
                </a:solidFill>
                <a:latin typeface="Georgia"/>
              </a:rPr>
              <a:t>Неисчерпаемые полезные ископаемые: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Georgia"/>
              </a:rPr>
              <a:t>Климатические ресурсы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(атмосферный воздух, энергия ветра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Georgia"/>
              </a:rPr>
              <a:t>Космические ресурсы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(солнечная радиация и энергия морских приливов и отливов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Georgia"/>
              </a:rPr>
              <a:t>Водные ресурсы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(воды Мирового океана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4" descr="l24"/>
          <p:cNvPicPr/>
          <p:nvPr/>
        </p:nvPicPr>
        <p:blipFill>
          <a:blip r:embed="rId1"/>
          <a:stretch/>
        </p:blipFill>
        <p:spPr>
          <a:xfrm>
            <a:off x="2666880" y="3886200"/>
            <a:ext cx="4191120" cy="279576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99"/>
                </a:solidFill>
                <a:latin typeface="Georgia"/>
              </a:rPr>
              <a:t>Аспекты охраны природы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419360" y="1600200"/>
            <a:ext cx="4724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Georgia"/>
              </a:rPr>
              <a:t>Хозяйственно-экономический аспект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(важнейшая сторона охраны природы, т.к. любые продукты, употребляемые людьми, создаются за счет расходования природных ресурсов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4" descr="pic1_1"/>
          <p:cNvPicPr/>
          <p:nvPr/>
        </p:nvPicPr>
        <p:blipFill>
          <a:blip r:embed="rId1"/>
          <a:stretch/>
        </p:blipFill>
        <p:spPr>
          <a:xfrm>
            <a:off x="228600" y="1905120"/>
            <a:ext cx="4038480" cy="355428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51920" y="228240"/>
            <a:ext cx="8991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Georgia"/>
              </a:rPr>
              <a:t>Социально-политический аспект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(результаты воздействия человека на природу зависят не только от развития технического прогресса и роста населения, но и от социальных условий, в которых они проявляются. Развивающиеся страны служат важным источником сырья для развитых стран, стремящихся размещать в них добывающую промышленность, использоват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их минеральное 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сельскохозяйственно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сырье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4" descr="Chelovek-i-priroda"/>
          <p:cNvPicPr/>
          <p:nvPr/>
        </p:nvPicPr>
        <p:blipFill>
          <a:blip r:embed="rId1"/>
          <a:stretch/>
        </p:blipFill>
        <p:spPr>
          <a:xfrm>
            <a:off x="4648320" y="3733920"/>
            <a:ext cx="4238640" cy="282888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4920" y="39625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Georgia"/>
              </a:rPr>
              <a:t>Здравоохранительный аспект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(загрязнение окружающей среды вредными веществами наносит большой ущерб здоровью людей, в связи с этим оздоровительный аспект охраны природы приобретает исключительно важное значение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4" descr="image053"/>
          <p:cNvPicPr/>
          <p:nvPr/>
        </p:nvPicPr>
        <p:blipFill>
          <a:blip r:embed="rId1"/>
          <a:stretch/>
        </p:blipFill>
        <p:spPr>
          <a:xfrm>
            <a:off x="152280" y="228600"/>
            <a:ext cx="4419720" cy="3162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picture"/>
          <p:cNvPicPr/>
          <p:nvPr/>
        </p:nvPicPr>
        <p:blipFill>
          <a:blip r:embed="rId2"/>
          <a:stretch/>
        </p:blipFill>
        <p:spPr>
          <a:xfrm>
            <a:off x="4724280" y="533520"/>
            <a:ext cx="4241880" cy="318132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Georgia"/>
              </a:rPr>
              <a:t>Эстетический аспект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(природа – источник не только материальных благ, но и удовлетворения эстетических потребностей человека, которые не менее важны первых. Поэтому особое внимание необходимо уделять и охране эстетических ценных мест Земли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4" descr="interiery_falls085"/>
          <p:cNvPicPr/>
          <p:nvPr/>
        </p:nvPicPr>
        <p:blipFill>
          <a:blip r:embed="rId1"/>
          <a:stretch/>
        </p:blipFill>
        <p:spPr>
          <a:xfrm>
            <a:off x="3429000" y="3009960"/>
            <a:ext cx="4800600" cy="360036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04920" y="48006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Georgia"/>
              </a:rPr>
              <a:t>Воспитательный аспект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(любовь к природе развивает в человеке положительные черты характера: доброту, бережное отношение, патриотизм и т.д.)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4" descr="skazy5"/>
          <p:cNvPicPr/>
          <p:nvPr/>
        </p:nvPicPr>
        <p:blipFill>
          <a:blip r:embed="rId1"/>
          <a:stretch/>
        </p:blipFill>
        <p:spPr>
          <a:xfrm>
            <a:off x="1828800" y="22860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Georgia"/>
              </a:rPr>
              <a:t>Научно-познавательный аспект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(связан с необходимостью сохранения для исследований естественных, ненарушенных человеком территорий; изучение природы позволяет выяснять закономерности изменений, вносимых в природу человеческой деятельностью, делать прогнозы этих изменений, разрабатывать практические меры по охране природы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9900"/>
                </a:solidFill>
                <a:latin typeface="Georgia"/>
              </a:rPr>
              <a:t>Принципы и правила охраны природы: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ff"/>
                </a:solidFill>
                <a:latin typeface="Georgia"/>
              </a:rPr>
              <a:t>В</a:t>
            </a:r>
            <a:r>
              <a:rPr b="0" lang="ru-RU" sz="2800" spc="-1" strike="noStrike">
                <a:solidFill>
                  <a:srgbClr val="0099ff"/>
                </a:solidFill>
                <a:latin typeface="Georgia"/>
              </a:rPr>
              <a:t>се природные явления имеют для человека множественное значение и должны оцениваться со всех точек зрения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(т.е. к каждому явлению следует подходить с учетом интересов разных отраслей хозяйства и сохранения восстановительных сил самой природы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0" y="365760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99ff"/>
                </a:solidFill>
                <a:latin typeface="Georgia"/>
              </a:rPr>
              <a:t>При использовании природных ресурсов необходимо руководствоваться правилом региональности</a:t>
            </a:r>
            <a:r>
              <a:rPr b="0" lang="ru-RU" sz="2600" spc="-1" strike="noStrike">
                <a:solidFill>
                  <a:srgbClr val="ffffff"/>
                </a:solidFill>
                <a:latin typeface="Georgia"/>
              </a:rPr>
              <a:t> (необходимо учитывать при использовании недр, водных ресурсов, лесов и животного мира)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0099ff"/>
                </a:solidFill>
                <a:latin typeface="Georgia"/>
              </a:rPr>
              <a:t>охрана одного природного объекта может означать одновременно охрану и других объектов, тесно с ним связанных</a:t>
            </a:r>
            <a:r>
              <a:rPr b="0" lang="ru-RU" sz="2600" spc="-1" strike="noStrike">
                <a:solidFill>
                  <a:srgbClr val="65c8ff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Georgia"/>
              </a:rPr>
              <a:t>(напр., охрана водоема от загрязнения </a:t>
            </a: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=&gt;</a:t>
            </a:r>
            <a:r>
              <a:rPr b="0" lang="ru-RU" sz="2600" spc="-1" strike="noStrike">
                <a:solidFill>
                  <a:srgbClr val="ffffff"/>
                </a:solidFill>
                <a:latin typeface="Georgia"/>
              </a:rPr>
              <a:t> охрана животных, обитающих в нем)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4" descr="water_feature_infinity_pond_lead"/>
          <p:cNvPicPr/>
          <p:nvPr/>
        </p:nvPicPr>
        <p:blipFill>
          <a:blip r:embed="rId1"/>
          <a:stretch/>
        </p:blipFill>
        <p:spPr>
          <a:xfrm>
            <a:off x="2286000" y="152280"/>
            <a:ext cx="4533840" cy="340056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eorgia"/>
              </a:rPr>
              <a:t>Список использованной лит-ры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5c8ff"/>
                </a:solidFill>
                <a:uFillTx/>
                <a:latin typeface="Georgia"/>
                <a:hlinkClick r:id="rId1"/>
              </a:rPr>
              <a:t>http://ru.wikipedia.org/wiki/%DD%EA%EE%EB%EE%E3%E8%F7%E5%F1%EA%E8%E9_%EA%F0%E8%E7%E8%F1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http://ru.wikipedia.org/wiki/%D0%AD%D0%BA%D0%BE%D0%BB%D0%BE%D0%B3%D0%B8%D1%87%D0%B5%D1%81%D0%BA%D0%B0%D1%8F_%D0%BA%D0%B0%D1%82%D0%B0%D1%81%D1%82%D1%80%D0%BE%D1%84%D0%B0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5c8ff"/>
                </a:solidFill>
                <a:latin typeface="Georgia"/>
              </a:rPr>
              <a:t>В.М. Константинов, Ю.Б. Челидзе уч.пособие «Экологические основы природопользования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724280" y="228600"/>
            <a:ext cx="426744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ff00ff"/>
                </a:solidFill>
                <a:latin typeface="Georgia"/>
              </a:rPr>
              <a:t>Экологический кризис –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критическое состояние окружающей среды, угрожающее существованию человека и отражающее несоответствие развития производительных сил и производственных отноше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4" descr="Ekologicheskiy-krizis"/>
          <p:cNvPicPr/>
          <p:nvPr/>
        </p:nvPicPr>
        <p:blipFill>
          <a:blip r:embed="rId1"/>
          <a:stretch/>
        </p:blipFill>
        <p:spPr>
          <a:xfrm>
            <a:off x="228600" y="1143000"/>
            <a:ext cx="4390920" cy="452448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-360" y="380520"/>
            <a:ext cx="624852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Экологический кризис может быть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ff00ff"/>
                </a:solidFill>
                <a:latin typeface="Georgia"/>
              </a:rPr>
              <a:t>глобальным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(напряженное состояние взаимоотношений между человечеством и природой, характеризующееся несоответствием развития производительных сил и производственных отношений в человеческом обществе ресурсно-экологическим возможностям биосферы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ff00ff"/>
                </a:solidFill>
                <a:latin typeface="Georgia"/>
              </a:rPr>
              <a:t>локальным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4" descr="Earth2"/>
          <p:cNvPicPr/>
          <p:nvPr/>
        </p:nvPicPr>
        <p:blipFill>
          <a:blip r:embed="rId1"/>
          <a:stretch/>
        </p:blipFill>
        <p:spPr>
          <a:xfrm>
            <a:off x="5867280" y="914400"/>
            <a:ext cx="3124440" cy="285912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99ff"/>
                </a:solidFill>
                <a:latin typeface="Georgia"/>
              </a:rPr>
              <a:t>Виды экологических кризисов: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1920" y="4419360"/>
            <a:ext cx="89917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Georgia"/>
              </a:rPr>
              <a:t>Кризис присваивающего хозяйства: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собирательства и примитивной охоты (возник в связи с истощением естественных запасов плодов и съедобных растений, с истреблением небольших животных в местах обитания древних людей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4" descr="kamenniyvek"/>
          <p:cNvPicPr/>
          <p:nvPr/>
        </p:nvPicPr>
        <p:blipFill>
          <a:blip r:embed="rId1"/>
          <a:stretch/>
        </p:blipFill>
        <p:spPr>
          <a:xfrm>
            <a:off x="2209680" y="1143000"/>
            <a:ext cx="4648320" cy="315612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Georgia"/>
              </a:rPr>
              <a:t>Кризис, связанный с перепромыслом крупных зверей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(возник в конце ледникового периода, когда стали исчезать крупные животные – шерстистый носорог, пещерный медведь, мамонт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4" descr="medved"/>
          <p:cNvPicPr/>
          <p:nvPr/>
        </p:nvPicPr>
        <p:blipFill>
          <a:blip r:embed="rId1"/>
          <a:stretch/>
        </p:blipFill>
        <p:spPr>
          <a:xfrm>
            <a:off x="3352680" y="4191120"/>
            <a:ext cx="2590920" cy="2460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woollyrb"/>
          <p:cNvPicPr/>
          <p:nvPr/>
        </p:nvPicPr>
        <p:blipFill>
          <a:blip r:embed="rId2"/>
          <a:stretch/>
        </p:blipFill>
        <p:spPr>
          <a:xfrm>
            <a:off x="152280" y="2819520"/>
            <a:ext cx="3124440" cy="2039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image001"/>
          <p:cNvPicPr/>
          <p:nvPr/>
        </p:nvPicPr>
        <p:blipFill>
          <a:blip r:embed="rId3"/>
          <a:stretch/>
        </p:blipFill>
        <p:spPr>
          <a:xfrm>
            <a:off x="6019920" y="2438280"/>
            <a:ext cx="2904840" cy="367668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80880" y="39625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Georgia"/>
              </a:rPr>
              <a:t>Кризис, возникший в местах древнего орошаемого земледелия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(возник из-за полного сведения лесов, чрезмерной нагрузки животноводства и примитивного земледелия на почвы, вызвавшие их ускоренную эрозию и засоление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4" descr="virubka_lesa"/>
          <p:cNvPicPr/>
          <p:nvPr/>
        </p:nvPicPr>
        <p:blipFill>
          <a:blip r:embed="rId1"/>
          <a:stretch/>
        </p:blipFill>
        <p:spPr>
          <a:xfrm>
            <a:off x="1828800" y="152280"/>
            <a:ext cx="5486400" cy="365472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33520" y="2282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66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ff9966"/>
                </a:solidFill>
                <a:latin typeface="Georgia"/>
              </a:rPr>
              <a:t>Экологическая катастрофа -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необратимое изменение природных комплексов, связанное с массовой гибелью живых организмов. (Чернобыльская катастрофа, авария на АЭС Фукусима, взрыв нефтяной платформы в Мексиканском заливе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4" descr="151702"/>
          <p:cNvPicPr/>
          <p:nvPr/>
        </p:nvPicPr>
        <p:blipFill>
          <a:blip r:embed="rId1"/>
          <a:stretch/>
        </p:blipFill>
        <p:spPr>
          <a:xfrm>
            <a:off x="2057400" y="289548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cccc"/>
                </a:solidFill>
                <a:latin typeface="Georgia"/>
              </a:rPr>
              <a:t>Природные ресурсы -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компоненты и свойства природной среды, которые используются или могут быть использованы для удовлетворения разнообразных физических и духовных потребностей человеческого общест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4" descr="ugl (1)"/>
          <p:cNvPicPr/>
          <p:nvPr/>
        </p:nvPicPr>
        <p:blipFill>
          <a:blip r:embed="rId1"/>
          <a:stretch/>
        </p:blipFill>
        <p:spPr>
          <a:xfrm>
            <a:off x="457200" y="3581280"/>
            <a:ext cx="3657600" cy="2990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5069"/>
          <p:cNvPicPr/>
          <p:nvPr/>
        </p:nvPicPr>
        <p:blipFill>
          <a:blip r:embed="rId2"/>
          <a:stretch/>
        </p:blipFill>
        <p:spPr>
          <a:xfrm>
            <a:off x="4495680" y="3581280"/>
            <a:ext cx="4496040" cy="296712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5050"/>
                </a:solidFill>
                <a:latin typeface="Georgia"/>
              </a:rPr>
              <a:t>Исчерпаемые полезные ископаемые: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cc"/>
                </a:solidFill>
                <a:uFillTx/>
                <a:latin typeface="Georgia"/>
              </a:rPr>
              <a:t>Возобновимые природные ресурсы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(почва, пресные подземные воды, зоны активного водообмена, растительность и животный мир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cc"/>
                </a:solidFill>
                <a:uFillTx/>
                <a:latin typeface="Georgia"/>
              </a:rPr>
              <a:t>Невозобновимые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(каменный уголь, нефть, - т.е. ресурсы, которые не возрождаются или восстанавливаются в сотни раз медленнее, чем расходуются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5-06T08:19:03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