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E446-B42A-4F0E-9021-E1B17EC0C3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4071-B736-4AD2-9E77-CDD3797B72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CCE5-E30B-4AB8-AA1B-720D447BA0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139C-A4BB-4514-B3DA-331C35490F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4E0A-E316-4458-A41D-6AD7807DCD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F5B1-9E99-4A93-B109-09E537C0AD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5DE2-290C-4071-8BE9-12F6E6B6CC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3879-1DFA-45BE-93C0-08B4ABCCED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0C2F-BDFF-41FB-B510-C58970922E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C9DA-7657-4B68-BBF7-87B7639784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BC26-4B25-4329-B5EE-ED11F8CD85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31BC-F99D-4AF5-95C1-3DFDC49CC0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9D34-71C2-4290-816E-07B0B310EE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7A80-03AE-4AF5-93B6-9856D2B6C5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E9E6-AE62-4E33-AC60-05A8C9E182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43A6-D612-447D-87F2-AD4404589D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CEA-7EA2-4DD0-AAF5-E0B85D24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187-42D8-4897-AE97-DCDB1F37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1AE-BE4E-4328-A372-53A27322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584-31A5-4118-8FE7-3DD07477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DF2-0FDC-4553-A8BE-9A2A3C4A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011-85A9-4B7F-9747-ACE7832D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FFA-7DB4-4E21-97C1-BF71A1F9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BBF-E78F-4FFA-8986-4F1F7566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72A-D0D9-45BC-B72A-C017A063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6B9-2374-4F7C-A085-9B5FD223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AB6-60E2-48FC-96DA-08BE1099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EFA-5908-4B5D-97A5-3D9CFD16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7986-2529-4E34-BD3B-F3CD5D7F0D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E27F-9CB1-4072-9047-81C773FE4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24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PL_14.jpg"/>
          <p:cNvPicPr/>
          <p:nvPr/>
        </p:nvPicPr>
        <p:blipFill>
          <a:blip r:embed="rId1"/>
          <a:stretch/>
        </p:blipFill>
        <p:spPr>
          <a:xfrm>
            <a:off x="903240" y="380880"/>
            <a:ext cx="7337520" cy="57452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кологические пробле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gpw-2007.jpg"/>
          <p:cNvPicPr/>
          <p:nvPr/>
        </p:nvPicPr>
        <p:blipFill>
          <a:blip r:embed="rId1"/>
          <a:stretch/>
        </p:blipFill>
        <p:spPr>
          <a:xfrm>
            <a:off x="1714680" y="1954080"/>
            <a:ext cx="5715000" cy="38196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ush_02.jpg"/>
          <p:cNvPicPr/>
          <p:nvPr/>
        </p:nvPicPr>
        <p:blipFill>
          <a:blip r:embed="rId1"/>
          <a:stretch/>
        </p:blipFill>
        <p:spPr>
          <a:xfrm>
            <a:off x="949320" y="154080"/>
            <a:ext cx="7280280" cy="60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proval.jpg"/>
          <p:cNvPicPr/>
          <p:nvPr/>
        </p:nvPicPr>
        <p:blipFill>
          <a:blip r:embed="rId1"/>
          <a:stretch/>
        </p:blipFill>
        <p:spPr>
          <a:xfrm>
            <a:off x="193680" y="304920"/>
            <a:ext cx="8686800" cy="5790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3154214.jpg"/>
          <p:cNvPicPr/>
          <p:nvPr/>
        </p:nvPicPr>
        <p:blipFill>
          <a:blip r:embed="rId1"/>
          <a:stretch/>
        </p:blipFill>
        <p:spPr>
          <a:xfrm>
            <a:off x="1679400" y="1708200"/>
            <a:ext cx="5748480" cy="431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42972_20001128024257.jpg"/>
          <p:cNvPicPr/>
          <p:nvPr/>
        </p:nvPicPr>
        <p:blipFill>
          <a:blip r:embed="rId1"/>
          <a:stretch/>
        </p:blipFill>
        <p:spPr>
          <a:xfrm>
            <a:off x="685800" y="533520"/>
            <a:ext cx="7462800" cy="5595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42977_20001128040423.jpg"/>
          <p:cNvPicPr/>
          <p:nvPr/>
        </p:nvPicPr>
        <p:blipFill>
          <a:blip r:embed="rId1"/>
          <a:stretch/>
        </p:blipFill>
        <p:spPr>
          <a:xfrm>
            <a:off x="762120" y="533520"/>
            <a:ext cx="7615080" cy="5709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426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x_2096e571.jpg"/>
          <p:cNvPicPr/>
          <p:nvPr/>
        </p:nvPicPr>
        <p:blipFill>
          <a:blip r:embed="rId1"/>
          <a:stretch/>
        </p:blipFill>
        <p:spPr>
          <a:xfrm>
            <a:off x="1074600" y="1905120"/>
            <a:ext cx="6850080" cy="38354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1143532_081.jpg"/>
          <p:cNvPicPr/>
          <p:nvPr/>
        </p:nvPicPr>
        <p:blipFill>
          <a:blip r:embed="rId1"/>
          <a:stretch/>
        </p:blipFill>
        <p:spPr>
          <a:xfrm>
            <a:off x="2743200" y="1957320"/>
            <a:ext cx="315756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1143674_101.jpg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172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1157587_Kopiya_02.jpg"/>
          <p:cNvPicPr/>
          <p:nvPr/>
        </p:nvPicPr>
        <p:blipFill>
          <a:blip r:embed="rId1"/>
          <a:stretch/>
        </p:blipFill>
        <p:spPr>
          <a:xfrm>
            <a:off x="306360" y="457200"/>
            <a:ext cx="8372520" cy="55627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1146916_331.jpg"/>
          <p:cNvPicPr/>
          <p:nvPr/>
        </p:nvPicPr>
        <p:blipFill>
          <a:blip r:embed="rId1"/>
          <a:stretch/>
        </p:blipFill>
        <p:spPr>
          <a:xfrm>
            <a:off x="488880" y="533520"/>
            <a:ext cx="8350200" cy="5562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3856361cca.jpg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c1708be02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09588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7b1ceeb9e4.jpg"/>
          <p:cNvPicPr/>
          <p:nvPr/>
        </p:nvPicPr>
        <p:blipFill>
          <a:blip r:embed="rId1"/>
          <a:stretch/>
        </p:blipFill>
        <p:spPr>
          <a:xfrm>
            <a:off x="1600200" y="685800"/>
            <a:ext cx="5867280" cy="4724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2819520"/>
          <a:ext cx="8458200" cy="274320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88760"/>
                <a:gridCol w="1692360"/>
                <a:gridCol w="16923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ются показателями целостности и взаимосвязи современного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иск решения этих проблем способствует становлению единой циви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cap="rnd"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лобальны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войны и ми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колог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нергет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«Север-Юг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мографическая пробле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ждународный террориз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9646"/>
          </a:solidFill>
          <a:ln cap="rnd" w="25560">
            <a:solidFill>
              <a:srgbClr val="b66d3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лассификация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8381880" cy="42674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итическ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логи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но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Возникновение локальных конфли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арниковый эффек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Демографическая ситуац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родовольственная пробле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пасность ядерной 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Загрязнение атмосферы, вод Мирового оке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еренаселённый «Юг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люса разви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азличие политических сист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«Озоновая дыр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Террориз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стощение ресур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rnd"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414360" y="1511280"/>
            <a:ext cx="8315280" cy="4554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облема войны и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Barhem_U-331_11_1941_vzriv_pogreba.jpg"/>
          <p:cNvPicPr/>
          <p:nvPr/>
        </p:nvPicPr>
        <p:blipFill>
          <a:blip r:embed="rId1"/>
          <a:stretch/>
        </p:blipFill>
        <p:spPr>
          <a:xfrm>
            <a:off x="1346040" y="1600200"/>
            <a:ext cx="645192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bron_1.jpg"/>
          <p:cNvPicPr/>
          <p:nvPr/>
        </p:nvPicPr>
        <p:blipFill>
          <a:blip r:embed="rId1"/>
          <a:stretch/>
        </p:blipFill>
        <p:spPr>
          <a:xfrm>
            <a:off x="457200" y="846000"/>
            <a:ext cx="8229600" cy="458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Prin_nagrada.jpg"/>
          <p:cNvPicPr/>
          <p:nvPr/>
        </p:nvPicPr>
        <p:blipFill>
          <a:blip r:embed="rId1"/>
          <a:stretch/>
        </p:blipFill>
        <p:spPr>
          <a:xfrm>
            <a:off x="1535040" y="304920"/>
            <a:ext cx="6073920" cy="58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50Z</dcterms:modified>
  <cp:revision>27</cp:revision>
  <dc:subject/>
  <dc:title>Глобальные проблемы современности.</dc:title>
</cp:coreProperties>
</file>