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AA1B-EB40-47DB-9F8A-03F44A1EDD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42CA-D143-4E6E-B271-AF9582C1D5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1D0C-8EC3-40CE-AD2B-255DD06A41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AEFE-9C8D-4D1F-A00C-CC59F5284C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EEB0-325E-41DE-8A8F-5F55821A74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651C-66BB-4FD9-B696-04BDA3A829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8A99-3570-4FAC-B0F9-4EB48B4699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383A-F19C-4932-AAA2-9C6629A5A0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D76A-A3F5-4344-9725-1B801A4A3E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7194-4D1D-4EB8-A35C-87D0315872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E1C1-1023-4E0E-8483-6A68D605C2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E635-60F1-45D0-A140-4A001C3B7E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ойны и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ческие пробл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«Север-Юг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пробл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5F04-3F2C-4927-8AA3-3BE0E49179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9CEB-615B-4E98-BAFD-2213B6B0E4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DC7B-B6C9-47DF-878A-BC319F4BD7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53AD-D7C0-490E-965A-474BFBC23A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62B-4E62-4B70-9DC2-38890EBA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527-EDF9-4E9D-8704-1EAF2895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BEA-FAB0-4A1D-B5A6-29D31F30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1C13-6BEE-4F36-B1F8-092651AD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2E0-710D-4135-A6FD-D7C19144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0643-28D4-4C06-B8B8-92A5B93C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2CEA-9D5C-4D3C-8CEC-1F05C8AB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2F7F-3B05-4C34-9910-478011BB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E6D-1C24-474C-8EF5-472FFB1D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59B2-2911-4E31-96F5-854FD37C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9B9-2141-45CE-8D6B-D602317F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D0B1-3CC4-46FA-B8F6-26E61B0A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06DD-68B2-4947-B378-1B9FF73F38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027A-DD81-4926-967A-34CEAA510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24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Глобальные проблемы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no Pro Smbd SmText"/>
              </a:rPr>
              <a:t>современнос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одержимое 3" descr="PL_14.jpg"/>
          <p:cNvPicPr/>
          <p:nvPr/>
        </p:nvPicPr>
        <p:blipFill>
          <a:blip r:embed="rId1"/>
          <a:stretch/>
        </p:blipFill>
        <p:spPr>
          <a:xfrm>
            <a:off x="903240" y="380880"/>
            <a:ext cx="7337520" cy="57452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bbb59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Экологические проблем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gpw-2007.jpg"/>
          <p:cNvPicPr/>
          <p:nvPr/>
        </p:nvPicPr>
        <p:blipFill>
          <a:blip r:embed="rId1"/>
          <a:stretch/>
        </p:blipFill>
        <p:spPr>
          <a:xfrm>
            <a:off x="1714680" y="1954080"/>
            <a:ext cx="5715000" cy="38196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ush_02.jpg"/>
          <p:cNvPicPr/>
          <p:nvPr/>
        </p:nvPicPr>
        <p:blipFill>
          <a:blip r:embed="rId1"/>
          <a:stretch/>
        </p:blipFill>
        <p:spPr>
          <a:xfrm>
            <a:off x="949320" y="154080"/>
            <a:ext cx="7280280" cy="60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proval.jpg"/>
          <p:cNvPicPr/>
          <p:nvPr/>
        </p:nvPicPr>
        <p:blipFill>
          <a:blip r:embed="rId1"/>
          <a:stretch/>
        </p:blipFill>
        <p:spPr>
          <a:xfrm>
            <a:off x="193680" y="304920"/>
            <a:ext cx="8686800" cy="579096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нергет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3154214.jpg"/>
          <p:cNvPicPr/>
          <p:nvPr/>
        </p:nvPicPr>
        <p:blipFill>
          <a:blip r:embed="rId1"/>
          <a:stretch/>
        </p:blipFill>
        <p:spPr>
          <a:xfrm>
            <a:off x="1679400" y="1708200"/>
            <a:ext cx="5748480" cy="43117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42972_20001128024257.jpg"/>
          <p:cNvPicPr/>
          <p:nvPr/>
        </p:nvPicPr>
        <p:blipFill>
          <a:blip r:embed="rId1"/>
          <a:stretch/>
        </p:blipFill>
        <p:spPr>
          <a:xfrm>
            <a:off x="685800" y="533520"/>
            <a:ext cx="7462800" cy="5595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одержимое 3" descr="42977_20001128040423.jpg"/>
          <p:cNvPicPr/>
          <p:nvPr/>
        </p:nvPicPr>
        <p:blipFill>
          <a:blip r:embed="rId1"/>
          <a:stretch/>
        </p:blipFill>
        <p:spPr>
          <a:xfrm>
            <a:off x="762120" y="533520"/>
            <a:ext cx="7615080" cy="5709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426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а «Север-Юг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мографическая пробл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3" descr="x_2096e571.jpg"/>
          <p:cNvPicPr/>
          <p:nvPr/>
        </p:nvPicPr>
        <p:blipFill>
          <a:blip r:embed="rId1"/>
          <a:stretch/>
        </p:blipFill>
        <p:spPr>
          <a:xfrm>
            <a:off x="1074600" y="1905120"/>
            <a:ext cx="6850080" cy="38354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0000"/>
          </a:solidFill>
          <a:ln cap="rnd"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а охраны здоровья, предотвращение распространения СПИДа, наркома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1143532_081.jpg"/>
          <p:cNvPicPr/>
          <p:nvPr/>
        </p:nvPicPr>
        <p:blipFill>
          <a:blip r:embed="rId1"/>
          <a:stretch/>
        </p:blipFill>
        <p:spPr>
          <a:xfrm>
            <a:off x="2743200" y="1957320"/>
            <a:ext cx="3157560" cy="381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cap="rnd"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общить знания учащихся о глобальных проблем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казать их взаимосвязь и взаимообусловленность, их отличия от любых иных проблем человеч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ь представление о различных точках зрения на пути и средства разрешения глобальных пробл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1143674_101.jpg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6172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1157587_Kopiya_02.jpg"/>
          <p:cNvPicPr/>
          <p:nvPr/>
        </p:nvPicPr>
        <p:blipFill>
          <a:blip r:embed="rId1"/>
          <a:stretch/>
        </p:blipFill>
        <p:spPr>
          <a:xfrm>
            <a:off x="306360" y="457200"/>
            <a:ext cx="8372520" cy="55627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3" descr="1146916_331.jpg"/>
          <p:cNvPicPr/>
          <p:nvPr/>
        </p:nvPicPr>
        <p:blipFill>
          <a:blip r:embed="rId1"/>
          <a:stretch/>
        </p:blipFill>
        <p:spPr>
          <a:xfrm>
            <a:off x="488880" y="533520"/>
            <a:ext cx="8350200" cy="5562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дународный террориз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3856361cca.jpg"/>
          <p:cNvPicPr/>
          <p:nvPr/>
        </p:nvPicPr>
        <p:blipFill>
          <a:blip r:embed="rId1"/>
          <a:stretch/>
        </p:blipFill>
        <p:spPr>
          <a:xfrm>
            <a:off x="1828800" y="18050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c1708be02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09588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Содержимое 3" descr="7b1ceeb9e4.jpg"/>
          <p:cNvPicPr/>
          <p:nvPr/>
        </p:nvPicPr>
        <p:blipFill>
          <a:blip r:embed="rId1"/>
          <a:stretch/>
        </p:blipFill>
        <p:spPr>
          <a:xfrm>
            <a:off x="1600200" y="685800"/>
            <a:ext cx="5867280" cy="47242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no Pro"/>
              </a:rPr>
              <a:t>Рефлекс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твете на вопросы (письменно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Самое интересное на уроке было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Мне понравилось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Оцените по десятибалльной системе всю работу класса на уроке с трёх позици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Я (личный вклад собственного тру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ы (работа всего класс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Дело (система новизны)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solidFill>
            <a:srgbClr val="4f81bd"/>
          </a:solidFill>
          <a:ln cap="rnd"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no Pro"/>
              </a:rPr>
              <a:t>Характерные черты глобальных проблем современ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8600" y="2819520"/>
          <a:ext cx="8458200" cy="274320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88760"/>
                <a:gridCol w="1692360"/>
                <a:gridCol w="169236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вляются показателями целостности и взаимосвязи современного мир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иск решения этих проблем способствует становлению единой цивилиз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cap="rnd" w="255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лобальные проблем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cap="rnd"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войны и мир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колог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нергетические проблем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а «Север-Юг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мографическая пробле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облемы охраны здоровья, предотвращение распространения СПИДа, нарком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еждународный террориз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79646"/>
          </a:solidFill>
          <a:ln cap="rnd" w="25560">
            <a:solidFill>
              <a:srgbClr val="b66d3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лассификация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752480"/>
          <a:ext cx="8381880" cy="42674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23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литическ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логиче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коно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3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Возникновение локальных конфликт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арниковый эффект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Демографическая ситуац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Продовольственная проблем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пасность ядерной войн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Загрязнение атмосферы, вод Мирового океан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еренаселённый «Юг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люса разви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Различие политических систе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«Озоновая дыра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Террориз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Истощение ресур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cap="rnd"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и глобальных пробл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414360" y="1511280"/>
            <a:ext cx="8315280" cy="4554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cap="rnd"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облема войны и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Barhem_U-331_11_1941_vzriv_pogreba.jpg"/>
          <p:cNvPicPr/>
          <p:nvPr/>
        </p:nvPicPr>
        <p:blipFill>
          <a:blip r:embed="rId1"/>
          <a:stretch/>
        </p:blipFill>
        <p:spPr>
          <a:xfrm>
            <a:off x="1346040" y="1600200"/>
            <a:ext cx="645192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одержимое 3" descr="bron_1.jpg"/>
          <p:cNvPicPr/>
          <p:nvPr/>
        </p:nvPicPr>
        <p:blipFill>
          <a:blip r:embed="rId1"/>
          <a:stretch/>
        </p:blipFill>
        <p:spPr>
          <a:xfrm>
            <a:off x="457200" y="846000"/>
            <a:ext cx="8229600" cy="458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одержимое 3" descr="Prin_nagrada.jpg"/>
          <p:cNvPicPr/>
          <p:nvPr/>
        </p:nvPicPr>
        <p:blipFill>
          <a:blip r:embed="rId1"/>
          <a:stretch/>
        </p:blipFill>
        <p:spPr>
          <a:xfrm>
            <a:off x="1535040" y="304920"/>
            <a:ext cx="6073920" cy="58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06T08:19:50Z</dcterms:modified>
  <cp:revision>27</cp:revision>
  <dc:subject/>
  <dc:title>Глобальные проблемы современности.</dc:title>
</cp:coreProperties>
</file>