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3EB-1A38-4702-955D-7BE0F91952B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3D27-F3FC-4504-8789-ABCEB9FA7C6F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 поразмышляем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081E-9601-4ECA-BF8D-298622C2B0C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оступить  с отработанным   полимер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зировать.  Сж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ая  переработ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82FC-5AE8-49FD-BF7D-4D1B4B34A25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 вспомним  о  второй  жизни    автомобильных  покрыш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EB56-2197-46EA-9E29-0A4ABF50DC9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ть с  полиэтиле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ные изделия из  полиэтилена  можно   переработать в…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ны для кровель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аковочный  материал для строительных  смес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9EDD-FB12-4CCF-BFB3-CE048A88B81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а  для  химиков будущ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5DBD-965F-419F-9529-508A9B8B185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е 4-м  творческим  группам (8,9,10,11 к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Химии  могли  бы  включать  элементы  эколог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 обязательно  должны  их  включать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B70C-7578-4CB6-AE21-8FD4CA90992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60CF-8AC2-4A38-A85F-B0E579E1C72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ю нашего семинара  являе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заимосвязи  экологической  науки   с  химической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точек соприкосновения этих  наук в курсе  изучения  Химии в средней 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4F63-68DB-427C-8FF7-F40FDF5D87E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д  вами  раздаточный 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сформулируйте  определение:  Экология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 что  понимает под термином «Экология» рядовой  обыва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 эти  определения  не  совпад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74F8-B617-4560-9405-500655F6E48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 к о л о г и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F3FA-D472-4AEF-8FE7-AB4394D1D7F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го экологического кризи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же главнейший фактор глобального  экологического кризиса на Земле –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C9B8-F0CD-4ABD-9D9F-EB813BC9BC4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проблемы считают глобальными?  Какие из них породила химическая  индуст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2A57-A756-45C5-812D-189365C174B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во место экологии в  системе нау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ая дисциплина Экология в школе не препод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 рассматривается  как составная часть Би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2C54-5518-45A2-9C0C-6BB5A0B882E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 составление  надпредметных  задач экологической  направленности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1783-187C-4EC6-8047-6802AD9CE81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«Полимер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D651-1FC2-4133-AFB5-EC6809C5F38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7EA-9F04-4797-A3E1-817E47C8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744-3A3E-48E0-91B1-58702214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9596-41D4-4E94-BB9C-26694AA9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CEC3-E9E3-44BA-9850-15663E92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21F3-EFD4-460A-ADA1-06FF033C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953C-BB87-45AD-BCA8-567003E5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ACA4-4BCE-4549-8CD3-01C09D52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307F-2778-4BB2-ADF1-F423329CD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6BF1-5462-4678-A5B8-39111B3B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EA76-21F4-497A-A0D0-4C6B0BB4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4BE1-A579-41E0-A142-6AF6546B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4AC-B95B-4E2E-A953-66884D4E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B476-C0F9-4D86-AC09-60399E59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A888-040C-428F-97DF-389FA60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A16C-FB46-4BF9-892D-ECE56938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B117-AEC6-481E-A9A6-B921D9EE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E491-6BCF-4970-A6A3-3CA71A417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D17-EF2C-4D83-B9C2-49811E28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F7D-4D5C-47F0-903D-C0EDC1F9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1B5-DCBD-46BA-B2E7-5250ED40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198-923E-439C-8AB6-4BC7DB75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2AC-B040-4967-906A-801CADAB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C14E-112B-41B2-8B36-4D1938E1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527-22A8-4951-8029-3B0546EF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666A-0533-4585-9535-D9AB4E8F7C4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BAAA-9BA5-4FD3-A0A0-F5EDD70405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экологические проблем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я и эк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вайте  поразмышляем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поступить  с отработанным   полимеро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тилизировать.  Сж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ичная  переработк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вайте  вспомним  о  второй  жизни    автомобильных  покрыш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быть с  полиэтилено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рязненные изделия из  полиэтилена  можно   переработать в…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ны для кровель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ковочный  материал для строительных  смес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а  для  химиков буд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4-м  творческим  группам (8,9,10,11 кл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Химии  могли  бы  включать  элементы  экологи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 обязательно  должны  их  включать. 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 работ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ю нашего семинара  являет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ие взаимосвязи  экологической  науки   с  химической наук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вление точек соприкосновения этих  наук в курсе  изучения  Химии в средней 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 вами  раздаточный  материа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алуйста, сформулируйте  определение:  Экология…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те,  что  понимает под термином «Экология» рядовой  обыва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 эти  определения  не  совпада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 к о л о г и 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современного экологического кризис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перь же главнейший фактор глобального  экологического кризиса на Земле – ЧЕЛОВ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3631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е  проблемы считают глобальными?  Какие из них породила химическая  индустр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9" name="Diagram 6"/>
          <p:cNvGrpSpPr/>
          <p:nvPr/>
        </p:nvGrpSpPr>
        <p:grpSpPr>
          <a:xfrm>
            <a:off x="2428920" y="2531160"/>
            <a:ext cx="4238640" cy="4212720"/>
            <a:chOff x="2428920" y="2531160"/>
            <a:chExt cx="4238640" cy="4212720"/>
          </a:xfrm>
        </p:grpSpPr>
        <p:sp>
          <p:nvSpPr>
            <p:cNvPr id="180" name="_s1028"/>
            <p:cNvSpPr/>
            <p:nvPr/>
          </p:nvSpPr>
          <p:spPr>
            <a:xfrm flipH="1" flipV="1">
              <a:off x="3833640" y="3406680"/>
              <a:ext cx="54144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29"/>
            <p:cNvSpPr/>
            <p:nvPr/>
          </p:nvSpPr>
          <p:spPr>
            <a:xfrm>
              <a:off x="3314880" y="27680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охран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идового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знообраз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0"/>
            <p:cNvSpPr/>
            <p:nvPr/>
          </p:nvSpPr>
          <p:spPr>
            <a:xfrm flipH="1" flipV="1">
              <a:off x="3309480" y="3926160"/>
              <a:ext cx="93996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31"/>
            <p:cNvSpPr/>
            <p:nvPr/>
          </p:nvSpPr>
          <p:spPr>
            <a:xfrm>
              <a:off x="2665440" y="3414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меньш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зонового сло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_s1032"/>
            <p:cNvSpPr/>
            <p:nvPr/>
          </p:nvSpPr>
          <p:spPr>
            <a:xfrm flipH="1">
              <a:off x="3117960" y="4636080"/>
              <a:ext cx="1085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_s1033"/>
            <p:cNvSpPr/>
            <p:nvPr/>
          </p:nvSpPr>
          <p:spPr>
            <a:xfrm>
              <a:off x="2428920" y="4296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чв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 flipH="1">
              <a:off x="3308040" y="4808160"/>
              <a:ext cx="941400" cy="53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_s1035"/>
            <p:cNvSpPr/>
            <p:nvPr/>
          </p:nvSpPr>
          <p:spPr>
            <a:xfrm>
              <a:off x="2666880" y="5178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здуха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_s1036"/>
            <p:cNvSpPr/>
            <p:nvPr/>
          </p:nvSpPr>
          <p:spPr>
            <a:xfrm flipH="1">
              <a:off x="3832200" y="4932720"/>
              <a:ext cx="54288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_s1037"/>
            <p:cNvSpPr/>
            <p:nvPr/>
          </p:nvSpPr>
          <p:spPr>
            <a:xfrm>
              <a:off x="3317760" y="582408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тх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8"/>
            <p:cNvSpPr/>
            <p:nvPr/>
          </p:nvSpPr>
          <p:spPr>
            <a:xfrm>
              <a:off x="4546440" y="497844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_s1039"/>
            <p:cNvSpPr/>
            <p:nvPr/>
          </p:nvSpPr>
          <p:spPr>
            <a:xfrm>
              <a:off x="4205160" y="6059520"/>
              <a:ext cx="689040" cy="68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Исчезнов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ов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_s1040"/>
            <p:cNvSpPr/>
            <p:nvPr/>
          </p:nvSpPr>
          <p:spPr>
            <a:xfrm>
              <a:off x="4718160" y="4932720"/>
              <a:ext cx="544320" cy="93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41"/>
            <p:cNvSpPr/>
            <p:nvPr/>
          </p:nvSpPr>
          <p:spPr>
            <a:xfrm>
              <a:off x="5092560" y="582264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ны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жар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_s1042"/>
            <p:cNvSpPr/>
            <p:nvPr/>
          </p:nvSpPr>
          <p:spPr>
            <a:xfrm>
              <a:off x="4843440" y="4808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43"/>
            <p:cNvSpPr/>
            <p:nvPr/>
          </p:nvSpPr>
          <p:spPr>
            <a:xfrm>
              <a:off x="5742000" y="5175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мог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_s1044"/>
            <p:cNvSpPr/>
            <p:nvPr/>
          </p:nvSpPr>
          <p:spPr>
            <a:xfrm>
              <a:off x="4889520" y="4637520"/>
              <a:ext cx="10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_s1045"/>
            <p:cNvSpPr/>
            <p:nvPr/>
          </p:nvSpPr>
          <p:spPr>
            <a:xfrm>
              <a:off x="5978520" y="4293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_s1046"/>
            <p:cNvSpPr/>
            <p:nvPr/>
          </p:nvSpPr>
          <p:spPr>
            <a:xfrm flipV="1">
              <a:off x="4843440" y="3926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_s1047"/>
            <p:cNvSpPr/>
            <p:nvPr/>
          </p:nvSpPr>
          <p:spPr>
            <a:xfrm>
              <a:off x="5740560" y="341172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лектромагнитно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_s1048"/>
            <p:cNvSpPr/>
            <p:nvPr/>
          </p:nvSpPr>
          <p:spPr>
            <a:xfrm flipV="1">
              <a:off x="4718160" y="3405240"/>
              <a:ext cx="544320" cy="93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_s1049"/>
            <p:cNvSpPr/>
            <p:nvPr/>
          </p:nvSpPr>
          <p:spPr>
            <a:xfrm>
              <a:off x="5089680" y="27662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диоактивно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_s1050"/>
            <p:cNvSpPr/>
            <p:nvPr/>
          </p:nvSpPr>
          <p:spPr>
            <a:xfrm flipV="1">
              <a:off x="4546440" y="321588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_s1051"/>
            <p:cNvSpPr/>
            <p:nvPr/>
          </p:nvSpPr>
          <p:spPr>
            <a:xfrm>
              <a:off x="4202280" y="253116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рбанизац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_s1052"/>
            <p:cNvSpPr/>
            <p:nvPr/>
          </p:nvSpPr>
          <p:spPr>
            <a:xfrm>
              <a:off x="4202280" y="4296960"/>
              <a:ext cx="688680" cy="684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Глобальны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кологическ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во место экологии в  системе нау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мостоятельная дисциплина Экология в школе не препод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 рассматривается  как составная част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зможно ли  составление  надпредметных  задач экологической  направленности.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002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мотрим   прим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смотрим   прим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 «Полимеры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47:11Z</dcterms:created>
  <dc:creator>Ирина</dc:creator>
  <dc:description/>
  <dc:language>en-US</dc:language>
  <cp:lastModifiedBy>LEGION</cp:lastModifiedBy>
  <dcterms:modified xsi:type="dcterms:W3CDTF">2015-05-06T08:20:44Z</dcterms:modified>
  <cp:revision>6</cp:revision>
  <dc:subject/>
  <dc:title>Глобальные экологические проблемы</dc:title>
</cp:coreProperties>
</file>