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95E8-FE1F-4D8B-BE67-78B0C656CC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F9BE-ED6D-46AD-A6A4-7E1D115A7C3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 поразмышляем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3BC2-F3D0-4524-A3F3-22FA3947D61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ступить  с отработанным   полимер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зировать.  Сж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ая  переработ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BE5D-6C3B-426B-AD05-38B0B0B8AC8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 вспомним  о  второй  жизни    автомобильных  покрыш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83B3-2071-47C0-B591-795A09B9A66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ть с  полиэтиле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ные изделия из  полиэтилена  можно   переработать в…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ны для кровель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аковочный  материал для строительных  сме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56DF-CEEC-4061-AA44-C60F38BD95C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а  для  химиков буду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29B9-ECD6-4405-AFB3-34588655AA4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е 4-м  творческим  группам (8,9,10,11 к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Химии  могли  бы  включать  элементы  эколог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 обязательно  должны  их  включать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73C4-94AF-4D03-90F9-AF186D6CD58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3EB8-F8E4-4C2D-8269-21CB62B1C60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нашего семинара  являе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заимосвязи  экологической  науки   с  химической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точек соприкосновения этих  наук в курсе  изучения  Химии в средней 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BABB-813B-4E7D-847B-47CF69E0B4D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  вами  раздаточный 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сформулируйте  определение:  Экология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 что  понимает под термином «Экология» рядовой  обыва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 эти  определения  не  совпад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5520-E745-4463-90F2-A1A605B0F18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 к о л о г и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1CA5-3869-49DF-9B5E-4E2E2DB30DB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го экологического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же главнейший фактор глобального  экологического кризиса на Земле –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BED-6B0F-43E2-BE9A-17334E16DA0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проблемы считают глобальными?  Какие из них породила химическая  индуст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FE50-B0A2-4056-A621-D7CC75C328C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во место экологии в  системе нау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ая дисциплина Экология в школе не препод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 рассматривается  как составная часть Би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277F-7FCA-4D00-9A1B-537EA313F20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 составление  надпредметных  задач экологической  направленности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0392-A854-40FF-AEE4-37F54CF6F05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«Полимер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2CAF-4201-4207-951E-2665432B48A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9CE-5569-40BB-A1B1-26373669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2F3-654F-4829-A9DE-58BF1C78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92B-7AA6-4F68-968D-063BA83E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F8A-E636-49EE-806F-F6A8845A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DC51-54CE-4D65-9D6C-F45D2D3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DB93-96AA-401D-96E6-891B030C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932A-2B6F-4841-8478-57E06B3F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D49D-F955-4DFB-A9ED-5507CB9F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3F15-155F-4B1E-BBE7-77E44C5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8C37-2A2E-4B10-BD63-61EDD0F8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30BC-15BE-4315-9FEC-BADCEF2A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54D-09B5-413E-ADA1-6438B26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F2FD-33F3-486C-A452-5DB8A996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8C0D-6E05-4691-8E56-2BB6DA4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D6B0-C551-4771-98F8-6187BD1B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B0CB-8881-46E2-BAAC-F99390CC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252D-F5AE-446D-B8ED-180AFE8A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ACE-F00D-466F-8191-7B94ACCD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599-7D25-49F7-8EDC-AC570659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D52-47B9-48A7-89B3-91EB5F5D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6D5-BE3F-4D57-9449-A10350B2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A47-82CB-49C6-A8E7-EA01DC12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282-F94C-4C8D-BE2B-F9C1F7E9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B9C-21E9-4BBC-AE0F-2061D82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082B-769F-4655-A364-604D7F4B52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B5FF-72F1-4D12-A7A6-F82374F33C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экологические проблем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я и эк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вайте  поразмышляем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поступить  с отработанным   полимеро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тилизировать.  Сж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ичная  переработк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вайте  вспомним  о  второй  жизни    автомобильных  покрыш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быть с  полиэтилено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рязненные изделия из  полиэтилена  можно   переработать в…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ны для кровель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ковочный  материал для строительных  смес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  для  химиков буд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-м  творческим  группам (8,9,10,11 кл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Химии  могли  бы  включать  элементы  экологи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 обязательно  должны  их  включать. 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ю нашего семинара  являет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взаимосвязи  экологической  науки   с  химической наук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ление точек соприкосновения этих  наук в курсе  изучения  Химии в средней 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 вами  раздаточный 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алуйста, сформулируйте  определение:  Экология…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те,  что  понимает под термином «Экология» рядовой  обыва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 эти  определения  не  совпад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 к о л о г и 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современного экологического кризис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перь же главнейший фактор глобального  экологического кризиса на Земле – ЧЕЛОВ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631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е  проблемы считают глобальными?  Какие из них породила химическая  индустр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Diagram 6"/>
          <p:cNvGrpSpPr/>
          <p:nvPr/>
        </p:nvGrpSpPr>
        <p:grpSpPr>
          <a:xfrm>
            <a:off x="2428920" y="2531160"/>
            <a:ext cx="4238640" cy="4212720"/>
            <a:chOff x="2428920" y="2531160"/>
            <a:chExt cx="4238640" cy="4212720"/>
          </a:xfrm>
        </p:grpSpPr>
        <p:sp>
          <p:nvSpPr>
            <p:cNvPr id="180" name="_s1028"/>
            <p:cNvSpPr/>
            <p:nvPr/>
          </p:nvSpPr>
          <p:spPr>
            <a:xfrm flipH="1" flipV="1">
              <a:off x="3833640" y="3406680"/>
              <a:ext cx="54144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29"/>
            <p:cNvSpPr/>
            <p:nvPr/>
          </p:nvSpPr>
          <p:spPr>
            <a:xfrm>
              <a:off x="3314880" y="27680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охран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идового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знообраз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0"/>
            <p:cNvSpPr/>
            <p:nvPr/>
          </p:nvSpPr>
          <p:spPr>
            <a:xfrm flipH="1" flipV="1">
              <a:off x="3309480" y="3926160"/>
              <a:ext cx="93996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31"/>
            <p:cNvSpPr/>
            <p:nvPr/>
          </p:nvSpPr>
          <p:spPr>
            <a:xfrm>
              <a:off x="2665440" y="3414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меньш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зонового сло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_s1032"/>
            <p:cNvSpPr/>
            <p:nvPr/>
          </p:nvSpPr>
          <p:spPr>
            <a:xfrm flipH="1">
              <a:off x="3117960" y="4636080"/>
              <a:ext cx="1085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2428920" y="4296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чв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 flipH="1">
              <a:off x="3308040" y="4808160"/>
              <a:ext cx="941400" cy="53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_s1035"/>
            <p:cNvSpPr/>
            <p:nvPr/>
          </p:nvSpPr>
          <p:spPr>
            <a:xfrm>
              <a:off x="2666880" y="5178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здуха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_s1036"/>
            <p:cNvSpPr/>
            <p:nvPr/>
          </p:nvSpPr>
          <p:spPr>
            <a:xfrm flipH="1">
              <a:off x="3832200" y="4932720"/>
              <a:ext cx="54288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_s1037"/>
            <p:cNvSpPr/>
            <p:nvPr/>
          </p:nvSpPr>
          <p:spPr>
            <a:xfrm>
              <a:off x="3317760" y="582408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тх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8"/>
            <p:cNvSpPr/>
            <p:nvPr/>
          </p:nvSpPr>
          <p:spPr>
            <a:xfrm>
              <a:off x="4546440" y="497844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_s1039"/>
            <p:cNvSpPr/>
            <p:nvPr/>
          </p:nvSpPr>
          <p:spPr>
            <a:xfrm>
              <a:off x="4205160" y="6059520"/>
              <a:ext cx="689040" cy="68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Исчезнов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ов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_s1040"/>
            <p:cNvSpPr/>
            <p:nvPr/>
          </p:nvSpPr>
          <p:spPr>
            <a:xfrm>
              <a:off x="4718160" y="4932720"/>
              <a:ext cx="544320" cy="93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41"/>
            <p:cNvSpPr/>
            <p:nvPr/>
          </p:nvSpPr>
          <p:spPr>
            <a:xfrm>
              <a:off x="5092560" y="582264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ны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жар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_s1042"/>
            <p:cNvSpPr/>
            <p:nvPr/>
          </p:nvSpPr>
          <p:spPr>
            <a:xfrm>
              <a:off x="4843440" y="4808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43"/>
            <p:cNvSpPr/>
            <p:nvPr/>
          </p:nvSpPr>
          <p:spPr>
            <a:xfrm>
              <a:off x="5742000" y="5175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мог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_s1044"/>
            <p:cNvSpPr/>
            <p:nvPr/>
          </p:nvSpPr>
          <p:spPr>
            <a:xfrm>
              <a:off x="4889520" y="4637520"/>
              <a:ext cx="10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_s1045"/>
            <p:cNvSpPr/>
            <p:nvPr/>
          </p:nvSpPr>
          <p:spPr>
            <a:xfrm>
              <a:off x="5978520" y="4293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_s1046"/>
            <p:cNvSpPr/>
            <p:nvPr/>
          </p:nvSpPr>
          <p:spPr>
            <a:xfrm flipV="1">
              <a:off x="4843440" y="3926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_s1047"/>
            <p:cNvSpPr/>
            <p:nvPr/>
          </p:nvSpPr>
          <p:spPr>
            <a:xfrm>
              <a:off x="5740560" y="341172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лектромагнитно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_s1048"/>
            <p:cNvSpPr/>
            <p:nvPr/>
          </p:nvSpPr>
          <p:spPr>
            <a:xfrm flipV="1">
              <a:off x="4718160" y="3405240"/>
              <a:ext cx="544320" cy="93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_s1049"/>
            <p:cNvSpPr/>
            <p:nvPr/>
          </p:nvSpPr>
          <p:spPr>
            <a:xfrm>
              <a:off x="5089680" y="27662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диоактивно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_s1050"/>
            <p:cNvSpPr/>
            <p:nvPr/>
          </p:nvSpPr>
          <p:spPr>
            <a:xfrm flipV="1">
              <a:off x="4546440" y="321588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_s1051"/>
            <p:cNvSpPr/>
            <p:nvPr/>
          </p:nvSpPr>
          <p:spPr>
            <a:xfrm>
              <a:off x="4202280" y="253116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рбанизац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_s1052"/>
            <p:cNvSpPr/>
            <p:nvPr/>
          </p:nvSpPr>
          <p:spPr>
            <a:xfrm>
              <a:off x="4202280" y="4296960"/>
              <a:ext cx="688680" cy="68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Глобальны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кологическ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во место экологии в  системе нау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мостоятельная дисциплина Экология в школе не препод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 рассматривается  как составная част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зможно ли  составление  надпредметных  задач экологической  направленности.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002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м   при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смотрим   прим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 «Полимеры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47:11Z</dcterms:created>
  <dc:creator>Ирина</dc:creator>
  <dc:description/>
  <dc:language>en-US</dc:language>
  <cp:lastModifiedBy>LEGION</cp:lastModifiedBy>
  <dcterms:modified xsi:type="dcterms:W3CDTF">2015-05-06T08:20:44Z</dcterms:modified>
  <cp:revision>6</cp:revision>
  <dc:subject/>
  <dc:title>Глобальные экологические проблемы</dc:title>
</cp:coreProperties>
</file>