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FDF9-ACE3-4794-A69F-0600A77227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4F82-36F6-4237-AD4E-EE5970EA50B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 поразмышляем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FF32-1984-46DA-B6F1-E5BC4F6ED9B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ступить  с отработанным   полимер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зировать.  Сж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ая  переработ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839F-C484-41EE-A963-E26DACCB2FA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 вспомним  о  второй  жизни    автомобильных  покрыш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F1D8-34D2-433A-92FC-8EC412BAF33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ть с  полиэтиле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ные изделия из  полиэтилена  можно   переработать в…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ны для кровель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аковочный  материал для строительных  сме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564-790E-499D-9C8C-0F1000FBE57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а  для  химиков буду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A94-3FA3-4383-91C4-C3B66FBE3C4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е 4-м  творческим  группам (8,9,10,11 к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Химии  могли  бы  включать  элементы  эколог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 обязательно  должны  их  включать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3516-87D1-47E0-B3C4-EA3EA9CBA30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FDA2-450A-45B8-BD4A-3AC4FBBFE8F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нашего семинара  являе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заимосвязи  экологической  науки   с  химической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точек соприкосновения этих  наук в курсе  изучения  Химии в средней 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F68B-FC22-4DC0-BC60-D1BD047DDA6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  вами  раздаточный 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сформулируйте  определение:  Экология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 что  понимает под термином «Экология» рядовой  обыва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 эти  определения  не  совпад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649-EDAF-4B32-AF42-28C2CBFA99D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 к о л о г и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C89-CE1D-4C4A-A445-05A88BCB060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го экологического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же главнейший фактор глобального  экологического кризиса на Земле –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5872-084E-4D93-80AC-6704DB5F6D2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проблемы считают глобальными?  Какие из них породила химическая  индуст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7C7C-BB47-4335-807F-954E9DE6E23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во место экологии в  системе нау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ая дисциплина Экология в школе не препод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 рассматривается  как составная часть Би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83FA-93E9-4708-A7E2-6C3537FBD0D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 составление  надпредметных  задач экологической  направленности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6C79-2A8E-4922-B62F-1EDC09E008D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«Полимер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C8C1-FB52-4919-9A1A-C6ADAA1FBD6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DB8-8CF5-4F1C-896F-CA64CDEB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F63-575A-4F42-B93A-1B148077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311-CA62-4D4C-B703-6368742C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A63-5FEA-42F4-B3BF-37695AA6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7308-47B3-44FD-81DD-FCF50A4C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468A-A948-4924-A421-AB84F7A6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481D-851A-42BF-828A-BA43EED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47DD-B9F7-4C04-95B3-705C765C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6619-C653-44D4-88A8-5500D76D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4AA-EEED-4CE3-93EF-675AFB74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AA41-6311-4EED-9589-B35B1234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5D2-E3AB-4910-A097-0EB5609A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C402-4FF1-433C-9505-0D1C8693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FF13-8AA9-4F48-B58F-3020A185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2066-BC9C-44F3-8C10-54761B5B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2E9E-187D-438E-A44C-574F9668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96AD-90B4-4F1C-A2D0-5F3B7413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4B2-3B4D-4B53-BC99-C2015ACC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3E4-7E30-4B68-A7D1-62BF4DA7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05F-DD83-4E59-8D0F-7C182980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108-7527-4F10-B8AB-1A7AD7D0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1E9-06E2-4E96-9E90-88B657B6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7A2-494D-4826-83BF-B033906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5E3-DAC2-4705-B926-15ED8084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744B-C5FB-4FB0-BD96-E6DAAE13DAE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AF3-7CAC-4C8E-A84A-18EE1FBFA7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экологические проблем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я и эк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вайте  поразмышляем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поступить  с отработанным   полимеро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тилизировать.  Сж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ичная  переработк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вайте  вспомним  о  второй  жизни    автомобильных  покрыш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быть с  полиэтилено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рязненные изделия из  полиэтилена  можно   переработать в…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ны для кровель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ковочный  материал для строительных  смес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  для  химиков буд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-м  творческим  группам (8,9,10,11 кл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Химии  могли  бы  включать  элементы  экологи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 обязательно  должны  их  включать. 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ю нашего семинара  являет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взаимосвязи  экологической  науки   с  химической наук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ление точек соприкосновения этих  наук в курсе  изучения  Химии в средней 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 вами  раздаточный 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алуйста, сформулируйте  определение:  Экология…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те,  что  понимает под термином «Экология» рядовой  обыва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 эти  определения  не  совпад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 к о л о г и 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современного экологического кризис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перь же главнейший фактор глобального  экологического кризиса на Земле – ЧЕЛОВ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631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е  проблемы считают глобальными?  Какие из них породила химическая  индустр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Diagram 6"/>
          <p:cNvGrpSpPr/>
          <p:nvPr/>
        </p:nvGrpSpPr>
        <p:grpSpPr>
          <a:xfrm>
            <a:off x="2428920" y="2531160"/>
            <a:ext cx="4238640" cy="4212720"/>
            <a:chOff x="2428920" y="2531160"/>
            <a:chExt cx="4238640" cy="4212720"/>
          </a:xfrm>
        </p:grpSpPr>
        <p:sp>
          <p:nvSpPr>
            <p:cNvPr id="180" name="_s1028"/>
            <p:cNvSpPr/>
            <p:nvPr/>
          </p:nvSpPr>
          <p:spPr>
            <a:xfrm flipH="1" flipV="1">
              <a:off x="3833640" y="3406680"/>
              <a:ext cx="54144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29"/>
            <p:cNvSpPr/>
            <p:nvPr/>
          </p:nvSpPr>
          <p:spPr>
            <a:xfrm>
              <a:off x="3314880" y="27680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охран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идового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знообраз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0"/>
            <p:cNvSpPr/>
            <p:nvPr/>
          </p:nvSpPr>
          <p:spPr>
            <a:xfrm flipH="1" flipV="1">
              <a:off x="3309480" y="3926160"/>
              <a:ext cx="93996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31"/>
            <p:cNvSpPr/>
            <p:nvPr/>
          </p:nvSpPr>
          <p:spPr>
            <a:xfrm>
              <a:off x="2665440" y="3414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меньш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зонового сло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_s1032"/>
            <p:cNvSpPr/>
            <p:nvPr/>
          </p:nvSpPr>
          <p:spPr>
            <a:xfrm flipH="1">
              <a:off x="3117960" y="4636080"/>
              <a:ext cx="1085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2428920" y="4296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чв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 flipH="1">
              <a:off x="3308040" y="4808160"/>
              <a:ext cx="941400" cy="53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_s1035"/>
            <p:cNvSpPr/>
            <p:nvPr/>
          </p:nvSpPr>
          <p:spPr>
            <a:xfrm>
              <a:off x="2666880" y="5178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здуха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_s1036"/>
            <p:cNvSpPr/>
            <p:nvPr/>
          </p:nvSpPr>
          <p:spPr>
            <a:xfrm flipH="1">
              <a:off x="3832200" y="4932720"/>
              <a:ext cx="54288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_s1037"/>
            <p:cNvSpPr/>
            <p:nvPr/>
          </p:nvSpPr>
          <p:spPr>
            <a:xfrm>
              <a:off x="3317760" y="582408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тх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8"/>
            <p:cNvSpPr/>
            <p:nvPr/>
          </p:nvSpPr>
          <p:spPr>
            <a:xfrm>
              <a:off x="4546440" y="497844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_s1039"/>
            <p:cNvSpPr/>
            <p:nvPr/>
          </p:nvSpPr>
          <p:spPr>
            <a:xfrm>
              <a:off x="4205160" y="6059520"/>
              <a:ext cx="689040" cy="68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Исчезнов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ов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_s1040"/>
            <p:cNvSpPr/>
            <p:nvPr/>
          </p:nvSpPr>
          <p:spPr>
            <a:xfrm>
              <a:off x="4718160" y="4932720"/>
              <a:ext cx="544320" cy="93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41"/>
            <p:cNvSpPr/>
            <p:nvPr/>
          </p:nvSpPr>
          <p:spPr>
            <a:xfrm>
              <a:off x="5092560" y="582264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ны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жар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_s1042"/>
            <p:cNvSpPr/>
            <p:nvPr/>
          </p:nvSpPr>
          <p:spPr>
            <a:xfrm>
              <a:off x="4843440" y="4808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43"/>
            <p:cNvSpPr/>
            <p:nvPr/>
          </p:nvSpPr>
          <p:spPr>
            <a:xfrm>
              <a:off x="5742000" y="5175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мог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_s1044"/>
            <p:cNvSpPr/>
            <p:nvPr/>
          </p:nvSpPr>
          <p:spPr>
            <a:xfrm>
              <a:off x="4889520" y="4637520"/>
              <a:ext cx="10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_s1045"/>
            <p:cNvSpPr/>
            <p:nvPr/>
          </p:nvSpPr>
          <p:spPr>
            <a:xfrm>
              <a:off x="5978520" y="4293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_s1046"/>
            <p:cNvSpPr/>
            <p:nvPr/>
          </p:nvSpPr>
          <p:spPr>
            <a:xfrm flipV="1">
              <a:off x="4843440" y="3926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_s1047"/>
            <p:cNvSpPr/>
            <p:nvPr/>
          </p:nvSpPr>
          <p:spPr>
            <a:xfrm>
              <a:off x="5740560" y="341172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лектромагнитно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_s1048"/>
            <p:cNvSpPr/>
            <p:nvPr/>
          </p:nvSpPr>
          <p:spPr>
            <a:xfrm flipV="1">
              <a:off x="4718160" y="3405240"/>
              <a:ext cx="544320" cy="93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_s1049"/>
            <p:cNvSpPr/>
            <p:nvPr/>
          </p:nvSpPr>
          <p:spPr>
            <a:xfrm>
              <a:off x="5089680" y="27662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диоактивно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_s1050"/>
            <p:cNvSpPr/>
            <p:nvPr/>
          </p:nvSpPr>
          <p:spPr>
            <a:xfrm flipV="1">
              <a:off x="4546440" y="321588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_s1051"/>
            <p:cNvSpPr/>
            <p:nvPr/>
          </p:nvSpPr>
          <p:spPr>
            <a:xfrm>
              <a:off x="4202280" y="253116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рбанизац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_s1052"/>
            <p:cNvSpPr/>
            <p:nvPr/>
          </p:nvSpPr>
          <p:spPr>
            <a:xfrm>
              <a:off x="4202280" y="4296960"/>
              <a:ext cx="688680" cy="68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Глобальны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кологическ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во место экологии в  системе нау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мостоятельная дисциплина Экология в школе не препод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 рассматривается  как составная част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зможно ли  составление  надпредметных  задач экологической  направленности.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002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м   при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смотрим   прим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 «Полимеры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47:11Z</dcterms:created>
  <dc:creator>Ирина</dc:creator>
  <dc:description/>
  <dc:language>en-US</dc:language>
  <cp:lastModifiedBy>LEGION</cp:lastModifiedBy>
  <dcterms:modified xsi:type="dcterms:W3CDTF">2015-05-06T08:20:44Z</dcterms:modified>
  <cp:revision>6</cp:revision>
  <dc:subject/>
  <dc:title>Глобальные экологические проблемы</dc:title>
</cp:coreProperties>
</file>