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5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15A6-4D82-4DC3-B17B-5FF5C0EBEEE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Monotype Corsiva"/>
              </a:rPr>
              <a:t>ГЛОБАЛЬНЫЕ ПРОБЛЕМЫ ЧЕЛОВЕ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Выполнила :Дорофеева Ольг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EB79-8C79-468E-8405-0503B6CC0B58}"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Georgia"/>
              </a:rPr>
              <a:t>СПАСИБО ЗА ВНИМА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4546-86DA-4562-9E40-844126872994}"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8CDB-ECFF-4C70-83F6-E2E7CB3FAB9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Экологическая проблем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C390-6FFA-411F-8E5A-0EED2846F20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Демографическая проблема.</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C41A-F74C-4CE7-A1F4-CEE37A65F8F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мира и разору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Реальная угроза мирового термоядерного конфликта уже фактически ушла в прошло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866C-CDC9-437B-A5E7-78FFC0982280}"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довольственная пробле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1200" spc="-1" strike="noStrike">
                <a:solidFill>
                  <a:srgbClr val="000000"/>
                </a:solidFill>
                <a:latin typeface="Monotype Corsiva"/>
              </a:rPr>
              <a:t>/3</a:t>
            </a:r>
            <a:r>
              <a:rPr b="0" lang="ru-RU" sz="1200" spc="-1" strike="noStrike">
                <a:solidFill>
                  <a:srgbClr val="000000"/>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2DDC-5BBE-404A-B8BF-73E4B9985267}"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Энергетическая и сырьевая проблем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9B8D-9666-4113-9687-ECAC2D6EAE25}"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здоровья люд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FE60-0C70-4586-8386-CE1F97B27379}"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Проблема использования Мирового оке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1513-811C-4F28-91D8-0949ACA76685}"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D319F-8E08-46B0-B981-9A231BD5C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FB3FA-CBE6-4F4F-B490-227FE41E4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05F9A6-D99C-470C-95AF-97D0650493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2D4251-D2BB-4CB3-91C4-81A78C0DD3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27D134-85AF-45B3-947D-07E99BCA1C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2D79FC-6C8D-4585-B74C-65EF012C62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85422F-41AF-43E7-B31F-6E3A02C4D6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A8A526-F1E5-4B4A-A8A4-93EA315A18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19AFF1-4B8B-4737-BE12-5E0F9592F0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E91AEA-B030-4D67-B91B-DCB7B2ECA7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86EB69-9245-42D1-9642-959C6D0C41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BE50D0-9571-4D29-A9F5-42F7663331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80E1D-FD3D-4FD3-86A4-F4A49C86C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052732-F1DE-4E25-9B6B-F06EC04DA5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FD6310-9A70-4A2A-B5C1-82AB0119F8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1501D5-3624-400E-8CF7-D0D71D8CDB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24FBAE-C9C8-4B31-A40D-56042FFA06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0CDEE9-0CDF-49F4-99FE-F458B2B87B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9AF92B-EDD3-4C65-AB3B-CD0647B373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658570-2835-4D20-AC00-FF04830296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191046-0C9D-41D5-8C3A-83801679D1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E7F865-76B9-4568-8E06-65190DA73C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DD1A082-73BF-4E0B-8B31-37D4B51137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603D3-68CF-4266-9DFB-9BEB71F71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BC281E-A1AE-4B62-9EAF-B9913B5D97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D6FA096-11B1-4173-8EFA-CFA8174325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5B670A-FC90-48A6-B3A3-38264D7F57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FB9ECF-9863-4013-8EC2-2AEDC23540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ECE9B2-B67D-4C64-A346-BEA6D0C681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069FF0-6482-49C5-A830-987FE9CA00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35A8D3-47E2-4F54-B628-9906F23DC2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9A25D6-2BF2-4059-B33F-1A142B6DF4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B90CED-DC61-4C38-9F24-8F6179F500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E9FFC6-2949-4479-A134-43A05B878E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EB478-A836-4CDA-8AEB-3F1CD20FB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334916-C30B-4641-BB7B-0CAD4367C9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A6A6AB-86AB-4F14-822A-7621F1589C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D3942A-5699-47C2-B88D-A5D3E39A24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188DCA8-9DD2-4E61-96F7-AE1D6FA0590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931ECF-82D7-49BD-9703-BED8DB621E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A38528-C006-42CC-9B3C-C39748CAE8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E48F1E-E37F-4C3C-A8D3-BA60E95EF5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AFE7F1-DA3F-4836-83D0-C94DF9BE6F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62AB06-35C1-4A0A-8B95-8419BEAC2A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E92EF5-814D-45F6-B830-8C69358620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90DAE-C8E7-431E-8EE2-C3F7B3274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8DC906-6FC4-462D-820E-221DE89F3C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06EA8E-A470-4AAD-BD23-743411DFF7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6F27D0-3C70-4D1C-888D-A380CC9D78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463BA2-63C7-43E7-89BB-09F872F685C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705B0B1-5B1F-4007-A2FD-19762F6E2EA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828F2-389F-40A8-B45B-B1C5FBB08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13A5E-FC38-48A3-9DB8-8531F7767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897E7-C6F3-401D-A146-A63822846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74C28-B758-469A-BEE6-5DB8CA31D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18182-1C43-4471-83E6-53FE785C7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8C5DB-274F-4778-A741-A37011CA7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1527F-FA23-4408-ACC6-07CF0938E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35299-A1D2-4FEA-A684-67F67D256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2ADF2-0EDA-4543-BE04-735706E7E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28D23-3D80-4D59-A7D8-5B8FB6309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57D33-9AF1-4249-A3FB-A08A635DF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46AD01-60CB-4FFC-9AF2-D0AF5AB14E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7B08BF-645F-4950-8FE6-E9E28FDA8D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CB7FE4-89F3-439F-A844-BDF875701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05EB9D-4198-457B-B940-C9591BB543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58ECD5-A540-4F86-B3A9-6244F1A64F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00D60-AD21-4A2A-8A4A-46EC2D307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FDACA-744C-4632-AB2B-069FB5D607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D02E3-17E1-4CF2-B60B-6EC3AF33B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7FCD7-7E40-4E62-88BC-B3CFD2CA1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6B793-B160-497F-8E18-E80F429ED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4A23E7-1988-4F5E-9628-DCC07D8F50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8D21F8-C83E-41D3-8ECE-B89D3E873D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6B7A05-48DC-4684-8F15-4EEC3ADF7B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479D8A-3E96-4FF7-8714-E6084D2D19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3333B2-2A44-4523-BDFA-1C5FB04380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455932-A2C7-4A9E-AD95-2E20FDF644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31EE0-6571-4263-96FE-DD2304919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588B63-4F8C-496C-AB89-863959D656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625AEB-497B-43E8-9F60-DED61A6C63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86A4F-3A87-4C33-A2DB-86BD9EB146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72E41-BD2D-4EF4-81B4-4C0590748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5B188E-956A-4B1D-BA6C-3C81E56E8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BE2A4F-C260-4A84-BF0D-56048DC35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775AE7-13DE-4BA9-822D-18A3FBBEB0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35221A-6324-4EF5-B757-8A334B5DE0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83D5BE-46BB-4C00-9067-7BFE1DD538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C36CBB-F7E9-4933-8026-DE3266DCAF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3A587-D0DF-4E23-A2AF-8C7B72C1B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E28C4C-D859-4B5F-8517-46391143A7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6913F-8261-41CD-A756-189014BDD5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25E15F-2E2B-4B9F-B54F-35A67A4AFE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7253F3-8F7C-41C6-9465-DE683F63AD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53E2B3-3ECD-43E3-9875-37297AC8FF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1EB1E-D0C3-4B7C-BE93-5C5DE4B20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81D99-B1B0-475B-8246-C933C2A0C1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97F011-FF2C-4A30-A3D3-7444B2D9EC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1EE389-25AA-4ED6-9AEE-B156958CD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FAA053-319E-4A82-9240-3A303E0900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FD019-0AB9-47A9-B028-1ED011900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83E4B0-9E49-4169-986E-F4E151EDEB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DB193B-8F04-4E9D-862E-EF443CD8F0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F5B2BA-D71D-480D-8ABF-6AB228FCEB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0ED77E-218E-4EBE-97B8-12B6AA419A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764231-2BBD-4A93-B95D-A9DA354A16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07BFBC-628A-4CD1-A6FE-F67959E7AF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7F6071-8D95-4F87-87A7-47CBA8881D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44595-CE4C-48CB-80F3-3B06FAF76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A8B963-65B8-4BB9-917F-895A0B68A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0361F2-0150-4362-A312-203853AFC4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15142-F53A-46CA-BC33-3C8471809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8901A-E168-440A-870D-49C6BAC177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8B6401-42B0-4577-B30E-9A3FC6A6C5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927E92-E579-44CE-8F53-770FB77B92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B08DAB-9D9B-4793-B0C4-3AEF837548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A38EA0-8D5F-4D9E-BF1F-0FE5B841DA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35798D-A3D5-488C-95D7-CB81DDF41B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747647-CABB-475F-9D57-5E7B89E057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C3340D-8E87-4F0E-B7E1-7754A5D01C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3D4C26-82EE-42C5-BF1F-6D12E0A695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F19D0B-8A90-4DF8-A37A-994AD12E0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8B8EE-884D-4B3C-9E93-218104F21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376D65-1833-4C05-A7D8-9EA3C208CC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49A77-4F84-42F6-9A4D-E9943F8FF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AFCAC2-8C4F-4E90-9C76-34C552437C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52CFAE-E22A-4EEB-AFAE-82F0EFCC00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6F80F9-2F84-46BB-9B76-A46B9EE5B9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EE4BCC-0D31-4CDF-AD37-9EE98C6264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44FB1A-A75B-44F7-BD7B-56C32E6183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C7F4A6-262D-4279-AB6B-2ED0743949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D2EEFF-22CF-41C1-B31E-69FA451C9B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0A84BB-D2FF-41D3-B7E3-D1A92E57F4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9B02D-763A-4CE0-85EA-4854E0F27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24AD5F-FBD0-47CC-A23F-0C7DF91F2D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478670-4DE0-42DE-AFDB-43A0E405E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6866B3-C4A1-4040-8FB9-911D30BA2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1C3AE-5570-4213-9F00-BE7DD0CFD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4ECF78-35CB-4A5D-91C5-3A540229F8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322721-ADC4-477A-8C1C-4BA5949A32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17503C-A9F6-49C6-9C76-0479B365A9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0DD38B-6557-498E-B0F2-7822402B87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6DF8C0-F055-447C-870F-CB6E62D6D0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6A9835-9797-4F1D-B6B4-D289C708EC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8405640" y="4680"/>
            <a:ext cx="17538480" cy="13690800"/>
            <a:chOff x="-8405640" y="4680"/>
            <a:chExt cx="17538480" cy="136908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38AA-30D4-43D9-A41C-B9F4655A54D9}"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96" name="Group 2"/>
          <p:cNvGrpSpPr/>
          <p:nvPr/>
        </p:nvGrpSpPr>
        <p:grpSpPr>
          <a:xfrm>
            <a:off x="-8405640" y="4680"/>
            <a:ext cx="17538480" cy="13690800"/>
            <a:chOff x="-8405640" y="4680"/>
            <a:chExt cx="17538480" cy="13690800"/>
          </a:xfrm>
        </p:grpSpPr>
        <p:sp>
          <p:nvSpPr>
            <p:cNvPr id="39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28"/>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03" name="PlaceHolder 5"/>
          <p:cNvSpPr>
            <a:spLocks noGrp="1"/>
          </p:cNvSpPr>
          <p:nvPr>
            <p:ph type="sldNum" idx="30"/>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5FDB-F9B2-4F89-A165-FEC2DD0885DC}"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0" name="Group 2"/>
          <p:cNvGrpSpPr/>
          <p:nvPr/>
        </p:nvGrpSpPr>
        <p:grpSpPr>
          <a:xfrm>
            <a:off x="-8405640" y="4680"/>
            <a:ext cx="17538480" cy="13690800"/>
            <a:chOff x="-8405640" y="4680"/>
            <a:chExt cx="17538480" cy="13690800"/>
          </a:xfrm>
        </p:grpSpPr>
        <p:sp>
          <p:nvSpPr>
            <p:cNvPr id="44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PlaceHolder 3"/>
          <p:cNvSpPr>
            <a:spLocks noGrp="1"/>
          </p:cNvSpPr>
          <p:nvPr>
            <p:ph type="dt" idx="3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47" name="PlaceHolder 5"/>
          <p:cNvSpPr>
            <a:spLocks noGrp="1"/>
          </p:cNvSpPr>
          <p:nvPr>
            <p:ph type="sldNum" idx="3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FB97-B28F-4F71-9603-0BDC23FE1858}"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84" name="Group 2"/>
          <p:cNvGrpSpPr/>
          <p:nvPr/>
        </p:nvGrpSpPr>
        <p:grpSpPr>
          <a:xfrm>
            <a:off x="-8405640" y="4680"/>
            <a:ext cx="17538480" cy="13690800"/>
            <a:chOff x="-8405640" y="4680"/>
            <a:chExt cx="17538480" cy="13690800"/>
          </a:xfrm>
        </p:grpSpPr>
        <p:sp>
          <p:nvSpPr>
            <p:cNvPr id="48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PlaceHolder 3"/>
          <p:cNvSpPr>
            <a:spLocks noGrp="1"/>
          </p:cNvSpPr>
          <p:nvPr>
            <p:ph type="dt" idx="3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91" name="PlaceHolder 5"/>
          <p:cNvSpPr>
            <a:spLocks noGrp="1"/>
          </p:cNvSpPr>
          <p:nvPr>
            <p:ph type="sldNum" idx="3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07E1-3CFF-464F-844B-DE5AE2240AE2}"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7758000" y="1463760"/>
            <a:ext cx="16902000" cy="10794960"/>
            <a:chOff x="-7758000" y="1463760"/>
            <a:chExt cx="16902000" cy="1079496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 name="Arc 4"/>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1E5C-3337-4531-BEC9-E7EB1A02A1E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8" name="Group 2"/>
          <p:cNvGrpSpPr/>
          <p:nvPr/>
        </p:nvGrpSpPr>
        <p:grpSpPr>
          <a:xfrm>
            <a:off x="-8405640" y="4680"/>
            <a:ext cx="17538480" cy="13690800"/>
            <a:chOff x="-8405640" y="4680"/>
            <a:chExt cx="17538480" cy="13690800"/>
          </a:xfrm>
        </p:grpSpPr>
        <p:sp>
          <p:nvSpPr>
            <p:cNvPr id="8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7"/>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95" name="PlaceHolder 5"/>
          <p:cNvSpPr>
            <a:spLocks noGrp="1"/>
          </p:cNvSpPr>
          <p:nvPr>
            <p:ph type="sldNum" idx="9"/>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3F5B-8DA4-4EEC-8F70-E17BB680EEEC}"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32" name="Group 2"/>
          <p:cNvGrpSpPr/>
          <p:nvPr/>
        </p:nvGrpSpPr>
        <p:grpSpPr>
          <a:xfrm>
            <a:off x="-8405640" y="4680"/>
            <a:ext cx="17538480" cy="13690800"/>
            <a:chOff x="-8405640" y="4680"/>
            <a:chExt cx="17538480" cy="13690800"/>
          </a:xfrm>
        </p:grpSpPr>
        <p:sp>
          <p:nvSpPr>
            <p:cNvPr id="13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10"/>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39" name="PlaceHolder 5"/>
          <p:cNvSpPr>
            <a:spLocks noGrp="1"/>
          </p:cNvSpPr>
          <p:nvPr>
            <p:ph type="sldNum" idx="1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FB9C-E24B-46F8-A2FA-E75F45BB5251}"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76" name="Group 2"/>
          <p:cNvGrpSpPr/>
          <p:nvPr/>
        </p:nvGrpSpPr>
        <p:grpSpPr>
          <a:xfrm>
            <a:off x="-8405640" y="4680"/>
            <a:ext cx="17538480" cy="13690800"/>
            <a:chOff x="-8405640" y="4680"/>
            <a:chExt cx="17538480" cy="13690800"/>
          </a:xfrm>
        </p:grpSpPr>
        <p:sp>
          <p:nvSpPr>
            <p:cNvPr id="17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PlaceHolder 3"/>
          <p:cNvSpPr>
            <a:spLocks noGrp="1"/>
          </p:cNvSpPr>
          <p:nvPr>
            <p:ph type="dt" idx="13"/>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3" name="PlaceHolder 5"/>
          <p:cNvSpPr>
            <a:spLocks noGrp="1"/>
          </p:cNvSpPr>
          <p:nvPr>
            <p:ph type="sldNum" idx="15"/>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D8DF-DE45-4D4F-9EC4-B10DBBF4B44C}"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20" name="Group 2"/>
          <p:cNvGrpSpPr/>
          <p:nvPr/>
        </p:nvGrpSpPr>
        <p:grpSpPr>
          <a:xfrm>
            <a:off x="-8405640" y="4680"/>
            <a:ext cx="17538480" cy="13690800"/>
            <a:chOff x="-8405640" y="4680"/>
            <a:chExt cx="17538480" cy="13690800"/>
          </a:xfrm>
        </p:grpSpPr>
        <p:sp>
          <p:nvSpPr>
            <p:cNvPr id="22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PlaceHolder 3"/>
          <p:cNvSpPr>
            <a:spLocks noGrp="1"/>
          </p:cNvSpPr>
          <p:nvPr>
            <p:ph type="dt" idx="16"/>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27" name="PlaceHolder 5"/>
          <p:cNvSpPr>
            <a:spLocks noGrp="1"/>
          </p:cNvSpPr>
          <p:nvPr>
            <p:ph type="sldNum" idx="18"/>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1BAD-2D6C-4A1C-A455-9A69119F40E4}"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64" name="Group 2"/>
          <p:cNvGrpSpPr/>
          <p:nvPr/>
        </p:nvGrpSpPr>
        <p:grpSpPr>
          <a:xfrm>
            <a:off x="-8405640" y="4680"/>
            <a:ext cx="17538480" cy="13690800"/>
            <a:chOff x="-8405640" y="4680"/>
            <a:chExt cx="17538480" cy="13690800"/>
          </a:xfrm>
        </p:grpSpPr>
        <p:sp>
          <p:nvSpPr>
            <p:cNvPr id="26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PlaceHolder 3"/>
          <p:cNvSpPr>
            <a:spLocks noGrp="1"/>
          </p:cNvSpPr>
          <p:nvPr>
            <p:ph type="dt" idx="19"/>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1" name="PlaceHolder 5"/>
          <p:cNvSpPr>
            <a:spLocks noGrp="1"/>
          </p:cNvSpPr>
          <p:nvPr>
            <p:ph type="sldNum" idx="21"/>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15B5-98DF-49ED-BDA8-72481ECD4762}"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08" name="Group 2"/>
          <p:cNvGrpSpPr/>
          <p:nvPr/>
        </p:nvGrpSpPr>
        <p:grpSpPr>
          <a:xfrm>
            <a:off x="-8405640" y="4680"/>
            <a:ext cx="17538480" cy="13690800"/>
            <a:chOff x="-8405640" y="4680"/>
            <a:chExt cx="17538480" cy="13690800"/>
          </a:xfrm>
        </p:grpSpPr>
        <p:sp>
          <p:nvSpPr>
            <p:cNvPr id="30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PlaceHolder 3"/>
          <p:cNvSpPr>
            <a:spLocks noGrp="1"/>
          </p:cNvSpPr>
          <p:nvPr>
            <p:ph type="dt" idx="22"/>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15" name="PlaceHolder 5"/>
          <p:cNvSpPr>
            <a:spLocks noGrp="1"/>
          </p:cNvSpPr>
          <p:nvPr>
            <p:ph type="sldNum" idx="24"/>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CF19-C82E-466A-A16D-550EB48DECAA}"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52" name="Group 2"/>
          <p:cNvGrpSpPr/>
          <p:nvPr/>
        </p:nvGrpSpPr>
        <p:grpSpPr>
          <a:xfrm>
            <a:off x="-8405640" y="4680"/>
            <a:ext cx="17538480" cy="13690800"/>
            <a:chOff x="-8405640" y="4680"/>
            <a:chExt cx="17538480" cy="13690800"/>
          </a:xfrm>
        </p:grpSpPr>
        <p:sp>
          <p:nvSpPr>
            <p:cNvPr id="35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PlaceHolder 3"/>
          <p:cNvSpPr>
            <a:spLocks noGrp="1"/>
          </p:cNvSpPr>
          <p:nvPr>
            <p:ph type="dt" idx="25"/>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59" name="PlaceHolder 5"/>
          <p:cNvSpPr>
            <a:spLocks noGrp="1"/>
          </p:cNvSpPr>
          <p:nvPr>
            <p:ph type="sldNum" idx="27"/>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6EAF-7051-4C97-9AF7-D3AB96EB83AA}"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560" y="761760"/>
            <a:ext cx="8815320" cy="2306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cc66"/>
                </a:solidFill>
                <a:uFillTx/>
                <a:latin typeface="Monotype Corsiva"/>
              </a:rPr>
              <a:t>ГЛОБАЛЬНЫЕ ПРОБЛЕМЫ ЧЕЛОВЕЧЕСТВА.</a:t>
            </a:r>
            <a:endParaRPr b="0" lang="en-US" sz="4800" spc="-1" strike="noStrike">
              <a:solidFill>
                <a:srgbClr val="ffcc66"/>
              </a:solidFill>
              <a:latin typeface="Arial"/>
            </a:endParaRPr>
          </a:p>
        </p:txBody>
      </p:sp>
      <p:sp>
        <p:nvSpPr>
          <p:cNvPr id="536" name="PlaceHolder 2"/>
          <p:cNvSpPr>
            <a:spLocks noGrp="1"/>
          </p:cNvSpPr>
          <p:nvPr>
            <p:ph type="subTitle"/>
          </p:nvPr>
        </p:nvSpPr>
        <p:spPr>
          <a:xfrm>
            <a:off x="3347640" y="537372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Выполнила :Дорофеева Ольга.</a:t>
            </a:r>
            <a:endParaRPr b="0" lang="en-US" sz="3200" spc="-1" strike="noStrike">
              <a:solidFill>
                <a:srgbClr val="ffffff"/>
              </a:solidFill>
              <a:latin typeface="Times New Roman"/>
            </a:endParaRPr>
          </a:p>
        </p:txBody>
      </p:sp>
      <p:sp>
        <p:nvSpPr>
          <p:cNvPr id="537" name="Місце для нижнього колонтитула 1"/>
          <p:cNvSpPr/>
          <p:nvPr/>
        </p:nvSpPr>
        <p:spPr>
          <a:xfrm>
            <a:off x="129528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cc66"/>
              </a:solidFill>
              <a:latin typeface="Arial"/>
            </a:endParaRPr>
          </a:p>
        </p:txBody>
      </p:sp>
      <p:sp>
        <p:nvSpPr>
          <p:cNvPr id="563" name="WordArt 5"/>
          <p:cNvSpPr txBox="1"/>
          <p:nvPr/>
        </p:nvSpPr>
        <p:spPr>
          <a:xfrm>
            <a:off x="1116000" y="1628640"/>
            <a:ext cx="6548400" cy="3240360"/>
          </a:xfrm>
          <a:prstGeom prst="rect">
            <a:avLst/>
          </a:prstGeom>
        </p:spPr>
        <p:txBody>
          <a:bodyPr wrap="none" lIns="90000" rIns="90000" tIns="46800" bIns="46800" anchor="t" anchorCtr="1">
            <a:prstTxWarp prst="textDeflateInflate">
              <a:avLst>
                <a:gd name="adj" fmla="val 783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rPr>
              <a:t>СПАСИБО ЗА ВНИМАНИЕ!</a:t>
            </a:r>
            <a:endPar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ea typeface="Georgia"/>
            </a:endParaRPr>
          </a:p>
        </p:txBody>
      </p:sp>
      <p:sp>
        <p:nvSpPr>
          <p:cNvPr id="564"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2560" y="515880"/>
            <a:ext cx="80805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cc66"/>
              </a:solidFill>
              <a:latin typeface="Arial"/>
            </a:endParaRPr>
          </a:p>
        </p:txBody>
      </p:sp>
      <p:sp>
        <p:nvSpPr>
          <p:cNvPr id="539" name="PlaceHolder 2"/>
          <p:cNvSpPr>
            <a:spLocks noGrp="1"/>
          </p:cNvSpPr>
          <p:nvPr>
            <p:ph/>
          </p:nvPr>
        </p:nvSpPr>
        <p:spPr>
          <a:xfrm>
            <a:off x="178920" y="981000"/>
            <a:ext cx="8713800" cy="5114880"/>
          </a:xfrm>
          <a:prstGeom prst="rect">
            <a:avLst/>
          </a:prstGeom>
          <a:noFill/>
          <a:ln w="0">
            <a:noFill/>
          </a:ln>
        </p:spPr>
        <p:txBody>
          <a:bodyPr lIns="182520" rIns="182520" tIns="46080" bIns="46080"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4400" spc="-1" strike="noStrike">
                <a:solidFill>
                  <a:srgbClr val="ffffff"/>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4400" spc="-1" strike="noStrike">
              <a:solidFill>
                <a:srgbClr val="ffffff"/>
              </a:solidFill>
              <a:latin typeface="Times New Roman"/>
            </a:endParaRPr>
          </a:p>
        </p:txBody>
      </p:sp>
      <p:sp>
        <p:nvSpPr>
          <p:cNvPr id="540"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Экологическая проблема.</a:t>
            </a:r>
            <a:endParaRPr b="0" lang="en-US" sz="4400" spc="-1" strike="noStrike">
              <a:solidFill>
                <a:srgbClr val="ffcc66"/>
              </a:solidFill>
              <a:latin typeface="Arial"/>
            </a:endParaRPr>
          </a:p>
        </p:txBody>
      </p:sp>
      <p:sp>
        <p:nvSpPr>
          <p:cNvPr id="542" name="PlaceHolder 2"/>
          <p:cNvSpPr>
            <a:spLocks noGrp="1"/>
          </p:cNvSpPr>
          <p:nvPr>
            <p:ph/>
          </p:nvPr>
        </p:nvSpPr>
        <p:spPr>
          <a:xfrm>
            <a:off x="108000" y="1557000"/>
            <a:ext cx="8928000" cy="4538520"/>
          </a:xfrm>
          <a:prstGeom prst="rect">
            <a:avLst/>
          </a:prstGeom>
          <a:noFill/>
          <a:ln w="0">
            <a:noFill/>
          </a:ln>
        </p:spPr>
        <p:txBody>
          <a:bodyPr lIns="182520" rIns="182520" tIns="46080" bIns="4608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3200" spc="-1" strike="noStrike">
              <a:solidFill>
                <a:srgbClr val="ffffff"/>
              </a:solidFill>
              <a:latin typeface="Times New Roman"/>
            </a:endParaRPr>
          </a:p>
        </p:txBody>
      </p:sp>
      <p:sp>
        <p:nvSpPr>
          <p:cNvPr id="543"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Демографическая проблема.</a:t>
            </a:r>
            <a:endParaRPr b="0" lang="en-US" sz="4400" spc="-1" strike="noStrike">
              <a:solidFill>
                <a:srgbClr val="ffcc66"/>
              </a:solidFill>
              <a:latin typeface="Arial"/>
            </a:endParaRPr>
          </a:p>
        </p:txBody>
      </p:sp>
      <p:sp>
        <p:nvSpPr>
          <p:cNvPr id="545" name="PlaceHolder 2"/>
          <p:cNvSpPr>
            <a:spLocks noGrp="1"/>
          </p:cNvSpPr>
          <p:nvPr>
            <p:ph/>
          </p:nvPr>
        </p:nvSpPr>
        <p:spPr>
          <a:xfrm>
            <a:off x="178920" y="1700280"/>
            <a:ext cx="8713800" cy="4395600"/>
          </a:xfrm>
          <a:prstGeom prst="rect">
            <a:avLst/>
          </a:prstGeom>
          <a:noFill/>
          <a:ln w="0">
            <a:noFill/>
          </a:ln>
        </p:spPr>
        <p:txBody>
          <a:bodyPr lIns="182520" rIns="18252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Monotype Corsiva"/>
              </a:rPr>
              <a:t>	</a:t>
            </a:r>
            <a:r>
              <a:rPr b="0" lang="ru-RU" sz="2800" spc="-1" strike="noStrike">
                <a:solidFill>
                  <a:srgbClr val="ffffff"/>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2800" spc="-1" strike="noStrike">
              <a:solidFill>
                <a:srgbClr val="ffffff"/>
              </a:solidFill>
              <a:latin typeface="Times New Roman"/>
            </a:endParaRPr>
          </a:p>
        </p:txBody>
      </p:sp>
      <p:sp>
        <p:nvSpPr>
          <p:cNvPr id="546"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560" y="609120"/>
            <a:ext cx="8512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мира и разоружения.</a:t>
            </a:r>
            <a:endParaRPr b="0" lang="en-US" sz="4400" spc="-1" strike="noStrike">
              <a:solidFill>
                <a:srgbClr val="ffcc66"/>
              </a:solidFill>
              <a:latin typeface="Arial"/>
            </a:endParaRPr>
          </a:p>
        </p:txBody>
      </p:sp>
      <p:sp>
        <p:nvSpPr>
          <p:cNvPr id="548" name="PlaceHolder 2"/>
          <p:cNvSpPr>
            <a:spLocks noGrp="1"/>
          </p:cNvSpPr>
          <p:nvPr>
            <p:ph/>
          </p:nvPr>
        </p:nvSpPr>
        <p:spPr>
          <a:xfrm>
            <a:off x="0" y="1628280"/>
            <a:ext cx="8817120" cy="4753080"/>
          </a:xfrm>
          <a:prstGeom prst="rect">
            <a:avLst/>
          </a:prstGeom>
          <a:noFill/>
          <a:ln w="0">
            <a:noFill/>
          </a:ln>
        </p:spPr>
        <p:txBody>
          <a:bodyPr lIns="182520" rIns="182520" tIns="46080" bIns="4608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Реальная угроза мирового термоядерного конфликта уже фактически ушла в прошлое.</a:t>
            </a:r>
            <a:endParaRPr b="0" lang="en-US" sz="3200" spc="-1" strike="noStrike">
              <a:solidFill>
                <a:srgbClr val="ffffff"/>
              </a:solidFill>
              <a:latin typeface="Times New Roman"/>
            </a:endParaRPr>
          </a:p>
        </p:txBody>
      </p:sp>
      <p:sp>
        <p:nvSpPr>
          <p:cNvPr id="549"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довольственная проблема.</a:t>
            </a:r>
            <a:endParaRPr b="0" lang="en-US" sz="4400" spc="-1" strike="noStrike">
              <a:solidFill>
                <a:srgbClr val="ffcc66"/>
              </a:solidFill>
              <a:latin typeface="Arial"/>
            </a:endParaRPr>
          </a:p>
        </p:txBody>
      </p:sp>
      <p:sp>
        <p:nvSpPr>
          <p:cNvPr id="551" name="PlaceHolder 2"/>
          <p:cNvSpPr>
            <a:spLocks noGrp="1"/>
          </p:cNvSpPr>
          <p:nvPr>
            <p:ph/>
          </p:nvPr>
        </p:nvSpPr>
        <p:spPr>
          <a:xfrm>
            <a:off x="-360" y="1412640"/>
            <a:ext cx="8893080" cy="4824360"/>
          </a:xfrm>
          <a:prstGeom prst="rect">
            <a:avLst/>
          </a:prstGeom>
          <a:noFill/>
          <a:ln w="0">
            <a:noFill/>
          </a:ln>
        </p:spPr>
        <p:txBody>
          <a:bodyPr lIns="182520" rIns="182520" tIns="46080" bIns="46080"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3200" spc="-1" strike="noStrike">
                <a:solidFill>
                  <a:srgbClr val="ffffff"/>
                </a:solidFill>
                <a:latin typeface="Monotype Corsiva"/>
              </a:rPr>
              <a:t>/3</a:t>
            </a:r>
            <a:r>
              <a:rPr b="0" lang="ru-RU" sz="3200" spc="-1" strike="noStrike">
                <a:solidFill>
                  <a:srgbClr val="ffffff"/>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3200" spc="-1" strike="noStrike">
              <a:solidFill>
                <a:srgbClr val="ffffff"/>
              </a:solidFill>
              <a:latin typeface="Times New Roman"/>
            </a:endParaRPr>
          </a:p>
        </p:txBody>
      </p:sp>
      <p:sp>
        <p:nvSpPr>
          <p:cNvPr id="552"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Энергетическая и сырьевая проблемы.</a:t>
            </a:r>
            <a:endParaRPr b="0" lang="en-US" sz="4000" spc="-1" strike="noStrike">
              <a:solidFill>
                <a:srgbClr val="ffcc66"/>
              </a:solidFill>
              <a:latin typeface="Arial"/>
            </a:endParaRPr>
          </a:p>
        </p:txBody>
      </p:sp>
      <p:sp>
        <p:nvSpPr>
          <p:cNvPr id="554" name="PlaceHolder 2"/>
          <p:cNvSpPr>
            <a:spLocks noGrp="1"/>
          </p:cNvSpPr>
          <p:nvPr>
            <p:ph/>
          </p:nvPr>
        </p:nvSpPr>
        <p:spPr>
          <a:xfrm>
            <a:off x="395280" y="1981080"/>
            <a:ext cx="8569440" cy="4114800"/>
          </a:xfrm>
          <a:prstGeom prst="rect">
            <a:avLst/>
          </a:prstGeom>
          <a:noFill/>
          <a:ln w="0">
            <a:noFill/>
          </a:ln>
        </p:spPr>
        <p:txBody>
          <a:bodyPr lIns="182520" rIns="182520" tIns="46080" bIns="46080"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3200" spc="-1" strike="noStrike">
              <a:solidFill>
                <a:srgbClr val="ffffff"/>
              </a:solidFill>
              <a:latin typeface="Times New Roman"/>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3200" spc="-1" strike="noStrike">
              <a:solidFill>
                <a:srgbClr val="ffffff"/>
              </a:solidFill>
              <a:latin typeface="Times New Roman"/>
            </a:endParaRPr>
          </a:p>
        </p:txBody>
      </p:sp>
      <p:sp>
        <p:nvSpPr>
          <p:cNvPr id="555"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40428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здоровья людей.</a:t>
            </a:r>
            <a:endParaRPr b="0" lang="en-US" sz="4400" spc="-1" strike="noStrike">
              <a:solidFill>
                <a:srgbClr val="ffcc66"/>
              </a:solidFill>
              <a:latin typeface="Arial"/>
            </a:endParaRPr>
          </a:p>
        </p:txBody>
      </p:sp>
      <p:sp>
        <p:nvSpPr>
          <p:cNvPr id="557" name="PlaceHolder 2"/>
          <p:cNvSpPr>
            <a:spLocks noGrp="1"/>
          </p:cNvSpPr>
          <p:nvPr>
            <p:ph/>
          </p:nvPr>
        </p:nvSpPr>
        <p:spPr>
          <a:xfrm>
            <a:off x="324000" y="1628640"/>
            <a:ext cx="8640720" cy="4896000"/>
          </a:xfrm>
          <a:prstGeom prst="rect">
            <a:avLst/>
          </a:prstGeom>
          <a:noFill/>
          <a:ln w="0">
            <a:noFill/>
          </a:ln>
        </p:spPr>
        <p:txBody>
          <a:bodyPr lIns="182520" rIns="182520" tIns="46080" bIns="4608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	</a:t>
            </a:r>
            <a:r>
              <a:rPr b="0" lang="ru-RU" sz="3200" spc="-1" strike="noStrike">
                <a:solidFill>
                  <a:srgbClr val="ffffff"/>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3200" spc="-1" strike="noStrike">
              <a:solidFill>
                <a:srgbClr val="ffffff"/>
              </a:solidFill>
              <a:latin typeface="Times New Roman"/>
            </a:endParaRPr>
          </a:p>
        </p:txBody>
      </p:sp>
      <p:sp>
        <p:nvSpPr>
          <p:cNvPr id="558"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24000" y="609120"/>
            <a:ext cx="8820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Проблема использования Мирового океана.</a:t>
            </a:r>
            <a:endParaRPr b="0" lang="en-US" sz="4000" spc="-1" strike="noStrike">
              <a:solidFill>
                <a:srgbClr val="ffcc66"/>
              </a:solidFill>
              <a:latin typeface="Arial"/>
            </a:endParaRPr>
          </a:p>
        </p:txBody>
      </p:sp>
      <p:sp>
        <p:nvSpPr>
          <p:cNvPr id="560" name="PlaceHolder 2"/>
          <p:cNvSpPr>
            <a:spLocks noGrp="1"/>
          </p:cNvSpPr>
          <p:nvPr>
            <p:ph/>
          </p:nvPr>
        </p:nvSpPr>
        <p:spPr>
          <a:xfrm>
            <a:off x="0" y="1844280"/>
            <a:ext cx="8964720" cy="453708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3200" spc="-1" strike="noStrike">
              <a:solidFill>
                <a:srgbClr val="ffffff"/>
              </a:solidFill>
              <a:latin typeface="Times New Roman"/>
            </a:endParaRPr>
          </a:p>
        </p:txBody>
      </p:sp>
      <p:sp>
        <p:nvSpPr>
          <p:cNvPr id="561"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6:18:41Z</dcterms:created>
  <dc:creator>Uzer</dc:creator>
  <dc:description/>
  <dc:language>en-US</dc:language>
  <cp:lastModifiedBy>LEGION</cp:lastModifiedBy>
  <dcterms:modified xsi:type="dcterms:W3CDTF">2015-05-06T08:26:50Z</dcterms:modified>
  <cp:revision>8</cp:revision>
  <dc:subject/>
  <dc:title>ГЛОБАЛЬНЫЕ ПРОБЛЕМЫ ЧЕЛОВЕЧЕСТВА.</dc:title>
</cp:coreProperties>
</file>