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5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5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5D5C2-15A1-4F8F-81B4-5D57D19658B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Monotype Corsiva"/>
              </a:rPr>
              <a:t>ГЛОБАЛЬНЫЕ ПРОБЛЕМЫ ЧЕЛОВЕЧЕСТ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Выполнила :Дорофеева Ольг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92476-92BA-4019-951D-5D6DED8E6576}"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a:solidFill>
                  <a:srgbClr val="000000"/>
                </a:solidFill>
                <a:latin typeface="Georgia"/>
              </a:rPr>
              <a:t>СПАСИБО ЗА ВНИМАНИ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B113-30D8-4AF5-847E-AD99BCA0F438}"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Глобальными называют проблемы, которые охватывают весь мир, всё человечество, создают угрозу для его настоящего и будущего и требуют для своего решения объединенных усилий, совместных действий всех государств и народов.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C8359-1FDE-4799-ACDE-D89442270174}"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Экологическая проблем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	</a:t>
            </a:r>
            <a:r>
              <a:rPr b="0" lang="ru-RU" sz="1200" spc="-1" strike="noStrike">
                <a:solidFill>
                  <a:srgbClr val="000000"/>
                </a:solidFill>
                <a:latin typeface="Monotype Corsiva"/>
              </a:rPr>
              <a:t>Истощение окружающей среды в результате нерационального природопользования, загрязнения её твердыми, жидкими и газообразными отходами и, более того, «отравление» её радиоактивными и другими высокотоксичными веществами уже привели к значительной деградации глобальной экологической системы. Эта проблема стала едва ли не главной проблемой выживания человечеств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F4AA5-0082-469B-8518-D1ACAC30332B}"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Демографическая проблема.</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	</a:t>
            </a:r>
            <a:r>
              <a:rPr b="0" lang="ru-RU" sz="1200" spc="-1" strike="noStrike">
                <a:solidFill>
                  <a:srgbClr val="000000"/>
                </a:solidFill>
                <a:latin typeface="Monotype Corsiva"/>
              </a:rPr>
              <a:t>Эта еще одна приоритетная проблема выживания человечества. Демографический взрыв во всем мире уже пошел на убыль. Тем не менее инверсия демографического взрыва, связана в первую очередь с очень высокой долей молодых возрастов, будет сказываться еще долго.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5256C-05D2-4DD1-AD7C-9444EAAD0A53}"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Проблема мира и разоруж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Хорошо известно, что во все исторические эпохи войны накладывали заметный отпечаток на развитие человеческой цивилизации. На протяжении нескольких десятилетий «холодной войны» проблема войны и мира, предотвращение мирового ядерного конфликта оставалась проблемой №1.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	</a:t>
            </a:r>
            <a:r>
              <a:rPr b="0" lang="ru-RU" sz="1200" spc="-1" strike="noStrike">
                <a:solidFill>
                  <a:srgbClr val="000000"/>
                </a:solidFill>
                <a:latin typeface="Monotype Corsiva"/>
              </a:rPr>
              <a:t>Реальная угроза мирового термоядерного конфликта уже фактически ушла в прошло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F351F-1B04-4DA8-996B-F06144DA3DBE}"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Продовольственная пробле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Старинная мудрость гласит: «Человек ест, чтобы жить, а не живет, чтобы есть».Количество пищи, необходимой ему для нормальной жизни и деятельности, зависит от пола, возраста, веса, роста, от характера и условий труда, быта, от климатических особенностей территории. Но в настоящее время, по данным ООН, почти 2</a:t>
            </a:r>
            <a:r>
              <a:rPr b="0" lang="en-US" sz="1200" spc="-1" strike="noStrike">
                <a:solidFill>
                  <a:srgbClr val="000000"/>
                </a:solidFill>
                <a:latin typeface="Monotype Corsiva"/>
              </a:rPr>
              <a:t>/3</a:t>
            </a:r>
            <a:r>
              <a:rPr b="0" lang="ru-RU" sz="1200" spc="-1" strike="noStrike">
                <a:solidFill>
                  <a:srgbClr val="000000"/>
                </a:solidFill>
                <a:latin typeface="Monotype Corsiva"/>
              </a:rPr>
              <a:t> человечества проживает в странах, где ощущается постоянная нехватка продуктов. Вот почему продовольственную проблему следует считать глобальной.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2A776-A27C-44DA-BA49-AE20180A0091}"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Monotype Corsiva"/>
              </a:rPr>
              <a:t>Энергетическая и сырьевая проблемы.</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Это прежде всего проблемы надежного обеспечения человечества топливом и сырьем. В глобальных масштабах впервые эти проблемы появились в 70-х год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	</a:t>
            </a:r>
            <a:r>
              <a:rPr b="0" lang="ru-RU" sz="1200" spc="-1" strike="noStrike">
                <a:solidFill>
                  <a:srgbClr val="000000"/>
                </a:solidFill>
                <a:latin typeface="Monotype Corsiva"/>
              </a:rPr>
              <a:t>Общее же количество энергии  и сырья, содержащееся в земных недрах и возникшее на Земле и околоземном пространстве, настолько велико, что теоретически не может и речи об их исчерпа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AFE4-54CC-466F-BCD7-D2C0BC817A6D}"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Проблема здоровья люд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	</a:t>
            </a:r>
            <a:r>
              <a:rPr b="0" lang="ru-RU" sz="1200" spc="-1" strike="noStrike">
                <a:solidFill>
                  <a:srgbClr val="000000"/>
                </a:solidFill>
                <a:latin typeface="Monotype Corsiva"/>
              </a:rPr>
              <a:t>В последнее время в мировой практике при оценке качества жизни людей на первое место выдвигается состояние их здоровья. Многие болезни еще продолжают угрожать жизни людей, зачастую приобретая поистине глобальное распространение. Среди них можно назвать сердечно-сосудистые заболевания, злокачественные опухали, венерические болезни, наркоманию, малярию. Но совершено особую угрозу для всего  человечества представляет собой СПИ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C7FEA-970B-4F78-B062-F3EF80CB1E4B}"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Monotype Corsiva"/>
              </a:rPr>
              <a:t>Проблема использования Мирового океан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Мировой океан, занимающий 71% поверхности Земли, всегда играл важную роль в общении стран и народов. Сущность проблемы заключается в крайне неравномерном освоении ресурсов Океана, в увеличивающемся загрязнении морской среды, в использовании его как арены военной активност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020E-7643-4ACA-87A4-40A8173A5C3A}"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5E5B8-4B88-460D-9BBE-4BD37012EB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DA237-25D7-4150-A3E6-A456BA8FA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D9AD2F-4471-4E92-A68E-3BF9A93D67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0FB7CAA-1709-4CC2-8AC3-6DC6D95173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8660E0-C398-49B5-928D-673281D6CE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A2B23D-FEC4-44A4-B59E-06637DDFF9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B9131B-EE0E-454A-BC71-A7B306CED5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854BC4-A8E6-4AE6-AC9A-09AAAF2C16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7A4F3A-CCBD-4BA3-9095-D03EAB5054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FD42BE-AEE8-42F1-8017-ED78298110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B83E494-520B-41E5-98FC-617D86E278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47D24A8-35D4-4576-917C-DB14A61CED0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BF00E-BD7C-4CB1-B0B7-E73C2A72B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D396A9-DD80-45F8-9F27-89C792EF517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944880-9625-4D12-AAB5-F15FD78DB75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7500AB-1425-44D6-96AB-F0A1A08E7C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30622A6-4A22-462D-9134-3CCDCDA896C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B88BAD-FBA0-4C85-A5DD-6161F58DDF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53C58D-7982-46C8-87C2-ABA41C09174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314C32-AE9C-45CB-BE69-D5B2332627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41D328-AF50-4037-BA99-B5E6853C21D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43DF426-B27D-432C-B62B-B1A3A1FC28A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8A1B519-E3CC-4184-813F-53B4AB12C5C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C1BDD-E538-4641-8D38-CCE0BDF8C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3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8D01E33-5AB4-49D3-A10D-60F55C25815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8E93C37-00F5-4F8A-BC4F-8818CAF89E5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4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7D6B96-E749-43AB-BD0D-7FBAD108E4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BDEC90E-AFE5-4C3D-A3A2-A3F3A4F2FBB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DD4987-2050-498B-85CC-480AE4F95A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84362F-8E36-4B5F-BD7E-65C78890B1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8C80F6C-AD1C-4CDB-94B1-008159461D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211A914-DF59-4E12-86AE-2FB3DEAC63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323096E-E956-4C8E-B8E1-72BCF27250F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F17550-A871-42D8-B44D-C915B661DC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B2B760-B9C0-43DF-B9B2-5ABC270B9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5FCAD1-3502-416C-B851-1A97446D6D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1DFFFD7-7257-4AB4-B2CE-19164A16EFE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EE15B45-EF53-4D95-9E67-AAFF048FC7A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4B339ED-1A4B-4C34-B778-D9E53AE12F3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0315CDE-D44C-4340-A0ED-E597820EB59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A7DE323-F488-4042-974B-17A2AAA326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AA2314-811A-4708-9FC5-DA1A7A014D0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951E614-BCC7-4AD6-B132-44E8F07A94B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3552BCA-7BF1-4F89-8360-42D0FFC236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8B1DE4-30F0-4E7B-AFB0-326F0315CCE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3A124-69C5-437E-871E-C02EB9DC7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B34405-DB87-4CBF-AC38-05E7AC6E033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6132B2-1714-4A0B-8714-B1FD81F133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4158464-062E-4C36-A3DF-55833C6ED1D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EA0D8D2E-5C32-4DD4-B6F2-8AF48A1EA98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8B77B12-768F-4234-9753-0D623EFD3B8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8A995-4BC8-4DB1-9B7D-3462CBC4B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A9225-66B8-4FE4-9A30-19AC033DF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F4A16-7ABD-4F29-A0B3-120275775E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7E00C-F7D3-4D93-BB1D-DC4C482072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EE2AD6-1643-4BB2-B048-BAB8BDE43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4F7D2-535E-4CA7-992A-5604A6055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60067-EA19-46B6-87C4-94C2EBE44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84450-9FBB-4E15-87D8-FC51C3B91E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58F1C-EB34-43B6-9AEF-810C09045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27643-224E-4010-B56D-B6E4C01ECA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8720F8-BF86-4AA8-8E77-1F3F78E210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41EC3C8-D9AF-4B22-90FA-11B0343DA7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ECAE3E-63F8-4BDC-9B60-635546E0A4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496E01-87E2-4BED-8154-C5A5094110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5CB075-6976-4A8A-837F-0EE58131B1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569986-20A7-40B8-8CA2-78629498D7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9D667-4C35-40AF-80CE-5DE10B7BA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40B9E0-CFD3-47A8-8FEA-89EB10FE72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363DE6-1360-4645-A47F-B78A170389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872F2-11F5-47ED-BCA1-66D2C9733E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1AC0F1-6361-4E61-999B-5A52C560D5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BFB477-1F35-4318-A816-E25DFEBB86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391B47-7509-4FD9-9824-F7103D4EA6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F94768-4434-4C2F-9CC7-95AA83C439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5D4994-4470-4043-B743-778A792010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992B25-F498-4CED-86E8-AE7235CFEC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35B9AC-0081-48FD-BFB8-34BAE0F3F6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7B8D1-2222-40EF-9912-18B0DB77C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97B272-F94A-410C-A800-AA6483AAAF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CED133-E8EF-4FF5-BE60-BAF8B8C965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7ECAE9-CA72-4B7F-A18D-98CCE5901C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563110-7245-4FD3-96DE-AD2DB3D19A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F0098D-2A9A-413E-A9D9-4020388D85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6A0FE7-8CE6-4F9D-8EFF-7EAEB1009E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7B4CF6-3CE7-4FBC-9D49-7C2DFE412D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97B572-87B2-469D-BA2E-4E5F9B073C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9BFDFFE-1251-479A-81F4-9BCE5B7CC4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DA645F-06AF-4C5E-AB11-627A84F25B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729B8-010E-4DC9-A3BB-5F22F6F76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0F7008-95A4-439F-A2EE-DD5D253D60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C39781-876C-458B-A37D-12704D7015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B3BA3E-2460-46D2-BB63-6801FA3F0C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CF6C2E-E5A0-4A28-94F2-589AF560B7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5B251F-5DA6-4FE3-8B0F-4CE046C853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F03B74-9775-410A-8365-A95C24ED0F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A7D0A1-5520-4683-A41A-E08A622EAB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DFB3CD-8C20-49C0-A4FE-93C490F61E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11F2EA-2E1D-45E9-865E-B7BB8C67C3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FBEA73-2E1D-49EF-B41B-626294D3AB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644BB-EDE9-4097-B3AA-587060201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312018-BA91-44BA-8575-9F3CF5EF86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0B309E-3E18-46B4-B706-570DF04C9D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478A40-43CD-4654-8E61-CC5C9B6F74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099C8F-F6ED-466E-BF2F-E8EB8D879C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63F70F-61AF-4755-AAD9-F92BF1467F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6D06C1-F704-4802-8AE9-35AB561E80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7CD8FE-C602-4390-B8BD-1916986DCE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5B3172-F1E0-456D-BD84-487E0240AF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D72298-9047-4F64-B626-820E5D3F9A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38B9C4-C4CD-4A2D-AC5B-1402C635D2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1D929-7ECE-451C-8D18-F4288D015F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05E3C4-C897-440F-8109-5900FEEFC9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188B45-19D4-43A6-969A-377A3C38DA7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42A391-F59A-4BB6-BC9D-01C77606BF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E153DF-F274-4515-B5B8-86AE5FE013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598CC5-B9B8-4AF1-BF13-28BA31F6CB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084F04-C29D-488C-B258-4938F173F9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1902A3-9B9F-4BB3-A1DE-5D22CC0E07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DD1A65-D0A7-47D0-BF1B-B31F02C4E01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1727F0-A0D1-44F1-BAA1-907410799B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27AF27-E50E-470E-A50D-013846C22D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78BC5-5E6E-4A14-8C30-7251C0FB6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D3FCBA-C48C-4E17-BAB4-AF26307885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FBB9B9-ACF4-4628-9A98-F721428053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CFE7E0-B604-4259-B1EA-D851CB4839C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B3597A-F4C9-4DED-AB60-96549FABD2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74FD9E-01AE-42F3-A46F-12733B81623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E1E06A-3F3E-4500-848D-A4407682191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D2AED6-FF22-4114-87C0-D3077D344BA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D7F0AE-5C88-4BD0-98E6-BEB5F0983B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E96F2A-3140-4B78-B408-9F8E033F1D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8B9F7B-3537-4DC4-87BD-83BDDA0E50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DA2E8-DF51-42B5-9614-EFA4C769D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478EBE-90D9-42E4-83E5-7D6A5B33BE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DF4AEB-04B8-4844-8DD8-98B1A026D8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376C46-2D12-4CB0-89AA-11FDA6EDDB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5955B5-F039-4163-A9FD-C2158EE3B7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7930CC-C262-4E04-AB70-1596E7B017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253E70-DCA5-4FAC-95BC-7A0AA28DBE2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2B0A2F-9C53-410C-AB69-6634A49A07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4163B2-254A-4DCF-BBD2-D08E38D88C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29753D-9A7B-4AE6-BA79-61C9604B6E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E1F55E2-C840-4C70-9F69-A49FE304BF9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8405640" y="4680"/>
            <a:ext cx="17538480" cy="13690800"/>
            <a:chOff x="-8405640" y="4680"/>
            <a:chExt cx="17538480" cy="136908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BDB19-4CA7-4EFA-93AF-E5604E2B6EFB}"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96" name="Group 2"/>
          <p:cNvGrpSpPr/>
          <p:nvPr/>
        </p:nvGrpSpPr>
        <p:grpSpPr>
          <a:xfrm>
            <a:off x="-8405640" y="4680"/>
            <a:ext cx="17538480" cy="13690800"/>
            <a:chOff x="-8405640" y="4680"/>
            <a:chExt cx="17538480" cy="13690800"/>
          </a:xfrm>
        </p:grpSpPr>
        <p:sp>
          <p:nvSpPr>
            <p:cNvPr id="39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98"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0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1" name="PlaceHolder 3"/>
          <p:cNvSpPr>
            <a:spLocks noGrp="1"/>
          </p:cNvSpPr>
          <p:nvPr>
            <p:ph type="dt" idx="28"/>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03" name="PlaceHolder 5"/>
          <p:cNvSpPr>
            <a:spLocks noGrp="1"/>
          </p:cNvSpPr>
          <p:nvPr>
            <p:ph type="sldNum" idx="30"/>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4C9E6-406F-482B-93EC-B33A81E9C87B}"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0" name="Group 2"/>
          <p:cNvGrpSpPr/>
          <p:nvPr/>
        </p:nvGrpSpPr>
        <p:grpSpPr>
          <a:xfrm>
            <a:off x="-8405640" y="4680"/>
            <a:ext cx="17538480" cy="13690800"/>
            <a:chOff x="-8405640" y="4680"/>
            <a:chExt cx="17538480" cy="13690800"/>
          </a:xfrm>
        </p:grpSpPr>
        <p:sp>
          <p:nvSpPr>
            <p:cNvPr id="44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2"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4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45" name="PlaceHolder 3"/>
          <p:cNvSpPr>
            <a:spLocks noGrp="1"/>
          </p:cNvSpPr>
          <p:nvPr>
            <p:ph type="dt" idx="3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47" name="PlaceHolder 5"/>
          <p:cNvSpPr>
            <a:spLocks noGrp="1"/>
          </p:cNvSpPr>
          <p:nvPr>
            <p:ph type="sldNum" idx="3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D1040-408C-492E-92FC-B5DAF1B9666C}"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84" name="Group 2"/>
          <p:cNvGrpSpPr/>
          <p:nvPr/>
        </p:nvGrpSpPr>
        <p:grpSpPr>
          <a:xfrm>
            <a:off x="-8405640" y="4680"/>
            <a:ext cx="17538480" cy="13690800"/>
            <a:chOff x="-8405640" y="4680"/>
            <a:chExt cx="17538480" cy="13690800"/>
          </a:xfrm>
        </p:grpSpPr>
        <p:sp>
          <p:nvSpPr>
            <p:cNvPr id="48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6"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8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89" name="PlaceHolder 3"/>
          <p:cNvSpPr>
            <a:spLocks noGrp="1"/>
          </p:cNvSpPr>
          <p:nvPr>
            <p:ph type="dt" idx="3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91" name="PlaceHolder 5"/>
          <p:cNvSpPr>
            <a:spLocks noGrp="1"/>
          </p:cNvSpPr>
          <p:nvPr>
            <p:ph type="sldNum" idx="3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B165-1DC8-447A-B1A3-18E1144344C4}"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7758000" y="1463760"/>
            <a:ext cx="16902000" cy="10794960"/>
            <a:chOff x="-7758000" y="1463760"/>
            <a:chExt cx="16902000" cy="1079496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 name="Arc 4"/>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34EF8-961F-4F7E-B2ED-9F0EB60466A5}"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88" name="Group 2"/>
          <p:cNvGrpSpPr/>
          <p:nvPr/>
        </p:nvGrpSpPr>
        <p:grpSpPr>
          <a:xfrm>
            <a:off x="-8405640" y="4680"/>
            <a:ext cx="17538480" cy="13690800"/>
            <a:chOff x="-8405640" y="4680"/>
            <a:chExt cx="17538480" cy="13690800"/>
          </a:xfrm>
        </p:grpSpPr>
        <p:sp>
          <p:nvSpPr>
            <p:cNvPr id="8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3" name="PlaceHolder 3"/>
          <p:cNvSpPr>
            <a:spLocks noGrp="1"/>
          </p:cNvSpPr>
          <p:nvPr>
            <p:ph type="dt" idx="7"/>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95" name="PlaceHolder 5"/>
          <p:cNvSpPr>
            <a:spLocks noGrp="1"/>
          </p:cNvSpPr>
          <p:nvPr>
            <p:ph type="sldNum" idx="9"/>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6DAB1-4CB2-4C13-A46D-7F7B818CC610}"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32" name="Group 2"/>
          <p:cNvGrpSpPr/>
          <p:nvPr/>
        </p:nvGrpSpPr>
        <p:grpSpPr>
          <a:xfrm>
            <a:off x="-8405640" y="4680"/>
            <a:ext cx="17538480" cy="13690800"/>
            <a:chOff x="-8405640" y="4680"/>
            <a:chExt cx="17538480" cy="13690800"/>
          </a:xfrm>
        </p:grpSpPr>
        <p:sp>
          <p:nvSpPr>
            <p:cNvPr id="13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4"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3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7" name="PlaceHolder 3"/>
          <p:cNvSpPr>
            <a:spLocks noGrp="1"/>
          </p:cNvSpPr>
          <p:nvPr>
            <p:ph type="dt" idx="10"/>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39" name="PlaceHolder 5"/>
          <p:cNvSpPr>
            <a:spLocks noGrp="1"/>
          </p:cNvSpPr>
          <p:nvPr>
            <p:ph type="sldNum" idx="12"/>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811AC-F8C6-4785-B609-269BABEAE3EA}"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76" name="Group 2"/>
          <p:cNvGrpSpPr/>
          <p:nvPr/>
        </p:nvGrpSpPr>
        <p:grpSpPr>
          <a:xfrm>
            <a:off x="-8405640" y="4680"/>
            <a:ext cx="17538480" cy="13690800"/>
            <a:chOff x="-8405640" y="4680"/>
            <a:chExt cx="17538480" cy="13690800"/>
          </a:xfrm>
        </p:grpSpPr>
        <p:sp>
          <p:nvSpPr>
            <p:cNvPr id="17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8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1" name="PlaceHolder 3"/>
          <p:cNvSpPr>
            <a:spLocks noGrp="1"/>
          </p:cNvSpPr>
          <p:nvPr>
            <p:ph type="dt" idx="13"/>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83" name="PlaceHolder 5"/>
          <p:cNvSpPr>
            <a:spLocks noGrp="1"/>
          </p:cNvSpPr>
          <p:nvPr>
            <p:ph type="sldNum" idx="15"/>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CA6E-A6E0-4B7C-916C-AFFEF8AFF1B1}"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20" name="Group 2"/>
          <p:cNvGrpSpPr/>
          <p:nvPr/>
        </p:nvGrpSpPr>
        <p:grpSpPr>
          <a:xfrm>
            <a:off x="-8405640" y="4680"/>
            <a:ext cx="17538480" cy="13690800"/>
            <a:chOff x="-8405640" y="4680"/>
            <a:chExt cx="17538480" cy="13690800"/>
          </a:xfrm>
        </p:grpSpPr>
        <p:sp>
          <p:nvSpPr>
            <p:cNvPr id="22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2"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2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5" name="PlaceHolder 3"/>
          <p:cNvSpPr>
            <a:spLocks noGrp="1"/>
          </p:cNvSpPr>
          <p:nvPr>
            <p:ph type="dt" idx="16"/>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27" name="PlaceHolder 5"/>
          <p:cNvSpPr>
            <a:spLocks noGrp="1"/>
          </p:cNvSpPr>
          <p:nvPr>
            <p:ph type="sldNum" idx="18"/>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FEE1E-5838-4474-8070-0DC8A07F6001}"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64" name="Group 2"/>
          <p:cNvGrpSpPr/>
          <p:nvPr/>
        </p:nvGrpSpPr>
        <p:grpSpPr>
          <a:xfrm>
            <a:off x="-8405640" y="4680"/>
            <a:ext cx="17538480" cy="13690800"/>
            <a:chOff x="-8405640" y="4680"/>
            <a:chExt cx="17538480" cy="13690800"/>
          </a:xfrm>
        </p:grpSpPr>
        <p:sp>
          <p:nvSpPr>
            <p:cNvPr id="26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6"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6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9" name="PlaceHolder 3"/>
          <p:cNvSpPr>
            <a:spLocks noGrp="1"/>
          </p:cNvSpPr>
          <p:nvPr>
            <p:ph type="dt" idx="19"/>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71" name="PlaceHolder 5"/>
          <p:cNvSpPr>
            <a:spLocks noGrp="1"/>
          </p:cNvSpPr>
          <p:nvPr>
            <p:ph type="sldNum" idx="21"/>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6280E-9ACB-4C75-8E6E-80F27026D381}"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08" name="Group 2"/>
          <p:cNvGrpSpPr/>
          <p:nvPr/>
        </p:nvGrpSpPr>
        <p:grpSpPr>
          <a:xfrm>
            <a:off x="-8405640" y="4680"/>
            <a:ext cx="17538480" cy="13690800"/>
            <a:chOff x="-8405640" y="4680"/>
            <a:chExt cx="17538480" cy="13690800"/>
          </a:xfrm>
        </p:grpSpPr>
        <p:sp>
          <p:nvSpPr>
            <p:cNvPr id="30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0"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1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13" name="PlaceHolder 3"/>
          <p:cNvSpPr>
            <a:spLocks noGrp="1"/>
          </p:cNvSpPr>
          <p:nvPr>
            <p:ph type="dt" idx="22"/>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315" name="PlaceHolder 5"/>
          <p:cNvSpPr>
            <a:spLocks noGrp="1"/>
          </p:cNvSpPr>
          <p:nvPr>
            <p:ph type="sldNum" idx="24"/>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0A16E-4870-4C05-9472-986127AE6F03}"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52" name="Group 2"/>
          <p:cNvGrpSpPr/>
          <p:nvPr/>
        </p:nvGrpSpPr>
        <p:grpSpPr>
          <a:xfrm>
            <a:off x="-8405640" y="4680"/>
            <a:ext cx="17538480" cy="13690800"/>
            <a:chOff x="-8405640" y="4680"/>
            <a:chExt cx="17538480" cy="13690800"/>
          </a:xfrm>
        </p:grpSpPr>
        <p:sp>
          <p:nvSpPr>
            <p:cNvPr id="35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4"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5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57" name="PlaceHolder 3"/>
          <p:cNvSpPr>
            <a:spLocks noGrp="1"/>
          </p:cNvSpPr>
          <p:nvPr>
            <p:ph type="dt" idx="25"/>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359" name="PlaceHolder 5"/>
          <p:cNvSpPr>
            <a:spLocks noGrp="1"/>
          </p:cNvSpPr>
          <p:nvPr>
            <p:ph type="sldNum" idx="27"/>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D054A-2655-4FA5-A722-ACAAB7E6C2E4}"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560" y="761760"/>
            <a:ext cx="8815320" cy="2306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u="sng">
                <a:solidFill>
                  <a:srgbClr val="ffcc66"/>
                </a:solidFill>
                <a:uFillTx/>
                <a:latin typeface="Monotype Corsiva"/>
              </a:rPr>
              <a:t>ГЛОБАЛЬНЫЕ ПРОБЛЕМЫ ЧЕЛОВЕЧЕСТВА.</a:t>
            </a:r>
            <a:endParaRPr b="0" lang="en-US" sz="4800" spc="-1" strike="noStrike">
              <a:solidFill>
                <a:srgbClr val="ffcc66"/>
              </a:solidFill>
              <a:latin typeface="Arial"/>
            </a:endParaRPr>
          </a:p>
        </p:txBody>
      </p:sp>
      <p:sp>
        <p:nvSpPr>
          <p:cNvPr id="536" name="PlaceHolder 2"/>
          <p:cNvSpPr>
            <a:spLocks noGrp="1"/>
          </p:cNvSpPr>
          <p:nvPr>
            <p:ph type="subTitle"/>
          </p:nvPr>
        </p:nvSpPr>
        <p:spPr>
          <a:xfrm>
            <a:off x="3347640" y="5373720"/>
            <a:ext cx="5638680" cy="103824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Выполнила :Дорофеева Ольга.</a:t>
            </a:r>
            <a:endParaRPr b="0" lang="en-US" sz="3200" spc="-1" strike="noStrike">
              <a:solidFill>
                <a:srgbClr val="ffffff"/>
              </a:solidFill>
              <a:latin typeface="Times New Roman"/>
            </a:endParaRPr>
          </a:p>
        </p:txBody>
      </p:sp>
      <p:sp>
        <p:nvSpPr>
          <p:cNvPr id="537" name="Місце для нижнього колонтитула 1"/>
          <p:cNvSpPr/>
          <p:nvPr/>
        </p:nvSpPr>
        <p:spPr>
          <a:xfrm>
            <a:off x="129528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cc66"/>
              </a:solidFill>
              <a:latin typeface="Arial"/>
            </a:endParaRPr>
          </a:p>
        </p:txBody>
      </p:sp>
      <p:sp>
        <p:nvSpPr>
          <p:cNvPr id="563" name="WordArt 5"/>
          <p:cNvSpPr txBox="1"/>
          <p:nvPr/>
        </p:nvSpPr>
        <p:spPr>
          <a:xfrm>
            <a:off x="1116000" y="1628640"/>
            <a:ext cx="6548400" cy="3240360"/>
          </a:xfrm>
          <a:prstGeom prst="rect">
            <a:avLst/>
          </a:prstGeom>
        </p:spPr>
        <p:txBody>
          <a:bodyPr wrap="none" lIns="90000" rIns="90000" tIns="46800" bIns="46800" anchor="t" anchorCtr="1">
            <a:prstTxWarp prst="textDeflateInflate">
              <a:avLst>
                <a:gd name="adj" fmla="val 783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ffffff"/>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Georgia"/>
              </a:rPr>
              <a:t>СПАСИБО ЗА ВНИМАНИЕ!</a:t>
            </a:r>
            <a:endParaRPr b="1" i="1" lang="en-US" sz="4400" spc="1" strike="noStrike">
              <a:ln w="9360">
                <a:solidFill>
                  <a:srgbClr val="ffffff"/>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Georgia"/>
              <a:ea typeface="Georgia"/>
            </a:endParaRPr>
          </a:p>
        </p:txBody>
      </p:sp>
      <p:sp>
        <p:nvSpPr>
          <p:cNvPr id="564"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2560" y="515880"/>
            <a:ext cx="80805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cc66"/>
              </a:solidFill>
              <a:latin typeface="Arial"/>
            </a:endParaRPr>
          </a:p>
        </p:txBody>
      </p:sp>
      <p:sp>
        <p:nvSpPr>
          <p:cNvPr id="539" name="PlaceHolder 2"/>
          <p:cNvSpPr>
            <a:spLocks noGrp="1"/>
          </p:cNvSpPr>
          <p:nvPr>
            <p:ph/>
          </p:nvPr>
        </p:nvSpPr>
        <p:spPr>
          <a:xfrm>
            <a:off x="178920" y="981000"/>
            <a:ext cx="8713800" cy="5114880"/>
          </a:xfrm>
          <a:prstGeom prst="rect">
            <a:avLst/>
          </a:prstGeom>
          <a:noFill/>
          <a:ln w="0">
            <a:noFill/>
          </a:ln>
        </p:spPr>
        <p:txBody>
          <a:bodyPr lIns="182520" rIns="182520" tIns="46080" bIns="46080"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4400" spc="-1" strike="noStrike">
                <a:solidFill>
                  <a:srgbClr val="ffffff"/>
                </a:solidFill>
                <a:latin typeface="Monotype Corsiva"/>
              </a:rPr>
              <a:t>Глобальными называют проблемы, которые охватывают весь мир, всё человечество, создают угрозу для его настоящего и будущего и требуют для своего решения объединенных усилий, совместных действий всех государств и народов. </a:t>
            </a:r>
            <a:endParaRPr b="0" lang="en-US" sz="4400" spc="-1" strike="noStrike">
              <a:solidFill>
                <a:srgbClr val="ffffff"/>
              </a:solidFill>
              <a:latin typeface="Times New Roman"/>
            </a:endParaRPr>
          </a:p>
        </p:txBody>
      </p:sp>
      <p:sp>
        <p:nvSpPr>
          <p:cNvPr id="540"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Экологическая проблема.</a:t>
            </a:r>
            <a:endParaRPr b="0" lang="en-US" sz="4400" spc="-1" strike="noStrike">
              <a:solidFill>
                <a:srgbClr val="ffcc66"/>
              </a:solidFill>
              <a:latin typeface="Arial"/>
            </a:endParaRPr>
          </a:p>
        </p:txBody>
      </p:sp>
      <p:sp>
        <p:nvSpPr>
          <p:cNvPr id="542" name="PlaceHolder 2"/>
          <p:cNvSpPr>
            <a:spLocks noGrp="1"/>
          </p:cNvSpPr>
          <p:nvPr>
            <p:ph/>
          </p:nvPr>
        </p:nvSpPr>
        <p:spPr>
          <a:xfrm>
            <a:off x="108000" y="1557000"/>
            <a:ext cx="8928000" cy="4538520"/>
          </a:xfrm>
          <a:prstGeom prst="rect">
            <a:avLst/>
          </a:prstGeom>
          <a:noFill/>
          <a:ln w="0">
            <a:noFill/>
          </a:ln>
        </p:spPr>
        <p:txBody>
          <a:bodyPr lIns="182520" rIns="182520" tIns="46080" bIns="4608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0" lang="ru-RU" sz="3200" spc="-1" strike="noStrike">
                <a:solidFill>
                  <a:srgbClr val="ffffff"/>
                </a:solidFill>
                <a:latin typeface="Monotype Corsiva"/>
              </a:rPr>
              <a:t>Истощение окружающей среды в результате нерационального природопользования, загрязнения её твердыми, жидкими и газообразными отходами и, более того, «отравление» её радиоактивными и другими высокотоксичными веществами уже привели к значительной деградации глобальной экологической системы. Эта проблема стала едва ли не главной проблемой выживания человечества. </a:t>
            </a:r>
            <a:endParaRPr b="0" lang="en-US" sz="3200" spc="-1" strike="noStrike">
              <a:solidFill>
                <a:srgbClr val="ffffff"/>
              </a:solidFill>
              <a:latin typeface="Times New Roman"/>
            </a:endParaRPr>
          </a:p>
        </p:txBody>
      </p:sp>
      <p:sp>
        <p:nvSpPr>
          <p:cNvPr id="543"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Демографическая проблема.</a:t>
            </a:r>
            <a:endParaRPr b="0" lang="en-US" sz="4400" spc="-1" strike="noStrike">
              <a:solidFill>
                <a:srgbClr val="ffcc66"/>
              </a:solidFill>
              <a:latin typeface="Arial"/>
            </a:endParaRPr>
          </a:p>
        </p:txBody>
      </p:sp>
      <p:sp>
        <p:nvSpPr>
          <p:cNvPr id="545" name="PlaceHolder 2"/>
          <p:cNvSpPr>
            <a:spLocks noGrp="1"/>
          </p:cNvSpPr>
          <p:nvPr>
            <p:ph/>
          </p:nvPr>
        </p:nvSpPr>
        <p:spPr>
          <a:xfrm>
            <a:off x="178920" y="1700280"/>
            <a:ext cx="8713800" cy="4395600"/>
          </a:xfrm>
          <a:prstGeom prst="rect">
            <a:avLst/>
          </a:prstGeom>
          <a:noFill/>
          <a:ln w="0">
            <a:noFill/>
          </a:ln>
        </p:spPr>
        <p:txBody>
          <a:bodyPr lIns="182520" rIns="18252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Monotype Corsiva"/>
              </a:rPr>
              <a:t>	</a:t>
            </a:r>
            <a:r>
              <a:rPr b="0" lang="ru-RU" sz="2800" spc="-1" strike="noStrike">
                <a:solidFill>
                  <a:srgbClr val="ffffff"/>
                </a:solidFill>
                <a:latin typeface="Monotype Corsiva"/>
              </a:rPr>
              <a:t>Эта еще одна приоритетная проблема выживания человечества. Демографический взрыв во всем мире уже пошел на убыль. Тем не менее инверсия демографического взрыва, связана в первую очередь с очень высокой долей молодых возрастов, будет сказываться еще долго.  </a:t>
            </a:r>
            <a:endParaRPr b="0" lang="en-US" sz="2800" spc="-1" strike="noStrike">
              <a:solidFill>
                <a:srgbClr val="ffffff"/>
              </a:solidFill>
              <a:latin typeface="Times New Roman"/>
            </a:endParaRPr>
          </a:p>
        </p:txBody>
      </p:sp>
      <p:sp>
        <p:nvSpPr>
          <p:cNvPr id="546"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50560" y="609120"/>
            <a:ext cx="8512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Проблема мира и разоружения.</a:t>
            </a:r>
            <a:endParaRPr b="0" lang="en-US" sz="4400" spc="-1" strike="noStrike">
              <a:solidFill>
                <a:srgbClr val="ffcc66"/>
              </a:solidFill>
              <a:latin typeface="Arial"/>
            </a:endParaRPr>
          </a:p>
        </p:txBody>
      </p:sp>
      <p:sp>
        <p:nvSpPr>
          <p:cNvPr id="548" name="PlaceHolder 2"/>
          <p:cNvSpPr>
            <a:spLocks noGrp="1"/>
          </p:cNvSpPr>
          <p:nvPr>
            <p:ph/>
          </p:nvPr>
        </p:nvSpPr>
        <p:spPr>
          <a:xfrm>
            <a:off x="0" y="1628280"/>
            <a:ext cx="8817120" cy="4753080"/>
          </a:xfrm>
          <a:prstGeom prst="rect">
            <a:avLst/>
          </a:prstGeom>
          <a:noFill/>
          <a:ln w="0">
            <a:noFill/>
          </a:ln>
        </p:spPr>
        <p:txBody>
          <a:bodyPr lIns="182520" rIns="182520" tIns="46080" bIns="4608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Хорошо известно, что во все исторические эпохи войны накладывали заметный отпечаток на развитие человеческой цивилизации. На протяжении нескольких десятилетий «холодной войны» проблема войны и мира, предотвращение мирового ядерного конфликта оставалась проблемой №1. </a:t>
            </a:r>
            <a:endParaRPr b="0" lang="en-US" sz="3200" spc="-1" strike="noStrike">
              <a:solidFill>
                <a:srgbClr val="ffffff"/>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0" lang="ru-RU" sz="3200" spc="-1" strike="noStrike">
                <a:solidFill>
                  <a:srgbClr val="ffffff"/>
                </a:solidFill>
                <a:latin typeface="Monotype Corsiva"/>
              </a:rPr>
              <a:t>Реальная угроза мирового термоядерного конфликта уже фактически ушла в прошлое.</a:t>
            </a:r>
            <a:endParaRPr b="0" lang="en-US" sz="3200" spc="-1" strike="noStrike">
              <a:solidFill>
                <a:srgbClr val="ffffff"/>
              </a:solidFill>
              <a:latin typeface="Times New Roman"/>
            </a:endParaRPr>
          </a:p>
        </p:txBody>
      </p:sp>
      <p:sp>
        <p:nvSpPr>
          <p:cNvPr id="549"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Продовольственная проблема.</a:t>
            </a:r>
            <a:endParaRPr b="0" lang="en-US" sz="4400" spc="-1" strike="noStrike">
              <a:solidFill>
                <a:srgbClr val="ffcc66"/>
              </a:solidFill>
              <a:latin typeface="Arial"/>
            </a:endParaRPr>
          </a:p>
        </p:txBody>
      </p:sp>
      <p:sp>
        <p:nvSpPr>
          <p:cNvPr id="551" name="PlaceHolder 2"/>
          <p:cNvSpPr>
            <a:spLocks noGrp="1"/>
          </p:cNvSpPr>
          <p:nvPr>
            <p:ph/>
          </p:nvPr>
        </p:nvSpPr>
        <p:spPr>
          <a:xfrm>
            <a:off x="-360" y="1412640"/>
            <a:ext cx="8893080" cy="4824360"/>
          </a:xfrm>
          <a:prstGeom prst="rect">
            <a:avLst/>
          </a:prstGeom>
          <a:noFill/>
          <a:ln w="0">
            <a:noFill/>
          </a:ln>
        </p:spPr>
        <p:txBody>
          <a:bodyPr lIns="182520" rIns="182520" tIns="46080" bIns="46080" anchor="t">
            <a:normAutofit fontScale="93000"/>
          </a:bodyPr>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Старинная мудрость гласит: «Человек ест, чтобы жить, а не живет, чтобы есть».Количество пищи, необходимой ему для нормальной жизни и деятельности, зависит от пола, возраста, веса, роста, от характера и условий труда, быта, от климатических особенностей территории. Но в настоящее время, по данным ООН, почти 2</a:t>
            </a:r>
            <a:r>
              <a:rPr b="0" lang="en-US" sz="3200" spc="-1" strike="noStrike">
                <a:solidFill>
                  <a:srgbClr val="ffffff"/>
                </a:solidFill>
                <a:latin typeface="Monotype Corsiva"/>
              </a:rPr>
              <a:t>/3</a:t>
            </a:r>
            <a:r>
              <a:rPr b="0" lang="ru-RU" sz="3200" spc="-1" strike="noStrike">
                <a:solidFill>
                  <a:srgbClr val="ffffff"/>
                </a:solidFill>
                <a:latin typeface="Monotype Corsiva"/>
              </a:rPr>
              <a:t> человечества проживает в странах, где ощущается постоянная нехватка продуктов. Вот почему продовольственную проблему следует считать глобальной. </a:t>
            </a:r>
            <a:endParaRPr b="0" lang="en-US" sz="3200" spc="-1" strike="noStrike">
              <a:solidFill>
                <a:srgbClr val="ffffff"/>
              </a:solidFill>
              <a:latin typeface="Times New Roman"/>
            </a:endParaRPr>
          </a:p>
        </p:txBody>
      </p:sp>
      <p:sp>
        <p:nvSpPr>
          <p:cNvPr id="552"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Monotype Corsiva"/>
              </a:rPr>
              <a:t>Энергетическая и сырьевая проблемы.</a:t>
            </a:r>
            <a:endParaRPr b="0" lang="en-US" sz="4000" spc="-1" strike="noStrike">
              <a:solidFill>
                <a:srgbClr val="ffcc66"/>
              </a:solidFill>
              <a:latin typeface="Arial"/>
            </a:endParaRPr>
          </a:p>
        </p:txBody>
      </p:sp>
      <p:sp>
        <p:nvSpPr>
          <p:cNvPr id="554" name="PlaceHolder 2"/>
          <p:cNvSpPr>
            <a:spLocks noGrp="1"/>
          </p:cNvSpPr>
          <p:nvPr>
            <p:ph/>
          </p:nvPr>
        </p:nvSpPr>
        <p:spPr>
          <a:xfrm>
            <a:off x="395280" y="1981080"/>
            <a:ext cx="8569440" cy="4114800"/>
          </a:xfrm>
          <a:prstGeom prst="rect">
            <a:avLst/>
          </a:prstGeom>
          <a:noFill/>
          <a:ln w="0">
            <a:noFill/>
          </a:ln>
        </p:spPr>
        <p:txBody>
          <a:bodyPr lIns="182520" rIns="182520" tIns="46080" bIns="46080" anchor="t">
            <a:normAutofit fontScale="91000"/>
          </a:bodyPr>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Это прежде всего проблемы надежного обеспечения человечества топливом и сырьем. В глобальных масштабах впервые эти проблемы появились в 70-х годах.</a:t>
            </a:r>
            <a:endParaRPr b="0" lang="en-US" sz="3200" spc="-1" strike="noStrike">
              <a:solidFill>
                <a:srgbClr val="ffffff"/>
              </a:solidFill>
              <a:latin typeface="Times New Roman"/>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0" lang="ru-RU" sz="3200" spc="-1" strike="noStrike">
                <a:solidFill>
                  <a:srgbClr val="ffffff"/>
                </a:solidFill>
                <a:latin typeface="Monotype Corsiva"/>
              </a:rPr>
              <a:t>Общее же количество энергии  и сырья, содержащееся в земных недрах и возникшее на Земле и околоземном пространстве, настолько велико, что теоретически не может и речи об их исчерпании.</a:t>
            </a:r>
            <a:endParaRPr b="0" lang="en-US" sz="3200" spc="-1" strike="noStrike">
              <a:solidFill>
                <a:srgbClr val="ffffff"/>
              </a:solidFill>
              <a:latin typeface="Times New Roman"/>
            </a:endParaRPr>
          </a:p>
        </p:txBody>
      </p:sp>
      <p:sp>
        <p:nvSpPr>
          <p:cNvPr id="555"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10920" y="40428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Проблема здоровья людей.</a:t>
            </a:r>
            <a:endParaRPr b="0" lang="en-US" sz="4400" spc="-1" strike="noStrike">
              <a:solidFill>
                <a:srgbClr val="ffcc66"/>
              </a:solidFill>
              <a:latin typeface="Arial"/>
            </a:endParaRPr>
          </a:p>
        </p:txBody>
      </p:sp>
      <p:sp>
        <p:nvSpPr>
          <p:cNvPr id="557" name="PlaceHolder 2"/>
          <p:cNvSpPr>
            <a:spLocks noGrp="1"/>
          </p:cNvSpPr>
          <p:nvPr>
            <p:ph/>
          </p:nvPr>
        </p:nvSpPr>
        <p:spPr>
          <a:xfrm>
            <a:off x="324000" y="1628640"/>
            <a:ext cx="8640720" cy="4896000"/>
          </a:xfrm>
          <a:prstGeom prst="rect">
            <a:avLst/>
          </a:prstGeom>
          <a:noFill/>
          <a:ln w="0">
            <a:noFill/>
          </a:ln>
        </p:spPr>
        <p:txBody>
          <a:bodyPr lIns="182520" rIns="182520" tIns="46080" bIns="4608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	</a:t>
            </a:r>
            <a:r>
              <a:rPr b="0" lang="ru-RU" sz="3200" spc="-1" strike="noStrike">
                <a:solidFill>
                  <a:srgbClr val="ffffff"/>
                </a:solidFill>
                <a:latin typeface="Monotype Corsiva"/>
              </a:rPr>
              <a:t>В последнее время в мировой практике при оценке качества жизни людей на первое место выдвигается состояние их здоровья. Многие болезни еще продолжают угрожать жизни людей, зачастую приобретая поистине глобальное распространение. Среди них можно назвать сердечно-сосудистые заболевания, злокачественные опухали, венерические болезни, наркоманию, малярию. Но совершено особую угрозу для всего  человечества представляет собой СПИД.</a:t>
            </a:r>
            <a:endParaRPr b="0" lang="en-US" sz="3200" spc="-1" strike="noStrike">
              <a:solidFill>
                <a:srgbClr val="ffffff"/>
              </a:solidFill>
              <a:latin typeface="Times New Roman"/>
            </a:endParaRPr>
          </a:p>
        </p:txBody>
      </p:sp>
      <p:sp>
        <p:nvSpPr>
          <p:cNvPr id="558"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24000" y="609120"/>
            <a:ext cx="8820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Monotype Corsiva"/>
              </a:rPr>
              <a:t>Проблема использования Мирового океана.</a:t>
            </a:r>
            <a:endParaRPr b="0" lang="en-US" sz="4000" spc="-1" strike="noStrike">
              <a:solidFill>
                <a:srgbClr val="ffcc66"/>
              </a:solidFill>
              <a:latin typeface="Arial"/>
            </a:endParaRPr>
          </a:p>
        </p:txBody>
      </p:sp>
      <p:sp>
        <p:nvSpPr>
          <p:cNvPr id="560" name="PlaceHolder 2"/>
          <p:cNvSpPr>
            <a:spLocks noGrp="1"/>
          </p:cNvSpPr>
          <p:nvPr>
            <p:ph/>
          </p:nvPr>
        </p:nvSpPr>
        <p:spPr>
          <a:xfrm>
            <a:off x="0" y="1844280"/>
            <a:ext cx="8964720" cy="453708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Мировой океан, занимающий 71% поверхности Земли, всегда играл важную роль в общении стран и народов. Сущность проблемы заключается в крайне неравномерном освоении ресурсов Океана, в увеличивающемся загрязнении морской среды, в использовании его как арены военной активности.   </a:t>
            </a:r>
            <a:endParaRPr b="0" lang="en-US" sz="3200" spc="-1" strike="noStrike">
              <a:solidFill>
                <a:srgbClr val="ffffff"/>
              </a:solidFill>
              <a:latin typeface="Times New Roman"/>
            </a:endParaRPr>
          </a:p>
        </p:txBody>
      </p:sp>
      <p:sp>
        <p:nvSpPr>
          <p:cNvPr id="561"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06:18:41Z</dcterms:created>
  <dc:creator>Uzer</dc:creator>
  <dc:description/>
  <dc:language>en-US</dc:language>
  <cp:lastModifiedBy>LEGION</cp:lastModifiedBy>
  <dcterms:modified xsi:type="dcterms:W3CDTF">2015-05-06T08:26:50Z</dcterms:modified>
  <cp:revision>8</cp:revision>
  <dc:subject/>
  <dc:title>ГЛОБАЛЬНЫЕ ПРОБЛЕМЫ ЧЕЛОВЕЧЕСТВА.</dc:title>
</cp:coreProperties>
</file>