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32463-74D9-4C21-98BE-F462AFD3B6CC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1488b"/>
                </a:solidFill>
                <a:latin typeface="Calibri"/>
              </a:rPr>
              <a:t>Новая модель цивил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полнила Иванкина Дарь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A11AB-52C9-4309-A215-8ECC7523F17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1488b"/>
                </a:solidFill>
                <a:latin typeface="Calibri"/>
              </a:rPr>
              <a:t>Це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слушав курс «Глобальные проблемы человечества», представить модель будущей цивилиз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8E328-C606-4CC0-A48B-B1F1BB16968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1488b"/>
                </a:solidFill>
                <a:latin typeface="Calibri"/>
              </a:rPr>
              <a:t>Задач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яснить, какие проблемы имеют место быть в современном мир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умать, какие проблемы могли бы исчезнуть в будущ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ть модель цивилизации будуще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A3FD1-326E-4940-BC4B-9AB92BECF87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1488b"/>
                </a:solidFill>
                <a:latin typeface="Calibri"/>
              </a:rPr>
              <a:t>Глобальные пробл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проблемы и ситуации, которые затрагивают условия жизни и деятельности людей, содержат угрозу для настоящего и будущег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C61E1-0376-47A4-BEC6-BCB84C4D728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1488b"/>
                </a:solidFill>
                <a:latin typeface="Calibri"/>
              </a:rPr>
              <a:t>Виды важнейших глобальных пробл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хранение мира на земл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нергетические и сырьев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довольствен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национальных отнош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ческ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мографическ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стал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ового океа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доровь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35259-277A-4BB1-AA51-CC8FA1AC2F0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1488b"/>
                </a:solidFill>
                <a:latin typeface="Calibri"/>
              </a:rPr>
              <a:t>наза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32E2C-666B-49E9-996E-907F11F3520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1488b"/>
                </a:solidFill>
                <a:latin typeface="Calibri"/>
              </a:rPr>
              <a:t>наза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266B8-345F-41A7-9B82-2FB2140AFFC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1488b"/>
                </a:solidFill>
                <a:latin typeface="Calibri"/>
              </a:rPr>
              <a:t>Проблемы, которые решатся в будущ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хранение мира на земл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нергетические и сырьев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довольствен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национальных отнош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мографическ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стал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доровь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708CB-DB1E-4193-ADA6-7ABC496D86F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1488b"/>
                </a:solidFill>
                <a:latin typeface="Calibri"/>
              </a:rPr>
              <a:t>Новая модель цивил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95E29-D29E-4609-99D9-200210D8A11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A55CE-02A3-4E77-A5A4-E9A727CC2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26231-0C31-4A34-8548-290501E2C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9ADC0-C512-4713-A9E7-A9F2E076A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BBD39-E11D-4DAD-9792-5573F487C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25279-E3E4-43A4-B1C5-D15C63843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8B730-9E05-4B7B-8B22-95DC92D71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9878E-CF6E-4EB7-9485-25B20A4BC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00B03-AE43-4403-B3BB-C4A3921D1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B5ACB-3609-455D-9BF3-D5C9497DD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4291F-4952-4270-A3D1-4011F995E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1092D-75FB-4E01-BD28-19E19228F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7EE4A-D39F-4185-8DF6-90B4E1DF2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D1FC6-F476-4DA1-84D2-B56749587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835D5-B654-4D51-BF24-833109F29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F068F-5A68-4FCF-B066-C2CC22792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7A53F-C933-4D1B-A59E-7BCD0E839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3AAC9-EE91-4D3E-9944-0A62751A8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98A9FF-2832-4F42-AD78-25328046A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8C7EAA-1864-4FBD-BF59-EF2EB4F05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DF99E1-7B0A-4B5F-AA2A-5476215C4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1DEC1E-5FFA-4B2B-B73F-10BAD8EAD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1D05B1-07D1-46B0-B628-10AB0B9E1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BE4BA-94FC-4A46-9C50-063BBCEDE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1EE886-3A21-417B-A3AA-30F7724ED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131FA3-0A6F-4A57-8400-998406291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D84627-FA51-47E8-921A-7A2134490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679472-4ACA-44BB-AA04-944040387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1F1266-2D3A-49E9-A164-232985CC3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80BC9C-D7D5-436E-AF69-E0F01B4DB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F17E7A-5DC1-45F7-AB5A-91D4F2F76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8E458E-22E8-4E6E-9192-605CC83EF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6ADFB5-AC1D-42E2-9B9E-2CE0A6ACD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9903B5-FD3F-4246-B098-AC707E6C1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3D4B7-02D0-4FE0-80CA-499BB6CC7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19611D-00FB-484A-A8A1-2B65D2398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A4BD6C-26B6-4BC5-B86D-955F112B4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1FF335-ABD9-48B0-AADA-90C8E94C7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9EA980-0D7A-46C8-BB97-2A7CD2FA5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766BAB-643A-44BC-874B-3E74E6480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48023E-39AF-4CD5-BC61-FBDA0FF22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185DA5-A27D-419F-83F1-EB675FF67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455B21-5532-4301-9EC2-42A48007B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6CFFD4-029A-4132-AE6B-17790CE52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F67E52-004C-444F-A830-5BC218C1F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2EA38-7988-43C8-8CA2-EFD9C4716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899BD3-0A9F-428F-8AEA-12422245F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7CA7F9-2932-4BB4-90A1-A59D50CDD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A8F216-EFB6-4BCA-A4D6-D09812E1C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667940-2ACB-40D9-B649-9651ABE6C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6F33B6-4E89-4E5D-9BF7-E1DC22F85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1F834F-BAC2-46B1-8C67-FEAA1C09D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8B297F-C62C-45C7-907A-8F2E9E30D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7EDE99-1489-4D42-9893-8430A897C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9ED0E6-CD85-424E-AA52-0914E592F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9D9098-5ED9-4F58-B533-0A00D72F8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D4EF3-725E-448B-A478-E5BE9F3B8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7258F3-ACBF-4FB7-927A-A32CDD931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227F3A-77D8-44EC-A7A4-1339D661B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EF6E79-4DFA-42B0-AAD2-7DF7B1832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CA01D0-6C0D-4F07-A345-975CCCF6E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B0412F-0564-4D86-8D9C-2CF8C1DA8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913620-43EB-4762-9FE8-0CCE211E9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769AFD-885A-4549-BDE9-0CEC2CD04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4A55A8-71B0-420A-AF43-A3CA2DADC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A5A976-4EE0-4A61-AA5A-9BE7008B2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B3E307-7A5A-4924-90E3-2C92F14DD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33BB1-BA53-4195-8F38-9C692C396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D39320-900C-4086-8127-6B63BB844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2468C4-128C-41D8-A85F-36C12101D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7E2D8E-60E2-4397-9F62-463B4790C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2B77CF-D583-45DC-8A13-5C7F3E468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69E6C6-6497-4F12-A5B1-A2D7D5D4E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63A02D-2FA9-4772-BFD7-155F9F274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FE7694-385F-4839-AB43-3F8BBBED6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199760-C91C-4431-8743-A86595335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A76DAD-DCE1-4A43-ACE6-CF15168AD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914A06-505A-4E12-A7F7-A071A56B7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A3B3E-91C6-4BCF-8A30-FD9FE0447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2BAC13-2E16-4B75-B914-4D14CE8F7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A18074-9244-4975-AC73-BA5051A14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C59034-3382-40FF-8867-3D98F7863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C356C3-88A3-4026-9791-5AEAFD1A4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10B86C-D588-42CB-A091-1B7CC52D6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51FEF-07BC-484E-B857-FE14CF5AA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3FD10-CBC4-4B5E-B185-3CF2DB8E4390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701F4-36FF-430A-B478-DA66573B4C3B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137C0-F524-4474-968C-DF6E6E7B1CF7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F3F16-859E-48CD-BE95-C96B57A379CC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CCC5D-D0D5-4A44-B41E-684AEAA87FBD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CB4B1-46C9-4930-B8CF-DCA393CEEE58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F57C5-3BA9-4748-8311-7A6105CBC806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FA301-7B53-4CB3-B0EA-13ECC8046EE1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9E796-FD6A-4D7B-82A5-1C95EDD2DD9C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06B87-747D-458E-A043-8EBD16FD6EF3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BD045-D42D-4C9F-A90A-F58BA26C7EBE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076B8-C74C-4A93-8FF0-6D73A777741A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F771B-CD7C-4804-9D44-4A250AB6DA60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0FBB1-B94B-4F81-B727-E55FA251F2B8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7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hyperlink" Target="http://go.mail.ru/frame.html?imgurl=http://homeland.su/uploads/posts/2008-09/1220935326_may_57.jpg&amp;pageurl=http://homeland.su/index.php?newsid=106&amp;id=9703565&amp;iid=0&amp;imgwidth=381&amp;imgheight=450&amp;imgsize=146040&amp;images_links=b" TargetMode="External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hyperlink" Target="http://go.mail.ru/frame.html?imgurl=http://www.k61.dn.ua/images/News/ekology.jpg&amp;pageurl=http://www.zovu.ru/adm/CSkA05.htm&amp;id=118048&amp;iid=6&amp;imgwidth=448&amp;imgheight=287&amp;imgsize=23700&amp;images_links=b" TargetMode="External"/><Relationship Id="rId3" Type="http://schemas.openxmlformats.org/officeDocument/2006/relationships/image" Target="../media/image8.jpeg"/><Relationship Id="rId4" Type="http://schemas.openxmlformats.org/officeDocument/2006/relationships/hyperlink" Target="http://go.mail.ru/frame.html?imgurl=http://www.iotekb.ru/assets/images/himiki/zavod.jpg&amp;pageurl=http://www.iotekb.ru/napravlenija/promyshlennaja_ekologija.html&amp;id=11640788&amp;iid=4&amp;imgwidth=797&amp;imgheight=412&amp;imgsize=19004&amp;images_links=b" TargetMode="External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Новая модель цивилизации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1431720" y="1848960"/>
            <a:ext cx="7407000" cy="17528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20e04"/>
                </a:solidFill>
                <a:latin typeface="Corbel"/>
              </a:rPr>
              <a:t>Выполнила Иванкина Дарья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7" name="Місце для нижнього колонтитула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32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Цель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рослушав курс «Глобальные проблемы человечества», представить модель будущей цивилизации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0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Задачи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Выяснить, какие проблемы имеют место быть в современном мире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одумать, какие проблемы могли бы исчезнуть в будущем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Создать модель цивилизации будущего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3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Глобальные проблемы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это проблемы и ситуации, которые затрагивают условия жизни и деятельности людей, содержат угрозу для настоящего и будущего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6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Виды важнейших глобальных проблем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1357200" y="1447920"/>
            <a:ext cx="75772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3200" spc="-1" strike="noStrike" u="sng">
                <a:solidFill>
                  <a:srgbClr val="8dc765"/>
                </a:solidFill>
                <a:uFillTx/>
                <a:latin typeface="Corbel"/>
                <a:hlinkClick r:id="rId1" action="ppaction://hlinksldjump"/>
              </a:rPr>
              <a:t>Сохранение мира на земле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Энергетические и сырьевые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родовольственные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Межнациональных отношений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8dc765"/>
                </a:solidFill>
                <a:uFillTx/>
                <a:latin typeface="Corbel"/>
                <a:hlinkClick r:id="rId2" action="ppaction://hlinksldjump"/>
              </a:rPr>
              <a:t> Экологическая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Демографическая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Отсталости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Мирового океана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Здоровья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9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-360" y="571464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 u="sng">
                <a:solidFill>
                  <a:srgbClr val="8dc765"/>
                </a:solidFill>
                <a:uFillTx/>
                <a:latin typeface="Corbel"/>
                <a:hlinkClick r:id="rId1" action="ppaction://hlinksldjump"/>
              </a:rPr>
              <a:t>назад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41" name="Picture 2" descr="C:\Users\Даша\Desktop\Моя_папкА\доклады\геогр\i[1].jpg"/>
          <p:cNvPicPr/>
          <p:nvPr/>
        </p:nvPicPr>
        <p:blipFill>
          <a:blip r:embed="rId2"/>
          <a:stretch/>
        </p:blipFill>
        <p:spPr>
          <a:xfrm>
            <a:off x="142920" y="285840"/>
            <a:ext cx="3708360" cy="247176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3" descr="C:\Users\Даша\Desktop\Моя_папкА\доклады\геогр\i[6].jpg"/>
          <p:cNvPicPr/>
          <p:nvPr/>
        </p:nvPicPr>
        <p:blipFill>
          <a:blip r:embed="rId3"/>
          <a:stretch/>
        </p:blipFill>
        <p:spPr>
          <a:xfrm>
            <a:off x="6357960" y="1143000"/>
            <a:ext cx="2565360" cy="357192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5" descr="http://im0-tub.mail.ru/i?id=9703565&amp;tov=0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928960" y="2928960"/>
            <a:ext cx="2638440" cy="3116160"/>
          </a:xfrm>
          <a:prstGeom prst="rect">
            <a:avLst/>
          </a:prstGeom>
          <a:ln w="0">
            <a:noFill/>
          </a:ln>
        </p:spPr>
      </p:pic>
      <p:sp>
        <p:nvSpPr>
          <p:cNvPr id="344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-360" y="571464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 u="sng">
                <a:solidFill>
                  <a:srgbClr val="8dc765"/>
                </a:solidFill>
                <a:uFillTx/>
                <a:latin typeface="Corbel"/>
                <a:hlinkClick r:id="rId1" action="ppaction://hlinksldjump"/>
              </a:rPr>
              <a:t>назад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7" name="Picture 2" descr="http://im6-tub.mail.ru/i?id=118048&amp;tov=6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032440" y="785880"/>
            <a:ext cx="4111560" cy="264312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4" descr="http://im4-tub.mail.ru/i?id=11640788&amp;tov=4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14200" y="357120"/>
            <a:ext cx="4587840" cy="238608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6" descr="http://im8-tub.mail.ru/i?id=29733032&amp;tov=8"/>
          <p:cNvPicPr/>
          <p:nvPr/>
        </p:nvPicPr>
        <p:blipFill>
          <a:blip r:embed="rId6"/>
          <a:stretch/>
        </p:blipFill>
        <p:spPr>
          <a:xfrm>
            <a:off x="1857240" y="3390840"/>
            <a:ext cx="5000760" cy="3467160"/>
          </a:xfrm>
          <a:prstGeom prst="rect">
            <a:avLst/>
          </a:prstGeom>
          <a:ln w="0">
            <a:noFill/>
          </a:ln>
        </p:spPr>
      </p:pic>
      <p:sp>
        <p:nvSpPr>
          <p:cNvPr id="350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Проблемы, которые решатся в будущем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Сохранение мира на земле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Энергетические и сырьевые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родовольственные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Межнациональных отношений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Демографическая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Отсталости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Здоровья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3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Новая модель цивилизации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56" name="Picture 1" descr="C:\Users\Даша\Desktop\Моя_папкА\доклады\геогр\Безымянный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3" descr=""/>
          <p:cNvPicPr/>
          <p:nvPr/>
        </p:nvPicPr>
        <p:blipFill>
          <a:blip r:embed="rId2"/>
          <a:stretch/>
        </p:blipFill>
        <p:spPr>
          <a:xfrm>
            <a:off x="2286000" y="2143080"/>
            <a:ext cx="885960" cy="176220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3" descr=""/>
          <p:cNvPicPr/>
          <p:nvPr/>
        </p:nvPicPr>
        <p:blipFill>
          <a:blip r:embed="rId3"/>
          <a:stretch/>
        </p:blipFill>
        <p:spPr>
          <a:xfrm>
            <a:off x="3214800" y="2143080"/>
            <a:ext cx="885600" cy="176220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3" descr=""/>
          <p:cNvPicPr/>
          <p:nvPr/>
        </p:nvPicPr>
        <p:blipFill>
          <a:blip r:embed="rId4"/>
          <a:stretch/>
        </p:blipFill>
        <p:spPr>
          <a:xfrm>
            <a:off x="3857760" y="2143080"/>
            <a:ext cx="885600" cy="1762200"/>
          </a:xfrm>
          <a:prstGeom prst="rect">
            <a:avLst/>
          </a:prstGeom>
          <a:ln w="0">
            <a:noFill/>
          </a:ln>
        </p:spPr>
      </p:pic>
      <p:sp>
        <p:nvSpPr>
          <p:cNvPr id="360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3T18:28:24Z</dcterms:created>
  <dc:creator>Даша</dc:creator>
  <dc:description/>
  <dc:language>en-US</dc:language>
  <cp:lastModifiedBy>LEGION</cp:lastModifiedBy>
  <dcterms:modified xsi:type="dcterms:W3CDTF">2015-05-06T08:27:58Z</dcterms:modified>
  <cp:revision>12</cp:revision>
  <dc:subject/>
  <dc:title>Слайд 1</dc:title>
</cp:coreProperties>
</file>