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ABA3-DE16-4642-ACB7-C82B6C9715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цепция развития человека в современном мире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ие вопросы и развитие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Е.А.Арманд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-21 июля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D269-E84F-4128-AE33-0EF662EB06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осы без ответа (п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колько быстрым (или медленным?) должно быть экономическое развитие, чтобы Общество осталось стабильным и благополучным, а чистая вода и воздух достались всем его член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жнее для Общества – любой ценой удвоить ВВП или не мешать жить серым китам и амурскому тигр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сэкономить ресурсы и не потерять при этом качество жиз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ется ли потерей качества жизни отказ от черной икры или 4-х литрового автомоби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CB50-E4E1-4881-B044-524D8746AE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5265-CC01-4EA6-9A0E-6692FFFAF9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экономический рост в стране «отвечает» крупный бизнес. Его же общество обвиняет во многих экологических грехах, при этом охотно давая себя вовлечь в гонку потребления, что по принципу обратной связи стимулирует развитие производства, в том числе грязн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ь социально и экологи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с отв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обеспечить необходимый экономический рост, не разоряя «копилку» общества, данную нам природ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ли устойчив рост за счет наращивания добычи углеводородов? Что получает государство и что получает Обще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политика социально ответственных компаний – желание получить прибыль или искреннее намерение поменьше вредить окружающей сре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т ли общество заверениям в лояльности к приро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и ответственным – выгод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отличить устойчивое развитие от простого рос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региональный продукт на душу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емкость В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 развития человеческого потенц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непереработанных отходов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3139-29C8-4643-8B88-7815821281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ожет сделать каждый для устойчивого развит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оимость поезд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AC22-C592-4371-8B89-D3EAE274FA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занимается экологическая программа ПРОО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4313-C77C-4EB1-89DE-D57F640E5D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DC78-D1FD-483B-BBC4-810FA08929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й первоначальный смысл – сохранение живой природы. Потом уже – новые смыслы: загрязнение воды и воздуха, экология души</a:t>
            </a: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Сохранение живой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обучение экологической грамот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создание новых источников заработка для местных общ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поддержку заповедников и природных парков, создание новых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храняемы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6BCB-14FF-485E-BAC4-6051749124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е «современное» понимание эк</a:t>
            </a:r>
            <a:r>
              <a:rPr b="0" lang="ru-RU" sz="2000" spc="-1" strike="noStrike">
                <a:solidFill>
                  <a:srgbClr val="3f5999"/>
                </a:solidFill>
                <a:latin typeface="Tahoma"/>
              </a:rPr>
              <a:t>Эффективное использование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уменьшение потерь тепла и энергии при транспортиров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усовершенствованную систему подсчета затраченной энергии и теп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использование не только традиционных видов топлива (газ, мазут), но и более дешевых, неиссякаемых (древесные отходы, геотермальные источн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внедрение новых технологий – напр. использование попутного газа при добыче уг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меньшение вреда от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огических проблем, связанное с изменениями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глеродный фонд для «Киотских» про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екты, невыгодные для крупных банков и фон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ая составляющая – решающий крите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3D95-CC8D-44AA-AD83-EEF8D0439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лобальный доклад о развитии человеческого потенциала 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а окружающ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е и бережное использование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изменения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A924-9886-4743-B656-6CF3107C84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Вам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47DD-0E0C-4906-958E-2369021ADB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40F7-308C-4DA8-A73A-A1AF27E2D6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жет быть плохой или хорош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на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опроса «Что такое экология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й. Синони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55DF-E412-46A1-B783-26273E6C7E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982 г. термином «устойчивое развитие» пользую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чего все начиналось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«Нам и внукам» (19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елы роста» - доклад Римского клуба (19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я ООН по устойчивому развитию в Рио-де-Жанейро (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ся все – политики, экономисты, журн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9796-4CB3-49A1-9BAD-0D16BFB7F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лесов рубится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ие вызо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нтропогенные изменения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рязнение воздуха, почвы и воды отходами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хватка чистой (в т.ч. питьевой)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чтожение лесо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ыльные бури, смыв плодородных почв, уменьшение кислорода в воздух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се эти негативные факторы – следстви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 ли развитие без ущерба человеку и приро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сжечь в печке в качестве 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менение клим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тем, что климат меняется, уже согласны в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се согласны с тем, что причина изменения климата – в основном челове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 – выгодно или полез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DE83-59E1-4DBD-B6BE-6B1926AF8E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6945-DE6C-4565-8831-9EF8B30649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рязнение почвы, воды и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ждого жителя планеты ежегодно добывается около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20 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инерального сырья, 97 – 98 % его в виде отходов поступает затем в почву, воду, возду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источники окиси азота выбрасывают 30 млн т азота в год, а антропогенные - 35-50 млн т; двуокиси серы, соответственно, около 30 млн т и более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50 млн 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результате деятельности человека свинца попадает в биосферу почти в 10 раз больше, чем в процессе природных загрязн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ценкам экспертов, в океан ежегодно попадает около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0 млн т неф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18D5-A4F4-4FDD-8FF5-69F8E0ADC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– такой же ресурс, как 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– такой же ресурс, как неф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у необходимо не менее 20–50 литров воды в день. Американцы потребляют в день 573 литра, итальянцы — 385 литров. В Мозамбике 10 литров воды в де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– от 20 до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1 млрд человек на Земле лишены доступа к чистой 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ть. Если нефтяные войны уже начались, то и водяные не за г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81FE-9CE5-492A-BB88-6828E3417F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услуги – лес как ценность сам по себе, не зависит от ценности древесины. Эстетическая ценность тоже может быть посчЛ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и все увеличивающаяся ценность лесов в современном мире - их способность поглощать углекислоту и генерировать кислород. До 1960 г.,  пока пропорции кислорода и углекислоты в атмосфере Земли не менялись, на эту роль лесов никто не обращал внимания. Но в последующие годы экологическое значение лесов можно было выражать в финансово-экономических показател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ить Бразилии за сохранение лес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услуги – экономическая катег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3334-7CD8-4E09-8291-702065ADDF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звитие меряется ВВП, ВРП, массой других показ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чем измерить уст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стойчивое развитие – что под этим понима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экономическое развитие – 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благополучное общество - 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ронутые леса, горы и степи, чистые продукты, вода и воздух –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всего этого достичь одновременно? – Уравнение с тремя неизвест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йчивое развит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FEEE-F990-4446-97C9-03EECEC1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935-DAB0-46A1-8A2A-983FEDF0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814C-C6D7-4611-896A-18E6B489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CE6-B8B5-47E5-BAD9-9678DD7C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6DF-B483-4F81-AC3C-BBBCBDAA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FB2-8BB1-4508-B7A2-67B8DF86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9EC-24A1-42AD-B235-481BA2EB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5C3B-1FB4-44A0-A972-F305973A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D7E-59DB-4AE7-9F95-0621E6B4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FA1-A987-4A0F-9FD9-930BFC14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1DE-AA11-4AFE-8CC8-BC775483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A67-57F1-4B20-91F4-5286DBDA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039F-7044-447A-BD68-63FBE7F0D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цепция развития человека в современном мире</a:t>
            </a:r>
            <a:br>
              <a:rPr sz="28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логические вопросы и развитие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.А.Арманд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-21 июля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опросы без ответа (по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колько быстрым (или медленным?) должно быть экономическое развитие, чтобы Общество осталось стабильным и благополучным, а чистая вода и воздух достались всем его член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ажнее для Общества – любой ценой удвоить ВВП или не мешать жить серым китам и амурскому тиг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сэкономить ресурсы и не потерять при этом качество жиз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ется ли потерей качества жизни отказ от черной икры или 4-х литрового автомоби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ы с отве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ли обеспечить необходимый экономический рост, не разоряя «копилку» общества, данную нам природ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ли устойчив рост за счет наращивания добычи углеводородов? Что получает государство и что получает Об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ая политика социально ответственных компаний – желание получить прибыль или искреннее намерение поменьше вредить окружающей сре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ит ли общество заверениям в лояльности к при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отличить устойчивое развитие от простого ро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овый региональный продукт на душу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ергоемкость ВР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екс развития человеческого потенц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вень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непереработанных отходов производства и потре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ет сделать каждый для устойчивого разви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мость поез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2438280"/>
          <a:ext cx="8153280" cy="389592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трансп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(к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росы СО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онн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щение количества взрослых деревь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ез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6248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занимается экологическая программа ПРО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Logo"/>
          <p:cNvPicPr/>
          <p:nvPr/>
        </p:nvPicPr>
        <p:blipFill>
          <a:blip r:embed="rId1"/>
          <a:stretch/>
        </p:blipFill>
        <p:spPr>
          <a:xfrm>
            <a:off x="304920" y="304920"/>
            <a:ext cx="112068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herepovez"/>
          <p:cNvPicPr/>
          <p:nvPr/>
        </p:nvPicPr>
        <p:blipFill>
          <a:blip r:embed="rId2"/>
          <a:stretch/>
        </p:blipFill>
        <p:spPr>
          <a:xfrm>
            <a:off x="0" y="25146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Ryabina"/>
          <p:cNvPicPr/>
          <p:nvPr/>
        </p:nvPicPr>
        <p:blipFill>
          <a:blip r:embed="rId1"/>
          <a:stretch/>
        </p:blipFill>
        <p:spPr>
          <a:xfrm>
            <a:off x="-99072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276720" y="0"/>
            <a:ext cx="2286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обучение экологической грам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создание новых источников заработка для местных общ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поддержку заповедников и природных парков, создание новы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храняемых объ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809880" y="1519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Сохранение живой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3505320" y="0"/>
            <a:ext cx="0" cy="6858000"/>
          </a:xfrm>
          <a:prstGeom prst="line">
            <a:avLst/>
          </a:prstGeom>
          <a:ln w="284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3276720" y="0"/>
            <a:ext cx="0" cy="6858000"/>
          </a:xfrm>
          <a:prstGeom prst="line">
            <a:avLst/>
          </a:prstGeom>
          <a:ln w="284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3352680" y="1522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352680" y="10666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3352680" y="19810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3352680" y="28954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3352680" y="38098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3352680" y="47242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3352680" y="56386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3352680" y="65530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Vetryak"/>
          <p:cNvPicPr/>
          <p:nvPr/>
        </p:nvPicPr>
        <p:blipFill>
          <a:blip r:embed="rId1"/>
          <a:stretch/>
        </p:blipFill>
        <p:spPr>
          <a:xfrm>
            <a:off x="-1676520" y="-152280"/>
            <a:ext cx="6953400" cy="7010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429000" y="0"/>
            <a:ext cx="5715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8120" y="0"/>
            <a:ext cx="380880" cy="6858000"/>
          </a:xfrm>
          <a:prstGeom prst="rect">
            <a:avLst/>
          </a:prstGeom>
          <a:solidFill>
            <a:srgbClr val="acd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f5999"/>
                </a:solidFill>
                <a:latin typeface="Tahoma"/>
              </a:rPr>
              <a:t>Эффективное использование энер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5181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уменьшение потерь тепла и энергии при транспортир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усовершенствованную систему подсчета затраченной энергии и теп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использование не только традиционных видов топлива (газ, мазут), но и более дешевых, неиссякаемых (древесные отходы, геотермальные источн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внедрение новых технологий – напр. использование попутного газа при добыче уг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меньшение вреда от тран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429000" y="0"/>
            <a:ext cx="0" cy="6858000"/>
          </a:xfrm>
          <a:prstGeom prst="line">
            <a:avLst/>
          </a:prstGeom>
          <a:ln w="1908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3048120" y="0"/>
            <a:ext cx="0" cy="6858000"/>
          </a:xfrm>
          <a:prstGeom prst="line">
            <a:avLst/>
          </a:prstGeom>
          <a:ln w="1908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3124080" y="609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3124080" y="1676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3124080" y="2743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3124080" y="3809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3124080" y="4876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31240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352680" y="1905120"/>
            <a:ext cx="57913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352680" y="0"/>
            <a:ext cx="5791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80920" y="152280"/>
            <a:ext cx="48769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глеродный фонд для «Киотских»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33560" y="24382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екты, невыгодные для крупных банков и фон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циальная составляющая – решающий крите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048120" y="0"/>
            <a:ext cx="38088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3124080" y="3049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3124080" y="11430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3124080" y="198108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3124080" y="28195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3124080" y="36576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3124080" y="449568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6"/>
          <p:cNvSpPr/>
          <p:nvPr/>
        </p:nvSpPr>
        <p:spPr>
          <a:xfrm>
            <a:off x="3124080" y="53341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3124080" y="61722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1" descr="ghg_effect"/>
          <p:cNvPicPr/>
          <p:nvPr/>
        </p:nvPicPr>
        <p:blipFill>
          <a:blip r:embed="rId1"/>
          <a:stretch/>
        </p:blipFill>
        <p:spPr>
          <a:xfrm>
            <a:off x="-45720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обальный доклад о развитии человеческого потенциала -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6201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рана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е и бережное использование эн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ствия изменения клим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bpcundp20mm"/>
          <p:cNvPicPr/>
          <p:nvPr/>
        </p:nvPicPr>
        <p:blipFill>
          <a:blip r:embed="rId1"/>
          <a:stretch/>
        </p:blipFill>
        <p:spPr>
          <a:xfrm>
            <a:off x="609480" y="457200"/>
            <a:ext cx="457200" cy="8874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Вам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то на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опроса «Что такое экология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ecology-poll"/>
          <p:cNvPicPr/>
          <p:nvPr/>
        </p:nvPicPr>
        <p:blipFill>
          <a:blip r:embed="rId1"/>
          <a:stretch/>
        </p:blipFill>
        <p:spPr>
          <a:xfrm>
            <a:off x="1828800" y="1828800"/>
            <a:ext cx="491508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чего все начина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«Нам и внукам» (19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ределы роста» - доклад Римского клуба (197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еренция ООН по устойчивому развитию в Рио-де-Жанейро (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выз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тропогенные изменения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воздуха, почвы и воды отходами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хватка чистой (в т.ч. питьевой)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чтожение лес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ыльные бури, смыв плодородных почв, уменьшение кислорода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эти негативные факторы – следств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 ли развитие без ущерба человеку и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зменение клим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тем, что климат меняется, уже согласны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 согласны с тем, что причина изменения климата – в основном челове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отский Протокол – выгодно или полез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грязнение почвы, воды и возд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ждого жителя планеты ежегодно добывается окол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20 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нерального сырья, 97 – 98 % его в виде отходов поступает затем в почву, воду, возду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ные источники окиси азота выбрасывают 30 млн т азота в год, а антропогенные - 35-50 млн т; двуокиси серы, соответственно, около 30 млн т и более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0 млн 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результате деятельности человека свинца попадает в биосферу почти в 10 раз больше, чем в процессе природных загряз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ценкам экспертов, в океан ежегодно попадает окол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0 млн т неф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– такой же ресурс, как неф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у необходимо не менее 20–50 литров воды в день. Американцы потребляют в день 573 литра, итальянцы — 385 литров. В Мозамбике 10 литров воды в д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– от 20 до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1 млрд человек на Земле лишены доступа к чистой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лавная и все увеличивающаяся ценность лесов в современном мире - их способность поглощать углекислоту и генерировать кислород. До 1960 г.,  пока пропорции кислорода и углекислоты в атмосфере Земли не менялись, на эту роль лесов никто не обращал внимания. Но в последующие годы экологическое значение лесов можно было выражать в финансово-экономических показателя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атить Бразилии за сохранение лесов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ологические услуги – экономическая катего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тойчивое развитие – что под этим поним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е экономическое развитие –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бильное благополучное общество -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ронутые леса, горы и степи, чистые продукты, вода и воздух –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всего этого достичь одновременно? – Уравнение с тремя неизвест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0:24:16Z</dcterms:created>
  <dc:creator>earmand</dc:creator>
  <dc:description/>
  <dc:language>en-US</dc:language>
  <cp:lastModifiedBy>LEGION</cp:lastModifiedBy>
  <dcterms:modified xsi:type="dcterms:W3CDTF">2015-05-06T08:28:29Z</dcterms:modified>
  <cp:revision>38</cp:revision>
  <dc:subject/>
  <dc:title>Чем занимается экология и экологическая программа ПРООН?</dc:title>
</cp:coreProperties>
</file>