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5240" cy="370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26EE1-6BE6-4828-ADF7-5E1E79ED3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12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CB72-DD4D-4CBB-A7FD-08928E3684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120DA-9011-421D-9B01-A07FDFB1C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201-6091-4866-BA96-A03F3E651D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экономический рост в стране «отвечает» крупный бизнес. Его же общество обвиняет во многих экологических грехах, при этом охотно давая себя вовлечь в гонку потребления, что по принципу обратной связи стимулирует развитие производства, в том числе грязн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ть социально и экологич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и ответственным – выгод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F68B-F96B-4585-AF6D-0DBB04DD21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676D-AAFE-4E11-8674-5830C6A137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E47F3-D82F-4E8F-A84D-ED5939F79F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1BA3E-F972-4747-BD2B-A8043007B6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ый первоначальный смысл – сохранение живой природы. Потом уже – новые смыслы: загрязнение воды и воздуха, экология души</a:t>
            </a:r>
            <a:r>
              <a:rPr b="1" lang="ru-RU" sz="12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9D29D-D500-4119-9565-33877F97C67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мое «современное» понимание эк</a:t>
            </a:r>
            <a:r>
              <a:rPr b="0" lang="ru-RU" sz="20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логических проблем, связанное с изменениями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FE4FF-1BB2-4B3E-9AB7-DCDCCA7666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15C0-AA0B-4D95-B640-54D14F136E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E68A3-4EAA-4014-B8DE-9D0A900C41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08278-7791-406F-913F-80BBC5E629C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может быть плохой или хорош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й. Синони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970E-06A8-478F-91C2-1193E80C40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982 г. термином «устойчивое развитие» пользую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ся все – политики, экономисты, журналис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911C7-BC26-4BD6-B874-848EAF6215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овина лесов рубится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сжечь в печке в качестве д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2E68-7932-4F26-A2CA-FC056670C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7DF4C-0B16-437B-B30C-AD99B64AB2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12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FFD8-DBCD-4D63-B117-B9D21785DAF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ть. Если нефтяные войны уже начались, то и водяные не за гор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1F9EB-21F7-4E16-898E-014C9DFDFF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лес как ценность сам по себе, не зависит от ценности древесины. Эстетическая ценность тоже может быть посчЛе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а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8557-1AFD-47DF-91AC-8A580D0C0E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5240" cy="37022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ое развитие меряется ВВП, ВРП, массой других показа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чем измерить уст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йчивое развити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81C-EAB7-4838-B362-D45147BE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E127-3E59-4E52-961B-8D6DC3DA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C49F-6D38-4AED-9DEB-174E4632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1E0-ACEF-4F04-B439-25AA7548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28E9-F6BA-4B03-A523-7A73EE12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640D-88EF-4BCA-9CB2-72CC599F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9976-B90D-4241-92B4-5429BCC6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99E4-D789-466D-8165-3D13A3C7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62E-0CE0-4A0C-B6B1-CC03A9B0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B498-F62A-43A7-AC39-B676CD726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D193-3521-429B-BEF3-E1CB0ABF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9E1C-EABD-4C9B-BB4F-2C2162A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4D854-567A-4711-8844-556FC80BC2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онцепция развития человека в современном мире</a:t>
            </a:r>
            <a:br>
              <a:rPr sz="28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кологические вопросы и развитие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.А.Арманд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4495320"/>
            <a:ext cx="82296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ск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9-21 июля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Вопросы без ответа (пок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колько быстрым (или медленным?) должно быть экономическое развитие, чтобы Общество осталось стабильным и благополучным, а чистая вода и воздух достались всем его члена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 важнее для Общества – любой ценой удвоить ВВП или не мешать жить серым китам и амурскому тигру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ожно ли сэкономить ресурсы и не потерять при этом качество жиз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читается ли потерей качества жизни отказ от черной икры или 4-х литрового автомобил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просы с отве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жно ли обеспечить необходимый экономический рост, не разоряя «копилку» общества, данную нам природой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ли устойчив рост за счет наращивания добычи углеводородов? Что получает государство и что получает Общество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кологическая политика социально ответственных компаний – желание получить прибыль или искреннее намерение поменьше вредить окружающей сре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ит ли общество заверениям в лояльности к природ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ак отличить устойчивое развитие от простого рос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аловый региональный продукт на душу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нергоемкость ВР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декс развития человеческого потенц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ровень безработ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личество непереработанных отходов производства и потреб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 может сделать каждый для устойчивого развити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оимость поезд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533520" y="2438280"/>
          <a:ext cx="8153280" cy="3895920"/>
        </p:xfrm>
        <a:graphic>
          <a:graphicData uri="http://schemas.openxmlformats.org/drawingml/2006/table">
            <a:tbl>
              <a:tblPr/>
              <a:tblGrid>
                <a:gridCol w="2038320"/>
                <a:gridCol w="2038320"/>
                <a:gridCol w="2038320"/>
                <a:gridCol w="2038320"/>
              </a:tblGrid>
              <a:tr h="822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ид транспор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сстояние (км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ыбросы СО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тонны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мещение количества взрослых деревье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ш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втобус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ез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мол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09320" y="380520"/>
            <a:ext cx="6248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ем занимается экологическая программа ПРООН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Logo"/>
          <p:cNvPicPr/>
          <p:nvPr/>
        </p:nvPicPr>
        <p:blipFill>
          <a:blip r:embed="rId1"/>
          <a:stretch/>
        </p:blipFill>
        <p:spPr>
          <a:xfrm>
            <a:off x="304920" y="304920"/>
            <a:ext cx="1120680" cy="22860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Cherepovez"/>
          <p:cNvPicPr/>
          <p:nvPr/>
        </p:nvPicPr>
        <p:blipFill>
          <a:blip r:embed="rId2"/>
          <a:stretch/>
        </p:blipFill>
        <p:spPr>
          <a:xfrm>
            <a:off x="0" y="25146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Ryabina"/>
          <p:cNvPicPr/>
          <p:nvPr/>
        </p:nvPicPr>
        <p:blipFill>
          <a:blip r:embed="rId1"/>
          <a:stretch/>
        </p:blipFill>
        <p:spPr>
          <a:xfrm>
            <a:off x="-990720" y="0"/>
            <a:ext cx="45943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3"/>
          <p:cNvSpPr/>
          <p:nvPr/>
        </p:nvSpPr>
        <p:spPr>
          <a:xfrm>
            <a:off x="3276720" y="0"/>
            <a:ext cx="228600" cy="6858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9880" y="1600200"/>
            <a:ext cx="50292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обучение экологической грамот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создание новых источников заработка для местных общ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рез поддержку заповедников и природных парков, создание новых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храняемых объек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3809880" y="151920"/>
            <a:ext cx="5029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Сохранение живой прир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8"/>
          <p:cNvSpPr/>
          <p:nvPr/>
        </p:nvSpPr>
        <p:spPr>
          <a:xfrm>
            <a:off x="35053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3276720" y="0"/>
            <a:ext cx="0" cy="6858000"/>
          </a:xfrm>
          <a:prstGeom prst="line">
            <a:avLst/>
          </a:prstGeom>
          <a:ln w="284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3352680" y="152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1"/>
          <p:cNvSpPr/>
          <p:nvPr/>
        </p:nvSpPr>
        <p:spPr>
          <a:xfrm>
            <a:off x="3352680" y="1066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3352680" y="1981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13"/>
          <p:cNvSpPr/>
          <p:nvPr/>
        </p:nvSpPr>
        <p:spPr>
          <a:xfrm>
            <a:off x="3352680" y="28954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14"/>
          <p:cNvSpPr/>
          <p:nvPr/>
        </p:nvSpPr>
        <p:spPr>
          <a:xfrm>
            <a:off x="3352680" y="38098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>
            <a:off x="3352680" y="47242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6"/>
          <p:cNvSpPr/>
          <p:nvPr/>
        </p:nvSpPr>
        <p:spPr>
          <a:xfrm>
            <a:off x="3352680" y="56386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7"/>
          <p:cNvSpPr/>
          <p:nvPr/>
        </p:nvSpPr>
        <p:spPr>
          <a:xfrm>
            <a:off x="3352680" y="6553080"/>
            <a:ext cx="76320" cy="76320"/>
          </a:xfrm>
          <a:custGeom>
            <a:avLst/>
            <a:gdLst>
              <a:gd name="textAreaLeft" fmla="*/ 11160 w 76320"/>
              <a:gd name="textAreaRight" fmla="*/ 65160 w 76320"/>
              <a:gd name="textAreaTop" fmla="*/ 11160 h 76320"/>
              <a:gd name="textAreaBottom" fmla="*/ 6516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Vetryak"/>
          <p:cNvPicPr/>
          <p:nvPr/>
        </p:nvPicPr>
        <p:blipFill>
          <a:blip r:embed="rId1"/>
          <a:stretch/>
        </p:blipFill>
        <p:spPr>
          <a:xfrm>
            <a:off x="-1676520" y="-152280"/>
            <a:ext cx="6953400" cy="70102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3"/>
          <p:cNvSpPr/>
          <p:nvPr/>
        </p:nvSpPr>
        <p:spPr>
          <a:xfrm>
            <a:off x="3429000" y="0"/>
            <a:ext cx="5715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acd5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580920" y="151920"/>
            <a:ext cx="5257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f5999"/>
                </a:solidFill>
                <a:latin typeface="Tahoma"/>
              </a:rPr>
              <a:t>Эффективное использование энерг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33560" y="1447560"/>
            <a:ext cx="518148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меньшение потерь тепла и энергии при транспортиров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усовершенствованную систему подсчета затраченной энергии и теп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использование не только традиционных видов топлива (газ, мазут), но и более дешевых, неиссякаемых (древесные отходы, геотермальные источник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ерез внедрение новых технологий – напр. использование попутного газа при добыче уг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3f5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меньшение вреда от транспор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8"/>
          <p:cNvSpPr/>
          <p:nvPr/>
        </p:nvSpPr>
        <p:spPr>
          <a:xfrm>
            <a:off x="342900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3048120" y="0"/>
            <a:ext cx="0" cy="6858000"/>
          </a:xfrm>
          <a:prstGeom prst="line">
            <a:avLst/>
          </a:prstGeom>
          <a:ln w="1908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10"/>
          <p:cNvSpPr/>
          <p:nvPr/>
        </p:nvSpPr>
        <p:spPr>
          <a:xfrm>
            <a:off x="3124080" y="6094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3124080" y="16765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2"/>
          <p:cNvSpPr/>
          <p:nvPr/>
        </p:nvSpPr>
        <p:spPr>
          <a:xfrm>
            <a:off x="3124080" y="27432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13"/>
          <p:cNvSpPr/>
          <p:nvPr/>
        </p:nvSpPr>
        <p:spPr>
          <a:xfrm>
            <a:off x="3124080" y="3809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14"/>
          <p:cNvSpPr/>
          <p:nvPr/>
        </p:nvSpPr>
        <p:spPr>
          <a:xfrm>
            <a:off x="3124080" y="48769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5"/>
          <p:cNvSpPr/>
          <p:nvPr/>
        </p:nvSpPr>
        <p:spPr>
          <a:xfrm>
            <a:off x="31240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38160">
            <a:solidFill>
              <a:srgbClr val="3f5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840" bIns="-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3352680" y="1905120"/>
            <a:ext cx="579132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3352680" y="0"/>
            <a:ext cx="5791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580920" y="152280"/>
            <a:ext cx="48769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Углеродный фонд для «Киотских»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733560" y="2438280"/>
            <a:ext cx="52578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екты, невыгодные для крупных банков и фон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SzPct val="11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циальная составляющая – решающий крите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9"/>
          <p:cNvSpPr/>
          <p:nvPr/>
        </p:nvSpPr>
        <p:spPr>
          <a:xfrm>
            <a:off x="3048120" y="0"/>
            <a:ext cx="380880" cy="685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0"/>
          <p:cNvSpPr/>
          <p:nvPr/>
        </p:nvSpPr>
        <p:spPr>
          <a:xfrm>
            <a:off x="3124080" y="3049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1"/>
          <p:cNvSpPr/>
          <p:nvPr/>
        </p:nvSpPr>
        <p:spPr>
          <a:xfrm>
            <a:off x="3124080" y="11430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124080" y="19810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3"/>
          <p:cNvSpPr/>
          <p:nvPr/>
        </p:nvSpPr>
        <p:spPr>
          <a:xfrm>
            <a:off x="3124080" y="28195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14"/>
          <p:cNvSpPr/>
          <p:nvPr/>
        </p:nvSpPr>
        <p:spPr>
          <a:xfrm>
            <a:off x="3124080" y="36576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5"/>
          <p:cNvSpPr/>
          <p:nvPr/>
        </p:nvSpPr>
        <p:spPr>
          <a:xfrm>
            <a:off x="3124080" y="449568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16"/>
          <p:cNvSpPr/>
          <p:nvPr/>
        </p:nvSpPr>
        <p:spPr>
          <a:xfrm>
            <a:off x="3124080" y="533412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7"/>
          <p:cNvSpPr/>
          <p:nvPr/>
        </p:nvSpPr>
        <p:spPr>
          <a:xfrm>
            <a:off x="3124080" y="6172200"/>
            <a:ext cx="228600" cy="228600"/>
          </a:xfrm>
          <a:custGeom>
            <a:avLst/>
            <a:gdLst>
              <a:gd name="textAreaLeft" fmla="*/ 22680 w 228600"/>
              <a:gd name="textAreaRight" fmla="*/ 205920 w 228600"/>
              <a:gd name="textAreaTop" fmla="*/ 91440 h 228600"/>
              <a:gd name="textAreaBottom" fmla="*/ 137160 h 22860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4320"/>
                </a:lnTo>
                <a:lnTo>
                  <a:pt x="8640" y="4320"/>
                </a:lnTo>
                <a:lnTo>
                  <a:pt x="8640" y="8640"/>
                </a:lnTo>
                <a:lnTo>
                  <a:pt x="4320" y="8640"/>
                </a:lnTo>
                <a:lnTo>
                  <a:pt x="4320" y="6480"/>
                </a:lnTo>
                <a:lnTo>
                  <a:pt x="0" y="10800"/>
                </a:lnTo>
                <a:lnTo>
                  <a:pt x="4320" y="15120"/>
                </a:lnTo>
                <a:lnTo>
                  <a:pt x="4320" y="12960"/>
                </a:lnTo>
                <a:lnTo>
                  <a:pt x="8640" y="12960"/>
                </a:lnTo>
                <a:lnTo>
                  <a:pt x="8640" y="17280"/>
                </a:lnTo>
                <a:lnTo>
                  <a:pt x="6480" y="17280"/>
                </a:lnTo>
                <a:lnTo>
                  <a:pt x="10800" y="21600"/>
                </a:lnTo>
                <a:lnTo>
                  <a:pt x="15120" y="17280"/>
                </a:lnTo>
                <a:lnTo>
                  <a:pt x="12960" y="17280"/>
                </a:lnTo>
                <a:lnTo>
                  <a:pt x="12960" y="12960"/>
                </a:lnTo>
                <a:lnTo>
                  <a:pt x="17280" y="12960"/>
                </a:lnTo>
                <a:lnTo>
                  <a:pt x="17280" y="15120"/>
                </a:lnTo>
                <a:lnTo>
                  <a:pt x="21600" y="10800"/>
                </a:lnTo>
                <a:lnTo>
                  <a:pt x="17280" y="6480"/>
                </a:lnTo>
                <a:lnTo>
                  <a:pt x="17280" y="8640"/>
                </a:lnTo>
                <a:lnTo>
                  <a:pt x="12960" y="8640"/>
                </a:lnTo>
                <a:lnTo>
                  <a:pt x="12960" y="4320"/>
                </a:lnTo>
                <a:lnTo>
                  <a:pt x="15120" y="4320"/>
                </a:lnTo>
                <a:lnTo>
                  <a:pt x="1080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" bIns="-1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1" descr="ghg_effect"/>
          <p:cNvPicPr/>
          <p:nvPr/>
        </p:nvPicPr>
        <p:blipFill>
          <a:blip r:embed="rId1"/>
          <a:stretch/>
        </p:blipFill>
        <p:spPr>
          <a:xfrm>
            <a:off x="-457200" y="0"/>
            <a:ext cx="39625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896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Глобальный доклад о развитии человеческого потенциала -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320" y="2590920"/>
            <a:ext cx="762012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храна окружающей сре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ффективное и бережное использование энерг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ледствия изменения клим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bpcundp20mm"/>
          <p:cNvPicPr/>
          <p:nvPr/>
        </p:nvPicPr>
        <p:blipFill>
          <a:blip r:embed="rId1"/>
          <a:stretch/>
        </p:blipFill>
        <p:spPr>
          <a:xfrm>
            <a:off x="609480" y="457200"/>
            <a:ext cx="457200" cy="88740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асибо Вам за 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прос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Экология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– это нау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зультаты опроса «Что такое экология?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ecology-poll"/>
          <p:cNvPicPr/>
          <p:nvPr/>
        </p:nvPicPr>
        <p:blipFill>
          <a:blip r:embed="rId1"/>
          <a:stretch/>
        </p:blipFill>
        <p:spPr>
          <a:xfrm>
            <a:off x="1828800" y="1828800"/>
            <a:ext cx="4915080" cy="472428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чего все начин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нига «Нам и внукам»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Пределы роста» - доклад Римского клуба (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ференция ООН по устойчивому развитию в Рио-де-Жанейро (1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логические вызов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нтропогенные изменения клим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грязнение воздуха, почвы и воды отходами производ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хватка чистой (в т.ч. питьевой) во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ничтожение лесов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→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ыльные бури, смыв плодородных почв, уменьшение кислорода в воздух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се эти негативные факторы – следств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ви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можно ли развитие без ущерба человеку и природ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зменение клим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тем, что климат меняется, уже согласны в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все согласны с тем, что причина изменения климата – в основном человеческая деяте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иотский Протокол – выгодно или полезн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агрязнение почвы, воды и воздух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аждого жителя планеты ежегодно добывается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20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инерального сырья, 97 – 98 % его в виде отходов поступает затем в почву, воду, возду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родные источники окиси азота выбрасывают 30 млн т азота в год, а антропогенные - 35-50 млн т; двуокиси серы, соответственно, около 30 млн т и более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50 млн 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В результате деятельности человека свинца попадает в биосферу почти в 10 раз больше, чем в процессе природных загрязнен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оценкам экспертов, в океан ежегодно попадает около </a:t>
            </a: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10 млн т неф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В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да – такой же ресурс, как неф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еловеку необходимо не менее 20–50 литров воды в день. Американцы потребляют в день 573 литра, итальянцы — 385 литров. В Мозамбике 10 литров воды в ден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– от 20 до 4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,1 млрд человек на Земле лишены доступа к чистой в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е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лавная и все увеличивающаяся ценность лесов в современном мире - их способность поглощать углекислоту и генерировать кислород. До 1960 г.,  пока пропорции кислорода и углекислоты в атмосфере Земли не менялись, на эту роль лесов никто не обращал внимания. Но в последующие годы экологическое значение лесов можно было выражать в финансово-экономических показателя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латить Бразилии за сохранение лесов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Экологические услуги – экономическая категор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Устойчивое развитие – что под этим понимает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ыстрое экономическое развитие –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абильное благополучное общество - 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тронутые леса, горы и степи, чистые продукты, вода и воздух –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жно ли всего этого достичь одновременно? – Уравнение с тремя неизвестны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9T10:24:16Z</dcterms:created>
  <dc:creator>earmand</dc:creator>
  <dc:description/>
  <dc:language>en-US</dc:language>
  <cp:lastModifiedBy>LEGION</cp:lastModifiedBy>
  <dcterms:modified xsi:type="dcterms:W3CDTF">2015-05-06T08:28:29Z</dcterms:modified>
  <cp:revision>38</cp:revision>
  <dc:subject/>
  <dc:title>Чем занимается экология и экологическая программа ПРООН?</dc:title>
</cp:coreProperties>
</file>