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4E88-5158-4428-BE17-F629D02BE0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нцепция развития человека в современном мире</a:t>
            </a:r>
            <a:br>
              <a:rPr sz="1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ологические вопросы и развитие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Е.А.Арманд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-21 июля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0B38-C086-4EED-BABB-A74E058863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просы без ответа (по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колько быстрым (или медленным?) должно быть экономическое развитие, чтобы Общество осталось стабильным и благополучным, а чистая вода и воздух достались всем его члена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ажнее для Общества – любой ценой удвоить ВВП или не мешать жить серым китам и амурскому тигр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ли сэкономить ресурсы и не потерять при этом качество жизн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читается ли потерей качества жизни отказ от черной икры или 4-х литрового автомобил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A3B3-5AD7-4BED-A608-68EC970CBA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AB0C-C5F5-45DB-8EA3-3C62AF9FC3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экономический рост в стране «отвечает» крупный бизнес. Его же общество обвиняет во многих экологических грехах, при этом охотно давая себя вовлечь в гонку потребления, что по принципу обратной связи стимулирует развитие производства, в том числе грязно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ь социально и экологич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ы с отве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ли обеспечить необходимый экономический рост, не разоряя «копилку» общества, данную нам природо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ли устойчив рост за счет наращивания добычи углеводородов? Что получает государство и что получает Обществ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политика социально ответственных компаний – желание получить прибыль или искреннее намерение поменьше вредить окружающей сред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ит ли общество заверениям в лояльности к природ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и ответственным – выгодн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ак отличить устойчивое развитие от простого рост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региональный продукт на душу нас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оемкость ВР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екс развития человеческого потенци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безработ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непереработанных отходов производства и потреб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EB61-3FEA-40CD-967A-65D308488C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может сделать каждый для устойчивого развит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тоимость поездк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2B5C-ABA9-48DF-9FAF-3D9D6424F2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занимается экологическая программа ПРОО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E12E-7474-442A-AF08-06A874E46C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17CC-D144-4579-ADEF-40A0F9D920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ый первоначальный смысл – сохранение живой природы. Потом уже – новые смыслы: загрязнение воды и воздуха, экология души</a:t>
            </a:r>
            <a:r>
              <a:rPr b="1" lang="ru-RU" sz="1200" spc="-1" strike="noStrike">
                <a:solidFill>
                  <a:srgbClr val="ffff00"/>
                </a:solidFill>
                <a:latin typeface="Tahoma"/>
              </a:rPr>
              <a:t>Сохранение живой прир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ерез обучение экологической грамот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ерез создание новых источников заработка для местных общ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ерез поддержку заповедников и природных парков, создание новых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храняемых о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1DE2-40C9-4E00-B3A7-5A75BDA83C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е «современное» понимание эк</a:t>
            </a:r>
            <a:r>
              <a:rPr b="0" lang="ru-RU" sz="2000" spc="-1" strike="noStrike">
                <a:solidFill>
                  <a:srgbClr val="3f5999"/>
                </a:solidFill>
                <a:latin typeface="Tahoma"/>
              </a:rPr>
              <a:t>Эффективное использование энер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ерез уменьшение потерь тепла и энергии при транспортиров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ерез усовершенствованную систему подсчета затраченной энергии и теп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ерез использование не только традиционных видов топлива (газ, мазут), но и более дешевых, неиссякаемых (древесные отходы, геотермальные источни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ерез внедрение новых технологий – напр. использование попутного газа при добыче уг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меньшение вреда от транспо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логических проблем, связанное с изменениями клим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Углеродный фонд для «Киотских» проек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екты, невыгодные для крупных банков и фон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циальная составляющая – решающий критер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4B0D-B69C-4857-B804-FAD0DD3C9E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Глобальный доклад о развитии человеческого потенциала -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рана окружающей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е и бережное использование эн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ствия изменения клим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5D7B-A5B9-4989-BD3B-974E861A17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Вам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24F0-2174-4D56-A02A-35ED7BE1D5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97DA-00FE-4E67-957B-28C4A9EE44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может быть плохой или хорош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это на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ы опроса «Что такое экология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й. Синоним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1D73-0D14-47BC-8355-EC7FA80469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1982 г. термином «устойчивое развитие» пользую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 чего все начиналось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нига «Нам и внукам» (196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еделы роста» - доклад Римского клуба (19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еренция ООН по устойчивому развитию в Рио-де-Жанейро (1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ся все – политики, экономисты, журналис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6B62-C8FE-4B4C-AD5C-E071EF4F5B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вина лесов рубится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ологические вызо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нтропогенные изменения клим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грязнение воздуха, почвы и воды отходами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хватка чистой (в т.ч. питьевой) 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ничтожение лесов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пыльные бури, смыв плодородных почв, уменьшение кислорода в воздух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Все эти негативные факторы – следстви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озможно ли развитие без ущерба человеку и природ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сжечь в печке в качестве д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зменение клим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тем, что климат меняется, уже согласны в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все согласны с тем, что причина изменения климата – в основном человеческ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отский Протокол – выгодно или полезн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6707-68ED-4F80-9B9D-CCD37A7BF3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7BE7-031F-4722-941D-295D4E0ABE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грязнение почвы, воды и возд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аждого жителя планеты ежегодно добывается около </a:t>
            </a: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20 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инерального сырья, 97 – 98 % его в виде отходов поступает затем в почву, воду, возду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ные источники окиси азота выбрасывают 30 млн т азота в год, а антропогенные - 35-50 млн т; двуокиси серы, соответственно, около 30 млн т и более </a:t>
            </a: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150 млн 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 результате деятельности человека свинца попадает в биосферу почти в 10 раз больше, чем в процессе природных загрязн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ценкам экспертов, в океан ежегодно попадает около </a:t>
            </a: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10 млн т неф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60F1-2DEF-4412-9C9B-E3BE380CC6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– такой же ресурс, как н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– такой же ресурс, как неф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у необходимо не менее 20–50 литров воды в день. Американцы потребляют в день 573 литра, итальянцы — 385 литров. В Мозамбике 10 литров воды в ден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– от 20 до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,1 млрд человек на Земле лишены доступа к чистой в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ть. Если нефтяные войны уже начались, то и водяные не за гор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EE23-50FD-4063-920E-D0FDFF4A08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ие услуги – лес как ценность сам по себе, не зависит от ценности древесины. Эстетическая ценность тоже может быть посчЛ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и все увеличивающаяся ценность лесов в современном мире - их способность поглощать углекислоту и генерировать кислород. До 1960 г.,  пока пропорции кислорода и углекислоты в атмосфере Земли не менялись, на эту роль лесов никто не обращал внимания. Но в последующие годы экологическое значение лесов можно было выражать в финансово-экономических показателя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ить Бразилии за сохранение лесов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ие услуги – экономическая катег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3B06-286E-4D72-A9DC-E5C3F21D89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ое развитие меряется ВВП, ВРП, массой других показ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чем измерить уст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Устойчивое развитие – что под этим понимаетс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строе экономическое развитие – 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бильное благополучное общество - 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ронутые леса, горы и степи, чистые продукты, вода и воздух –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ли всего этого достичь одновременно? – Уравнение с тремя неизвестн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йчивое развити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A259-8812-49EE-BC88-E1B66E0D6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5C6A-2752-40B0-AF70-11B76B8E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B7DD-F8D2-471E-AA11-670AA953B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5BBB-0609-4361-8B5B-64895A5B9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44EA-9C2D-4FE2-BA25-D60FA2D9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847F-5DCF-41D9-999D-1437AB14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0BCB-6437-434D-BFCC-837A797D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71DE-D0EE-4504-8F45-A4812E06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404D-25A7-4A57-8BD5-C10A3B69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E40C-70CE-48BC-86FF-DC798A95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3AC5-79EF-4C58-A75C-7216F7C1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69B6-D5FE-42C7-B400-86F40C2E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E207-6DCF-4CB7-890A-74FC3713AD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нцепция развития человека в современном мире</a:t>
            </a:r>
            <a:br>
              <a:rPr sz="28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кологические вопросы и развитие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Е.А.Арманд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4495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-21 июля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опросы без ответа (пок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колько быстрым (или медленным?) должно быть экономическое развитие, чтобы Общество осталось стабильным и благополучным, а чистая вода и воздух достались всем его члена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важнее для Общества – любой ценой удвоить ВВП или не мешать жить серым китам и амурскому тигр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ли сэкономить ресурсы и не потерять при этом качество жизн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итается ли потерей качества жизни отказ от черной икры или 4-х литрового автомобил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просы с ответ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но ли обеспечить необходимый экономический рост, не разоряя «копилку» общества, данную нам природ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 ли устойчив рост за счет наращивания добычи углеводородов? Что получает государство и что получает Общест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логическая политика социально ответственных компаний – желание получить прибыль или искреннее намерение поменьше вредить окружающей сре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ит ли общество заверениям в лояльности к приро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к отличить устойчивое развитие от простого ро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ловый региональный продукт на душу нас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нергоемкость ВР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екс развития человеческого потенц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вень безработ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чество непереработанных отходов производства и потреб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может сделать каждый для устойчивого развит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оимость поезд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33520" y="2438280"/>
          <a:ext cx="8153280" cy="3895920"/>
        </p:xfrm>
        <a:graphic>
          <a:graphicData uri="http://schemas.openxmlformats.org/drawingml/2006/table">
            <a:tbl>
              <a:tblPr/>
              <a:tblGrid>
                <a:gridCol w="2038320"/>
                <a:gridCol w="2038320"/>
                <a:gridCol w="2038320"/>
                <a:gridCol w="2038320"/>
              </a:tblGrid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трансп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тояние (к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росы СО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онн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ещение количества взрослых деревье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ш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бус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ез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09320" y="380520"/>
            <a:ext cx="62485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ем занимается экологическая программа ПРООН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Logo"/>
          <p:cNvPicPr/>
          <p:nvPr/>
        </p:nvPicPr>
        <p:blipFill>
          <a:blip r:embed="rId1"/>
          <a:stretch/>
        </p:blipFill>
        <p:spPr>
          <a:xfrm>
            <a:off x="304920" y="304920"/>
            <a:ext cx="1120680" cy="2286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Cherepovez"/>
          <p:cNvPicPr/>
          <p:nvPr/>
        </p:nvPicPr>
        <p:blipFill>
          <a:blip r:embed="rId2"/>
          <a:stretch/>
        </p:blipFill>
        <p:spPr>
          <a:xfrm>
            <a:off x="0" y="25146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Ryabina"/>
          <p:cNvPicPr/>
          <p:nvPr/>
        </p:nvPicPr>
        <p:blipFill>
          <a:blip r:embed="rId1"/>
          <a:stretch/>
        </p:blipFill>
        <p:spPr>
          <a:xfrm>
            <a:off x="-990720" y="0"/>
            <a:ext cx="45943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3276720" y="0"/>
            <a:ext cx="2286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505320" y="0"/>
            <a:ext cx="563868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809880" y="160020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рез обучение экологической грамо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рез создание новых источников заработка для местных общ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рез поддержку заповедников и природных парков, создание новых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храняемых объе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3809880" y="1519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Сохранение живой при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>
            <a:off x="3505320" y="0"/>
            <a:ext cx="0" cy="6858000"/>
          </a:xfrm>
          <a:prstGeom prst="line">
            <a:avLst/>
          </a:prstGeom>
          <a:ln w="2844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3276720" y="0"/>
            <a:ext cx="0" cy="6858000"/>
          </a:xfrm>
          <a:prstGeom prst="line">
            <a:avLst/>
          </a:prstGeom>
          <a:ln w="2844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3352680" y="152280"/>
            <a:ext cx="76320" cy="763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320"/>
              <a:gd name="textAreaBottom" fmla="*/ 6516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3352680" y="1066680"/>
            <a:ext cx="76320" cy="763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320"/>
              <a:gd name="textAreaBottom" fmla="*/ 6516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3352680" y="1981080"/>
            <a:ext cx="76320" cy="763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320"/>
              <a:gd name="textAreaBottom" fmla="*/ 6516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3352680" y="2895480"/>
            <a:ext cx="76320" cy="763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320"/>
              <a:gd name="textAreaBottom" fmla="*/ 6516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3352680" y="3809880"/>
            <a:ext cx="76320" cy="763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320"/>
              <a:gd name="textAreaBottom" fmla="*/ 6516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5"/>
          <p:cNvSpPr/>
          <p:nvPr/>
        </p:nvSpPr>
        <p:spPr>
          <a:xfrm>
            <a:off x="3352680" y="4724280"/>
            <a:ext cx="76320" cy="763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320"/>
              <a:gd name="textAreaBottom" fmla="*/ 6516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6"/>
          <p:cNvSpPr/>
          <p:nvPr/>
        </p:nvSpPr>
        <p:spPr>
          <a:xfrm>
            <a:off x="3352680" y="5638680"/>
            <a:ext cx="76320" cy="763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320"/>
              <a:gd name="textAreaBottom" fmla="*/ 6516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7"/>
          <p:cNvSpPr/>
          <p:nvPr/>
        </p:nvSpPr>
        <p:spPr>
          <a:xfrm>
            <a:off x="3352680" y="6553080"/>
            <a:ext cx="76320" cy="763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320"/>
              <a:gd name="textAreaBottom" fmla="*/ 6516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Vetryak"/>
          <p:cNvPicPr/>
          <p:nvPr/>
        </p:nvPicPr>
        <p:blipFill>
          <a:blip r:embed="rId1"/>
          <a:stretch/>
        </p:blipFill>
        <p:spPr>
          <a:xfrm>
            <a:off x="-1676520" y="-152280"/>
            <a:ext cx="6953400" cy="70102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3429000" y="0"/>
            <a:ext cx="5715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8120" y="0"/>
            <a:ext cx="380880" cy="6858000"/>
          </a:xfrm>
          <a:prstGeom prst="rect">
            <a:avLst/>
          </a:prstGeom>
          <a:solidFill>
            <a:srgbClr val="acd5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257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f5999"/>
                </a:solidFill>
                <a:latin typeface="Tahoma"/>
              </a:rPr>
              <a:t>Эффективное использование энер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733560" y="1447560"/>
            <a:ext cx="5181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ерез уменьшение потерь тепла и энергии при транспортиров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ерез усовершенствованную систему подсчета затраченной энергии и теп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ерез использование не только традиционных видов топлива (газ, мазут), но и более дешевых, неиссякаемых (древесные отходы, геотермальные источни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ерез внедрение новых технологий – напр. использование попутного газа при добыче уг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меньшение вреда от транспо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3429000" y="0"/>
            <a:ext cx="0" cy="6858000"/>
          </a:xfrm>
          <a:prstGeom prst="line">
            <a:avLst/>
          </a:prstGeom>
          <a:ln w="1908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9"/>
          <p:cNvSpPr/>
          <p:nvPr/>
        </p:nvSpPr>
        <p:spPr>
          <a:xfrm>
            <a:off x="3048120" y="0"/>
            <a:ext cx="0" cy="6858000"/>
          </a:xfrm>
          <a:prstGeom prst="line">
            <a:avLst/>
          </a:prstGeom>
          <a:ln w="1908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3124080" y="6094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3124080" y="16765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2"/>
          <p:cNvSpPr/>
          <p:nvPr/>
        </p:nvSpPr>
        <p:spPr>
          <a:xfrm>
            <a:off x="3124080" y="27432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3124080" y="38098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4"/>
          <p:cNvSpPr/>
          <p:nvPr/>
        </p:nvSpPr>
        <p:spPr>
          <a:xfrm>
            <a:off x="3124080" y="48769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5"/>
          <p:cNvSpPr/>
          <p:nvPr/>
        </p:nvSpPr>
        <p:spPr>
          <a:xfrm>
            <a:off x="3124080" y="59436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3352680" y="1905120"/>
            <a:ext cx="579132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3352680" y="0"/>
            <a:ext cx="579132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80920" y="152280"/>
            <a:ext cx="48769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Углеродный фонд для «Киотских» про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733560" y="2438280"/>
            <a:ext cx="5257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11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екты, невыгодные для крупных банков и фон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11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циальная составляющая – решающий крите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3048120" y="0"/>
            <a:ext cx="380880" cy="6858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0"/>
          <p:cNvSpPr/>
          <p:nvPr/>
        </p:nvSpPr>
        <p:spPr>
          <a:xfrm>
            <a:off x="3124080" y="304920"/>
            <a:ext cx="228600" cy="228600"/>
          </a:xfrm>
          <a:custGeom>
            <a:avLst/>
            <a:gdLst>
              <a:gd name="textAreaLeft" fmla="*/ 22680 w 228600"/>
              <a:gd name="textAreaRight" fmla="*/ 205920 w 228600"/>
              <a:gd name="textAreaTop" fmla="*/ 91440 h 228600"/>
              <a:gd name="textAreaBottom" fmla="*/ 1371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1"/>
          <p:cNvSpPr/>
          <p:nvPr/>
        </p:nvSpPr>
        <p:spPr>
          <a:xfrm>
            <a:off x="3124080" y="1143000"/>
            <a:ext cx="228600" cy="228600"/>
          </a:xfrm>
          <a:custGeom>
            <a:avLst/>
            <a:gdLst>
              <a:gd name="textAreaLeft" fmla="*/ 22680 w 228600"/>
              <a:gd name="textAreaRight" fmla="*/ 205920 w 228600"/>
              <a:gd name="textAreaTop" fmla="*/ 91440 h 228600"/>
              <a:gd name="textAreaBottom" fmla="*/ 1371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2"/>
          <p:cNvSpPr/>
          <p:nvPr/>
        </p:nvSpPr>
        <p:spPr>
          <a:xfrm>
            <a:off x="3124080" y="1981080"/>
            <a:ext cx="228600" cy="228600"/>
          </a:xfrm>
          <a:custGeom>
            <a:avLst/>
            <a:gdLst>
              <a:gd name="textAreaLeft" fmla="*/ 22680 w 228600"/>
              <a:gd name="textAreaRight" fmla="*/ 205920 w 228600"/>
              <a:gd name="textAreaTop" fmla="*/ 91440 h 228600"/>
              <a:gd name="textAreaBottom" fmla="*/ 1371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3"/>
          <p:cNvSpPr/>
          <p:nvPr/>
        </p:nvSpPr>
        <p:spPr>
          <a:xfrm>
            <a:off x="3124080" y="2819520"/>
            <a:ext cx="228600" cy="228600"/>
          </a:xfrm>
          <a:custGeom>
            <a:avLst/>
            <a:gdLst>
              <a:gd name="textAreaLeft" fmla="*/ 22680 w 228600"/>
              <a:gd name="textAreaRight" fmla="*/ 205920 w 228600"/>
              <a:gd name="textAreaTop" fmla="*/ 91440 h 228600"/>
              <a:gd name="textAreaBottom" fmla="*/ 1371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4"/>
          <p:cNvSpPr/>
          <p:nvPr/>
        </p:nvSpPr>
        <p:spPr>
          <a:xfrm>
            <a:off x="3124080" y="3657600"/>
            <a:ext cx="228600" cy="228600"/>
          </a:xfrm>
          <a:custGeom>
            <a:avLst/>
            <a:gdLst>
              <a:gd name="textAreaLeft" fmla="*/ 22680 w 228600"/>
              <a:gd name="textAreaRight" fmla="*/ 205920 w 228600"/>
              <a:gd name="textAreaTop" fmla="*/ 91440 h 228600"/>
              <a:gd name="textAreaBottom" fmla="*/ 1371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5"/>
          <p:cNvSpPr/>
          <p:nvPr/>
        </p:nvSpPr>
        <p:spPr>
          <a:xfrm>
            <a:off x="3124080" y="4495680"/>
            <a:ext cx="228600" cy="228600"/>
          </a:xfrm>
          <a:custGeom>
            <a:avLst/>
            <a:gdLst>
              <a:gd name="textAreaLeft" fmla="*/ 22680 w 228600"/>
              <a:gd name="textAreaRight" fmla="*/ 205920 w 228600"/>
              <a:gd name="textAreaTop" fmla="*/ 91440 h 228600"/>
              <a:gd name="textAreaBottom" fmla="*/ 1371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6"/>
          <p:cNvSpPr/>
          <p:nvPr/>
        </p:nvSpPr>
        <p:spPr>
          <a:xfrm>
            <a:off x="3124080" y="5334120"/>
            <a:ext cx="228600" cy="228600"/>
          </a:xfrm>
          <a:custGeom>
            <a:avLst/>
            <a:gdLst>
              <a:gd name="textAreaLeft" fmla="*/ 22680 w 228600"/>
              <a:gd name="textAreaRight" fmla="*/ 205920 w 228600"/>
              <a:gd name="textAreaTop" fmla="*/ 91440 h 228600"/>
              <a:gd name="textAreaBottom" fmla="*/ 1371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7"/>
          <p:cNvSpPr/>
          <p:nvPr/>
        </p:nvSpPr>
        <p:spPr>
          <a:xfrm>
            <a:off x="3124080" y="6172200"/>
            <a:ext cx="228600" cy="228600"/>
          </a:xfrm>
          <a:custGeom>
            <a:avLst/>
            <a:gdLst>
              <a:gd name="textAreaLeft" fmla="*/ 22680 w 228600"/>
              <a:gd name="textAreaRight" fmla="*/ 205920 w 228600"/>
              <a:gd name="textAreaTop" fmla="*/ 91440 h 228600"/>
              <a:gd name="textAreaBottom" fmla="*/ 1371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1" descr="ghg_effect"/>
          <p:cNvPicPr/>
          <p:nvPr/>
        </p:nvPicPr>
        <p:blipFill>
          <a:blip r:embed="rId1"/>
          <a:stretch/>
        </p:blipFill>
        <p:spPr>
          <a:xfrm>
            <a:off x="-457200" y="0"/>
            <a:ext cx="39625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лобальный доклад о развитии человеческого потенциала -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2590920"/>
            <a:ext cx="762012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храна окружающей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ффективное и бережное использование энер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дствия изменения клим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bpcundp20mm"/>
          <p:cNvPicPr/>
          <p:nvPr/>
        </p:nvPicPr>
        <p:blipFill>
          <a:blip r:embed="rId1"/>
          <a:stretch/>
        </p:blipFill>
        <p:spPr>
          <a:xfrm>
            <a:off x="609480" y="457200"/>
            <a:ext cx="457200" cy="8874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 Вам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это нау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ы опроса «Что такое экология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ecology-poll"/>
          <p:cNvPicPr/>
          <p:nvPr/>
        </p:nvPicPr>
        <p:blipFill>
          <a:blip r:embed="rId1"/>
          <a:stretch/>
        </p:blipFill>
        <p:spPr>
          <a:xfrm>
            <a:off x="1828800" y="1828800"/>
            <a:ext cx="4915080" cy="47242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чего все начинало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а «Нам и внукам» (196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Пределы роста» - доклад Римского клуба (197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ференция ООН по устойчивому развитию в Рио-де-Жанейро (1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ческие выз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нтропогенные изменения клим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воздуха, почвы и воды отходами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хватка чистой (в т.ч. питьевой)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ничтожение лесо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ыльные бури, смыв плодородных почв, уменьшение кислорода в воздух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се эти негативные факторы – следств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озможно ли развитие без ущерба человеку и приро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зменение клим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тем, что климат меняется, уже согласны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все согласны с тем, что причина изменения климата – в основном человеческ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отский Протокол – выгодно или полез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грязнение почвы, воды и воздух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каждого жителя планеты ежегодно добывается около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20 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инерального сырья, 97 – 98 % его в виде отходов поступает затем в почву, воду, возду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ные источники окиси азота выбрасывают 30 млн т азота в год, а антропогенные - 35-50 млн т; двуокиси серы, соответственно, около 30 млн т и более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150 млн 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результате деятельности человека свинца попадает в биосферу почти в 10 раз больше, чем в процессе природных загрязн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оценкам экспертов, в океан ежегодно попадает около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10 млн т неф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а – такой же ресурс, как неф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у необходимо не менее 20–50 литров воды в день. Американцы потребляют в день 573 литра, итальянцы — 385 литров. В Мозамбике 10 литров воды в ден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– от 20 до 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,1 млрд человек на Земле лишены доступа к чистой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лавная и все увеличивающаяся ценность лесов в современном мире - их способность поглощать углекислоту и генерировать кислород. До 1960 г.,  пока пропорции кислорода и углекислоты в атмосфере Земли не менялись, на эту роль лесов никто не обращал внимания. Но в последующие годы экологическое значение лесов можно было выражать в финансово-экономических показателях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латить Бразилии за сохранение лесов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кологические услуги – экономическая категор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стойчивое развитие – что под этим понимае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строе экономическое развитие – 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бильное благополучное общество - 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тронутые леса, горы и степи, чистые продукты, вода и воздух –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но ли всего этого достичь одновременно? – Уравнение с тремя неизвест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9T10:24:16Z</dcterms:created>
  <dc:creator>earmand</dc:creator>
  <dc:description/>
  <dc:language>en-US</dc:language>
  <cp:lastModifiedBy>LEGION</cp:lastModifiedBy>
  <dcterms:modified xsi:type="dcterms:W3CDTF">2015-05-06T08:28:29Z</dcterms:modified>
  <cp:revision>38</cp:revision>
  <dc:subject/>
  <dc:title>Чем занимается экология и экологическая программа ПРООН?</dc:title>
</cp:coreProperties>
</file>