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01EF-685A-416B-82C2-C40BA173A1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ЭКОЛОГИИ КОММОНЕ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ны в начале 70-х годов XX в. американским ученым Б. Коммонер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3D5-9987-42A3-B92B-DDFD70CA637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ерв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связано со вс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468-CFB7-4A68-9743-EBD80F1BDC9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торо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должно куда-то деватьс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94C2-224F-4CF6-89C2-D0DBA0D28B1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ет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ирода "знает"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6F6-C5EA-45B3-9FEA-645DEC3BABB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тверт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91B6-93E1-4293-AA09-A3035E8C82F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787-975F-4249-9857-CE6B2D2A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CB4-1567-4818-9D3C-D2E22CB6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1D6-A2F1-4F30-9C16-2122B3A1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C01-9E9C-4E07-B09A-1244DECF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A752-F9E1-4942-954B-260AA792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B21-2462-476F-83E9-C6F5D2B3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BADF-B3AF-49E7-AD0D-2E1A292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57D3-49B5-4327-915F-123B6E51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E40C-78AB-44C1-BBCD-B5F26484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96E0-39C2-4BCA-B3C6-9E1FF940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A639-A245-4C14-902D-1848219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2A6-725E-4882-AB93-F7832AB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111B-A75C-4BFC-A714-41C966E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B897-37FC-490B-BFEC-5A7D22C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2B2E-A931-426D-B85D-571DF588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73F0-F9B8-46D4-B339-8A4D94E2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3856-76DD-4D8C-8304-8205D6AA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0CD-8AB0-4D31-9012-2EBDE1F7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00A-6F71-4A1D-AA6B-699CE884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C65-02D2-448D-A118-5123AD97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415-2FCB-4BFB-A07F-87A93ED3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E02-969B-4D79-94B0-732CCC8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99B-59EF-460F-A67E-34BC5FE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8AA-F8C0-49E6-B70C-7D1ABF7D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C34-3FE0-41F2-B7D7-CDE4827EEF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350-48A8-4F37-BF5F-1D8516282C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КОНЫ ЭКОЛОГИИ КОММОН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формулированы в начале 70-х годов XX в. американским ученым Б. Коммон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Перв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связано со вс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Второ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должно куда-то деватьс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рети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рирода "знает" лучш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Четверт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36:26Z</dcterms:created>
  <dc:creator>Paradise</dc:creator>
  <dc:description/>
  <dc:language>en-US</dc:language>
  <cp:lastModifiedBy>LEGION</cp:lastModifiedBy>
  <dcterms:modified xsi:type="dcterms:W3CDTF">2015-05-06T08:28:42Z</dcterms:modified>
  <cp:revision>4</cp:revision>
  <dc:subject/>
  <dc:title>ЗАКОНЫ ЭКОЛОГИИ КОММОНЕРА </dc:title>
</cp:coreProperties>
</file>