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F98A-C2A1-4AC8-85AD-7C19E398DC8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ЭКОЛОГИИ КОММОНЕР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ны в начале 70-х годов XX в. американским ученым Б. Коммонер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8F7E-4F48-4B8C-867E-8B73834317A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ервы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се связано со все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 об экосистемах и биосфере, обращающий внимание на всеобщую связь процессов и явлений в природе. Он призван предостеречь человека от необдуманного воздействия на отдельные части экосистем, что может привести к непредвиденным последствиям, (например, осушение болот приводит к обмелению рек)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CD1C-2B1F-4EA3-B83F-29D0F1E10E4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торо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се должно куда-то деватьс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 о хозяйственной деятельности человека, отходы от которых неизбежны, и потому необходимо думать как об уменьшении их количества, так и о последующем их использовани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6EF0-C327-48C2-ABC0-6A6122949FC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Трет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рирода "знает" лучш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 разумного, сознательного природопользования. Нельзя забывать, что человек - тоже биологический вид, что он - часть природы, а не ее властелин. Это означает, что нельзя пытаться покорить природу, а нужно сотрудничать с ней. Пока мы не имеем полной информации о механизмах и функциях природы, а без точного знания последствий преобразования природы недопустимы никакие ее "улучшения"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C04C-FC95-41BE-91D4-E8DE4719517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Четверты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Ничто не дается даром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закон рационального природопользования. "...Глобальная экосистема представляет собой единое целое, в рамках которого ничего не может быть выиграно или потеряно и которая не может являться объектом всеобщего улучшения". Платить нужно энергией за дополнительную очистку отходов, удобрением - за повышение урожая, санаториями и лекарствами - за ухудшение здоровья человека и т 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F032-3C31-41B1-AC22-83A62BDEAF5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8691-7820-495E-BF8E-741380ED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B14-E6AA-475D-B5A8-F7490BC0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95B-0696-4678-A7A0-1D113258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449-8983-45C5-8349-093E6006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FEDB-69AF-4C88-AC99-364B2096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AC7F-F401-4306-8F13-B0BFA1AF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2D67-9369-4BDE-8A20-7B83F1BE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2FFA-2E5D-48D2-9502-371F3487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93FE-B46D-414E-9D59-41A7DF7E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C019-0A45-40C4-B420-C24FCE28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E0C3-43F1-475B-AF81-E531CD10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633-FDA5-4D9B-BF13-2E0C8EBF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FA08-8534-4791-802E-FA709971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3049-40A7-449B-9BA5-BB1ECE9C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8825-DB1F-4856-83E3-3AA5397A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0010-1999-4AFE-9CCC-51296620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9237-CF92-4844-90BB-642827A7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9C6F-3F37-46D5-AAC8-427894B8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E22F-1F54-4F02-B158-10F24E82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655-F1B0-4B55-A9E9-6FF93B96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D96-F175-4FA1-A888-1F6EA318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F020-D12C-4E91-801A-27C716B8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2A9B-E733-4677-965A-7C3610A8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D75-DC29-4868-95DF-1E0F5612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D8FB-097C-417B-BE19-232A2721AC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8187-2E95-4D54-9356-C76F3E05E8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2060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КОНЫ ЭКОЛОГИИ КОММОНЕР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формулированы в начале 70-х годов XX в. американским ученым Б. Коммонеро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Первы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6960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Все связано со всем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закон об экосистемах и биосфере, обращающий внимание на всеобщую связь процессов и явлений в природе. Он призван предостеречь человека от необдуманного воздействия на отдельные части экосистем, что может привести к непредвиденным последствиям, (например, осушение болот приводит к обмелению рек)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Второ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Все должно куда-то деваться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закон о хозяйственной деятельности человека, отходы от которых неизбежны, и потому необходимо думать как об уменьшении их количества, так и о последующем их использовани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Трети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Природа "знает" лучше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закон разумного, сознательного природопользования. Нельзя забывать, что человек - тоже биологический вид, что он - часть природы, а не ее властелин. Это означает, что нельзя пытаться покорить природу, а нужно сотрудничать с ней. Пока мы не имеем полной информации о механизмах и функциях природы, а без точного знания последствий преобразования природы недопустимы никакие ее "улучшения"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Четверты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Ничто не дается даром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закон рационального природопользования. "...Глобальная экосистема представляет собой единое целое, в рамках которого ничего не может быть выиграно или потеряно и которая не может являться объектом всеобщего улучшения". Платить нужно энергией за дополнительную очистку отходов, удобрением - за повышение урожая, санаториями и лекарствами - за ухудшение здоровья человека и т д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36:26Z</dcterms:created>
  <dc:creator>Paradise</dc:creator>
  <dc:description/>
  <dc:language>en-US</dc:language>
  <cp:lastModifiedBy>LEGION</cp:lastModifiedBy>
  <dcterms:modified xsi:type="dcterms:W3CDTF">2015-05-06T08:28:42Z</dcterms:modified>
  <cp:revision>4</cp:revision>
  <dc:subject/>
  <dc:title>ЗАКОНЫ ЭКОЛОГИИ КОММОНЕРА </dc:title>
</cp:coreProperties>
</file>