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5.png" ContentType="image/png"/>
  <Override PartName="/ppt/media/image24.jpeg" ContentType="image/jpeg"/>
  <Override PartName="/ppt/media/image21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4731-31AC-4E2D-AB73-E391BE384F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E212-CD11-4E1B-981A-7204D6D7F54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A9F2-25F8-4904-B6BB-15F832A71DCF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0E6B-383D-4254-A417-AF3A76C26F3B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C85B-FCBC-4E66-BBBA-614051457ABB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A474-DBF7-4EEA-AFA3-EB7B3A27520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646C-26FC-4169-A693-77A83C9B65DF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7404-5BAD-4C8F-BE30-B97F2D0215A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9149-8FFB-42C5-A923-B76C1B36B2FA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C347-960D-437D-833F-C7480196C5EC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80D2-8FC6-43B5-861A-14E76EAC4755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39CE-9CD8-43CF-909D-E373BA32E7D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9AC1-897E-4007-9513-A4693D15E73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7FA4-B36A-43F6-BD8D-CE764218EAD1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5815-A4FB-44F2-B8D0-6596407678DE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139B-F983-4814-8DAE-D52402AE65F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0D0-3457-44EE-A552-B4FBC9EA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18D-ED63-415B-92F7-D4D320F0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E30-5E89-47E5-8833-3004FD68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0D9-AFAF-4E57-B4A4-627C3476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1838-C60F-46DC-BF6E-9D6B53F6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2989-4A9C-4D3E-A40E-BBF3ECE2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AEF8-568B-4B5E-A0CE-FF04CF40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E036-03B0-438E-9519-0FE75AF7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9779-DB67-4377-A5F8-CA8AD458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6159-9CC7-4C8D-BE90-93AFCAFF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3A62-70BD-4C25-B4FC-7F16FC30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592-9316-44D8-B971-6B864DBA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0DD6-DA92-468E-A98F-1B2362AF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541B-9AC0-4756-9D9F-D783448B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56D4-6797-456E-8E63-FBF0357C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8487-353D-433D-89C9-CC4CDCB8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F829-1B61-4B60-84F0-3F81D162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F3A-5EE3-42E8-BD41-ECB90949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585-35AB-49E5-9CB3-6FC14034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182-EF13-492D-A620-1260DBE2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8FB-9B8E-482D-ABB1-A12C2325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B16-281F-4850-88B7-27A3739F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DFA-FDAB-4BFF-90F9-93B0387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8D2-D36E-4E73-A9B6-63F2DB17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9087-AC1D-41E9-947E-0F03068C105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A286-DAAB-4467-A640-C95CB7BCF31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1.wmf"/><Relationship Id="rId7" Type="http://schemas.openxmlformats.org/officeDocument/2006/relationships/image" Target="../media/image15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" name="WordArt 37"/>
          <p:cNvSpPr txBox="1"/>
          <p:nvPr/>
        </p:nvSpPr>
        <p:spPr>
          <a:xfrm>
            <a:off x="1295280" y="1447920"/>
            <a:ext cx="20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Ш.Фурь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58" name="Group 40"/>
          <p:cNvGrpSpPr/>
          <p:nvPr/>
        </p:nvGrpSpPr>
        <p:grpSpPr>
          <a:xfrm>
            <a:off x="3505320" y="1311120"/>
            <a:ext cx="5098680" cy="825480"/>
            <a:chOff x="3505320" y="1311120"/>
            <a:chExt cx="5098680" cy="825480"/>
          </a:xfrm>
        </p:grpSpPr>
        <p:sp>
          <p:nvSpPr>
            <p:cNvPr id="259" name="Text Box 38"/>
            <p:cNvSpPr/>
            <p:nvPr/>
          </p:nvSpPr>
          <p:spPr>
            <a:xfrm>
              <a:off x="4393800" y="1311120"/>
              <a:ext cx="421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йны-постоянный спутник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9"/>
            <p:cNvSpPr/>
            <p:nvPr/>
          </p:nvSpPr>
          <p:spPr>
            <a:xfrm>
              <a:off x="3505320" y="1676520"/>
              <a:ext cx="9144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WordArt 41"/>
          <p:cNvSpPr txBox="1"/>
          <p:nvPr/>
        </p:nvSpPr>
        <p:spPr>
          <a:xfrm>
            <a:off x="2600280" y="2286000"/>
            <a:ext cx="4791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500 лет -300 лет мира</a:t>
            </a:r>
            <a:endParaRPr b="1" lang="en-US" sz="28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42"/>
          <p:cNvSpPr txBox="1"/>
          <p:nvPr/>
        </p:nvSpPr>
        <p:spPr>
          <a:xfrm>
            <a:off x="2362320" y="3666960"/>
            <a:ext cx="5352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XX век-2 мировые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3" name="WordArt 43"/>
          <p:cNvSpPr txBox="1"/>
          <p:nvPr/>
        </p:nvSpPr>
        <p:spPr>
          <a:xfrm>
            <a:off x="1600200" y="4495680"/>
            <a:ext cx="691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мировая-гибель человечества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64" name="Group 46"/>
          <p:cNvGrpSpPr/>
          <p:nvPr/>
        </p:nvGrpSpPr>
        <p:grpSpPr>
          <a:xfrm>
            <a:off x="1066680" y="5105520"/>
            <a:ext cx="3276720" cy="1133280"/>
            <a:chOff x="1066680" y="5105520"/>
            <a:chExt cx="3276720" cy="1133280"/>
          </a:xfrm>
        </p:grpSpPr>
        <p:sp>
          <p:nvSpPr>
            <p:cNvPr id="265" name="WordArt 44"/>
            <p:cNvSpPr txBox="1"/>
            <p:nvPr/>
          </p:nvSpPr>
          <p:spPr>
            <a:xfrm>
              <a:off x="1066680" y="5715000"/>
              <a:ext cx="327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Ядерная зима</a:t>
              </a:r>
              <a:endParaRPr b="1" lang="en-US" sz="2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66" name="AutoShape 45"/>
            <p:cNvSpPr/>
            <p:nvPr/>
          </p:nvSpPr>
          <p:spPr>
            <a:xfrm>
              <a:off x="2361960" y="5105520"/>
              <a:ext cx="381240" cy="685800"/>
            </a:xfrm>
            <a:prstGeom prst="downArrow">
              <a:avLst>
                <a:gd name="adj1" fmla="val 50000"/>
                <a:gd name="adj2" fmla="val 44972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49"/>
          <p:cNvGrpSpPr/>
          <p:nvPr/>
        </p:nvGrpSpPr>
        <p:grpSpPr>
          <a:xfrm>
            <a:off x="4495680" y="5562720"/>
            <a:ext cx="4419720" cy="914400"/>
            <a:chOff x="4495680" y="5562720"/>
            <a:chExt cx="4419720" cy="914400"/>
          </a:xfrm>
        </p:grpSpPr>
        <p:sp>
          <p:nvSpPr>
            <p:cNvPr id="268" name="WordArt 47"/>
            <p:cNvSpPr txBox="1"/>
            <p:nvPr/>
          </p:nvSpPr>
          <p:spPr>
            <a:xfrm>
              <a:off x="5372280" y="5562720"/>
              <a:ext cx="3543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Продолжение гонки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вооружений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69" name="AutoShape 48"/>
            <p:cNvSpPr/>
            <p:nvPr/>
          </p:nvSpPr>
          <p:spPr>
            <a:xfrm>
              <a:off x="4495680" y="5791320"/>
              <a:ext cx="762120" cy="380880"/>
            </a:xfrm>
            <a:prstGeom prst="leftArrow">
              <a:avLst>
                <a:gd name="adj1" fmla="val 50000"/>
                <a:gd name="adj2" fmla="val 5002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2438280" y="1219320"/>
            <a:ext cx="5143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словия недопущени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ядерной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883080" y="2581200"/>
            <a:ext cx="7902720" cy="350676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WordArt 4"/>
          <p:cNvSpPr txBox="1"/>
          <p:nvPr/>
        </p:nvSpPr>
        <p:spPr>
          <a:xfrm>
            <a:off x="228600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77" name="Group 9"/>
          <p:cNvGrpSpPr/>
          <p:nvPr/>
        </p:nvGrpSpPr>
        <p:grpSpPr>
          <a:xfrm>
            <a:off x="1371600" y="2209680"/>
            <a:ext cx="7324560" cy="1143000"/>
            <a:chOff x="1371600" y="2209680"/>
            <a:chExt cx="7324560" cy="1143000"/>
          </a:xfrm>
        </p:grpSpPr>
        <p:sp>
          <p:nvSpPr>
            <p:cNvPr id="278" name="WordArt 6"/>
            <p:cNvSpPr txBox="1"/>
            <p:nvPr/>
          </p:nvSpPr>
          <p:spPr>
            <a:xfrm>
              <a:off x="1371600" y="2209680"/>
              <a:ext cx="222876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Развитые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траны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79" name="WordArt 7"/>
            <p:cNvSpPr txBox="1"/>
            <p:nvPr/>
          </p:nvSpPr>
          <p:spPr>
            <a:xfrm>
              <a:off x="4952880" y="2286000"/>
              <a:ext cx="37432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Развивающиес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страны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80" name="AutoShape 8"/>
            <p:cNvSpPr/>
            <p:nvPr/>
          </p:nvSpPr>
          <p:spPr>
            <a:xfrm>
              <a:off x="3657600" y="2438280"/>
              <a:ext cx="1214280" cy="486000"/>
            </a:xfrm>
            <a:prstGeom prst="leftRightArrow">
              <a:avLst>
                <a:gd name="adj1" fmla="val 50000"/>
                <a:gd name="adj2" fmla="val 4973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2806200" y="3962520"/>
            <a:ext cx="4161240" cy="19227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50-60-освобождени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70-быстрый экономическ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ос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80-замедление,внешние за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мствова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14"/>
          <p:cNvGrpSpPr/>
          <p:nvPr/>
        </p:nvGrpSpPr>
        <p:grpSpPr>
          <a:xfrm>
            <a:off x="3809880" y="3143160"/>
            <a:ext cx="1981440" cy="571680"/>
            <a:chOff x="3809880" y="3143160"/>
            <a:chExt cx="1981440" cy="571680"/>
          </a:xfrm>
        </p:grpSpPr>
        <p:sp>
          <p:nvSpPr>
            <p:cNvPr id="283" name="WordArt 11"/>
            <p:cNvSpPr txBox="1"/>
            <p:nvPr/>
          </p:nvSpPr>
          <p:spPr>
            <a:xfrm>
              <a:off x="3809880" y="3276720"/>
              <a:ext cx="914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60 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284" name="WordArt 13"/>
            <p:cNvSpPr txBox="1"/>
            <p:nvPr/>
          </p:nvSpPr>
          <p:spPr>
            <a:xfrm>
              <a:off x="5048280" y="3143160"/>
              <a:ext cx="743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26:1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85" name="Group 16"/>
          <p:cNvGrpSpPr/>
          <p:nvPr/>
        </p:nvGrpSpPr>
        <p:grpSpPr>
          <a:xfrm>
            <a:off x="2743200" y="6029280"/>
            <a:ext cx="4267080" cy="590760"/>
            <a:chOff x="2743200" y="6029280"/>
            <a:chExt cx="4267080" cy="590760"/>
          </a:xfrm>
        </p:grpSpPr>
        <p:sp>
          <p:nvSpPr>
            <p:cNvPr id="286" name="WordArt 12"/>
            <p:cNvSpPr txBox="1"/>
            <p:nvPr/>
          </p:nvSpPr>
          <p:spPr>
            <a:xfrm>
              <a:off x="2743200" y="609588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сер.90 г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287" name="WordArt 15"/>
            <p:cNvSpPr txBox="1"/>
            <p:nvPr/>
          </p:nvSpPr>
          <p:spPr>
            <a:xfrm>
              <a:off x="6172200" y="6029280"/>
              <a:ext cx="838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40:1</a:t>
              </a:r>
              <a:endPara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sp>
        <p:nvSpPr>
          <p:cNvPr id="288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223524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3794040" y="2286000"/>
            <a:ext cx="21146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чи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701720" y="2819520"/>
            <a:ext cx="6299280" cy="11912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ыстрый рост населения на Юг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литика Севера- «Юг-сырьевой придаток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7"/>
          <p:cNvSpPr txBox="1"/>
          <p:nvPr/>
        </p:nvSpPr>
        <p:spPr>
          <a:xfrm>
            <a:off x="2984400" y="4191120"/>
            <a:ext cx="3733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Пути преодоления</a:t>
            </a:r>
            <a:endParaRPr b="1" lang="en-US" sz="28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069640" y="4848120"/>
            <a:ext cx="5563440" cy="155700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умная демографическая политик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гонки вооружений и нап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авление денежных средств в стран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«третьего мира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9280" y="3860640"/>
            <a:ext cx="115236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419640" y="3860640"/>
            <a:ext cx="129672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435640" y="3860640"/>
            <a:ext cx="16574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WordArt 131"/>
          <p:cNvSpPr txBox="1"/>
          <p:nvPr/>
        </p:nvSpPr>
        <p:spPr>
          <a:xfrm>
            <a:off x="1143000" y="1219320"/>
            <a:ext cx="1590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-я пол.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0 века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5" name="Group 134"/>
          <p:cNvGrpSpPr/>
          <p:nvPr/>
        </p:nvGrpSpPr>
        <p:grpSpPr>
          <a:xfrm>
            <a:off x="3048120" y="1219320"/>
            <a:ext cx="5686200" cy="1143000"/>
            <a:chOff x="3048120" y="1219320"/>
            <a:chExt cx="5686200" cy="1143000"/>
          </a:xfrm>
        </p:grpSpPr>
        <p:sp>
          <p:nvSpPr>
            <p:cNvPr id="136" name="AutoShape 132"/>
            <p:cNvSpPr/>
            <p:nvPr/>
          </p:nvSpPr>
          <p:spPr>
            <a:xfrm>
              <a:off x="3048120" y="1571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WordArt 133"/>
            <p:cNvSpPr txBox="1"/>
            <p:nvPr/>
          </p:nvSpPr>
          <p:spPr>
            <a:xfrm>
              <a:off x="4114800" y="1219320"/>
              <a:ext cx="46195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роблемы выживания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человечества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8" name="Text Box 135"/>
          <p:cNvSpPr/>
          <p:nvPr/>
        </p:nvSpPr>
        <p:spPr>
          <a:xfrm>
            <a:off x="1104120" y="2971800"/>
            <a:ext cx="7689600" cy="30200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WordArt 8"/>
          <p:cNvSpPr txBox="1"/>
          <p:nvPr/>
        </p:nvSpPr>
        <p:spPr>
          <a:xfrm>
            <a:off x="1295280" y="990720"/>
            <a:ext cx="7115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</a:rPr>
              <a:t>причины глобальных проблем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936720" y="1600200"/>
            <a:ext cx="1823760" cy="2349360"/>
            <a:chOff x="936720" y="1600200"/>
            <a:chExt cx="1823760" cy="2349360"/>
          </a:xfrm>
        </p:grpSpPr>
        <p:pic>
          <p:nvPicPr>
            <p:cNvPr id="143" name="Object 9" descr=""/>
            <p:cNvPicPr/>
            <p:nvPr/>
          </p:nvPicPr>
          <p:blipFill>
            <a:blip r:embed="rId1"/>
            <a:stretch/>
          </p:blipFill>
          <p:spPr>
            <a:xfrm>
              <a:off x="1157400" y="1600200"/>
              <a:ext cx="14335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/>
            <p:cNvSpPr/>
            <p:nvPr/>
          </p:nvSpPr>
          <p:spPr>
            <a:xfrm>
              <a:off x="936720" y="3124080"/>
              <a:ext cx="1823760" cy="8254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ета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диный дом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2743200" y="1828800"/>
            <a:ext cx="3427560" cy="1693800"/>
            <a:chOff x="2743200" y="1828800"/>
            <a:chExt cx="3427560" cy="1693800"/>
          </a:xfrm>
        </p:grpSpPr>
        <p:sp>
          <p:nvSpPr>
            <p:cNvPr id="146" name="AutoShape 12"/>
            <p:cNvSpPr/>
            <p:nvPr/>
          </p:nvSpPr>
          <p:spPr>
            <a:xfrm>
              <a:off x="2743200" y="204624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3581640" y="1828800"/>
              <a:ext cx="2589120" cy="169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локальные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конфликты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и противоречи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6200640" y="1752480"/>
            <a:ext cx="2576520" cy="990360"/>
            <a:chOff x="6200640" y="1752480"/>
            <a:chExt cx="2576520" cy="990360"/>
          </a:xfrm>
        </p:grpSpPr>
        <p:sp>
          <p:nvSpPr>
            <p:cNvPr id="149" name="AutoShape 16"/>
            <p:cNvSpPr/>
            <p:nvPr/>
          </p:nvSpPr>
          <p:spPr>
            <a:xfrm>
              <a:off x="6200640" y="20286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WordArt 17"/>
            <p:cNvSpPr txBox="1"/>
            <p:nvPr/>
          </p:nvSpPr>
          <p:spPr>
            <a:xfrm>
              <a:off x="7101000" y="1752480"/>
              <a:ext cx="1676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общемировой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характе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1" name="Group 26"/>
          <p:cNvGrpSpPr/>
          <p:nvPr/>
        </p:nvGrpSpPr>
        <p:grpSpPr>
          <a:xfrm>
            <a:off x="839520" y="4038480"/>
            <a:ext cx="2427480" cy="2577960"/>
            <a:chOff x="839520" y="4038480"/>
            <a:chExt cx="2427480" cy="2577960"/>
          </a:xfrm>
        </p:grpSpPr>
        <p:sp>
          <p:nvSpPr>
            <p:cNvPr id="152" name="AutoShape 19"/>
            <p:cNvSpPr/>
            <p:nvPr/>
          </p:nvSpPr>
          <p:spPr>
            <a:xfrm>
              <a:off x="1628640" y="403848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22"/>
            <p:cNvGrpSpPr/>
            <p:nvPr/>
          </p:nvGrpSpPr>
          <p:grpSpPr>
            <a:xfrm>
              <a:off x="839520" y="4724280"/>
              <a:ext cx="2082600" cy="1892160"/>
              <a:chOff x="839520" y="4724280"/>
              <a:chExt cx="2082600" cy="1892160"/>
            </a:xfrm>
          </p:grpSpPr>
          <p:pic>
            <p:nvPicPr>
              <p:cNvPr id="154" name="Object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373040" y="4724280"/>
                <a:ext cx="1093680" cy="107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21"/>
              <p:cNvSpPr/>
              <p:nvPr/>
            </p:nvSpPr>
            <p:spPr>
              <a:xfrm>
                <a:off x="839520" y="5790960"/>
                <a:ext cx="208260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еятельн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человека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WordArt 23"/>
            <p:cNvSpPr txBox="1"/>
            <p:nvPr/>
          </p:nvSpPr>
          <p:spPr>
            <a:xfrm>
              <a:off x="3000240" y="5029200"/>
              <a:ext cx="2667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38160">
                    <a:solidFill>
                      <a:srgbClr val="a50021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=</a:t>
              </a:r>
              <a:endParaRPr b="1" lang="en-US" sz="2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3003120" y="4267080"/>
            <a:ext cx="2561040" cy="2197080"/>
            <a:chOff x="3003120" y="4267080"/>
            <a:chExt cx="2561040" cy="2197080"/>
          </a:xfrm>
        </p:grpSpPr>
        <p:pic>
          <p:nvPicPr>
            <p:cNvPr id="158" name="Object 24" descr=""/>
            <p:cNvPicPr/>
            <p:nvPr/>
          </p:nvPicPr>
          <p:blipFill>
            <a:blip r:embed="rId7"/>
            <a:stretch/>
          </p:blipFill>
          <p:spPr>
            <a:xfrm>
              <a:off x="3633480" y="4267080"/>
              <a:ext cx="1195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5"/>
            <p:cNvSpPr/>
            <p:nvPr/>
          </p:nvSpPr>
          <p:spPr>
            <a:xfrm>
              <a:off x="3003120" y="563868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рушитель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лы природ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28"/>
          <p:cNvSpPr/>
          <p:nvPr/>
        </p:nvSpPr>
        <p:spPr>
          <a:xfrm>
            <a:off x="5603400" y="3657600"/>
            <a:ext cx="3385800" cy="302004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Но!Низкий уровень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бщественной орган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ци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олит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равствен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64" name="WordArt 23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65" name="Object 29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3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67" name="Group 32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68" name="Group 27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69" name="Object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Object 2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AutoShape 26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2" name="Object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Line 3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33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7"/>
          <p:cNvGrpSpPr/>
          <p:nvPr/>
        </p:nvGrpSpPr>
        <p:grpSpPr>
          <a:xfrm>
            <a:off x="1258560" y="3755880"/>
            <a:ext cx="2436120" cy="2419920"/>
            <a:chOff x="1258560" y="3755880"/>
            <a:chExt cx="2436120" cy="2419920"/>
          </a:xfrm>
        </p:grpSpPr>
        <p:pic>
          <p:nvPicPr>
            <p:cNvPr id="176" name="Object 35" descr=""/>
            <p:cNvPicPr/>
            <p:nvPr/>
          </p:nvPicPr>
          <p:blipFill>
            <a:blip r:embed="rId7"/>
            <a:stretch/>
          </p:blipFill>
          <p:spPr>
            <a:xfrm>
              <a:off x="1984680" y="3755880"/>
              <a:ext cx="102528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36"/>
            <p:cNvSpPr/>
            <p:nvPr/>
          </p:nvSpPr>
          <p:spPr>
            <a:xfrm>
              <a:off x="1258560" y="4984560"/>
              <a:ext cx="2436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сурсов(40 лет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0"/>
          <p:cNvGrpSpPr/>
          <p:nvPr/>
        </p:nvGrpSpPr>
        <p:grpSpPr>
          <a:xfrm>
            <a:off x="3927240" y="3809880"/>
            <a:ext cx="2079720" cy="2365920"/>
            <a:chOff x="3927240" y="3809880"/>
            <a:chExt cx="2079720" cy="2365920"/>
          </a:xfrm>
        </p:grpSpPr>
        <p:pic>
          <p:nvPicPr>
            <p:cNvPr id="179" name="Object 38" descr=""/>
            <p:cNvPicPr/>
            <p:nvPr/>
          </p:nvPicPr>
          <p:blipFill>
            <a:blip r:embed="rId8"/>
            <a:stretch/>
          </p:blipFill>
          <p:spPr>
            <a:xfrm>
              <a:off x="4381560" y="3809880"/>
              <a:ext cx="1209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39"/>
            <p:cNvSpPr/>
            <p:nvPr/>
          </p:nvSpPr>
          <p:spPr>
            <a:xfrm>
              <a:off x="3927240" y="4984560"/>
              <a:ext cx="207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дород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ло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43"/>
          <p:cNvGrpSpPr/>
          <p:nvPr/>
        </p:nvGrpSpPr>
        <p:grpSpPr>
          <a:xfrm>
            <a:off x="6727680" y="3809880"/>
            <a:ext cx="1422720" cy="1968480"/>
            <a:chOff x="6727680" y="3809880"/>
            <a:chExt cx="1422720" cy="1968480"/>
          </a:xfrm>
        </p:grpSpPr>
        <p:pic>
          <p:nvPicPr>
            <p:cNvPr id="182" name="Object 41" descr=""/>
            <p:cNvPicPr/>
            <p:nvPr/>
          </p:nvPicPr>
          <p:blipFill>
            <a:blip r:embed="rId9"/>
            <a:stretch/>
          </p:blipFill>
          <p:spPr>
            <a:xfrm>
              <a:off x="6819480" y="3809880"/>
              <a:ext cx="113148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42"/>
            <p:cNvSpPr/>
            <p:nvPr/>
          </p:nvSpPr>
          <p:spPr>
            <a:xfrm>
              <a:off x="6727680" y="4952880"/>
              <a:ext cx="14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руб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еса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87" name="WordArt 4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88" name="Object 5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6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90" name="Group 7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91" name="Group 8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92" name="Object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Object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11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5" name="Object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Line 13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Text Box 14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7"/>
          <p:cNvGrpSpPr/>
          <p:nvPr/>
        </p:nvGrpSpPr>
        <p:grpSpPr>
          <a:xfrm>
            <a:off x="2454840" y="3657600"/>
            <a:ext cx="1888560" cy="2197080"/>
            <a:chOff x="2454840" y="3657600"/>
            <a:chExt cx="1888560" cy="2197080"/>
          </a:xfrm>
        </p:grpSpPr>
        <p:pic>
          <p:nvPicPr>
            <p:cNvPr id="199" name="Object 25" descr=""/>
            <p:cNvPicPr/>
            <p:nvPr/>
          </p:nvPicPr>
          <p:blipFill>
            <a:blip r:embed="rId7"/>
            <a:stretch/>
          </p:blipFill>
          <p:spPr>
            <a:xfrm>
              <a:off x="2666880" y="3657600"/>
              <a:ext cx="167652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26"/>
            <p:cNvSpPr/>
            <p:nvPr/>
          </p:nvSpPr>
          <p:spPr>
            <a:xfrm>
              <a:off x="2454840" y="5029200"/>
              <a:ext cx="188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тмосфер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5725080" y="3581280"/>
            <a:ext cx="2120760" cy="2680560"/>
            <a:chOff x="5725080" y="3581280"/>
            <a:chExt cx="2120760" cy="2680560"/>
          </a:xfrm>
        </p:grpSpPr>
        <p:pic>
          <p:nvPicPr>
            <p:cNvPr id="202" name="Object 24" descr=""/>
            <p:cNvPicPr/>
            <p:nvPr/>
          </p:nvPicPr>
          <p:blipFill>
            <a:blip r:embed="rId8"/>
            <a:stretch/>
          </p:blipFill>
          <p:spPr>
            <a:xfrm>
              <a:off x="6103800" y="3581280"/>
              <a:ext cx="1279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8"/>
            <p:cNvSpPr/>
            <p:nvPr/>
          </p:nvSpPr>
          <p:spPr>
            <a:xfrm>
              <a:off x="5725080" y="507060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д Миров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WordArt 21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7" name="Group 23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08" name="Group 24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09" name="Group 25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10" name="Object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Object 2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AutoShape 28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13" name="Object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30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31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4"/>
          <p:cNvGrpSpPr/>
          <p:nvPr/>
        </p:nvGrpSpPr>
        <p:grpSpPr>
          <a:xfrm>
            <a:off x="1371600" y="2825640"/>
            <a:ext cx="3088080" cy="1974960"/>
            <a:chOff x="1371600" y="2825640"/>
            <a:chExt cx="3088080" cy="1974960"/>
          </a:xfrm>
        </p:grpSpPr>
        <p:sp>
          <p:nvSpPr>
            <p:cNvPr id="217" name="WordArt 32"/>
            <p:cNvSpPr txBox="1"/>
            <p:nvPr/>
          </p:nvSpPr>
          <p:spPr>
            <a:xfrm>
              <a:off x="1371600" y="3505320"/>
              <a:ext cx="19051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астна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деятельнос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еловека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18" name="AutoShape 33"/>
            <p:cNvSpPr/>
            <p:nvPr/>
          </p:nvSpPr>
          <p:spPr>
            <a:xfrm rot="19674600">
              <a:off x="3429000" y="3047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38"/>
          <p:cNvGrpSpPr/>
          <p:nvPr/>
        </p:nvGrpSpPr>
        <p:grpSpPr>
          <a:xfrm>
            <a:off x="3809880" y="3429000"/>
            <a:ext cx="4191120" cy="1371600"/>
            <a:chOff x="3809880" y="3429000"/>
            <a:chExt cx="4191120" cy="1371600"/>
          </a:xfrm>
        </p:grpSpPr>
        <p:sp>
          <p:nvSpPr>
            <p:cNvPr id="220" name="AutoShape 36"/>
            <p:cNvSpPr/>
            <p:nvPr/>
          </p:nvSpPr>
          <p:spPr>
            <a:xfrm flipH="1">
              <a:off x="3809880" y="38862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WordArt 37"/>
            <p:cNvSpPr txBox="1"/>
            <p:nvPr/>
          </p:nvSpPr>
          <p:spPr>
            <a:xfrm>
              <a:off x="5029200" y="3429000"/>
              <a:ext cx="297180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щество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должно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регулирова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22" name="WordArt 39"/>
          <p:cNvSpPr txBox="1"/>
          <p:nvPr/>
        </p:nvSpPr>
        <p:spPr>
          <a:xfrm>
            <a:off x="3029040" y="4800600"/>
            <a:ext cx="245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99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роблема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99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3" name="WordArt 40"/>
          <p:cNvSpPr txBox="1"/>
          <p:nvPr/>
        </p:nvSpPr>
        <p:spPr>
          <a:xfrm>
            <a:off x="1219320" y="5486400"/>
            <a:ext cx="201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185e18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Arial"/>
              </a:rPr>
              <a:t>Зелены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185e18"/>
                  </a:gs>
                  <a:gs pos="100000">
                    <a:srgbClr val="33cc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24" name="Group 45"/>
          <p:cNvGrpSpPr/>
          <p:nvPr/>
        </p:nvGrpSpPr>
        <p:grpSpPr>
          <a:xfrm>
            <a:off x="3886200" y="4952880"/>
            <a:ext cx="4834440" cy="1557000"/>
            <a:chOff x="3886200" y="4952880"/>
            <a:chExt cx="4834440" cy="1557000"/>
          </a:xfrm>
        </p:grpSpPr>
        <p:grpSp>
          <p:nvGrpSpPr>
            <p:cNvPr id="225" name="Group 43"/>
            <p:cNvGrpSpPr/>
            <p:nvPr/>
          </p:nvGrpSpPr>
          <p:grpSpPr>
            <a:xfrm>
              <a:off x="5334120" y="4952880"/>
              <a:ext cx="3386520" cy="1557000"/>
              <a:chOff x="5334120" y="4952880"/>
              <a:chExt cx="3386520" cy="1557000"/>
            </a:xfrm>
          </p:grpSpPr>
          <p:pic>
            <p:nvPicPr>
              <p:cNvPr id="226" name="Object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81480"/>
                <a:ext cx="8157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42"/>
              <p:cNvSpPr/>
              <p:nvPr/>
            </p:nvSpPr>
            <p:spPr>
              <a:xfrm>
                <a:off x="6293520" y="4952880"/>
                <a:ext cx="2427120" cy="1557000"/>
              </a:xfrm>
              <a:prstGeom prst="rect">
                <a:avLst/>
              </a:prstGeom>
              <a:solidFill>
                <a:srgbClr val="33cc33"/>
              </a:solidFill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акрытие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ажных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мышленных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ъек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AutoShape 44"/>
            <p:cNvSpPr/>
            <p:nvPr/>
          </p:nvSpPr>
          <p:spPr>
            <a:xfrm>
              <a:off x="3886200" y="5562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cc33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33" name="Group 5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34" name="Group 6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35" name="Object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Object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7" name="AutoShape 9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8" name="Object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Line 1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2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WordArt 13"/>
          <p:cNvSpPr txBox="1"/>
          <p:nvPr/>
        </p:nvSpPr>
        <p:spPr>
          <a:xfrm>
            <a:off x="3797280" y="3162240"/>
            <a:ext cx="1542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0099"/>
                    </a:gs>
                    <a:gs pos="100000">
                      <a:srgbClr val="006600"/>
                    </a:gs>
                  </a:gsLst>
                  <a:lin ang="5400000"/>
                </a:gradFill>
                <a:latin typeface="Arial"/>
              </a:rPr>
              <a:t>Выход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0099"/>
                  </a:gs>
                  <a:gs pos="100000">
                    <a:srgbClr val="00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42" name="Group 14"/>
          <p:cNvGrpSpPr/>
          <p:nvPr/>
        </p:nvGrpSpPr>
        <p:grpSpPr>
          <a:xfrm>
            <a:off x="840960" y="3657600"/>
            <a:ext cx="1767240" cy="2238480"/>
            <a:chOff x="840960" y="3657600"/>
            <a:chExt cx="1767240" cy="2238480"/>
          </a:xfrm>
        </p:grpSpPr>
        <p:pic>
          <p:nvPicPr>
            <p:cNvPr id="243" name="Object 15" descr=""/>
            <p:cNvPicPr/>
            <p:nvPr/>
          </p:nvPicPr>
          <p:blipFill>
            <a:blip r:embed="rId6"/>
            <a:stretch/>
          </p:blipFill>
          <p:spPr>
            <a:xfrm>
              <a:off x="990360" y="3657600"/>
              <a:ext cx="148752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/>
            <p:cNvSpPr/>
            <p:nvPr/>
          </p:nvSpPr>
          <p:spPr>
            <a:xfrm>
              <a:off x="840960" y="5070600"/>
              <a:ext cx="17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мкнуты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икл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2516760" y="3733920"/>
            <a:ext cx="2146680" cy="2334240"/>
            <a:chOff x="2516760" y="3733920"/>
            <a:chExt cx="2146680" cy="2334240"/>
          </a:xfrm>
        </p:grpSpPr>
        <p:pic>
          <p:nvPicPr>
            <p:cNvPr id="246" name="Object 18" descr=""/>
            <p:cNvPicPr/>
            <p:nvPr/>
          </p:nvPicPr>
          <p:blipFill>
            <a:blip r:embed="rId7"/>
            <a:stretch/>
          </p:blipFill>
          <p:spPr>
            <a:xfrm>
              <a:off x="2971800" y="3733920"/>
              <a:ext cx="1285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/>
            <p:cNvSpPr/>
            <p:nvPr/>
          </p:nvSpPr>
          <p:spPr>
            <a:xfrm>
              <a:off x="2516760" y="4876920"/>
              <a:ext cx="214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логическ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берегающ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4602240" y="3733920"/>
            <a:ext cx="2024640" cy="1984320"/>
            <a:chOff x="4602240" y="3733920"/>
            <a:chExt cx="2024640" cy="1984320"/>
          </a:xfrm>
        </p:grpSpPr>
        <p:pic>
          <p:nvPicPr>
            <p:cNvPr id="249" name="Object 21" descr=""/>
            <p:cNvPicPr/>
            <p:nvPr/>
          </p:nvPicPr>
          <p:blipFill>
            <a:blip r:embed="rId8"/>
            <a:stretch/>
          </p:blipFill>
          <p:spPr>
            <a:xfrm>
              <a:off x="5057640" y="3733920"/>
              <a:ext cx="1143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/>
            <p:cNvSpPr/>
            <p:nvPr/>
          </p:nvSpPr>
          <p:spPr>
            <a:xfrm>
              <a:off x="4602240" y="4892760"/>
              <a:ext cx="202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езотходны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5"/>
          <p:cNvGrpSpPr/>
          <p:nvPr/>
        </p:nvGrpSpPr>
        <p:grpSpPr>
          <a:xfrm>
            <a:off x="5991120" y="3429000"/>
            <a:ext cx="2921040" cy="2928600"/>
            <a:chOff x="5991120" y="3429000"/>
            <a:chExt cx="2921040" cy="2928600"/>
          </a:xfrm>
        </p:grpSpPr>
        <p:pic>
          <p:nvPicPr>
            <p:cNvPr id="252" name="Object 23" descr=""/>
            <p:cNvPicPr/>
            <p:nvPr/>
          </p:nvPicPr>
          <p:blipFill>
            <a:blip r:embed="rId9"/>
            <a:stretch/>
          </p:blipFill>
          <p:spPr>
            <a:xfrm>
              <a:off x="6826320" y="3429000"/>
              <a:ext cx="117468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4"/>
            <p:cNvSpPr/>
            <p:nvPr/>
          </p:nvSpPr>
          <p:spPr>
            <a:xfrm>
              <a:off x="5991120" y="4800600"/>
              <a:ext cx="292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сстановитель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WordArt 26"/>
          <p:cNvSpPr txBox="1"/>
          <p:nvPr/>
        </p:nvSpPr>
        <p:spPr>
          <a:xfrm>
            <a:off x="1143000" y="6095880"/>
            <a:ext cx="7537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Экологическая экспертиза проэктов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5-05-06T08:29:15Z</dcterms:modified>
  <cp:revision>99</cp:revision>
  <dc:subject/>
  <dc:title>ОСОБЕННОСТИ ДРЕВНИХ ЦИВИЛИЗАЦИЙ.</dc:title>
</cp:coreProperties>
</file>