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24.jpeg" ContentType="image/jpeg"/>
  <Override PartName="/ppt/media/image21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47E5-D9E0-4A33-B183-2F7C7C566A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D4E2-8856-47D7-BA72-42319AF8E999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D4F8-65E7-48A0-BC38-1312E0ED5D7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FA1A-C12E-4C42-965F-E2D82C830B0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43B5-BDF2-4432-9216-DEB625B65E2E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514D-8689-486D-A98D-17E767E3067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E842-693D-470B-9464-40C31B32210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ACD6-B88A-4CF8-805E-63B290C438F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08AB-0E0B-498E-9E7A-DA8B752C16B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BB05-16CF-4986-AA0A-7811476536E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C953-12A9-4C3B-8F1D-7842762A244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4082-1E87-43A8-BE59-2D04F5D6179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06DE-EEAC-4C52-8753-6E7F3B3901A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BC1F-913E-461B-9258-15FB5079326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833C-D0BE-4010-AFCC-8D2B9753BAE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E717-1622-463D-AF2A-22B90AD9F88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CB1-E9FD-4E00-B207-8EB50089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366-27C6-4C80-A858-F97960D8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2B5-1B6C-48A9-80D1-BA8A19A1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F9F-BA8F-477E-82C3-6545DD7F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27D7-6EA2-46F8-9124-750F2758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D162-1971-4DD6-8C94-07C3B12D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6FF4-3C8F-4CD8-B325-9C61F773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8626-0AC1-47E9-9A5E-5CB2DCFD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4DB9-397C-4E46-9C5E-570172E0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9BE3-0A16-40CB-BE5D-A6EE24F0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4274-47E6-4555-BF4B-717ECCDF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553-A99B-4F6A-A3F6-CC9782C9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9470-100A-464F-AB75-50A9C441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6B63-F2F0-4C4C-87B1-8A40843D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7404-7DD4-4760-8F14-859DC19D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62D-E282-48F0-8581-20B0ED2B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0F3-E43F-44F9-85E1-C03FCC70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D46-89FD-4D7F-B288-2F9767BB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6F1-2320-4CA2-BD20-59A53FF6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42D-A6DE-4473-B3B0-DB947B2D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176-1D06-4B27-9589-23234414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A1B-19AC-4923-86AD-7939F8B7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096-BF11-4D2B-A328-78936260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028-7209-4080-844B-E72C675A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0170-2569-4F84-8752-EF1F88B6D9A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8D0-2370-4CB9-9AB0-940736FFB17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1.wmf"/><Relationship Id="rId7" Type="http://schemas.openxmlformats.org/officeDocument/2006/relationships/image" Target="../media/image15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WordArt 37"/>
          <p:cNvSpPr txBox="1"/>
          <p:nvPr/>
        </p:nvSpPr>
        <p:spPr>
          <a:xfrm>
            <a:off x="1295280" y="14479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Ш.Фурь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8" name="Group 40"/>
          <p:cNvGrpSpPr/>
          <p:nvPr/>
        </p:nvGrpSpPr>
        <p:grpSpPr>
          <a:xfrm>
            <a:off x="3505320" y="1311120"/>
            <a:ext cx="5098680" cy="825480"/>
            <a:chOff x="3505320" y="1311120"/>
            <a:chExt cx="5098680" cy="825480"/>
          </a:xfrm>
        </p:grpSpPr>
        <p:sp>
          <p:nvSpPr>
            <p:cNvPr id="259" name="Text Box 38"/>
            <p:cNvSpPr/>
            <p:nvPr/>
          </p:nvSpPr>
          <p:spPr>
            <a:xfrm>
              <a:off x="4393800" y="1311120"/>
              <a:ext cx="421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йны-постоянный спутник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3505320" y="1676520"/>
              <a:ext cx="914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WordArt 41"/>
          <p:cNvSpPr txBox="1"/>
          <p:nvPr/>
        </p:nvSpPr>
        <p:spPr>
          <a:xfrm>
            <a:off x="2600280" y="2286000"/>
            <a:ext cx="4791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500 лет -300 лет мира</a:t>
            </a:r>
            <a:endParaRPr b="1" lang="en-US" sz="28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42"/>
          <p:cNvSpPr txBox="1"/>
          <p:nvPr/>
        </p:nvSpPr>
        <p:spPr>
          <a:xfrm>
            <a:off x="2362320" y="3666960"/>
            <a:ext cx="53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XX век-2 мировые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3" name="WordArt 43"/>
          <p:cNvSpPr txBox="1"/>
          <p:nvPr/>
        </p:nvSpPr>
        <p:spPr>
          <a:xfrm>
            <a:off x="1600200" y="4495680"/>
            <a:ext cx="691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мировая-гибель человечества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1066680" y="5105520"/>
            <a:ext cx="3276720" cy="1133280"/>
            <a:chOff x="1066680" y="5105520"/>
            <a:chExt cx="3276720" cy="1133280"/>
          </a:xfrm>
        </p:grpSpPr>
        <p:sp>
          <p:nvSpPr>
            <p:cNvPr id="265" name="WordArt 44"/>
            <p:cNvSpPr txBox="1"/>
            <p:nvPr/>
          </p:nvSpPr>
          <p:spPr>
            <a:xfrm>
              <a:off x="1066680" y="5715000"/>
              <a:ext cx="327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дерная зима</a:t>
              </a:r>
              <a:endParaRPr b="1" lang="en-US" sz="2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6" name="AutoShape 45"/>
            <p:cNvSpPr/>
            <p:nvPr/>
          </p:nvSpPr>
          <p:spPr>
            <a:xfrm>
              <a:off x="2361960" y="5105520"/>
              <a:ext cx="381240" cy="685800"/>
            </a:xfrm>
            <a:prstGeom prst="down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495680" y="5562720"/>
            <a:ext cx="4419720" cy="914400"/>
            <a:chOff x="4495680" y="5562720"/>
            <a:chExt cx="4419720" cy="914400"/>
          </a:xfrm>
        </p:grpSpPr>
        <p:sp>
          <p:nvSpPr>
            <p:cNvPr id="268" name="WordArt 47"/>
            <p:cNvSpPr txBox="1"/>
            <p:nvPr/>
          </p:nvSpPr>
          <p:spPr>
            <a:xfrm>
              <a:off x="5372280" y="5562720"/>
              <a:ext cx="3543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Продолжение гонки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вооружений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4495680" y="5791320"/>
              <a:ext cx="762120" cy="380880"/>
            </a:xfrm>
            <a:prstGeom prst="leftArrow">
              <a:avLst>
                <a:gd name="adj1" fmla="val 50000"/>
                <a:gd name="adj2" fmla="val 5002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438280" y="1219320"/>
            <a:ext cx="5143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словия недопущ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ядерной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83080" y="2581200"/>
            <a:ext cx="7902720" cy="350676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228600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371600" y="2209680"/>
            <a:ext cx="7324560" cy="1143000"/>
            <a:chOff x="1371600" y="2209680"/>
            <a:chExt cx="7324560" cy="1143000"/>
          </a:xfrm>
        </p:grpSpPr>
        <p:sp>
          <p:nvSpPr>
            <p:cNvPr id="278" name="WordArt 6"/>
            <p:cNvSpPr txBox="1"/>
            <p:nvPr/>
          </p:nvSpPr>
          <p:spPr>
            <a:xfrm>
              <a:off x="1371600" y="2209680"/>
              <a:ext cx="22287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Развитые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ны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9" name="WordArt 7"/>
            <p:cNvSpPr txBox="1"/>
            <p:nvPr/>
          </p:nvSpPr>
          <p:spPr>
            <a:xfrm>
              <a:off x="4952880" y="2286000"/>
              <a:ext cx="37432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Развивающиес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страны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0" name="AutoShape 8"/>
            <p:cNvSpPr/>
            <p:nvPr/>
          </p:nvSpPr>
          <p:spPr>
            <a:xfrm>
              <a:off x="3657600" y="2438280"/>
              <a:ext cx="1214280" cy="486000"/>
            </a:xfrm>
            <a:prstGeom prst="leftRightArrow">
              <a:avLst>
                <a:gd name="adj1" fmla="val 50000"/>
                <a:gd name="adj2" fmla="val 4973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2806200" y="3962520"/>
            <a:ext cx="4161240" cy="1922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50-60-освобождени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70-быстрый экономическ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80-замедление,внешние за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мствова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3809880" y="3143160"/>
            <a:ext cx="1981440" cy="571680"/>
            <a:chOff x="3809880" y="3143160"/>
            <a:chExt cx="1981440" cy="571680"/>
          </a:xfrm>
        </p:grpSpPr>
        <p:sp>
          <p:nvSpPr>
            <p:cNvPr id="283" name="WordArt 11"/>
            <p:cNvSpPr txBox="1"/>
            <p:nvPr/>
          </p:nvSpPr>
          <p:spPr>
            <a:xfrm>
              <a:off x="3809880" y="3276720"/>
              <a:ext cx="914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60 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WordArt 13"/>
            <p:cNvSpPr txBox="1"/>
            <p:nvPr/>
          </p:nvSpPr>
          <p:spPr>
            <a:xfrm>
              <a:off x="5048280" y="3143160"/>
              <a:ext cx="743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6:1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5" name="Group 16"/>
          <p:cNvGrpSpPr/>
          <p:nvPr/>
        </p:nvGrpSpPr>
        <p:grpSpPr>
          <a:xfrm>
            <a:off x="2743200" y="6029280"/>
            <a:ext cx="4267080" cy="590760"/>
            <a:chOff x="2743200" y="6029280"/>
            <a:chExt cx="4267080" cy="590760"/>
          </a:xfrm>
        </p:grpSpPr>
        <p:sp>
          <p:nvSpPr>
            <p:cNvPr id="286" name="WordArt 12"/>
            <p:cNvSpPr txBox="1"/>
            <p:nvPr/>
          </p:nvSpPr>
          <p:spPr>
            <a:xfrm>
              <a:off x="2743200" y="609588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ер.90 г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87" name="WordArt 15"/>
            <p:cNvSpPr txBox="1"/>
            <p:nvPr/>
          </p:nvSpPr>
          <p:spPr>
            <a:xfrm>
              <a:off x="6172200" y="6029280"/>
              <a:ext cx="838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40:1</a:t>
              </a:r>
              <a:endPara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88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23524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3794040" y="2286000"/>
            <a:ext cx="21146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чи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701720" y="2819520"/>
            <a:ext cx="6299280" cy="11912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ыстрый рост населения на Юг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литика Севера- «Юг-сырьевой придато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7"/>
          <p:cNvSpPr txBox="1"/>
          <p:nvPr/>
        </p:nvSpPr>
        <p:spPr>
          <a:xfrm>
            <a:off x="2984400" y="419112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Пути преодоления</a:t>
            </a:r>
            <a:endParaRPr b="1" lang="en-US" sz="28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069640" y="4848120"/>
            <a:ext cx="5563440" cy="15570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умная демографическая политик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гонки вооружений и нап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авление денежных средств в стра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«третьего мира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9280" y="3860640"/>
            <a:ext cx="115236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419640" y="3860640"/>
            <a:ext cx="129672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435640" y="3860640"/>
            <a:ext cx="16574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WordArt 131"/>
          <p:cNvSpPr txBox="1"/>
          <p:nvPr/>
        </p:nvSpPr>
        <p:spPr>
          <a:xfrm>
            <a:off x="1143000" y="1219320"/>
            <a:ext cx="159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-я пол.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0 века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134"/>
          <p:cNvGrpSpPr/>
          <p:nvPr/>
        </p:nvGrpSpPr>
        <p:grpSpPr>
          <a:xfrm>
            <a:off x="3048120" y="1219320"/>
            <a:ext cx="5686200" cy="1143000"/>
            <a:chOff x="3048120" y="1219320"/>
            <a:chExt cx="5686200" cy="1143000"/>
          </a:xfrm>
        </p:grpSpPr>
        <p:sp>
          <p:nvSpPr>
            <p:cNvPr id="136" name="AutoShape 132"/>
            <p:cNvSpPr/>
            <p:nvPr/>
          </p:nvSpPr>
          <p:spPr>
            <a:xfrm>
              <a:off x="3048120" y="1571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WordArt 133"/>
            <p:cNvSpPr txBox="1"/>
            <p:nvPr/>
          </p:nvSpPr>
          <p:spPr>
            <a:xfrm>
              <a:off x="4114800" y="1219320"/>
              <a:ext cx="46195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роблемы выживания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человечества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8" name="Text Box 135"/>
          <p:cNvSpPr/>
          <p:nvPr/>
        </p:nvSpPr>
        <p:spPr>
          <a:xfrm>
            <a:off x="1104120" y="2971800"/>
            <a:ext cx="7689600" cy="30200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1295280" y="990720"/>
            <a:ext cx="7115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причины глобальных проблем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936720" y="1600200"/>
            <a:ext cx="1823760" cy="2349360"/>
            <a:chOff x="936720" y="1600200"/>
            <a:chExt cx="1823760" cy="2349360"/>
          </a:xfrm>
        </p:grpSpPr>
        <p:pic>
          <p:nvPicPr>
            <p:cNvPr id="143" name="Object 9" descr=""/>
            <p:cNvPicPr/>
            <p:nvPr/>
          </p:nvPicPr>
          <p:blipFill>
            <a:blip r:embed="rId1"/>
            <a:stretch/>
          </p:blipFill>
          <p:spPr>
            <a:xfrm>
              <a:off x="1157400" y="1600200"/>
              <a:ext cx="14335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936720" y="3124080"/>
              <a:ext cx="1823760" cy="8254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ета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диный дом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2743200" y="1828800"/>
            <a:ext cx="3427560" cy="1693800"/>
            <a:chOff x="2743200" y="1828800"/>
            <a:chExt cx="3427560" cy="1693800"/>
          </a:xfrm>
        </p:grpSpPr>
        <p:sp>
          <p:nvSpPr>
            <p:cNvPr id="146" name="AutoShape 12"/>
            <p:cNvSpPr/>
            <p:nvPr/>
          </p:nvSpPr>
          <p:spPr>
            <a:xfrm>
              <a:off x="2743200" y="204624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3581640" y="1828800"/>
              <a:ext cx="2589120" cy="16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локальные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конфликты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и противоречи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6200640" y="1752480"/>
            <a:ext cx="2576520" cy="990360"/>
            <a:chOff x="6200640" y="1752480"/>
            <a:chExt cx="2576520" cy="990360"/>
          </a:xfrm>
        </p:grpSpPr>
        <p:sp>
          <p:nvSpPr>
            <p:cNvPr id="149" name="AutoShape 16"/>
            <p:cNvSpPr/>
            <p:nvPr/>
          </p:nvSpPr>
          <p:spPr>
            <a:xfrm>
              <a:off x="6200640" y="20286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7101000" y="1752480"/>
              <a:ext cx="1676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бщемировой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аракте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1" name="Group 26"/>
          <p:cNvGrpSpPr/>
          <p:nvPr/>
        </p:nvGrpSpPr>
        <p:grpSpPr>
          <a:xfrm>
            <a:off x="839520" y="4038480"/>
            <a:ext cx="2427480" cy="2577960"/>
            <a:chOff x="839520" y="4038480"/>
            <a:chExt cx="2427480" cy="2577960"/>
          </a:xfrm>
        </p:grpSpPr>
        <p:sp>
          <p:nvSpPr>
            <p:cNvPr id="152" name="AutoShape 19"/>
            <p:cNvSpPr/>
            <p:nvPr/>
          </p:nvSpPr>
          <p:spPr>
            <a:xfrm>
              <a:off x="1628640" y="40384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839520" y="4724280"/>
              <a:ext cx="2082600" cy="1892160"/>
              <a:chOff x="839520" y="4724280"/>
              <a:chExt cx="2082600" cy="1892160"/>
            </a:xfrm>
          </p:grpSpPr>
          <p:pic>
            <p:nvPicPr>
              <p:cNvPr id="154" name="Object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373040" y="4724280"/>
                <a:ext cx="1093680" cy="107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21"/>
              <p:cNvSpPr/>
              <p:nvPr/>
            </p:nvSpPr>
            <p:spPr>
              <a:xfrm>
                <a:off x="839520" y="5790960"/>
                <a:ext cx="208260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человека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WordArt 23"/>
            <p:cNvSpPr txBox="1"/>
            <p:nvPr/>
          </p:nvSpPr>
          <p:spPr>
            <a:xfrm>
              <a:off x="3000240" y="5029200"/>
              <a:ext cx="266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3816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=</a:t>
              </a:r>
              <a:endParaRPr b="1" lang="en-US" sz="2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3003120" y="4267080"/>
            <a:ext cx="2561040" cy="2197080"/>
            <a:chOff x="3003120" y="4267080"/>
            <a:chExt cx="2561040" cy="2197080"/>
          </a:xfrm>
        </p:grpSpPr>
        <p:pic>
          <p:nvPicPr>
            <p:cNvPr id="158" name="Object 24" descr=""/>
            <p:cNvPicPr/>
            <p:nvPr/>
          </p:nvPicPr>
          <p:blipFill>
            <a:blip r:embed="rId7"/>
            <a:stretch/>
          </p:blipFill>
          <p:spPr>
            <a:xfrm>
              <a:off x="3633480" y="4267080"/>
              <a:ext cx="1195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5"/>
            <p:cNvSpPr/>
            <p:nvPr/>
          </p:nvSpPr>
          <p:spPr>
            <a:xfrm>
              <a:off x="3003120" y="563868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руши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лы природ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8"/>
          <p:cNvSpPr/>
          <p:nvPr/>
        </p:nvSpPr>
        <p:spPr>
          <a:xfrm>
            <a:off x="5603400" y="3657600"/>
            <a:ext cx="3385800" cy="30200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Но!Низкий уровень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щественной орган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ци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лит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6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7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7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8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87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88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99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202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08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09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10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3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217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18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220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22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4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225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226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33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34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35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8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43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46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49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52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5-05-06T08:29:15Z</dcterms:modified>
  <cp:revision>99</cp:revision>
  <dc:subject/>
  <dc:title>ОСОБЕННОСТИ ДРЕВНИХ ЦИВИЛИЗАЦИЙ.</dc:title>
</cp:coreProperties>
</file>