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CE10-A8C0-42BE-A86B-4154E375762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ета Земля в опас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рода - единственная книга, каждая страница которой пол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лубокого содержания.                                                        Гё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50CA-0666-4B65-A562-49ED24ED42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красен и удивителен окружающий нас мир! Как прекрасны и неповторимы бескрайние леса и безбрежные моря, полноводные реки и озёра, высокие горы и зелёные равнины, широкие степи и безграничные пусты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0069-97E8-43D8-9290-9B2E075749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летит, маленькая та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грустит, в думы свои вни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плывёт, зыбкой прохладой в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ё ещё живёт! Всё ещё людям вери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плывёт сквозь грозовую полноч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х людей зовёт, про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йти на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сит  прийти на помощ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9398-1B07-4D24-8C79-7F3E8FF95C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я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7A0A-E132-4C35-82B6-EF3E65406C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опас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7C47-5704-411B-A359-6CACB944C8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ю окружающей среды способствуют: СЕЛЬСКОХОЗЯЙСТВЕННАЯ ДЕЯТЕЛЬНОСТЬ ЧЕЛОВЕКА, НЕРАЦИОНАЛЬНОЕ ИСПОЛЬЗОВАНИЕ ИСКОПАЕМОГО ТОПЛИВА, ЧРЕЗМЕРНООЕ РАСШИРЕНИЕ ХИМ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 известно, что сегодня наша планета находится в опасности и если мы  будем по –прежнему бездушно эксплуатировать её, то к концу этого столетия потеряем из-за эррозии более трети плодородных земель, исчезнет миллион видов живых организмов, а население будет нуждаться в новых ресур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75D4-3A4C-4404-863E-97EA2A4695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ую весну объявляется месячник по очистке территорий населённых пунктов от мус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 активное участие в субботник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бе понравилась чистота улиц? Не сори, и они останутся такими всегд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F30B-CE8E-44BC-9DC4-51B29D8F20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рогие ребята! 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емля с её  биосферой – величайшее чудо, она у нас одна.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удем же беречь нашу Землю!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сюду, на каждом шагу, все вместе и каждый в отдельности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ругой планеты у нас не будет!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втрашний   день Земли будет таким, каким мы создадим его сегодн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227F-66C7-4B30-AD92-6F045335B8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65E-1195-4C23-9D55-387BD787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BAC-8AA0-4672-89FF-319CBE9C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309-A157-4C5E-80A9-98EE8BC0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F0F-8FB3-44FD-97F0-C53D4C4E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C522-899E-43B5-B912-0F2F170A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0613-57FB-419C-BF95-1EB54524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C41C-076D-4DB1-B693-F0932A18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E6EA-38DC-48A5-80C9-469000C3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8BDC-2106-432A-B371-C7EEE566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1D4A-04FA-4C3E-AF01-323C4018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A8A7-797B-4152-8965-D8652F23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00C-008D-46A4-993A-CE9C639A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DA9A-F31F-46A8-B0B5-5707DB73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ACE1-F5B0-4448-887E-B8DC074E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7704-C288-4EAE-A7CF-622955B4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062F-2223-4F03-ACA3-5108D093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2CCA-1A69-4BB7-A2F5-53D8B4A9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6F9-322B-4F65-8549-4874AF4A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61C-B086-4B85-87C7-87367FC8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C96-BEB4-4D74-BFEA-151EB88E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321-F992-4510-86A5-1A641CD1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A0D-EABF-434A-9B21-7D31069A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0DD-2156-4A42-BB07-0EE55EBB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542-4401-4784-B0EB-70A7A667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D56E-6223-4583-84A4-AE56BD4A19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915F-899A-4E27-8A91-88D2F053B6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ffff"/>
                </a:solidFill>
                <a:latin typeface="Arial"/>
              </a:rPr>
              <a:t>Планета Земля в опасност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рода - единственная книга, каждая страница которой пол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лубокого содержания.                                                        Гё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{19193586-5FF4-4AA6-93B4-E461A553AB4E}"/>
          <p:cNvPicPr/>
          <p:nvPr/>
        </p:nvPicPr>
        <p:blipFill>
          <a:blip r:embed="rId1"/>
          <a:stretch/>
        </p:blipFill>
        <p:spPr>
          <a:xfrm>
            <a:off x="3132000" y="404640"/>
            <a:ext cx="3011760" cy="22593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3780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рекрасен и удивителен окружающий нас мир! Как прекрасны и неповторимы бескрайние леса и безбрежные моря, полноводные реки и озёра, высокие горы и зелёные равнины, широкие степи и безграничные пустын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озеро Байкал"/>
          <p:cNvPicPr/>
          <p:nvPr/>
        </p:nvPicPr>
        <p:blipFill>
          <a:blip r:embed="rId1"/>
          <a:stretch/>
        </p:blipFill>
        <p:spPr>
          <a:xfrm>
            <a:off x="6311880" y="260280"/>
            <a:ext cx="2832120" cy="2135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искуссство 025"/>
          <p:cNvPicPr/>
          <p:nvPr/>
        </p:nvPicPr>
        <p:blipFill>
          <a:blip r:embed="rId2"/>
          <a:stretch/>
        </p:blipFill>
        <p:spPr>
          <a:xfrm>
            <a:off x="6297480" y="472284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2_2"/>
          <p:cNvPicPr/>
          <p:nvPr/>
        </p:nvPicPr>
        <p:blipFill>
          <a:blip r:embed="rId3"/>
          <a:stretch/>
        </p:blipFill>
        <p:spPr>
          <a:xfrm>
            <a:off x="6300720" y="2492280"/>
            <a:ext cx="28432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p9_4_3"/>
          <p:cNvPicPr/>
          <p:nvPr/>
        </p:nvPicPr>
        <p:blipFill>
          <a:blip r:embed="rId4"/>
          <a:stretch/>
        </p:blipFill>
        <p:spPr>
          <a:xfrm>
            <a:off x="3564000" y="4724280"/>
            <a:ext cx="266364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c4_3"/>
          <p:cNvPicPr/>
          <p:nvPr/>
        </p:nvPicPr>
        <p:blipFill>
          <a:blip r:embed="rId5"/>
          <a:stretch/>
        </p:blipFill>
        <p:spPr>
          <a:xfrm>
            <a:off x="3708360" y="333360"/>
            <a:ext cx="2543040" cy="43117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4500720" y="3635280"/>
            <a:ext cx="4643280" cy="3222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летит, маленькая та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грустит, в думы свои вни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плывёт, зыбкой прохладой ве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ё ещё живёт! Всё ещё людям вери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плывёт сквозь грозовую полноч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х людей зовёт, прос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йти на помощ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осит  прийти на помощ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Природные явления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6" name="Picture 5" descr="ЯВЛЕНИЯ"/>
          <p:cNvPicPr/>
          <p:nvPr/>
        </p:nvPicPr>
        <p:blipFill>
          <a:blip r:embed="rId1"/>
          <a:stretch/>
        </p:blipFill>
        <p:spPr>
          <a:xfrm>
            <a:off x="250920" y="1676520"/>
            <a:ext cx="8569080" cy="5181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Экологическая опасность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РЕ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75000" cy="446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rus23"/>
          <p:cNvPicPr/>
          <p:nvPr/>
        </p:nvPicPr>
        <p:blipFill>
          <a:blip r:embed="rId2"/>
          <a:stretch/>
        </p:blipFill>
        <p:spPr>
          <a:xfrm>
            <a:off x="974880" y="3963960"/>
            <a:ext cx="2846160" cy="213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ЗАГРЯЗНЕНИЕ"/>
          <p:cNvPicPr/>
          <p:nvPr/>
        </p:nvPicPr>
        <p:blipFill>
          <a:blip r:embed="rId3"/>
          <a:stretch/>
        </p:blipFill>
        <p:spPr>
          <a:xfrm>
            <a:off x="974880" y="1676520"/>
            <a:ext cx="2846160" cy="21351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4194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язнению окружающей среды способствуют: СЕЛЬСКОХОЗЯЙСТВЕННАЯ ДЕЯТЕЛЬНОСТЬ ЧЕЛОВЕКА, НЕРАЦИОНАЛЬНОЕ ИСПОЛЬЗОВАНИЕ ИСКОПАЕМОГО ТОПЛИВА, ЧРЕЗМЕРНООЕ РАСШИРЕНИЕ ХИМИЧЕСКОГО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33360"/>
            <a:ext cx="419400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м известно, что сегодня наша планета находится в опасности и если мы  будем по –прежнему бездушно эксплуатировать её, то к концу этого столетия потеряем из-за эррозии более трети плодородных земель, исчезнет миллион видов живых организмов, а население будет нуждаться в новых ресурс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ую весну объявляется месячник по очистке территорий населённых пунктов от мус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и активное участие в субботник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бе понравилась чистота улиц? Не сори, и они останутся такими всегд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826920" y="333360"/>
            <a:ext cx="763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ачни с малог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Дорогие ребята! 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Земля с её  биосферой – величайшее чудо, она у нас одна..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Будем же беречь нашу Землю!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овсюду, на каждом шагу, все вместе и каждый в отдельности.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Другой планеты у нас не будет!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Завтрашний   день Земли будет таким, каким мы создадим его сегодня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Picture 13" descr="искуссство 023"/>
          <p:cNvPicPr/>
          <p:nvPr/>
        </p:nvPicPr>
        <p:blipFill>
          <a:blip r:embed="rId1"/>
          <a:stretch/>
        </p:blipFill>
        <p:spPr>
          <a:xfrm>
            <a:off x="1042920" y="443700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искуссство 025"/>
          <p:cNvPicPr/>
          <p:nvPr/>
        </p:nvPicPr>
        <p:blipFill>
          <a:blip r:embed="rId2"/>
          <a:stretch/>
        </p:blipFill>
        <p:spPr>
          <a:xfrm>
            <a:off x="4500720" y="4437000"/>
            <a:ext cx="4319280" cy="2135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P4110192"/>
          <p:cNvPicPr/>
          <p:nvPr/>
        </p:nvPicPr>
        <p:blipFill>
          <a:blip r:embed="rId3">
            <a:lum contrast="6000"/>
          </a:blip>
          <a:srcRect l="0" t="0" r="0" b="34889"/>
          <a:stretch/>
        </p:blipFill>
        <p:spPr>
          <a:xfrm>
            <a:off x="468360" y="2205000"/>
            <a:ext cx="4319640" cy="21351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126" name="Picture 17" descr="p9_2_3"/>
          <p:cNvPicPr/>
          <p:nvPr/>
        </p:nvPicPr>
        <p:blipFill>
          <a:blip r:embed="rId4"/>
          <a:stretch/>
        </p:blipFill>
        <p:spPr>
          <a:xfrm>
            <a:off x="5148360" y="2349360"/>
            <a:ext cx="3276360" cy="18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спасибо за внимание"/>
          <p:cNvPicPr/>
          <p:nvPr/>
        </p:nvPicPr>
        <p:blipFill>
          <a:blip r:embed="rId1"/>
          <a:stretch/>
        </p:blipFill>
        <p:spPr>
          <a:xfrm>
            <a:off x="1619280" y="1197000"/>
            <a:ext cx="5975280" cy="4479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7:03:47Z</dcterms:created>
  <dc:creator>user</dc:creator>
  <dc:description/>
  <dc:language>en-US</dc:language>
  <cp:lastModifiedBy>LEGION</cp:lastModifiedBy>
  <dcterms:modified xsi:type="dcterms:W3CDTF">2015-05-06T08:29:36Z</dcterms:modified>
  <cp:revision>32</cp:revision>
  <dc:subject/>
  <dc:title>Земля – малое дитя Космоса</dc:title>
</cp:coreProperties>
</file>