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D4AC-B841-45CB-B824-2D574AECBA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ета Земля в опас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рода - единственная книга, каждая страница которой пол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окого содержания.                                                        Гё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26FF-E1D2-4DC4-82DD-96B7E6EAAF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26DB-EE76-420A-A49C-FF7D9C15C0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летит, маленькая та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грустит, в думы свои вни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, зыбкой прохладой в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ё ещё живёт! Всё ещё людям вери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 сквозь грозовую полноч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х людей зовёт, пр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йти на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сит  прийти н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B8B0-0347-459B-8FDD-9220C7B07C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я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5387-2EAF-4F6F-8EE7-747EB6D431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199A-3D64-4C5C-BFF5-32EA09549D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F459-F78A-4706-B424-22B42FD67A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 активное участие в субботник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бе понравилась чистота улиц? Не сори, и они останутся такими всегд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9569-6359-4A5D-85BE-30199A0D9D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рогие ребята! 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емля с её  биосферой – величайшее чудо, она у нас одна.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удем же беречь нашу Землю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сюду, на каждом шагу, все вместе и каждый в отдельност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ругой планеты у нас не будет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втрашний   день Земли будет таким, каким мы создадим его сегодн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C119-140A-417F-803D-A3A9EBE018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1D2-C061-4F1A-949F-F2AF43FE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F9E-3DE6-4BC9-95A4-EC3196DA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53D-F63F-45F7-8391-A41E7951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90A-4FBA-4B57-A338-2E62F88B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6A6F-9506-444F-9910-ACF63C8B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2635-961A-4BCC-893B-EAEB03B5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2CAA-94B0-432E-A62A-B0B262FB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6B3D-EA0F-4DF5-BD68-3B1B2588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4E2E-3989-4750-97A9-EEA6C4AC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F1FE-5C22-4F78-98CC-9E3A834B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130A-5EE0-467B-B8B3-D97EB89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5B6-1D2E-48F4-8E5F-474F199C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A915-3801-4357-A396-5383443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FF5F-34FB-4BB6-A91B-6CAC692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C22A-663F-4D03-9884-BBEDCFE5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1D8D-F0B2-4DF2-B900-DECDD647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EF8A-C238-4B12-86D5-6AB0AA7A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F36-0665-46A7-BC27-E9D497E3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CC8-1147-48CA-B7A5-E9BABD26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BC3-A017-43B3-8BD5-FF6C3297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378-6F9F-4C24-952E-7EC24BDD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195-D42B-46D3-AD86-E2A9E47D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CA8-670E-4F71-AEB5-B4CA6018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7C8-DCF2-43ED-AFE8-5CA8C00F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E58F-AC66-4EDF-BA5B-5C327E6273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3301-6A10-43DA-8457-F53357D894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Планета Земля в опасност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рода - единственная книга, каждая страница которой пол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лубокого содержания.                                                        Гё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{19193586-5FF4-4AA6-93B4-E461A553AB4E}"/>
          <p:cNvPicPr/>
          <p:nvPr/>
        </p:nvPicPr>
        <p:blipFill>
          <a:blip r:embed="rId1"/>
          <a:stretch/>
        </p:blipFill>
        <p:spPr>
          <a:xfrm>
            <a:off x="3132000" y="404640"/>
            <a:ext cx="3011760" cy="22593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3780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озеро Байкал"/>
          <p:cNvPicPr/>
          <p:nvPr/>
        </p:nvPicPr>
        <p:blipFill>
          <a:blip r:embed="rId1"/>
          <a:stretch/>
        </p:blipFill>
        <p:spPr>
          <a:xfrm>
            <a:off x="6311880" y="260280"/>
            <a:ext cx="2832120" cy="213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скуссство 025"/>
          <p:cNvPicPr/>
          <p:nvPr/>
        </p:nvPicPr>
        <p:blipFill>
          <a:blip r:embed="rId2"/>
          <a:stretch/>
        </p:blipFill>
        <p:spPr>
          <a:xfrm>
            <a:off x="6297480" y="47228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2_2"/>
          <p:cNvPicPr/>
          <p:nvPr/>
        </p:nvPicPr>
        <p:blipFill>
          <a:blip r:embed="rId3"/>
          <a:stretch/>
        </p:blipFill>
        <p:spPr>
          <a:xfrm>
            <a:off x="6300720" y="2492280"/>
            <a:ext cx="28432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p9_4_3"/>
          <p:cNvPicPr/>
          <p:nvPr/>
        </p:nvPicPr>
        <p:blipFill>
          <a:blip r:embed="rId4"/>
          <a:stretch/>
        </p:blipFill>
        <p:spPr>
          <a:xfrm>
            <a:off x="3564000" y="4724280"/>
            <a:ext cx="266364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c4_3"/>
          <p:cNvPicPr/>
          <p:nvPr/>
        </p:nvPicPr>
        <p:blipFill>
          <a:blip r:embed="rId5"/>
          <a:stretch/>
        </p:blipFill>
        <p:spPr>
          <a:xfrm>
            <a:off x="3708360" y="333360"/>
            <a:ext cx="2543040" cy="4311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500720" y="3635280"/>
            <a:ext cx="4643280" cy="322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летит, маленькая та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грустит, в думы свои вни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, зыбкой прохладой в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ё ещё живёт! Всё ещё людям вери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 сквозь грозовую полноч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х людей зовёт, прос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йти на помощ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ит  прийти на помощ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Природные явления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Picture 5" descr="ЯВЛЕНИЯ"/>
          <p:cNvPicPr/>
          <p:nvPr/>
        </p:nvPicPr>
        <p:blipFill>
          <a:blip r:embed="rId1"/>
          <a:stretch/>
        </p:blipFill>
        <p:spPr>
          <a:xfrm>
            <a:off x="250920" y="1676520"/>
            <a:ext cx="856908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4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Экологическая опасность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РЕ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75000" cy="44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rus23"/>
          <p:cNvPicPr/>
          <p:nvPr/>
        </p:nvPicPr>
        <p:blipFill>
          <a:blip r:embed="rId2"/>
          <a:stretch/>
        </p:blipFill>
        <p:spPr>
          <a:xfrm>
            <a:off x="974880" y="396396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ЗАГРЯЗНЕНИЕ"/>
          <p:cNvPicPr/>
          <p:nvPr/>
        </p:nvPicPr>
        <p:blipFill>
          <a:blip r:embed="rId3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4194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19400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 активное участие в субботник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бе понравилась чистота улиц? Не сори, и они останутся такими всег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826920" y="333360"/>
            <a:ext cx="76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чни с малог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орогие ребята! 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емля с её  биосферой – величайшее чудо, она у нас одна.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Будем же беречь нашу Землю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овсюду, на каждом шагу, все вместе и каждый в отдельности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ругой планеты у нас не будет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автрашний   день Земли будет таким, каким мы создадим его сегодня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13" descr="искуссство 023"/>
          <p:cNvPicPr/>
          <p:nvPr/>
        </p:nvPicPr>
        <p:blipFill>
          <a:blip r:embed="rId1"/>
          <a:stretch/>
        </p:blipFill>
        <p:spPr>
          <a:xfrm>
            <a:off x="1042920" y="4437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искуссство 025"/>
          <p:cNvPicPr/>
          <p:nvPr/>
        </p:nvPicPr>
        <p:blipFill>
          <a:blip r:embed="rId2"/>
          <a:stretch/>
        </p:blipFill>
        <p:spPr>
          <a:xfrm>
            <a:off x="4500720" y="4437000"/>
            <a:ext cx="4319280" cy="21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P4110192"/>
          <p:cNvPicPr/>
          <p:nvPr/>
        </p:nvPicPr>
        <p:blipFill>
          <a:blip r:embed="rId3">
            <a:lum contrast="6000"/>
          </a:blip>
          <a:srcRect l="0" t="0" r="0" b="34889"/>
          <a:stretch/>
        </p:blipFill>
        <p:spPr>
          <a:xfrm>
            <a:off x="468360" y="2205000"/>
            <a:ext cx="4319640" cy="21351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26" name="Picture 17" descr="p9_2_3"/>
          <p:cNvPicPr/>
          <p:nvPr/>
        </p:nvPicPr>
        <p:blipFill>
          <a:blip r:embed="rId4"/>
          <a:stretch/>
        </p:blipFill>
        <p:spPr>
          <a:xfrm>
            <a:off x="5148360" y="2349360"/>
            <a:ext cx="3276360" cy="18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спасибо за внимание"/>
          <p:cNvPicPr/>
          <p:nvPr/>
        </p:nvPicPr>
        <p:blipFill>
          <a:blip r:embed="rId1"/>
          <a:stretch/>
        </p:blipFill>
        <p:spPr>
          <a:xfrm>
            <a:off x="1619280" y="1197000"/>
            <a:ext cx="5975280" cy="4479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7:03:47Z</dcterms:created>
  <dc:creator>user</dc:creator>
  <dc:description/>
  <dc:language>en-US</dc:language>
  <cp:lastModifiedBy>LEGION</cp:lastModifiedBy>
  <dcterms:modified xsi:type="dcterms:W3CDTF">2015-05-06T08:29:36Z</dcterms:modified>
  <cp:revision>32</cp:revision>
  <dc:subject/>
  <dc:title>Земля – малое дитя Космоса</dc:title>
</cp:coreProperties>
</file>