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C6D9A-BDDF-4E24-B8E5-46CE94114CA1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Основы эколо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1f497d"/>
                </a:solidFill>
                <a:latin typeface="Calibri"/>
              </a:rPr>
              <a:t>Автор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Немцева Т.В.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ст.преподаватель кафедры ЕМ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ГОУ ЯО ИР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5D361-FF98-4017-98BC-2405D543C36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.  В водоем запустили карпов. Объясните, как это могло повлиять на численность обитающих в нём водорослей, карасей и щу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1. Какие виды топлива – природный газ, каменный уголь, атомная энергия способствуют созданию парникового эффекта? Ответ пояснит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2. Постройте график изменения заготовок шкурок зайца-беляка на севере европейской части России последовательно за 27 лет (объем заготовок в баллах): 2,1, 2, 3,3, 4,5,15, 30, 80, 100. 60. 55, 0, 1, 1. 2,8, 90, 100,100,130,10.2.1,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Сколько длится один цикл в динамике численности зайца? Какой прогноз для заготовок шкурок более будет точным? (выберите правильный отве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А) на 1 год вперед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Б) на 5 лет вперед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В) на 10лет впере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3. Экологи установили интересный факт: как только в водоемах люди истребят выдр, рыбы в них становится больше, но потом численность е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метно уменьшается. Если снова расплодятся выдры, то количество рыбы в них опять возрастет.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Объясните почему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E0D26-F8DA-48D3-BA4E-0EF3FCA96DE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Calibri"/>
              </a:rPr>
              <a:t>Основные понят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Экология (</a:t>
            </a:r>
            <a:r>
              <a:rPr b="0" lang="en-US" sz="1200" spc="-1" strike="noStrike">
                <a:solidFill>
                  <a:srgbClr val="0000ff"/>
                </a:solidFill>
                <a:latin typeface="Calibri"/>
              </a:rPr>
              <a:t>jikos –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жилище, дом; </a:t>
            </a:r>
            <a:r>
              <a:rPr b="0" lang="en-US" sz="1200" spc="-1" strike="noStrike">
                <a:solidFill>
                  <a:srgbClr val="0000ff"/>
                </a:solidFill>
                <a:latin typeface="Calibri"/>
              </a:rPr>
              <a:t>logos –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наука</a:t>
            </a: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) –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наука, изучающая закономерности взаимоотношений организмов друг с другом и окружающей сред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Термин ввел немецкий биолог Э. Геккель в 1866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Методы исследования в экологи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евые мет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сперименталь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математического моделир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Экологические фактор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биотические факто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иотические факто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тропогенные факто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Лимитирующий фактор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ограничивающий жизнедеятельность) – фактор, интенсивность которого приближается к пределу выносливости или превышает е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Экологически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(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иологический</a:t>
            </a: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)оптиму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сочетание условий среды, обеспечивающих усиленный рост, развитие и размножение каждого организма (популяции, вид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96D86-B67E-44AA-A960-3960D453F53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Схема действия экологического факто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F9ACF-BC00-4BD6-A00F-CED85D67AA4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Calibri"/>
              </a:rPr>
              <a:t>Задания к теме</a:t>
            </a:r>
            <a:br>
              <a:rPr sz="1800"/>
            </a:br>
            <a:r>
              <a:rPr b="0" lang="ru-RU" sz="1800" spc="-1" strike="noStrike">
                <a:solidFill>
                  <a:srgbClr val="0000ff"/>
                </a:solidFill>
                <a:latin typeface="Calibri"/>
              </a:rPr>
              <a:t>«Зависимость организмов от факторов среды»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0" i="1" lang="ru-RU" sz="1200" spc="-1" strike="noStrike">
                <a:solidFill>
                  <a:srgbClr val="4f81bd"/>
                </a:solidFill>
                <a:latin typeface="Calibri"/>
              </a:rPr>
              <a:t>Определите к каким факторам сред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4f81bd"/>
                </a:solidFill>
                <a:latin typeface="Calibri"/>
              </a:rPr>
              <a:t>(абиотическим, биотическим и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4f81bd"/>
                </a:solidFill>
                <a:latin typeface="Calibri"/>
              </a:rPr>
              <a:t>     </a:t>
            </a:r>
            <a:r>
              <a:rPr b="0" i="1" lang="ru-RU" sz="1200" spc="-1" strike="noStrike">
                <a:solidFill>
                  <a:srgbClr val="4f81bd"/>
                </a:solidFill>
                <a:latin typeface="Calibri"/>
              </a:rPr>
              <a:t>антропогенным)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4f81bd"/>
                </a:solidFill>
                <a:latin typeface="Calibri"/>
              </a:rPr>
              <a:t>можно отнест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 хищничество, вырубку лесов, влажность воздуха, температуру воздуха, паразитизм, свет, строительство зданий, давление воздуха, конкуренцию, выброс СО2 заводами, давление воздуха, соленость вод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Рассмотрите график зависимости численности семиточечной божьей коровки о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пературы окружающей сре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Объясните, почему существую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дкие и находящиеся под угроз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чезновения организмы, ес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юбой вид способен к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спредельному росту числен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E6682-5E46-4984-B6BC-F422D02F65C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Инфузорий –туфелек поместили в закрытую пробирку с предварительно прокипяченной и охлажденной водой, содержащей пищу для простейших.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Как  вы думаете, что произойдет с инфузориями дальше? Почему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В естественных лесных сообществах успех размножения мелких птиц (птенцов) составляет около 40%; в лесах рядом с населенными пунктами – не более 10%;в парках этот показатель падает до 1%.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Назовите возможные причины такой закономерности. Что необходимо предпринять для увеличения успеха размножения птиц в парках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Ответ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рицательное влияние антропогенного фактора на размножение птиц (беспокойство, разорение гнезд, вспугивание птиц с гнезд, обилие кошек и собак, действие ядохимикатов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успеха размножения птиц уменьшить влияние антропогенного фактора ( гулять только по дорожкам, выгул собак и кошек на поводке, создание зон покоя с запрещенным входом людей. Увеличить подкормку и количество искусственных гнездовий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 Уровень содержания кислорода в воде является одним из важнейших факторов в жизни рыб.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Назовите дополнительные приспособления, которые имеют некоторые виды рыб, позволяющие им обитать в воде при недостатке кислорода</a:t>
            </a:r>
            <a:r>
              <a:rPr b="0" i="1" lang="ru-RU" sz="1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Ответ: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рез кожу –вьюн; за счет плавательного пузыря; дыхание атмосферным воздухом; использование легочного пузыря – у двоякодышащих, сомов, вьюнов; развитие наджаберных камер (резерваторов воздуха) – у некоторых сом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5D850-9628-4AC5-AAAB-629F82272C6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небольшом водоеме, образовавшемся после разлива реки, обнаруже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едующие организмы: инфузории-туфельки, дафнии, белые планари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ьшой прудовик, циклопы, гидры. Объясните, можно ли этот водоё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читать экосистемой. Приведите не менее 3-х доказательст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Отв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званный временный водоем нельзя назвать экосистемой, так какв нём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 отсутствуют продуцент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 отсутствуют редуцент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) отсутствует замкнутый круговорот веществ и нарушены цеп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ит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чему экосистему смешанного леса считают более устойчивой, ч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систему елового лес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Отв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 в смешанном лесу больше видов, чем в елово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 в смешанном лесу цепи питания более длинные 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ветвлённые, чем в елово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) в смешанном лесу ярусов больше, чем в елов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FE2B3-7EA7-422D-A81E-6EC321C54E4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Популяция –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окупность особей одного вида, длительно существующих на определенной территории и относительно изолированных друг от друг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Экологические характеристики популяци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ислен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отность популя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странственное распределение  особей ( семьи, стада, колонии, косяк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ждаем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овая струк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растная струк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Взаимосвязи в популяции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мутуализм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симбиоз)- взаимовыгодное сожительство организмов разных вид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нейтрализ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совместное обитание особей , непосредственно не взаимодействующих между соб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аменсализм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это сожительство, при котором особь одного вида  использует особь другого вида только как жилищ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комменсализ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нахлебничество) – сожительство организмов разных видов, при котором один использует остатки пищи другого , не причиняя вре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аразитиз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сожительство организмов разных видов, при котором один организм питается за счет другого , нанося ему вре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4f81bd"/>
                </a:solidFill>
                <a:latin typeface="Calibri"/>
              </a:rPr>
              <a:t>Например: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 предложенного списка составьте пары организмов , которые могут находиться в мутуалистических отношениях (названия организмов использовать только один раз) :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чела, гриб, подберезовик, актиния, дуб, береза, рак-отшельник, осина, сойка, клевер, подосиновик, липа, клубеньковые бактер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8CBA0-27BA-4C39-85C8-CCC901BE1C4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Компоненты биоценоз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органические вещ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иматические факто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ческие вещ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дуцен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сумен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дуцен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Вертикальная структура –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рус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ризонтальная структура – распределение (мозаичность) организм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Цепи пита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сбищ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тритная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CAD8B-8844-4FB6-BD2A-5A74313864C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Calibri"/>
              </a:rPr>
              <a:t>Задания для самоконтрол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Cоставьте пищевую цепь, используя все названные ниже объекты: перегной, паук-крестовик, ястреб, большая синица, комнатная муха.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Определите консумента третьего порядка в составленной цеп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Для борьбы с насекомыми-вредителями человек применяет химические вещества.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Объясните, как может измениться жизнь дубравы в случае, если в ней химическим способом будут  уничтожены все растительноядные насекомы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Для борьбы с насекомыми-вредителями человек применяет химические вещества.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Объясните, как может измениться жизнь дубравы в случае, если в ней химическим способом будут  уничтожены все растительноядные насекомые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Почему численность промысловых растительноядных рыб может резко сократиться при уничтожении в водоеме хищных рыб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Почему сов в экосистеме леса относят к консументам второго порядка, а мышей к консументам первого порядка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 Почему на лесных тропинках растения отсутствуют или сильно разрежены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. Что служит основой формирования разнообразных сетей питания в экосистемах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. Объясните, почему происходит естественное зарастание пресноводного водоем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. Объясните, какой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ред растениям наносят кислотные дожд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60720-0E03-4435-81AF-29230EBCF9F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99C72E-1D11-4D32-BE4A-56A39922D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5EB796-7B8D-49EC-9483-F58A38A80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6B55A9-2E9E-40D5-9128-8B1C19B72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A4F1AB-5376-46E9-93F1-F73E799EB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CE58A-08D8-443A-8A96-0FA4811EC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FF6E5-61D0-4E9C-85B1-09C6741A3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3FC15-716E-45E2-9D34-F407F2274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0D12D-EB1E-4A35-A8CF-4B630FE62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991F9-A014-430E-87FD-6BD9F227A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45AF8-A6D6-4D75-A063-24625439E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4047B-815B-4DB0-A70B-1834D6E4F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804488-B2D2-421C-9054-8DF70DEFE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2E956-CA74-4CAC-B0A8-F4B673A42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3EC10-B7FD-46A8-8929-8F646DD8F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ABAB3-7645-4365-B0BB-72227DFB6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A6DDB-7C40-41EC-80CE-9C44D7240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4F4EF-2735-48E9-8CA0-EA1FB4D1A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011866-3EF6-41A2-BD94-65AA9E41C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F9B704-D3A5-44F9-AC5E-9B6808CBD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E91DCF-5F63-4458-B34A-FB7DBA85D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B9A28A-2661-4097-99AB-16F04324F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C96F05-DBA7-4AF6-981F-040B94992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3FEF80-5BA1-4C71-A502-672E34481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715644-FC0D-419B-A7DB-ACED81078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5C61B-D722-4A84-90E4-F3F630859988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5093D-1A2F-49F4-B3A1-58F4E41112BF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ffffff"/>
                </a:solidFill>
                <a:latin typeface="Arial"/>
              </a:rPr>
              <a:t>Основы экологии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Автор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Немцева Т.В.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т.преподаватель кафедры ЕМД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ГОУ ЯО ИРО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1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549360"/>
            <a:ext cx="8229600" cy="630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0.  В водоем запустили карпов. Объясните, как это могло повлиять на численность обитающих в нём водорослей, карасей и щук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1. Какие виды топлива – природный газ, каменный уголь, атомная энергия способствуют созданию парникового эффекта? Ответ поясните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2. Постройте график изменения заготовок шкурок зайца-беляка на севере европейской части России последовательно за 27 лет (объем заготовок в баллах): 2,1, 2, 3,3, 4,5,15, 30, 80, 100. 60. 55, 0, 1, 1. 2,8, 90, 100,100,130,10.2.1,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Сколько длится один цикл в динамике численности зайца? Какой прогноз для заготовок шкурок более будет точным? (выберите правильный ответ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А) на 1 год вперед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Б) на 5 лет вперед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В) на 10лет впере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3. Экологи установили интересный факт: как только в водоемах люди истребят выдр, рыбы в них становится больше, но потом численность е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метно уменьшается. Если снова расплодятся выдры, то количество рыбы в них опять возрастет.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Объясните почему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11280" y="333360"/>
            <a:ext cx="822960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6699"/>
                </a:solidFill>
                <a:latin typeface="Arial"/>
              </a:rPr>
              <a:t>Основные понят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9999ff"/>
                </a:solidFill>
                <a:latin typeface="Arial"/>
              </a:rPr>
              <a:t>Экология (</a:t>
            </a:r>
            <a:r>
              <a:rPr b="0" lang="en-US" sz="1700" spc="-1" strike="noStrike">
                <a:solidFill>
                  <a:srgbClr val="666699"/>
                </a:solidFill>
                <a:latin typeface="Arial"/>
              </a:rPr>
              <a:t>jikos –</a:t>
            </a:r>
            <a:r>
              <a:rPr b="0" lang="ru-RU" sz="1700" spc="-1" strike="noStrike">
                <a:solidFill>
                  <a:srgbClr val="666699"/>
                </a:solidFill>
                <a:latin typeface="Arial"/>
              </a:rPr>
              <a:t>жилище, дом; </a:t>
            </a:r>
            <a:r>
              <a:rPr b="0" lang="en-US" sz="1700" spc="-1" strike="noStrike">
                <a:solidFill>
                  <a:srgbClr val="666699"/>
                </a:solidFill>
                <a:latin typeface="Arial"/>
              </a:rPr>
              <a:t>logos –</a:t>
            </a:r>
            <a:r>
              <a:rPr b="0" lang="ru-RU" sz="1700" spc="-1" strike="noStrike">
                <a:solidFill>
                  <a:srgbClr val="666699"/>
                </a:solidFill>
                <a:latin typeface="Arial"/>
              </a:rPr>
              <a:t>наука</a:t>
            </a:r>
            <a:r>
              <a:rPr b="0" lang="ru-RU" sz="1700" spc="-1" strike="noStrike">
                <a:solidFill>
                  <a:srgbClr val="9999ff"/>
                </a:solidFill>
                <a:latin typeface="Arial"/>
              </a:rPr>
              <a:t>) – </a:t>
            </a:r>
            <a:r>
              <a:rPr b="0" lang="ru-RU" sz="1700" spc="-1" strike="noStrike">
                <a:solidFill>
                  <a:srgbClr val="666699"/>
                </a:solidFill>
                <a:latin typeface="Arial"/>
              </a:rPr>
              <a:t>наука, изучающая закономерности взаимоотношений организмов друг с другом и окружающей средой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666699"/>
                </a:solidFill>
                <a:latin typeface="Arial"/>
              </a:rPr>
              <a:t>Термин ввел немецкий биолог Э. Геккель в 1866г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9999ff"/>
                </a:solidFill>
                <a:latin typeface="Arial"/>
              </a:rPr>
              <a:t>Методы исследования в экологии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Полевые методы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Экспериментальные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Методы математического моделирования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9999ff"/>
                </a:solidFill>
                <a:latin typeface="Arial"/>
              </a:rPr>
              <a:t>Экологические факторы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Абиотические факторы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Биотические факторы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Антропогенные факторы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9999ff"/>
                </a:solidFill>
                <a:latin typeface="Arial"/>
              </a:rPr>
              <a:t>Лимитирующий фактор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 (ограничивающий жизнедеятельность) – фактор, интенсивность которого приближается к пределу выносливости или превышает его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9999ff"/>
                </a:solidFill>
                <a:latin typeface="Arial"/>
              </a:rPr>
              <a:t>Экологический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700" spc="-1" strike="noStrike">
                <a:solidFill>
                  <a:srgbClr val="9999ff"/>
                </a:solidFill>
                <a:latin typeface="Arial"/>
              </a:rPr>
              <a:t>(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биологический</a:t>
            </a:r>
            <a:r>
              <a:rPr b="0" lang="ru-RU" sz="1700" spc="-1" strike="noStrike">
                <a:solidFill>
                  <a:srgbClr val="9999ff"/>
                </a:solidFill>
                <a:latin typeface="Arial"/>
              </a:rPr>
              <a:t>)оптимум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 –сочетание условий среды, обеспечивающих усиленный рост, развитие и размножение каждого организма (популяции, вида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360" y="172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404640"/>
            <a:ext cx="8229600" cy="645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99ff"/>
                </a:solidFill>
                <a:latin typeface="Arial"/>
              </a:rPr>
              <a:t>Схема действия экологического факто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8" descr="Безымянный"/>
          <p:cNvPicPr/>
          <p:nvPr/>
        </p:nvPicPr>
        <p:blipFill>
          <a:blip r:embed="rId1"/>
          <a:srcRect l="0" t="0" r="0" b="14754"/>
          <a:stretch/>
        </p:blipFill>
        <p:spPr>
          <a:xfrm>
            <a:off x="1547640" y="1341360"/>
            <a:ext cx="6840720" cy="3727440"/>
          </a:xfrm>
          <a:prstGeom prst="rect">
            <a:avLst/>
          </a:prstGeom>
          <a:ln w="0">
            <a:noFill/>
          </a:ln>
        </p:spPr>
      </p:pic>
      <p:sp>
        <p:nvSpPr>
          <p:cNvPr id="1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6699"/>
                </a:solidFill>
                <a:latin typeface="Arial"/>
              </a:rPr>
              <a:t>Задания к теме</a:t>
            </a:r>
            <a:br>
              <a:rPr sz="2400"/>
            </a:br>
            <a:r>
              <a:rPr b="0" lang="ru-RU" sz="2400" spc="-1" strike="noStrike">
                <a:solidFill>
                  <a:srgbClr val="666699"/>
                </a:solidFill>
                <a:latin typeface="Arial"/>
              </a:rPr>
              <a:t>«Зависимость организмов от факторов среды»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i="1" lang="ru-RU" sz="1600" spc="-1" strike="noStrike">
                <a:solidFill>
                  <a:srgbClr val="9999ff"/>
                </a:solidFill>
                <a:latin typeface="Arial"/>
              </a:rPr>
              <a:t>Определите к каким факторам среды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600" spc="-1" strike="noStrike">
                <a:solidFill>
                  <a:srgbClr val="9999ff"/>
                </a:solidFill>
                <a:latin typeface="Arial"/>
              </a:rPr>
              <a:t>(абиотическим, биотическим ил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9999ff"/>
                </a:solidFill>
                <a:latin typeface="Arial"/>
              </a:rPr>
              <a:t>     </a:t>
            </a:r>
            <a:r>
              <a:rPr b="0" i="1" lang="ru-RU" sz="1600" spc="-1" strike="noStrike">
                <a:solidFill>
                  <a:srgbClr val="9999ff"/>
                </a:solidFill>
                <a:latin typeface="Arial"/>
              </a:rPr>
              <a:t>антропогенным)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600" spc="-1" strike="noStrike">
                <a:solidFill>
                  <a:srgbClr val="9999ff"/>
                </a:solidFill>
                <a:latin typeface="Arial"/>
              </a:rPr>
              <a:t>можно отнести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: хищничество, вырубку лесов, влажность воздуха, температуру воздуха, паразитизм, свет, строительство зданий, давление воздуха, конкуренцию, выброс СО2 заводами, давление воздуха, соленость вод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. Рассмотрите график зависимости численности семиточечной божьей коровки о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емпературы окружающей сред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. Объясните, почему существуют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едкие и находящиеся под угрозо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счезновения организмы, есл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любой вид способен к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еспредельному росту числен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6" descr=""/>
          <p:cNvPicPr/>
          <p:nvPr/>
        </p:nvPicPr>
        <p:blipFill>
          <a:blip r:embed="rId1"/>
          <a:stretch/>
        </p:blipFill>
        <p:spPr>
          <a:xfrm>
            <a:off x="4140360" y="3284640"/>
            <a:ext cx="4770360" cy="2773440"/>
          </a:xfrm>
          <a:prstGeom prst="rect">
            <a:avLst/>
          </a:prstGeom>
          <a:ln w="0">
            <a:noFill/>
          </a:ln>
        </p:spPr>
      </p:pic>
      <p:sp>
        <p:nvSpPr>
          <p:cNvPr id="1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79280" y="475920"/>
            <a:ext cx="8785440" cy="62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4. Инфузорий –туфелек поместили в закрытую пробирку с предварительно прокипяченной и охлажденной водой, содержащей пищу для простейших.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Как  вы думаете, что произойдет с инфузориями дальше? Почему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5. В естественных лесных сообществах успех размножения мелких птиц (птенцов) составляет около 40%; в лесах рядом с населенными пунктами – не более 10%;в парках этот показатель падает до 1%.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Назовите возможные причины такой закономерности. Что необходимо предпринять для увеличения успеха размножения птиц в парках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99ff"/>
                </a:solidFill>
                <a:latin typeface="Arial"/>
              </a:rPr>
              <a:t>Ответ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00007d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трицательное влияние антропогенного фактора на размножение птиц (беспокойство, разорение гнезд, вспугивание птиц с гнезд, обилие кошек и собак, действие ядохимикатов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00007d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ля успеха размножения птиц уменьшить влияние антропогенного фактора ( гулять только по дорожкам, выгул собак и кошек на поводке, создание зон покоя с запрещенным входом людей. Увеличить подкормку и количество искусственных гнездовий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6. Уровень содержания кислорода в воде является одним из важнейших факторов в жизни рыб.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Назовите дополнительные приспособления, которые имеют некоторые виды рыб, позволяющие им обитать в воде при недостатке кислорода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99ff"/>
                </a:solidFill>
                <a:latin typeface="Arial"/>
              </a:rPr>
              <a:t>Ответ: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через кожу –вьюн; за счет плавательного пузыря; дыхание атмосферным воздухом; использование легочного пузыря – у двоякодышащих, сомов, вьюнов; развитие наджаберных камер (резерваторов воздуха) – у некоторых сомов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0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404640"/>
            <a:ext cx="8229600" cy="645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небольшом водоеме, образовавшемся после разлива реки, обнаружен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ледующие организмы: инфузории-туфельки, дафнии, белые планарии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ольшой прудовик, циклопы, гидры. Объясните, можно ли этот водоё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читать экосистемой. Приведите не менее 3-х доказательств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99ff"/>
                </a:solidFill>
                <a:latin typeface="Arial"/>
              </a:rPr>
              <a:t>Отве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званный временный водоем нельзя назвать экосистемой, так какв нём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) отсутствуют продуценты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) отсутствуют редуценты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) отсутствует замкнутый круговорот веществ и нарушены цеп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ита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чему экосистему смешанного леса считают более устойчивой, че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экосистему елового леса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99ff"/>
                </a:solidFill>
                <a:latin typeface="Arial"/>
              </a:rPr>
              <a:t>Отве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) в смешанном лесу больше видов, чем в еловом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) в смешанном лесу цепи питания более длинные 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зветвлённые, чем в еловом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) в смешанном лесу ярусов больше, чем в елово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43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68360" y="475920"/>
            <a:ext cx="8229600" cy="638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99ff"/>
                </a:solidFill>
                <a:latin typeface="Arial"/>
              </a:rPr>
              <a:t>Популяция –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овокупность особей одного вида, длительно существующих на определенной территории и относительно изолированных друг от друг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99ff"/>
                </a:solidFill>
                <a:latin typeface="Arial"/>
              </a:rPr>
              <a:t>Экологические характеристики популяци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Численно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лотность популя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странственное распределение  особей ( семьи, стада, колонии, косяки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ождаемо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ловая структур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озрастная структур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99ff"/>
                </a:solidFill>
                <a:latin typeface="Arial"/>
              </a:rPr>
              <a:t>Взаимосвязи в популяции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мутуализм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симбиоз)- взаимовыгодное сожительство организмов разных вид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нейтрализм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совместное обитание особей , непосредственно не взаимодействующих между собо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аменсализм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– это сожительство, при котором особь одного вида  использует особь другого вида только как жилищ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комменсализм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(нахлебничество) – сожительство организмов разных видов, при котором один использует остатки пищи другого , не причиняя вре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паразитизм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сожительство организмов разных видов, при котором один организм питается за счет другого , нанося ему вре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9999ff"/>
                </a:solidFill>
                <a:latin typeface="Arial"/>
              </a:rPr>
              <a:t>Например: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з предложенного списка составьте пары организмов , которые могут находиться в мутуалистических отношениях (названия организмов использовать только один раз) :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пчела, гриб, подберезовик, актиния, дуб, береза, рак-отшельник, осина, сойка, клевер, подосиновик, липа, клубеньковые бактер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39640" y="-9637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404640"/>
            <a:ext cx="8229600" cy="54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99ff"/>
                </a:solidFill>
                <a:latin typeface="Arial"/>
              </a:rPr>
              <a:t>Компоненты биоценоз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органические вещест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лиматические фактор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рганические вещест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дуцент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нсумент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едуцент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Вертикальная структура –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ярусно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оризонтальная структура – распределение (мозаичность) организм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99ff"/>
                </a:solidFill>
                <a:latin typeface="Arial"/>
              </a:rPr>
              <a:t>Цепи питания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асбищн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етритная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2124000" y="3284640"/>
            <a:ext cx="93672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5"/>
          <p:cNvSpPr/>
          <p:nvPr/>
        </p:nvSpPr>
        <p:spPr>
          <a:xfrm>
            <a:off x="3348000" y="3284640"/>
            <a:ext cx="91440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афн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6"/>
          <p:cNvSpPr/>
          <p:nvPr/>
        </p:nvSpPr>
        <p:spPr>
          <a:xfrm>
            <a:off x="4572000" y="3284640"/>
            <a:ext cx="1152360" cy="433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альки рыб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7"/>
          <p:cNvSpPr/>
          <p:nvPr/>
        </p:nvSpPr>
        <p:spPr>
          <a:xfrm>
            <a:off x="6084720" y="3284640"/>
            <a:ext cx="91440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кун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8"/>
          <p:cNvSpPr/>
          <p:nvPr/>
        </p:nvSpPr>
        <p:spPr>
          <a:xfrm>
            <a:off x="7236000" y="3284640"/>
            <a:ext cx="136836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нил.бактер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9"/>
          <p:cNvSpPr/>
          <p:nvPr/>
        </p:nvSpPr>
        <p:spPr>
          <a:xfrm>
            <a:off x="3132000" y="3573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10"/>
          <p:cNvSpPr/>
          <p:nvPr/>
        </p:nvSpPr>
        <p:spPr>
          <a:xfrm>
            <a:off x="4356000" y="35002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11"/>
          <p:cNvSpPr/>
          <p:nvPr/>
        </p:nvSpPr>
        <p:spPr>
          <a:xfrm>
            <a:off x="5867280" y="35002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12"/>
          <p:cNvSpPr/>
          <p:nvPr/>
        </p:nvSpPr>
        <p:spPr>
          <a:xfrm>
            <a:off x="7020000" y="35002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3"/>
          <p:cNvSpPr/>
          <p:nvPr/>
        </p:nvSpPr>
        <p:spPr>
          <a:xfrm>
            <a:off x="2556000" y="32846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4"/>
          <p:cNvSpPr/>
          <p:nvPr/>
        </p:nvSpPr>
        <p:spPr>
          <a:xfrm>
            <a:off x="2051280" y="3357720"/>
            <a:ext cx="106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одоросл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19"/>
          <p:cNvSpPr/>
          <p:nvPr/>
        </p:nvSpPr>
        <p:spPr>
          <a:xfrm>
            <a:off x="2197080" y="4076640"/>
            <a:ext cx="93672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20"/>
          <p:cNvSpPr/>
          <p:nvPr/>
        </p:nvSpPr>
        <p:spPr>
          <a:xfrm>
            <a:off x="3276720" y="4076640"/>
            <a:ext cx="151128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22"/>
          <p:cNvSpPr/>
          <p:nvPr/>
        </p:nvSpPr>
        <p:spPr>
          <a:xfrm>
            <a:off x="5076720" y="4076640"/>
            <a:ext cx="12956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кворе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23"/>
          <p:cNvSpPr/>
          <p:nvPr/>
        </p:nvSpPr>
        <p:spPr>
          <a:xfrm>
            <a:off x="6588000" y="4076640"/>
            <a:ext cx="136872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24"/>
          <p:cNvSpPr/>
          <p:nvPr/>
        </p:nvSpPr>
        <p:spPr>
          <a:xfrm>
            <a:off x="3132000" y="4221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26"/>
          <p:cNvSpPr/>
          <p:nvPr/>
        </p:nvSpPr>
        <p:spPr>
          <a:xfrm>
            <a:off x="4788000" y="422100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27"/>
          <p:cNvSpPr/>
          <p:nvPr/>
        </p:nvSpPr>
        <p:spPr>
          <a:xfrm>
            <a:off x="6372360" y="422100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28"/>
          <p:cNvSpPr/>
          <p:nvPr/>
        </p:nvSpPr>
        <p:spPr>
          <a:xfrm>
            <a:off x="2484360" y="40766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29"/>
          <p:cNvSpPr/>
          <p:nvPr/>
        </p:nvSpPr>
        <p:spPr>
          <a:xfrm>
            <a:off x="2340360" y="4076640"/>
            <a:ext cx="65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во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30"/>
          <p:cNvSpPr/>
          <p:nvPr/>
        </p:nvSpPr>
        <p:spPr>
          <a:xfrm>
            <a:off x="3276720" y="4076640"/>
            <a:ext cx="146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возные мух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31"/>
          <p:cNvSpPr/>
          <p:nvPr/>
        </p:nvSpPr>
        <p:spPr>
          <a:xfrm>
            <a:off x="6712560" y="4075200"/>
            <a:ext cx="9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актер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45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6699"/>
                </a:solidFill>
                <a:latin typeface="Arial"/>
              </a:rPr>
              <a:t>Задания для самоконтрол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. Cоставьте пищевую цепь, используя все названные ниже объекты: перегной, паук-крестовик, ястреб, большая синица, комнатная муха.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Определите консумента третьего порядка в составленной цеп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. Для борьбы с насекомыми-вредителями человек применяет химические вещества.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Объясните, как может измениться жизнь дубравы в случае, если в ней химическим способом будут  уничтожены все растительноядные насекомы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. Для борьбы с насекомыми-вредителями человек применяет химические вещества.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Объясните, как может измениться жизнь дубравы в случае, если в ней химическим способом будут  уничтожены все растительноядные насекомые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4. Почему численность промысловых растительноядных рыб может резко сократиться при уничтожении в водоеме хищных рыб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5. Почему сов в экосистеме леса относят к консументам второго порядка, а мышей к консументам первого порядка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6. Почему на лесных тропинках растения отсутствуют или сильно разрежены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7. Что служит основой формирования разнообразных сетей питания в экосистемах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8. Объясните, почему происходит естественное зарастание пресноводного водоем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9. Объясните, какой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ред растениям наносят кислотные дожд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1T12:57:25Z</dcterms:created>
  <dc:creator>nemceva</dc:creator>
  <dc:description/>
  <dc:language>en-US</dc:language>
  <cp:lastModifiedBy>LEGION</cp:lastModifiedBy>
  <dcterms:modified xsi:type="dcterms:W3CDTF">2015-05-06T08:31:15Z</dcterms:modified>
  <cp:revision>14</cp:revision>
  <dc:subject/>
  <dc:title>Основы экологии</dc:title>
</cp:coreProperties>
</file>