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04E4-CE9F-4180-B7C7-B2086851F3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мцева Т.В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т.преподаватель кафедры ЕМ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ОУ ЯО 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F2FD-E705-4944-B97D-E5381505CF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) на 1 год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) на 5 лет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) на 10лет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Объясните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2B4E-F50E-47D0-87B1-1BB2EAE3C9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я (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jik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лище, дом;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log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 –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ермин ввел немецкий биолог Э. Геккель в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Методы исследования в эк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в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математического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Лимитирующий фак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оптим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E18B-95EC-4AED-AA61-4147DE76E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хема действия экологического фа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3A6-9A06-4657-8271-BDD1E8D7B6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дания к теме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«Зависимость организмов от факторов сред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Определите к каким факторам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(абиотическим, биотическим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антропогенным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можно отне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ите график зависимости численности семиточечной божьей коровки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ясните, почему существ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е и находящиеся под угр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овения организмы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вид способен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редельному росту чис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0531-E810-47B7-83AF-BE8A794208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 вы думаете, что произойдет с инфузориями да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9186-5B1B-403A-B054-01A9448971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большом водоеме, образовавшемся после разлива реки, обнару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организмы: инфузории-туфельки, дафнии, белые плана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прудовик, циклопы, гидры. Объясните, можно ли этот водоё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ть экосистемой. Приведите не менее 3-х дока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ный временный водоем нельзя назвать экосистемой, так какв нё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тсутствуют про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уют ре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сутствует замкнутый круговорот веществ и нарушены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экосистему смешанного леса считают более устойчивой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у елового л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смешанном лесу больше видов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смешанном лесу цепи питания более длин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ённые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смешанном лесу ярусов больше, чем в ело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1391-84CE-437B-9493-D45DBFFA34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пуля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характеристики популя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нное распределение  особей ( семьи, стада, колонии, кося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заимосвязи в популяц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ту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мбиоз)- взаимовыгодное сожительство организмов разных в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йтр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местное обитание особей , непосредственно не взаимодействующих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менс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мменс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аразит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Наприме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EF16-6467-4800-9C47-3F79D4D46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омпоненты биоцено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тикальная структур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у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структура – распределение (мозаичность)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Цепи 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бищ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ритна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847-7304-4123-806D-4B46A55AE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Задания для само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 консумента третьего порядка в составленной цеп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очему на лесных тропинках растения отсутствуют или сильно разреже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то служит основой формирования разнообразных сетей питания в экосистема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бъясните, почему происходит естественное зарастание пресноводного водо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Объясните, как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растениям наносят кислотные дож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952B-8A44-4FD3-9ABD-770037C502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3813-7962-4E22-B9CA-F3628832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35AC-2166-4D62-8DC9-BF49A74C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9A85-3C43-4138-B077-9261B204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9D01-F7C2-48E6-BEFA-AEF51484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3C4B-6FA6-485D-A695-D4D324A2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606F-1D8D-431A-B8AF-603BCBA6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69FD-D246-48E7-BC11-03080AA8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D1CD-7209-4815-8EA7-F4AB7573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670F-DA22-4DC8-8BA1-F910D363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CFCE-4DBD-4410-88DA-8CE71A03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3F92-9118-48EB-95BD-0AB34C9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94DC-94D4-4E1E-87DA-CAB87471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3E55-4854-41DF-8736-BC81160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A603-0762-41F9-9E3C-229DC477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B6BA-6646-405E-BB5C-DBB72780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B741-1CC5-45D7-B836-865E55E3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DD29-8F3A-41BB-A77A-A3C53A24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0EB3-E2F0-4E6A-B337-83AF6418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0209-9E67-4F4D-8528-721537F8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7C14-AE6B-4058-B2D9-487B2CC8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F09D-1E63-45E0-90FF-2ADFB28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2847-F429-4747-ACDC-7B0F9DD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BAC8-8DCC-473D-8519-A7D5DC6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316A-B52B-438B-AB21-D693ECD8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0DCA-CFBD-44A1-A18E-82616B2E78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73E2-84F8-43F3-8227-134FEA3CE8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Основы эколог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цева Т.В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.преподаватель кафедры ЕМ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У ЯО И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) на 1 год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) на 5 лет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) на 10лет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бъясните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я (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jik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жилище, дом; 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log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Термин ввел немецкий биолог Э. Геккель в 1866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Методы исследования в экологи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евые мет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ксперименталь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тоды математического модел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е фактор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Лимитирующий фактор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оптиму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Схема действия экологического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Безымянный"/>
          <p:cNvPicPr/>
          <p:nvPr/>
        </p:nvPicPr>
        <p:blipFill>
          <a:blip r:embed="rId1"/>
          <a:srcRect l="0" t="0" r="0" b="14754"/>
          <a:stretch/>
        </p:blipFill>
        <p:spPr>
          <a:xfrm>
            <a:off x="1547640" y="1341360"/>
            <a:ext cx="6840720" cy="37274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Задания к теме</a:t>
            </a:r>
            <a:br>
              <a:rPr sz="2400"/>
            </a:b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«Зависимость организмов от факторов среды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Определите к каким факторам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(абиотическим, биотически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антропогенным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можно отне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ассмотрите график зависимости численности семиточечной божьей коровк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окружающе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бъясните, почему существ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ие и находящиеся под угроз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чезновения организмы, е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вид способен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редельному росту чис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770360" cy="2773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  вы думаете, что произойдет с инфузориями дальше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большом водоеме, образовавшемся после разлива реки, обнаруж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ющие организмы: инфузории-туфельки, дафнии, белые плана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ой прудовик, циклопы, гидры. Объясните, можно ли этот водоё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ть экосистемой. Приведите не менее 3-х 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ный временный водоем нельзя назвать экосистемой, так какв нё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отсутствуют про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отсутствуют ре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тсутствует замкнутый круговорот веществ и нарушены ц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экосистему смешанного леса считают более устойчивой,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систему елового ле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смешанном лесу больше видов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в смешанном лесу цепи питания более длин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етвлённые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 смешанном лесу ярусов больше, чем в ело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Популяция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Экологические характеристики популя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тность попу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енное распределение  особей ( семьи, стада, колонии, кося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в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Взаимосвязи в популя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ту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имбиоз)- взаимовыгодное сожительство организмов разных в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йтр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вместное обитание особей , непосредственно не взаимодействующих между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менс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Например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Компоненты биоцено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ические 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ртикальная структура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у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изонтальная структура – распределение (мозаичность)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Цепи 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бищ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ритна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24000" y="3284640"/>
            <a:ext cx="93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34800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ф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0" y="3284640"/>
            <a:ext cx="1152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ки ры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8472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236000" y="3284640"/>
            <a:ext cx="136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нил.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132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356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867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020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55600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051280" y="33577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ро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2197080" y="4076640"/>
            <a:ext cx="93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3276720" y="407664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076720" y="4076640"/>
            <a:ext cx="129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6588000" y="4076640"/>
            <a:ext cx="136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313200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78800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372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484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2340360" y="407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3276720" y="4076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ные мух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712560" y="407520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дания для само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ите консумента третьего порядка в составленной цеп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Почему на лесных тропинках растения отсутствуют или сильно разреже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Что служит основой формирования разнообразных сетей питания в экосистемах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бъясните, почему происходит естественное зарастание пресноводного водо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Объясните, ка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 растениям наносят кислотные дож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7:25Z</dcterms:created>
  <dc:creator>nemceva</dc:creator>
  <dc:description/>
  <dc:language>en-US</dc:language>
  <cp:lastModifiedBy>LEGION</cp:lastModifiedBy>
  <dcterms:modified xsi:type="dcterms:W3CDTF">2015-05-06T08:31:15Z</dcterms:modified>
  <cp:revision>14</cp:revision>
  <dc:subject/>
  <dc:title>Основы экологии</dc:title>
</cp:coreProperties>
</file>