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3FA7-99D5-4349-9510-6A795FD441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мцева Т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т.преподаватель кафедры ЕМ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ОУ ЯО 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BD6-5BA5-4D59-B8E5-E134DFF852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) на 1 год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) на 5 лет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) на 10лет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Объясните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24D5-0253-420F-982F-AB1155208D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я (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jik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лище, дом;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log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ермин ввел немецкий биолог Э. Геккель в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Методы исследования в эк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в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математического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Лимитирующий фак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оптим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5BA-B4A2-4447-9206-566C996EC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хема действия экологического фа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A19F-9277-486C-B3AF-B65BFECAC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ния к тем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«Зависимость организмов от факторов сред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Определите к каким факторам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(абиотическим, биотическим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антропогенным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можно отне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ите график зависимости численности семиточечной божьей коровки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ясните, почему существ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е и находящиеся под угр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овения организмы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вид способен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редельному росту чис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4BC0-0471-4D92-9F75-5BC8B3DAF5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 вы думаете, что произойдет с инфузориями да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C71-7569-4A8B-971F-1913BFEF25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большом водоеме, образовавшемся после разлива реки, обнару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организмы: инфузории-туфельки, дафнии, белые плана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прудовик, циклопы, гидры. Объясните, можно ли этот водоё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ть экосистемой. Приведите не менее 3-х дока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ный временный водоем нельзя назвать экосистемой, так какв нё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тсутствуют про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уют ре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сутствует замкнутый круговорот веществ и нарушены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экосистему смешанного леса считают более устойчивой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у елового л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смешанном лесу больше видов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смешанном лесу цепи питания более длин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ённые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смешанном лесу ярусов больше, чем в ело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CE48-4B43-40E0-90FF-B198C55A4E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пуля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характеристики популя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нное распределение  особей ( семьи, стада, колонии, кося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заимосвязи в популяц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ту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мбиоз)- взаимовыгодное сожительство организмов разных в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йтр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местное обитание особей , непосредственно не взаимодействующих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менс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менс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разит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742-D068-4743-8D95-E5F990F2D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омпоненты биоцено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тикальная структур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у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структура – распределение (мозаичность)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Цепи 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бищ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ритна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9AF-FEEE-49F6-A6AF-5E6A96C83C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Задания для само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 консумента третьего порядка в составленной цеп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очему на лесных тропинках растения отсутствуют или сильно разреже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то служит основой формирования разнообразных сетей питания в экосистема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бъясните, почему происходит естественное зарастание пресноводного водо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Объясните, как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растениям наносят кислотные дож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64F7-9D13-4976-9DC3-B68BD36EA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7799-83CE-4DB5-929E-6F29415B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0996-ED81-4117-A253-51040A2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AFEE-01B9-41AD-B685-01711061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501D-5A00-4E8F-A9E4-DB877AE0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875-1D4A-4D45-8BE4-5BAA1C1E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1CE6-D9DA-4AC2-8598-680D9934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F09B-E345-49B5-AF90-200E9086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358F-17DA-4310-B2C4-A2467204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1BC-62FE-4D61-AF3F-9ADEAF4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2660-E30F-43B8-8C86-F33E7493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7871-9F00-49EA-B309-51AAF39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1EE8-D3CC-4CDC-9864-0F5EA477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3F58-A572-4B3D-A28F-A3AFFCEF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A859-82D7-40DF-BD87-36CFC8E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B415-3CEE-4465-8846-D31901CA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A90F-962B-4C68-930D-3605CE30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595A-8DB6-46AF-96D3-5C852763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5CEB-790A-439A-BEAD-F50A124D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C599-08DD-4CAA-BBB6-E386001E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82D1-FEDD-4711-AE1A-3622295C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A091-0549-4CC2-A240-AED4BCD8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35D5-4A89-4CFF-B663-65C0AA5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2E01-6D3E-4161-A84C-F468482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D4E8-9F8D-4375-BEEB-FBE210A5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C137-97CF-4D83-A7B1-0A92CB0CE4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284F-3C0A-4623-8008-FD105F2539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сновы эколог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цева Т.В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.преподаватель кафедры ЕМ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У ЯО И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на 1 год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) на 5 лет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) на 10лет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ъясните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я (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jik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жилище, дом; 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log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Термин ввел немецкий биолог Э. Геккель в 1866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Методы исследования в эколог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евые мет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сперимент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тоды математического модел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е фактор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Лимитирующий факто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оптиму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Схема действия экологическо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Безымянный"/>
          <p:cNvPicPr/>
          <p:nvPr/>
        </p:nvPicPr>
        <p:blipFill>
          <a:blip r:embed="rId1"/>
          <a:srcRect l="0" t="0" r="0" b="14754"/>
          <a:stretch/>
        </p:blipFill>
        <p:spPr>
          <a:xfrm>
            <a:off x="1547640" y="1341360"/>
            <a:ext cx="6840720" cy="37274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Задания к теме</a:t>
            </a:r>
            <a:br>
              <a:rPr sz="2400"/>
            </a:b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«Зависимость организмов от факторов среды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Определите к каким факторам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(абиотическим, биотическ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антропогенны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можно отне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ссмотрите график зависимости численности семиточечной божьей коровк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бъясните, почему суще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ие и находящиеся под угроз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чезновения организмы, е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вид способе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редельному росту чис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770360" cy="2773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  вы думаете, что произойдет с инфузориями дальш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большом водоеме, образовавшемся после разлива реки, обнаруж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е организмы: инфузории-туфельки, дафнии, белые плана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й прудовик, циклопы, гидры. Объясните, можно ли этот водо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ть экосистемой. Приведите не менее 3-х 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ный временный водоем нельзя назвать экосистемой, так какв нё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тсутствуют про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уют ре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тсутствует замкнутый круговорот веществ и нарушены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экосистему смешанного леса считают более устойчивой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у елового ле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смешанном лесу больше видов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 смешанном лесу цепи питания более длин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твлённые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смешанном лесу ярусов больше, чем в ело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Популяц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Экологические характеристики популя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тность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енное распределение  особей ( семьи, стада, колонии, кося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Взаимосвязи в поп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ту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мбиоз)- взаимовыгодное сожительство организмов раз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йтр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вместное обитание особей , непосредственно не взаимодействующих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менс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Например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Компоненты биоце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и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тикальная структура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у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ая структура – распределение (мозаичность)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Цепи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бищ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ритна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328464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34800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ф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3284640"/>
            <a:ext cx="1152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ки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8472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36000" y="3284640"/>
            <a:ext cx="136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ил.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3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356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867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020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556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051280" y="33577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2197080" y="407664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3276720" y="407664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076720" y="4076640"/>
            <a:ext cx="12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588000" y="407664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3132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78800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484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340360" y="407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276720" y="4076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ные му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712560" y="407520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ния для само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ите консумента третьего порядка в составленной цеп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чему на лесных тропинках растения отсутствуют или сильно разреже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то служит основой формирования разнообразных сетей питания в экосистемах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бъясните, почему происходит естественное зарастание пресноводного водо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Объясните, ка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растениям наносят кислотные дож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7:25Z</dcterms:created>
  <dc:creator>nemceva</dc:creator>
  <dc:description/>
  <dc:language>en-US</dc:language>
  <cp:lastModifiedBy>LEGION</cp:lastModifiedBy>
  <dcterms:modified xsi:type="dcterms:W3CDTF">2015-05-06T08:31:15Z</dcterms:modified>
  <cp:revision>14</cp:revision>
  <dc:subject/>
  <dc:title>Основы экологии</dc:title>
</cp:coreProperties>
</file>