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EB5C-C8BD-4F13-A0A6-A3813F5784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dfd03"/>
                </a:solidFill>
                <a:latin typeface="Calibri"/>
              </a:rPr>
              <a:t>Основы эк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Тема: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кологию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факт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общества. Эко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D905-529B-42AB-9A6D-EB2D1BCACC4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тические фактор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423D-89F6-45F8-86DF-EBB33A6588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геоценоз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систе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8C1B-B550-44A4-B3CC-DB8A8A6EFB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dfd03"/>
                </a:solidFill>
                <a:latin typeface="Calibri"/>
              </a:rPr>
              <a:t>Основные функции биогеоцен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кумуляция и перераспределение энер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рот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6773-44E8-4896-BC61-7604661597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Свойства</a:t>
            </a: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воспризведени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способность организмов к размножению, воссоздание среды обитания, наличие пищи и запас энерг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Устойчивость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способность удерживать равновесие при изменении условий сред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регуляц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ABD3-CEC7-41E1-B07D-B8A1381FBF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мена 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Сукцесс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F092-1FFC-47E5-96ED-50FFC4C3A68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торич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на месте сформированного биоценоза после его нарушения - пожар, эрозия, засух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4F81-306E-435A-9284-0763B22FB55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dfd03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9DB3-A9A8-4F2C-BD95-90628D9875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Темы доклад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рес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оч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ди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храняемые природные территории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традиционная энергет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иологические очистные сооружения(метантенки, аэротенки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есные экосистемы, их роль в биосфе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3187-C2B3-4AD4-9E56-74F1CCE9C10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логические факторы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7953-49AB-4E81-8F2D-904275B833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логический оптимум – наилучшее сочетание условий существования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Закон толерантности В.Шелфорда(1913г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Лимитирующим фактором может быть как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ин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акс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796F-F3C8-40C1-8415-9DAF251E79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Распределение насекомых в термоградиен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D925-8083-431A-9B9D-97E97D4182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Зависимость результата действия экофактора от его интенс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6186-743F-41B7-A9F4-DCF6A502B3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Свет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4042-09A9-4D0E-98BB-7D6141B2CB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Температура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6DEE-B0B6-4A18-A5F3-DE3769CDFB0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Влажность.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изменяет эффект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4200-BB9B-4EBC-B6B9-63C27A798A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08A-62B4-4125-B54D-5E0D6D8F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C76-7103-4763-BB8C-071897FA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786-8872-4974-81D7-CB8F11F6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C03-7E0C-4C2E-8451-20D07921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7BD-6D38-41ED-ADCD-6831CFBD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C94-927C-45EA-9183-33C0FB04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DE8-35A0-4B75-A22B-09E5955B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2A6-784A-49AC-A547-97459F2C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8FA-5AAF-43E6-95BB-96391792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9C8-2246-4C86-9D6E-FC01AA1F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195-E275-43C8-8605-6621B0D6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D6B-DF70-4FC6-920A-1B73C5CD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96A3-53ED-4593-8855-5B437337EC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d03"/>
                </a:solidFill>
                <a:latin typeface="Times New Roman"/>
              </a:rPr>
              <a:t>Основы эколог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Тема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ведение в экологию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кологические факторы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ообщества. Экосистемы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иотические фактор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4"/>
          <p:cNvSpPr/>
          <p:nvPr/>
        </p:nvSpPr>
        <p:spPr>
          <a:xfrm>
            <a:off x="304920" y="1031760"/>
            <a:ext cx="68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пы экологических взаимодействий по направлению действия на организ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5"/>
          <p:cNvSpPr/>
          <p:nvPr/>
        </p:nvSpPr>
        <p:spPr>
          <a:xfrm>
            <a:off x="228600" y="2590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+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мбиоз (мутуализм, протокооперация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6"/>
          <p:cNvSpPr/>
          <p:nvPr/>
        </p:nvSpPr>
        <p:spPr>
          <a:xfrm>
            <a:off x="228600" y="5029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- 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ищничество, паразит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7"/>
          <p:cNvSpPr/>
          <p:nvPr/>
        </p:nvSpPr>
        <p:spPr>
          <a:xfrm>
            <a:off x="228600" y="3429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0 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ком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8"/>
          <p:cNvSpPr/>
          <p:nvPr/>
        </p:nvSpPr>
        <p:spPr>
          <a:xfrm>
            <a:off x="228600" y="5791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- )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9"/>
          <p:cNvSpPr/>
          <p:nvPr/>
        </p:nvSpPr>
        <p:spPr>
          <a:xfrm>
            <a:off x="228600" y="42670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0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симбиоз"/>
          <p:cNvPicPr/>
          <p:nvPr/>
        </p:nvPicPr>
        <p:blipFill>
          <a:blip r:embed="rId1"/>
          <a:stretch/>
        </p:blipFill>
        <p:spPr>
          <a:xfrm>
            <a:off x="3581280" y="533520"/>
            <a:ext cx="5105520" cy="5052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лишайник"/>
          <p:cNvPicPr/>
          <p:nvPr/>
        </p:nvPicPr>
        <p:blipFill>
          <a:blip r:embed="rId2"/>
          <a:stretch/>
        </p:blipFill>
        <p:spPr>
          <a:xfrm>
            <a:off x="228600" y="990720"/>
            <a:ext cx="2716200" cy="3962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паразитизм"/>
          <p:cNvPicPr/>
          <p:nvPr/>
        </p:nvPicPr>
        <p:blipFill>
          <a:blip r:embed="rId1"/>
          <a:stretch/>
        </p:blipFill>
        <p:spPr>
          <a:xfrm>
            <a:off x="228600" y="1138320"/>
            <a:ext cx="8458200" cy="4581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8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иогеоценоз = Биоценоз + Биот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78483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систем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9880" y="38098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окупность растений, животных, микробов,живущих совместно в одних условиях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781680" y="3809880"/>
            <a:ext cx="205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странство с более или менее однородными условиями, заселенное биоценоз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ищев цепи"/>
          <p:cNvPicPr/>
          <p:nvPr/>
        </p:nvPicPr>
        <p:blipFill>
          <a:blip r:embed="rId1"/>
          <a:stretch/>
        </p:blipFill>
        <p:spPr>
          <a:xfrm>
            <a:off x="1523880" y="533520"/>
            <a:ext cx="6248520" cy="54291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ирамида"/>
          <p:cNvPicPr/>
          <p:nvPr/>
        </p:nvPicPr>
        <p:blipFill>
          <a:blip r:embed="rId1"/>
          <a:stretch/>
        </p:blipFill>
        <p:spPr>
          <a:xfrm>
            <a:off x="1371600" y="380880"/>
            <a:ext cx="6019920" cy="584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dfd03"/>
                </a:solidFill>
                <a:latin typeface="Times New Roman"/>
              </a:rPr>
              <a:t>Основные функции биогеоцен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кумуляция и перераспределение энерг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оворот вещест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52280" y="22860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биогеоценоз характеризуетс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ледующими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показателя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36160" y="335268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Видовое разнообраз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число видов растений и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" y="3886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Плотность популяц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количество особей на единицу площади или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8600" y="4724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Пространственная 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пределение организмов по ярус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Биомасс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масса организмов сообще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28600" y="60357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Биопродуктивнос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корость образования биома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9625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Свойства</a:t>
            </a:r>
            <a:r>
              <a:rPr b="0" lang="ru-RU" sz="4400" spc="-1" strike="noStrike">
                <a:solidFill>
                  <a:srgbClr val="fdfd0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воспризвед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способность организмов к размножению, воссоздание среды обитания, наличие пищи и запас энергии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стойчивос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сть удерживать равновесие при изменении условий среды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регуля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мена 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Сукцесс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57200" y="2057400"/>
            <a:ext cx="4419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субстратах, не затронутых почвообразованием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9" descr="сукцессия"/>
          <p:cNvPicPr/>
          <p:nvPr/>
        </p:nvPicPr>
        <p:blipFill>
          <a:blip r:embed="rId1"/>
          <a:stretch/>
        </p:blipFill>
        <p:spPr>
          <a:xfrm>
            <a:off x="838080" y="3637080"/>
            <a:ext cx="6096240" cy="27637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сукцессия озера"/>
          <p:cNvPicPr/>
          <p:nvPr/>
        </p:nvPicPr>
        <p:blipFill>
          <a:blip r:embed="rId1"/>
          <a:stretch/>
        </p:blipFill>
        <p:spPr>
          <a:xfrm>
            <a:off x="1600200" y="2209680"/>
            <a:ext cx="3814920" cy="4470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80880" y="228600"/>
            <a:ext cx="7010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месте сформированного биоценоза после его нарушения - пожар, эрозия, засуха и т.д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dfd03"/>
                </a:solidFill>
                <a:latin typeface="Times New Roman"/>
              </a:rPr>
              <a:t>Экология</a:t>
            </a: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28600" y="1654200"/>
            <a:ext cx="86104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ассическ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взаимодействие биосистем с окружающе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лоб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крывает единство и целостность биосферы как глобальной эко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ци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сматривает взаимосвязи в системе «общество-окружающая сред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ео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геосистемы разного уровня и их антропогенные изме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я чело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среду обитания человека, экологические факторы здоровь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ческий мониторин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истема наблюдения, оценки, анализа и прогноза состояния окружающей сре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Темы докла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ресных в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оч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диоксин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храняемые природные территории Саратовской обл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традиционная энергет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логические очистные сооружения(метантенки, аэротенки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сные экосистемы, их роль в биосфер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логические фактор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/>
          <p:cNvSpPr/>
          <p:nvPr/>
        </p:nvSpPr>
        <p:spPr>
          <a:xfrm rot="2010600">
            <a:off x="1599840" y="28191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/>
          <p:cNvSpPr/>
          <p:nvPr/>
        </p:nvSpPr>
        <p:spPr>
          <a:xfrm rot="25800">
            <a:off x="4038480" y="30481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 rot="18852000">
            <a:off x="6301440" y="2795760"/>
            <a:ext cx="198360" cy="609840"/>
          </a:xfrm>
          <a:prstGeom prst="downArrow">
            <a:avLst>
              <a:gd name="adj1" fmla="val 50000"/>
              <a:gd name="adj2" fmla="val 76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6320" y="3733920"/>
            <a:ext cx="25905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биотическ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температура, давление, радиационный фон, влажность, состав атмосферы, почвы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71800" y="4114800"/>
            <a:ext cx="2895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иотическ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жизнедеятельности одних организмов на друг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997600" y="3276720"/>
            <a:ext cx="3146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деятельности человека на окружающую среду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5120" y="2209680"/>
          <a:ext cx="4190760" cy="51768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логические факто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иологический оптимум – наилучшее сочетание условий существования организм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9360">
            <a:solidFill>
              <a:srgbClr val="fdfd0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Закон толерантности В.Шелфорда(1913г.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Лимитирующим фактором может быть как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ин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так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кс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Распределение насекомых в термоградиент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кология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49971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Зависимость результата действия экофактора от его интенс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29" descr="редел вынос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9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Свет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спектр1"/>
          <p:cNvPicPr/>
          <p:nvPr/>
        </p:nvPicPr>
        <p:blipFill>
          <a:blip r:embed="rId1"/>
          <a:stretch/>
        </p:blipFill>
        <p:spPr>
          <a:xfrm>
            <a:off x="1447920" y="1828800"/>
            <a:ext cx="6654600" cy="4938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емпература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19320" y="25304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зависимости от вида теплообмена различают два экологических типа организ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52280" y="3505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йкил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неустойчивым уровнем обмена веществ, непостоянной температурой тела. Интенсивность обмена веществ прямо пропорциональна внешней температуре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5228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омой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более высоким и устойчивым уровнем обмена веществ, температура тела поддерживается на относительно постоянном уровн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лажность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изменяет эффект температу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8"/>
          <p:cNvSpPr/>
          <p:nvPr/>
        </p:nvSpPr>
        <p:spPr>
          <a:xfrm>
            <a:off x="304920" y="2438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тношению к водному режиму определяют экологические группы растений и животных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746280" y="3470400"/>
            <a:ext cx="192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атоф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г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4952880" y="347652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Живот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9:41:45Z</dcterms:created>
  <dc:creator>1</dc:creator>
  <dc:description/>
  <dc:language>en-US</dc:language>
  <cp:lastModifiedBy>LEGION</cp:lastModifiedBy>
  <dcterms:modified xsi:type="dcterms:W3CDTF">2015-05-06T08:32:12Z</dcterms:modified>
  <cp:revision>79</cp:revision>
  <dc:subject/>
  <dc:title>Основы экологии</dc:title>
</cp:coreProperties>
</file>