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C35-60CB-4106-B868-9BD57D4D8AC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dfd03"/>
                </a:solidFill>
                <a:latin typeface="Calibri"/>
              </a:rPr>
              <a:t>Основы эколог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Тема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едение в экологию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ие факт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ообщества. Эко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F51A-4F60-4F78-BD6E-CE8AFA7ADA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тические факторы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4CDE1-8B82-42DF-B68E-27E78C9A5B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геоценоз = Биоценоз + Биото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систе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5DD3-6DF4-440E-9265-C190D17C2C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dfd03"/>
                </a:solidFill>
                <a:latin typeface="Calibri"/>
              </a:rPr>
              <a:t>Основные функции биогеоцено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ккумуляция и перераспределение энер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уговорот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E785-B08D-4728-8107-3FE0B6311F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Свойства</a:t>
            </a: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dfd03"/>
                </a:solidFill>
                <a:latin typeface="Calibri"/>
              </a:rPr>
              <a:t>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воспризведе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способность организмов к размножению, воссоздание среды обитания, наличие пищи и запас энерг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Устойчивость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способность удерживать равновесие при изменении условий сред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аморегуляц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EB05-53E9-4F7A-B3F8-CF8F6120951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мена экосисте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Сукцесс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E1DA-C44E-4BA5-9C05-F63B7E21D58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торична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на месте сформированного биоценоза после его нарушения - пожар, эрозия, засуха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B5F0-7D7C-4773-AD0F-C03A060DC4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dfd03"/>
                </a:solidFill>
                <a:latin typeface="Calibri"/>
              </a:rPr>
              <a:t>Экология</a:t>
            </a: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CBD0-C13D-4C20-BC56-3665F2E4042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Темы доклад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ресных в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загрязнения поч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диоксин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храняемые природные территории Сара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традиционная энергет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Биологические очистные сооружения(метантенки, аэротенки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сные экосистемы, их роль в биосфе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D960-8FBD-415E-A7E0-6A234B5EF6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Экологические факторы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C6D-3EE8-44E6-A286-96C6F1465E0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иологический оптимум – наилучшее сочетание условий существования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dfd03"/>
                </a:solidFill>
                <a:latin typeface="Calibri"/>
              </a:rPr>
              <a:t>Закон толерантности В.Шелфорда(1913г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Лимитирующим фактором может быть как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ин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максиму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855-1447-4E19-A230-5C297BF8DE1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fd03"/>
                </a:solidFill>
                <a:latin typeface="Calibri"/>
              </a:rPr>
              <a:t>Распределение насекомых в термоградиенто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37C4-3C24-46E5-8CB4-A7938CA3645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fe02"/>
                </a:solidFill>
                <a:latin typeface="Calibri"/>
              </a:rPr>
              <a:t>Зависимость результата действия экофактора от его интенс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824D-2040-486F-992E-04E3EE4B5D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Свет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4BD1-15D6-4725-8579-9C32868CD64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Температура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E5C0-ECE1-4D95-9393-9D0B1919DA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Влажность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лажность изменяет эффект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F405-9716-4889-9779-69DA7AA3C0D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40AE-06CF-459E-B7C1-0C26A9D5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46C-9D1F-4413-B128-F766D41D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7DB-7F68-4C73-B75B-64B730B8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3159-08B0-4616-AAD8-258DCFC7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339-F18D-490D-865B-3B036608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8F88-59AF-401F-81AF-D071DF22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7332-F91D-4131-9CF9-61D80315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8DB-E8F9-4E30-BB89-93AF366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BA1-1B14-4E49-A66A-E4FAD613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7B6-B05F-4414-A01B-6B9977FF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9002-7C1D-4D60-885E-6FDABD7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861-8831-48C7-855D-351CFAE3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87AC-A351-4FEB-B679-6400C431A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4495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dfd03"/>
                </a:solidFill>
                <a:latin typeface="Times New Roman"/>
              </a:rPr>
              <a:t>Основы эколог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Тема: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ведение в экологию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кологические факторы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ообщества. Экосистемы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49528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иотические факторы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4"/>
          <p:cNvSpPr/>
          <p:nvPr/>
        </p:nvSpPr>
        <p:spPr>
          <a:xfrm>
            <a:off x="304920" y="1031760"/>
            <a:ext cx="68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ипы экологических взаимодействий по направлению действия на организ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45"/>
          <p:cNvSpPr/>
          <p:nvPr/>
        </p:nvSpPr>
        <p:spPr>
          <a:xfrm>
            <a:off x="228600" y="2590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+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мбиоз (мутуализм, протокооперация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6"/>
          <p:cNvSpPr/>
          <p:nvPr/>
        </p:nvSpPr>
        <p:spPr>
          <a:xfrm>
            <a:off x="228600" y="50292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- )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ищничество, паразит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47"/>
          <p:cNvSpPr/>
          <p:nvPr/>
        </p:nvSpPr>
        <p:spPr>
          <a:xfrm>
            <a:off x="228600" y="3429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+; 0 )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ком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228600" y="57913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- )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ур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49"/>
          <p:cNvSpPr/>
          <p:nvPr/>
        </p:nvSpPr>
        <p:spPr>
          <a:xfrm>
            <a:off x="228600" y="4267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 -; 0 )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менс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симбиоз"/>
          <p:cNvPicPr/>
          <p:nvPr/>
        </p:nvPicPr>
        <p:blipFill>
          <a:blip r:embed="rId1"/>
          <a:stretch/>
        </p:blipFill>
        <p:spPr>
          <a:xfrm>
            <a:off x="3581280" y="533520"/>
            <a:ext cx="5105520" cy="505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лишайник"/>
          <p:cNvPicPr/>
          <p:nvPr/>
        </p:nvPicPr>
        <p:blipFill>
          <a:blip r:embed="rId2"/>
          <a:stretch/>
        </p:blipFill>
        <p:spPr>
          <a:xfrm>
            <a:off x="228600" y="990720"/>
            <a:ext cx="2716200" cy="396216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паразитизм"/>
          <p:cNvPicPr/>
          <p:nvPr/>
        </p:nvPicPr>
        <p:blipFill>
          <a:blip r:embed="rId1"/>
          <a:stretch/>
        </p:blipFill>
        <p:spPr>
          <a:xfrm>
            <a:off x="228600" y="1138320"/>
            <a:ext cx="8458200" cy="458136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0481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иогеоценоз = Биоценоз + Биот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560" y="151920"/>
            <a:ext cx="78483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систем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любая совокупность взаимодействующих живых организмов и условий среды, функционирующая как единое целое за счет обмена веществом, энергией и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09880" y="38098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вокупность растений, животных, микробов,живущих совместно в одних условиях сре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781680" y="3809880"/>
            <a:ext cx="2057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странство с более или менее однородными условиями, заселенное биоценоз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ищев цепи"/>
          <p:cNvPicPr/>
          <p:nvPr/>
        </p:nvPicPr>
        <p:blipFill>
          <a:blip r:embed="rId1"/>
          <a:stretch/>
        </p:blipFill>
        <p:spPr>
          <a:xfrm>
            <a:off x="1523880" y="533520"/>
            <a:ext cx="6248520" cy="54291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ирамида"/>
          <p:cNvPicPr/>
          <p:nvPr/>
        </p:nvPicPr>
        <p:blipFill>
          <a:blip r:embed="rId1"/>
          <a:stretch/>
        </p:blipFill>
        <p:spPr>
          <a:xfrm>
            <a:off x="1371600" y="380880"/>
            <a:ext cx="6019920" cy="58467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dfd03"/>
                </a:solidFill>
                <a:latin typeface="Times New Roman"/>
              </a:rPr>
              <a:t>Основные функции биогеоценоз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кумуляция и перераспределение энерг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уговорот вещест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2286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ждый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биогеоценоз характеризуетс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ледующими </a:t>
            </a: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показателя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236160" y="3352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Видовое разнообраз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- число видов растений и животны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" y="38862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Плотность популяци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количество особей на единицу площади или объе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8600" y="47242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остранственная 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пределение организмов по яруса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28600" y="54864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Биомасс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масса организмов сообще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28600" y="60357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 Биопродуктивность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корость образования биомасс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396252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Свойства</a:t>
            </a:r>
            <a:r>
              <a:rPr b="0" lang="ru-RU" sz="4400" spc="-1" strike="noStrike">
                <a:solidFill>
                  <a:srgbClr val="fdfd0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воспризведени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способность организмов к размножению, воссоздание среды обитания, наличие пищи и запас энергии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стойчивост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особность удерживать равновесие при изменении условий среды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морегуляц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популяции организмов взаимно ограничивают численность, массовое размножение вида в экосистеме регулируется прямыми и обратными связями пищевых цепей)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мена экосист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dfd03"/>
                </a:solidFill>
                <a:latin typeface="Times New Roman"/>
              </a:rPr>
              <a:t>Сукцессия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- последовательная смена во времени одних биоценозов другими на определенном участк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457200" y="2057400"/>
            <a:ext cx="4419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ерв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субстратах, не затронутых почвообразованием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9" descr="сукцессия"/>
          <p:cNvPicPr/>
          <p:nvPr/>
        </p:nvPicPr>
        <p:blipFill>
          <a:blip r:embed="rId1"/>
          <a:stretch/>
        </p:blipFill>
        <p:spPr>
          <a:xfrm>
            <a:off x="838080" y="3637080"/>
            <a:ext cx="6096240" cy="276372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сукцессия озера"/>
          <p:cNvPicPr/>
          <p:nvPr/>
        </p:nvPicPr>
        <p:blipFill>
          <a:blip r:embed="rId1"/>
          <a:stretch/>
        </p:blipFill>
        <p:spPr>
          <a:xfrm>
            <a:off x="1600200" y="2209680"/>
            <a:ext cx="3814920" cy="44704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380880" y="228600"/>
            <a:ext cx="7010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торич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а месте сформированного биоценоза после его нарушения - пожар, эрозия, засуха и т.д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dfd03"/>
                </a:solidFill>
                <a:latin typeface="Times New Roman"/>
              </a:rPr>
              <a:t>Экология</a:t>
            </a: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мплексная наука, изучающая законы существования живых систем в их взаимодействии с окружающей сред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28600" y="1654200"/>
            <a:ext cx="861048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лассическ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взаимодействие биосистем с окружающей сре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лоб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крывает единство и целостность биосферы как глобальной экосисте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циальная 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рассматривает взаимосвязи в системе «общество-окружающая сред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еоэколог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геосистемы разного уровня и их антропогенные из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я человек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изучает среду обитания человека, экологические факторы здоровь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Экологический мониторинг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система наблюдения, оценки, анализа и прогноза состояния окружающей сред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Темы докладов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ресных вод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загрязнения поч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блема диоксин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храняемые природные территории Сарат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традиционная энергет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животных на территории Саратовской области (птицы, млекопитающие, рыбы, земновод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дкие виды растений на территории Саратовской области (сем-во орхидные, лилейные, сложноцветные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ческие очистные сооружения(метантенки, аэротенки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есные экосистемы, их роль в биосфер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763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fd03"/>
                </a:solidFill>
                <a:latin typeface="Times New Roman"/>
              </a:rPr>
              <a:t>Экологические фактор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– отдельные элементы среды, взаимодействующие с организмом прямо или косвенно хотя бы на протяжении одной из стадий индивидуального развит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5"/>
          <p:cNvSpPr/>
          <p:nvPr/>
        </p:nvSpPr>
        <p:spPr>
          <a:xfrm rot="2010600">
            <a:off x="1599840" y="2819160"/>
            <a:ext cx="228600" cy="838080"/>
          </a:xfrm>
          <a:prstGeom prst="downArrow">
            <a:avLst>
              <a:gd name="adj1" fmla="val 50000"/>
              <a:gd name="adj2" fmla="val 916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6"/>
          <p:cNvSpPr/>
          <p:nvPr/>
        </p:nvSpPr>
        <p:spPr>
          <a:xfrm rot="25800">
            <a:off x="4038480" y="3048120"/>
            <a:ext cx="228600" cy="761760"/>
          </a:xfrm>
          <a:prstGeom prst="downArrow">
            <a:avLst>
              <a:gd name="adj1" fmla="val 50000"/>
              <a:gd name="adj2" fmla="val 833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7"/>
          <p:cNvSpPr/>
          <p:nvPr/>
        </p:nvSpPr>
        <p:spPr>
          <a:xfrm rot="18852000">
            <a:off x="6301440" y="2795760"/>
            <a:ext cx="198360" cy="609840"/>
          </a:xfrm>
          <a:prstGeom prst="downArrow">
            <a:avLst>
              <a:gd name="adj1" fmla="val 50000"/>
              <a:gd name="adj2" fmla="val 768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76320" y="3733920"/>
            <a:ext cx="25905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биотически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температура, давление, радиационный фон, влажность, состав атмосферы, почвы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71800" y="4114800"/>
            <a:ext cx="28954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Биотическ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жизнедеятельности одних организмов на други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5997600" y="3276720"/>
            <a:ext cx="31464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Антропоген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овокупность влияний деятельности человека на окружающую среду)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209680"/>
          <a:ext cx="4190760" cy="517680"/>
        </p:xfrm>
        <a:graphic>
          <a:graphicData uri="http://schemas.openxmlformats.org/drawingml/2006/table">
            <a:tbl>
              <a:tblPr/>
              <a:tblGrid>
                <a:gridCol w="41907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Экологические фактор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6858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иологический оптимум – наилучшее сочетание условий существования организм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9360">
            <a:solidFill>
              <a:srgbClr val="fdfd0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dfd03"/>
                </a:solidFill>
                <a:latin typeface="Times New Roman"/>
              </a:rPr>
              <a:t>Закон толерантности В.Шелфорда(1913г.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Лимитирующим фактором может быть как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ин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, так и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максимум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экологического фактора, диапазон между которыми определяет величину выносливости организма к данному фактору»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fd03"/>
                </a:solidFill>
                <a:latin typeface="Times New Roman"/>
              </a:rPr>
              <a:t>Распределение насекомых в термоградиенто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кология"/>
          <p:cNvPicPr/>
          <p:nvPr/>
        </p:nvPicPr>
        <p:blipFill>
          <a:blip r:embed="rId1"/>
          <a:stretch/>
        </p:blipFill>
        <p:spPr>
          <a:xfrm>
            <a:off x="1066680" y="990720"/>
            <a:ext cx="6934320" cy="49971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cfe02"/>
                </a:solidFill>
                <a:latin typeface="Times New Roman"/>
              </a:rPr>
              <a:t>Зависимость результата действия экофактора от его интенс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1029" descr="редел вынос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4921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1371600" cy="1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вет.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ое местообитание характеризуется определенным световым режимом, включающим интенсивность, количество и качество свет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спектр1"/>
          <p:cNvPicPr/>
          <p:nvPr/>
        </p:nvPicPr>
        <p:blipFill>
          <a:blip r:embed="rId1"/>
          <a:stretch/>
        </p:blipFill>
        <p:spPr>
          <a:xfrm>
            <a:off x="1447920" y="1828800"/>
            <a:ext cx="6654600" cy="4938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Температура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мпературный фактор имеет важное значение в распределении живых организмов на Земле и заселении ими разных природных зон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219320" y="25304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зависимости от вида теплообмена различают два экологических типа организм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52280" y="35053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ойкил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неустойчивым уровнем обмена веществ, непостоянной температурой тела. Интенсивность обмена веществ прямо пропорциональна внешней температуре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152280" y="49528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гомойотерм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– организмы с более высоким и устойчивым уровнем обмена веществ, температура тела поддерживается на относительно постоянном уровне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Влажность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среды является фактором, ограничивающим численность и распространение организм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лажность изменяет эффект температур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8"/>
          <p:cNvSpPr/>
          <p:nvPr/>
        </p:nvSpPr>
        <p:spPr>
          <a:xfrm>
            <a:off x="304920" y="24382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отношению к водному режиму определяют экологические группы растений и животных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746280" y="3470400"/>
            <a:ext cx="192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Раст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атофи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г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4952880" y="347652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Живот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ид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з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серофил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09:41:45Z</dcterms:created>
  <dc:creator>1</dc:creator>
  <dc:description/>
  <dc:language>en-US</dc:language>
  <cp:lastModifiedBy>LEGION</cp:lastModifiedBy>
  <dcterms:modified xsi:type="dcterms:W3CDTF">2015-05-06T08:32:12Z</dcterms:modified>
  <cp:revision>79</cp:revision>
  <dc:subject/>
  <dc:title>Основы экологии</dc:title>
</cp:coreProperties>
</file>