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D240-246A-41C2-8B29-11027B8FBC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ма 2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новы общей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B7BA-87E9-4987-8E1B-7DCF3C235D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челове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взаимодействие человека как биологической особи и социального субъекта (личности) с окружающей природной средой. Ее частью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сследующая связь социальных систем с природой и социальной средой (экология человеческих популяций, экологическая демография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ладная эк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ет направления исследований, касающиеся различных сфер человеческой деятельности и взаимодействия общества с природой. Сюда относится инженерная, сельскохозяйственная, медицинская, рекреационная эк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B3D3-D8F2-420B-92BF-E1C2862C1C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опрос 2. Понятие и классификация экологических фактор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ими фактор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ются элементы среды, которые или необходимы организму, или же воздействуют на него неблагоприят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ре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− это все, что окружает организм, прямо или косвенно влияет на его развитие, состояние, выживаемость, размножение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а каждого организма состоит из множества элементов природы и элементов, возникающих в процессе жизнедеятельности человека. Эти элементы могут быть для организма полезными, нейтральными, вредными; положительно или отрицательно влиять на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D161-E2DD-4019-9697-D033FA3769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необходимых для жизни элементов среды, с которыми организм находится в неразрывном единстве и без которых не может существовать,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ловиями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факторы принято делить на три большие групп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биотическ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иот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тропог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A62F-80BF-4F7E-8BBD-97697CAABB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биотические фак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комплекс условий неорганической среды, влияющих на организм и определяющих условия его существования. В свою очередь, они делятся на химические, физические, климати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тически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совокупность влияний жизнедеятельности одних организмов на другие. В широком смысле они представляют собой внутривидовые и межвидовые взаимоотношения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нтропогенны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деятельностью человека, которая сопровождается изменением природной среды, влияет на условия жизни других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BBC9-5DCB-4687-A1D4-A7361BF25C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следующие закономерности влияния экологического факт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ных значениях фактора создаются наиболее благоприятные (оптимальные) условия для жизнедеятельности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отклоняется значение экологического фактора от оптимального уровня, тем сильнее угнетается жизнедеятельность особ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пазон значений фактора, за границами которого нормальная жизнедеятельность особей невозможна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делом вынослив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Степень выносливости по отношению к тому или иному экологическому фактору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логической валентно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6D83-F194-4AD4-B50D-E146E0F1EE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прос 3. Уровни организации живых организм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оздействием экологических факторов живые организмы объединяются в различные иерархические системы, которые по уровню организации делят 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952D-35E3-4675-A12F-A49E993386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уляци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ует совокупность особей одного вида, длительно занимающая определенное пространство и воспроизводящая себя в течение большого числа поколений. В современной биологии популяция рассматривается как элементарная частица процесса эволюции, способная реагировать на изменение среды перестройкой своего гено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0A8A-71B8-427B-B4D8-B3BC7A1F70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знаками популяции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числ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лот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озрастной соста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оотношение по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рождаем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смерт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пространственное распреде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D0E1-98A9-4BC0-ABC9-1AA09A44EA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бщ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совокупность популяций, занимающих какую-либо территорию. Наименьшей его единицей является биоцен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ценоз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организованное объединение живых организмов, живущих совместно в одних и тех же условиях. Для него характерны целостность и способность к самоорганизации, устойчивые связи между популяциями, но не отдельными особ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0963-7073-40D2-86C4-8FD58D6E9D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экологической системы, включающей как живые, так и неживые компоненты, биоценоз объединяе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олько живые организ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о с однородными условиями, заселенное каким-либо биоценозом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топ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окупности биоценоз и биотоп образуют биогеоцено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C192-DF3C-4860-B080-62F06964F3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общей экологии: вопросы лек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 и основные разделы современной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и классификация экологических факт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ни организации живы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я биосферы и но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законы и принципы эк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DD0C-90A7-4DA0-840C-29DD8263F3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геоценоз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сположенная на определенной территории совокупность однородных природных явлений (атмосферы, горных пород, растительного и животного мира, почв и т.д.), взаимодействующих между собой специфическим образом, имеющих собственную структуру, определенный тип обмена веществом и энергией и находящихся в постоянном развитии и дви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CB3E-C132-433F-B0F7-42DEADA9F3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ая систе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исторически сложившееся единое природное пространство, образованное живыми организмами и средой их совместного обитания, в котором живые и неживые элементы связаны между собой обменом вещества 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AF8C-A085-496B-9DE5-90975EC14F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ами экологической системы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органические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углерод, азот, углекислый газ, вода и т.д.), вступающие в кругов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ческие соеди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белки, углев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матический реж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емпература, влажно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дуц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– автотрофные организмы, способные создавать пищу из простых неорганических веществ (например, наземные раст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ум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гетеротрофные организмы, которые питаются другими организмами или частицами органического вещества (главным образом, животны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струк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гетеротрофные организмы, которые разрушают сложные соединения до простых, пригодных для использования продуцентами (главным образом, бактерии и гриб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AC8C-ED28-41AD-8871-413500802F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системы классифицируются в зависимости от климатической зоны, характера среды обитания, влияния экологических факторов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также могут бы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тественны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лес, озеро, океан и т.д.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кусственны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квариум, поле, на котором выращиваются сельскохозяйственные культуры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D5B8-F3F1-4A7D-9A24-0CBD07D5AC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и функционирование экологической системы зависит от динами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иотически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биотическ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кто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ервым относятся плотность и рост популяций, внутривидовая и межвидовая конкуренция, разные формы пищевых связей, ко вторым – изменение химического состава среды, режима солнечной радиации, климатических условий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ую группу образу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нтропогенн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2E56-CAED-4C93-82BE-A7D5CC1221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экологической системы во времени и в пространстве определяется ее внутренним функциональным постоянством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меоста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гомеостаза осуществляется благодаря двух формам биологической устойчивости: сопротивляемости (резистентности) и выносл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DC1A-6EDA-466A-B8D7-F9B661A498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прос 4. Понятия биосферы и ноосфе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фера − фундаментальное понятие экологии, которое появилось в биологии в XVIII в., хотя вначале употреблялось в ином знач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75 г. австрийский геолог Э. Зюсс определил биосферу как особую оболочку Земли, образуемую живыми организмами. В настоящее время эту оболочку принято называть биотой, а термин «биосфера» употребляется в трактовке В. И. Вернадского – основателя целостного учения о биосф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E3CD-52E0-4F22-B180-530EB8986C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пределению Вернадского (1926 г.)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сфе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олочка Земли, заселенная живыми организмами и качественно ими преобразованн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представляет собой самую крупную (глобальную) экологическую систему планеты и включает атмосферу, гидросферу и литосферу вместе с обитающими в них живыми организ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9A59-5A99-4ACA-819D-A0F1DCE40E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е биосферы Вернадский выделял семь видов вещ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живо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биогенное (возникшее из живого или подвергшееся переработке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косное (абиотическое, образованное вне жизн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биокосное (возникшее на стыке живого и неживого, к нему Вернадский относил почву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вещество в стадии радиоактивного распа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рассеянные ато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вещество космического происхож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E924-2605-4AF6-9304-15B27C42F1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ую часть биосферы, представленную живыми организмами,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сфе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Ее населяют около 1 млн. видов животных и примерно 340 видов растений, причем 93% всех видов животных и растений обитают на су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масса экосферы (около 2 трлн. т органического вещества) поддерживается на постоянном уровне в течение сотен миллионов лет благодаря циклу синтеза и распада ( круговороту) биогенных элементов под воздействием потока солнечной энергии. Тем самым обеспечивается устойчивость биосферы в масштабе геологического времени, что является важнейшим условием глобальной экологическ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00BD-F993-404E-9D26-B4EC39215D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 1. Предмет и основные разделы современной эк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т греческих сл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ko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жилище, обитель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o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лово, учение) – это наука о взаимоотношениях живых организмов и среды их об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знаний, относимые к области экологии, встречаются в трудах ученых античного мира (Аристотель, Теофраст). Однако чисто экологические исследования начали проводиться только во второй половин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4CF9-CBBD-4058-BE00-1CDE072ACD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этапом необратимой эволюции биосферы Вернадский считал ее переход в стадию ноо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ноосфера» было введено в 1927 г. французским философом Э. Леруа и означало мыслящую оболочку или сферу раз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экологии используется определение В. И. Вернадского, в соответствии с которы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осфе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такое качественное состояние биосферы, при котором ее развитие определяется сознательной человеческой дея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9B80-1F6E-4F33-8BA2-947879E34E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редпосылкам возникновения ноосферы Вернадский относил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асселение Homo sapiens по всей поверхности планеты и его победу в соревновании с другими биологическими вид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азвитие всепланетных систем связи, создание единой для человечества информационной систе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открытие новых источников энергии, включая атомную, после чего деятельность человека становится важной геологической сил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победу демократий и доступ к управлению широких народных масс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все более широкое вовлечение людей в научную деятельность, что также делает человечество геологическ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E5B3-9924-4EF6-B437-375C4FD8BA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по Вернадскому, поскольку существование самого человека  есть функция биосферы, его вмешательство имеет свои пределы, выход за которые угрожает его собственному существов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реальное решение глобальных экологических проблем возможно лишь в случа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эволю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феры и общества, что в современных условиях требует регламентации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D63C-72B2-47D6-A24E-8730945EAA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прос 5. Основные законы и принципы эколо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эколог Б, Коммонер сформулировал следующие афоризмы, которые получили название четырех законов эколог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вязано со вс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олжно куда-то дев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знает луч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что не дается да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890B-8E73-4333-AEB2-D633B2CA3B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всеобщей связи предметов и явл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рироде и обществе означает, что природа и общество включены в единую сеть системных взаимодействий и изменения в одной части системы неизбежно вызывают изменения в других ее част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изменение в экологической системе вызывает цепную реакцию, направленную на его нейтрализацию. Кроме того, зависимость между элементами экологических систем носит нелинейный характер, т.е. незначительное изменение одного из них может вызвать сильные изменения друг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«правилу одного процента» изменение энергетики природной системы на 1% выводит ее из равновесия, а затем разрушает. Это явление налагает природное ограничение на любую человеческую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EF98-28BD-40FE-AC92-C211E9C430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сохранения вещества и энер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одним из главных требований рационального природопользования. Его экологическая интерпретация включ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он развития природной системы за счет окружающей ее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любая природная система может развиваться только за счет материально-энергетических и информационных ресурсов окружающей среды, поэтому невозможно как абсолютно изолированное развитие, так и полностью безотходное производ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он неустранимости отхо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любая хозяйственная деятельность ведет к появлению отходов, которые можно лишь перевести из одной формы в другую или переместить в пространстве, но нельзя устранить пол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7DF2-BA9E-4373-B32E-211EFD6DB3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«природа знает лучш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пределяет пределы допустимого и недопустимого в биосф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на Земле обитает лишь тысячная часть испытанных эволюцией видов животных и растений. Главным критерием эволюционного отбора является вовлеченность в глобальный биотический круговорот, заполненность всех экологических ниш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220B-2585-4634-A55E-5DA62A3CD5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цены разв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значает, что на уровне глобальной экологической системы любой выигрыш обязательно сопровождается потер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закон имеет три следств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волюция больших систем происходит только от простого к сложном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ростом сложности организации системы темпы эволюции возрастаю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сплатных ресурсов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E642-0726-4DD9-8837-66D7B4F24A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афоризмам Б. Коммонера современные экологи добавил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ограниченности ресур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«на всех не хватает»), который означает, что масса питательных веществ для всех живых организмов на Земле ограничена и конечна, поэтому значительное увеличение численности и массы каких-либо организмов в глобальном масштабе может происходить только за счет сокращения численности и массы друг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перечисленных законов будущее человечества зависит от формирования нового биосферного мировоззрения, поскольку только человеческий разум способен направить развитие по пути одновременного сохранения биосферы и циви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D2B0-7195-450B-B003-D007C68641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экология» ввел в научный оборот в 1879 г. немецкий биолог Э. Геккель, а к 1900 г. она сформировалась как самостоятельная наука. В основе экологии лежат представления о единстве организма и среды и об изменении организмов в процессе э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экологии существует два подхода к проблеме взаимоотношений человека и природы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нтропоцентрическ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центр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A8C3-64A2-4AAA-A3D4-15E09029D2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чески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, что общество и природа являются двумя разными системами, в которых более важную роль играют внутренние связ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человека и природы строятся по правилам, устанавливаемым человеком, а законы, управляющие существованием природных сообществ, на человека не распространяются или играют второстепенную роль в жизни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 рассматриваются как результаты неверного повед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1927-7618-4C41-BF3C-4EDF0C02A7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центрически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т из зависимости человека от природы и предполагает, что экологические законы продолжают управлять человеком, и опирается на представление об объективном существовании единой системы, в рамках которой все живые организмы взаимодействуют между собой и с окружающей природной сре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этот принцип целостности лежит в основе современного понимания взаимосвязи человека с прир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F36D-4803-4787-9BED-3CCD06BAAE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авные задачи современной эколог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места и роли человека и общества в их взаимодействии с биосфер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научных критериев, определяющих экологическую совместимость человека и би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оличественных пределов развития техн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сознания людей и поведения человеческо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деологии и методологии гуманистического экоцентр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 диагностика окружающей природн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рогнозов изменения состояния биосфер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A1B0-445A-47ED-9E8B-687F20AC94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разделы современной эк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ая экология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2DBC-EE62-4DB9-B437-9DD9480B27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щей эколог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ит теоретическая экология, которая изучает общие закономерности функционирования экологических систем, в том числе, с использованием методов математического моде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следует отношения организмов (особей, популяций, биоценозов) между собой и окружающей сре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эк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 взаимоотношения организмов и среды обитания в контексте их географического положения и влияния географических факторов (экология природно-климатических зон, ландшафтов, экологическое описание географических регион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DC68-8CD6-4514-B42A-C03FD85493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A14-2D6A-439A-901B-792CEDEC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0F4-CA97-4E33-A407-C9C0F6A2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0205-0EFE-4C4A-A4AC-FE508675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38AE-9D9D-47F2-B4A3-659DCBA2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B576-C17D-4A96-ABAE-C4DF4BF6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0C4-D058-430A-940C-E78A968D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D678-2362-43ED-B848-B801B2AB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E0B3-6C49-48C0-8E57-252F283F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C0B0-81F1-4A4B-B044-F631F36F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06C5-7FA7-49EE-93E4-CBB7ED78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2BC2-95D5-40F6-B615-56A51DD2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7E8B-F1C7-4A74-99AD-A7912C51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39F9-C3F1-4EC3-B85B-22703BB887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Fore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868640"/>
            <a:ext cx="4895640" cy="12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ма 2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ы общей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логия челове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ает взаимодействие человека как биологической особи и социального субъекта (личности) с окружающей природной средой. Ее частью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ьная эк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сследующая связь социальных систем с природой и социальной средой (экология человеческих популяций, экологическая демография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ладная эколог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яет направления исследований, касающиеся различных сфер человеческой деятельности и взаимодействия общества с природой. Сюда относится инженерная, сельскохозяйственная, медицинская, рекреационная эколог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2. Понятие и классификация экологических фактор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ими фактора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ются элементы среды, которые или необходимы организму, или же воздействуют на него неблагоприят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ре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− это все, что окружает организм, прямо или косвенно влияет на его развитие, состояние, выживаемость, размножение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а каждого организма состоит из множества элементов природы и элементов, возникающих в процессе жизнедеятельности человека. Эти элементы могут быть для организма полезными, нейтральными, вредными; положительно или отрицательно влиять на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3008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необходимых для жизни элементов среды, с которыми организм находится в неразрывном единстве и без которых не может существовать,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иями жиз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факторы принято делить на три большие групп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абиотическ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иот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антропоге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3026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биотические фак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комплекс условий неорганической среды, влияющих на организм и определяющих условия его существования. В свою очередь, они делятся на химические, физические, климатичес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иотические фактор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совокупность влияний жизнедеятельности одних организмов на другие. В широком смысле они представляют собой внутривидовые и межвидовые взаимоотношения орган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тропогенные фактор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аны с деятельностью человека, которая сопровождается изменением природной среды, влияет на условия жизни других орган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358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ют следующие закономерности влияния экологического факто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ределенных значениях фактора создаются наиболее благоприятные (оптимальные) условия для жизнедеятельности организм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больше отклоняется значение экологического фактора от оптимального уровня, тем сильнее угнетается жизнедеятельность ос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пазон значений фактора, за границами которого нормальная жизнедеятельность особей невозможна, назы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елом вынослив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Степень выносливости по отношению к тому или иному экологическому фактору называю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кологической валентн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3. Уровни организации живых орг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воздействием экологических факторов живые организмы объединяются в различные иерархические системы, которые по уровню организации делят 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уля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бще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362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уляцию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ует совокупность особей одного вида, длительно занимающая определенное пространство и воспроизводящая себя в течение большого числа поколений. В современной биологии популяция рассматривается как элементарная частица процесса эволюции, способная реагировать на изменение среды перестройкой своего генофон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ми признаками популяции являю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числен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плот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возрастной соста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соотношение пол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рождаем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смерт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пространственное распреде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507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обществ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совокупность популяций, занимающих какую-либо территорию. Наименьшей его единицей является биоцен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иоценоз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яет собой организованное объединение живых организмов, живущих совместно в одних и тех же условиях. Для него характерны целостность и способность к самоорганизации, устойчивые связи между популяциями, но не отдельными особ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личие от экологической системы, включающей как живые, так и неживые компоненты, биоценоз объединяе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олько живые организ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о с однородными условиями, заселенное каким-либо биоценозом, называе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иотоп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окупности биоценоз и биотоп образуют биогеоцено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ы общей экологии: вопросы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 и основные разделы современной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ятие и классификация экологических фак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ни организации живых организ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ятия биосферы и ноо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законы и принципы эколог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иогеоценоз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расположенная на определенной территории совокупность однородных природных явлений (атмосферы, горных пород, растительного и животного мира, почв и т.д.), взаимодействующих между собой специфическим образом, имеющих собственную структуру, определенный тип обмена веществом и энергией и находящихся в постоянном развитии и дви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ческая систем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исторически сложившееся единое природное пространство, образованное живыми организмами и средой их совместного обитания, в котором живые и неживые элементы связаны между собой обменом вещества и энер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нентами экологической системы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органическ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глерод, азот, углекислый газ, вода и т.д.), вступающие в кругов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рганические соеди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белки, углево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лиматический реж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емпература, влажнос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дуц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– автотрофные организмы, способные создавать пищу из простых неорганических веществ (например, наземные раст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су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етеротрофные организмы, которые питаются другими организмами или частицами органического вещества (главным образом, животн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еструкт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етеротрофные организмы, которые разрушают сложные соединения до простых, пригодных для использования продуцентами (главным образом, бактерии и гриб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системы классифицируются в зависимости от климатической зоны, характера среды обитания, влияния экологических факторов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также могут быть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стественны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лес, озеро, океан и т.д.)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кусственны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квариум, поле, на котором выращиваются сельскохозяйственные культуры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ние и функционирование экологической системы зависит от динамик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иотически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биотическ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ак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первым относятся плотность и рост популяций, внутривидовая и межвидовая конкуренция, разные формы пищевых связей, ко вторым – изменение химического состава среды, режима солнечной радиации, климатических условий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ую группу образую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тропоген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ойчивость экологической системы во времени и в пространстве определяется ее внутренним функциональным постоянством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меостаз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ение гомеостаза осуществляется благодаря двух формам биологической устойчивости: сопротивляемости (резистентности) и вынослив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4. Понятия биосферы и но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сфера − фундаментальное понятие экологии, которое появилось в биологии в XVIII в., хотя вначале употреблялось в ином знач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75 г. австрийский геолог Э. Зюсс определил биосферу как особую оболочку Земли, образуемую живыми организмами. В настоящее время эту оболочку принято называть биотой, а термин «биосфера» употребляется в трактовке В. И. Вернадского – основателя целостного учения о биосф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определению Вернадского (1926 г.)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осф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болочка Земли, заселенная живыми организмами и качественно ими преобразованн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а представляет собой самую крупную (глобальную) экологическую систему планеты и включает атмосферу, гидросферу и литосферу вместе с обитающими в них живыми организм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руктуре биосферы Вернадский выделял семь видов веществ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живо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биогенное (возникшее из живого или подвергшееся переработке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косное (абиотическое, образованное вне жизни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биокосное (возникшее на стыке живого и неживого, к нему Вернадский относил почву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вещество в стадии радиоактивного распад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рассеянные ато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вещество космического происхо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ную часть биосферы, представленную живыми организмами, называю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косфер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Ее населяют около 1 млн. видов животных и примерно 340 видов растений, причем 93% всех видов животных и растений обитают на су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масса экосферы (около 2 трлн. т органического вещества) поддерживается на постоянном уровне в течение сотен миллионов лет благодаря циклу синтеза и распада ( круговороту) биогенных элементов под воздействием потока солнечной энергии. Тем самым обеспечивается устойчивость биосферы в масштабе геологического времени, что является важнейшим условием глобальной экологической безопас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1. Предмет и основные разделы современной эк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т греческих сло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ko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жилище, обитель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лово, учение) – это наука о взаимоотношениях живых организмов и среды их обит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менты знаний, относимые к области экологии, встречаются в трудах ученых античного мира (Аристотель, Теофраст). Однако чисто экологические исследования начали проводиться только во второй половин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ым этапом необратимой эволюции биосферы Вернадский считал ее переход в стадию ноосф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ятие «ноосфера» было введено в 1927 г. французским философом Э. Леруа и означало мыслящую оболочку или сферу разу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ой экологии используется определение В. И. Вернадского, в соответствии с которы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акое качественное состояние биосферы, при котором ее развитие определяется сознательной человеческой деятель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основным предпосылкам возникновения ноосферы Вернадский относи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расселение Homo sapiens по всей поверхности планеты и его победу в соревновании с другими биологическими вида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развитие всепланетных систем связи, создание единой для человечества информационной систем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открытие новых источников энергии, включая атомную, после чего деятельность человека становится важной геологической сил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победу демократий и доступ к управлению широких народных мас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все более широкое вовлечение людей в научную деятельность, что также делает человечество геологической сил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, по Вернадскому, поскольку существование самого человека  есть функция биосферы, его вмешательство имеет свои пределы, выход за которые угрожает его собственному существова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ому реальное решение глобальных экологических проблем возможно лишь в случа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эволюци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сферы и общества, что в современных условиях требует регламентации хозяйствен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5. Основные законы и принципы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ериканский эколог Б, Коммонер сформулировал следующие афоризмы, которые получили название четырех законов эколог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связано со вс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должно куда-то дева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а знает лучш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что не дается да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7280"/>
            <a:ext cx="868680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всеобщей связи предметов и явл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природе и обществе означает, что природа и общество включены в единую сеть системных взаимодействий и изменения в одной части системы неизбежно вызывают изменения в других ее част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е изменение в экологической системе вызывает цепную реакцию, направленную на его нейтрализацию. Кроме того, зависимость между элементами экологических систем носит нелинейный характер, т.е. незначительное изменение одного из них может вызвать сильные изменения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гласно «правилу одного процента» изменение энергетики природной системы на 1% выводит ее из равновесия, а затем разрушает. Это явление налагает природное ограничение на любую человеческ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сохранения вещества и энер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ляется одним из главных требований рационального природопользования. Его экологическая интерпретация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он развития природной системы за счет окружающей ее сре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любая природная система может развиваться только за счет материально-энергетических и информационных ресурсов окружающей среды, поэтому невозможно как абсолютно изолированное развитие, так и полностью безотходное производ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он неустранимости отход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любая хозяйственная деятельность ведет к появлению отходов, которые можно лишь перевести из одной формы в другую или переместить в пространстве, но нельзя устранить пол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«природа знает лучше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яет пределы допустимого и недопустимого в биосф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 на Земле обитает лишь тысячная часть испытанных эволюцией видов животных и растений. Главным критерием эволюционного отбора является вовлеченность в глобальный биотический круговорот, заполненность всех экологических ниш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кон цены развит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значает, что на уровне глобальной экологической системы любой выигрыш обязательно сопровождается потер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закон имеет три следств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волюция больших систем происходит только от простого к сложном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 ростом сложности организации системы темпы эволюции возрастаю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есплатных ресурсов не существу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516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афоризмам Б. Коммонера современные экологи добав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ограниченности ресур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«на всех не хватает»), который означает, что масса питательных веществ для всех живых организмов на Земле ограничена и конечна, поэтому значительное увеличение численности и массы каких-либо организмов в глобальном масштабе может происходить только за счет сокращения численности и массы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учетом перечисленных законов будущее человечества зависит от формирования нового биосферного мировоззрения, поскольку только человеческий разум способен направить развитие по пути одновременного сохранения биосферы и циви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445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ин «экология» ввел в научный оборот в 1879 г. немецкий биолог Э. Геккель, а к 1900 г. она сформировалась как самостоятельная наука. В основе экологии лежат представления о единстве организма и среды и об изменении организмов в процессе эволю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ой экологии существует два подхода к проблеме взаимоотношений человека и природы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тропоцентрическ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коцентриче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тропоцентрический под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лагает, что общество и природа являются двумя разными системами, в которых более важную роль играют внутренние свя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отношения человека и природы строятся по правилам, устанавливаемым человеком, а законы, управляющие существованием природных сообществ, на человека не распространяются или играют второстепенную роль в жизни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е проблемы рассматриваются как результаты неверного поведени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центрический под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ходит из зависимости человека от природы и предполагает, что экологические законы продолжают управлять человеком, и опирается на представление об объективном существовании единой системы, в рамках которой все живые организмы взаимодействуют между собой и с окружающей природной сре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но этот принцип целостности лежит в основе современного понимания взаимосвязи человека с приро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ые задачи современной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места и роли человека и общества в их взаимодействии с биосфер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очнение научных критериев, определяющих экологическую совместимость человека и биосф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количественных пределов развития техносф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зация сознания людей и поведения человеческого об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идеологии и методологии гуманистического экоцентр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инг и диагностика окружающей природ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рогнозов изменения состояния биосфер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разделы современной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челове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ая 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кладная экология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803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е 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щей эколог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жит теоретическая экология, которая изучает общие закономерности функционирования экологических систем, в том числе, с использованием методов математического модел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эк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следует отношения организмов (особей, популяций, биоценозов) между собой и окружающей сре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эколог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ует взаимоотношения организмов и среды обитания в контексте их географического положения и влияния географических факторов (экология природно-климатических зон, ландшафтов, экологическое описание географических регион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2:22:40Z</dcterms:created>
  <dc:creator>xXx</dc:creator>
  <dc:description/>
  <dc:language>en-US</dc:language>
  <cp:lastModifiedBy>LEGION</cp:lastModifiedBy>
  <dcterms:modified xsi:type="dcterms:W3CDTF">2015-05-06T08:33:32Z</dcterms:modified>
  <cp:revision>11</cp:revision>
  <dc:subject/>
  <dc:title>Тема 2. Основы общей экологии</dc:title>
</cp:coreProperties>
</file>