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FDE6-F3C9-4AF6-A878-0A8FB8FC11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: Глобальные проблемы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бщение знаний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5BEC-B83D-4B9C-AF9E-E342C7F7BA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хватка продовольствия (мировой гол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нсивный путь развития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Социально-экономические причины, хищническое природополь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E899-CB74-45E8-AAC3-242D9C2D7F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Увеличение объемов мировой добычи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блема ресурсообеспе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5AE1-1958-4823-BA17-0D68C786F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отсталости развивающихся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громные масштабы отсталости разви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052F-90E5-4A78-B7E4-5D3B606F1E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Водная проблема. Загрязн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равномерное осво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9510-CE24-4732-8C6B-41B6E340E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ного освоения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обходимое использование ресурсов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пективы развития новых космически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редотвращение «звездных войн», объединение всех стран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434F-DC9A-4B40-A116-AF8A1BD62F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се мы пассажиры одного корабля по имени «Земля», значит, пересесть из него некуд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ы унаследовали Землю от наших предков. Мы берем ее взаймы у наших потомков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 как думаешь ты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D27A-45B5-46DB-988B-6BEAD55E33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общение и закрепление знаний о глобальных пробле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щность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8246-8626-476E-BDB4-7FB881E775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зультаты об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апное заполнение и комментарии результатов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лобальные проблемы челове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 характеристики глобальных проб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колог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одоление отсталости развивающихся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ование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ное освоение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B6F4-28A0-497D-9E86-ACC1B28076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ные понятия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Глобальные - глобалистика – на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йкумена - населенная и освоенная человеком час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проблема 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проблема дефицита сырья, топлива и продоволь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своение Космоса и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преодоления экономической отсталости отдельных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ключ к решению все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ежедневно, ежечасно требует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2108-952E-402A-A975-EAA01DD72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. Рождестве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B9DB-5546-4FF6-93A3-8DA13EC58E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лобальная 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асность для всего живого на план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Договоры об утилизации и сокращении вооружений (усилиями стран ми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7DCB-79F0-4011-81D7-541BD2A0F6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Человечество «засорило Земл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озяйственная деятельность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F178-8509-4C27-BECD-F44C761905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Этапы глобального потепле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силение концентрации 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яние ль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вышение уровня воды в мировом оке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с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теплых те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тастрофические цу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климата глобальное похоло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6F1C-F530-4339-BACA-D50C6A6F05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Депопуляция, нарушение воспроизводства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табилизация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зменение экономических и социальных услови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2B4F-F5F4-4D10-88BA-52A0CBB30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2C1-650E-4B9D-866E-3FDDB81C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A45-13F8-44E3-B6B1-E42B08A9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CC2-75A4-449B-9BCC-48C0BFFA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74D-1B6A-4365-8BDA-0D20F456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655-EC72-4766-81EC-97A74974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09B-31CE-49D4-BC42-C7526725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546-1BEB-43EF-AAB4-ED78327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45E-CDB8-44CB-B25F-DC70DEDC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337-6765-482F-A036-512DB30E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822-29CE-456F-BDAF-E0A1ABC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615-4DA6-4D28-BA4B-8566F25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F9F-7553-413D-A524-28A5A7B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5EEB-7EF9-42F6-AD35-988F11BE2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playst.ru/im1/apofis2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30022"/>
          <p:cNvPicPr/>
          <p:nvPr/>
        </p:nvPicPr>
        <p:blipFill>
          <a:blip r:embed="rId2"/>
          <a:stretch/>
        </p:blipFill>
        <p:spPr>
          <a:xfrm>
            <a:off x="2843280" y="2232000"/>
            <a:ext cx="3670200" cy="2822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1763640" y="255600"/>
            <a:ext cx="619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: Глобальные проблемы челове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бщение знаний (1 ч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87280" y="55497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ОУ лицей №104» учитель географии О.А. Каз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348000" y="61149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Новокузнецк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1 - The Day After Tomorrow.mp3" descr=""/>
          <p:cNvPicPr/>
          <p:nvPr/>
        </p:nvPicPr>
        <p:blipFill>
          <a:blip r:embed="rId3"/>
          <a:stretch/>
        </p:blipFill>
        <p:spPr>
          <a:xfrm>
            <a:off x="468360" y="5761080"/>
            <a:ext cx="298440" cy="29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овольственн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хватка продовольствия (мировой гол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нсивный путь развития хозя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циально-экономические причины, хищническое природо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336123"/>
          <p:cNvPicPr/>
          <p:nvPr/>
        </p:nvPicPr>
        <p:blipFill>
          <a:blip r:embed="rId2"/>
          <a:stretch/>
        </p:blipFill>
        <p:spPr>
          <a:xfrm>
            <a:off x="684360" y="3860640"/>
            <a:ext cx="3600360" cy="278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_jMLo89PkYdK7QzVvZfWGmB6p5eADb3tJ_"/>
          <p:cNvPicPr/>
          <p:nvPr/>
        </p:nvPicPr>
        <p:blipFill>
          <a:blip r:embed="rId3"/>
          <a:stretch/>
        </p:blipFill>
        <p:spPr>
          <a:xfrm>
            <a:off x="5940360" y="4005360"/>
            <a:ext cx="2648160" cy="1909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Увеличение объемов мировой добычи полезных ископ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ресурсообеспеч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91"/>
          <p:cNvPicPr/>
          <p:nvPr/>
        </p:nvPicPr>
        <p:blipFill>
          <a:blip r:embed="rId2"/>
          <a:stretch/>
        </p:blipFill>
        <p:spPr>
          <a:xfrm>
            <a:off x="395280" y="4005360"/>
            <a:ext cx="2592360" cy="227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070904_1a"/>
          <p:cNvPicPr/>
          <p:nvPr/>
        </p:nvPicPr>
        <p:blipFill>
          <a:blip r:embed="rId3"/>
          <a:stretch/>
        </p:blipFill>
        <p:spPr>
          <a:xfrm>
            <a:off x="4716360" y="4292640"/>
            <a:ext cx="3492720" cy="21319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0920" y="333360"/>
            <a:ext cx="8713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отсталости развивающихся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громные масштабы отсталости развивающихся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3534-large"/>
          <p:cNvPicPr/>
          <p:nvPr/>
        </p:nvPicPr>
        <p:blipFill>
          <a:blip r:embed="rId2"/>
          <a:stretch/>
        </p:blipFill>
        <p:spPr>
          <a:xfrm>
            <a:off x="4284720" y="4149720"/>
            <a:ext cx="3854520" cy="249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336123"/>
          <p:cNvPicPr/>
          <p:nvPr/>
        </p:nvPicPr>
        <p:blipFill>
          <a:blip r:embed="rId3"/>
          <a:stretch/>
        </p:blipFill>
        <p:spPr>
          <a:xfrm>
            <a:off x="539640" y="4309920"/>
            <a:ext cx="2583000" cy="1997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Водная проблема. Загрязн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равномерное осво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kinopoisk"/>
          <p:cNvPicPr/>
          <p:nvPr/>
        </p:nvPicPr>
        <p:blipFill>
          <a:blip r:embed="rId2"/>
          <a:stretch/>
        </p:blipFill>
        <p:spPr>
          <a:xfrm>
            <a:off x="539640" y="4149720"/>
            <a:ext cx="4753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кеан"/>
          <p:cNvPicPr/>
          <p:nvPr/>
        </p:nvPicPr>
        <p:blipFill>
          <a:blip r:embed="rId3"/>
          <a:stretch/>
        </p:blipFill>
        <p:spPr>
          <a:xfrm>
            <a:off x="6156360" y="4221000"/>
            <a:ext cx="2481120" cy="1860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ного освоения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обходимое использование ресурсов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спективы развития новых космическ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едотвращение «звездных войн», объединение всех стран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осмос 1"/>
          <p:cNvPicPr/>
          <p:nvPr/>
        </p:nvPicPr>
        <p:blipFill>
          <a:blip r:embed="rId2"/>
          <a:stretch/>
        </p:blipFill>
        <p:spPr>
          <a:xfrm>
            <a:off x="611280" y="3860640"/>
            <a:ext cx="3298680" cy="247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0920" y="333360"/>
            <a:ext cx="871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Все мы пассажиры одного корабля по имени «Земля», значит, пересесть из него некуд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ы унаследовали Землю от наших предков. Мы берем ее взаймы у наших потомков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как думаешь ты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50920" y="33336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бщение и закрепление знаний о глобальных проблем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ность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 глобаль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1233602454_zemlja-1"/>
          <p:cNvPicPr/>
          <p:nvPr/>
        </p:nvPicPr>
        <p:blipFill>
          <a:blip r:embed="rId2"/>
          <a:stretch/>
        </p:blipFill>
        <p:spPr>
          <a:xfrm>
            <a:off x="2987640" y="342900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333360"/>
            <a:ext cx="871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зультаты об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апное заполнение и комментарии результатов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Глобальные проблемы челов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 характеристики глобальных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лог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вольствен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одоление отсталости развивающихся стр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ное освоение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50920" y="333360"/>
            <a:ext cx="87138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е понятия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лобальные - глобалистика – нау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йкумена - населенная и освоенная человеком часть Зем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проблема 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проблема дефицита сырья, топлива и продоволь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своение Космоса и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преодоления экономической отсталости отдельных стран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ключ к решению все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ежедневно, ежечасно требует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765000"/>
            <a:ext cx="871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 Рождеств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picture"/>
          <p:cNvPicPr/>
          <p:nvPr/>
        </p:nvPicPr>
        <p:blipFill>
          <a:blip r:embed="rId2"/>
          <a:stretch/>
        </p:blipFill>
        <p:spPr>
          <a:xfrm>
            <a:off x="539640" y="42210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0920" y="333360"/>
            <a:ext cx="87138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обальная проблема мира и разо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асность для всего живого на пла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говоры об утилизации и сокращении вооружений (усилиями стран ми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4"/>
          <p:cNvPicPr/>
          <p:nvPr/>
        </p:nvPicPr>
        <p:blipFill>
          <a:blip r:embed="rId2"/>
          <a:stretch/>
        </p:blipFill>
        <p:spPr>
          <a:xfrm>
            <a:off x="7164360" y="836640"/>
            <a:ext cx="152100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5"/>
          <p:cNvPicPr/>
          <p:nvPr/>
        </p:nvPicPr>
        <p:blipFill>
          <a:blip r:embed="rId3"/>
          <a:stretch/>
        </p:blipFill>
        <p:spPr>
          <a:xfrm>
            <a:off x="6372360" y="5157720"/>
            <a:ext cx="2087280" cy="1392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артинка 7 из 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844640"/>
            <a:ext cx="1728720" cy="147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p070301026111"/>
          <p:cNvPicPr/>
          <p:nvPr/>
        </p:nvPicPr>
        <p:blipFill>
          <a:blip r:embed="rId6"/>
          <a:stretch/>
        </p:blipFill>
        <p:spPr>
          <a:xfrm>
            <a:off x="1187280" y="5157720"/>
            <a:ext cx="2225880" cy="144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96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лог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Человечество «засорило Земл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енная деятельность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b49ebfaa4a9e"/>
          <p:cNvPicPr/>
          <p:nvPr/>
        </p:nvPicPr>
        <p:blipFill>
          <a:blip r:embed="rId2"/>
          <a:stretch/>
        </p:blipFill>
        <p:spPr>
          <a:xfrm>
            <a:off x="6588000" y="4149720"/>
            <a:ext cx="2171880" cy="160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246381391"/>
          <p:cNvPicPr/>
          <p:nvPr/>
        </p:nvPicPr>
        <p:blipFill>
          <a:blip r:embed="rId3"/>
          <a:stretch/>
        </p:blipFill>
        <p:spPr>
          <a:xfrm>
            <a:off x="611280" y="4292640"/>
            <a:ext cx="2881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vo6"/>
          <p:cNvPicPr/>
          <p:nvPr/>
        </p:nvPicPr>
        <p:blipFill>
          <a:blip r:embed="rId4"/>
          <a:stretch/>
        </p:blipFill>
        <p:spPr>
          <a:xfrm>
            <a:off x="4140360" y="5300640"/>
            <a:ext cx="1908000" cy="129384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Этапы глобального потеплени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6635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иление концентрации 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яние ль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ие уровня воды в мировом оке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снение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теплых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астрофические цу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климата глобальное похоло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995640" y="1844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3995640" y="2565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995640" y="321300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995640" y="3789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3995640" y="4508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3995640" y="515772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i"/>
          <p:cNvPicPr/>
          <p:nvPr/>
        </p:nvPicPr>
        <p:blipFill>
          <a:blip r:embed="rId2"/>
          <a:stretch/>
        </p:blipFill>
        <p:spPr>
          <a:xfrm>
            <a:off x="6804000" y="1052640"/>
            <a:ext cx="1905120" cy="189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i"/>
          <p:cNvPicPr/>
          <p:nvPr/>
        </p:nvPicPr>
        <p:blipFill>
          <a:blip r:embed="rId3"/>
          <a:stretch/>
        </p:blipFill>
        <p:spPr>
          <a:xfrm>
            <a:off x="250920" y="3860640"/>
            <a:ext cx="1803240" cy="135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gNRQklBuDK"/>
          <p:cNvPicPr/>
          <p:nvPr/>
        </p:nvPicPr>
        <p:blipFill>
          <a:blip r:embed="rId4"/>
          <a:stretch/>
        </p:blipFill>
        <p:spPr>
          <a:xfrm>
            <a:off x="6588000" y="3933720"/>
            <a:ext cx="2297160" cy="1573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мограф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Депопуляция, нарушение воспроизводства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билизация численно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менение экономических и социальных услови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1:39:10Z</dcterms:created>
  <dc:creator>Никита</dc:creator>
  <dc:description/>
  <dc:language>en-US</dc:language>
  <cp:lastModifiedBy>LEGION</cp:lastModifiedBy>
  <dcterms:modified xsi:type="dcterms:W3CDTF">2015-05-06T08:34:18Z</dcterms:modified>
  <cp:revision>18</cp:revision>
  <dc:subject/>
  <dc:title>Тема: Глобальные проблемы человечества Обобщение знаний (1 час)</dc:title>
</cp:coreProperties>
</file>