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FC9D-C99C-4F7F-9F1E-959419AAE1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: Глобальные проблемы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бщение знаний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BC3-D117-42E1-942E-91EBFBA6D6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хватка продовольствия (мировой гол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нсивный путь развития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Социально-экономические причины, хищническое природополь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BC70-692E-46CB-91B1-4A0DA69A60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Увеличение объемов мировой добычи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блема ресурсообеспе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2D6A-DE9B-424D-B930-F7121B4A7D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отсталости развивающихся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громные масштабы отсталости разви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9ABE-CB80-44EF-A4DF-AEAB9C3552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Водная проблема. Загрязн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равномерное осво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7B49-F2BD-43BD-8B24-BAEFCFB151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ного освоения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обходимое использование ресурсов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пективы развития новых космически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редотвращение «звездных войн», объединение всех стран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6162-7AAE-4F0A-9F81-BBE3B80CB1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се мы пассажиры одного корабля по имени «Земля», значит, пересесть из него некуд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ы унаследовали Землю от наших предков. Мы берем ее взаймы у наших потомков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 как думаешь ты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179B-3EBC-4FC0-A3B6-B053B9AAA8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общение и закрепление знаний о глобальных пробле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щность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4467-E2A5-4240-ADE8-5C8BD016BA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зультаты об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апное заполнение и комментарии результатов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лобальные проблемы челове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 характеристики глобальных проб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колог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одоление отсталости развивающихся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ование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ное освоение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C604-E5EC-48D6-9A2A-533F14F1B8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ные понятия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Глобальные - глобалистика – на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йкумена - населенная и освоенная человеком час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проблема 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проблема дефицита сырья, топлива и продоволь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своение Космоса и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преодоления экономической отсталости отдельных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ключ к решению все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ежедневно, ежечасно требует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E508-F2E3-4C24-8644-F77DEE02A2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. Рождестве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159B-0AE6-4834-93EE-742320C6B0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лобальная 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асность для всего живого на план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Договоры об утилизации и сокращении вооружений (усилиями стран ми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6AD8-4CB6-4F85-BFC2-98A22985AD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Человечество «засорило Земл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озяйственная деятельность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DEE9-8F6E-45BF-8907-BF5986B0BB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Этапы глобального потеплен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силение концентрации 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яние ль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вышение уровня воды в мировом оке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с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теплых те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тастрофические цу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климата глобальное похоло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4EEC-FC6A-40F2-B6FD-F467779902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Депопуляция, нарушение воспроизводства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табилизация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зменение экономических и социальных услови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82BA-DBBC-4EBD-A958-BCFB9511B7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49E-AA4B-487D-956D-62D5F4EE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5CD-DC82-4CD7-8565-1A0C4525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6C5-6FBB-4B2E-9669-17F4E5E3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EB0-AC24-45AD-AA51-C262F884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258-C446-4417-A7CB-886B3663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035-EC97-43AC-B3FC-21B4492A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C06-4003-45DA-8FF1-EC6EFCB4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EA8-0EDB-445D-A363-0A035D92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3B1-3B05-41F0-9D6B-B1322B92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4A1-5B07-4368-8110-B138E8CB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205-35DF-406A-A3BC-DA331DE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BF0-33FF-46CF-9F72-6BCDD1CF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B323-62B2-4B1A-9729-12EFBD2AC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playst.ru/im1/apofis2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1030022"/>
          <p:cNvPicPr/>
          <p:nvPr/>
        </p:nvPicPr>
        <p:blipFill>
          <a:blip r:embed="rId2"/>
          <a:stretch/>
        </p:blipFill>
        <p:spPr>
          <a:xfrm>
            <a:off x="2843280" y="2232000"/>
            <a:ext cx="3670200" cy="28227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0" name="Text Box 6"/>
          <p:cNvSpPr/>
          <p:nvPr/>
        </p:nvSpPr>
        <p:spPr>
          <a:xfrm>
            <a:off x="1763640" y="255600"/>
            <a:ext cx="619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а: Глобальные проблемы челове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бщение знаний (1 ч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87280" y="55497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ОУ лицей №104» учитель географии О.А. Каз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348000" y="61149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Новокузнецк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01 - The Day After Tomorrow.mp3" descr=""/>
          <p:cNvPicPr/>
          <p:nvPr/>
        </p:nvPicPr>
        <p:blipFill>
          <a:blip r:embed="rId3"/>
          <a:stretch/>
        </p:blipFill>
        <p:spPr>
          <a:xfrm>
            <a:off x="468360" y="5761080"/>
            <a:ext cx="298440" cy="29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довольственн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хватка продовольствия (мировой голо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нсивный путь развития хозя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циально-экономические причины, хищническое природо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336123"/>
          <p:cNvPicPr/>
          <p:nvPr/>
        </p:nvPicPr>
        <p:blipFill>
          <a:blip r:embed="rId2"/>
          <a:stretch/>
        </p:blipFill>
        <p:spPr>
          <a:xfrm>
            <a:off x="684360" y="3860640"/>
            <a:ext cx="3600360" cy="278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_jMLo89PkYdK7QzVvZfWGmB6p5eADb3tJ_"/>
          <p:cNvPicPr/>
          <p:nvPr/>
        </p:nvPicPr>
        <p:blipFill>
          <a:blip r:embed="rId3"/>
          <a:stretch/>
        </p:blipFill>
        <p:spPr>
          <a:xfrm>
            <a:off x="5940360" y="4005360"/>
            <a:ext cx="2648160" cy="1909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Увеличение объемов мировой добычи полезных ископае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ресурсообеспеч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291"/>
          <p:cNvPicPr/>
          <p:nvPr/>
        </p:nvPicPr>
        <p:blipFill>
          <a:blip r:embed="rId2"/>
          <a:stretch/>
        </p:blipFill>
        <p:spPr>
          <a:xfrm>
            <a:off x="395280" y="4005360"/>
            <a:ext cx="2592360" cy="2279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070904_1a"/>
          <p:cNvPicPr/>
          <p:nvPr/>
        </p:nvPicPr>
        <p:blipFill>
          <a:blip r:embed="rId3"/>
          <a:stretch/>
        </p:blipFill>
        <p:spPr>
          <a:xfrm>
            <a:off x="4716360" y="4292640"/>
            <a:ext cx="3492720" cy="21319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0920" y="333360"/>
            <a:ext cx="87138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отсталости развивающихся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громные масштабы отсталости развивающихся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3534-large"/>
          <p:cNvPicPr/>
          <p:nvPr/>
        </p:nvPicPr>
        <p:blipFill>
          <a:blip r:embed="rId2"/>
          <a:stretch/>
        </p:blipFill>
        <p:spPr>
          <a:xfrm>
            <a:off x="4284720" y="4149720"/>
            <a:ext cx="3854520" cy="249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336123"/>
          <p:cNvPicPr/>
          <p:nvPr/>
        </p:nvPicPr>
        <p:blipFill>
          <a:blip r:embed="rId3"/>
          <a:stretch/>
        </p:blipFill>
        <p:spPr>
          <a:xfrm>
            <a:off x="539640" y="4309920"/>
            <a:ext cx="2583000" cy="1997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Водная проблема. Загрязн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равномерное осво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kinopoisk"/>
          <p:cNvPicPr/>
          <p:nvPr/>
        </p:nvPicPr>
        <p:blipFill>
          <a:blip r:embed="rId2"/>
          <a:stretch/>
        </p:blipFill>
        <p:spPr>
          <a:xfrm>
            <a:off x="539640" y="4149720"/>
            <a:ext cx="4753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Океан"/>
          <p:cNvPicPr/>
          <p:nvPr/>
        </p:nvPicPr>
        <p:blipFill>
          <a:blip r:embed="rId3"/>
          <a:stretch/>
        </p:blipFill>
        <p:spPr>
          <a:xfrm>
            <a:off x="6156360" y="4221000"/>
            <a:ext cx="2481120" cy="1860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ного освоения косм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обходимое использование ресурсов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спективы развития новых космическ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едотвращение «звездных войн», объединение всех стран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осмос 1"/>
          <p:cNvPicPr/>
          <p:nvPr/>
        </p:nvPicPr>
        <p:blipFill>
          <a:blip r:embed="rId2"/>
          <a:stretch/>
        </p:blipFill>
        <p:spPr>
          <a:xfrm>
            <a:off x="611280" y="3860640"/>
            <a:ext cx="3298680" cy="247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50920" y="333360"/>
            <a:ext cx="871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Все мы пассажиры одного корабля по имени «Земля», значит, пересесть из него некуд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ы унаследовали Землю от наших предков. Мы берем ее взаймы у наших потомков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как думаешь ты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50920" y="33336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бщение и закрепление знаний о глобальных проблем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ность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 глобальны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1233602454_zemlja-1"/>
          <p:cNvPicPr/>
          <p:nvPr/>
        </p:nvPicPr>
        <p:blipFill>
          <a:blip r:embed="rId2"/>
          <a:stretch/>
        </p:blipFill>
        <p:spPr>
          <a:xfrm>
            <a:off x="2987640" y="342900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0920" y="333360"/>
            <a:ext cx="8713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зультаты об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апное заполнение и комментарии результатов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Глобальные проблемы челов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 характеристики глобальных проб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лог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овольствен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одоление отсталости развивающихся стр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е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ное освоение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50920" y="333360"/>
            <a:ext cx="87138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ые понятия 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лобальные - глобалистика – нау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йкумена - населенная и освоенная человеком часть Зем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проблема 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проблема дефицита сырья, топлива и продоволь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своение Космоса и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преодоления экономической отсталости отдельных стран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ключ к решению все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ежедневно, ежечасно требует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79280" y="765000"/>
            <a:ext cx="8713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 Рождеств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picture"/>
          <p:cNvPicPr/>
          <p:nvPr/>
        </p:nvPicPr>
        <p:blipFill>
          <a:blip r:embed="rId2"/>
          <a:stretch/>
        </p:blipFill>
        <p:spPr>
          <a:xfrm>
            <a:off x="539640" y="422100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50920" y="333360"/>
            <a:ext cx="87138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обальная проблема мира и разор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асность для всего живого на пла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говоры об утилизации и сокращении вооружений (усилиями стран ми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4"/>
          <p:cNvPicPr/>
          <p:nvPr/>
        </p:nvPicPr>
        <p:blipFill>
          <a:blip r:embed="rId2"/>
          <a:stretch/>
        </p:blipFill>
        <p:spPr>
          <a:xfrm>
            <a:off x="7164360" y="836640"/>
            <a:ext cx="152100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25"/>
          <p:cNvPicPr/>
          <p:nvPr/>
        </p:nvPicPr>
        <p:blipFill>
          <a:blip r:embed="rId3"/>
          <a:stretch/>
        </p:blipFill>
        <p:spPr>
          <a:xfrm>
            <a:off x="6372360" y="5157720"/>
            <a:ext cx="2087280" cy="1392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Картинка 7 из 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1844640"/>
            <a:ext cx="1728720" cy="147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p070301026111"/>
          <p:cNvPicPr/>
          <p:nvPr/>
        </p:nvPicPr>
        <p:blipFill>
          <a:blip r:embed="rId6"/>
          <a:stretch/>
        </p:blipFill>
        <p:spPr>
          <a:xfrm>
            <a:off x="1187280" y="5157720"/>
            <a:ext cx="2225880" cy="144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96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лог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Человечество «засорило Земл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енная деятельность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b49ebfaa4a9e"/>
          <p:cNvPicPr/>
          <p:nvPr/>
        </p:nvPicPr>
        <p:blipFill>
          <a:blip r:embed="rId2"/>
          <a:stretch/>
        </p:blipFill>
        <p:spPr>
          <a:xfrm>
            <a:off x="6588000" y="4149720"/>
            <a:ext cx="2171880" cy="160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246381391"/>
          <p:cNvPicPr/>
          <p:nvPr/>
        </p:nvPicPr>
        <p:blipFill>
          <a:blip r:embed="rId3"/>
          <a:stretch/>
        </p:blipFill>
        <p:spPr>
          <a:xfrm>
            <a:off x="611280" y="4292640"/>
            <a:ext cx="2881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vo6"/>
          <p:cNvPicPr/>
          <p:nvPr/>
        </p:nvPicPr>
        <p:blipFill>
          <a:blip r:embed="rId4"/>
          <a:stretch/>
        </p:blipFill>
        <p:spPr>
          <a:xfrm>
            <a:off x="4140360" y="5300640"/>
            <a:ext cx="1908000" cy="129384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Этапы глобального потеплени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6635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иление концентрации 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яние ль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ышение уровня воды в мировом оке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снение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теплых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астрофические цу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климата глобальное похоло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995640" y="1844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3995640" y="2565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995640" y="321300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3995640" y="3789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3995640" y="4508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3995640" y="515772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i"/>
          <p:cNvPicPr/>
          <p:nvPr/>
        </p:nvPicPr>
        <p:blipFill>
          <a:blip r:embed="rId2"/>
          <a:stretch/>
        </p:blipFill>
        <p:spPr>
          <a:xfrm>
            <a:off x="6804000" y="1052640"/>
            <a:ext cx="1905120" cy="189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i"/>
          <p:cNvPicPr/>
          <p:nvPr/>
        </p:nvPicPr>
        <p:blipFill>
          <a:blip r:embed="rId3"/>
          <a:stretch/>
        </p:blipFill>
        <p:spPr>
          <a:xfrm>
            <a:off x="250920" y="3860640"/>
            <a:ext cx="1803240" cy="135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gNRQklBuDK"/>
          <p:cNvPicPr/>
          <p:nvPr/>
        </p:nvPicPr>
        <p:blipFill>
          <a:blip r:embed="rId4"/>
          <a:stretch/>
        </p:blipFill>
        <p:spPr>
          <a:xfrm>
            <a:off x="6588000" y="3933720"/>
            <a:ext cx="2297160" cy="1573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мограф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Депопуляция, нарушение воспроизводства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билизация численно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менение экономических и социальных услови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1:39:10Z</dcterms:created>
  <dc:creator>Никита</dc:creator>
  <dc:description/>
  <dc:language>en-US</dc:language>
  <cp:lastModifiedBy>LEGION</cp:lastModifiedBy>
  <dcterms:modified xsi:type="dcterms:W3CDTF">2015-05-06T08:34:18Z</dcterms:modified>
  <cp:revision>18</cp:revision>
  <dc:subject/>
  <dc:title>Тема: Глобальные проблемы человечества Обобщение знаний (1 час)</dc:title>
</cp:coreProperties>
</file>