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A67C-0C03-4565-85CB-A782093530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№ 1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рший препод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ы философии Г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ьков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1447-1F66-416A-93AD-E85DA1B8A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офилы утверж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ование особого типа культуры, возникшего на духовной почв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у России собственного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мобытного пути историческо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ость форм общественного развития русского народа в ви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характеризуется коллективным трудом и потреблением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ртел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ом этого направления стал литератор А. С. 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A46A-9E12-4945-B36F-02FEE15F0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мяков А.С. (1804 - 186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л религиозным вопросам, истории русс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Записки о всемирной истории» (незаверш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философии А. С. Хомякова леж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виденц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6493-0FB7-4864-9D23-563F3BB45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9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И. Герце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Г. Черныш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Григор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Н. Страх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. Лав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8D1F-0324-4A99-ABA0-ECBBC1B72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E326-E2EF-44EB-BC52-E804C9DB3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059-FA87-4A21-A72D-B8E9FCCF1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Оправдание Доб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и разговора о войне, прогрессе и конце всемирной истор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C972-941E-4DEB-AC58-D008576B97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Флоренский (1882 - 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лп и утверждение ист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противоречия между существованием «мирового зла» и доминантой иде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ла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ум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жественной воли, управляющей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03D3-7261-4B1A-97E9-A9D548F8E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Роз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лигиозно-философское обще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 Мереж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сский симво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Философия свободы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ысл творчеств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210D-37E8-427D-8A45-8CB2065BC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 (1874-19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 «Философия свободы» и «Смысл твор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 механизм творчества - своб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и развил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дух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ация - невозможность преодолеть оковы царства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60F3-C0B8-4BDE-9361-B19D92E3E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 (1871 - 19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хозяй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ет Невечер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име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18 г. – свящ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BC4-46DB-41D5-8EB7-4271691F14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5BD-5030-4745-BCFE-7CB2716C8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Ф. Федо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29-190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.Э. Циолко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57-193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63-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Л.Чиж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97-196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ауке учение о Космизме основано на теориях о рождении и эволюции Вселенно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FA80-12F4-44DA-A476-652F839AB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крешение предков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существит Бог нашими руками, с помощью современной науки, которая от Б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ел освоения космического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B15D-0710-4970-9F8E-33CA8E9BE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Западу, ни к Востоку, - мы - народ исключительны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.Я. Чаадае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4FD6-3A68-4018-8071-2F704703F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 (</a:t>
            </a:r>
            <a:r>
              <a:rPr b="0" lang="en-US" sz="1200" spc="-1" strike="noStrike">
                <a:solidFill>
                  <a:srgbClr val="953735"/>
                </a:solidFill>
                <a:latin typeface="Calibri"/>
              </a:rPr>
              <a:t>XIX – XX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тельное название философских концепций русских мысл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D35F-FDAC-4445-A5D1-031D918D5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ая пробле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морали и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выбора исторического пути России - между Востоком или Западо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фическая проблема русск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ласти и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оциальной справедл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идеальн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будущ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BE76-B998-4068-8284-06A6F2BD3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ые черты русской философ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осприятие космоса как единого целостного организма, противоположность ха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фи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уитив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тафиз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ист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нтолог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лигиоз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CBCC-65A9-4D82-B258-9CBF3B4EE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Этапы развития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7792-8E5E-4380-B2C6-9C5A122BB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. 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вянофи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Кире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С.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 Сам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ад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Я. Чаад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Бот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нн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Гран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EC4A-C8D2-4DF3-9FBF-7515353452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F555-0ECB-4552-9281-9EE72C5AE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ческие пись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29-1831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е письмо было опубликовано в журнале «Телескоп» в 183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20B5-3BCA-48EF-87AD-2866F3DCE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95C-ABCB-4D53-8491-5A6FFA69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4AD-0FE0-4174-A347-C192D6E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8C4-3414-4B1C-9643-A470785F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879-9CA9-4B79-9307-88F5C12F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0ECF-7A5A-4278-AC81-ADF66C39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8027-4E71-4DD8-AD46-FAAABBC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5240-890F-4000-8198-831FA5E9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F1A3-FFDB-425A-95DC-18610FB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2C2D-6641-4B03-A379-CAD63D55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0E4D-997A-4C89-8232-D30AFD2A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0FE7-9323-46F7-BB5C-36CEC7C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FBA-D9BA-4012-8ED7-A62070AB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F55F-8DEB-4B0E-8236-1A01E98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880F-D8C1-4962-A2BB-E475787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CE36-3BB4-4624-89C9-51B4BDFE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2394-5B4E-4481-8E99-76894122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2261-118B-4932-9353-E461BEA6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BCDA-44CF-4FA6-A5F6-E72E52FB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17C8-5641-4723-ABEE-F71D0C2E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B979-D47B-4B55-A2A0-47D34C91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CA0A9-E13A-4DE0-B1DA-D7A9B264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B2F9-EB2D-45A8-8117-22CD3F58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2ED-07A3-493F-A4C4-F0EEEFB3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0D85-C672-4BBC-A76D-755F71CD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A25E-9DFF-4C96-BC97-0957327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CB27-5D29-4429-9D1E-190F5DFE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7CB0-AD34-41EA-9D30-C023B0A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D753-AA09-4F5B-8668-47888829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1652-EF5A-4683-8A72-6F39EB5D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09EA-D9C7-4DC4-9510-8F02D13B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AE32-EA66-4913-8A6A-AF998AD1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F414-618C-4CF0-BBA2-F7D3F22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B0E2-42A8-4136-BBD8-6898E96C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027-6B0A-4557-A709-EA3B2C58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5280-DD1C-4172-B861-1963623B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512FA-8211-4821-8388-14A8A776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D7CD-D9D2-4095-92DE-2F2709CE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2F24-A813-45EC-AFC6-07FB321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5D83-E8B8-43CC-A5A4-8C0E9C62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1D50-5E78-4EB1-8EC9-796E925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3C84-25EC-4B3E-80D4-66FDBD25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33EEF-8FE6-4248-8545-CA3B54C5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A8A6-6A22-4656-9645-0B45C361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A3226-3F15-44BE-BBEF-DEB4504B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D3D-C10C-4299-9C44-A2C3D287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48A9-C8FC-4D4B-8ABD-D14D5FDC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26364-AD34-48C5-9516-F435E53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F571-2321-4E51-A7BE-0C3B10D1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D40DD-375C-4032-AFE3-999CB3C2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4B58A-FD47-43F4-BC26-C3A2A5DE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A84E-14A8-4E2A-95A1-65E5F8D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FC632-6BA1-4822-BB09-ADB8A83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DA14-0A17-460E-8056-1BDFB1F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A544-B858-4D80-8BDB-D2E25B9D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C96A-849E-4D14-AF30-7E1BD551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29A-5389-4053-AF21-2CE8D36A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5F5FA-4F45-4E72-B751-0DAC729D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83AA2-30ED-414D-ACCC-69CD504B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0C5B-0C51-49D6-8B92-5F1ABF5F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146E-A2A7-44B0-BF7A-0ED4502E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0D5EB-0A04-4CB2-A192-0D46F071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E0F9-43B5-4975-8500-8B72CE4A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2AD5-1F09-4784-8DB3-72CB423E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75C0E-B50D-49D5-8653-507EF1C4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3CB1-3A4B-4BF9-BEBF-A11ACE1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0FAC-E639-4827-BCE0-F890496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964-AC70-4620-B620-11A3AE49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3C4A7-0288-4A96-8067-A87DF52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4121A-5F74-4C58-8B73-2B2C899B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3190-60D9-43A8-B770-F5EDF6FF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D76-F5C1-455F-8CBB-EAB284A1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2CE-7231-4E4B-9457-8EFB44BF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7D0F-1252-4FF1-B859-A97DC539A3FE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0EB9-8B3C-4C09-B0F3-D5495C7E497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D6C1-E66D-4AB6-ADA1-5E1C09F0C3B9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387-6B75-479B-BBD1-67043C2083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BA1-448A-4AA0-B9FA-A672747DD875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F77C-854C-4B65-B7A9-9535B95100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783-C151-4F93-A967-C608A577EDD7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8287-6748-42CE-9251-5948F10C797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E74-2D78-428A-8CF9-5E870094B46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65D-D6AB-41FD-A20D-0B479B2E17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A330-E727-42B4-B4D1-E7A5754AB634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A94B-F9D7-4ECD-AAB0-3ACDBD0ECC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0/Herzen_g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кафедры философии Г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анькова Наталья Михайло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кция № 10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усская философ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28684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лавянофилы утвержда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ование особого типа культуры, возникшего на духовной почв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личие у России собственного,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амобытного пути историческ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овторимость форм общественного развития русского народа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общин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ы (характеризуется коллективным трудом и потреблением) и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ртели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оположником этого направления стал литератор А. С. Хомя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Хомяков А.С. (1804 - 1860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42840" y="1356840"/>
            <a:ext cx="5357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ое внимание уделял религиозным вопросам, истории рус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труд: «Записки о всемирной истории» (незавершен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основе философии А. С. Хомякова лежал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овиденциализ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C:\Users\НАТАША.Vitaliy-ПК\Pictures\лекция 10\460px-KhomyakovA_AvtoportretABR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5840" y="1500120"/>
            <a:ext cx="3176640" cy="41436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715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И. Герцен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Г. Чернышевский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 Григорье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Н. Страх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П. Лавр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572080" y="48578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цен Александр Ива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812-1870 гг.) - основател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я наро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Файл:Herzen ge.jpg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714240"/>
            <a:ext cx="3071880" cy="393876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2560" y="92844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11504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28680" y="1000080"/>
            <a:ext cx="40719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сновные 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Оправдание Доб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Три разговора о войне, прогрессе и конце всемирной истори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4000680" y="3429000"/>
            <a:ext cx="407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называю истинным, или положительным, всеединством такое, в котором единое существует не на счёт всех или в ущерб им, а в пользу всех … истинное единство сохраняет и усиливает свои элементы, осуществляясь в них как полнота быт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вел Флоренский (1882 - 1917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71960" y="2428920"/>
            <a:ext cx="4857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Столп и утверждение истин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ятие противоречия между существованием «мирового зла» и доминантой иде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благ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разумн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божественной воли, управляющей мир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3" name="Picture 2" descr="C:\Users\НАТАША.Vitaliy-ПК\Pictures\лекция 10\598px-Nesterov_Florensky_Bulgakov.jpg"/>
          <p:cNvPicPr/>
          <p:nvPr/>
        </p:nvPicPr>
        <p:blipFill>
          <a:blip r:embed="rId1"/>
          <a:stretch/>
        </p:blipFill>
        <p:spPr>
          <a:xfrm>
            <a:off x="214200" y="1143000"/>
            <a:ext cx="3749760" cy="37623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214200" y="5000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стер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ы Павел Флоренский и Сергей Булг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сло.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999720"/>
            <a:ext cx="47149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гей Булгак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асилий Розан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елигиозно-философское общество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митрий  Мережковск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усский символизм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иколай Бердяе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«Философия свободы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мысл творчества»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6" descr="C:\Users\НАТАША.Vitaliy-ПК\Pictures\лекция 10\450px-Dormition_(Kremlin).jpg"/>
          <p:cNvPicPr/>
          <p:nvPr/>
        </p:nvPicPr>
        <p:blipFill>
          <a:blip r:embed="rId1"/>
          <a:stretch/>
        </p:blipFill>
        <p:spPr>
          <a:xfrm>
            <a:off x="5143680" y="928800"/>
            <a:ext cx="3751200" cy="500040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7"/>
          <p:cNvSpPr/>
          <p:nvPr/>
        </p:nvSpPr>
        <p:spPr>
          <a:xfrm>
            <a:off x="5214960" y="6000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ого Кр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иколай Бердяев (1874-1948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уды: «Философия свободы» и «Смысл творчеств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динственный механизм творчества - свобод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вел и развил понят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дух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ъективация - невозможность преодолеть оковы царства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6000840" y="1428840"/>
            <a:ext cx="2917800" cy="390204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ергей Булгаков (1871 - 1944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хозяйства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Свет Невечерний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имен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918 г. – священни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962760" cy="48466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4000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.Ф. Федо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29-1903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Э. Циолк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57-193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И. Вернад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Л.Чиж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97-1964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57360" y="214200"/>
            <a:ext cx="5500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науке учение о Космизме основано на теориях о рождении и эволюции Вселенн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3494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714480" y="857160"/>
            <a:ext cx="5143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крешение предков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го осуществит Бог нашими руками, с помощью современной науки, которая от Бог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мысел освоения космического простра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357120" y="49291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регуляци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Прокомментируйте высказывание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«Мы не принадлежим ни к Западу, ни к Востоку, - мы - народ исключительный»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(П.Я. Чаадаев)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 (</a:t>
            </a:r>
            <a:r>
              <a:rPr b="0" lang="en-US" sz="3600" spc="-1" strike="noStrike">
                <a:solidFill>
                  <a:srgbClr val="742217"/>
                </a:solidFill>
                <a:latin typeface="Franklin Gothic Book"/>
              </a:rPr>
              <a:t>XIX – XX</a:t>
            </a: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 вв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920" y="1213920"/>
            <a:ext cx="792936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бирательное название философских концепций русских мыслит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33932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ая проблемати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1680" y="1000080"/>
            <a:ext cx="792936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смизм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морали и нравствен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выбора исторического пути России - между Востоком или Западом –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ецифическая проблема русской философ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власти и государ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социальной справедлив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идеального обще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будущег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творч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543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ые черты русской философи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712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осм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восприятие космоса как единого целостного организма, противоположность хаосу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фиолог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бор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уитив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Метафиз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алист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онтологизм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лигиоз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рав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Этапы развития русской философ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1. Славянофильство и западничество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лавянофилы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С. Хомя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.В. Кире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С. Акса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Ю. Самар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Западник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Я. Чаадае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 Ботк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 Аннен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. Гран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150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0280" y="714240"/>
            <a:ext cx="5429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210120" cy="35402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42920" y="49291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мысл России - быть уроком всему человечест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илософические письма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1829-1831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ервое письмо было опубликовано в журнале «Телескоп» в 1836 г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6:19:03Z</dcterms:created>
  <dc:creator>НАТАША</dc:creator>
  <dc:description/>
  <dc:language>en-US</dc:language>
  <cp:lastModifiedBy>LEGION</cp:lastModifiedBy>
  <dcterms:modified xsi:type="dcterms:W3CDTF">2014-11-11T09:06:40Z</dcterms:modified>
  <cp:revision>33</cp:revision>
  <dc:subject/>
  <dc:title>Лекция № 9 Русская философия</dc:title>
</cp:coreProperties>
</file>