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036E-48A9-4D28-B1A7-308553A27DB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ема урока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     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Глобаль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       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робле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Презентацию   подготовила: Мещерякова Е.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МБОУ ВСОШ №3 г. Липец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42BB-258B-4FE3-A1E1-10889885731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Еще в конце XVIII в. английский священник Мальтус выдвинул теорию (мальтузианство). Согласно этой теории благосостояние трудящихся при капитализме определяется «естественным законом народонаселения», который определяется тем, что население мира растет в геометрической прогрессии, а рост производства — лишь в арифметичес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Количество землян уже перевалило за 7-миллиардну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Увеличение населения идёт в странах «третьего мира»(Индия, Китай, Бразилия, Мексика и т. 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9A9A-D281-49B3-BB3F-723D8AC60E8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c4bd97"/>
                </a:solidFill>
                <a:latin typeface="Calibri"/>
              </a:rPr>
              <a:t>Демография регистрирует убыль коренного населения в развитых странах Запада по причине резкого сокращения рождаемости. Рождаемость в Европе снизилась до отметки 1,34 ребенка на женщину. Уровень рождаемости, необходимый для простого воспроизводства населения, составляет 2,1 рождения на женщи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4bd97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c4bd97"/>
                </a:solidFill>
                <a:latin typeface="Calibri"/>
              </a:rPr>
              <a:t>В прессе можно прочитать такие прогнозы: «Европа исчезает как социокультурный организм, к 2050 г. она сократится на 100 млн. человек» (без учета иммиграции — на 120 млн.)». Все страны Запада пытаются восполнить спад рождаемости замещающей миграцией — «импортом людей». Европейский рекорд держит Швейцария, где каждый пятый житель — иностранец. В ФРГ живет 10 млн. турок, но, по расчетам демографов ООН, к 2050 г. население страны сократится с 82 до 58,8 млн.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40B3-5DE1-4EC7-80BB-F10113B92E1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Энергет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bfbfbf"/>
                </a:solidFill>
                <a:latin typeface="Calibri"/>
              </a:rPr>
              <a:t>История цивилизации – история изобретения все новых и новых методов преобразования энергии. Первый скачок в росте энергопотребления произошел, когда человек научился добывать огонь и использовать его для приготовления пищи и обогрева своих жилищ. Источниками энергии в этот период служили дрова и мускульная сила человека. Следующий важный этап связан с изобретением колеса, созданием разнообразных орудий труда, развитием кузнечного производства. К XV веку средневековый человек, используя рабочий скот, энергию воды и ветра, дрова и небольшое количество угля, уже потреблял приблизительно в 10 раз больше, чем первобытный человек. В современном обществе использую   атомную энергию, газ, неф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bfbfbf"/>
                </a:solidFill>
                <a:latin typeface="Calibri"/>
              </a:rPr>
              <a:t>Сегодня с  каждым годом возрастают объёмы добычи нефти, газа и других полезных ископаемых. По прогнозу учёных, при нынешних темпах разработки полезных ископаемых хватит всего лишь на сто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2704-FA85-4F6A-ABE9-6222140FE84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Пути разрешения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      глобальных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         пробл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Calibri"/>
              </a:rPr>
              <a:t>Решение проблем является актуальной задачей для всего человечества. Выделяют следующие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ути решения глобальных проблем соврем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d0a10"/>
                </a:solidFill>
                <a:latin typeface="Calibri"/>
              </a:rPr>
              <a:t>1.Обуздать гонку вооружения, запретить создания и применения систем вооружения массового уничтожения, людских и материальных ресурсов, ликвидацию ядерного оружия и т.д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4807"/>
                </a:solidFill>
                <a:latin typeface="Calibri"/>
              </a:rPr>
              <a:t>2.Экономное использование природных ресурсов и снижение загрязнений отходами материального производства почвы, воды и воздух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000"/>
                </a:solidFill>
                <a:latin typeface="Calibri"/>
              </a:rPr>
              <a:t>3.Снижение темпов роста народонаселения в развивающихся странах и преодоление демографического кризиса в развитых капиталистических стран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Calibri"/>
              </a:rPr>
              <a:t>4. Для решения</a:t>
            </a:r>
            <a:r>
              <a:rPr b="1" lang="ru-RU" sz="12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b0f0"/>
                </a:solidFill>
                <a:latin typeface="Calibri"/>
              </a:rPr>
              <a:t>продовольственной проблемы необходимо использовать биотехнологию, новые высокоурожайные сорта, дальнейшее развитие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механизации, химизации и мелио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CFCB-2E74-4D36-86A2-41088E19305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Вы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bfbfbf"/>
                </a:solidFill>
                <a:latin typeface="Calibri"/>
              </a:rPr>
              <a:t>- Глобальные проблемы – это вызов человеческому разуму. Уйти от них невозможно. Их можно только преодолеть  усилиями всех стран путём сотрудни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bfbfbf"/>
                </a:solidFill>
                <a:latin typeface="Calibri"/>
              </a:rPr>
              <a:t>- Каждый человек должен осознать, что  Человечество на грани гибели, и выживем мы или нет зависит от каждого из на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44DD-9A06-4C83-B12D-6489E678B43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bfbf"/>
                </a:solidFill>
                <a:latin typeface="Kristen ITC"/>
              </a:rPr>
              <a:t>Эпигра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«</a:t>
            </a: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Мы – дети Галакт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Но самое главное,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Мы дети твои, дорогая Земля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5B70-2B6D-4935-91B2-DD1DA365E50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1. Понятие «глобальные проблем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2. Причины глобальны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3. Экологически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4. Ядерная угро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5. 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6. Энергет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7. Что ждёт человечество в будущ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0DA4-B75E-44A0-B3D5-C55389961B1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Глобальные проблемы человечества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– это проблемы, которые касающиеся всего человечества.</a:t>
            </a:r>
            <a:br>
              <a:rPr sz="1200"/>
            </a:b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   Ни одно государство не в состоянии справиться с этими проблем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1AE8-0204-4C03-AC4C-F860AEC4C9B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ичины  глобальных 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              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1. Огромные масштабы человеческой деятельности, которая радикально изменила природу, общество, образ жизни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2. Неспособность человечества рационально распорядиться могучей силой прогр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B906-F3DF-4FDE-BF75-30B3AA498DD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Носят планетар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грожают гибелью всему человечест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Требуют коллективных усилий мирового со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44A0-5E00-4C7A-B052-0E849584A32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Классификация глобальных </a:t>
            </a:r>
            <a:br>
              <a:rPr sz="1200"/>
            </a:b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            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DA20-DC14-499B-80DE-596AAE58FB1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Экологические пробле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Истончение озонового слоя и увеличение притока ультрафиолетовой ради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Загрязнение атмосферы углекислым газам и другими отходами деятельност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Эрозия почвы, засоление и заболачи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Вырубка лесных массивов особенно в экваториальных райо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Загрязнение гидросферы (вод мирового океан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3D72-4DCB-4997-91B7-0E2EFF1C119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Ядерная угр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За последние 5,5тыс. лет произошл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14500 войн, в которых погибло 4 миллиарда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Ядерная угроза человечеству возникла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середине ХХ века. В эти годы США и СССР разверну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гонку ядерных вооружений, балансируя на гра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войны. Подобная опасность уменьшилас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но полностью не исчезла, т.к. в начале XXI столе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возникла возможность применения ядерного оруж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Существует несколько групп потенциаль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источников вызовов и угроз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официально признанные ядерные государства (СШ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Россия, Франция, Великобритания и Китай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непризнанные ядерные государства, открыто заявивш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о наличии ядерного оружия (Индия и Пакистан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государства, обладающие ядерным оружием, 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официально в этом не признающиеся (Израиль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государства без ядерного статуса, но имеющие мотивацию к обладанию ядерным оружием и необходимый для этого научно-технологический потенциал (КНДР, Иран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527A-C632-4930-BF5F-E4F5DF092FD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7866-D5F2-4645-B990-2E2C05879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F406-7A7D-4204-A77F-BBF1B458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9B64-AB76-4265-9746-F4150379A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324E-B46D-42AF-9B4E-DFE052142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2CEAA-534F-4975-AB5B-C4E3AB4BD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FE4FB-E225-461A-84F9-26FF3746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372A2-8439-4685-8C4B-AB09EBC3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7013B6-CF2E-4567-B3BE-35FBB648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58E5C-7AD4-436D-A1A0-E7D08907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9E6820-0A49-4FD2-8AA9-CDC4BA68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E9C41E-E52A-4D8B-8480-CAF94084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21BC-6568-4A85-AC86-D8436C06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9F1F2F-4762-4429-B46A-F1564A4F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7D370-B63F-4538-A778-7928BC65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4787AF-6BC6-4146-A4C1-4F580049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35F57-C859-4CAD-B0AF-F91563625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035C00-AD87-4B1B-98AC-42D6E50DF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5858-EE94-453C-B94C-24E89FC9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89F4-F1E7-4F1D-93A9-2B497A3B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856B-01BE-4859-A3A6-FF7C1E0F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F1FC-B318-4AD0-BC10-49E38EDB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8955-1896-4B93-995D-84099FE7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9A9C-5E78-4563-B322-581B529D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E448-4394-4EEB-B743-53E91BEA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7E3E-BEA5-4EEF-8A88-132E8A31FD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034A-4F0F-442A-92A9-3CE9509C16C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929ff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2929ff"/>
                </a:solidFill>
                <a:latin typeface="Tahoma"/>
              </a:rPr>
              <a:t>Тема урока: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ahoma"/>
              </a:rPr>
              <a:t>      </a:t>
            </a:r>
            <a:r>
              <a:rPr b="1" lang="ru-RU" sz="6000" spc="-1" strike="noStrike">
                <a:solidFill>
                  <a:srgbClr val="c00000"/>
                </a:solidFill>
                <a:latin typeface="Tahoma"/>
              </a:rPr>
              <a:t>Глобальные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ahoma"/>
              </a:rPr>
              <a:t>        </a:t>
            </a:r>
            <a:r>
              <a:rPr b="1" lang="ru-RU" sz="6000" spc="-1" strike="noStrike">
                <a:solidFill>
                  <a:srgbClr val="c00000"/>
                </a:solidFill>
                <a:latin typeface="Tahoma"/>
              </a:rPr>
              <a:t>проблемы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Презентацию   подготовила: Мещерякова Е.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МБОУ ВСОШ №3 г. Липец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   </a:t>
            </a: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Демографическая пробле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00004d"/>
                </a:solidFill>
                <a:latin typeface="Tahoma"/>
              </a:rPr>
              <a:t>Еще в конце XVIII в. английский священник Мальтус выдвинул теорию (мальтузианство). Согласно этой теории благосостояние трудящихся при капитализме определяется «естественным законом народонаселения», который определяется тем, что население мира растет в геометрической прогрессии, а рост производства — лишь в арифметическ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4d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4d"/>
                </a:solidFill>
                <a:latin typeface="Tahoma"/>
              </a:rPr>
              <a:t>Количество землян уже перевалило за 7-миллиардну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4d"/>
                </a:solidFill>
                <a:latin typeface="Tahoma"/>
              </a:rPr>
              <a:t>Увеличение населения идёт в странах «третьего мира»(Индия, Китай, Бразилия, Мексика и т. д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539640" y="3573360"/>
            <a:ext cx="8353440" cy="309564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713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Демографическая пробле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7640" y="1125000"/>
            <a:ext cx="8785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Демография регистрирует убыль коренного населения в развитых странах Запада по причине резкого сокращения рождаемости. Рождаемость в Европе снизилась до отметки 1,34 ребенка на женщину. Уровень рождаемости, необходимый для простого воспроизводства населения, составляет 2,1 рождения на женщин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В прессе можно прочитать такие прогнозы: «Европа исчезает как социокультурный организм, к 2050 г. она сократится на 100 млн. человек» (без учета иммиграции — на 120 млн.)». Все страны Запада пытаются восполнить спад рождаемости замещающей миграцией — «импортом людей». Европейский рекорд держит Швейцария, где каждый пятый житель — иностранец. В ФРГ живет 10 млн. турок, но, по расчетам демографов ООН, к 2050 г. население страны сократится с 82 до 58,8 млн. человек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179280" y="4581360"/>
            <a:ext cx="3961080" cy="2160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4356000" y="4581360"/>
            <a:ext cx="4608720" cy="21607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    </a:t>
            </a: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Энергетическая пробле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8920" y="1052280"/>
            <a:ext cx="87138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73"/>
                </a:solidFill>
                <a:latin typeface="Tahoma"/>
              </a:rPr>
              <a:t>История цивилизации – история изобретения все новых и новых методов преобразования энергии. Первый скачок в росте энергопотребления произошел, когда человек научился добывать огонь и использовать его для приготовления пищи и обогрева своих жилищ. Источниками энергии в этот период служили дрова и мускульная сила человека. Следующий важный этап связан с изобретением колеса, созданием разнообразных орудий труда, развитием кузнечного производства. К XV веку средневековый человек, используя рабочий скот, энергию воды и ветра, дрова и небольшое количество угля, уже потреблял приблизительно в 10 раз больше, чем первобытный человек. В современном обществе использую   атомную энергию, газ, неф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3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73"/>
                </a:solidFill>
                <a:latin typeface="Tahoma"/>
              </a:rPr>
              <a:t>Сегодня с  каждым годом возрастают объёмы добычи нефти, газа и других полезных ископаемых. По прогнозу учёных, при нынешних темпах разработки полезных ископаемых хватит всего лишь на сто ле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179280" y="4797360"/>
            <a:ext cx="2952720" cy="1944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3276720" y="4797360"/>
            <a:ext cx="2735280" cy="1944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3"/>
          <a:stretch/>
        </p:blipFill>
        <p:spPr>
          <a:xfrm>
            <a:off x="6156360" y="4797360"/>
            <a:ext cx="2879640" cy="189396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0" y="115560"/>
            <a:ext cx="4464000" cy="201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c00000"/>
                </a:solidFill>
                <a:latin typeface="Tahoma"/>
              </a:rPr>
              <a:t>Пути разрешения</a:t>
            </a:r>
            <a:br>
              <a:rPr sz="4000"/>
            </a:br>
            <a:r>
              <a:rPr b="0" lang="ru-RU" sz="4000" spc="-1" strike="noStrike">
                <a:solidFill>
                  <a:srgbClr val="c00000"/>
                </a:solidFill>
                <a:latin typeface="Tahoma"/>
              </a:rPr>
              <a:t>      глобальных</a:t>
            </a:r>
            <a:br>
              <a:rPr sz="4000"/>
            </a:br>
            <a:r>
              <a:rPr b="0" lang="ru-RU" sz="4000" spc="-1" strike="noStrike">
                <a:solidFill>
                  <a:srgbClr val="c00000"/>
                </a:solidFill>
                <a:latin typeface="Tahoma"/>
              </a:rPr>
              <a:t>         пробле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8000" y="2276640"/>
            <a:ext cx="90360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3"/>
                </a:solidFill>
                <a:latin typeface="Tahoma"/>
              </a:rPr>
              <a:t>Решение проблем является актуальной задачей для всего человечества. Выделяют следующие </a:t>
            </a:r>
            <a:r>
              <a:rPr b="0" lang="ru-RU" sz="2000" spc="-1" strike="noStrike">
                <a:solidFill>
                  <a:srgbClr val="c00000"/>
                </a:solidFill>
                <a:latin typeface="Tahoma"/>
              </a:rPr>
              <a:t>пути решения глобальных проблем современност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Tahoma"/>
              </a:rPr>
              <a:t>1.Обуздать гонку вооружения, запретить создания и применения систем вооружения массового уничтожения, людских и материальных ресурсов, ликвидацию ядерного оружия и т.д.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a00"/>
                </a:solidFill>
                <a:latin typeface="Tahoma"/>
              </a:rPr>
              <a:t>2.Экономное использование природных ресурсов и снижение загрязнений отходами материального производства почвы, воды и воздух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3.Снижение темпов роста народонаселения в развивающихся странах и преодоление демографического кризиса в развитых капиталистических странах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ahoma"/>
              </a:rPr>
              <a:t>4. </a:t>
            </a:r>
            <a:r>
              <a:rPr b="0" lang="ru-RU" sz="2000" spc="-1" strike="noStrike">
                <a:solidFill>
                  <a:srgbClr val="00b0f0"/>
                </a:solidFill>
                <a:latin typeface="Tahoma"/>
              </a:rPr>
              <a:t>Для решения</a:t>
            </a:r>
            <a:r>
              <a:rPr b="1" lang="ru-RU" sz="3200" spc="-1" strike="noStrike">
                <a:solidFill>
                  <a:srgbClr val="00b0f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b0f0"/>
                </a:solidFill>
                <a:latin typeface="Tahoma"/>
              </a:rPr>
              <a:t>продовольственной проблемы необходимо использовать </a:t>
            </a:r>
            <a:r>
              <a:rPr b="0" lang="ru-RU" sz="2000" spc="-1" strike="noStrike">
                <a:solidFill>
                  <a:srgbClr val="00b0f0"/>
                </a:solidFill>
                <a:latin typeface="Tahoma"/>
              </a:rPr>
              <a:t>биотехнологию, новые высокоурожайные сорта, дальнейшее развитие </a:t>
            </a:r>
            <a:r>
              <a:rPr b="0" lang="ru-RU" sz="2000" spc="-1" strike="noStrike">
                <a:solidFill>
                  <a:srgbClr val="63c8c8"/>
                </a:solidFill>
                <a:latin typeface="Tahoma"/>
              </a:rPr>
              <a:t>механизации, химизации и мелиораци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4464000" cy="208908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Выво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79280" y="1125000"/>
            <a:ext cx="88567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73"/>
                </a:solidFill>
                <a:latin typeface="Tahoma"/>
              </a:rPr>
              <a:t>- Глобальные проблемы – это вызов человеческому разуму. Уйти от них невозможно. Их можно только преодолеть  усилиями всех стран путём сотрудничест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3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73"/>
                </a:solidFill>
                <a:latin typeface="Tahoma"/>
              </a:rPr>
              <a:t>- Каждый человек должен осознать, что  Человечество на грани гибели, и выживем мы или нет зависит от каждого из на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250920" y="2924280"/>
            <a:ext cx="8569080" cy="37447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73"/>
                </a:solidFill>
                <a:latin typeface="Kristen ITC"/>
              </a:rPr>
              <a:t>Эпиграф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0" y="2249280"/>
            <a:ext cx="8748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«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Мы – дети Галактик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Но самое главное, -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Мы дети твои, дорогая Земля!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4400" spc="-1" strike="noStrike">
                <a:solidFill>
                  <a:srgbClr val="010199"/>
                </a:solidFill>
                <a:latin typeface="Tahoma"/>
              </a:rPr>
              <a:t>Пла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34136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1. Понятие «глобальные проблемы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2. Причины глобальных пробл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3. Экологические пробле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4. Ядерная угроз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5. Демографическая пробл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6. Энергетическая пробл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7. Что ждёт человечество в будуще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277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2929ff"/>
                </a:solidFill>
                <a:latin typeface="Tahoma"/>
              </a:rPr>
              <a:t>Глобальные проблемы человечества </a:t>
            </a: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– это проблемы, которые касающиеся всего человечества.</a:t>
            </a:r>
            <a:br>
              <a:rPr sz="3200"/>
            </a:b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    Ни одно государство не в состоянии справиться с этими проблем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8569080" cy="367164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Причины  глобальных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                пробле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4d"/>
                </a:solidFill>
                <a:latin typeface="Tahoma"/>
              </a:rPr>
              <a:t>1. Огромные масштабы человеческой деятельности, которая радикально изменила природу, общество, образ жизни люд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4d"/>
                </a:solidFill>
                <a:latin typeface="Tahoma"/>
              </a:rPr>
              <a:t>2. Неспособность человечества рационально распорядиться могучей силой прогресс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Особенност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34136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4d"/>
                </a:solidFill>
                <a:latin typeface="Tahoma"/>
              </a:rPr>
              <a:t>Носят планетарный характе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4d"/>
                </a:solidFill>
                <a:latin typeface="Tahoma"/>
              </a:rPr>
              <a:t>Угрожают гибелью всему человечеств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4d"/>
                </a:solidFill>
                <a:latin typeface="Tahoma"/>
              </a:rPr>
              <a:t>Требуют коллективных усилий мирового сообще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250920" y="3573360"/>
            <a:ext cx="8713800" cy="29988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Классификация глобальных 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              пробле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57120" y="2060640"/>
          <a:ext cx="8462880" cy="4392720"/>
        </p:xfrm>
        <a:graphic>
          <a:graphicData uri="http://schemas.openxmlformats.org/drawingml/2006/table">
            <a:tbl>
              <a:tblPr/>
              <a:tblGrid>
                <a:gridCol w="1909800"/>
                <a:gridCol w="2016000"/>
                <a:gridCol w="2089440"/>
                <a:gridCol w="2447640"/>
              </a:tblGrid>
              <a:tr h="713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4d"/>
                          </a:solidFill>
                          <a:latin typeface="Tahoma"/>
                        </a:rPr>
                        <a:t>Политическ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4d"/>
                          </a:solidFill>
                          <a:latin typeface="Tahoma"/>
                        </a:rPr>
                        <a:t>Экологическ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4d"/>
                          </a:solidFill>
                          <a:latin typeface="Tahoma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004d"/>
                          </a:solidFill>
                          <a:latin typeface="Tahoma"/>
                        </a:rPr>
                        <a:t>Социаль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4d"/>
                          </a:solidFill>
                          <a:latin typeface="Tahoma"/>
                        </a:rPr>
                        <a:t>Экономическ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335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Возникнов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локальных конфлик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«Парников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эффект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Демографическ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ситуа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родовольственн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робле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1335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5a00"/>
                          </a:solidFill>
                          <a:latin typeface="Tahoma"/>
                        </a:rPr>
                        <a:t>Опасность ядерной войн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5a00"/>
                          </a:solidFill>
                          <a:latin typeface="Tahoma"/>
                        </a:rPr>
                        <a:t>Загрязнени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5a00"/>
                          </a:solidFill>
                          <a:latin typeface="Tahoma"/>
                        </a:rPr>
                        <a:t>атмосферы и вод Мирового океа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5a00"/>
                          </a:solidFill>
                          <a:latin typeface="Tahoma"/>
                        </a:rPr>
                        <a:t>Противоречия между «севером» и  «югом»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5a00"/>
                          </a:solidFill>
                          <a:latin typeface="Tahoma"/>
                        </a:rPr>
                        <a:t>Экономически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5a00"/>
                          </a:solidFill>
                          <a:latin typeface="Tahoma"/>
                        </a:rPr>
                        <a:t>кризис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102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Различия политических систе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«Озонов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дыр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Террориз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Истощение ресурс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  <p:sp>
        <p:nvSpPr>
          <p:cNvPr id="11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ahoma"/>
              </a:rPr>
              <a:t>         </a:t>
            </a:r>
            <a:r>
              <a:rPr b="0" lang="ru-RU" sz="3600" spc="-1" strike="noStrike">
                <a:solidFill>
                  <a:srgbClr val="c00000"/>
                </a:solidFill>
                <a:latin typeface="Tahoma"/>
              </a:rPr>
              <a:t>Экологические проблем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8000" y="1052640"/>
            <a:ext cx="8856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d"/>
                </a:solidFill>
                <a:latin typeface="Tahoma"/>
              </a:rPr>
              <a:t>Истончение озонового слоя и увеличение притока ультрафиолетовой ради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d"/>
                </a:solidFill>
                <a:latin typeface="Tahoma"/>
              </a:rPr>
              <a:t>Загрязнение атмосферы углекислым газам и другими отходами деятельности челове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d"/>
                </a:solidFill>
                <a:latin typeface="Tahoma"/>
              </a:rPr>
              <a:t>Эрозия почвы, засоление и заболачива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d"/>
                </a:solidFill>
                <a:latin typeface="Tahoma"/>
              </a:rPr>
              <a:t>Вырубка лесных массивов особенно в экваториальных район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d"/>
                </a:solidFill>
                <a:latin typeface="Tahoma"/>
              </a:rPr>
              <a:t>Загрязнение гидросферы (вод мирового океан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324000" y="4365720"/>
            <a:ext cx="8496000" cy="23032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Ядерная угроз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8000" y="126828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За последние 5,5тыс. лет произошло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14500 войн, в которых погибло 4 миллиарда человек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Ядерная угроза человечеству возникла 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середине ХХ века. В эти годы США и СССР развернул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гонку ядерных вооружений, балансируя на грани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войны. Подобная опасность уменьшилась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но полностью не исчезла, т.к. в начале XXI столет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возникла возможность применения ядерного оружия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Существует несколько групп потенциальных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источников вызовов и угроз: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– </a:t>
            </a: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официально признанные ядерные государства (США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Россия, Франция, Великобритания и Китай)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– </a:t>
            </a: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непризнанные ядерные государства, открыто заявивш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о наличии ядерного оружия (Индия и Пакистан)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– </a:t>
            </a: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государства, обладающие ядерным оружием, но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официально в этом не признающиеся (Израиль)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– </a:t>
            </a: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государства без ядерного статуса, но имеющие мотивацию к обладанию ядерным оружием и необходимый для этого научно-технологический потенциал (КНДР, Иран)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5796000" y="1330200"/>
            <a:ext cx="3338640" cy="46818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1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1:14:14Z</dcterms:created>
  <dc:creator>Екатерина</dc:creator>
  <dc:description/>
  <dc:language>en-US</dc:language>
  <cp:lastModifiedBy>LEGION</cp:lastModifiedBy>
  <dcterms:modified xsi:type="dcterms:W3CDTF">2015-05-06T08:38:42Z</dcterms:modified>
  <cp:revision>67</cp:revision>
  <dc:subject/>
  <dc:title>Глобальные проблемы Презентацию подготовила: Мещерякова Е.В. МБОУ ВСОШ №3 г. Липецка</dc:title>
</cp:coreProperties>
</file>