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257B0-AB5F-4A37-AD42-2CFEAEC4C55F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Тема урока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      </a:t>
            </a: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Глобальны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        </a:t>
            </a: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проблем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Презентацию   подготовила: Мещерякова Е.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МБОУ ВСОШ №3 г. Липец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030E9-4EAE-4818-BEC5-D19334FAA5C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Демографическая 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948a54"/>
                </a:solidFill>
                <a:latin typeface="Calibri"/>
              </a:rPr>
              <a:t>Еще в конце XVIII в. английский священник Мальтус выдвинул теорию (мальтузианство). Согласно этой теории благосостояние трудящихся при капитализме определяется «естественным законом народонаселения», который определяется тем, что население мира растет в геометрической прогрессии, а рост производства — лишь в арифметичес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48a54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948a54"/>
                </a:solidFill>
                <a:latin typeface="Calibri"/>
              </a:rPr>
              <a:t>Количество землян уже перевалило за 7-миллиардну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48a54"/>
                </a:solidFill>
                <a:latin typeface="Calibri"/>
              </a:rPr>
              <a:t>Увеличение населения идёт в странах «третьего мира»(Индия, Китай, Бразилия, Мексика и т. д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F4FF8-F507-4A44-BF6A-F5A69F72EDA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Демографическая 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c4bd97"/>
                </a:solidFill>
                <a:latin typeface="Calibri"/>
              </a:rPr>
              <a:t>Демография регистрирует убыль коренного населения в развитых странах Запада по причине резкого сокращения рождаемости. Рождаемость в Европе снизилась до отметки 1,34 ребенка на женщину. Уровень рождаемости, необходимый для простого воспроизводства населения, составляет 2,1 рождения на женщин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4bd97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c4bd97"/>
                </a:solidFill>
                <a:latin typeface="Calibri"/>
              </a:rPr>
              <a:t>В прессе можно прочитать такие прогнозы: «Европа исчезает как социокультурный организм, к 2050 г. она сократится на 100 млн. человек» (без учета иммиграции — на 120 млн.)». Все страны Запада пытаются восполнить спад рождаемости замещающей миграцией — «импортом людей». Европейский рекорд держит Швейцария, где каждый пятый житель — иностранец. В ФРГ живет 10 млн. турок, но, по расчетам демографов ООН, к 2050 г. население страны сократится с 82 до 58,8 млн. челов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A7EFA-5E52-44D2-B96B-28678471BC6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Энергетическая 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bfbfbf"/>
                </a:solidFill>
                <a:latin typeface="Calibri"/>
              </a:rPr>
              <a:t>История цивилизации – история изобретения все новых и новых методов преобразования энергии. Первый скачок в росте энергопотребления произошел, когда человек научился добывать огонь и использовать его для приготовления пищи и обогрева своих жилищ. Источниками энергии в этот период служили дрова и мускульная сила человека. Следующий важный этап связан с изобретением колеса, созданием разнообразных орудий труда, развитием кузнечного производства. К XV веку средневековый человек, используя рабочий скот, энергию воды и ветра, дрова и небольшое количество угля, уже потреблял приблизительно в 10 раз больше, чем первобытный человек. В современном обществе использую   атомную энергию, газ, неф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fbfbf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bfbfbf"/>
                </a:solidFill>
                <a:latin typeface="Calibri"/>
              </a:rPr>
              <a:t>Сегодня с  каждым годом возрастают объёмы добычи нефти, газа и других полезных ископаемых. По прогнозу учёных, при нынешних темпах разработки полезных ископаемых хватит всего лишь на сто 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92EFA-38D9-4349-8500-7047F5D623D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Пути разрешения</a:t>
            </a:r>
            <a:br>
              <a:rPr sz="2400"/>
            </a:b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      глобальных</a:t>
            </a:r>
            <a:br>
              <a:rPr sz="2400"/>
            </a:b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         пробле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fbfbf"/>
                </a:solidFill>
                <a:latin typeface="Calibri"/>
              </a:rPr>
              <a:t>Решение проблем является актуальной задачей для всего человечества. Выделяют следующие 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пути решения глобальных проблем современ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d0a10"/>
                </a:solidFill>
                <a:latin typeface="Calibri"/>
              </a:rPr>
              <a:t>1.Обуздать гонку вооружения, запретить создания и применения систем вооружения массового уничтожения, людских и материальных ресурсов, ликвидацию ядерного оружия и т.д.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84807"/>
                </a:solidFill>
                <a:latin typeface="Calibri"/>
              </a:rPr>
              <a:t>2.Экономное использование природных ресурсов и снижение загрязнений отходами материального производства почвы, воды и воздух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000"/>
                </a:solidFill>
                <a:latin typeface="Calibri"/>
              </a:rPr>
              <a:t>3.Снижение темпов роста народонаселения в развивающихся странах и преодоление демографического кризиса в развитых капиталистических стран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b0f0"/>
                </a:solidFill>
                <a:latin typeface="Calibri"/>
              </a:rPr>
              <a:t>4. Для решения</a:t>
            </a:r>
            <a:r>
              <a:rPr b="1" lang="ru-RU" sz="12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b0f0"/>
                </a:solidFill>
                <a:latin typeface="Calibri"/>
              </a:rPr>
              <a:t>продовольственной проблемы необходимо использовать биотехнологию, новые высокоурожайные сорта, дальнейшее развитие 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механизации, химизации и мелиор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6C77B-593A-4353-AF08-E700E0E5817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Выв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bfbfbf"/>
                </a:solidFill>
                <a:latin typeface="Calibri"/>
              </a:rPr>
              <a:t>- Глобальные проблемы – это вызов человеческому разуму. Уйти от них невозможно. Их можно только преодолеть  усилиями всех стран путём сотруднич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fbfb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bfbfbf"/>
                </a:solidFill>
                <a:latin typeface="Calibri"/>
              </a:rPr>
              <a:t>- Каждый человек должен осознать, что  Человечество на грани гибели, и выживем мы или нет зависит от каждого из на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28D6F-4BEA-40C5-8252-0AE49030A10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fbfbf"/>
                </a:solidFill>
                <a:latin typeface="Kristen ITC"/>
              </a:rPr>
              <a:t>Эпигра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«</a:t>
            </a:r>
            <a:r>
              <a:rPr b="0" i="1" lang="ru-RU" sz="1200" spc="-1" strike="noStrike">
                <a:solidFill>
                  <a:srgbClr val="ff0000"/>
                </a:solidFill>
                <a:latin typeface="Calibri"/>
              </a:rPr>
              <a:t>Мы – дети Галактик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Calibri"/>
              </a:rPr>
              <a:t>Но самое главное,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Calibri"/>
              </a:rPr>
              <a:t>Мы дети твои, дорогая Земля!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93284-13EF-42DB-AFCF-C3839D76172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1. Понятие «глобальные проблемы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2. Причины глобальных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3. Экологические 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4. Ядерная угроз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5. Демографическая 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6. Энергетическая 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7. Что ждёт человечество в будуще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2CC82-13B7-4D57-947C-812CE268F0B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Глобальные проблемы человечества 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– это проблемы, которые касающиеся всего человечества.</a:t>
            </a:r>
            <a:br>
              <a:rPr sz="1200"/>
            </a:b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   Ни одно государство не в состоянии справиться с этими проблем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D89C7-7BA5-4FA1-B068-D4E69EE07E0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Причины  глобальных </a:t>
            </a:r>
            <a:br>
              <a:rPr sz="1200"/>
            </a:b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              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1. Огромные масштабы человеческой деятельности, которая радикально изменила природу, общество, образ жизни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2. Неспособность человечества рационально распорядиться могучей силой прогрес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BE0D6-CBD1-4503-875A-4F70584EA69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Особ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Носят планетарный характ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Угрожают гибелью всему человечеств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Требуют коллективных усилий мирового со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60D01-81D0-4589-8751-68D84A7D40F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Классификация глобальных </a:t>
            </a:r>
            <a:br>
              <a:rPr sz="1200"/>
            </a:b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            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E3A7F-D05D-4672-97BB-4C69B019203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Экологические проблем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Истончение озонового слоя и увеличение притока ультрафиолетовой ради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Загрязнение атмосферы углекислым газам и другими отходами деятельности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Эрозия почвы, засоление и заболачи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Вырубка лесных массивов особенно в экваториальных район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Загрязнение гидросферы (вод мирового океан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84209-68B1-4216-9F19-44082E0E077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Ядерная угро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За последние 5,5тыс. лет произошл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14500 войн, в которых погибло 4 миллиарда челов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Ядерная угроза человечеству возникла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середине ХХ века. В эти годы США и СССР разверну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гонку ядерных вооружений, балансируя на гран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войны. Подобная опасность уменьшилас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но полностью не исчезла, т.к. в начале XXI столе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возникла возможность применения ядерного оруж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Существует несколько групп потенциальн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источников вызовов и угроз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официально признанные ядерные государства (СШ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Россия, Франция, Великобритания и Китай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непризнанные ядерные государства, открыто заявивш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о наличии ядерного оружия (Индия и Пакистан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государства, обладающие ядерным оружием, н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официально в этом не признающиеся (Израиль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государства без ядерного статуса, но имеющие мотивацию к обладанию ядерным оружием и необходимый для этого научно-технологический потенциал (КНДР, Иран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D63B8-DDB7-487B-9C79-EDAA6BCA37F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38E4-F9E4-4EB7-B6C3-471E3149E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4A66-7A70-4DB0-AE01-0EB73911F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2785-A0E1-4023-948D-CDD17A90E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A427-ED0E-4339-94CD-874223182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01213F-A9C3-4CD2-8F5C-8F3AE9559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6974E1-38DF-405D-B247-5AF6F3113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E144D7-212F-4785-BB26-F24483A78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67FC2E-7E5F-4D44-B575-9C25E0E0F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1DE525-AD4C-44C5-A4F8-E643626B4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55C3C5-EC7D-456C-BFE0-65D2EBC01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41F55A-5923-49C6-9B4D-20942C483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6981-C304-41DC-9CD3-7BCE59E5C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A63BFE-759B-4F5C-A4A7-210A48110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B2D699-B02F-47AA-8A39-2F8F62B25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38BEDE-52EE-4CE9-A300-5F8D50FD5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6BAA10-F7CA-4369-88EA-33BC284F2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BEB0E5-252E-4C28-8516-F200D6B0A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08AA-5FFE-4B14-8F52-546013EDA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DA4C-12FE-4305-A624-2E96E326F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1EDD-6B35-4002-A0A4-B727E809D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2BE7-DF70-4D06-993F-8E53D1599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112A-F81B-41F1-A948-9C68231E9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76C8-8620-4EAE-804D-0EC2A9691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90AB-F893-4390-B89E-6407AC311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BE5D7-E489-44E3-874F-9F93BD5E06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01D32-5E74-4D2E-AA01-E837548F82B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929ff"/>
                </a:solidFill>
                <a:latin typeface="Tahoma"/>
              </a:rPr>
              <a:t>     </a:t>
            </a:r>
            <a:r>
              <a:rPr b="0" lang="ru-RU" sz="4400" spc="-1" strike="noStrike">
                <a:solidFill>
                  <a:srgbClr val="2929ff"/>
                </a:solidFill>
                <a:latin typeface="Tahoma"/>
              </a:rPr>
              <a:t>Тема урока: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Tahoma"/>
              </a:rPr>
              <a:t>      </a:t>
            </a:r>
            <a:r>
              <a:rPr b="1" lang="ru-RU" sz="6000" spc="-1" strike="noStrike">
                <a:solidFill>
                  <a:srgbClr val="c00000"/>
                </a:solidFill>
                <a:latin typeface="Tahoma"/>
              </a:rPr>
              <a:t>Глобальные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Tahoma"/>
              </a:rPr>
              <a:t>        </a:t>
            </a:r>
            <a:r>
              <a:rPr b="1" lang="ru-RU" sz="6000" spc="-1" strike="noStrike">
                <a:solidFill>
                  <a:srgbClr val="c00000"/>
                </a:solidFill>
                <a:latin typeface="Tahoma"/>
              </a:rPr>
              <a:t>проблемы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Презентацию   подготовила: Мещерякова Е.В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МБОУ ВСОШ №3 г. Липец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76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ahoma"/>
              </a:rPr>
              <a:t>   </a:t>
            </a:r>
            <a:r>
              <a:rPr b="0" lang="ru-RU" sz="4400" spc="-1" strike="noStrike">
                <a:solidFill>
                  <a:srgbClr val="c00000"/>
                </a:solidFill>
                <a:latin typeface="Tahoma"/>
              </a:rPr>
              <a:t>Демографическая проблем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00004d"/>
                </a:solidFill>
                <a:latin typeface="Tahoma"/>
              </a:rPr>
              <a:t>Еще в конце XVIII в. английский священник Мальтус выдвинул теорию (мальтузианство). Согласно этой теории благосостояние трудящихся при капитализме определяется «естественным законом народонаселения», который определяется тем, что население мира растет в геометрической прогрессии, а рост производства — лишь в арифметическо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4d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00004d"/>
                </a:solidFill>
                <a:latin typeface="Tahoma"/>
              </a:rPr>
              <a:t>Количество землян уже перевалило за 7-миллиардную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4d"/>
                </a:solidFill>
                <a:latin typeface="Tahoma"/>
              </a:rPr>
              <a:t>Увеличение населения идёт в странах «третьего мира»(Индия, Китай, Бразилия, Мексика и т. д.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539640" y="3573360"/>
            <a:ext cx="8353440" cy="309564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87138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ahoma"/>
              </a:rPr>
              <a:t>     </a:t>
            </a:r>
            <a:r>
              <a:rPr b="0" lang="ru-RU" sz="4400" spc="-1" strike="noStrike">
                <a:solidFill>
                  <a:srgbClr val="c00000"/>
                </a:solidFill>
                <a:latin typeface="Tahoma"/>
              </a:rPr>
              <a:t>Демографическая проблем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7640" y="1125000"/>
            <a:ext cx="87850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1800" spc="-1" strike="noStrike">
                <a:solidFill>
                  <a:srgbClr val="010173"/>
                </a:solidFill>
                <a:latin typeface="Tahoma"/>
              </a:rPr>
              <a:t>Демография регистрирует убыль коренного населения в развитых странах Запада по причине резкого сокращения рождаемости. Рождаемость в Европе снизилась до отметки 1,34 ребенка на женщину. Уровень рождаемости, необходимый для простого воспроизводства населения, составляет 2,1 рождения на женщин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73"/>
                </a:solidFill>
                <a:latin typeface="Tahoma"/>
              </a:rPr>
              <a:t>   </a:t>
            </a:r>
            <a:r>
              <a:rPr b="0" lang="ru-RU" sz="1800" spc="-1" strike="noStrike">
                <a:solidFill>
                  <a:srgbClr val="010173"/>
                </a:solidFill>
                <a:latin typeface="Tahoma"/>
              </a:rPr>
              <a:t>В прессе можно прочитать такие прогнозы: «Европа исчезает как социокультурный организм, к 2050 г. она сократится на 100 млн. человек» (без учета иммиграции — на 120 млн.)». Все страны Запада пытаются восполнить спад рождаемости замещающей миграцией — «импортом людей». Европейский рекорд держит Швейцария, где каждый пятый житель — иностранец. В ФРГ живет 10 млн. турок, но, по расчетам демографов ООН, к 2050 г. население страны сократится с 82 до 58,8 млн. человек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179280" y="4581360"/>
            <a:ext cx="3961080" cy="21607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"/>
          <p:cNvPicPr/>
          <p:nvPr/>
        </p:nvPicPr>
        <p:blipFill>
          <a:blip r:embed="rId2"/>
          <a:stretch/>
        </p:blipFill>
        <p:spPr>
          <a:xfrm>
            <a:off x="4356000" y="4581360"/>
            <a:ext cx="4608720" cy="216072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ahoma"/>
              </a:rPr>
              <a:t>    </a:t>
            </a:r>
            <a:r>
              <a:rPr b="0" lang="ru-RU" sz="4400" spc="-1" strike="noStrike">
                <a:solidFill>
                  <a:srgbClr val="c00000"/>
                </a:solidFill>
                <a:latin typeface="Tahoma"/>
              </a:rPr>
              <a:t>Энергетическая проблем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78920" y="1052280"/>
            <a:ext cx="8713800" cy="56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000073"/>
                </a:solidFill>
                <a:latin typeface="Tahoma"/>
              </a:rPr>
              <a:t>История цивилизации – история изобретения все новых и новых методов преобразования энергии. Первый скачок в росте энергопотребления произошел, когда человек научился добывать огонь и использовать его для приготовления пищи и обогрева своих жилищ. Источниками энергии в этот период служили дрова и мускульная сила человека. Следующий важный этап связан с изобретением колеса, созданием разнообразных орудий труда, развитием кузнечного производства. К XV веку средневековый человек, используя рабочий скот, энергию воды и ветра, дрова и небольшое количество угля, уже потреблял приблизительно в 10 раз больше, чем первобытный человек. В современном обществе использую   атомную энергию, газ, нефть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73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000073"/>
                </a:solidFill>
                <a:latin typeface="Tahoma"/>
              </a:rPr>
              <a:t>Сегодня с  каждым годом возрастают объёмы добычи нефти, газа и других полезных ископаемых. По прогнозу учёных, при нынешних темпах разработки полезных ископаемых хватит всего лишь на сто лет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179280" y="4797360"/>
            <a:ext cx="2952720" cy="1944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"/>
          <p:cNvPicPr/>
          <p:nvPr/>
        </p:nvPicPr>
        <p:blipFill>
          <a:blip r:embed="rId2"/>
          <a:stretch/>
        </p:blipFill>
        <p:spPr>
          <a:xfrm>
            <a:off x="3276720" y="4797360"/>
            <a:ext cx="2735280" cy="1944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"/>
          <p:cNvPicPr/>
          <p:nvPr/>
        </p:nvPicPr>
        <p:blipFill>
          <a:blip r:embed="rId3"/>
          <a:stretch/>
        </p:blipFill>
        <p:spPr>
          <a:xfrm>
            <a:off x="6156360" y="4797360"/>
            <a:ext cx="2879640" cy="189396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0" y="115560"/>
            <a:ext cx="4464000" cy="201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c00000"/>
                </a:solidFill>
                <a:latin typeface="Tahoma"/>
              </a:rPr>
              <a:t>Пути разрешения</a:t>
            </a:r>
            <a:br>
              <a:rPr sz="4000"/>
            </a:br>
            <a:r>
              <a:rPr b="0" lang="ru-RU" sz="4000" spc="-1" strike="noStrike">
                <a:solidFill>
                  <a:srgbClr val="c00000"/>
                </a:solidFill>
                <a:latin typeface="Tahoma"/>
              </a:rPr>
              <a:t>      глобальных</a:t>
            </a:r>
            <a:br>
              <a:rPr sz="4000"/>
            </a:br>
            <a:r>
              <a:rPr b="0" lang="ru-RU" sz="4000" spc="-1" strike="noStrike">
                <a:solidFill>
                  <a:srgbClr val="c00000"/>
                </a:solidFill>
                <a:latin typeface="Tahoma"/>
              </a:rPr>
              <a:t>         проблем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08000" y="2276640"/>
            <a:ext cx="90360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3"/>
                </a:solidFill>
                <a:latin typeface="Tahoma"/>
              </a:rPr>
              <a:t>Решение проблем является актуальной задачей для всего человечества. Выделяют следующие </a:t>
            </a:r>
            <a:r>
              <a:rPr b="0" lang="ru-RU" sz="2000" spc="-1" strike="noStrike">
                <a:solidFill>
                  <a:srgbClr val="c00000"/>
                </a:solidFill>
                <a:latin typeface="Tahoma"/>
              </a:rPr>
              <a:t>пути решения глобальных проблем современност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16"/>
                </a:solidFill>
                <a:latin typeface="Tahoma"/>
              </a:rPr>
              <a:t>1.Обуздать гонку вооружения, запретить создания и применения систем вооружения массового уничтожения, людских и материальных ресурсов, ликвидацию ядерного оружия и т.д.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5a00"/>
                </a:solidFill>
                <a:latin typeface="Tahoma"/>
              </a:rPr>
              <a:t>2.Экономное использование природных ресурсов и снижение загрязнений отходами материального производства почвы, воды и воздух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Tahoma"/>
              </a:rPr>
              <a:t>3.Снижение темпов роста народонаселения в развивающихся странах и преодоление демографического кризиса в развитых капиталистических странах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f0"/>
                </a:solidFill>
                <a:latin typeface="Tahoma"/>
              </a:rPr>
              <a:t>4. </a:t>
            </a:r>
            <a:r>
              <a:rPr b="0" lang="ru-RU" sz="2000" spc="-1" strike="noStrike">
                <a:solidFill>
                  <a:srgbClr val="00b0f0"/>
                </a:solidFill>
                <a:latin typeface="Tahoma"/>
              </a:rPr>
              <a:t>Для решения</a:t>
            </a:r>
            <a:r>
              <a:rPr b="1" lang="ru-RU" sz="3200" spc="-1" strike="noStrike">
                <a:solidFill>
                  <a:srgbClr val="00b0f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b0f0"/>
                </a:solidFill>
                <a:latin typeface="Tahoma"/>
              </a:rPr>
              <a:t>продовольственной проблемы необходимо использовать </a:t>
            </a:r>
            <a:r>
              <a:rPr b="0" lang="ru-RU" sz="2000" spc="-1" strike="noStrike">
                <a:solidFill>
                  <a:srgbClr val="00b0f0"/>
                </a:solidFill>
                <a:latin typeface="Tahoma"/>
              </a:rPr>
              <a:t>биотехнологию, новые высокоурожайные сорта, дальнейшее развитие </a:t>
            </a:r>
            <a:r>
              <a:rPr b="0" lang="ru-RU" sz="2000" spc="-1" strike="noStrike">
                <a:solidFill>
                  <a:srgbClr val="63c8c8"/>
                </a:solidFill>
                <a:latin typeface="Tahoma"/>
              </a:rPr>
              <a:t>механизации, химизации и мелиораци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4464000" cy="208908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ru-RU" sz="4400" spc="-1" strike="noStrike">
                <a:solidFill>
                  <a:srgbClr val="c00000"/>
                </a:solidFill>
                <a:latin typeface="Tahoma"/>
              </a:rPr>
              <a:t>Вывод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79280" y="1125000"/>
            <a:ext cx="885672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000073"/>
                </a:solidFill>
                <a:latin typeface="Tahoma"/>
              </a:rPr>
              <a:t>- Глобальные проблемы – это вызов человеческому разуму. Уйти от них невозможно. Их можно только преодолеть  усилиями всех стран путём сотрудничеств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3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73"/>
                </a:solidFill>
                <a:latin typeface="Tahoma"/>
              </a:rPr>
              <a:t>- Каждый человек должен осознать, что  Человечество на грани гибели, и выживем мы или нет зависит от каждого из на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250920" y="2924280"/>
            <a:ext cx="8569080" cy="374472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73"/>
                </a:solidFill>
                <a:latin typeface="Kristen ITC"/>
              </a:rPr>
              <a:t>Эпиграф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0" y="2249280"/>
            <a:ext cx="8748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«</a:t>
            </a: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Мы – дети Галактики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Но самое главное, -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Мы дети твои, дорогая Земля!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ru-RU" sz="4400" spc="-1" strike="noStrike">
                <a:solidFill>
                  <a:srgbClr val="010199"/>
                </a:solidFill>
                <a:latin typeface="Tahoma"/>
              </a:rPr>
              <a:t>План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341360"/>
            <a:ext cx="82296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ahoma"/>
              </a:rPr>
              <a:t>1. Понятие «глобальные проблемы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ahoma"/>
              </a:rPr>
              <a:t>2. Причины глобальных пробле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ahoma"/>
              </a:rPr>
              <a:t>3. Экологические проблем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ahoma"/>
              </a:rPr>
              <a:t>4. Ядерная угроз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ahoma"/>
              </a:rPr>
              <a:t>5. Демографическая пробле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ahoma"/>
              </a:rPr>
              <a:t>6. Энергетическая пробле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ahoma"/>
              </a:rPr>
              <a:t>7. Что ждёт человечество в будущем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277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2929ff"/>
                </a:solidFill>
                <a:latin typeface="Tahoma"/>
              </a:rPr>
              <a:t>Глобальные проблемы человечества </a:t>
            </a:r>
            <a:r>
              <a:rPr b="0" lang="ru-RU" sz="3200" spc="-1" strike="noStrike">
                <a:solidFill>
                  <a:srgbClr val="c00000"/>
                </a:solidFill>
                <a:latin typeface="Tahoma"/>
              </a:rPr>
              <a:t>– это проблемы, которые касающиеся всего человечества.</a:t>
            </a:r>
            <a:br>
              <a:rPr sz="3200"/>
            </a:br>
            <a:r>
              <a:rPr b="0" lang="ru-RU" sz="3200" spc="-1" strike="noStrike">
                <a:solidFill>
                  <a:srgbClr val="c00000"/>
                </a:solidFill>
                <a:latin typeface="Tahoma"/>
              </a:rPr>
              <a:t>    Ни одно государство не в состоянии справиться с этими проблема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324000" y="2997360"/>
            <a:ext cx="8569080" cy="367164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Причины  глобальных 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                проблем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4d"/>
                </a:solidFill>
                <a:latin typeface="Tahoma"/>
              </a:rPr>
              <a:t>1. Огромные масштабы человеческой деятельности, которая радикально изменила природу, общество, образ жизни люд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4d"/>
                </a:solidFill>
                <a:latin typeface="Tahoma"/>
              </a:rPr>
              <a:t>2. Неспособность человечества рационально распорядиться могучей силой прогресс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ru-RU" sz="4400" spc="-1" strike="noStrike">
                <a:solidFill>
                  <a:srgbClr val="c00000"/>
                </a:solidFill>
                <a:latin typeface="Tahoma"/>
              </a:rPr>
              <a:t>Особенност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341360"/>
            <a:ext cx="82296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4d"/>
                </a:solidFill>
                <a:latin typeface="Tahoma"/>
              </a:rPr>
              <a:t>Носят планетарный характе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4d"/>
                </a:solidFill>
                <a:latin typeface="Tahoma"/>
              </a:rPr>
              <a:t>Угрожают гибелью всему человечеств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4d"/>
                </a:solidFill>
                <a:latin typeface="Tahoma"/>
              </a:rPr>
              <a:t>Требуют коллективных усилий мирового сообще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7" descr=""/>
          <p:cNvPicPr/>
          <p:nvPr/>
        </p:nvPicPr>
        <p:blipFill>
          <a:blip r:embed="rId1"/>
          <a:stretch/>
        </p:blipFill>
        <p:spPr>
          <a:xfrm>
            <a:off x="250920" y="3573360"/>
            <a:ext cx="8713800" cy="299880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c00000"/>
                </a:solidFill>
                <a:latin typeface="Tahoma"/>
              </a:rPr>
              <a:t>Классификация глобальных </a:t>
            </a:r>
            <a:br>
              <a:rPr sz="4400"/>
            </a:br>
            <a:r>
              <a:rPr b="0" lang="ru-RU" sz="4400" spc="-1" strike="noStrike">
                <a:solidFill>
                  <a:srgbClr val="c00000"/>
                </a:solidFill>
                <a:latin typeface="Tahoma"/>
              </a:rPr>
              <a:t>              проблем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57120" y="2060640"/>
          <a:ext cx="8462880" cy="4392720"/>
        </p:xfrm>
        <a:graphic>
          <a:graphicData uri="http://schemas.openxmlformats.org/drawingml/2006/table">
            <a:tbl>
              <a:tblPr/>
              <a:tblGrid>
                <a:gridCol w="1909800"/>
                <a:gridCol w="2016000"/>
                <a:gridCol w="2089440"/>
                <a:gridCol w="2447640"/>
              </a:tblGrid>
              <a:tr h="713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4d"/>
                          </a:solidFill>
                          <a:latin typeface="Tahoma"/>
                        </a:rPr>
                        <a:t>Политическ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4d"/>
                          </a:solidFill>
                          <a:latin typeface="Tahoma"/>
                        </a:rPr>
                        <a:t>Экологическ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4d"/>
                          </a:solidFill>
                          <a:latin typeface="Tahoma"/>
                        </a:rPr>
                        <a:t>   </a:t>
                      </a:r>
                      <a:r>
                        <a:rPr b="1" lang="ru-RU" sz="1800" spc="-1" strike="noStrike">
                          <a:solidFill>
                            <a:srgbClr val="00004d"/>
                          </a:solidFill>
                          <a:latin typeface="Tahoma"/>
                        </a:rPr>
                        <a:t>Социальны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4d"/>
                          </a:solidFill>
                          <a:latin typeface="Tahoma"/>
                        </a:rPr>
                        <a:t>Экономическ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1335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Возникнов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локальных конфликт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«Парников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     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эффект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Демографическа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ситуац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Продовольственна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проблем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1335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5a00"/>
                          </a:solidFill>
                          <a:latin typeface="Tahoma"/>
                        </a:rPr>
                        <a:t>Опасность ядерной войн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5a00"/>
                          </a:solidFill>
                          <a:latin typeface="Tahoma"/>
                        </a:rPr>
                        <a:t>Загрязнение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5a00"/>
                          </a:solidFill>
                          <a:latin typeface="Tahoma"/>
                        </a:rPr>
                        <a:t>атмосферы и вод Мирового океа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5a00"/>
                          </a:solidFill>
                          <a:latin typeface="Tahoma"/>
                        </a:rPr>
                        <a:t>Противоречия между «севером» и  «югом»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5a00"/>
                          </a:solidFill>
                          <a:latin typeface="Tahoma"/>
                        </a:rPr>
                        <a:t>Экономические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5a00"/>
                          </a:solidFill>
                          <a:latin typeface="Tahoma"/>
                        </a:rPr>
                        <a:t>кризис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1024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7030a0"/>
                          </a:solidFill>
                          <a:latin typeface="Tahoma"/>
                        </a:rPr>
                        <a:t>Различия политических систе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7030a0"/>
                          </a:solidFill>
                          <a:latin typeface="Tahoma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7030a0"/>
                          </a:solidFill>
                          <a:latin typeface="Tahoma"/>
                        </a:rPr>
                        <a:t>«Озонова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7030a0"/>
                          </a:solidFill>
                          <a:latin typeface="Tahoma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7030a0"/>
                          </a:solidFill>
                          <a:latin typeface="Tahoma"/>
                        </a:rPr>
                        <a:t>дыра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7030a0"/>
                          </a:solidFill>
                          <a:latin typeface="Tahoma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7030a0"/>
                          </a:solidFill>
                          <a:latin typeface="Tahoma"/>
                        </a:rPr>
                        <a:t>Террориз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7030a0"/>
                          </a:solidFill>
                          <a:latin typeface="Tahoma"/>
                        </a:rPr>
                        <a:t>Истощение ресурс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  <p:sp>
        <p:nvSpPr>
          <p:cNvPr id="111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ahoma"/>
              </a:rPr>
              <a:t>         </a:t>
            </a:r>
            <a:r>
              <a:rPr b="0" lang="ru-RU" sz="3600" spc="-1" strike="noStrike">
                <a:solidFill>
                  <a:srgbClr val="c00000"/>
                </a:solidFill>
                <a:latin typeface="Tahoma"/>
              </a:rPr>
              <a:t>Экологические проблем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08000" y="1052640"/>
            <a:ext cx="88567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d"/>
                </a:solidFill>
                <a:latin typeface="Tahoma"/>
              </a:rPr>
              <a:t>Истончение озонового слоя и увеличение притока ультрафиолетовой радиац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d"/>
                </a:solidFill>
                <a:latin typeface="Tahoma"/>
              </a:rPr>
              <a:t>Загрязнение атмосферы углекислым газам и другими отходами деятельности челове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d"/>
                </a:solidFill>
                <a:latin typeface="Tahoma"/>
              </a:rPr>
              <a:t>Эрозия почвы, засоление и заболачиван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d"/>
                </a:solidFill>
                <a:latin typeface="Tahoma"/>
              </a:rPr>
              <a:t>Вырубка лесных массивов особенно в экваториальных района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d"/>
                </a:solidFill>
                <a:latin typeface="Tahoma"/>
              </a:rPr>
              <a:t>Загрязнение гидросферы (вод мирового океан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324000" y="4365720"/>
            <a:ext cx="8496000" cy="230328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4400" spc="-1" strike="noStrike">
                <a:solidFill>
                  <a:srgbClr val="c00000"/>
                </a:solidFill>
                <a:latin typeface="Tahoma"/>
              </a:rPr>
              <a:t>Ядерная угроз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08000" y="1268280"/>
            <a:ext cx="8856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За последние 5,5тыс. лет произошло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14500 войн, в которых погибло 4 миллиарда человек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Ядерная угроза человечеству возникла в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середине ХХ века. В эти годы США и СССР развернул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гонку ядерных вооружений, балансируя на грани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войны. Подобная опасность уменьшилась,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но полностью не исчезла, т.к. в начале XXI столет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возникла возможность применения ядерного оружия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Существует несколько групп потенциальных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источников вызовов и угроз: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– </a:t>
            </a: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официально признанные ядерные государства (США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Россия, Франция, Великобритания и Китай)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– </a:t>
            </a: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непризнанные ядерные государства, открыто заявивши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о наличии ядерного оружия (Индия и Пакистан)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– </a:t>
            </a: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государства, обладающие ядерным оружием, но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официально в этом не признающиеся (Израиль)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– </a:t>
            </a: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государства без ядерного статуса, но имеющие мотивацию к обладанию ядерным оружием и необходимый для этого научно-технологический потенциал (КНДР, Иран)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5796000" y="1330200"/>
            <a:ext cx="3338640" cy="468180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1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1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1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1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1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1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1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1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1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1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1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1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8T11:14:14Z</dcterms:created>
  <dc:creator>Екатерина</dc:creator>
  <dc:description/>
  <dc:language>en-US</dc:language>
  <cp:lastModifiedBy>LEGION</cp:lastModifiedBy>
  <dcterms:modified xsi:type="dcterms:W3CDTF">2015-05-06T08:38:42Z</dcterms:modified>
  <cp:revision>67</cp:revision>
  <dc:subject/>
  <dc:title>Глобальные проблемы Презентацию подготовила: Мещерякова Е.В. МБОУ ВСОШ №3 г. Липецка</dc:title>
</cp:coreProperties>
</file>