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F728-3B17-4D52-BE8C-739A8285F6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60B0-0350-4692-94F9-1397CB7AC6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EF1D-978D-4629-B952-6A67903D2A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мышленные выбросы, главным образо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лопн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74% - уголь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ED73-74D4-4F7D-BD5F-A45935A730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кисление водое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отдельных вид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лодородия поч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рироста л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кование поч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а топл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о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жидких фильтров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рубб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выбросов кислотосодержащ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CA00-6634-490B-BE11-70A8B54071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9663-651D-41E7-B5FA-11F1981AD2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поч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химических веществ в поч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и тяжелых метал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проду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тициды – вещества для борьбы с вредителями и сорня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ронения радиоактив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9D36-F62A-4E8F-A623-0C5F910584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ибель флоры и фа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розия поч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гумификация (разрушение гумус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ое засо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A4C8-E2A9-4260-A88D-AF53D530A5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A3D1-306B-4A57-9143-14E1F7F029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рубка л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стребление ви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ккли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мыс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93CB-058F-4BD5-8F35-50128DB508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ление животн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них: - дикий 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умчатый вол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Др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BF68-94CA-470B-8024-5A99844110AB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экологическую ситуацию в мире можно охарактеризовать как близкую 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тичес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BCBB-07C0-4A41-AA17-3BFD9D9D67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лим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т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соль                                родом из Аме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доры, ты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иво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блонная плодожо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радский ж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ая и черная кры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да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E02E-0C6F-4820-93EF-DFA2B49880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свенное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грязнении среды обитания живых организмов, ее изменении или даже разруш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мер изменения: строительство дорог, новых предприятий, осушение болот, сельскохозяйственное освоение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9D2C-C412-4D96-B8AE-9D236F3A31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уть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86EE-23D4-45EF-AA03-0610082D08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4ac"/>
                </a:solidFill>
                <a:latin typeface="Calibri"/>
              </a:rPr>
              <a:t>Таблиц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ные экологически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BF52-A4E6-419A-A992-B80D631B0E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4ac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0E05-0067-48FF-BD8D-23E03B53F0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 и другие бестопливные источник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сведения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4B2F-A63F-4A72-98CF-31A93CA664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ое падение концентрации озона в озоновом слое Земли ( на высоте около 25 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ыделение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держащ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ре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2435-29F3-4CC8-8C67-FA93EBC72D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садка деревьев, меньшее использование баллончиков,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D575-289E-481C-87B2-8F213B9F9D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B695-A1AE-4B26-9C15-28E3D82018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790-4FA3-43A6-9A9A-B9CD3D12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A15-38DB-4EEA-B75F-6C7776FC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00F-018E-41A7-A105-70C3D00C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0D4-C96A-4761-A342-58B6413F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CCB0-5F0A-45DC-B7F6-66A55CDF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1B54-A5F2-4D56-B730-1AFC69FE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626A-F855-4BEF-BB1B-A40EBFA4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98E4-C906-4142-AEF2-11F575D5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81B9-BC13-458B-944F-B6F4DF22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20E4-972B-413E-8975-887989CF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CF31-FD2E-43D4-AFC6-D4AC6D34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B74-1524-4E51-9070-50CDF057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B964-F941-4D24-A4D4-A58E835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7CF6-B0F9-4806-8AC7-5FC16539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CB66-085A-4781-B943-C37DDC2C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18D8-4843-4EE9-9BB7-CC29E693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8695-4359-4AB9-8920-CFC0AC94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0EE2-BCFF-42BB-8660-8AAE731D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0199-17EC-47F7-ACCD-29FAF026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58CD-0D32-4787-B448-D0F1C0E2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2580-2E66-4801-837E-855F3CE4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309F-8946-427A-961F-49E2E7E1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92C-2FF6-4A8C-B92E-E16DC7F6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D9F3-825F-482F-9824-F26221E5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2C633-C460-46BB-9090-7066F29F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BD6C-C0A8-49BE-8EEB-6B8467CA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86134-C18F-424C-A57E-353348A7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0762-D980-4C28-BB3F-904C8F08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A6B0-2F15-4D5F-81FF-7AC7863C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D5AB-7C49-4B8B-990D-7085D692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7F3D-E1FF-4B94-A2DB-60ED1F9F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626DD-9845-4364-8819-47193812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BF05E-0B10-46FF-AD1D-2F38CC85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0F9-4BBF-4843-A88A-5D509F9E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D3F33-1516-432A-AB00-20AF135A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AA3B-514F-44E8-A192-03685B9A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1E3C3-002F-4D8E-8C8E-C44B36F9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749C-68CA-4A65-9FE3-394E60DE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4521-9AB4-4C36-B241-4909FF7D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F97F-66EB-4C58-ADF0-E011D813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A063D-1D2E-4486-81A4-BF9909FC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50898-AF27-4B2B-A179-A3847918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B15CD-2FF3-4CE3-BD14-9777718B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B27AE-EEB7-4334-9E7F-F2F77AB7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CAF-200A-4679-8C65-254417D3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BE4C3-9563-4B3B-AC16-D2ED434F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983D4-5B7A-423E-A640-95094B59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54BE0-D14D-4AC3-9A71-445E8370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2AE76-033B-4FDE-9502-14B93CC4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29C1C-4766-421E-ACE3-1AA7CA74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24502-EBDD-499E-A04B-6EBCDB24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7139-213F-4B4E-856F-ED650CD6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213F-1163-4827-81DB-DA0233A9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2371B-2479-4495-858A-93513995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B23CF-2DD3-4C9F-AB4F-AE0DE9DF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D9F-1F13-4E85-BE2E-E06246BA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CCC02-5605-4135-B824-3E5D4232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C94D8-9616-4BC0-AF41-758E80B6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46420-64BA-402B-9DA5-0CD5B837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4C172-8E84-434C-999D-60DA3D8F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5FE1F-49A1-41B5-AA14-20102C54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AEA68-988D-4EAC-B425-101AFD87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CE0E3-8AE1-4EE1-95E8-8B1FF57A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7FA8F-6B66-4C51-87A7-97F36A58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3003F-25CB-403A-9EAE-7C66A3F7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31325-8510-4CFE-9330-5DAAED03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CC2-E02D-44B0-8FA9-F4739113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B1808-8074-4055-94B8-7726D3F9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FC57-9223-40F6-88D0-A256406C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E673A-51F4-49C1-9526-3707294F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1ECDB-F1D9-494E-99C9-3C85BAD1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5F972-28FB-48D0-9FDA-4598A118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4AA25-DA1D-4482-A5E2-DEB34DDB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16AEC-EDA4-46E2-A4DE-139F2429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B3E18-E7DE-4816-A944-BC3DE7B5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BCA22-BED1-4B71-9982-0113F9D3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0B196-D448-467C-8281-F9D6B477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F95-D120-4E26-A584-372597FC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DBE8C-1A04-46B3-982D-0C85C7B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EB76B-C035-492F-A2D2-44356D41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D6DDB-B0C6-45FC-9215-99161278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44146-6787-4021-893E-B91A9CE3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31D6D-10C1-44D8-BAEA-145AA8C2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A91-AE7D-48C1-BC55-8281911B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7EC4-16CE-46AA-AAD8-42F92C3D472F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873B-F12A-4C05-A2AA-0C46F30432E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A438-26E1-4D03-852B-728F3DFA1D97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9B1D-D6C3-4CCC-9AAC-7B82973B748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1315-3DC3-47F7-8380-360355EDB5B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1012-7C86-4390-9038-ED5FC21FE6E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289F-C3AE-4D85-8B59-AB67CC0D50CC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AD48-8F7A-49E7-BC71-78C6F4A9A3A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4F90-8C53-494D-8466-E898EB60E1D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D8D8-01D7-491C-9984-404B724E50D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1C06-9FA2-4A17-B025-E989D68B20E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1C25-5343-4639-B8EA-5C24C2B0EB8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3FC6-0E7D-4305-94B6-24A82D545D84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7485-D364-4C43-AD65-69B18FBB1DE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http://votedeath.ru/wp-content/uploads/2011/04/ekologicheskaya-problema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914400" y="4346640"/>
            <a:ext cx="7821720" cy="283536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28800" y="285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2" descr="&amp;pcy;&amp;ocy;&amp;scy;&amp;lcy;&amp;iecy;&amp;dcy;&amp;scy;&amp;tcy;&amp;vcy;&amp;icy;&amp;yacy; &amp;kcy;&amp;icy;&amp;scy;&amp;lcy;&amp;ocy;&amp;tcy;&amp;ncy;&amp;ycy;&amp;khcy; &amp;dcy;&amp;ocy;&amp;zhcy;&amp;dcy;&amp;iecy;&amp;jcy;"/>
          <p:cNvPicPr/>
          <p:nvPr/>
        </p:nvPicPr>
        <p:blipFill>
          <a:blip r:embed="rId1"/>
          <a:stretch/>
        </p:blipFill>
        <p:spPr>
          <a:xfrm>
            <a:off x="2643120" y="2214720"/>
            <a:ext cx="4929120" cy="44481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ричины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промышленные выбросы, главным образом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Cl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хлопные газ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лектростанц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мышлен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 74% - уголь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57160" y="-36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дкисление водоемов,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ибель отдельных видо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лодородия поч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рироста лес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ути решени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Известкование поч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амена топлива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Энергосбережение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льзование жидких фильтров –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крубберо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кращение выбросов кислотосодержащих вещест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www.vokrugsveta.ru/img/cmn/2007/08/19/001.jpg"/>
          <p:cNvPicPr/>
          <p:nvPr/>
        </p:nvPicPr>
        <p:blipFill>
          <a:blip r:embed="rId1"/>
          <a:stretch/>
        </p:blipFill>
        <p:spPr>
          <a:xfrm>
            <a:off x="6072120" y="285840"/>
            <a:ext cx="287964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900igr.net/datas/ekologija/Okean/0011-011-Osnovnye-puti-zagrjaznenija-gidrosfer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http://www.zdorovieinfo.ru/upload/images/dirty-water-02.jpg"/>
          <p:cNvPicPr/>
          <p:nvPr/>
        </p:nvPicPr>
        <p:blipFill>
          <a:blip r:embed="rId1"/>
          <a:stretch/>
        </p:blipFill>
        <p:spPr>
          <a:xfrm>
            <a:off x="4552920" y="4505400"/>
            <a:ext cx="4591080" cy="23526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3200"/>
            </a:b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mosrate.ru/articles/soil.jpg"/>
          <p:cNvPicPr/>
          <p:nvPr/>
        </p:nvPicPr>
        <p:blipFill>
          <a:blip r:embed="rId1"/>
          <a:stretch/>
        </p:blipFill>
        <p:spPr>
          <a:xfrm>
            <a:off x="6500880" y="11430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Загрязнение почв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28800" y="1356840"/>
            <a:ext cx="69292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величение химических веществ в почв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сновные источники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и тяжелых металлов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фтепродукты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естициды – вещества для борьбы с вредителями и сорняками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хоронения радиоактивных вещест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ранспорт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http://www.soil-science.ru/im/l06.jpg"/>
          <p:cNvPicPr/>
          <p:nvPr/>
        </p:nvPicPr>
        <p:blipFill>
          <a:blip r:embed="rId1"/>
          <a:stretch/>
        </p:blipFill>
        <p:spPr>
          <a:xfrm>
            <a:off x="714240" y="3357720"/>
            <a:ext cx="8116920" cy="2903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42960" y="2858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Гибель флоры и фаун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Эрозия поч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егумификация (разрушение гумуса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торичное засоле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Решение проблемы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4" name="Picture 2" descr="http://geotec.com.ua/img/pic/pressa-7.png"/>
          <p:cNvPicPr/>
          <p:nvPr/>
        </p:nvPicPr>
        <p:blipFill>
          <a:blip r:embed="rId1"/>
          <a:stretch/>
        </p:blipFill>
        <p:spPr>
          <a:xfrm>
            <a:off x="2286000" y="3616200"/>
            <a:ext cx="471492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42884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ямое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Вырубка лес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Истребление видов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Акклиматизац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Истребление животных: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0" name="Picture 2" descr="http://smoking-room.ru/data/pnp/anim_mort7.jpg"/>
          <p:cNvPicPr/>
          <p:nvPr/>
        </p:nvPicPr>
        <p:blipFill>
          <a:blip r:embed="rId1"/>
          <a:stretch/>
        </p:blipFill>
        <p:spPr>
          <a:xfrm>
            <a:off x="500040" y="250020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http://ianimal.ru/wp-content/uploads/2011/02/stellerova-korova12-620x620.jpg"/>
          <p:cNvPicPr/>
          <p:nvPr/>
        </p:nvPicPr>
        <p:blipFill>
          <a:blip r:embed="rId2"/>
          <a:stretch/>
        </p:blipFill>
        <p:spPr>
          <a:xfrm>
            <a:off x="4786200" y="2276640"/>
            <a:ext cx="3786480" cy="2714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cdn.zoopicture.ru/wp-content/uploads/2009/07/Thylacinus.jpg"/>
          <p:cNvPicPr/>
          <p:nvPr/>
        </p:nvPicPr>
        <p:blipFill>
          <a:blip r:embed="rId3"/>
          <a:stretch/>
        </p:blipFill>
        <p:spPr>
          <a:xfrm>
            <a:off x="5167440" y="4214880"/>
            <a:ext cx="3976560" cy="2457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501040" cy="5221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реди них: - дикий тур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теллерова коро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умчатый вол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Дронт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И др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8" descr="http://ic.pics.livejournal.com/rootsmanilov/19710611/744509/744509_original.jpg"/>
          <p:cNvPicPr/>
          <p:nvPr/>
        </p:nvPicPr>
        <p:blipFill>
          <a:blip r:embed="rId4"/>
          <a:stretch/>
        </p:blipFill>
        <p:spPr>
          <a:xfrm>
            <a:off x="2714760" y="4381560"/>
            <a:ext cx="3000240" cy="2476440"/>
          </a:xfrm>
          <a:prstGeom prst="rect">
            <a:avLst/>
          </a:prstGeom>
          <a:ln w="0">
            <a:noFill/>
          </a:ln>
        </p:spPr>
      </p:pic>
      <p:sp>
        <p:nvSpPr>
          <p:cNvPr id="435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400" y="285480"/>
            <a:ext cx="777240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егодня экологическую ситуацию в мире можно охарактеризовать как близкую к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критической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785880" y="1285920"/>
            <a:ext cx="7794720" cy="49356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Растения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укуруза                   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Фасоль                                родом из Амер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артофель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мидоры, тык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Животные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Яблонная плодожор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лорадский жу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ерая и черная крыс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ндатр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Акклиматизация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Правая фигурная скобка 3"/>
          <p:cNvSpPr/>
          <p:nvPr/>
        </p:nvSpPr>
        <p:spPr>
          <a:xfrm>
            <a:off x="3143160" y="1785960"/>
            <a:ext cx="142920" cy="14288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428840"/>
              <a:gd name="textAreaBottom" fmla="*/ 142524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118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8" descr="http://zaschita-rastenij.ru/wp-content/uploads/2012/01/YAblonnaya-plodozhorka.jpg"/>
          <p:cNvPicPr/>
          <p:nvPr/>
        </p:nvPicPr>
        <p:blipFill>
          <a:blip r:embed="rId1"/>
          <a:stretch/>
        </p:blipFill>
        <p:spPr>
          <a:xfrm>
            <a:off x="3571920" y="26431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http://www.tepid.ru/images/muskrat3.jpg"/>
          <p:cNvPicPr/>
          <p:nvPr/>
        </p:nvPicPr>
        <p:blipFill>
          <a:blip r:embed="rId2"/>
          <a:stretch/>
        </p:blipFill>
        <p:spPr>
          <a:xfrm>
            <a:off x="5851440" y="4429080"/>
            <a:ext cx="3292560" cy="2428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upload.wikimedia.org/wikipedia/commons/thumb/8/8c/Leptinotarsa_fg03.jpg/240px-Leptinotarsa_fg03.jpg"/>
          <p:cNvPicPr/>
          <p:nvPr/>
        </p:nvPicPr>
        <p:blipFill>
          <a:blip r:embed="rId3"/>
          <a:stretch/>
        </p:blipFill>
        <p:spPr>
          <a:xfrm>
            <a:off x="6215040" y="1833480"/>
            <a:ext cx="2643120" cy="176220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http://900igr.net/datai/biologija/Ekologicheskie-faktory/0018-017-Unichtozhenie-lesov.png"/>
          <p:cNvPicPr/>
          <p:nvPr/>
        </p:nvPicPr>
        <p:blipFill>
          <a:blip r:embed="rId1"/>
          <a:stretch/>
        </p:blipFill>
        <p:spPr>
          <a:xfrm>
            <a:off x="5533920" y="3786120"/>
            <a:ext cx="3610080" cy="28861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1eeff"/>
                </a:solidFill>
                <a:uFillTx/>
                <a:latin typeface="Consolas"/>
              </a:rPr>
              <a:t>Косвенное влия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57120" y="857160"/>
            <a:ext cx="7158240" cy="54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ключается в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загрязнении среды обитания живых организмов, ее изменении или даже разрушен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Пример изменения: строительство дорог, новых предприятий, </a:t>
            </a: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осушение болот,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сельскохозяйственное освоение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6" name="Picture 4" descr="http://www.riarealty.ru/images/39737/69/397376917.jpg"/>
          <p:cNvPicPr/>
          <p:nvPr/>
        </p:nvPicPr>
        <p:blipFill>
          <a:blip r:embed="rId2"/>
          <a:stretch/>
        </p:blipFill>
        <p:spPr>
          <a:xfrm>
            <a:off x="785880" y="4286160"/>
            <a:ext cx="4095720" cy="22100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Путь устойчивого развит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rbel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6" descr="http://line.nts.su/8V83/1%20%D1%81%D0%B5%D0%BC%D0%B5%D1%81%D1%82%D1%80/%D0%AD%D0%BA%D0%BE%D0%BB%D0%BE%D0%B3%D0%B8%D1%8F/%D0%AD%D0%BA%D0%BE%D0%BB%D0%BE%D0%B3%D0%B8%D1%8F/pic_15_0.PN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4468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http://5klass.net/datas/ekologija/Ekologija-i-ekologicheskaja-bezopasnost/0005-005-Globalnye-ekologicheskie-proble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Таблица: </a:t>
            </a:r>
            <a:r>
              <a:rPr b="1" lang="ru-RU" sz="4000" spc="-1" strike="noStrike">
                <a:solidFill>
                  <a:srgbClr val="ffffff"/>
                </a:solidFill>
                <a:latin typeface="Consolas"/>
              </a:rPr>
              <a:t>«Основные экологические проблемы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00080" y="2857680"/>
          <a:ext cx="7500960" cy="1819080"/>
        </p:xfrm>
        <a:graphic>
          <a:graphicData uri="http://schemas.openxmlformats.org/drawingml/2006/table">
            <a:tbl>
              <a:tblPr/>
              <a:tblGrid>
                <a:gridCol w="1379520"/>
                <a:gridCol w="2067120"/>
                <a:gridCol w="2179440"/>
                <a:gridCol w="1874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Характеристика и прич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лед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ути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7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арниковый эффект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356840"/>
            <a:ext cx="7772400" cy="49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928800" y="28584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ономия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нечные  и другие бестопливные источники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кращение сведения лесо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зоновые ды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57160" y="1285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окальное падение концентрации озона в озоновом слое Земли ( на высоте около 25 к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rbel"/>
              </a:rPr>
              <a:t>Причина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выделение С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 –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r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содержащих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фреонов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http://ecotechblog.ru/wp-content/uploads/2011/02/ecotech005.jpg"/>
          <p:cNvPicPr/>
          <p:nvPr/>
        </p:nvPicPr>
        <p:blipFill>
          <a:blip r:embed="rId1"/>
          <a:stretch/>
        </p:blipFill>
        <p:spPr>
          <a:xfrm>
            <a:off x="785880" y="2728800"/>
            <a:ext cx="7810560" cy="3710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 посадка деревьев, меньшее использование баллончиков, аэрозолей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nsolas"/>
              </a:rPr>
              <a:t>Кислотные дожд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http://www.ecoanaliz.ru/images/stories/acidrain.jpg"/>
          <p:cNvPicPr/>
          <p:nvPr/>
        </p:nvPicPr>
        <p:blipFill>
          <a:blip r:embed="rId2"/>
          <a:stretch/>
        </p:blipFill>
        <p:spPr>
          <a:xfrm>
            <a:off x="571680" y="1285920"/>
            <a:ext cx="8358120" cy="53258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8:40:25Z</dcterms:created>
  <dc:creator>админ</dc:creator>
  <dc:description/>
  <dc:language>en-US</dc:language>
  <cp:lastModifiedBy>LEGION</cp:lastModifiedBy>
  <dcterms:modified xsi:type="dcterms:W3CDTF">2015-05-06T08:39:54Z</dcterms:modified>
  <cp:revision>22</cp:revision>
  <dc:subject/>
  <dc:title>Глобальные экологические проблемы</dc:title>
</cp:coreProperties>
</file>