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A3D4-EB78-42D5-833A-15318BC263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лобальные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7862-8FC1-42FB-9F29-3561085624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различные виды атмосферных  осадков (дождь, град, снег, туман, роса) с кислотностью выше н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94E8-889B-4E28-BAE2-7947203623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мышленные выбросы, главным образо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лопн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ые ко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74% - угольные ко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068A-95FE-4E65-92C8-C2BAA9B5DB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кисление водоем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ель отдельных вид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плодородия поч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прироста л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ти ре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весткование поч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на топл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осбере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жидких фильтров –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круббе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выбросов кислотосодержащ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5155-3F97-48A7-85A3-E6A5991C0F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едств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ибель флоры и фауны Мирового океан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опление в организме животных вредных веществ , которые затем попадут в организм человека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ширить международное сотрудничество и взаимопомощ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уществлять государственный контроль за состоянием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CCCC-C8F0-4E33-8BCF-78A8C0CE6A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поч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химических веществ в поч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и тяжелых метал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епроду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стициды – вещества для борьбы с вредителями и сорняк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оронения радиоактив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EF2D-8BBB-4E72-9968-259AE73DDF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ибель флоры и фа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розия поч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гумификация (разрушение гумус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ое засо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360B-EC33-4301-AE05-92536D73F8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шени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ы об охране и использовании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ие и сохранение верхнего слоя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игание мусора на специальных заво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6856-1A1D-4DBB-9E74-0791AD31B9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человека на растительный и животный ми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ырубка л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стребление ви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ккли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отных и растений, т.е. их завоз на территории, где они раньше не встречались с целью приспособления к новым климатическим условиям  и включения в сложившиеся биоцен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мысе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зъятие животных из природы путем отлова добычи ( пушной, рыболовство, промысел крабов, устриц, жемчужниц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9C10-6C6B-41A6-95C1-E7BDB35E1F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ление животн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600 г. исчезло 83 вида Млекопитающих, 113 видов птиц, 21 вид рептилий, 23 вида рыб и более 384 видов высших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них: - дикий 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Стеллерова ко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Сумчатый вол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Дро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7987-CF12-466F-85D1-3809F4BFBE26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экологическую ситуацию в мире можно охарактеризовать как близкую 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ритичес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359C-C114-4D12-8577-702913D270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лим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т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уруза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соль                                родом из Аме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ф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доры, ты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Живо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блонная плодожо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радский ж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ая и черная кры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дат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2DE1-D713-4A7B-85FB-C83827F4EB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свенное вли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грязнении среды обитания живых организмов, ее изменении или даже разруш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мер изменения: строительство дорог, новых предприятий, осушение болот, сельскохозяйственное освоение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A5E1-36AF-441C-BF59-A5C524C321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уть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 1992 году в Рио-де-Жанейро (Бразилия) была подписана Международная конвенция о биологическом разнообразии. В ней выражены решимость общими усилиями сохранять и поддерживать богатство всего живого. Удастся ли людям добиться этой цели, покажет будущ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FF05-23D6-487D-AF74-CAA897D7B5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4ac"/>
                </a:solidFill>
                <a:latin typeface="Calibri"/>
              </a:rPr>
              <a:t>Таблиц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сновные экологические пробле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5A3E-581C-4999-8FFC-E1BF6C7B0B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4ac"/>
                </a:solidFill>
                <a:latin typeface="Calibri"/>
              </a:rPr>
              <a:t>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температуры нижних слоёв атмосферы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чины и характерис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антропогенных воз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жигание топлива и промышленные выбросы) содержание углекислого газа, метана, пыли, фторхлоруглеродных соединений  в атмосфере Земли постепенно возрас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8A41-EEA4-4640-ADD5-11F69AA7A7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привести к глобальному изменению климата, таянию ледников и повышению уровня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 и другие бестопливные источники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щение сведения л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DDF4-ED4F-4924-82D9-8FBF0B6B1A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оновые ды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ьное падение концентрации озона в озоновом слое Земли ( на высоте около 25 к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выделение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держащ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ре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оны используются в производстве пористых пластмасс, холодильных установок, газовых баллончиков, в парфюмерии и медицине для создания аэрозо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4CC5-0BE1-44E7-A6B5-4E3CDDA7C9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ультрафиолетовые лучи (УФ) проходят на Землю, а они способны разрушать молекулы белка и ДН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посадка деревьев, меньшее использование баллончиков, аэрозо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939A-ABF3-46EF-B267-4DBF7A154E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45E8-756F-40A9-B08E-12FC2CD5D6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57D4-45FB-4FC8-B103-E839DE9F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6C0-862E-4451-86BF-101989A4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67C-709B-4431-BAA3-110E1DCD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C51-6833-4ED3-A4E7-BEE7A88B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3517-82BC-4F46-A124-281171E5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43D6-2809-4E5E-8212-C4DEFC4D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6E99-6CC8-4B8B-B7A0-9E4797FB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C35C-2538-4889-A222-2A8D8596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4F53-348E-463C-81F6-FC60B6CF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9722-48BC-4410-8ED2-026E5135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34EF-D58E-4D9E-AB32-FC40D4D0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0D6-317D-4470-AC3F-401D9C37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5B90-2C2F-40C4-9560-079BA07D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51CB-51A1-46F1-8AB8-F878688C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8864-6933-43C0-B873-2EBC963D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2B4C-092F-411C-8633-A0AF0505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4334-8174-4DCB-80A0-57F9AAC0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4AD72-A63C-4140-A584-ABC3824F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5BA28-9EAB-496B-82FB-ED140D6C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4061-A3FA-4F12-9F9C-3DD8AF60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EC5E1-505E-444C-865C-3D9AF169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2E6D4-A6F9-4AEB-BB90-E3EE1607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1D1-5D01-4971-9137-A1781B11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5A586-9F1C-43C0-8BE1-3870E3B8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5013F-919A-423C-BDF1-CDCC3022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2A39-0765-4D44-94E8-81DC986E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963B9-22CF-44CE-9BE2-6F7B8A9E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5D95F-9F5F-42DC-A1E0-121B343F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F8A2B-B45B-43FA-B69C-F4F37D9C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8C61A-1491-460F-81FB-4C806915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96432-7D4A-49DD-834E-9B9496C1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9FE8-2300-49C8-B909-CC4F92F2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D43CA-B6A3-4655-B84B-0A6A9CE1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0A0-69DF-4397-9200-75E3051C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618CA-FB73-40A6-9A2D-B5FA6F48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CAC26-76C6-4476-96C9-6E5A8FFE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40717-84D9-4F50-A283-3C964467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9E856-AC92-4E6D-B01E-BC1B481A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D6665-1C9F-4F81-8EF6-6040D9D1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11524-5C25-44D8-8BB8-8AD3DAD5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CF7F6-E8C5-4C68-B4CF-01DA95C5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0673E-00AA-4289-BD68-74244A3B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CADFB-3BD3-416E-B051-CCD3895D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474F4-C32B-4FA6-AABE-817F543B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A1D-6C07-47B6-A948-4FEC0666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70265-FDDC-4E37-9EC4-6CD36830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CA244-57F7-45A7-ABA5-2FA275C7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F67A2-85E1-44F2-A4AE-D200F762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E8868-574E-48A8-B2FE-36B6DA5F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DF097-97C0-4528-BD51-BA5E1B08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91459-9850-477D-9C85-6D0FF554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113E1-0E17-4A55-A74D-6F66D244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57772-D2F8-43B6-8F66-6977A3FA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D9E81-38DE-4A13-857B-454AD183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5455F-1679-4E3E-B825-2FF53E1F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B21-7351-44C7-94FD-9FEE307D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F32E3-DD1B-4EE8-AA99-AC40DC35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92FBA-26FB-4396-85E0-D78D0711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5E088-7E67-4D89-BB68-0CEC6CB3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DB116-B432-48D2-BF32-A6B9CF04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B9709-D899-46D6-9546-F4128A6E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9939F-DAD1-4650-945E-203F7EE4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00BD8-7D71-459E-A2FB-0F19FBDF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EAEA4-9DB3-4ACF-B304-C373B628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FE0EC-F048-478E-A2E4-C31D64D9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F6288-4B3A-4964-AFE1-F241B004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22D-F6DC-4BC3-8F30-456D8651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C392F-9872-4676-BB01-2EE85267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2A36D-DBFF-4F36-BDA7-BAC07A12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4BA66-6EAE-4C01-BD67-539172FE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140A9-5B7E-4A82-BCFD-44B219B8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63B2F-31A7-4012-AC62-759AAFD7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474EF-4295-4332-9C39-976DC735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FCC20-DB25-43E0-98AF-AC51A1B7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122B7-3710-401A-8F07-F65908F9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65F9B-E6DD-4945-89D1-443CCE17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A3A11-B42B-40BC-9001-58542965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17E-7334-4446-9582-1A2F2D32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BFB8A-52D4-4C2A-9423-E8FA214F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2C3A2-C4FB-48C2-A1EF-E4EBD877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1A964-1CE0-4227-ACF0-ED5A2911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02BED-0A0F-4427-B214-B2BBAAAF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0146A-AAD7-4DC4-A5E5-9B04D710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894-69C2-4A64-9657-75D12B4E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9C85-4DC7-46DB-B1DA-6887464BE92C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8BEF-872D-4FC4-AFF4-05F7E6558DB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7D73-97AA-47F5-B709-F8DD8CD59EC7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75E0-5744-4736-906F-414E4E228B5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7BF6-E3A5-4C27-9502-810E93F3CA33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3675-BFB6-4BC3-AACE-E0D078B319C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1941-0769-411F-BAB9-4765A4CA1ECF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FCD9-FFA0-48ED-9730-9133B51CA39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6E66-329E-42C4-AE16-8E4BAB231CAA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6AF3-09B6-4569-8634-6DA4615A704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69F2-2208-4178-9835-FB8CC4EF9A0B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A5A3-EAC1-4C23-B12C-9B712C4E462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ADF4-1A53-4FF5-8F9B-D7E03654E899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86CD-55B3-424C-86BB-D047C8D79F9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http://votedeath.ru/wp-content/uploads/2011/04/ekologicheskaya-problema.jpg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pic>
        <p:nvPicPr>
          <p:cNvPr id="376" name="Заголовок 1" descr=""/>
          <p:cNvPicPr/>
          <p:nvPr/>
        </p:nvPicPr>
        <p:blipFill>
          <a:blip r:embed="rId2"/>
          <a:stretch/>
        </p:blipFill>
        <p:spPr>
          <a:xfrm>
            <a:off x="914400" y="4346640"/>
            <a:ext cx="7821720" cy="283536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928800" y="285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едставляют собой различные виды атмосферных  осадков (дождь, град, снег, туман, роса) с кислотностью выше нормы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2" descr="&amp;pcy;&amp;ocy;&amp;scy;&amp;lcy;&amp;iecy;&amp;dcy;&amp;scy;&amp;tcy;&amp;vcy;&amp;icy;&amp;yacy; &amp;kcy;&amp;icy;&amp;scy;&amp;lcy;&amp;ocy;&amp;tcy;&amp;ncy;&amp;ycy;&amp;khcy; &amp;dcy;&amp;ocy;&amp;zhcy;&amp;dcy;&amp;iecy;&amp;jcy;"/>
          <p:cNvPicPr/>
          <p:nvPr/>
        </p:nvPicPr>
        <p:blipFill>
          <a:blip r:embed="rId1"/>
          <a:stretch/>
        </p:blipFill>
        <p:spPr>
          <a:xfrm>
            <a:off x="2643120" y="2214720"/>
            <a:ext cx="4929120" cy="444816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914400" y="713880"/>
            <a:ext cx="7772400" cy="56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Причины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промышленные выбросы, главным образом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Cl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хлопные газ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лектростанц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мышленные котельны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 74% - угольные котельны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857160" y="-36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Следствия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дкисление водоемов,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ибель отдельных видов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нижение плодородия почв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нижение прироста лесо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ути решени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Известкование почв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Замена топлива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Энергосбережение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спользование жидких фильтров –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скрубберов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окращение выбросов кислотосодержащих вещест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2" descr="http://www.vokrugsveta.ru/img/cmn/2007/08/19/001.jpg"/>
          <p:cNvPicPr/>
          <p:nvPr/>
        </p:nvPicPr>
        <p:blipFill>
          <a:blip r:embed="rId1"/>
          <a:stretch/>
        </p:blipFill>
        <p:spPr>
          <a:xfrm>
            <a:off x="6072120" y="285840"/>
            <a:ext cx="2879640" cy="33051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900igr.net/datas/ekologija/Okean/0011-011-Osnovnye-puti-zagrjaznenija-gidrosfer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http://www.zdorovieinfo.ru/upload/images/dirty-water-02.jpg"/>
          <p:cNvPicPr/>
          <p:nvPr/>
        </p:nvPicPr>
        <p:blipFill>
          <a:blip r:embed="rId1"/>
          <a:stretch/>
        </p:blipFill>
        <p:spPr>
          <a:xfrm>
            <a:off x="4552920" y="4505400"/>
            <a:ext cx="4591080" cy="23526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ледстви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ибель флоры и фауны Мирового океан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опление в организме животных вредных веществ , которые затем попадут в организм человека.</a:t>
            </a:r>
            <a:br>
              <a:rPr sz="3200"/>
            </a:b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ш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расширить международное сотрудничество и взаимопомощ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существлять государственный контроль за состоянием среды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mosrate.ru/articles/soil.jpg"/>
          <p:cNvPicPr/>
          <p:nvPr/>
        </p:nvPicPr>
        <p:blipFill>
          <a:blip r:embed="rId1"/>
          <a:stretch/>
        </p:blipFill>
        <p:spPr>
          <a:xfrm>
            <a:off x="6500880" y="11430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Загрязнение почв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28800" y="1356840"/>
            <a:ext cx="69292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величение химических веществ в почве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сновные источники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ли тяжелых металлов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ефтепродукты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естициды – вещества для борьбы с вредителями и сорняками;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хоронения радиоактивных вещест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ранспорт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http://www.soil-science.ru/im/l06.jpg"/>
          <p:cNvPicPr/>
          <p:nvPr/>
        </p:nvPicPr>
        <p:blipFill>
          <a:blip r:embed="rId1"/>
          <a:stretch/>
        </p:blipFill>
        <p:spPr>
          <a:xfrm>
            <a:off x="714240" y="3357720"/>
            <a:ext cx="8116920" cy="2903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42960" y="28584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Следствие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Гибель флоры и фаун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Эрозия поч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егумификация (разрушение гумуса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торичное засолени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914400" y="214200"/>
            <a:ext cx="7772400" cy="61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Решение проблемы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ы об охране и использовании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ятие и сохранение верхнего слоя земл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жигание мусора на специальных заводах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циональное использовани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4" name="Picture 2" descr="http://geotec.com.ua/img/pic/pressa-7.png"/>
          <p:cNvPicPr/>
          <p:nvPr/>
        </p:nvPicPr>
        <p:blipFill>
          <a:blip r:embed="rId1"/>
          <a:stretch/>
        </p:blipFill>
        <p:spPr>
          <a:xfrm>
            <a:off x="2286000" y="3616200"/>
            <a:ext cx="4714920" cy="32418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Влияние человека на растительный и животный мир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428840"/>
            <a:ext cx="77724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рямое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 Вырубка лес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 Истребление видов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Акклиматизация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животных и растений, т.е. их завоз на территории, где они раньше не встречались с целью приспособления к новым климатическим условиям  и включения в сложившиеся биоценозы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ромысел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– изъятие животных из природы путем отлова добычи ( пушной, рыболовство, промысел крабов, устриц, жемчужниц и т.д.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Истребление животных: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0" name="Picture 2" descr="http://smoking-room.ru/data/pnp/anim_mort7.jpg"/>
          <p:cNvPicPr/>
          <p:nvPr/>
        </p:nvPicPr>
        <p:blipFill>
          <a:blip r:embed="rId1"/>
          <a:stretch/>
        </p:blipFill>
        <p:spPr>
          <a:xfrm>
            <a:off x="500040" y="2500200"/>
            <a:ext cx="3809880" cy="2266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http://ianimal.ru/wp-content/uploads/2011/02/stellerova-korova12-620x620.jpg"/>
          <p:cNvPicPr/>
          <p:nvPr/>
        </p:nvPicPr>
        <p:blipFill>
          <a:blip r:embed="rId2"/>
          <a:stretch/>
        </p:blipFill>
        <p:spPr>
          <a:xfrm>
            <a:off x="4786200" y="2276640"/>
            <a:ext cx="3786480" cy="2714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http://cdn.zoopicture.ru/wp-content/uploads/2009/07/Thylacinus.jpg"/>
          <p:cNvPicPr/>
          <p:nvPr/>
        </p:nvPicPr>
        <p:blipFill>
          <a:blip r:embed="rId3"/>
          <a:stretch/>
        </p:blipFill>
        <p:spPr>
          <a:xfrm>
            <a:off x="5167440" y="4214880"/>
            <a:ext cx="3976560" cy="2457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501040" cy="52214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 1600 г. исчезло 83 вида Млекопитающих, 113 видов птиц, 21 вид рептилий, 23 вида рыб и более 384 видов высших растений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реди них: - дикий тур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Стеллерова коров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Сумчатый волк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Дронт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И др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8" descr="http://ic.pics.livejournal.com/rootsmanilov/19710611/744509/744509_original.jpg"/>
          <p:cNvPicPr/>
          <p:nvPr/>
        </p:nvPicPr>
        <p:blipFill>
          <a:blip r:embed="rId4"/>
          <a:stretch/>
        </p:blipFill>
        <p:spPr>
          <a:xfrm>
            <a:off x="2714760" y="4381560"/>
            <a:ext cx="3000240" cy="2476440"/>
          </a:xfrm>
          <a:prstGeom prst="rect">
            <a:avLst/>
          </a:prstGeom>
          <a:ln w="0">
            <a:noFill/>
          </a:ln>
        </p:spPr>
      </p:pic>
      <p:sp>
        <p:nvSpPr>
          <p:cNvPr id="435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14400" y="285480"/>
            <a:ext cx="7772400" cy="60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егодня экологическую ситуацию в мире можно охарактеризовать как близкую к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критической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785880" y="1285920"/>
            <a:ext cx="7794720" cy="493560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Corbel"/>
              </a:rPr>
              <a:t>Растения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укуруза                   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Фасоль                                родом из Амер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артофель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мидоры, тыкв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Corbel"/>
              </a:rPr>
              <a:t>Животные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Яблонная плодожорк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олорадский жук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ерая и черная крыс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ндатр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Акклиматизация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Правая фигурная скобка 3"/>
          <p:cNvSpPr/>
          <p:nvPr/>
        </p:nvSpPr>
        <p:spPr>
          <a:xfrm>
            <a:off x="3143160" y="1785960"/>
            <a:ext cx="142920" cy="14288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428840"/>
              <a:gd name="textAreaBottom" fmla="*/ 142524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16200" y="10800"/>
                  <a:pt x="21600" y="10800"/>
                </a:cubicBezTo>
                <a:cubicBezTo>
                  <a:pt x="162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5400" y="21600"/>
                  <a:pt x="0" y="21600"/>
                </a:cubicBezTo>
              </a:path>
            </a:pathLst>
          </a:custGeom>
          <a:noFill/>
          <a:ln w="118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8" descr="http://zaschita-rastenij.ru/wp-content/uploads/2012/01/YAblonnaya-plodozhorka.jpg"/>
          <p:cNvPicPr/>
          <p:nvPr/>
        </p:nvPicPr>
        <p:blipFill>
          <a:blip r:embed="rId1"/>
          <a:stretch/>
        </p:blipFill>
        <p:spPr>
          <a:xfrm>
            <a:off x="3571920" y="26431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http://www.tepid.ru/images/muskrat3.jpg"/>
          <p:cNvPicPr/>
          <p:nvPr/>
        </p:nvPicPr>
        <p:blipFill>
          <a:blip r:embed="rId2"/>
          <a:stretch/>
        </p:blipFill>
        <p:spPr>
          <a:xfrm>
            <a:off x="5851440" y="4429080"/>
            <a:ext cx="3292560" cy="2428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http://upload.wikimedia.org/wikipedia/commons/thumb/8/8c/Leptinotarsa_fg03.jpg/240px-Leptinotarsa_fg03.jpg"/>
          <p:cNvPicPr/>
          <p:nvPr/>
        </p:nvPicPr>
        <p:blipFill>
          <a:blip r:embed="rId3"/>
          <a:stretch/>
        </p:blipFill>
        <p:spPr>
          <a:xfrm>
            <a:off x="6215040" y="1833480"/>
            <a:ext cx="2643120" cy="176220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http://900igr.net/datai/biologija/Ekologicheskie-faktory/0018-017-Unichtozhenie-lesov.png"/>
          <p:cNvPicPr/>
          <p:nvPr/>
        </p:nvPicPr>
        <p:blipFill>
          <a:blip r:embed="rId1"/>
          <a:stretch/>
        </p:blipFill>
        <p:spPr>
          <a:xfrm>
            <a:off x="5533920" y="3786120"/>
            <a:ext cx="3610080" cy="28861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1eeff"/>
                </a:solidFill>
                <a:uFillTx/>
                <a:latin typeface="Consolas"/>
              </a:rPr>
              <a:t>Косвенное влия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57120" y="857160"/>
            <a:ext cx="7158240" cy="54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ключается в </a:t>
            </a: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загрязнении среды обитания живых организмов, ее изменении или даже разрушен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Пример изменения: строительство дорог, новых предприятий, </a:t>
            </a: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осушение болот, </a:t>
            </a: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сельскохозяйственное освоение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6" name="Picture 4" descr="http://www.riarealty.ru/images/39737/69/397376917.jpg"/>
          <p:cNvPicPr/>
          <p:nvPr/>
        </p:nvPicPr>
        <p:blipFill>
          <a:blip r:embed="rId2"/>
          <a:stretch/>
        </p:blipFill>
        <p:spPr>
          <a:xfrm>
            <a:off x="785880" y="4286160"/>
            <a:ext cx="4095720" cy="221004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Путь устойчивого развит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rbel"/>
              </a:rPr>
              <a:t>В 1992 году в Рио-де-Жанейро (Бразилия) была подписана Международная конвенция о биологическом разнообразии. В ней выражены решимость общими усилиями сохранять и поддерживать богатство всего живого. Удастся ли людям добиться этой цели, покажет будущее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6" descr="http://line.nts.su/8V83/1%20%D1%81%D0%B5%D0%BC%D0%B5%D1%81%D1%82%D1%80/%D0%AD%D0%BA%D0%BE%D0%BB%D0%BE%D0%B3%D0%B8%D1%8F/%D0%AD%D0%BA%D0%BE%D0%BB%D0%BE%D0%B3%D0%B8%D1%8F/pic_15_0.PNG"/>
          <p:cNvPicPr/>
          <p:nvPr/>
        </p:nvPicPr>
        <p:blipFill>
          <a:blip r:embed="rId1"/>
          <a:stretch/>
        </p:blipFill>
        <p:spPr>
          <a:xfrm>
            <a:off x="214200" y="214200"/>
            <a:ext cx="8572680" cy="64468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14400" y="214200"/>
            <a:ext cx="7772400" cy="61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Picture 2" descr="http://5klass.net/datas/ekologija/Ekologija-i-ekologicheskaja-bezopasnost/0005-005-Globalnye-ekologicheskie-problem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Таблица: </a:t>
            </a:r>
            <a:r>
              <a:rPr b="1" lang="ru-RU" sz="4000" spc="-1" strike="noStrike">
                <a:solidFill>
                  <a:srgbClr val="ffffff"/>
                </a:solidFill>
                <a:latin typeface="Consolas"/>
              </a:rPr>
              <a:t>«Основные экологические проблемы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00080" y="2857680"/>
          <a:ext cx="7500960" cy="1819080"/>
        </p:xfrm>
        <a:graphic>
          <a:graphicData uri="http://schemas.openxmlformats.org/drawingml/2006/table">
            <a:tbl>
              <a:tblPr/>
              <a:tblGrid>
                <a:gridCol w="1379520"/>
                <a:gridCol w="2067120"/>
                <a:gridCol w="2179440"/>
                <a:gridCol w="1874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Характеристика и прич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ледств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ути реш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17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арниковый эффект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356840"/>
            <a:ext cx="7772400" cy="49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температуры нижних слоёв атмосферы планет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ичины и характеристика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езультате антропогенных воздействий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жигание топлива и промышленные выбросы) содержание углекислого газа, метана, пыли, фторхлоруглеродных соединений  в атмосфере Земли постепенно возрастает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928800" y="285840"/>
            <a:ext cx="77724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Следствие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ожет привести к глобальному изменению климата, таянию ледников и повышению уровня Мирового океан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ути решен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кономия энерг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лнечные  и другие бестопливные источники энерг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екращение сведения лесо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зоновые дыр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57160" y="1285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Локальное падение концентрации озона в озоновом слое Земли ( на высоте около 25 к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rbel"/>
              </a:rPr>
              <a:t>Причина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 выделение С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 –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и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r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содержащих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фреонов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Фреоны используются в производстве пористых пластмасс, холодильных установок, газовых баллончиков, в парфюмерии и медицине для создания аэрозол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http://ecotechblog.ru/wp-content/uploads/2011/02/ecotech005.jpg"/>
          <p:cNvPicPr/>
          <p:nvPr/>
        </p:nvPicPr>
        <p:blipFill>
          <a:blip r:embed="rId1"/>
          <a:stretch/>
        </p:blipFill>
        <p:spPr>
          <a:xfrm>
            <a:off x="785880" y="2728800"/>
            <a:ext cx="7810560" cy="3710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914400" y="713880"/>
            <a:ext cx="7772400" cy="56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Следствие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: ультрафиолетовые лучи (УФ) проходят на Землю, а они способны разрушать молекулы белка и ДНК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Решение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:  посадка деревьев, меньшее использование баллончиков, аэрозолей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nsolas"/>
              </a:rPr>
              <a:t>Кислотные дожд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http://www.ecoanaliz.ru/images/stories/acidrain.jpg"/>
          <p:cNvPicPr/>
          <p:nvPr/>
        </p:nvPicPr>
        <p:blipFill>
          <a:blip r:embed="rId2"/>
          <a:stretch/>
        </p:blipFill>
        <p:spPr>
          <a:xfrm>
            <a:off x="571680" y="1285920"/>
            <a:ext cx="8358120" cy="53258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8:40:25Z</dcterms:created>
  <dc:creator>админ</dc:creator>
  <dc:description/>
  <dc:language>en-US</dc:language>
  <cp:lastModifiedBy>LEGION</cp:lastModifiedBy>
  <dcterms:modified xsi:type="dcterms:W3CDTF">2015-05-06T08:39:54Z</dcterms:modified>
  <cp:revision>22</cp:revision>
  <dc:subject/>
  <dc:title>Глобальные экологические проблемы</dc:title>
</cp:coreProperties>
</file>