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4.png" ContentType="image/png"/>
  <Override PartName="/ppt/media/image1.jpeg" ContentType="image/jpeg"/>
  <Override PartName="/ppt/media/wind.wav" ContentType="audio/x-wav"/>
  <Override PartName="/ppt/media/image7.jpeg" ContentType="image/jpeg"/>
  <Override PartName="/ppt/media/image12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6DF3-EC32-4B9E-99C0-CD8AAB1483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3C7D-E741-406D-ABE4-16CFB0928C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DAB9-A141-4F26-8196-452B67DCD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5AE1-EDA1-4C6E-A334-33256FB1B5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5CF1-454C-4208-990D-09F47E1642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DE22-58ED-49E7-9AB6-64178ACA99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14DE-5AD3-46B8-9068-73F1416226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B83E-D2FA-41F6-B3B3-1A28805AF4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CB38-544A-44A3-BCC6-A976A2DF85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D36D-FF9F-4ADD-B8E0-698666D1CC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BC80-C637-4C43-BC1F-100A61708C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3A0F-5566-4E95-983A-BD74DB31B4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D300-B522-4EB5-8CD9-D263DDB72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E2A6-0094-49FF-A5CF-7194EAF0AA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1B43-944F-4293-B5DE-C63F86FB74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D31B-18CF-4B5A-99D0-0A83F33A87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5286-1CF5-41A2-B46F-ECE60A82C8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355B-7560-4730-BF64-5103443D8E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54AE-2A5E-4596-B721-504224EC03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F34D-DFA1-4649-B665-2582E3376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95D7-D372-4813-A60C-D53AA76F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41A-A053-4BBD-8EEA-1BE0F1E6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BFEF-5568-4BC7-8E56-B5E95365F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91D-267B-452B-A3C0-B8F4A15E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2FF5-A923-46A8-889B-9AB5B4C5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0AB-A8EE-431E-A793-99F72689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1B07-DBB8-4E03-B833-061B694C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4B1A-EF8A-4003-8CAF-B413C397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BE7-5F4C-4591-A005-12292D07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4DA-8422-4E1E-8E87-DF403C28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6CE-4FF3-4291-B2CA-5665E364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747-5A1C-492F-B433-B5A36BFC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426C-C58C-4B8D-9726-614DFE4AB1F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18BD-D88C-4F03-8673-C1DA645BF9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довольственная проблем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1" name="win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Зона, в которой значительная часть населения недополучает необходимое количество калорий, на мировой карте охватывает обширную территорию. Она простирается по обеим сторонам от экватора, включает почти всю Африку к югу от Сахары, Западную Азию, Южную и Юго-Восточную Азию, Карибский бассейн, основную часть Южной Америк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иболее неблагоприятное положение сложилось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в странах аридных и семиаридных областей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занятых сухими саваннами и полупустынями. На этих территориях, отличающихся чрезвычайно низким агроприродным потенциалом, повышенной хрупкостью и пониженной «эластичностью» экосистем, темпы роста населения примерно в 2 раза опережают производство продовольствия, что приводит к резкому снижению подушевого показателя производства продуктов пита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  <p:sndAc>
      <p:stSnd>
        <p:snd r:embed="rId1" name="wind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еография недоедания(голода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райне трудная продовольственная ситуация сохраняется, с одной стороны, в крупных густонаселенных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странах Муссонной Азии.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этом наиболее ущемленными оказываются женщины и дети. В сельских районах некоторых стран Азии женщинам вообще не положено питаться вместе с мужчинами. За стол первыми садятся мужчины, а женщины и дети доедают то, что остаетс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Тропическая Африка -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временный «полюс голода» на планете. Продовольственное положение здесь оценивается  специалистами как критическое. Ситуация осложняется тем, что в силу чрезвычайно низких доходов около 90% жителей проживают за чертой бедност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фоне рассматриваемых регионов несколько лучше питаются жители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Латинской Америки,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и здесь продовольственная проблема достаточно ост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1" name="wind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Региональные типы питан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питании населения слаборазвитых стран, как правило, всегда доминирует какой-либо один продукт, что придает рациону однообразный характер и негативно сказывается на общем состоянии здоровья. Для зоны саванн и Сахеля в Африке наиболее характерны просяные культуры, дающие до 40-50% калорий. В пищевом рационе жителей лесной зоны африканского континента преобладают клубнеплоды – ямс, маниок, батат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c:\Users\Public\Pictures\Sample Pictures\Desert Landscape.jpg"/>
          <p:cNvPicPr/>
          <p:nvPr/>
        </p:nvPicPr>
        <p:blipFill>
          <a:blip r:embed="rId1"/>
          <a:stretch/>
        </p:blipFill>
        <p:spPr>
          <a:xfrm>
            <a:off x="2643120" y="3500280"/>
            <a:ext cx="6000840" cy="3106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C:\Users\user\Desktop\Моя папочка=)))\Школа\2009-04-09, наркомания\наркомания 022.jpg"/>
          <p:cNvPicPr/>
          <p:nvPr/>
        </p:nvPicPr>
        <p:blipFill>
          <a:blip r:embed="rId2"/>
          <a:stretch/>
        </p:blipFill>
        <p:spPr>
          <a:xfrm>
            <a:off x="357120" y="3929040"/>
            <a:ext cx="1928880" cy="242892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  <p:sndAc>
      <p:stSnd>
        <p:snd r:embed="rId3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00040" y="35712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транах Центральной Америки и районах индейского расселения превалирует кукуруза; в Парагвае – маниок; в «банановых» республиках американского перешейка – бананы; на Гаити и Кубе – тростниковый сахар. В странах со сравнительно благополучным продовольственным балансом основу рациона формиру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ше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Users\user\Desktop\Моя папочка=)))\Школа\2009-04-09, наркомания\наркомания 006.jpg"/>
          <p:cNvPicPr/>
          <p:nvPr/>
        </p:nvPicPr>
        <p:blipFill>
          <a:blip r:embed="rId1"/>
          <a:stretch/>
        </p:blipFill>
        <p:spPr>
          <a:xfrm>
            <a:off x="3500280" y="3643200"/>
            <a:ext cx="5267520" cy="28148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Голод и здоровье челове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428640" y="713880"/>
            <a:ext cx="52578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едание особенно пагубно сказывается на здоровье детей до 5 лет. Согласно результатам исследований ВОЗ, это замедляет их не только физическое, но и умственное развитие, а впоследствии отражается и на психическом состоянии. В развивающихся странах ежегодно около 100000 детей теряют зрение вследствие недостатка витамин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редко новорожденные заболевают раньше, чем появляются на свет. Причина тому – анемия у женщин во время беременности, вызываемая хроническим недоеданием и голодом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немия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едствие дефицита в пище железа и фолиевой кислоты- приводит к заметному снижению содержания гемоглобина в крови, т.е. к малокров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C:\Documents and Settings\Аня\Мои документы\Самые простые и эффективные диеты_ - Бесплатно детям,полезно родителям_files\sm-DSCN3948.jpg"/>
          <p:cNvPicPr/>
          <p:nvPr/>
        </p:nvPicPr>
        <p:blipFill>
          <a:blip r:embed="rId1"/>
          <a:stretch/>
        </p:blipFill>
        <p:spPr>
          <a:xfrm>
            <a:off x="285840" y="1785960"/>
            <a:ext cx="3000240" cy="30718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рочный кру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нищета – плохое питание – болезни – низкая производительность труда – нищета»,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 характерный для стран мировой «периферии», ведет к тому, что резко падает трудоспособность занятых в производстве людей, поскольку недоедание обессиливает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C:\Users\user\Desktop\Моя папочка=)))\Школа\2009-04-09, наркомания\наркомания 025.jpg"/>
          <p:cNvPicPr/>
          <p:nvPr/>
        </p:nvPicPr>
        <p:blipFill>
          <a:blip r:embed="rId1"/>
          <a:stretch/>
        </p:blipFill>
        <p:spPr>
          <a:xfrm>
            <a:off x="1214280" y="4572000"/>
            <a:ext cx="6534360" cy="16876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wind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7030a0"/>
                </a:solidFill>
                <a:latin typeface="Calibri"/>
              </a:rPr>
              <a:t>Причины гол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а голода теснейшим образом взаимосвязана с проблемой отсталости стр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ельное влияние на масштабы голода в современном мире оказывает неконтролируемый рост населения в развивающихся стран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 непосредственным образом на продовольственном положении в развивающихся странах сказываются высокие темпы урб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ы развивающегося мира занимают крайне невыгодные  позиции в рамках международных экономических отношени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льзя сбрасывать со счетов и последствия экологических кризи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  <p:sndAc>
      <p:stSnd>
        <p:snd r:embed="rId1" name="wind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так, реальное положение с питанием населения слаборазвитых стран свидетельствует о невероятной сложности продовольственной проблемы. Можно, конечно, рассуждать о теоретическом продовольственном потенциале Земли, об удвоении и даже утроении посевных площадей, о применении человечеством в пищу хлореллы или разведении плантаций на дне океанов… однако суровая действительность напоминает, что всё съедобное, что производит человечество, в конечном счете потребляется и при этом фактически более миллиарда людей постоянно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доедают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er\Desktop\Моя папочка=)))\Школа\2009-04-09, наркомания\наркомания 001.jpg"/>
          <p:cNvPicPr/>
          <p:nvPr/>
        </p:nvPicPr>
        <p:blipFill>
          <a:blip r:embed="rId1"/>
          <a:stretch/>
        </p:blipFill>
        <p:spPr>
          <a:xfrm>
            <a:off x="3429000" y="3714840"/>
            <a:ext cx="5580000" cy="29923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2" name="wind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500040" y="64296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но надеяться, что человечество в обозримом будущем искоренит голод, если не научится контролировать свою численность, не решит экономические, технические и экологические вопросы модернизации сельского хозяйства. При этом  речь идет о комплексном решении все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C:\Users\user\Desktop\Моя папочка=)))\Школа\2009-04-09, наркомания\наркомания 016.jpg"/>
          <p:cNvPicPr/>
          <p:nvPr/>
        </p:nvPicPr>
        <p:blipFill>
          <a:blip r:embed="rId1"/>
          <a:stretch/>
        </p:blipFill>
        <p:spPr>
          <a:xfrm>
            <a:off x="1214280" y="3143160"/>
            <a:ext cx="6632640" cy="33163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пищу, используемую человеком для поддержания жизнедеятельности, считают в тоже время продуктом его общей культур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многие страны Востока и Запада давно уже достигли продовольственного изобилия. Что в таком случае придает продовольственной проблеме глобальное звучан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е открытия на стыке медицины и археологии опровергают представления о «плотоядности» наших далеких предков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ими двумя критериями определяются в первую очередь качество питания человека и какого рода связь существует между ним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мировым «полюсом голода « обычно считают Африку южнее Сахары, несмотря на то, что по абсолютной численности голодающих первенство удерживают страны Муссонной Ази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о, что границы региональных типов питания не совпадают с границами отдельных государств. Какую пищу для размышлений географу дает подобная ситуаци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wi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авный смысл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глобальной продовольственной проблемы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ется в опережающем росте численности населения по сравнению с ростом производства продуктов пита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wind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обальная проблема обуславливае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численности голодающих и недоедающих в мире, а также ухудшение психофизического состояния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ост антропогенной нагрузки на сельскохозяйственные ландшафты и постепенное истощение традиционных резервов аграрного с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удовлетворительное качество пищевого рациона в подавляющем большинстве государ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ертывание усилий человечества в области генной инженерии для решения продовольственной пробл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еличение конфликтности в ми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wind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фицит продовольствия обычно воспринимается как бедств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его отсутствие – как катастроф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статок и отсутств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довольствия приводят к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личным формам проявления продовольственного кризис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доедани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полноценному питанию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 к настоящему гол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Desktop\Моя папочка=)))\Школа\2009-04-09, наркомания\наркомания 021.jpg"/>
          <p:cNvPicPr/>
          <p:nvPr/>
        </p:nvPicPr>
        <p:blipFill>
          <a:blip r:embed="rId1"/>
          <a:stretch/>
        </p:blipFill>
        <p:spPr>
          <a:xfrm>
            <a:off x="428760" y="1928880"/>
            <a:ext cx="3214440" cy="32194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  <p:sndAc>
      <p:stSnd>
        <p:snd r:embed="rId2" name="wind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анным Продовольственной и сельскохозяйственной организации ООН (ФАО). На планете систематически голодают около 500000000 человек. А около 1000000000 человек испытывают явный недостаток пищ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99800"/>
            <a:ext cx="404028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999800"/>
            <a:ext cx="40417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7" descr=""/>
          <p:cNvPicPr/>
          <p:nvPr/>
        </p:nvPicPr>
        <p:blipFill>
          <a:blip r:embed="rId1"/>
          <a:stretch/>
        </p:blipFill>
        <p:spPr>
          <a:xfrm>
            <a:off x="457200" y="2176560"/>
            <a:ext cx="4041720" cy="394956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8" descr=""/>
          <p:cNvPicPr/>
          <p:nvPr/>
        </p:nvPicPr>
        <p:blipFill>
          <a:blip r:embed="rId2"/>
          <a:stretch/>
        </p:blipFill>
        <p:spPr>
          <a:xfrm>
            <a:off x="4645080" y="2176560"/>
            <a:ext cx="4041720" cy="39495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wind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Источники питания в прошлом и сейча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ротяжении длительной истории человечество существенно изменило свое меню. Первобытные люди питались пищей почти исключительно растительного происхождения. Важным дополнением к их вегетарианскому «столу»  служили яйца, моллюски, мелкие животные.  Постепенный переход к охоте и рыболовству знаменовал собой важный этап расширения пищевых ресурсов человечества. Со временем пища делалась более разнообразной. Стала возрастать роль животных как источников более высококачественной пищи. Возрастание в пищевом рационе доли продуктов животного происхождения характерно для процветающих в экономическом отношении государст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  <p:sndAc>
      <p:stSnd>
        <p:snd r:embed="rId1" name="wind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Качество питания: нормы и факт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чество питания человека определяется двумя главными показателями: энергетической насыщенностью и комплексностью необходимых ингредиентов (белков, жиров, витаминов, минеральных веществ)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Энергетическая насыщенн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или калорийность) пищи определяется энергией, аккумулированной в пищевых продуктах: белках, жирах, углеводах. Эту энергию принято измерять в калориях (кал) или килокалориях (ккал).  Второй показатель качества питания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ассортимент потребляемых веществ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1" name="wind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7030a0"/>
                </a:solidFill>
                <a:latin typeface="Calibri"/>
              </a:rPr>
              <a:t>Энергетическая насыщенно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Аня\Рабочий стол\l001.jpg"/>
          <p:cNvPicPr/>
          <p:nvPr/>
        </p:nvPicPr>
        <p:blipFill>
          <a:blip r:embed="rId1"/>
          <a:stretch/>
        </p:blipFill>
        <p:spPr>
          <a:xfrm>
            <a:off x="1071720" y="714240"/>
            <a:ext cx="6500520" cy="60008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2" name="wind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7030a0"/>
                </a:solidFill>
                <a:latin typeface="Calibri"/>
              </a:rPr>
              <a:t>Структура питания в разных странах (1990-егг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Аня\Рабочий стол\l002.jpg"/>
          <p:cNvPicPr/>
          <p:nvPr/>
        </p:nvPicPr>
        <p:blipFill>
          <a:blip r:embed="rId1"/>
          <a:stretch/>
        </p:blipFill>
        <p:spPr>
          <a:xfrm>
            <a:off x="1143000" y="1000080"/>
            <a:ext cx="7072200" cy="54291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  <p:sndAc>
      <p:stSnd>
        <p:snd r:embed="rId2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LEGION</cp:lastModifiedBy>
  <dcterms:modified xsi:type="dcterms:W3CDTF">2015-05-06T08:40:33Z</dcterms:modified>
  <cp:revision>23</cp:revision>
  <dc:subject/>
  <dc:title>Продовольственная проблема</dc:title>
</cp:coreProperties>
</file>