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4.png" ContentType="image/png"/>
  <Override PartName="/ppt/media/image1.jpeg" ContentType="image/jpeg"/>
  <Override PartName="/ppt/media/wind.wav" ContentType="audio/x-wav"/>
  <Override PartName="/ppt/media/image7.jpeg" ContentType="image/jpeg"/>
  <Override PartName="/ppt/media/image12.jpeg" ContentType="image/jpeg"/>
  <Override PartName="/ppt/media/image2.jpeg" ContentType="image/jpeg"/>
  <Override PartName="/ppt/media/image3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66468-1405-4FBE-98FA-8296FDA752C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довольственная пробл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DE3CA-2F22-4120-BD0A-DBAC312F5A8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География недоедания(голода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она, в которой значительная часть населения недополучает необходимое количество калорий, на мировой карте охватывает обширную территорию. Она простирается по обеим сторонам от экватора, включает почти всю Африку к югу от Сахары, Западную Азию, Южную и Юго-Восточную Азию, Карибский бассейн, основную часть Южной Амери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иболее неблагоприятное положение сложилось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странах аридных и семиаридных областе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занятых сухими саваннами и полупустынями. На этих территориях, отличающихся чрезвычайно низким агроприродным потенциалом, повышенной хрупкостью и пониженной «эластичностью» экосистем, темпы роста населения примерно в 2 раза опережают производство продовольствия, что приводит к резкому снижению подушевого показателя производства продуктов пит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51206-27EA-4031-BD96-2F9B38E341A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География недоедания(голода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айне трудная продовольственная ситуация сохраняется, с одной стороны, в крупных густонаселенных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транах Муссонной Азии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этом наиболее ущемленными оказываются женщины и дети. В сельских районах некоторых стран Азии женщинам вообще не положено питаться вместе с мужчинами. За стол первыми садятся мужчины, а женщины и дети доедают то, что остает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ропическая Африка -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ременный «полюс голода» на планете. Продовольственное положение здесь оценивается  специалистами как критическое. Ситуация осложняется тем, что в силу чрезвычайно низких доходов около 90% жителей проживают за чертой бед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фоне рассматриваемых регионов несколько лучше питаются жители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атинской Америки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и здесь продовольственная проблема достаточно ост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D99BB-DA88-4B6A-BF08-F26371B2C7E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Региональные типы питан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итании населения слаборазвитых стран, как правило, всегда доминирует какой-либо один продукт, что придает рациону однообразный характер и негативно сказывается на общем состоянии здоровья. Для зоны саванн и Сахеля в Африке наиболее характерны просяные культуры, дающие до 40-50% калорий. В пищевом рационе жителей лесной зоны африканского континента преобладают клубнеплоды – ямс, маниок, бата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17C02-F8CF-4C81-8EA1-C65629B5880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транах Центральной Америки и районах индейского расселения превалирует кукуруза; в Парагвае – маниок; в «банановых» республиках американского перешейка – бананы; на Гаити и Кубе – тростниковый сахар. В странах со сравнительно благополучным продовольственным балансом основу рациона формируе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шениц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0A941-5C9D-4E06-9A4A-0B6AC77BCA5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транах Центральной Америки и районах индейского расселения превалирует кукуруза; в Парагвае – маниок; в «банановых» республиках американского перешейка – бананы; на Гаити и Кубе – тростниковый сахар. В странах со сравнительно благополучным продовольственным балансом основу рациона формируе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шениц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FB523-B520-486B-8F64-7AEDBE224BA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Calibri"/>
              </a:rPr>
              <a:t>    </a:t>
            </a:r>
            <a:r>
              <a:rPr b="1" lang="ru-RU" sz="1200" spc="-1" strike="noStrike">
                <a:solidFill>
                  <a:srgbClr val="7030a0"/>
                </a:solidFill>
                <a:latin typeface="Calibri"/>
              </a:rPr>
              <a:t>Порочный круг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«нищета – плохое питание – болезни – низкая производительность труда – нищета»,</a:t>
            </a:r>
            <a:r>
              <a:rPr b="1" lang="ru-RU" sz="1200" spc="-1" strike="noStrike">
                <a:solidFill>
                  <a:srgbClr val="7030a0"/>
                </a:solidFill>
                <a:latin typeface="Calibri"/>
              </a:rPr>
              <a:t> характерный для стран мировой «периферии», ведет к тому, что резко падает трудоспособность занятых в производстве людей, поскольку недоедание обессиливает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CA936-7295-40E6-AAC2-1B01FC363C6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Причины голод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а голода теснейшим образом взаимосвязана с проблемой отсталости стра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чительное влияние на масштабы голода в современном мире оказывает неконтролируемый рост населения в развивающихся стран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ым непосредственным образом на продовольственном положении в развивающихся странах сказываются высокие темпы урбаниз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ны развивающегося мира занимают крайне невыгодные  позиции в рамках международных экономических отношен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льзя сбрасывать со счетов и последствия экологических кризи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574CF-E866-45ED-938B-8E2E485448A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так, реальное положение с питанием населения слаборазвитых стран свидетельствует о невероятной сложности продовольственной проблемы. Можно, конечно, рассуждать о теоретическом продовольственном потенциале Земли, об удвоении и даже утроении посевных площадей, о применении человечеством в пищу хлореллы или разведении плантаций на дне океанов… однако суровая действительность напоминает, что всё съедобное, что производит человечество, в конечном счете потребляется и при этом фактически более миллиарда людей постоянн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доедают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76BE3-36BA-42AB-B207-4B24B9CD68E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но надеяться, что человечество в обозримом будущем искоренит голод, если не научится контролировать свою численность, не решит экономические, технические и экологические вопросы модернизации сельского хозяйства. При этом  речь идет о комплексном решении всех задач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5F510-988B-4618-80F8-91330898CF7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Вопросы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 пищу, используемую человеком для поддержания жизнедеятельности, считают в тоже время продуктом его общей культур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вестно, что многие страны Востока и Запада давно уже достигли продовольственного изобилия. Что в таком случае придает продовольственной проблеме глобальное звучани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открытия на стыке медицины и археологии опровергают представления о «плотоядности» наших далеких предков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ми двумя критериями определяются в первую очередь качество питания человека и какого рода связь существует между ним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 мировым «полюсом голода « обычно считают Африку южнее Сахары, несмотря на то, что по абсолютной численности голодающих первенство удерживают страны Муссонной Ази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вестно, что границы региональных типов питания не совпадают с границами отдельных государств. Какую пищу для размышлений географу дает подобная ситуац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5261F-1C56-4B7B-B77D-269CD05B9F7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ный смысл 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глобальной продовольственной проблемы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оется в опережающем росте численности населения по сравнению с ростом производства продуктов пит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BDED3-FD05-4F03-9158-6D360FA301B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обальная проблема обуславливае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величение численности голодающих и недоедающих в мире, а также ухудшение психофизического состояния насе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т антропогенной нагрузки на сельскохозяйственные ландшафты и постепенное истощение традиционных резервов аграрного секто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удовлетворительное качество пищевого рациона в подавляющем большинстве государ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ертывание усилий человечества в области генной инженерии для решения продовольственной пробл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величение конфликтности в мир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53002-DBDB-44B8-86EA-B3F29A96FF8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фицит продовольствия обычно воспринимается как бедствие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его отсутствие – как катастроф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достаток и отсутств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овольствия приводят 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личным формам проявления продовольственного кризис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доеданию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полноценному питанию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ли к настоящему голод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14220-5C74-4491-A645-5BB8D17D475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данным Продовольственной и сельскохозяйственной организации ООН (ФАО). На планете систематически голодают около 500000000 человек. А около 1000000000 человек испытывают явный недостаток пищ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ED54F-8036-48BE-95A5-C459D390118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7030a0"/>
                </a:solidFill>
                <a:latin typeface="Calibri"/>
              </a:rPr>
              <a:t>Источники питания в прошлом и сейчас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протяжении длительной истории человечество существенно изменило свое меню. Первобытные люди питались пищей почти исключительно растительного происхождения. Важным дополнением к их вегетарианскому «столу»  служили яйца, моллюски, мелкие животные.  Постепенный переход к охоте и рыболовству знаменовал собой важный этап расширения пищевых ресурсов человечества. Со временем пища делалась более разнообразной. Стала возрастать роль животных как источников более высококачественной пищи. Возрастание в пищевом рационе доли продуктов животного происхождения характерно для процветающих в экономическом отношении государ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EF131-9A25-41C1-990B-950966F8791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030a0"/>
                </a:solidFill>
                <a:latin typeface="Calibri"/>
              </a:rPr>
              <a:t>Качество питания: нормы и фак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чество питания человека определяется двумя главными показателями: энергетической насыщенностью и комплексностью необходимых ингредиентов (белков, жиров, витаминов, минеральных веществ).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Энергетическая насыщенность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или калорийность) пищи определяется энергией, аккумулированной в пищевых продуктах: белках, жирах, углеводах. Эту энергию принято измерять в калориях (кал) или килокалориях (ккал).  Второй показатель качества питания –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ассортимент потребляемых веществ</a:t>
            </a:r>
            <a:r>
              <a:rPr b="0" lang="ru-RU" sz="1100" spc="-1" strike="noStrike" u="sng">
                <a:solidFill>
                  <a:srgbClr val="000000"/>
                </a:solidFill>
                <a:uFillTx/>
                <a:latin typeface="Calibri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8FFA7-EB08-416F-B8FF-548C1652C32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030a0"/>
                </a:solidFill>
                <a:latin typeface="Calibri"/>
              </a:rPr>
              <a:t>Энергетическая насыщ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86818-63A6-47D4-A7A8-85D76CEB516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030a0"/>
                </a:solidFill>
                <a:latin typeface="Calibri"/>
              </a:rPr>
              <a:t>Структура питания в разных странах (1990-егг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6C89D-30A6-4BFB-BA3F-09AB53E24A5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5AE8-40FF-43ED-94CF-ED639E71A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EA7A-15C7-449C-BBB3-A8F10571F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CA7B-18BB-47FC-A731-A55865DE4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0FE2-1C5F-4255-B89F-7EF1BB1DF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C982-7219-43EE-AAAD-EF073F488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DA11-F962-4682-9FB5-04840A70E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4219-2DC3-4358-AE4F-42782DC61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D757-1BE1-447F-B9CC-25C35D720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CBFB-C209-4081-826A-B31C636CD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636E-E3B4-4401-8167-8EC0D2EF3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EFE7-2D4D-4EA8-9FDB-6AFF4B4A5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7D41-9059-4FBF-8EC5-14BE0280B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08C83-C365-4ED8-8F0C-909224420318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A5518-5FB5-4EDD-8155-766503DF5DF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довольственная проблема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  <p:sndAc>
      <p:stSnd>
        <p:snd r:embed="rId1" name="wind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7030a0"/>
                </a:solidFill>
                <a:latin typeface="Calibri"/>
              </a:rPr>
              <a:t>География недоедания(голода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78588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Зона, в которой значительная часть населения недополучает необходимое количество калорий, на мировой карте охватывает обширную территорию. Она простирается по обеим сторонам от экватора, включает почти всю Африку к югу от Сахары, Западную Азию, Южную и Юго-Восточную Азию, Карибский бассейн, основную часть Южной Америки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Наиболее неблагоприятное положение сложилось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в странах аридных и семиаридных областей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, занятых сухими саваннами и полупустынями. На этих территориях, отличающихся чрезвычайно низким агроприродным потенциалом, повышенной хрупкостью и пониженной «эластичностью» экосистем, темпы роста населения примерно в 2 раза опережают производство продовольствия, что приводит к резкому снижению подушевого показателя производства продуктов питания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  <p:sndAc>
      <p:stSnd>
        <p:snd r:embed="rId1" name="wind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7030a0"/>
                </a:solidFill>
                <a:latin typeface="Calibri"/>
              </a:rPr>
              <a:t>География недоедания(голода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Крайне трудная продовольственная ситуация сохраняется, с одной стороны, в крупных густонаселенных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странах Муссонной Азии.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ри этом наиболее ущемленными оказываются женщины и дети. В сельских районах некоторых стран Азии женщинам вообще не положено питаться вместе с мужчинами. За стол первыми садятся мужчины, а женщины и дети доедают то, что остается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Тропическая Африка -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овременный «полюс голода» на планете. Продовольственное положение здесь оценивается  специалистами как критическое. Ситуация осложняется тем, что в силу чрезвычайно низких доходов около 90% жителей проживают за чертой бедност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На фоне рассматриваемых регионов несколько лучше питаются жители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Латинской Америки,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но и здесь продовольственная проблема достаточно остр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  <p:sndAc>
      <p:stSnd>
        <p:snd r:embed="rId1" name="wind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7030a0"/>
                </a:solidFill>
                <a:latin typeface="Calibri"/>
              </a:rPr>
              <a:t>Региональные типы питания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713880"/>
            <a:ext cx="82296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 питании населения слаборазвитых стран, как правило, всегда доминирует какой-либо один продукт, что придает рациону однообразный характер и негативно сказывается на общем состоянии здоровья. Для зоны саванн и Сахеля в Африке наиболее характерны просяные культуры, дающие до 40-50% калорий. В пищевом рационе жителей лесной зоны африканского континента преобладают клубнеплоды – ямс, маниок, батат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4" descr="c:\Users\Public\Pictures\Sample Pictures\Desert Landscape.jpg"/>
          <p:cNvPicPr/>
          <p:nvPr/>
        </p:nvPicPr>
        <p:blipFill>
          <a:blip r:embed="rId1"/>
          <a:stretch/>
        </p:blipFill>
        <p:spPr>
          <a:xfrm>
            <a:off x="2643120" y="3500280"/>
            <a:ext cx="6000840" cy="31068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C:\Users\user\Desktop\Моя папочка=)))\Школа\2009-04-09, наркомания\наркомания 022.jpg"/>
          <p:cNvPicPr/>
          <p:nvPr/>
        </p:nvPicPr>
        <p:blipFill>
          <a:blip r:embed="rId2"/>
          <a:stretch/>
        </p:blipFill>
        <p:spPr>
          <a:xfrm>
            <a:off x="357120" y="3929040"/>
            <a:ext cx="1928880" cy="2428920"/>
          </a:xfrm>
          <a:prstGeom prst="rect">
            <a:avLst/>
          </a:prstGeom>
          <a:ln w="0">
            <a:noFill/>
          </a:ln>
        </p:spPr>
      </p:pic>
      <p:sp>
        <p:nvSpPr>
          <p:cNvPr id="89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  <p:sndAc>
      <p:stSnd>
        <p:snd r:embed="rId3" name="wind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Прямоугольник 1"/>
          <p:cNvSpPr/>
          <p:nvPr/>
        </p:nvSpPr>
        <p:spPr>
          <a:xfrm>
            <a:off x="500040" y="357120"/>
            <a:ext cx="82152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странах Центральной Америки и районах индейского расселения превалирует кукуруза; в Парагвае – маниок; в «банановых» республиках американского перешейка – бананы; на Гаити и Кубе – тростниковый сахар. В странах со сравнительно благополучным продовольственным балансом основу рациона формируе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шениц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C:\Users\user\Desktop\Моя папочка=)))\Школа\2009-04-09, наркомания\наркомания 006.jpg"/>
          <p:cNvPicPr/>
          <p:nvPr/>
        </p:nvPicPr>
        <p:blipFill>
          <a:blip r:embed="rId1"/>
          <a:stretch/>
        </p:blipFill>
        <p:spPr>
          <a:xfrm>
            <a:off x="3500280" y="3643200"/>
            <a:ext cx="5267520" cy="2814840"/>
          </a:xfrm>
          <a:prstGeom prst="rect">
            <a:avLst/>
          </a:prstGeom>
          <a:ln w="0">
            <a:noFill/>
          </a:ln>
        </p:spPr>
      </p:pic>
      <p:sp>
        <p:nvSpPr>
          <p:cNvPr id="9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7030a0"/>
                </a:solidFill>
                <a:latin typeface="Calibri"/>
              </a:rPr>
              <a:t>Голод и здоровье человека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428640" y="713880"/>
            <a:ext cx="52578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доедание особенно пагубно сказывается на здоровье детей до 5 лет. Согласно результатам исследований ВОЗ, это замедляет их не только физическое, но и умственное развитие, а впоследствии отражается и на психическом состоянии. В развивающихся странах ежегодно около 100000 детей теряют зрение вследствие недостатка витамина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А.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редко новорожденные заболевают раньше, чем появляются на свет. Причина тому – анемия у женщин во время беременности, вызываемая хроническим недоеданием и голодом.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Анемия –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ледствие дефицита в пище железа и фолиевой кислоты- приводит к заметному снижению содержания гемоглобина в крови, т.е. к малокровию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2" descr="C:\Documents and Settings\Аня\Мои документы\Самые простые и эффективные диеты_ - Бесплатно детям,полезно родителям_files\sm-DSCN3948.jpg"/>
          <p:cNvPicPr/>
          <p:nvPr/>
        </p:nvPicPr>
        <p:blipFill>
          <a:blip r:embed="rId1"/>
          <a:stretch/>
        </p:blipFill>
        <p:spPr>
          <a:xfrm>
            <a:off x="285840" y="1785960"/>
            <a:ext cx="3000240" cy="3071880"/>
          </a:xfrm>
          <a:prstGeom prst="rect">
            <a:avLst/>
          </a:prstGeom>
          <a:ln w="0">
            <a:noFill/>
          </a:ln>
        </p:spPr>
      </p:pic>
      <p:sp>
        <p:nvSpPr>
          <p:cNvPr id="9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  <p:sndAc>
      <p:stSnd>
        <p:snd r:embed="rId2" name="wind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Порочный круг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«нищета – плохое питание – болезни – низкая производительность труда – нищета»,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 характерный для стран мировой «периферии», ведет к тому, что резко падает трудоспособность занятых в производстве людей, поскольку недоедание обессиливает челове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4" descr="C:\Users\user\Desktop\Моя папочка=)))\Школа\2009-04-09, наркомания\наркомания 025.jpg"/>
          <p:cNvPicPr/>
          <p:nvPr/>
        </p:nvPicPr>
        <p:blipFill>
          <a:blip r:embed="rId1"/>
          <a:stretch/>
        </p:blipFill>
        <p:spPr>
          <a:xfrm>
            <a:off x="1214280" y="4572000"/>
            <a:ext cx="6534360" cy="1687680"/>
          </a:xfrm>
          <a:prstGeom prst="rect">
            <a:avLst/>
          </a:prstGeom>
          <a:ln w="0">
            <a:noFill/>
          </a:ln>
        </p:spPr>
      </p:pic>
      <p:sp>
        <p:nvSpPr>
          <p:cNvPr id="100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  <p:sndAc>
      <p:stSnd>
        <p:snd r:embed="rId2" name="wind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7030a0"/>
                </a:solidFill>
                <a:latin typeface="Calibri"/>
              </a:rPr>
              <a:t>Причины голода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713880"/>
            <a:ext cx="82296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блема голода теснейшим образом взаимосвязана с проблемой отсталости стран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начительное влияние на масштабы голода в современном мире оказывает неконтролируемый рост населения в развивающихся страна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амым непосредственным образом на продовольственном положении в развивающихся странах сказываются высокие темпы урбанизац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раны развивающегося мира занимают крайне невыгодные  позиции в рамках международных экономических отношения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льзя сбрасывать со счетов и последствия экологических кризис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  <p:sndAc>
      <p:stSnd>
        <p:snd r:embed="rId1" name="wind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50004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Итак, реальное положение с питанием населения слаборазвитых стран свидетельствует о невероятной сложности продовольственной проблемы. Можно, конечно, рассуждать о теоретическом продовольственном потенциале Земли, об удвоении и даже утроении посевных площадей, о применении человечеством в пищу хлореллы или разведении плантаций на дне океанов… однако суровая действительность напоминает, что всё съедобное, что производит человечество, в конечном счете потребляется и при этом фактически более миллиарда людей постоянно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недоедают…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5" descr="C:\Users\user\Desktop\Моя папочка=)))\Школа\2009-04-09, наркомания\наркомания 001.jpg"/>
          <p:cNvPicPr/>
          <p:nvPr/>
        </p:nvPicPr>
        <p:blipFill>
          <a:blip r:embed="rId1"/>
          <a:stretch/>
        </p:blipFill>
        <p:spPr>
          <a:xfrm>
            <a:off x="3429000" y="3714840"/>
            <a:ext cx="5580000" cy="299232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  <p:sndAc>
      <p:stSnd>
        <p:snd r:embed="rId2" name="wind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Прямоугольник 1"/>
          <p:cNvSpPr/>
          <p:nvPr/>
        </p:nvSpPr>
        <p:spPr>
          <a:xfrm>
            <a:off x="500040" y="642960"/>
            <a:ext cx="8286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удно надеяться, что человечество в обозримом будущем искоренит голод, если не научится контролировать свою численность, не решит экономические, технические и экологические вопросы модернизации сельского хозяйства. При этом  речь идет о комплексном решении всех зада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" descr="C:\Users\user\Desktop\Моя папочка=)))\Школа\2009-04-09, наркомания\наркомания 016.jpg"/>
          <p:cNvPicPr/>
          <p:nvPr/>
        </p:nvPicPr>
        <p:blipFill>
          <a:blip r:embed="rId1"/>
          <a:stretch/>
        </p:blipFill>
        <p:spPr>
          <a:xfrm>
            <a:off x="1214280" y="3143160"/>
            <a:ext cx="6632640" cy="3316320"/>
          </a:xfrm>
          <a:prstGeom prst="rect">
            <a:avLst/>
          </a:prstGeom>
          <a:ln w="0">
            <a:noFill/>
          </a:ln>
        </p:spPr>
      </p:pic>
      <p:sp>
        <p:nvSpPr>
          <p:cNvPr id="11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Вопросы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571320"/>
            <a:ext cx="822960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чему пищу, используемую человеком для поддержания жизнедеятельности, считают в тоже время продуктом его общей культуры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звестно, что многие страны Востока и Запада давно уже достигли продовольственного изобилия. Что в таком случае придает продовольственной проблеме глобальное звучание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кие открытия на стыке медицины и археологии опровергают представления о «плотоядности» наших далеких предков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кими двумя критериями определяются в первую очередь качество питания человека и какого рода связь существует между ними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чему мировым «полюсом голода « обычно считают Африку южнее Сахары, несмотря на то, что по абсолютной численности голодающих первенство удерживают страны Муссонной Азии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звестно, что границы региональных типов питания не совпадают с границами отдельных государств. Какую пищу для размышлений географу дает подобная ситуация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  <p:sndAc>
      <p:stSnd>
        <p:snd r:embed="rId1" name="wind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78588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Главный смысл </a:t>
            </a: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глобальной продовольственной проблемы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роется в опережающем росте численности населения по сравнению с ростом производства продуктов питания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  <p:sndAc>
      <p:stSnd>
        <p:snd r:embed="rId1" name="wind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-363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50004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лобальная проблема обуславливает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величение численности голодающих и недоедающих в мире, а также ухудшение психофизического состояния насел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ост антропогенной нагрузки на сельскохозяйственные ландшафты и постепенное истощение традиционных резервов аграрного сектор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удовлетворительное качество пищевого рациона в подавляющем большинстве государст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звертывание усилий человечества в области генной инженерии для решения продовольственной проблем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величение конфликтности в мир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  <p:sndAc>
      <p:stSnd>
        <p:snd r:embed="rId1" name="wind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50004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ефицит продовольствия обычно воспринимается как бедствие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 его отсутствие – как катастрофа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едостаток и отсутствие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довольствия приводят к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зличным формам проявления продовольственного кризиса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едоеданию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еполноценному питанию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ли к настоящему голод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4" descr="C:\Users\user\Desktop\Моя папочка=)))\Школа\2009-04-09, наркомания\наркомания 021.jpg"/>
          <p:cNvPicPr/>
          <p:nvPr/>
        </p:nvPicPr>
        <p:blipFill>
          <a:blip r:embed="rId1"/>
          <a:stretch/>
        </p:blipFill>
        <p:spPr>
          <a:xfrm>
            <a:off x="428760" y="1928880"/>
            <a:ext cx="3214440" cy="3219480"/>
          </a:xfrm>
          <a:prstGeom prst="rect">
            <a:avLst/>
          </a:prstGeom>
          <a:ln w="0">
            <a:noFill/>
          </a:ln>
        </p:spPr>
      </p:pic>
      <p:sp>
        <p:nvSpPr>
          <p:cNvPr id="60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  <p:sndAc>
      <p:stSnd>
        <p:snd r:embed="rId2" name="wind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 данным Продовольственной и сельскохозяйственной организации ООН (ФАО). На планете систематически голодают около 500000000 человек. А около 1000000000 человек испытывают явный недостаток пищ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999800"/>
            <a:ext cx="4040280" cy="1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 fontScale="8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4720" y="1999800"/>
            <a:ext cx="4041720" cy="1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 fontScale="8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Содержимое 7" descr=""/>
          <p:cNvPicPr/>
          <p:nvPr/>
        </p:nvPicPr>
        <p:blipFill>
          <a:blip r:embed="rId1"/>
          <a:stretch/>
        </p:blipFill>
        <p:spPr>
          <a:xfrm>
            <a:off x="457200" y="2176560"/>
            <a:ext cx="4041720" cy="3949560"/>
          </a:xfrm>
          <a:prstGeom prst="rect">
            <a:avLst/>
          </a:prstGeom>
          <a:ln w="0">
            <a:noFill/>
          </a:ln>
        </p:spPr>
      </p:pic>
      <p:pic>
        <p:nvPicPr>
          <p:cNvPr id="65" name="Содержимое 8" descr=""/>
          <p:cNvPicPr/>
          <p:nvPr/>
        </p:nvPicPr>
        <p:blipFill>
          <a:blip r:embed="rId2"/>
          <a:stretch/>
        </p:blipFill>
        <p:spPr>
          <a:xfrm>
            <a:off x="4645080" y="2176560"/>
            <a:ext cx="4041720" cy="3949560"/>
          </a:xfrm>
          <a:prstGeom prst="rect">
            <a:avLst/>
          </a:prstGeom>
          <a:ln w="0">
            <a:noFill/>
          </a:ln>
        </p:spPr>
      </p:pic>
      <p:sp>
        <p:nvSpPr>
          <p:cNvPr id="6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  <p:sndAc>
      <p:stSnd>
        <p:snd r:embed="rId3" name="wind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7030a0"/>
                </a:solidFill>
                <a:latin typeface="Calibri"/>
              </a:rPr>
              <a:t>Источники питания в прошлом и сейчас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713880"/>
            <a:ext cx="82296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 протяжении длительной истории человечество существенно изменило свое меню. Первобытные люди питались пищей почти исключительно растительного происхождения. Важным дополнением к их вегетарианскому «столу»  служили яйца, моллюски, мелкие животные.  Постепенный переход к охоте и рыболовству знаменовал собой важный этап расширения пищевых ресурсов человечества. Со временем пища делалась более разнообразной. Стала возрастать роль животных как источников более высококачественной пищи. Возрастание в пищевом рационе доли продуктов животного происхождения характерно для процветающих в экономическом отношении государст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  <p:sndAc>
      <p:stSnd>
        <p:snd r:embed="rId1" name="wind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7030a0"/>
                </a:solidFill>
                <a:latin typeface="Calibri"/>
              </a:rPr>
              <a:t>Качество питания: нормы и факты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642600"/>
            <a:ext cx="822960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ачество питания человека определяется двумя главными показателями: энергетической насыщенностью и комплексностью необходимых ингредиентов (белков, жиров, витаминов, минеральных веществ).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Энергетическая насыщенность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(или калорийность) пищи определяется энергией, аккумулированной в пищевых продуктах: белках, жирах, углеводах. Эту энергию принято измерять в калориях (кал) или килокалориях (ккал).  Второй показатель качества питания –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ассортимент потребляемых веществ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  <p:sndAc>
      <p:stSnd>
        <p:snd r:embed="rId1" name="wind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7030a0"/>
                </a:solidFill>
                <a:latin typeface="Calibri"/>
              </a:rPr>
              <a:t>Энергетическая насыщенность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C:\Documents and Settings\Аня\Рабочий стол\l001.jpg"/>
          <p:cNvPicPr/>
          <p:nvPr/>
        </p:nvPicPr>
        <p:blipFill>
          <a:blip r:embed="rId1"/>
          <a:stretch/>
        </p:blipFill>
        <p:spPr>
          <a:xfrm>
            <a:off x="1071720" y="714240"/>
            <a:ext cx="6500520" cy="600084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u"/>
    <p:sndAc>
      <p:stSnd>
        <p:snd r:embed="rId2" name="wind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7030a0"/>
                </a:solidFill>
                <a:latin typeface="Calibri"/>
              </a:rPr>
              <a:t>Структура питания в разных странах (1990-егг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C:\Documents and Settings\Аня\Рабочий стол\l002.jpg"/>
          <p:cNvPicPr/>
          <p:nvPr/>
        </p:nvPicPr>
        <p:blipFill>
          <a:blip r:embed="rId1"/>
          <a:stretch/>
        </p:blipFill>
        <p:spPr>
          <a:xfrm>
            <a:off x="1143000" y="1000080"/>
            <a:ext cx="7072200" cy="5429160"/>
          </a:xfrm>
          <a:prstGeom prst="rect">
            <a:avLst/>
          </a:prstGeom>
          <a:ln w="0">
            <a:noFill/>
          </a:ln>
        </p:spPr>
      </p:pic>
      <p:sp>
        <p:nvSpPr>
          <p:cNvPr id="78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  <p:sndAc>
      <p:stSnd>
        <p:snd r:embed="rId2" name="wind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LEGION</cp:lastModifiedBy>
  <dcterms:modified xsi:type="dcterms:W3CDTF">2015-05-06T08:40:33Z</dcterms:modified>
  <cp:revision>23</cp:revision>
  <dc:subject/>
  <dc:title>Продовольственная проблема</dc:title>
</cp:coreProperties>
</file>