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A10-E8CF-4AFC-8B37-DEC6731C0B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Глобаль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челове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6E27-8AA0-4D06-937E-676A62D0D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явление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7AC9-3886-4039-9215-B3F3770209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2312-02E6-4684-B5CD-FC8520EC6B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EABF-8905-44C1-824C-D65CF7509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1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FF81-53EC-4FD4-B05B-49388CD8E4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C472-3B61-4745-8E18-37C59F81A2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11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455-DF7E-4AB2-A689-9CCA1A7AA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6B8-6DDA-4ACF-A4F7-412AC106D1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0C11-8098-460A-A63C-39F8EBA0DD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9E53-3F60-41A1-A7C7-01980D4938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«</a:t>
            </a:r>
            <a:r>
              <a:rPr b="1" i="1" lang="ru-RU" sz="1200" spc="-1" strike="noStrike">
                <a:solidFill>
                  <a:srgbClr val="cc3300"/>
                </a:solidFill>
                <a:latin typeface="Arial"/>
              </a:rPr>
              <a:t>Что может сделать каждый из нас для решения проблемы бытовых отходов?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B564-C0C5-41E9-BA8A-92391D2A25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E88A-0BFD-42D9-A1E1-6AB3C963D5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3D43-48C1-4184-99A6-BB271D3B00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127B-F8EE-4CE9-968F-4B8ED204A2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12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1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7D70-1906-4217-B41B-2A7046B4C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Соци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E5EC-BC1B-406B-8153-FCAF4F7900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но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1606-ED46-4067-A0FE-D8FAFAABA4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Духов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6F25-67D0-4DB2-BCAF-147C6BE9DC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Поли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49B4-836F-4FC3-8ACB-57ADA31A7C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Impact"/>
              </a:rPr>
              <a:t>Эк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78D2-7F56-4C96-BF95-B8F6BC27D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ЭКОЛОГИЧЕ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bbe0e3"/>
                </a:solidFill>
                <a:latin typeface="Impact"/>
              </a:rPr>
              <a:t>ПРОБЛ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43E9-ED7E-49BA-BAAB-585AA0F5B9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887-BF71-4821-A423-87406060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A25-4E3B-400F-8643-08D74818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235E-9690-4833-85CF-12D29B20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F58-97C2-4B65-BD5B-E9A7FFAA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D3FD-0180-47EC-B749-CEC77194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6C93-12A7-4E9E-AAA5-17C51E46A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E1D8-0234-4647-8C40-0ED8E9461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E264-7E46-4594-B0D4-EA9F5191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7873-962C-4525-BBF2-C1659F00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72F5-3534-47C9-BD63-AACA7445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D86D-CFF3-46C0-A86E-4488CA2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968A-AECA-4481-8FCC-01929B7E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860-69A1-46B4-83C4-566B073E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7BA5-F8D9-4754-9FD7-6D2F46A3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B8D8-5D7C-4B25-8019-BF34DB0B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5FF9-539D-4555-97BD-78B7F354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2D68-C654-4874-905A-F728570A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0D8D6-66E6-4224-8344-FB84E1B7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A669B-99D5-4B0E-ADE7-F86E875E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C941-0C6A-4773-84F8-474004D1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B2CF-293A-48F8-BF79-FB4BD00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F328-9C10-441A-BF1F-0F31A64C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598D-394E-4646-9894-C0B432EF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55728-EB91-4478-B96F-1FD345F1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7887-C82F-43C2-8E87-A445F1C6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BAF5B-1E6B-4FA4-9A7C-128649C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3976-6E9C-4086-928D-7A920DDF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17396-63E2-4DAA-8DA1-DC6D81C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AA7C-14C7-4C5E-9A1F-B11D8817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6DFE-1B8B-4833-ADFF-E617DED1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E493-B9C3-4655-9233-6A718EB0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12C3-9719-46DA-A65A-882935A6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1EE8-FD10-4B98-8C99-3751510F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7F96-6CC1-40F2-8495-E8BA3A0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E0EC-205A-4944-B037-4A063C69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7DBC-122A-4D75-8B83-C01DD2F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6363-5280-4FC4-9B7D-C4D3C7310B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isual_new_4"/>
          <p:cNvPicPr/>
          <p:nvPr/>
        </p:nvPicPr>
        <p:blipFill>
          <a:blip r:embed="rId2"/>
          <a:stretch/>
        </p:blipFill>
        <p:spPr>
          <a:xfrm>
            <a:off x="0" y="0"/>
            <a:ext cx="2158920" cy="188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AE0C-A35F-4FE6-816B-7BE92AE4430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visual_new_4"/>
          <p:cNvPicPr/>
          <p:nvPr/>
        </p:nvPicPr>
        <p:blipFill>
          <a:blip r:embed="rId2"/>
          <a:stretch/>
        </p:blipFill>
        <p:spPr>
          <a:xfrm>
            <a:off x="466560" y="2184480"/>
            <a:ext cx="2659320" cy="231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160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BAB7-5C26-4077-AB51-1C2D8999ED3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324000" y="1125360"/>
            <a:ext cx="8496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Глобальные 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Impact"/>
              </a:rPr>
              <a:t>проблемы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 </a:t>
            </a:r>
            <a:r>
              <a:rPr b="1" lang="en-US" sz="1800" spc="1" strike="noStrike">
                <a:ln w="57240">
                  <a:solidFill>
                    <a:srgbClr val="ffff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Impact"/>
              </a:rPr>
              <a:t>человечества</a:t>
            </a:r>
            <a:endParaRPr b="1" lang="en-US" sz="1800" spc="1" strike="noStrike">
              <a:ln w="57240">
                <a:solidFill>
                  <a:srgbClr val="ffff0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Impact"/>
              <a:ea typeface="Impact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"/>
          <p:cNvSpPr/>
          <p:nvPr/>
        </p:nvSpPr>
        <p:spPr>
          <a:xfrm>
            <a:off x="0" y="-81000"/>
            <a:ext cx="9144000" cy="693900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5280" y="105264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(глобальное потеплени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.Т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250920" y="0"/>
            <a:ext cx="87138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618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Проявление экологической проблемы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618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4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0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7"/>
          <p:cNvSpPr/>
          <p:nvPr/>
        </p:nvSpPr>
        <p:spPr>
          <a:xfrm>
            <a:off x="0" y="476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Arial Black"/>
              </a:rPr>
              <a:t>Загрязнение окружающей среды ТБ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324000" y="2802240"/>
            <a:ext cx="8820000" cy="362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00"/>
                </a:solidFill>
                <a:latin typeface="Arial Black"/>
              </a:rPr>
              <a:t>Цель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ать понятие “твердые бытовые отходы”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центировать внимание на проблема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озникающих с увеличением количества ТБ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вместно с  учащимися найти возможные варианты решения данной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06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6"/>
          <p:cNvSpPr/>
          <p:nvPr/>
        </p:nvSpPr>
        <p:spPr>
          <a:xfrm>
            <a:off x="0" y="407160"/>
            <a:ext cx="914400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 Black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зучим проблему твердых бытовых отходов и предложим пути ее реш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пределим общее количество бытовых отходов населенного пункта – города Чебоксары и их процентное распределение по разным категори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араемся дать ответ на вопрос “Что могу сделать я в решении данной проблемы?”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1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35320" y="260280"/>
            <a:ext cx="39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468360" y="981000"/>
            <a:ext cx="8675640" cy="210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ыберите цитату,  которая с вашей точки зрения, наиболее полно отражает смысл нашего урока, и подумайте, как прокомментировать данное выражение. </a:t>
            </a:r>
            <a:r>
              <a:rPr b="0" i="1" lang="ru-RU" sz="2000" spc="-1" strike="noStrike">
                <a:solidFill>
                  <a:srgbClr val="ffffff"/>
                </a:solidFill>
                <a:latin typeface="Arial Black"/>
              </a:rPr>
              <a:t>(Все мнения детей принимаются без комментарие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17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5"/>
          <p:cNvSpPr/>
          <p:nvPr/>
        </p:nvSpPr>
        <p:spPr>
          <a:xfrm>
            <a:off x="324000" y="692280"/>
            <a:ext cx="882468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Экскурсия по город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5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 Box 7"/>
          <p:cNvSpPr/>
          <p:nvPr/>
        </p:nvSpPr>
        <p:spPr>
          <a:xfrm>
            <a:off x="468360" y="2205000"/>
            <a:ext cx="867564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личество отходов, приходящееся на 1 человека – 0,7 кг в с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имерное количество отходов, приходящееся на жилой микрорайон /600 жителей / – 480 к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отходов много, основная часть их приходится на бумагу,  пищевые отходы и пластиковые отх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0" y="47628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облема ТБ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в микрорайоне МОУ «СОШ 33»</a:t>
            </a:r>
            <a:r>
              <a:rPr b="0" lang="ru-RU" sz="24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2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5"/>
          <p:cNvSpPr/>
          <p:nvPr/>
        </p:nvSpPr>
        <p:spPr>
          <a:xfrm>
            <a:off x="395280" y="692280"/>
            <a:ext cx="8748720" cy="247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Фотофак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 Black"/>
              </a:rPr>
              <a:t>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24000" y="692280"/>
            <a:ext cx="8824680" cy="277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Мнение экспе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 Black"/>
              </a:rPr>
              <a:t>«Способы избавления отходов в городах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4920" y="2418840"/>
            <a:ext cx="5977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«</a:t>
            </a:r>
            <a:r>
              <a:rPr b="1" i="1" lang="ru-RU" sz="2000" spc="-1" strike="noStrike">
                <a:solidFill>
                  <a:srgbClr val="cc3300"/>
                </a:solidFill>
                <a:latin typeface="Verdana"/>
              </a:rPr>
              <a:t>Что может сделать каждый из нас для решения проблемы бытовых отходов?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3" descr="Sasha_09 copy"/>
          <p:cNvPicPr/>
          <p:nvPr/>
        </p:nvPicPr>
        <p:blipFill>
          <a:blip r:embed="rId1"/>
          <a:stretch/>
        </p:blipFill>
        <p:spPr>
          <a:xfrm>
            <a:off x="6516720" y="2276640"/>
            <a:ext cx="1933560" cy="35985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Sasha_09 copy"/>
          <p:cNvPicPr/>
          <p:nvPr/>
        </p:nvPicPr>
        <p:blipFill>
          <a:blip r:embed="rId1"/>
          <a:stretch/>
        </p:blipFill>
        <p:spPr>
          <a:xfrm>
            <a:off x="6948360" y="2421000"/>
            <a:ext cx="1933560" cy="359892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2761920" y="189000"/>
            <a:ext cx="575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тарайтесь сократить количество отходов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087640" y="620640"/>
            <a:ext cx="70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место предметов одноразового использования старайтесь использовать более стойкие (например, вместо пластиковой посуды – керамическую или стеклянную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79280" y="1916280"/>
            <a:ext cx="7058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Ненужные Вам вещи перепродайте или передайте нуждающимся (например, через благотворительные организ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ри выборе покупки отдайте предпочтение товару в упаковке многоразового исполь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сегда имейте с собой в сумке или портфеле матерчатую сумку с ручками для поку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Повторно используйте полиэтиленовые пак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Сократите расходы бумаги, используя обе стороны л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"/>
          <p:cNvSpPr/>
          <p:nvPr/>
        </p:nvSpPr>
        <p:spPr>
          <a:xfrm>
            <a:off x="3276720" y="189000"/>
            <a:ext cx="2808000" cy="172872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лог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5651640" y="4724280"/>
            <a:ext cx="280800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Экономически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6"/>
          <p:cNvSpPr/>
          <p:nvPr/>
        </p:nvSpPr>
        <p:spPr>
          <a:xfrm>
            <a:off x="17928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литическ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6335640" y="198900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оциаль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1332000" y="4724280"/>
            <a:ext cx="2808360" cy="1729080"/>
          </a:xfrm>
          <a:prstGeom prst="ellipse">
            <a:avLst/>
          </a:prstGeom>
          <a:gradFill rotWithShape="0">
            <a:gsLst>
              <a:gs pos="0">
                <a:srgbClr val="bbe0e3">
                  <a:alpha val="30196"/>
                </a:srgbClr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Духовные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9"/>
          <p:cNvSpPr/>
          <p:nvPr/>
        </p:nvSpPr>
        <p:spPr>
          <a:xfrm flipV="1">
            <a:off x="3059280" y="2852280"/>
            <a:ext cx="3241440" cy="18716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3059280" y="1916280"/>
            <a:ext cx="1728720" cy="28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 flipH="1" flipV="1">
            <a:off x="4788000" y="1915920"/>
            <a:ext cx="2016000" cy="28112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 flipH="1" flipV="1">
            <a:off x="1835280" y="3716280"/>
            <a:ext cx="129672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1979280" y="1052640"/>
            <a:ext cx="129708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 flipH="1" flipV="1">
            <a:off x="6011640" y="1052280"/>
            <a:ext cx="1439640" cy="936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6803640" y="3716280"/>
            <a:ext cx="647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H="1">
            <a:off x="4140000" y="5516640"/>
            <a:ext cx="14396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 flipH="1" flipV="1">
            <a:off x="2987280" y="2852640"/>
            <a:ext cx="3745080" cy="18734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2916360" y="2781360"/>
            <a:ext cx="3456000" cy="712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stealth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Masha_03 copy"/>
          <p:cNvPicPr/>
          <p:nvPr/>
        </p:nvPicPr>
        <p:blipFill>
          <a:blip r:embed="rId1"/>
          <a:stretch/>
        </p:blipFill>
        <p:spPr>
          <a:xfrm>
            <a:off x="324000" y="1989000"/>
            <a:ext cx="2030400" cy="38671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2286000" y="692280"/>
            <a:ext cx="6858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Улучшите систему обращения с бытовыми отхо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Сортируйте отходы и сдавайте мусор, который можно использовать повторно или перерабатывать (стеклянные бутылки, макулатуру, жестяные банк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Пищевые отходы (особенно на садовом участке) используйте для приготовления компо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 Black"/>
              </a:rPr>
              <a:t>Будьте культурны и дисциплинирова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бросайте мусор мимо у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оставляйте пакеты с мусором в не отведенных для этого местах (в подъездах, на улицах, во двора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создавайте «несанкционированных» свалок вблизи жилья или садового учас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Не поджигайте мусор в урнах и мусорных контейн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48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5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Карта по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253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0" y="496800"/>
            <a:ext cx="9144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5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5"/>
          <p:cNvSpPr/>
          <p:nvPr/>
        </p:nvSpPr>
        <p:spPr>
          <a:xfrm>
            <a:off x="0" y="26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Практ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0" y="1639440"/>
            <a:ext cx="9144000" cy="393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Найдите соотве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Глобальные проблемы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Arial Black"/>
              </a:rPr>
              <a:t>Проявления глобальных проблем</a:t>
            </a:r>
            <a:r>
              <a:rPr b="0" i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4716360" y="3573360"/>
            <a:ext cx="0" cy="1150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6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2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4"/>
            <p:cNvSpPr txBox="1"/>
            <p:nvPr/>
          </p:nvSpPr>
          <p:spPr>
            <a:xfrm>
              <a:off x="2195640" y="333360"/>
              <a:ext cx="4895640" cy="86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1" strike="noStrike">
                  <a:ln w="19080">
                    <a:solidFill>
                      <a:srgbClr val="ff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Социальные</a:t>
              </a:r>
              <a:endPara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65" name="Text Box 7"/>
          <p:cNvSpPr/>
          <p:nvPr/>
        </p:nvSpPr>
        <p:spPr>
          <a:xfrm>
            <a:off x="179280" y="2060640"/>
            <a:ext cx="896472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мографическ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храны здоровья (распространение опасных заболеваний: рака, СПИДа, атипичной пневмонии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бразования  (1 миллиард неграмотны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тнические, межконфессиональные конфли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68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3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6"/>
          <p:cNvSpPr txBox="1"/>
          <p:nvPr/>
        </p:nvSpPr>
        <p:spPr>
          <a:xfrm>
            <a:off x="1835280" y="549360"/>
            <a:ext cx="6121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ном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324000" y="2276640"/>
            <a:ext cx="8820000" cy="222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овольственная пробл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люса развития: «Север—Юг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пределов экономического ро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стощение ресур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экономический глобализ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4"/>
          <p:cNvGrpSpPr/>
          <p:nvPr/>
        </p:nvGrpSpPr>
        <p:grpSpPr>
          <a:xfrm>
            <a:off x="0" y="-52560"/>
            <a:ext cx="9144000" cy="6910560"/>
            <a:chOff x="0" y="-52560"/>
            <a:chExt cx="9144000" cy="6910560"/>
          </a:xfrm>
        </p:grpSpPr>
        <p:pic>
          <p:nvPicPr>
            <p:cNvPr id="174" name="Picture 2" descr="54617327"/>
            <p:cNvPicPr/>
            <p:nvPr/>
          </p:nvPicPr>
          <p:blipFill>
            <a:blip r:embed="rId1"/>
            <a:stretch/>
          </p:blipFill>
          <p:spPr>
            <a:xfrm>
              <a:off x="324000" y="-5256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3"/>
            <p:cNvSpPr/>
            <p:nvPr/>
          </p:nvSpPr>
          <p:spPr>
            <a:xfrm>
              <a:off x="0" y="-5256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WordArt 5"/>
          <p:cNvSpPr txBox="1"/>
          <p:nvPr/>
        </p:nvSpPr>
        <p:spPr>
          <a:xfrm>
            <a:off x="2987640" y="404640"/>
            <a:ext cx="3311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уховны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95280" y="1773360"/>
            <a:ext cx="874872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еградация «массовой культуры», девальвация моральных и нравствен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ход людей от реальности в мир иллюзий (нарком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ост агрессии, нервно-психических заболеваний, в т.ч. из-за массовой компьюте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ответственности учёных за последствия своих откры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т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1341360"/>
            <a:ext cx="8748720" cy="478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блема войны и мира: возможность перерастания локальных конфликтов в глобальные, опасность ядерной вой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храняющиеся полюса противостояния, борьба за сферы влияния (США – Европа – Россия – Азиатско - Тихоокеанский регио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ия политических систем (демократия, авторитаризм, тоталитариз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терроризм (международный, внутриполитический, уголовны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0" y="0"/>
            <a:ext cx="9144000" cy="6910560"/>
            <a:chOff x="0" y="0"/>
            <a:chExt cx="9144000" cy="6910560"/>
          </a:xfrm>
        </p:grpSpPr>
        <p:pic>
          <p:nvPicPr>
            <p:cNvPr id="185" name="Picture 3" descr="54617327"/>
            <p:cNvPicPr/>
            <p:nvPr/>
          </p:nvPicPr>
          <p:blipFill>
            <a:blip r:embed="rId1"/>
            <a:stretch/>
          </p:blipFill>
          <p:spPr>
            <a:xfrm>
              <a:off x="324000" y="0"/>
              <a:ext cx="8604000" cy="688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4"/>
            <p:cNvSpPr/>
            <p:nvPr/>
          </p:nvSpPr>
          <p:spPr>
            <a:xfrm>
              <a:off x="0" y="0"/>
              <a:ext cx="9144000" cy="6910560"/>
            </a:xfrm>
            <a:prstGeom prst="rect">
              <a:avLst/>
            </a:prstGeom>
            <a:gradFill rotWithShape="0">
              <a:gsLst>
                <a:gs pos="0">
                  <a:srgbClr val="808080">
                    <a:alpha val="6274"/>
                  </a:srgbClr>
                </a:gs>
                <a:gs pos="100000">
                  <a:srgbClr val="3b3b3b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WordArt 5"/>
          <p:cNvSpPr txBox="1"/>
          <p:nvPr/>
        </p:nvSpPr>
        <p:spPr>
          <a:xfrm>
            <a:off x="1692360" y="260280"/>
            <a:ext cx="6121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е</a:t>
            </a:r>
            <a:endParaRPr b="1" lang="en-US" sz="4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4000" y="1214280"/>
            <a:ext cx="8820000" cy="435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озоновая дыр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стребление л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«парниковый» эффек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грязнение окружающей среды: атмосферы, почвы, вод Мирового океана, продуктов 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ихийные бедствия: тайфуны, цунами, ураганы, землетрясения, наводнения, засух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арушения в окружающей среде, связанные с освоением космоса и Мирового оке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54617327"/>
          <p:cNvPicPr/>
          <p:nvPr/>
        </p:nvPicPr>
        <p:blipFill>
          <a:blip r:embed="rId1"/>
          <a:stretch/>
        </p:blipFill>
        <p:spPr>
          <a:xfrm>
            <a:off x="324000" y="0"/>
            <a:ext cx="8604000" cy="68835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0" y="0"/>
            <a:ext cx="9144000" cy="6910560"/>
          </a:xfrm>
          <a:prstGeom prst="rect">
            <a:avLst/>
          </a:prstGeom>
          <a:gradFill rotWithShape="0">
            <a:gsLst>
              <a:gs pos="0">
                <a:srgbClr val="808080">
                  <a:alpha val="6274"/>
                </a:srgbClr>
              </a:gs>
              <a:gs pos="100000">
                <a:srgbClr val="3b3b3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900000" y="112536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ЭКОЛОГИЧЕСКАЯ 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57240">
                  <a:solidFill>
                    <a:srgbClr val="339966"/>
                  </a:solidFill>
                  <a:miter/>
                </a:ln>
                <a:solidFill>
                  <a:srgbClr val="bbe0e3"/>
                </a:solidFill>
                <a:latin typeface="Impact"/>
              </a:rPr>
              <a:t>ПРОБЛЕМА</a:t>
            </a:r>
            <a:endParaRPr b="1" lang="en-US" sz="1800" spc="1" strike="noStrike">
              <a:ln w="57240">
                <a:solidFill>
                  <a:srgbClr val="339966"/>
                </a:solidFill>
                <a:miter/>
              </a:ln>
              <a:solidFill>
                <a:srgbClr val="bbe0e3"/>
              </a:solidFill>
              <a:latin typeface="Impact"/>
              <a:ea typeface="Impact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05:55:06Z</dcterms:created>
  <dc:creator>admin</dc:creator>
  <dc:description/>
  <dc:language>en-US</dc:language>
  <cp:lastModifiedBy>LEGION</cp:lastModifiedBy>
  <dcterms:modified xsi:type="dcterms:W3CDTF">2015-05-06T08:44:50Z</dcterms:modified>
  <cp:revision>19</cp:revision>
  <dc:subject/>
  <dc:title>Глобальные проблемы человечества</dc:title>
</cp:coreProperties>
</file>