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EE85-7F32-4450-971F-70C5FA9BEF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товская область                                               г. Балаково                                              МОУ СОШ № 16                                                                         Солонина Елена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267F-7EFC-49B9-BBC2-BDC868EEB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итамин E (токоферола ацета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 При дальнейших исследованиях выявилось, что роль витамина Е не ограничивается только контролем за репродуктивной функцией. Витамин Е также улучшает циркуляцию крови, необходим для регенерации тканей. Он обеспечивает нормальную свертываемость крови и заживление; снижает возможность образования шрамов от некоторых ран; снижает кровяное давление; способствует предупреждению катаракт; улучшает атлетические достижения; снимает судороги ног; поддерживает здоровье нервов и мускулов; укрепляя стенки капилляров; предотвращает анем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, печень, молоко, овся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303C-C03F-4406-84F5-26B6D60926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тамин К (синтетический фитоменадио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 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К также играет важню роль в формировании и восстановлении костей, обеспечивает синтез остеокальцина - белка костной ткани, на котором кристаллизуется кальций. Он способствует предупреждению остеопороза, участвует в регуляции окислительно-восстановительных процессов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0886-4536-4085-BC89-B8A3F5D690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Эти вещества были названы витаминами (vita + amin - "амины жизни" в дословном переводе с латинского), так как первые выделенные в чистом виде витамины содержали в своем составе аминогруппу. И хотя в дальнейшем выяснилось, что далеко не все витаминные вещества содержат в своем составе аминогруппу и вообщ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зот, термин "витамин" укоренился в наук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1A50-0CDD-4CDE-9D33-D4F6C49A53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гласно классическому определению, витамины - это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66B4-0DFA-4B68-9E49-C4A2558EAE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итамин C (аскорбиновая кислота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тамин C, или аскорбиновая кислота, относится к водорастворимым витаминам. Всасывание аскорбиновой кислоты происходит на всем протяжении желудочно-кишечного тракта, но большей частью - в тонком кишечнике, путем простой диффузии. В крови и в тканях аскорбиновая кислота находится как в свободном виде, так и в связанном с белкам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3B88-6976-4C71-8304-AB5FC76784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оль витамина С в организме челове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скорбиновая кислота участвует в процессах превращения ароматических аминокислот, в процессах кроветворения и в образовании коллагена - основного внеклеточного компонента соединительной тк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достаточность витамина C вызывает цингу - заболевание, приводящее к нарушениям образования коллагена и ряда других компонент соединительных тканей, к постепенному их разрушению. Внешне цинга проявляется такими симптомами, как расшатывание и выпадение зубов, кровоточивость десен, отеки и боли в суставах, бледность кожных покровов, кровоизлияния, плохое заживление ран, различные поражения к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ой источник витамина C для человека - свежие овощи, фрукты, ягоды. Особенно богаты им плоды шиповника. Лекарственные препараты, содержащие аскорбиновую кислоту, применяют для лечения гиповитаминозов, при нарушениях и для стимуляции процессов кроветворения (совместно с фолиевой кислотой, витамином B12 и железом), для укрепления капилляров, стимуляции процессов регенерации тканей, при острых заболеваниях дыхательных путей и при ряде друг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F175-4EBC-4D5B-8264-342D18728C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ь витамина 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А выполняет в организме следующие фун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нормальный рост и дифференциацию клеток развивающегося организма (эмбриона, ребен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процессы деления и дифференциации клеток, быстро обновляющихся тканей - хрящей и костной ткани, сперматогенного эпителия и плаценты, эпителия кожи и слизист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фотохимический процесс акта з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F357-E624-4F75-B15A-07D657EC40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достаток витамина А приводит к следующим последствия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ушение темновой адаптации, ночная слепота (то есть резкое ухудшение зрения в сумерках и в темноте, очень долгое "привыкание" глаз к снижению освещенности) - эти последствия нехватки витамина А проявляются в первую очеред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ержка роста в молодом возрас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лликулярный гиперкератоз (избыточное ороговение кожи, вызванное задержкой смены эпител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хость слизистых (также вследствие замедленного обновления эпител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серофтальмия (сухость конъюнктивы глаза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мутнение и размягчение роговицы глаза (кератомаляц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ушение функции размножения (оплодотворяющей активности сперматозоидов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5EF6-F7E3-42DF-B925-5D5B4DE1EF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в свою группу восемь витами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1 (тиам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2 (рибофлав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3 (ниац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5 (пантотеновая кисло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6 (пиридокс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7 (биот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12 (цианкобалам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лиевая кисл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В восстанавливает энергию,  помогает бороться с лишним весом, улучшает работу сердечной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ится в печени, почках, мясе и мол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671E-E1DE-4EAC-8D4F-4E18DBF080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Р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9EA8-1ADE-4EEE-8D9B-F41C2B4A53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E442-293E-4CBA-8EC1-B01ECC86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8103-C613-4F92-AAF0-F21F1C97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2DE5-5E56-4A63-9928-3A839587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DADF9-9B20-4E17-AA4A-5E21B35A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05FC-E790-49D6-84CE-4DFE9BE6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8D0D-EFBB-48D2-A689-1A8FBE06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A364-A394-4199-9315-8A848BFD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FC7C-7B55-4402-BACF-F02A4ED5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492A-E909-4222-A377-784F3DEF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9447-4DC4-4077-9021-07DB4E66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5253-EF8C-468E-B228-4B2DE273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DD23-EF64-4599-8941-5A7A76CE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8F0A-6C2B-419C-A016-2430DF78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2A52-A03C-4A33-B909-22B0F649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DACA-9E16-46A3-9512-0A3B2A13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9F7E-0AED-499C-8E3C-E866FBE5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7714-11D5-464D-A4F7-8B1D9AF1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3682-E485-49C5-AC83-94CBC0D5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40B4D-D858-43F2-81FA-5F78277F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0008-BADA-4E86-968E-693D1090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48FE-88F6-4C1B-BDB0-E5BEC5CA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CDA36-7D46-4F0C-A3BE-AA2473F3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0A2D6-39A0-48D6-9178-64DF7721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F43E-68DD-49D6-A4D9-C88E3C80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65F2-A37F-4E10-AC55-8CE8B432B6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BAB2-3B1F-47DB-BC3D-5723212812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22160" y="2857320"/>
            <a:ext cx="77724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071440" y="0"/>
            <a:ext cx="485748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ратовская область                                               г. Балаково                                              МОУ СОШ № 16                                                                         Солонина Еле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7000920" y="28584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784160" cy="1800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"/>
          <p:cNvPicPr/>
          <p:nvPr/>
        </p:nvPicPr>
        <p:blipFill>
          <a:blip r:embed="rId3"/>
          <a:stretch/>
        </p:blipFill>
        <p:spPr>
          <a:xfrm>
            <a:off x="1403280" y="4292640"/>
            <a:ext cx="2649600" cy="2016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1" descr=""/>
          <p:cNvPicPr/>
          <p:nvPr/>
        </p:nvPicPr>
        <p:blipFill>
          <a:blip r:embed="rId4"/>
          <a:stretch/>
        </p:blipFill>
        <p:spPr>
          <a:xfrm>
            <a:off x="5003640" y="4508640"/>
            <a:ext cx="2808360" cy="159048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тамин E (токоферола ацет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79280" y="1599840"/>
            <a:ext cx="670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 При дальнейших исследованиях выявилось, что роль витамина Е не ограничивается только контролем за репродуктивной функцией. Витамин Е также улучшает циркуляцию крови, необходим для регенерации тканей. Он обеспечивает нормальную свертываемость крови и заживление; снижает возможность образования шрамов от некоторых ран; снижает кровяное давление; способствует предупреждению катаракт; улучшает атлетические достижения; снимает судороги ног; поддерживает здоровье нервов и мускулов; укрепляя стенки капилляров; предотвращает анем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чник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ительные масла, печень, молоко, овся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0" descr=""/>
          <p:cNvPicPr/>
          <p:nvPr/>
        </p:nvPicPr>
        <p:blipFill>
          <a:blip r:embed="rId2"/>
          <a:stretch/>
        </p:blipFill>
        <p:spPr>
          <a:xfrm>
            <a:off x="324000" y="1936800"/>
            <a:ext cx="1511280" cy="1347840"/>
          </a:xfrm>
          <a:prstGeom prst="rect">
            <a:avLst/>
          </a:prstGeom>
          <a:ln w="0">
            <a:noFill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8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тамин К (синтетический фитоменади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 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также играет важню роль в формировании и восстановлении костей, обеспечивает синтез остеокальцина - белка костной ткани, на котором кристаллизуется кальций. Он способствует предупреждению остеопороза, участвует в регуляции окислительно-восстановительных процессов в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"/>
          <p:cNvPicPr/>
          <p:nvPr/>
        </p:nvPicPr>
        <p:blipFill>
          <a:blip r:embed="rId1"/>
          <a:stretch/>
        </p:blipFill>
        <p:spPr>
          <a:xfrm>
            <a:off x="363600" y="1700280"/>
            <a:ext cx="1369800" cy="15145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2" descr=""/>
          <p:cNvPicPr/>
          <p:nvPr/>
        </p:nvPicPr>
        <p:blipFill>
          <a:blip r:embed="rId2"/>
          <a:stretch/>
        </p:blipFill>
        <p:spPr>
          <a:xfrm>
            <a:off x="404640" y="3789360"/>
            <a:ext cx="1214640" cy="1481040"/>
          </a:xfrm>
          <a:prstGeom prst="rect">
            <a:avLst/>
          </a:prstGeom>
          <a:ln w="0">
            <a:noFill/>
          </a:ln>
        </p:spPr>
      </p:pic>
      <p:sp>
        <p:nvSpPr>
          <p:cNvPr id="57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5870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Эти вещества были названы витаминами (vita + amin - "амины жизни" в дословном переводе с латинского), так как первые выделенные в чистом виде витамины содержали в своем составе аминогруппу. И хотя в дальнейшем выяснилось, что далеко не все витаминные вещества содержат в своем составе аминогруппу и вообщ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зот, термин "витамин" укоренился в наук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6372360" y="1700280"/>
            <a:ext cx="2592360" cy="1942920"/>
          </a:xfrm>
          <a:prstGeom prst="rect">
            <a:avLst/>
          </a:prstGeom>
          <a:ln w="0">
            <a:noFill/>
          </a:ln>
        </p:spPr>
      </p:pic>
      <p:sp>
        <p:nvSpPr>
          <p:cNvPr id="53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гласно классическому определению, витамины - это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0" descr="D:\мама\картинки\еда\j0182665.jpg"/>
          <p:cNvPicPr/>
          <p:nvPr/>
        </p:nvPicPr>
        <p:blipFill>
          <a:blip r:embed="rId1"/>
          <a:stretch/>
        </p:blipFill>
        <p:spPr>
          <a:xfrm>
            <a:off x="5929200" y="2714760"/>
            <a:ext cx="3027600" cy="2643120"/>
          </a:xfrm>
          <a:prstGeom prst="rect">
            <a:avLst/>
          </a:prstGeom>
          <a:ln w="0">
            <a:noFill/>
          </a:ln>
        </p:spPr>
      </p:pic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итамин C (аскорбиновая кислот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7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905120" cy="1514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тамин C, или аскорбиновая кислота, относится к водорастворимым витаминам. Всасывание аскорбиновой кислоты происходит на всем протяжении желудочно-кишечного тракта, но большей частью - в тонком кишечнике, путем простой диффузии. В крови и в тканях аскорбиновая кислота находится как в свободном виде, так и в связанном с бел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0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2016000" cy="13399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ль витамина С в организм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6337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скорбиновая кислота участвует в процессах превращения ароматических аминокислот, в процессах кроветворения и в образовании коллагена - основного внеклеточного компонента соединительной тк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достаточность витамина C вызывает цингу - заболевание, приводящее к нарушениям образования коллагена и ряда других компонент соединительных тканей, к постепенному их разрушению. Внешне цинга проявляется такими симптомами, как расшатывание и выпадение зубов, кровоточивость десен, отеки и боли в суставах, бледность кожных покровов, кровоизлияния, плохое заживление ран, различные поражения к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новной источник витамина C для человека - свежие овощи, фрукты, ягоды. Особенно богаты им плоды шиповника. Лекарственные препараты, содержащие аскорбиновую кислоту, применяют для лечения гиповитаминозов, при нарушениях и для стимуляции процессов кроветворения (совместно с фолиевой кислотой, витамином B12 и железом), для укрепления капилляров, стимуляции процессов регенерации тканей, при острых заболеваниях дыхательных путей и при ряде других заболе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D:\мама\картинки\еда\0031.jpg"/>
          <p:cNvPicPr/>
          <p:nvPr/>
        </p:nvPicPr>
        <p:blipFill>
          <a:blip r:embed="rId1"/>
          <a:stretch/>
        </p:blipFill>
        <p:spPr>
          <a:xfrm>
            <a:off x="6359400" y="2214720"/>
            <a:ext cx="2427480" cy="3429000"/>
          </a:xfrm>
          <a:prstGeom prst="rect">
            <a:avLst/>
          </a:prstGeom>
          <a:ln w="0">
            <a:noFill/>
          </a:ln>
        </p:spPr>
      </p:pic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14440" y="42840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ль витамина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785760" y="1357200"/>
            <a:ext cx="5072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выполняет в организме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нормальный рост и дифференциацию клеток развивающегося организма (эмбриона, ребен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процессы деления и дифференциации клеток, быстро обновляющихся тканей - хрящей и костной ткани, сперматогенного эпителия и плаценты, эпителия кожи и слизист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фотохимический процесс акта з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8" descr="D:\мама\картинки\еда\j0177963.jpg"/>
          <p:cNvPicPr/>
          <p:nvPr/>
        </p:nvPicPr>
        <p:blipFill>
          <a:blip r:embed="rId4"/>
          <a:stretch/>
        </p:blipFill>
        <p:spPr>
          <a:xfrm>
            <a:off x="285840" y="3357720"/>
            <a:ext cx="2857320" cy="29289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714240" y="1285560"/>
            <a:ext cx="1857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D:\мама\картинки\еда\j0202062.jpg"/>
          <p:cNvPicPr/>
          <p:nvPr/>
        </p:nvPicPr>
        <p:blipFill>
          <a:blip r:embed="rId6"/>
          <a:stretch/>
        </p:blipFill>
        <p:spPr>
          <a:xfrm>
            <a:off x="285840" y="357120"/>
            <a:ext cx="2857320" cy="2714760"/>
          </a:xfrm>
          <a:prstGeom prst="rect">
            <a:avLst/>
          </a:prstGeom>
          <a:ln w="0">
            <a:noFill/>
          </a:ln>
        </p:spPr>
      </p:pic>
      <p:sp>
        <p:nvSpPr>
          <p:cNvPr id="5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ок витамина А приводит к следующим последствия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7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4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рушение темновой адаптации, ночная слепота (то есть резкое ухудшение зрения в сумерках и в темноте, очень долгое "привыкание" глаз к снижению освещенности) - эти последствия нехватки витамина А проявляются в первую очередь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адержка роста в молодом возраст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олликулярный гиперкератоз (избыточное ороговение кожи, вызванное задержкой смены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ухость слизистых (также вследствие замедленного обновления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серофтальмия (сухость конъюнктивы глаз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мутнение и размягчение роговицы глаза (кератомаляц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рушение функции размножения (оплодотворяющей активности сперматозоидов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1" descr="D:\мама\картинки\еда\j0289726.jpg"/>
          <p:cNvPicPr/>
          <p:nvPr/>
        </p:nvPicPr>
        <p:blipFill>
          <a:blip r:embed="rId2"/>
          <a:stretch/>
        </p:blipFill>
        <p:spPr>
          <a:xfrm>
            <a:off x="285840" y="3857760"/>
            <a:ext cx="2011320" cy="25002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57440" y="213840"/>
            <a:ext cx="450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0" y="11430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в свою группу восемь витами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 (ти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2 (рибофлав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3 (ниац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5 (пантотеновая кисло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6 (пиридокс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7 (биот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2 (цианкобал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лиевая кис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мин В восстанавливает энергию,  помогает бороться с лишним весом, улучшает работу сердечной мыш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ся в печени, почках, мясе и мол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D:\мама\картинки\еда\indeyka.jpg"/>
          <p:cNvPicPr/>
          <p:nvPr/>
        </p:nvPicPr>
        <p:blipFill>
          <a:blip r:embed="rId12"/>
          <a:stretch/>
        </p:blipFill>
        <p:spPr>
          <a:xfrm>
            <a:off x="357120" y="1214280"/>
            <a:ext cx="3143160" cy="25164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D:\мама\картинки\еда\j0177957.jpg"/>
          <p:cNvPicPr/>
          <p:nvPr/>
        </p:nvPicPr>
        <p:blipFill>
          <a:blip r:embed="rId13"/>
          <a:stretch/>
        </p:blipFill>
        <p:spPr>
          <a:xfrm>
            <a:off x="333360" y="3929040"/>
            <a:ext cx="3238560" cy="2108160"/>
          </a:xfrm>
          <a:prstGeom prst="rect">
            <a:avLst/>
          </a:prstGeom>
          <a:ln w="0">
            <a:noFill/>
          </a:ln>
        </p:spPr>
      </p:pic>
      <p:sp>
        <p:nvSpPr>
          <p:cNvPr id="56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74437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РР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Содержимое 6" descr="j0177956.jpg"/>
          <p:cNvPicPr/>
          <p:nvPr/>
        </p:nvPicPr>
        <p:blipFill>
          <a:blip r:embed="rId1"/>
          <a:stretch/>
        </p:blipFill>
        <p:spPr>
          <a:xfrm>
            <a:off x="1643040" y="2214720"/>
            <a:ext cx="6357960" cy="4357440"/>
          </a:xfrm>
          <a:prstGeom prst="rect">
            <a:avLst/>
          </a:prstGeom>
          <a:ln w="0">
            <a:noFill/>
          </a:ln>
        </p:spPr>
      </p:pic>
      <p:pic>
        <p:nvPicPr>
          <p:cNvPr id="563" name="Содержимое 3" descr=""/>
          <p:cNvPicPr/>
          <p:nvPr/>
        </p:nvPicPr>
        <p:blipFill>
          <a:blip r:embed="rId2"/>
          <a:stretch/>
        </p:blipFill>
        <p:spPr>
          <a:xfrm>
            <a:off x="420840" y="4425840"/>
            <a:ext cx="4054320" cy="1895760"/>
          </a:xfrm>
          <a:prstGeom prst="rect">
            <a:avLst/>
          </a:prstGeom>
          <a:ln w="0">
            <a:noFill/>
          </a:ln>
        </p:spPr>
      </p:pic>
      <p:pic>
        <p:nvPicPr>
          <p:cNvPr id="564" name="Текст 4" descr=""/>
          <p:cNvPicPr/>
          <p:nvPr/>
        </p:nvPicPr>
        <p:blipFill>
          <a:blip r:embed="rId3"/>
          <a:stretch/>
        </p:blipFill>
        <p:spPr>
          <a:xfrm>
            <a:off x="719280" y="1146240"/>
            <a:ext cx="7759440" cy="10173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"/>
          <p:cNvPicPr/>
          <p:nvPr/>
        </p:nvPicPr>
        <p:blipFill>
          <a:blip r:embed="rId4"/>
          <a:stretch/>
        </p:blipFill>
        <p:spPr>
          <a:xfrm>
            <a:off x="6877080" y="2637000"/>
            <a:ext cx="1809720" cy="1912680"/>
          </a:xfrm>
          <a:prstGeom prst="rect">
            <a:avLst/>
          </a:prstGeom>
          <a:ln w="0">
            <a:noFill/>
          </a:ln>
        </p:spPr>
      </p:pic>
      <p:sp>
        <p:nvSpPr>
          <p:cNvPr id="56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01:34Z</dcterms:created>
  <dc:creator>Zver</dc:creator>
  <dc:description/>
  <dc:language>en-US</dc:language>
  <cp:lastModifiedBy>LEGION</cp:lastModifiedBy>
  <dcterms:modified xsi:type="dcterms:W3CDTF">2015-05-12T08:09:55Z</dcterms:modified>
  <cp:revision>20</cp:revision>
  <dc:subject/>
  <dc:title>Витамин 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6000000000001024140</vt:lpwstr>
  </property>
</Properties>
</file>