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19.jpeg" ContentType="image/jpeg"/>
  <Override PartName="/ppt/media/image23.jpeg" ContentType="image/jpeg"/>
  <Override PartName="/ppt/media/image18.jpeg" ContentType="image/jpeg"/>
  <Override PartName="/ppt/media/image21.png" ContentType="image/png"/>
  <Override PartName="/ppt/media/image20.jpeg" ContentType="image/jpe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17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87D1-39B9-4D6D-96F6-402E69DCC5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20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762F4-A32F-42AC-B266-73AF774D4A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Витамин E (токоферола ацетат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сточники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тительные масла, печень, молоко, овсянк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C8B-06D9-4D14-A7C6-3DE734D7C9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Витамин К (синтетический фитоменадион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E81F-2033-4BC1-9C15-BB6AA53B1D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788E3-82EB-4ABE-BC2B-AD8444BEB11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406D-35DD-48F2-9762-0970333A4B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356C6-4115-4D5B-8F02-0528191C6CE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4D9A-E4EC-4A95-8542-61F5451E119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оль витамина 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А выполняет в организме следующие функц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еспечивает фотохимический процесс акта зр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A22-AEE1-48A2-BE1B-C0F024B565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задержка роста в молодом возрасте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ухость слизистых (также вследствие замедленного обновления эпител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серофтальмия (сухость конъюнктивы глаза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омутнение и размягчение роговицы глаза (кератомаляция)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365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нарушение функции размножения (оплодотворяющей активности сперматозоидов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22327-265E-4B94-A556-AA9A1C6F76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в свою группу восемь витами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 (ти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2 (рибофлав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3 (ниац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5 (пантотеновая кислот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6 (пиридокс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7 (биот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В12 (цианкобаламин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фолиевая кисло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ится в печени, почках, мясе и моло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28022-FF66-47BE-8E71-97B6FBE792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тамин РР: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D9631-DC8D-4F79-A330-C906A70866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24FA4-6D20-4349-9ACC-0EF08C11A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FC5F0-E96E-4048-AAAB-EF351B5D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CCD36-D196-4739-8F01-8F85B548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F754A-4559-44E1-9645-73CEAFC47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B4D3-74B7-4B84-BCDF-F48956C36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BA11-B688-40B0-8ADC-97A25B55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A2E4-B59B-4864-8B88-98F28E913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2A21B-B0F4-46AB-8703-845C9C83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937C7-DF8F-4EA9-A05B-B39E04B1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80349-4D0F-4E11-92BE-59703EA4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92508-F1F3-456F-A953-AE88F7B1B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2F428-A5A0-4A23-A2AA-F14BD7A4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3C479-052C-43E6-AD95-AB4D9DEDE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0E89-0E1B-47C8-9525-76B78C74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7D61-7AC5-489A-92EB-468FEC154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7EFD-FB56-4312-97DA-3EBFEEDE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A6365-56BD-4195-856F-22CB7D0F8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08034-FF59-4B96-96D9-B19EF56B7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D7178-1FB0-4505-8A59-4F366945A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E9AB17-9813-4555-B5FF-D5F1B084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DB04E-2E64-4ED3-A569-31F60D75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20172-1E9B-4994-82A6-21D971A2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443ED-DA89-4CCC-B62B-83818EAC5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DC7B5-FFDB-457C-B830-2849D3EA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56d4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7068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6a624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c2b476"/>
                </a:gs>
                <a:gs pos="100000">
                  <a:srgbClr val="4c47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CCA18-293D-4B9F-94BB-78DC56DBB95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deb9d"/>
            </a:gs>
            <a:gs pos="100000">
              <a:srgbClr val="7b724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e6d68f"/>
                </a:gs>
                <a:gs pos="100000">
                  <a:srgbClr val="fdeb9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56d4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4c472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807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552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1956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7b724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2795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a8f5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87d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a99d6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fc18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ece8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d6c78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c7b97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7a70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8177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e0ce82"/>
                </a:gs>
                <a:gs pos="100000">
                  <a:srgbClr val="b8a9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92875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8a805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1a46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bfb27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e6d68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fdeb9d"/>
                </a:gs>
                <a:gs pos="100000">
                  <a:srgbClr val="635c3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08D87-BDD2-45BF-9C69-687F442CA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8.jpeg"/><Relationship Id="rId13" Type="http://schemas.openxmlformats.org/officeDocument/2006/relationships/image" Target="../media/image19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22160" y="2857320"/>
            <a:ext cx="777240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2071440" y="0"/>
            <a:ext cx="4857480" cy="192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1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аратовская область                                               г. Балаково                                              МОУ СОШ № 16                                                                         Солонина Елена Владими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7" descr=""/>
          <p:cNvPicPr/>
          <p:nvPr/>
        </p:nvPicPr>
        <p:blipFill>
          <a:blip r:embed="rId1"/>
          <a:stretch/>
        </p:blipFill>
        <p:spPr>
          <a:xfrm>
            <a:off x="7000920" y="285840"/>
            <a:ext cx="1800360" cy="180000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1784160" cy="180000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10" descr=""/>
          <p:cNvPicPr/>
          <p:nvPr/>
        </p:nvPicPr>
        <p:blipFill>
          <a:blip r:embed="rId3"/>
          <a:stretch/>
        </p:blipFill>
        <p:spPr>
          <a:xfrm>
            <a:off x="1403280" y="4292640"/>
            <a:ext cx="2649600" cy="201600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1" descr=""/>
          <p:cNvPicPr/>
          <p:nvPr/>
        </p:nvPicPr>
        <p:blipFill>
          <a:blip r:embed="rId4"/>
          <a:stretch/>
        </p:blipFill>
        <p:spPr>
          <a:xfrm>
            <a:off x="5003640" y="4508640"/>
            <a:ext cx="2808360" cy="1590480"/>
          </a:xfrm>
          <a:prstGeom prst="rect">
            <a:avLst/>
          </a:prstGeom>
          <a:ln w="0">
            <a:noFill/>
          </a:ln>
        </p:spPr>
      </p:pic>
      <p:sp>
        <p:nvSpPr>
          <p:cNvPr id="5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тамин E (токоферола ацетат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95280" y="3716280"/>
            <a:ext cx="1368360" cy="133848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79280" y="1599840"/>
            <a:ext cx="67071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ервые выявили роль витамина Е в репродуктивном процессе в 1920 г. У белой крысы, обычно очень плодовитой, было отмечено прекращение размножения при длительной молочной диете (снятое молоко) с развитием авитаминоза Е. При дальнейших исследованиях выявилось, что роль витамина Е не ограничивается только контролем за репродуктивной функцией. Витамин Е также улучшает циркуляцию крови, необходим для регенерации тканей. Он обеспечивает нормальную свертываемость крови и заживление; снижает возможность образования шрамов от некоторых ран; снижает кровяное давление; способствует предупреждению катаракт; улучшает атлетические достижения; снимает судороги ног; поддерживает здоровье нервов и мускулов; укрепляя стенки капилляров; предотвращает анемию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точники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стительные масла, печень, молоко, овсян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0" name="Picture 10" descr=""/>
          <p:cNvPicPr/>
          <p:nvPr/>
        </p:nvPicPr>
        <p:blipFill>
          <a:blip r:embed="rId2"/>
          <a:stretch/>
        </p:blipFill>
        <p:spPr>
          <a:xfrm>
            <a:off x="324000" y="1936800"/>
            <a:ext cx="1511280" cy="1347840"/>
          </a:xfrm>
          <a:prstGeom prst="rect">
            <a:avLst/>
          </a:prstGeom>
          <a:ln w="0">
            <a:noFill/>
          </a:ln>
        </p:spPr>
      </p:pic>
      <p:sp>
        <p:nvSpPr>
          <p:cNvPr id="5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0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800" fill="hold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7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итамин К (синтетический фитоменадио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2050560" y="1599840"/>
            <a:ext cx="66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является жирорастворимым витамином, запасаемым в небольших количествах в печени, он разрушается на свету и в щелочных растворах. Впервые было высказано предположение о наличии фактора, влияющего на свертываемость крови, в 1929 г. Датский биохимик Хенрик Дам (Henrik Dam) выделил жирорастворимый витамин, который в 1935 г. назвали витамином К (koagulations vitamin) из-за его роли в свертываемости крови. За эту работу ему в 1943 г. была присуждена Нобелевская прем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итамин К также играет важню роль в формировании и восстановлении костей, обеспечивает синтез остеокальцина - белка костной ткани, на котором кристаллизуется кальций. Он способствует предупреждению остеопороза, участвует в регуляции окислительно-восстановительных процессов в организм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Picture 11" descr=""/>
          <p:cNvPicPr/>
          <p:nvPr/>
        </p:nvPicPr>
        <p:blipFill>
          <a:blip r:embed="rId1"/>
          <a:stretch/>
        </p:blipFill>
        <p:spPr>
          <a:xfrm>
            <a:off x="363600" y="1700280"/>
            <a:ext cx="1369800" cy="15145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2" descr=""/>
          <p:cNvPicPr/>
          <p:nvPr/>
        </p:nvPicPr>
        <p:blipFill>
          <a:blip r:embed="rId2"/>
          <a:stretch/>
        </p:blipFill>
        <p:spPr>
          <a:xfrm>
            <a:off x="404640" y="3789360"/>
            <a:ext cx="1214640" cy="1481040"/>
          </a:xfrm>
          <a:prstGeom prst="rect">
            <a:avLst/>
          </a:prstGeom>
          <a:ln w="0">
            <a:noFill/>
          </a:ln>
        </p:spPr>
      </p:pic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nodeType="clickEffect" fill="hold">
                      <p:stCondLst>
                        <p:cond delay="0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900" fill="hold"/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323640" y="1483920"/>
            <a:ext cx="58705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были открыты на рубеже 19-20 веков в результате исследований роли различных пищевых веществ в жизнедеятельности организма. Основоположником витаминологии можно считать русского ученого Н.И.Лунина, который в 1880 году первым доказал, что помимо белков, жиров, углеводов, воды и минеральных веществ необходимы еще какие-то вещества, без которых организм не может существовать. Эти вещества были названы витаминами (vita + amin - "амины жизни" в дословном переводе с латинского), так как первые выделенные в чистом виде витамины содержали в своем составе аминогруппу. И хотя в дальнейшем выяснилось, что далеко не все витаминные вещества содержат в своем составе аминогруппу и вообще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азот, термин "витамин" укоренился в науке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Picture 8" descr=""/>
          <p:cNvPicPr/>
          <p:nvPr/>
        </p:nvPicPr>
        <p:blipFill>
          <a:blip r:embed="rId1"/>
          <a:stretch/>
        </p:blipFill>
        <p:spPr>
          <a:xfrm>
            <a:off x="6372360" y="1700280"/>
            <a:ext cx="2592360" cy="1942920"/>
          </a:xfrm>
          <a:prstGeom prst="rect">
            <a:avLst/>
          </a:prstGeom>
          <a:ln w="0">
            <a:noFill/>
          </a:ln>
        </p:spPr>
      </p:pic>
      <p:sp>
        <p:nvSpPr>
          <p:cNvPr id="53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800" fill="hold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/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590544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гласно классическому определению, витамины - это необходимые для нормальной жизнедеятельности низкомолекулярные органические вещества, которые не синтезируются организмом данного вида или синтезируются в количестве, недостаточном для обеспечения жизнедеятельности организм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итамины необходимы для нормального протекания практически всех биохимических процессов в нашем организме. Они обеспечивают функции желез внутренней секреции, то есть выработку гормонов, повышение умственной и физической работоспособности, поддерживают устойчивость организма к воздействию неблагоприятных факторов внешней среды (жара, холод, инфекции, интоксикации)... Этот список далеко не полон.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10" descr="D:\мама\картинки\еда\j0182665.jpg"/>
          <p:cNvPicPr/>
          <p:nvPr/>
        </p:nvPicPr>
        <p:blipFill>
          <a:blip r:embed="rId1"/>
          <a:stretch/>
        </p:blipFill>
        <p:spPr>
          <a:xfrm>
            <a:off x="5929200" y="2714760"/>
            <a:ext cx="3027600" cy="2643120"/>
          </a:xfrm>
          <a:prstGeom prst="rect">
            <a:avLst/>
          </a:prstGeom>
          <a:ln w="0">
            <a:noFill/>
          </a:ln>
        </p:spPr>
      </p:pic>
      <p:sp>
        <p:nvSpPr>
          <p:cNvPr id="53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1844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итамин C (аскорбиновая кислота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17" descr=""/>
          <p:cNvPicPr/>
          <p:nvPr/>
        </p:nvPicPr>
        <p:blipFill>
          <a:blip r:embed="rId1"/>
          <a:stretch/>
        </p:blipFill>
        <p:spPr>
          <a:xfrm>
            <a:off x="395280" y="1700280"/>
            <a:ext cx="1905120" cy="151452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итамин C, или аскорбиновая кислота, относится к водорастворимым витаминам. Всасывание аскорбиновой кислоты происходит на всем протяжении желудочно-кишечного тракта, но большей частью - в тонком кишечнике, путем простой диффузии. В крови и в тканях аскорбиновая кислота находится как в свободном виде, так и в связанном с белками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20" descr=""/>
          <p:cNvPicPr/>
          <p:nvPr/>
        </p:nvPicPr>
        <p:blipFill>
          <a:blip r:embed="rId2"/>
          <a:stretch/>
        </p:blipFill>
        <p:spPr>
          <a:xfrm>
            <a:off x="250920" y="3789360"/>
            <a:ext cx="2016000" cy="133992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0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" dur="1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6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600" fill="hold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8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21844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ль витамина С в организме человека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250560" y="1600200"/>
            <a:ext cx="63370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Аскорбиновая кислота участвует в процессах превращения ароматических аминокислот, в процессах кроветворения и в образовании коллагена - основного внеклеточного компонента соединительной ткан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Недостаточность витамина C вызывает цингу - заболевание, приводящее к нарушениям образования коллагена и ряда других компонент соединительных тканей, к постепенному их разрушению. Внешне цинга проявляется такими симптомами, как расшатывание и выпадение зубов, кровоточивость десен, отеки и боли в суставах, бледность кожных покровов, кровоизлияния, плохое заживление ран, различные поражения кос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Основной источник витамина C для человека - свежие овощи, фрукты, ягоды. Особенно богаты им плоды шиповника. Лекарственные препараты, содержащие аскорбиновую кислоту, применяют для лечения гиповитаминозов, при нарушениях и для стимуляции процессов кроветворения (совместно с фолиевой кислотой, витамином B12 и железом), для укрепления капилляров, стимуляции процессов регенерации тканей, при острых заболеваниях дыхательных путей и при ряде других заболеван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8" descr="D:\мама\картинки\еда\0031.jpg"/>
          <p:cNvPicPr/>
          <p:nvPr/>
        </p:nvPicPr>
        <p:blipFill>
          <a:blip r:embed="rId1"/>
          <a:stretch/>
        </p:blipFill>
        <p:spPr>
          <a:xfrm>
            <a:off x="6359400" y="2214720"/>
            <a:ext cx="2427480" cy="3429000"/>
          </a:xfrm>
          <a:prstGeom prst="rect">
            <a:avLst/>
          </a:prstGeom>
          <a:ln w="0">
            <a:noFill/>
          </a:ln>
        </p:spPr>
      </p:pic>
      <p:sp>
        <p:nvSpPr>
          <p:cNvPr id="54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nodeType="clickEffect" fill="hold">
                      <p:stCondLst>
                        <p:cond delay="0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9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9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9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214440" y="428400"/>
            <a:ext cx="5715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Роль витамина А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785760" y="1357200"/>
            <a:ext cx="50720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тамин А выполняет в организме следующие функ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нормальный рост и дифференциацию клеток развивающегося организма (эмбриона, ребенка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гулирует процессы деления и дифференциации клеток, быстро обновляющихся тканей - хрящей и костной ткани, сперматогенного эпителия и плаценты, эпителия кожи и слизистых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еспечивает фотохимический процесс акта зр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Picture 8" descr="D:\мама\картинки\еда\j0177963.jpg"/>
          <p:cNvPicPr/>
          <p:nvPr/>
        </p:nvPicPr>
        <p:blipFill>
          <a:blip r:embed="rId4"/>
          <a:stretch/>
        </p:blipFill>
        <p:spPr>
          <a:xfrm>
            <a:off x="285840" y="3357720"/>
            <a:ext cx="2857320" cy="292896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 txBox="1"/>
          <p:nvPr/>
        </p:nvSpPr>
        <p:spPr>
          <a:xfrm>
            <a:off x="714240" y="1285560"/>
            <a:ext cx="1857600" cy="184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9" descr="D:\мама\картинки\еда\j0202062.jpg"/>
          <p:cNvPicPr/>
          <p:nvPr/>
        </p:nvPicPr>
        <p:blipFill>
          <a:blip r:embed="rId6"/>
          <a:stretch/>
        </p:blipFill>
        <p:spPr>
          <a:xfrm>
            <a:off x="285840" y="357120"/>
            <a:ext cx="2857320" cy="2714760"/>
          </a:xfrm>
          <a:prstGeom prst="rect">
            <a:avLst/>
          </a:prstGeom>
          <a:ln w="0">
            <a:noFill/>
          </a:ln>
        </p:spPr>
      </p:pic>
      <p:sp>
        <p:nvSpPr>
          <p:cNvPr id="55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5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5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9" dur="1000"/>
                                        <p:tgtEl>
                                          <p:spTgt spid="5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5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Недостаток витамина А приводит к следующим последствиям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7" descr=""/>
          <p:cNvPicPr/>
          <p:nvPr/>
        </p:nvPicPr>
        <p:blipFill>
          <a:blip r:embed="rId1"/>
          <a:stretch/>
        </p:blipFill>
        <p:spPr>
          <a:xfrm>
            <a:off x="285840" y="1357200"/>
            <a:ext cx="2000160" cy="2286000"/>
          </a:xfrm>
          <a:prstGeom prst="rect">
            <a:avLst/>
          </a:prstGeom>
          <a:ln w="0">
            <a:noFill/>
          </a:ln>
        </p:spPr>
      </p:pic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268000" y="1844280"/>
            <a:ext cx="6418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темновой адаптации, ночная слепота (то есть резкое ухудшение зрения в сумерках и в темноте, очень долгое "привыкание" глаз к снижению освещенности) - эти последствия нехватки витамина А проявляются в первую очередь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задержка роста в молодом возрасте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фолликулярный гиперкератоз (избыточное ороговение кожи, вызванное задержкой смены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сухость слизистых (также вследствие замедленного обновления эпител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ксерофтальмия (сухость конъюнктивы глаза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помутнение и размягчение роговицы глаза (кератомаляция)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365040" indent="-169920">
              <a:lnSpc>
                <a:spcPct val="80000"/>
              </a:lnSpc>
              <a:spcBef>
                <a:spcPts val="476"/>
              </a:spcBef>
              <a:buClr>
                <a:srgbClr val="8c89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нарушение функции размножения (оплодотворяющей активности сперматозоидов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Picture 11" descr="D:\мама\картинки\еда\j0289726.jpg"/>
          <p:cNvPicPr/>
          <p:nvPr/>
        </p:nvPicPr>
        <p:blipFill>
          <a:blip r:embed="rId2"/>
          <a:stretch/>
        </p:blipFill>
        <p:spPr>
          <a:xfrm>
            <a:off x="285840" y="3857760"/>
            <a:ext cx="2011320" cy="2500200"/>
          </a:xfrm>
          <a:prstGeom prst="rect">
            <a:avLst/>
          </a:prstGeom>
          <a:ln w="0">
            <a:noFill/>
          </a:ln>
        </p:spPr>
      </p:pic>
      <p:sp>
        <p:nvSpPr>
          <p:cNvPr id="55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18,-76,-62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21,-9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5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9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40"/>
                            </p:stCondLst>
                            <p:childTnLst>
                              <p:par>
                                <p:cTn id="18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4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" dur="1000"/>
                                        <p:tgtEl>
                                          <p:spTgt spid="5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357440" y="213840"/>
            <a:ext cx="4500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В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0" y="1143000"/>
            <a:ext cx="403848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451"/>
              </a:spcBef>
              <a:buSzPct val="18290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ключает в свою группу восемь витаминов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 (ти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2 (рибофлав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3 (ниац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5 (пантотеновая кислот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6 (пиридокс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7 (биот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В12 (цианкобаламин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фолиевая кисло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итамин В восстанавливает энергию,  помогает бороться с лишним весом, улучшает работу сердечной мышц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451"/>
              </a:spcBef>
              <a:buSzPct val="18290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держится в печени, почках, мясе и мол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Picture 2" descr="D:\мама\картинки\еда\indeyka.jpg"/>
          <p:cNvPicPr/>
          <p:nvPr/>
        </p:nvPicPr>
        <p:blipFill>
          <a:blip r:embed="rId12"/>
          <a:stretch/>
        </p:blipFill>
        <p:spPr>
          <a:xfrm>
            <a:off x="357120" y="1214280"/>
            <a:ext cx="3143160" cy="25164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3" descr="D:\мама\картинки\еда\j0177957.jpg"/>
          <p:cNvPicPr/>
          <p:nvPr/>
        </p:nvPicPr>
        <p:blipFill>
          <a:blip r:embed="rId13"/>
          <a:stretch/>
        </p:blipFill>
        <p:spPr>
          <a:xfrm>
            <a:off x="333360" y="3929040"/>
            <a:ext cx="3238560" cy="2108160"/>
          </a:xfrm>
          <a:prstGeom prst="rect">
            <a:avLst/>
          </a:prstGeom>
          <a:ln w="0">
            <a:noFill/>
          </a:ln>
        </p:spPr>
      </p:pic>
      <p:sp>
        <p:nvSpPr>
          <p:cNvPr id="560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7443720" cy="164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итамин РР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Содержимое 6" descr="j0177956.jpg"/>
          <p:cNvPicPr/>
          <p:nvPr/>
        </p:nvPicPr>
        <p:blipFill>
          <a:blip r:embed="rId1"/>
          <a:stretch/>
        </p:blipFill>
        <p:spPr>
          <a:xfrm>
            <a:off x="1643040" y="2214720"/>
            <a:ext cx="6357960" cy="4357440"/>
          </a:xfrm>
          <a:prstGeom prst="rect">
            <a:avLst/>
          </a:prstGeom>
          <a:ln w="0">
            <a:noFill/>
          </a:ln>
        </p:spPr>
      </p:pic>
      <p:pic>
        <p:nvPicPr>
          <p:cNvPr id="563" name="Содержимое 3" descr=""/>
          <p:cNvPicPr/>
          <p:nvPr/>
        </p:nvPicPr>
        <p:blipFill>
          <a:blip r:embed="rId2"/>
          <a:stretch/>
        </p:blipFill>
        <p:spPr>
          <a:xfrm>
            <a:off x="420840" y="4425840"/>
            <a:ext cx="4054320" cy="1895760"/>
          </a:xfrm>
          <a:prstGeom prst="rect">
            <a:avLst/>
          </a:prstGeom>
          <a:ln w="0">
            <a:noFill/>
          </a:ln>
        </p:spPr>
      </p:pic>
      <p:pic>
        <p:nvPicPr>
          <p:cNvPr id="564" name="Текст 4" descr=""/>
          <p:cNvPicPr/>
          <p:nvPr/>
        </p:nvPicPr>
        <p:blipFill>
          <a:blip r:embed="rId3"/>
          <a:stretch/>
        </p:blipFill>
        <p:spPr>
          <a:xfrm>
            <a:off x="719280" y="1146240"/>
            <a:ext cx="7759440" cy="101736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6" descr=""/>
          <p:cNvPicPr/>
          <p:nvPr/>
        </p:nvPicPr>
        <p:blipFill>
          <a:blip r:embed="rId4"/>
          <a:stretch/>
        </p:blipFill>
        <p:spPr>
          <a:xfrm>
            <a:off x="6877080" y="2637000"/>
            <a:ext cx="1809720" cy="1912680"/>
          </a:xfrm>
          <a:prstGeom prst="rect">
            <a:avLst/>
          </a:prstGeom>
          <a:ln w="0">
            <a:noFill/>
          </a:ln>
        </p:spPr>
      </p:pic>
      <p:sp>
        <p:nvSpPr>
          <p:cNvPr id="566" name="Місце для нижнього колонтитула 2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withEffect" fill="hold" presetClass="entr" presetID="2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" dur="1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7:01:34Z</dcterms:created>
  <dc:creator>Zver</dc:creator>
  <dc:description/>
  <dc:language>en-US</dc:language>
  <cp:lastModifiedBy>LEGION</cp:lastModifiedBy>
  <dcterms:modified xsi:type="dcterms:W3CDTF">2015-05-12T08:09:55Z</dcterms:modified>
  <cp:revision>20</cp:revision>
  <dc:subject/>
  <dc:title>Витамин C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c16000000000001024140</vt:lpwstr>
  </property>
</Properties>
</file>