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png" ContentType="image/png"/>
  <Override PartName="/ppt/media/image46.jpeg" ContentType="image/jpeg"/>
  <Override PartName="/ppt/media/image32.jpeg" ContentType="image/jpeg"/>
  <Override PartName="/ppt/media/image41.jpeg" ContentType="image/jpeg"/>
  <Override PartName="/ppt/media/image14.jpeg" ContentType="image/jpeg"/>
  <Override PartName="/ppt/media/image8.png" ContentType="image/png"/>
  <Override PartName="/ppt/media/image17.png" ContentType="image/png"/>
  <Override PartName="/ppt/media/image39.jpeg" ContentType="image/jpeg"/>
  <Override PartName="/ppt/media/image4.jpeg" ContentType="image/jpeg"/>
  <Override PartName="/ppt/media/image61.jpeg" ContentType="image/jpeg"/>
  <Override PartName="/ppt/media/image25.jpeg" ContentType="image/jpeg"/>
  <Override PartName="/ppt/media/image2.jpeg" ContentType="image/jpeg"/>
  <Override PartName="/ppt/media/image57.png" ContentType="image/png"/>
  <Override PartName="/ppt/media/image37.jpeg" ContentType="image/jpeg"/>
  <Override PartName="/ppt/media/image3.jpeg" ContentType="image/jpeg"/>
  <Override PartName="/ppt/media/image60.jpeg" ContentType="image/jpeg"/>
  <Override PartName="/ppt/media/image24.jpeg" ContentType="image/jpeg"/>
  <Override PartName="/ppt/media/image1.png" ContentType="image/png"/>
  <Override PartName="/ppt/media/image15.jpeg" ContentType="image/jpeg"/>
  <Override PartName="/ppt/media/image49.jpeg" ContentType="image/jpeg"/>
  <Override PartName="/ppt/media/image16.png" ContentType="image/png"/>
  <Override PartName="/ppt/media/image5.jpeg" ContentType="image/jpeg"/>
  <Override PartName="/ppt/media/image26.jpeg" ContentType="image/jpeg"/>
  <Override PartName="/ppt/media/image63.png" ContentType="image/png"/>
  <Override PartName="/ppt/media/image51.jpeg" ContentType="image/jpeg"/>
  <Override PartName="/ppt/media/image27.png" ContentType="image/png"/>
  <Override PartName="/ppt/media/image33.jpeg" ContentType="image/jpeg"/>
  <Override PartName="/ppt/media/image29.jpeg" ContentType="image/jpeg"/>
  <Override PartName="/ppt/media/image21.jpeg" ContentType="image/jpeg"/>
  <Override PartName="/ppt/media/image62.gif" ContentType="image/gif"/>
  <Override PartName="/ppt/media/image45.jpeg" ContentType="image/jpeg"/>
  <Override PartName="/ppt/media/image19.jpeg" ContentType="image/jpeg"/>
  <Override PartName="/ppt/media/image18.jpeg" ContentType="image/jpeg"/>
  <Override PartName="/ppt/media/image28.jpeg" ContentType="image/jpeg"/>
  <Override PartName="/ppt/media/image11.jpeg" ContentType="image/jpeg"/>
  <Override PartName="/ppt/media/image22.jpeg" ContentType="image/jpeg"/>
  <Override PartName="/ppt/media/image9.png" ContentType="image/png"/>
  <Override PartName="/ppt/media/image7.png" ContentType="image/png"/>
  <Override PartName="/ppt/media/image34.jpeg" ContentType="image/jpeg"/>
  <Override PartName="/ppt/media/image20.jpeg" ContentType="image/jpeg"/>
  <Override PartName="/ppt/media/image12.png" ContentType="image/png"/>
  <Override PartName="/ppt/media/image6.jpeg" ContentType="image/jpeg"/>
  <Override PartName="/ppt/media/image36.jpeg" ContentType="image/jpeg"/>
  <Override PartName="/ppt/media/image10.png" ContentType="image/png"/>
  <Override PartName="/ppt/media/image5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35.png" ContentType="image/png"/>
  <Override PartName="/ppt/media/image43.jpeg" ContentType="image/jpeg"/>
  <Override PartName="/ppt/media/image38.jpeg" ContentType="image/jpeg"/>
  <Override PartName="/ppt/media/image44.jpeg" ContentType="image/jpeg"/>
  <Override PartName="/ppt/media/image47.jpeg" ContentType="image/jpeg"/>
  <Override PartName="/ppt/media/image48.jpeg" ContentType="image/jpeg"/>
  <Override PartName="/ppt/media/image50.jpeg" ContentType="image/jpeg"/>
  <Override PartName="/ppt/media/image52.png" ContentType="image/png"/>
  <Override PartName="/ppt/media/image23.png" ContentType="image/png"/>
  <Override PartName="/ppt/media/image53.jpeg" ContentType="image/jpeg"/>
  <Override PartName="/ppt/media/image54.jpeg" ContentType="image/jpeg"/>
  <Override PartName="/ppt/media/image40.jpeg" ContentType="image/jpeg"/>
  <Override PartName="/ppt/media/image5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B177-B9F9-45F8-8826-2840F70CF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Клещевой</a:t>
            </a:r>
            <a:r>
              <a:rPr b="1" lang="en-US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c80000"/>
                </a:solidFill>
                <a:latin typeface="Times New Roman"/>
                <a:ea typeface="Times New Roman"/>
              </a:rPr>
              <a:t>энцефал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01495-B34C-44A1-9D33-DDC2DCE0E68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45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451"/>
              </a:spcBef>
              <a:buClr>
                <a:srgbClr val="c8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D610-03BE-409E-AC7D-21887FFAFDF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иммуноглобули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но стоит ли рисковать?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c80000"/>
                </a:solidFill>
                <a:latin typeface="Arial"/>
                <a:ea typeface="Arial"/>
              </a:rPr>
              <a:t>Стоит ли рискова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19A4-3EA9-4A57-8E79-27742FC0E3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Экстренн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Иммуноглобулин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тоит ввести и привитому человеку, если клещей присосалось м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048-5F75-4AFE-BD84-60B74BA913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дномоментно прием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циклоферона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4 таблетки в первый день, 2 таблетки на 2, 4, 6 дней профилактического леч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0184-1962-4064-B40B-BEB1B63A080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Само и взаимопомощь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3153B-D6B2-4DFA-971A-7E9EA988C4C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едует избегать разрушения клеща, так как может произойти заражение вирусом!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Место укуса обработать йодом или спир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6E17E-97F4-4FC9-A751-18363C591D8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Экстренная профилактика в первые 72 часа после укуса клещ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D9B0-4591-4BEA-87F4-7B33347CA3D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Плановая профилак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клещевого энцефали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Без прививки - не допустят к работ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37C11-B51A-437D-BEF7-FC1B2BC334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лияние клещевого энцефалита на организм и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C80-794E-46E1-90D7-008E45DDE6A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80000"/>
                </a:solidFill>
                <a:latin typeface="Calibri"/>
              </a:rPr>
              <a:t>Ревакцинация через каждые 3 года.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2379-BFE7-4658-B48F-50305FCF96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прошлом году в лечебно – профилактические учреждения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Иркутской област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 укусами клещей обратилис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2246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человек. Эт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на 15 % больше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чем в 2004 году. За этот период зарегистрировано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19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случаев заболевания клещевым энцефалитом и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137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боррелиоз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94 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2,1%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B6675-AEB7-48D4-BC85-DCE3B3FA8A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Народные средства д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тпугивания клещ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) и увеличением количества </a:t>
            </a:r>
            <a:r>
              <a:rPr b="1" i="1" lang="ru-RU" sz="1200" spc="-1" strike="noStrike" u="sng">
                <a:solidFill>
                  <a:srgbClr val="c80000"/>
                </a:solidFill>
                <a:uFillTx/>
                <a:latin typeface="Calibri"/>
              </a:rPr>
              <a:t>мышей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5253E-95AE-4073-829E-335C6309D98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лесные муравьи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Вырабатываемая ими кислота является природным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репелленто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51E-589C-4112-AD28-5E9920038C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DF53-9EB6-491E-BED3-EB8CC5A9DF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B624B-BC7D-4B06-BAF9-14CD29B3B33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клю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008B8-415E-44C8-ADC7-6A2D515BED1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80000"/>
                </a:solidFill>
                <a:latin typeface="Calibri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A0C98-2A68-43C0-8E8F-28E16B4420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a003a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1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. Альская Т.В. Советы по разным поводам // Предупреждение. Библиотечка ЗОЖ. М.: - 2003. - №2/14/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5. Покровский В. И. Энциклопедия здоровья в 4 томах. Том 2. - М. : ИПО «Автор», 1992. – С.2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FB20F-AA76-4556-B904-0EFC021CC09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Зада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1. Выяснить степень влияния клещевого энцефалита на здоровье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2. Познакомить учащихся с профилактикой против клещей – возбудител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E977C-4D69-4791-9225-72E406CF532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втор през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2519D-EF96-4EBD-865F-A9892C817E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Акту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FA44-8E13-4FF0-A292-C17B099AED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В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Клещевой энцефалит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6484-ECA9-4474-8AA6-4BA227B66C3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6600"/>
                </a:solidFill>
                <a:latin typeface="Times New Roman"/>
                <a:ea typeface="Times New Roman"/>
              </a:rPr>
              <a:t>Общая характерист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ирусная инфекция передается в основном клещ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езонность  -  весенняя – летня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оражает нерв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ри отсутствии должной профилактики и лечения, приводит к инвалидизации (80%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етальность составляет от 2%  до 20%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FA162-8517-4619-B289-A7787EEAE6D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Карта распростран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энцефалитного клещ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о территории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летом 2007 г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7941-6B98-4F8E-BE3A-1E0ADD55818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1200" spc="-1" strike="noStrike" u="sng">
                <a:solidFill>
                  <a:srgbClr val="ffffff"/>
                </a:solidFill>
                <a:uFillTx/>
                <a:latin typeface="Calibri"/>
              </a:rPr>
              <a:t>нужно быть предельно осторожным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стараться ходить по тропинкам, подальше от высокой травы и   кустарни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80000"/>
                </a:solidFill>
                <a:latin typeface="Calibri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0B2-3100-4554-85B3-DFBEDC0CC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E6B7-D68C-40BB-B717-D185EE19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6646-6FA8-426E-91D2-C8ACA69A3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C947-237E-4A20-99D0-FA189F8D4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6F91-D2C1-4C11-9F32-03151F7C3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8B554-3166-4A75-A678-AB5854D82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9D9C-BBB1-4C96-B2F1-AB143B9F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CDDA-0105-4DFA-A2DA-274D831E9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680B-7246-4BB4-8858-E44B0F28A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B294-E695-49B1-B642-C16172B2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1622-583C-4DE3-985A-F9C53C6DD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B185-7051-4230-9492-C1549F66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C8B-F31E-48E1-A32A-D21283B80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B4DA2-A518-48EF-9D4D-4B82695060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3"/>
          <p:cNvSpPr txBox="1"/>
          <p:nvPr/>
        </p:nvSpPr>
        <p:spPr>
          <a:xfrm>
            <a:off x="1258920" y="4991040"/>
            <a:ext cx="7632720" cy="148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энцефалит 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49" name="WordArt 5"/>
          <p:cNvSpPr txBox="1"/>
          <p:nvPr/>
        </p:nvSpPr>
        <p:spPr>
          <a:xfrm>
            <a:off x="3851280" y="185760"/>
            <a:ext cx="50418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ffff00"/>
                  </a:solidFill>
                  <a:miter/>
                </a:ln>
                <a:solidFill>
                  <a:srgbClr val="c80000"/>
                </a:solidFill>
                <a:latin typeface="Times New Roman"/>
              </a:rPr>
              <a:t>Клещевой</a:t>
            </a:r>
            <a:endParaRPr b="1" lang="en-US" sz="1800" spc="1" strike="noStrike">
              <a:ln w="25560">
                <a:solidFill>
                  <a:srgbClr val="ffff00"/>
                </a:solidFill>
                <a:miter/>
              </a:ln>
              <a:solidFill>
                <a:srgbClr val="c80000"/>
              </a:solidFill>
              <a:latin typeface="Times New Roman"/>
              <a:ea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3" descr="foto_0001389"/>
          <p:cNvPicPr/>
          <p:nvPr/>
        </p:nvPicPr>
        <p:blipFill>
          <a:blip r:embed="rId1"/>
          <a:stretch/>
        </p:blipFill>
        <p:spPr>
          <a:xfrm>
            <a:off x="250920" y="333360"/>
            <a:ext cx="4167000" cy="5113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82" name="Picture 4" descr="22"/>
          <p:cNvPicPr/>
          <p:nvPr/>
        </p:nvPicPr>
        <p:blipFill>
          <a:blip r:embed="rId2"/>
          <a:stretch/>
        </p:blipFill>
        <p:spPr>
          <a:xfrm>
            <a:off x="5076720" y="333360"/>
            <a:ext cx="3783240" cy="511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grpSp>
        <p:nvGrpSpPr>
          <p:cNvPr id="83" name="Group 8"/>
          <p:cNvGrpSpPr/>
          <p:nvPr/>
        </p:nvGrpSpPr>
        <p:grpSpPr>
          <a:xfrm>
            <a:off x="5364000" y="189000"/>
            <a:ext cx="3384720" cy="5400720"/>
            <a:chOff x="5364000" y="189000"/>
            <a:chExt cx="3384720" cy="5400720"/>
          </a:xfrm>
        </p:grpSpPr>
        <p:sp>
          <p:nvSpPr>
            <p:cNvPr id="84" name="Line 5"/>
            <p:cNvSpPr/>
            <p:nvPr/>
          </p:nvSpPr>
          <p:spPr>
            <a:xfrm>
              <a:off x="5364000" y="189000"/>
              <a:ext cx="338472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6"/>
            <p:cNvSpPr/>
            <p:nvPr/>
          </p:nvSpPr>
          <p:spPr>
            <a:xfrm flipH="1">
              <a:off x="5589720" y="189000"/>
              <a:ext cx="2989080" cy="5400720"/>
            </a:xfrm>
            <a:prstGeom prst="line">
              <a:avLst/>
            </a:prstGeom>
            <a:ln w="76320">
              <a:solidFill>
                <a:srgbClr val="c8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6" name="Picture 7" descr="49008751"/>
          <p:cNvPicPr/>
          <p:nvPr/>
        </p:nvPicPr>
        <p:blipFill>
          <a:blip r:embed="rId3"/>
          <a:stretch/>
        </p:blipFill>
        <p:spPr>
          <a:xfrm>
            <a:off x="3414600" y="4724280"/>
            <a:ext cx="2311560" cy="1946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image002"/>
          <p:cNvPicPr/>
          <p:nvPr/>
        </p:nvPicPr>
        <p:blipFill>
          <a:blip r:embed="rId1"/>
          <a:srcRect l="0" t="0" r="12557" b="8717"/>
          <a:stretch/>
        </p:blipFill>
        <p:spPr>
          <a:xfrm>
            <a:off x="1258920" y="189000"/>
            <a:ext cx="6767640" cy="6480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924360" y="189000"/>
            <a:ext cx="504036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само и взаимоосмотры при выходе из леса, возвращении домой – необходимо раздеться и тщательно осмотреть кожу  - не присосался ли где клещ;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c8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возможность заражения – употребление сырого молока коз или коров (при  кипячении вирус погибает  через 2 минуты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kl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8926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2" name="Picture 4" descr="319"/>
          <p:cNvPicPr/>
          <p:nvPr/>
        </p:nvPicPr>
        <p:blipFill>
          <a:blip r:embed="rId2"/>
          <a:stretch/>
        </p:blipFill>
        <p:spPr>
          <a:xfrm>
            <a:off x="250920" y="3500280"/>
            <a:ext cx="3816360" cy="3100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3"/>
          <p:cNvSpPr/>
          <p:nvPr/>
        </p:nvSpPr>
        <p:spPr>
          <a:xfrm>
            <a:off x="4284720" y="1413000"/>
            <a:ext cx="4716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ля предотвращения развития заболевания, при обнаружении впившегося в тело клеща в течение первых 3-х дней (лучше в течение суток) необходимо обратиться  в медицинское учреждение для введения донорского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иммуноглобулина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Там же вам удалят присосавшегося паразита. Не каждый клещ является «заразным»,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но стоит ли рисковать?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6"/>
          <p:cNvSpPr txBox="1"/>
          <p:nvPr/>
        </p:nvSpPr>
        <p:spPr>
          <a:xfrm>
            <a:off x="324000" y="189000"/>
            <a:ext cx="84610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96" name="Picture 9" descr="doctors_0004062919"/>
          <p:cNvPicPr/>
          <p:nvPr/>
        </p:nvPicPr>
        <p:blipFill>
          <a:blip r:embed="rId1"/>
          <a:stretch/>
        </p:blipFill>
        <p:spPr>
          <a:xfrm>
            <a:off x="179280" y="3933720"/>
            <a:ext cx="2521080" cy="1954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97" name="WordArt 10"/>
          <p:cNvSpPr txBox="1"/>
          <p:nvPr/>
        </p:nvSpPr>
        <p:spPr>
          <a:xfrm>
            <a:off x="250920" y="6021360"/>
            <a:ext cx="42498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80000"/>
                </a:solidFill>
                <a:latin typeface="Arial"/>
              </a:rPr>
              <a:t>Стоит ли рисковать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80000"/>
              </a:solidFill>
              <a:latin typeface="Arial"/>
              <a:ea typeface="Arial"/>
            </a:endParaRPr>
          </a:p>
        </p:txBody>
      </p:sp>
      <p:pic>
        <p:nvPicPr>
          <p:cNvPr id="98" name="Picture 13" descr="m_1531"/>
          <p:cNvPicPr/>
          <p:nvPr/>
        </p:nvPicPr>
        <p:blipFill>
          <a:blip r:embed="rId2"/>
          <a:stretch/>
        </p:blipFill>
        <p:spPr>
          <a:xfrm>
            <a:off x="2124000" y="3068640"/>
            <a:ext cx="2305080" cy="1655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99" name="Picture 14" descr="фф"/>
          <p:cNvPicPr/>
          <p:nvPr/>
        </p:nvPicPr>
        <p:blipFill>
          <a:blip r:embed="rId3"/>
          <a:stretch/>
        </p:blipFill>
        <p:spPr>
          <a:xfrm>
            <a:off x="468360" y="1484280"/>
            <a:ext cx="2736720" cy="1955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3995640" y="1413000"/>
            <a:ext cx="4932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в течение нескольких недель (до месяца) предохраняет от заражения. Если через несколько дней вас укусит клещ, повторно укол делать не нужно.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Иммуноглобулин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тоит ввести и привитому человеку, если клещей присосалось м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WordArt 3"/>
          <p:cNvSpPr txBox="1"/>
          <p:nvPr/>
        </p:nvSpPr>
        <p:spPr>
          <a:xfrm>
            <a:off x="324000" y="189000"/>
            <a:ext cx="84610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Экстренн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03" name="Picture 4" descr="2007-05-23-klesch%CA40"/>
          <p:cNvPicPr/>
          <p:nvPr/>
        </p:nvPicPr>
        <p:blipFill>
          <a:blip r:embed="rId1"/>
          <a:stretch/>
        </p:blipFill>
        <p:spPr>
          <a:xfrm>
            <a:off x="324000" y="1916280"/>
            <a:ext cx="4037040" cy="411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дномоментно прием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циклоферо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4 таблетки в первый день, 2 таблетки на 2, 4, 6 дней профилактического леч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24"/>
          <p:cNvPicPr/>
          <p:nvPr/>
        </p:nvPicPr>
        <p:blipFill>
          <a:blip r:embed="rId1"/>
          <a:stretch/>
        </p:blipFill>
        <p:spPr>
          <a:xfrm>
            <a:off x="5148360" y="4005360"/>
            <a:ext cx="3527280" cy="2633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7" name="Picture 6" descr="trumbnail_big"/>
          <p:cNvPicPr/>
          <p:nvPr/>
        </p:nvPicPr>
        <p:blipFill>
          <a:blip r:embed="rId2"/>
          <a:stretch/>
        </p:blipFill>
        <p:spPr>
          <a:xfrm>
            <a:off x="468360" y="4005360"/>
            <a:ext cx="3382920" cy="2651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8" name="Picture 7" descr="n67n-s25"/>
          <p:cNvPicPr/>
          <p:nvPr/>
        </p:nvPicPr>
        <p:blipFill>
          <a:blip r:embed="rId3"/>
          <a:stretch/>
        </p:blipFill>
        <p:spPr>
          <a:xfrm>
            <a:off x="539640" y="1628640"/>
            <a:ext cx="3168720" cy="2157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09" name="Picture 8" descr="m_63885"/>
          <p:cNvPicPr/>
          <p:nvPr/>
        </p:nvPicPr>
        <p:blipFill>
          <a:blip r:embed="rId4"/>
          <a:stretch/>
        </p:blipFill>
        <p:spPr>
          <a:xfrm>
            <a:off x="5364000" y="1601640"/>
            <a:ext cx="3240360" cy="2187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0" y="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Само и взаимопомощь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(если вы не в городе) – это удаление клеща: место укуса предварительно смазать жиром (вазелином, подсолнечным маслом), через 15 минут осторожно вытянуть сделанной из нити петлей, покачивая из стороны в сторо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445_big"/>
          <p:cNvPicPr/>
          <p:nvPr/>
        </p:nvPicPr>
        <p:blipFill>
          <a:blip r:embed="rId1"/>
          <a:stretch/>
        </p:blipFill>
        <p:spPr>
          <a:xfrm>
            <a:off x="611280" y="2060640"/>
            <a:ext cx="3024000" cy="2252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3" name="Picture 5" descr="5630132E48D08C04kleshc_0712"/>
          <p:cNvPicPr/>
          <p:nvPr/>
        </p:nvPicPr>
        <p:blipFill>
          <a:blip r:embed="rId2"/>
          <a:stretch/>
        </p:blipFill>
        <p:spPr>
          <a:xfrm>
            <a:off x="5508720" y="4724280"/>
            <a:ext cx="2950920" cy="1928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4" name="Picture 6" descr="kles42-300"/>
          <p:cNvPicPr/>
          <p:nvPr/>
        </p:nvPicPr>
        <p:blipFill>
          <a:blip r:embed="rId3"/>
          <a:stretch/>
        </p:blipFill>
        <p:spPr>
          <a:xfrm>
            <a:off x="5508720" y="2048040"/>
            <a:ext cx="2950920" cy="23605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5" name="Picture 7" descr="Схема удаления энцефалитного клеща"/>
          <p:cNvPicPr/>
          <p:nvPr/>
        </p:nvPicPr>
        <p:blipFill>
          <a:blip r:embed="rId4"/>
          <a:stretch/>
        </p:blipFill>
        <p:spPr>
          <a:xfrm>
            <a:off x="826920" y="4581360"/>
            <a:ext cx="266400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ледует избегать разрушения клеща, так как может произойти заражение вирусом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Место укуса обработать йодом или спир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3" descr="527_Untitled8"/>
          <p:cNvPicPr/>
          <p:nvPr/>
        </p:nvPicPr>
        <p:blipFill>
          <a:blip r:embed="rId1"/>
          <a:stretch/>
        </p:blipFill>
        <p:spPr>
          <a:xfrm>
            <a:off x="5219640" y="3789360"/>
            <a:ext cx="3598920" cy="2836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19" name="Picture 4" descr="20"/>
          <p:cNvPicPr/>
          <p:nvPr/>
        </p:nvPicPr>
        <p:blipFill>
          <a:blip r:embed="rId2"/>
          <a:stretch/>
        </p:blipFill>
        <p:spPr>
          <a:xfrm>
            <a:off x="395280" y="3789360"/>
            <a:ext cx="3857760" cy="28764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20" name="Picture 5" descr="1180975956_encefalit_rs"/>
          <p:cNvPicPr/>
          <p:nvPr/>
        </p:nvPicPr>
        <p:blipFill>
          <a:blip r:embed="rId3"/>
          <a:stretch/>
        </p:blipFill>
        <p:spPr>
          <a:xfrm>
            <a:off x="2556000" y="1484280"/>
            <a:ext cx="4032000" cy="2073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395280" y="189000"/>
            <a:ext cx="820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80000"/>
                </a:solidFill>
                <a:latin typeface="Arial"/>
              </a:rPr>
              <a:t>Экстренная профилактика в первые 72 часа после укуса клещ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Экстренная профилактика (в первые 72 часа после укуса клеща"/>
          <p:cNvPicPr/>
          <p:nvPr/>
        </p:nvPicPr>
        <p:blipFill>
          <a:blip r:embed="rId1"/>
          <a:srcRect l="0" t="0" r="0" b="501"/>
          <a:stretch/>
        </p:blipFill>
        <p:spPr>
          <a:xfrm>
            <a:off x="1979640" y="2205000"/>
            <a:ext cx="5040360" cy="4392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3"/>
          <p:cNvSpPr/>
          <p:nvPr/>
        </p:nvSpPr>
        <p:spPr>
          <a:xfrm>
            <a:off x="179280" y="1557360"/>
            <a:ext cx="500544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юдям, чья работа связана с пребыванием в лесу (геодезистам, лесникам, дачникам) надо сделать прививку против клещевого энцефали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Без прививки - не допустят к работ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5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Плановая профилактик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клещевого энцефалита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27" name="Picture 6" descr="foto_10"/>
          <p:cNvPicPr/>
          <p:nvPr/>
        </p:nvPicPr>
        <p:blipFill>
          <a:blip r:embed="rId1"/>
          <a:stretch/>
        </p:blipFill>
        <p:spPr>
          <a:xfrm>
            <a:off x="5435640" y="1773360"/>
            <a:ext cx="3203640" cy="4856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79280" y="189000"/>
            <a:ext cx="8713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Влияние клещевого энцефалита на организм и здоровье челове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b653cfceeb7a91a5395b"/>
          <p:cNvPicPr/>
          <p:nvPr/>
        </p:nvPicPr>
        <p:blipFill>
          <a:blip r:embed="rId1"/>
          <a:stretch/>
        </p:blipFill>
        <p:spPr>
          <a:xfrm>
            <a:off x="2484360" y="3068640"/>
            <a:ext cx="3922920" cy="3349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179280" y="189000"/>
            <a:ext cx="878544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витые болеют реже, у них в случае заболевания отмечаются легкие формы. Полный курс вакцинации состоит из 3-х прививок, поэтому лучше всего осенью сделать 2 прививки, а последнюю – 3 прививку сделать весной за 2 недели до выхода в лес. Можно привиться по сокращенной схеме – двумя прививками, но эффективность такой вакцинации ниже. Чтобы невосприимчивость к клещевому энцефалиту сохранялась, необходимо на следующую весну прививку повторит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000"/>
                </a:solidFill>
                <a:latin typeface="Arial"/>
              </a:rPr>
              <a:t>Ревакцинация через каждые 3 года.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net_07"/>
          <p:cNvPicPr/>
          <p:nvPr/>
        </p:nvPicPr>
        <p:blipFill>
          <a:blip r:embed="rId1"/>
          <a:stretch/>
        </p:blipFill>
        <p:spPr>
          <a:xfrm>
            <a:off x="1042920" y="4556160"/>
            <a:ext cx="3168720" cy="2128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1" name="Picture 5" descr="Laboratoria"/>
          <p:cNvPicPr/>
          <p:nvPr/>
        </p:nvPicPr>
        <p:blipFill>
          <a:blip r:embed="rId2"/>
          <a:stretch/>
        </p:blipFill>
        <p:spPr>
          <a:xfrm>
            <a:off x="5435640" y="4581360"/>
            <a:ext cx="2376360" cy="20494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91440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 прошлом году в лечебно – профилактические учреждения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Иркутской области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 укусами клещей обратились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2246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человек. Эт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на 15 % больше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, чем в 2004 году. За этот период зарегистрировано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19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случаев заболевания клещевым энцефалитом и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137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клещевы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800" spc="-1" strike="noStrike" u="sng">
                <a:solidFill>
                  <a:srgbClr val="ffffff"/>
                </a:solidFill>
                <a:uFillTx/>
                <a:latin typeface="Arial"/>
              </a:rPr>
              <a:t>боррелиозом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94 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заболевших – жители городов и районов, выезжающие в лес отдыхать, а также дачники. Среди неорганизованных отдыхающих крайне низкий охват прививками  –  </a:t>
            </a:r>
            <a:r>
              <a:rPr b="1" lang="ru-RU" sz="2800" spc="-1" strike="noStrike">
                <a:solidFill>
                  <a:srgbClr val="c80000"/>
                </a:solidFill>
                <a:latin typeface="Arial"/>
              </a:rPr>
              <a:t>2,1%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5" descr="18343_2"/>
          <p:cNvPicPr/>
          <p:nvPr/>
        </p:nvPicPr>
        <p:blipFill>
          <a:blip r:embed="rId1"/>
          <a:stretch/>
        </p:blipFill>
        <p:spPr>
          <a:xfrm>
            <a:off x="250920" y="4437000"/>
            <a:ext cx="2950920" cy="2236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5" name="Picture 6" descr="250806_22"/>
          <p:cNvPicPr/>
          <p:nvPr/>
        </p:nvPicPr>
        <p:blipFill>
          <a:blip r:embed="rId2"/>
          <a:stretch/>
        </p:blipFill>
        <p:spPr>
          <a:xfrm>
            <a:off x="5940360" y="4437000"/>
            <a:ext cx="2879640" cy="216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6" name="Picture 7" descr="yun_914"/>
          <p:cNvPicPr/>
          <p:nvPr/>
        </p:nvPicPr>
        <p:blipFill>
          <a:blip r:embed="rId3"/>
          <a:stretch/>
        </p:blipFill>
        <p:spPr>
          <a:xfrm>
            <a:off x="3780000" y="4437000"/>
            <a:ext cx="1504800" cy="2241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37355"/>
          <p:cNvPicPr/>
          <p:nvPr/>
        </p:nvPicPr>
        <p:blipFill>
          <a:blip r:embed="rId1"/>
          <a:stretch/>
        </p:blipFill>
        <p:spPr>
          <a:xfrm>
            <a:off x="2627280" y="189000"/>
            <a:ext cx="60627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39" name="Picture 4" descr="43662"/>
          <p:cNvPicPr/>
          <p:nvPr/>
        </p:nvPicPr>
        <p:blipFill>
          <a:blip r:embed="rId2"/>
          <a:stretch/>
        </p:blipFill>
        <p:spPr>
          <a:xfrm>
            <a:off x="179280" y="333360"/>
            <a:ext cx="2160720" cy="1268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0" name="Picture 6" descr="kleok"/>
          <p:cNvPicPr/>
          <p:nvPr/>
        </p:nvPicPr>
        <p:blipFill>
          <a:blip r:embed="rId3"/>
          <a:stretch/>
        </p:blipFill>
        <p:spPr>
          <a:xfrm>
            <a:off x="179280" y="4653000"/>
            <a:ext cx="2171880" cy="1771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1" name="Picture 7" descr="klesh(12476)"/>
          <p:cNvPicPr/>
          <p:nvPr/>
        </p:nvPicPr>
        <p:blipFill>
          <a:blip r:embed="rId4"/>
          <a:stretch/>
        </p:blipFill>
        <p:spPr>
          <a:xfrm>
            <a:off x="250920" y="2133720"/>
            <a:ext cx="2016000" cy="2016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2" name="Oval 8"/>
          <p:cNvSpPr/>
          <p:nvPr/>
        </p:nvSpPr>
        <p:spPr>
          <a:xfrm>
            <a:off x="2195640" y="6021360"/>
            <a:ext cx="6769080" cy="62064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3"/>
          <p:cNvSpPr/>
          <p:nvPr/>
        </p:nvSpPr>
        <p:spPr>
          <a:xfrm>
            <a:off x="-252360" y="1484280"/>
            <a:ext cx="698508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аспространение клещей, переносчиков вируса энцефалита, в последнее время претерпевает подъем, в том числе связанный с хозяйственной деятельностью человека (лучше сказать </a:t>
            </a:r>
            <a:r>
              <a:rPr b="1" lang="ru-RU" sz="2400" spc="-1" strike="noStrike">
                <a:solidFill>
                  <a:srgbClr val="c80000"/>
                </a:solidFill>
                <a:latin typeface="Arial"/>
              </a:rPr>
              <a:t>с бесхозяйственной деятельностью – организация стихийных свалок и мусорных куч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) и увеличением количества </a:t>
            </a:r>
            <a:r>
              <a:rPr b="1" i="1" lang="ru-RU" sz="2400" spc="-1" strike="noStrike" u="sng">
                <a:solidFill>
                  <a:srgbClr val="c80000"/>
                </a:solidFill>
                <a:uFillTx/>
                <a:latin typeface="Arial"/>
              </a:rPr>
              <a:t>мыше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, переносчиков клещей. Посещение пригородов и лесозон всегда сопряжено с риском укуса клещом и заболеванием клещевым энцефалитом. Существуют некоторые простые народные способы отпугивания клещей.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WordArt 8"/>
          <p:cNvSpPr txBox="1"/>
          <p:nvPr/>
        </p:nvSpPr>
        <p:spPr>
          <a:xfrm>
            <a:off x="324000" y="189000"/>
            <a:ext cx="84610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Народные средства для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тпугивания клещей</a:t>
            </a:r>
            <a:endParaRPr b="0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46" name="Picture 9" descr="nature"/>
          <p:cNvPicPr/>
          <p:nvPr/>
        </p:nvPicPr>
        <p:blipFill>
          <a:blip r:embed="rId1"/>
          <a:stretch/>
        </p:blipFill>
        <p:spPr>
          <a:xfrm>
            <a:off x="6588000" y="1628640"/>
            <a:ext cx="2409840" cy="1525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47" name="Picture 10" descr="m_4695"/>
          <p:cNvPicPr/>
          <p:nvPr/>
        </p:nvPicPr>
        <p:blipFill>
          <a:blip r:embed="rId2"/>
          <a:stretch/>
        </p:blipFill>
        <p:spPr>
          <a:xfrm>
            <a:off x="6804000" y="3573360"/>
            <a:ext cx="2000160" cy="2968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-252360" y="0"/>
            <a:ext cx="939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меется опыт высокоэффективного использования импрегнации одежды выхлопными газами дизельных двигателей автомобилей и тракторов в течение 30 секунд. После такой обработки клещи не встречаются на одежде 4-5 часов. Естественный природный враг клещей –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лесные муравьи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Вырабатываемая ими кислота является природным 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репеллентом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и может быть использована для защиты от клещей. Муравьиный спирт, которым после разведения водой в 20-30 раз, можно обработать одежду и кожу нижних конечностей перед посещением лесных массивов, дачных и рекреационных зон. Запах муравьиного спирта отпугивает клещей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s_16075"/>
          <p:cNvPicPr/>
          <p:nvPr/>
        </p:nvPicPr>
        <p:blipFill>
          <a:blip r:embed="rId1"/>
          <a:stretch/>
        </p:blipFill>
        <p:spPr>
          <a:xfrm>
            <a:off x="6227640" y="4597560"/>
            <a:ext cx="2737080" cy="20541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1" name="Picture 5" descr="укусах (осы, комаров, клеща, змеи, паука"/>
          <p:cNvPicPr/>
          <p:nvPr/>
        </p:nvPicPr>
        <p:blipFill>
          <a:blip r:embed="rId2"/>
          <a:stretch/>
        </p:blipFill>
        <p:spPr>
          <a:xfrm>
            <a:off x="250920" y="4546440"/>
            <a:ext cx="2305080" cy="2122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2" name="Picture 6" descr="klehs"/>
          <p:cNvPicPr/>
          <p:nvPr/>
        </p:nvPicPr>
        <p:blipFill>
          <a:blip r:embed="rId3"/>
          <a:stretch/>
        </p:blipFill>
        <p:spPr>
          <a:xfrm>
            <a:off x="3276720" y="4941720"/>
            <a:ext cx="2232000" cy="17859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 лесной зоне, можно прибегнуть к иному способу обработки одежды и кожи, конечностей этим средством. В муравейник из красных муравьев на несколько секунд можно положить ладошки и затем обработать ими гачи штанин, так как клещи обитают, преимущественно на кустарниках и в травяной зоне не выше 70 см. над землей. Следует повторить прием несколько раз, причем можно обработать рукава и воротник одежды для большей надежности защитных мероприят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9" descr="4485326acc0b8big"/>
          <p:cNvPicPr/>
          <p:nvPr/>
        </p:nvPicPr>
        <p:blipFill>
          <a:blip r:embed="rId1"/>
          <a:stretch/>
        </p:blipFill>
        <p:spPr>
          <a:xfrm>
            <a:off x="4788000" y="3500280"/>
            <a:ext cx="3887640" cy="31575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58" name="Picture 10" descr="getfoto"/>
          <p:cNvPicPr/>
          <p:nvPr/>
        </p:nvPicPr>
        <p:blipFill>
          <a:blip r:embed="rId2"/>
          <a:stretch/>
        </p:blipFill>
        <p:spPr>
          <a:xfrm>
            <a:off x="468360" y="3500280"/>
            <a:ext cx="3743280" cy="3132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179280" y="1052640"/>
            <a:ext cx="896472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26028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18900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онечно, все перечисленное не исключает возможности применения репеллентов, продающихся в аптеках. Но если их нет, не пренебрегайте нашими простыми, но очень эффективными сред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6" descr="защиты от клеща до момента укуса"/>
          <p:cNvPicPr/>
          <p:nvPr/>
        </p:nvPicPr>
        <p:blipFill>
          <a:blip r:embed="rId1"/>
          <a:stretch/>
        </p:blipFill>
        <p:spPr>
          <a:xfrm>
            <a:off x="2195640" y="2133720"/>
            <a:ext cx="3431880" cy="3927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4" name="Picture 7" descr="flacony_1"/>
          <p:cNvPicPr/>
          <p:nvPr/>
        </p:nvPicPr>
        <p:blipFill>
          <a:blip r:embed="rId2"/>
          <a:stretch/>
        </p:blipFill>
        <p:spPr>
          <a:xfrm>
            <a:off x="5940360" y="1844640"/>
            <a:ext cx="2943360" cy="4749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65" name="Picture 8" descr="1045880b"/>
          <p:cNvPicPr/>
          <p:nvPr/>
        </p:nvPicPr>
        <p:blipFill>
          <a:blip r:embed="rId3"/>
          <a:stretch/>
        </p:blipFill>
        <p:spPr>
          <a:xfrm>
            <a:off x="250920" y="1844640"/>
            <a:ext cx="1638360" cy="47624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79280" y="977400"/>
            <a:ext cx="878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лещи встречаются не в каждом лесу и не на каждом участке леса. Жизнь клеща тесно связана с дикими животными и птицами, которые являются постоянными его прокормителями – «хозяевами». Только при питании кровью возможна жизнь клеща и его размножение. Поэтому, где больше диких животных и птиц, там больше и клещей, а где больше клещей, там и увеличивается опасность заражения клещевым энцефалит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WordArt 8"/>
          <p:cNvSpPr txBox="1"/>
          <p:nvPr/>
        </p:nvSpPr>
        <p:spPr>
          <a:xfrm>
            <a:off x="2124000" y="189000"/>
            <a:ext cx="4680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ключ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169" name="Picture 9" descr="3605"/>
          <p:cNvPicPr/>
          <p:nvPr/>
        </p:nvPicPr>
        <p:blipFill>
          <a:blip r:embed="rId1"/>
          <a:stretch/>
        </p:blipFill>
        <p:spPr>
          <a:xfrm>
            <a:off x="3203640" y="4437000"/>
            <a:ext cx="2665440" cy="22528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0" name="Picture 10" descr="d834a39e-431f-4ac2-8def-cb9241af1af3"/>
          <p:cNvPicPr/>
          <p:nvPr/>
        </p:nvPicPr>
        <p:blipFill>
          <a:blip r:embed="rId2"/>
          <a:stretch/>
        </p:blipFill>
        <p:spPr>
          <a:xfrm>
            <a:off x="6300720" y="4221000"/>
            <a:ext cx="2638440" cy="22352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1" name="Picture 11" descr="s_15177"/>
          <p:cNvPicPr/>
          <p:nvPr/>
        </p:nvPicPr>
        <p:blipFill>
          <a:blip r:embed="rId3"/>
          <a:stretch/>
        </p:blipFill>
        <p:spPr>
          <a:xfrm>
            <a:off x="250920" y="4221000"/>
            <a:ext cx="2593800" cy="22291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0" y="3015360"/>
            <a:ext cx="9144000" cy="38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К счастью, не каждый клещ опасен. Однако по внешнему виду нельзя отличить зараженного клеща от незараженного. Поэтому необходимо охранять себя от присасывания любых клещей. Клещи являются не только переносчиками, но и основными хранителями возбудителя болезни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80000"/>
                </a:solidFill>
                <a:latin typeface="Arial"/>
              </a:rPr>
              <a:t>Поэтому необходимо твердо знать: где, когда и как можно оградить себя от присасывания клеще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5" descr="REG1193093256"/>
          <p:cNvPicPr/>
          <p:nvPr/>
        </p:nvPicPr>
        <p:blipFill>
          <a:blip r:embed="rId1"/>
          <a:stretch/>
        </p:blipFill>
        <p:spPr>
          <a:xfrm>
            <a:off x="2771640" y="189000"/>
            <a:ext cx="3672000" cy="275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5" name="Picture 7" descr="kles4_sn"/>
          <p:cNvPicPr/>
          <p:nvPr/>
        </p:nvPicPr>
        <p:blipFill>
          <a:blip r:embed="rId2"/>
          <a:stretch/>
        </p:blipFill>
        <p:spPr>
          <a:xfrm>
            <a:off x="6732720" y="620640"/>
            <a:ext cx="2253960" cy="20876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6" name="Picture 8" descr="33"/>
          <p:cNvPicPr/>
          <p:nvPr/>
        </p:nvPicPr>
        <p:blipFill>
          <a:blip r:embed="rId3"/>
          <a:stretch/>
        </p:blipFill>
        <p:spPr>
          <a:xfrm>
            <a:off x="179280" y="549360"/>
            <a:ext cx="2305080" cy="20779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WordArt 3"/>
          <p:cNvSpPr txBox="1"/>
          <p:nvPr/>
        </p:nvSpPr>
        <p:spPr>
          <a:xfrm>
            <a:off x="971640" y="333360"/>
            <a:ext cx="540072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ИСТОЧНИК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9280" y="1125360"/>
            <a:ext cx="8785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a003a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. Альская Т.В. Советы по разным поводам // Предупреждение. Библиотечка ЗОЖ. М.: - 2003. - №2/14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Квашин В.Н. Осторожно. Клещевой энцефалит // Вестник реабилитолога. М.: - 2007. - №3 (август). – С.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3. Морозова О.А. Домашний врачеватель или книга о том, как помочь больному человеку. – Иркутск: РИО «СТРОКА», 19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4. Петрищева П. А. Не допускать заражения клещевым энцефалитом (памятка.).- М. : Медгиз, 1957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5. Покровский В. И. Энциклопедия здоровья в 4 томах. Том 2. - М. : ИПО «Автор», 1992. – С.23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6. Райков Б. Е. , Римский – Корфаков М. Н. Зоологические экскурсии. - М. : Топикал, 1994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j0356673"/>
          <p:cNvPicPr/>
          <p:nvPr/>
        </p:nvPicPr>
        <p:blipFill>
          <a:blip r:embed="rId1"/>
          <a:stretch/>
        </p:blipFill>
        <p:spPr>
          <a:xfrm>
            <a:off x="7812000" y="189000"/>
            <a:ext cx="1190880" cy="1190520"/>
          </a:xfrm>
          <a:prstGeom prst="rect">
            <a:avLst/>
          </a:prstGeom>
          <a:ln w="0">
            <a:noFill/>
          </a:ln>
        </p:spPr>
      </p:pic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79280" y="3068640"/>
            <a:ext cx="3672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Задачи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64000" y="476280"/>
            <a:ext cx="5400720" cy="60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1. Выяснить степень влияния клещевого энцефалита на здоровье челове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2. Познакомить учащихся с профилактикой против клещей – возбудителей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2" descr="4de3d2f9b206764ec345b637058c71d8-053012cada7dc08b2a24e7674c78d04e"/>
          <p:cNvPicPr/>
          <p:nvPr/>
        </p:nvPicPr>
        <p:blipFill>
          <a:blip r:embed="rId1"/>
          <a:stretch/>
        </p:blipFill>
        <p:spPr>
          <a:xfrm>
            <a:off x="250920" y="189000"/>
            <a:ext cx="3600360" cy="2700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57" name="Picture 13" descr="inj"/>
          <p:cNvPicPr/>
          <p:nvPr/>
        </p:nvPicPr>
        <p:blipFill>
          <a:blip r:embed="rId2"/>
          <a:stretch/>
        </p:blipFill>
        <p:spPr>
          <a:xfrm>
            <a:off x="395280" y="4149720"/>
            <a:ext cx="3313080" cy="248436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WordArt 10"/>
          <p:cNvSpPr txBox="1"/>
          <p:nvPr/>
        </p:nvSpPr>
        <p:spPr>
          <a:xfrm>
            <a:off x="324000" y="333360"/>
            <a:ext cx="59054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24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втор презентации</a:t>
            </a:r>
            <a:endParaRPr b="0" lang="en-US" sz="1800" spc="1" strike="noStrike">
              <a:ln w="324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179280" y="1484280"/>
            <a:ext cx="5616720" cy="503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Радыгина Оксана Викторовна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учитель ИВТ и ИКТ МОУ «СОШ №42»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города Братска, Иркутск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13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378160" cy="36720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2"/>
          <p:cNvSpPr txBox="1"/>
          <p:nvPr/>
        </p:nvSpPr>
        <p:spPr>
          <a:xfrm>
            <a:off x="250920" y="836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Актуальность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2879640"/>
            <a:ext cx="9144000" cy="398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С приходом весны население посещает лесные зоны с целью сбора березового сока, первых цветов, организации досуга, при этом забывает о мерах предосторож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Посещение пригородов и лесозон всегда сопряжено с риском укуса клещом, что вызывает вспышку заболевания клещевым энцефалит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6" descr="article06img01"/>
          <p:cNvPicPr/>
          <p:nvPr/>
        </p:nvPicPr>
        <p:blipFill>
          <a:blip r:embed="rId1"/>
          <a:stretch/>
        </p:blipFill>
        <p:spPr>
          <a:xfrm>
            <a:off x="5724360" y="189000"/>
            <a:ext cx="3202200" cy="26272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8" descr="4-1"/>
          <p:cNvPicPr/>
          <p:nvPr/>
        </p:nvPicPr>
        <p:blipFill>
          <a:blip r:embed="rId1"/>
          <a:stretch/>
        </p:blipFill>
        <p:spPr>
          <a:xfrm>
            <a:off x="1187280" y="260280"/>
            <a:ext cx="6337440" cy="62658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WordArt 2"/>
          <p:cNvSpPr txBox="1"/>
          <p:nvPr/>
        </p:nvSpPr>
        <p:spPr>
          <a:xfrm>
            <a:off x="5796000" y="189000"/>
            <a:ext cx="3168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ведение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79280" y="189000"/>
            <a:ext cx="6121440" cy="63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300" spc="-1" strike="noStrike" u="sng">
                <a:solidFill>
                  <a:srgbClr val="ffffff"/>
                </a:solidFill>
                <a:uFillTx/>
                <a:latin typeface="Arial"/>
              </a:rPr>
              <a:t>Клещевой энцефалит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 – тяжелая болезнь, при которой происходит воспаление мозга. Ее возбудителем является мельчайший организм из группы вирусов, который можно увидеть только с помощью электронного микроскопа, дающего увеличение в десятки и сотни тысяч раз. Величина вируса клещевого энцефалита составляет 30 миллимикронов»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</a:rPr>
              <a:t>Этот мельчайший организм живет в теле лесного клеща до 4 лет. Клещ и является основным хранителем возбудителя болезни в природе и основным источником заражения человека. Поэтому болезнь получила название «Клещевой энцефалит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O-Klesh"/>
          <p:cNvPicPr/>
          <p:nvPr/>
        </p:nvPicPr>
        <p:blipFill>
          <a:blip r:embed="rId1"/>
          <a:stretch/>
        </p:blipFill>
        <p:spPr>
          <a:xfrm>
            <a:off x="6227640" y="1197000"/>
            <a:ext cx="2395800" cy="540072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179280" y="907920"/>
            <a:ext cx="89647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ирусная инфекция передается в основном клещам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езонность  -  весенняя – летня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оражает нервную систем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При отсутствии должной профилактики и лечения, приводит к инвалидизации (80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Летальность составляет от 2%  до 20%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WordArt 6"/>
          <p:cNvSpPr txBox="1"/>
          <p:nvPr/>
        </p:nvSpPr>
        <p:spPr>
          <a:xfrm>
            <a:off x="358920" y="189000"/>
            <a:ext cx="846108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Общая характеристика</a:t>
            </a:r>
            <a:endParaRPr b="1" lang="en-US" sz="18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71" name="Picture 8" descr="klesch65"/>
          <p:cNvPicPr/>
          <p:nvPr/>
        </p:nvPicPr>
        <p:blipFill>
          <a:blip r:embed="rId1"/>
          <a:stretch/>
        </p:blipFill>
        <p:spPr>
          <a:xfrm>
            <a:off x="6084720" y="3933720"/>
            <a:ext cx="2816280" cy="2662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2" name="Picture 9" descr="klez"/>
          <p:cNvPicPr/>
          <p:nvPr/>
        </p:nvPicPr>
        <p:blipFill>
          <a:blip r:embed="rId2"/>
          <a:stretch/>
        </p:blipFill>
        <p:spPr>
          <a:xfrm>
            <a:off x="250920" y="4005360"/>
            <a:ext cx="2663640" cy="261468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73" name="Picture 10" descr="419290_20020506082845"/>
          <p:cNvPicPr/>
          <p:nvPr/>
        </p:nvPicPr>
        <p:blipFill>
          <a:blip r:embed="rId3"/>
          <a:stretch/>
        </p:blipFill>
        <p:spPr>
          <a:xfrm>
            <a:off x="3203640" y="4213080"/>
            <a:ext cx="2592360" cy="2275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WordArt 3"/>
          <p:cNvSpPr txBox="1"/>
          <p:nvPr/>
        </p:nvSpPr>
        <p:spPr>
          <a:xfrm>
            <a:off x="539640" y="189000"/>
            <a:ext cx="8209080" cy="21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рта распространения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энцефалитного клещ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 территории России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летом 2007 года</a:t>
            </a:r>
            <a:endParaRPr b="0" lang="en-US" sz="1800" spc="1" strike="noStrike">
              <a:ln w="12600">
                <a:solidFill>
                  <a:srgbClr val="00008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76" name="Picture 4" descr="Карта распространения энцефалитного клеща по территории России этим летом"/>
          <p:cNvPicPr/>
          <p:nvPr/>
        </p:nvPicPr>
        <p:blipFill>
          <a:blip r:embed="rId1"/>
          <a:stretch/>
        </p:blipFill>
        <p:spPr>
          <a:xfrm>
            <a:off x="1332000" y="2565360"/>
            <a:ext cx="6553080" cy="41450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2"/>
          <p:cNvSpPr/>
          <p:nvPr/>
        </p:nvSpPr>
        <p:spPr>
          <a:xfrm>
            <a:off x="2700360" y="189000"/>
            <a:ext cx="622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Активнее всего клещи весной и летом (в некоторых районах – осенью). В это время, находясь на природе (не важно  - в лесу, на загородной даче, на рыбалке) </a:t>
            </a:r>
            <a:r>
              <a:rPr b="1" lang="ru-RU" sz="2700" spc="-1" strike="noStrike" u="sng">
                <a:solidFill>
                  <a:srgbClr val="ffffff"/>
                </a:solidFill>
                <a:uFillTx/>
                <a:latin typeface="Arial"/>
              </a:rPr>
              <a:t>нужно быть предельно осторожным</a:t>
            </a: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стараться ходить по тропинкам, подальше от высокой травы и   кустарника;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c80000"/>
                </a:solidFill>
                <a:latin typeface="Arial"/>
              </a:rPr>
              <a:t>- на голову следует надеть косынку или кепку, а лучше всего гулять в куртке с капюшоном, брюки нужно заправить в сапоги или прижать резинками к щиколотке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kle"/>
          <p:cNvPicPr/>
          <p:nvPr/>
        </p:nvPicPr>
        <p:blipFill>
          <a:blip r:embed="rId1"/>
          <a:srcRect l="0" t="0" r="93" b="26"/>
          <a:stretch/>
        </p:blipFill>
        <p:spPr>
          <a:xfrm>
            <a:off x="324000" y="260280"/>
            <a:ext cx="2334960" cy="633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14:25:15Z</dcterms:created>
  <dc:creator>РОкся</dc:creator>
  <dc:description/>
  <dc:language>en-US</dc:language>
  <cp:lastModifiedBy>LEGION</cp:lastModifiedBy>
  <dcterms:modified xsi:type="dcterms:W3CDTF">2015-05-12T08:12:16Z</dcterms:modified>
  <cp:revision>115</cp:revision>
  <dc:subject/>
  <dc:title>Клещевой энцефали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c000000000001024140</vt:lpwstr>
  </property>
</Properties>
</file>