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2C68-E0AC-435F-A612-65C6F3B337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 за кожей лица, рук, ног, уход за ног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5530-5720-49E1-9901-2C2525D303E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F030-ACD0-4C15-8A86-21C6A3F5857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УКЦИОН ИД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человеку кож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E9F-8791-4F53-9C09-610CA7BF298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1 кв.см. кожи име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точки, чувствительные к теп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точек, чувствительных к хол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точек осяз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0 болевых 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0537-CA81-4094-945D-09E2F87C2AE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различных заболеваниях на коже может появиться сыпь и даже яз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C2A4-0C47-478F-904E-42F97DEF33A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ги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CBA8-414E-4EEC-93D7-389609A5396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012-1FCA-4565-A5C0-571E8E1F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E0E-2CE4-440D-B54D-300A9F95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C40-3E30-4490-965D-2BFA8026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46E-0077-4E52-86B0-3F32D966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A2A-6F51-44DC-B396-DA3C2B4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3C7-79E9-42AC-9D4B-C4E25428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5E3D-A781-45B3-B6E5-B8D4B83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0F18-21DA-4A86-91DE-D6DCCA4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C6F-89B3-445E-9F84-8948E27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B8C-ECB1-4B28-8141-382CAA01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B263-8078-4A60-A2C2-277294C4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AB2-2685-41EC-AD48-F58BFA8A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85B6-464C-4BDF-8B08-4A43839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3D38-F627-4276-821D-DF42AE9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23BC-7ABA-4887-8A74-A8009942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5C1E-C45A-49E9-B197-213B986F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941-38B7-4C6D-9662-67C6362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6B9-AB6A-44E7-A029-BB5F7F08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5B5-182D-45C4-B66D-43AB6303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4B7-9864-40B5-BCAD-CABFB64D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8DE-C664-4145-B7C6-D84B0D50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A08-3209-4643-ADF8-108B07D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DE6-DB9F-4751-8A2B-8890B55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0C3-1F8D-4F72-898E-4F9DD441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8ECE-D026-451C-B999-B0223FAF8F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97E-1B4A-41D8-B59A-EA3B91BBAB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Уход за кожей лица, рук, ног, уход за ногтям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77316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О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№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5581800"/>
            <a:ext cx="5853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Борисова Людмила Виктор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подаватель-организатор ОБЖ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СОШ № 12 г.Том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16000" y="2421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31804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306520" cy="175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2317680" cy="3049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7740720" y="3068640"/>
            <a:ext cx="14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0"/>
            <a:ext cx="2318040" cy="231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306520" cy="2340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788000" y="3405240"/>
            <a:ext cx="3614760" cy="247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17680" cy="22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105000" cy="34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824200" cy="23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348000" y="260280"/>
            <a:ext cx="2441520" cy="2317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922400" y="26258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ор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451480" y="291456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душные и солнечные ван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5640" y="6021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ные процедуры, ба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УКЦИОН ИДЕ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Verdana"/>
              </a:rPr>
              <a:t>Зачем человеку кожа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На 1 кв.см. кожи имею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 точки, чувствительные к тепл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2 точек, чувствительных к хол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5 точек осязательны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болевых точе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0" r="0" b="-59"/>
          <a:stretch/>
        </p:blipFill>
        <p:spPr>
          <a:xfrm>
            <a:off x="2124000" y="26028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395280" y="620640"/>
            <a:ext cx="8353440" cy="4969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0" r="103" b="0"/>
          <a:stretch/>
        </p:blipFill>
        <p:spPr>
          <a:xfrm>
            <a:off x="539640" y="549360"/>
            <a:ext cx="36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00760" cy="56163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26828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10240" cy="31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979640" y="5300640"/>
            <a:ext cx="55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различных заболеваниях на коже может появиться сыпь и даже яз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0" t="0" r="0" b="54"/>
          <a:stretch/>
        </p:blipFill>
        <p:spPr>
          <a:xfrm>
            <a:off x="971640" y="701640"/>
            <a:ext cx="7416720" cy="4888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60930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9:17:39Z</dcterms:created>
  <dc:creator>Obj</dc:creator>
  <dc:description/>
  <dc:language>en-US</dc:language>
  <cp:lastModifiedBy>LEGION</cp:lastModifiedBy>
  <dcterms:modified xsi:type="dcterms:W3CDTF">2015-05-12T08:13:09Z</dcterms:modified>
  <cp:revision>8</cp:revision>
  <dc:subject/>
  <dc:title>Уход за кож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140</vt:lpwstr>
  </property>
</Properties>
</file>