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9B67-9E5E-46C4-8DA3-3A0E4EEC02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ход за кожей лица, рук, ног, уход за ног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О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D3B1-4606-43BB-803E-036FEB54C45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C6B-91DE-4CA7-AE0D-E5AEC1F3469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УКЦИОН ИДЕ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человеку кож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C62C-DCEF-435C-90CA-F5C0C93B14B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1 кв.см. кожи име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точки, чувствительные к теп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точек, чувствительных к хол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точек осяз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0 болевых 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35B3-5A23-43EE-BFF1-BCBCC38187A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различных заболеваниях на коже может появиться сыпь и даже яз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3509-1F6A-4635-9158-66FC8FCFDAC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ги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CD08-3BFE-4D3D-9A4D-97BCB40D560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464-D9DE-4DF3-91E9-CFB1F5E2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81D-A8F0-4869-89CB-3DE59DD8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5BF-80A0-4A90-8C07-B56D57DF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1CD-F7DF-470C-852B-D791A9F5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9EB6-2597-4BD8-A608-F5DDF17E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4644-0F9A-4349-923E-42CC3826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E62-D276-484E-AF02-25FAA021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71E3-568A-4520-84B4-098BCF20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51EE-06FC-4D67-A385-26276DD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E4A-15A9-4820-A398-7CE7BCF5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CB87-174E-47F7-B78A-6C62931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974-22CE-433A-A308-3EFEE8B2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FD1E-4333-42EE-BD36-0BEF919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07E2-4D5D-408D-BEB6-4839CAE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E270-649E-4409-8A7B-EE82290A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5132-AC54-4FFE-AE29-AC6DCE5B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CBF0-B43C-45E5-AF84-DB089302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E2D-DFCE-4FCA-A5FD-CCD21006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9A3-8C65-43D6-AC67-0CFAEA7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EA1-6F22-4DB9-B6B3-37F9DA3E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84B-4932-4026-A759-C258B25C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17B-32D0-4E09-A3D4-E91625D7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563-8E57-48EB-AA1C-9E07FFC7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196-81B0-4D73-B385-E347153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376-4F31-4D04-8CDD-D436230144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E501-6554-4973-9961-63EBBA53DF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Уход за кожей лица, рук, ног, уход за ногтям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77316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О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№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87480" y="5581800"/>
            <a:ext cx="58532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Борисова Людмила Виктор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подаватель-организатор ОБЖ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СОШ № 12 г.Томс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16000" y="2421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доровое питан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318040" cy="175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2306520" cy="175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2317680" cy="3049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7740720" y="3068640"/>
            <a:ext cx="140328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39640" y="0"/>
            <a:ext cx="2318040" cy="231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2306520" cy="2340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788000" y="3405240"/>
            <a:ext cx="3614760" cy="247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17680" cy="22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105000" cy="345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824200" cy="230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3348000" y="260280"/>
            <a:ext cx="2441520" cy="2317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1922400" y="26258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пор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451480" y="291456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душные и солнечные ван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995640" y="6021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дные процедуры, ба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УКЦИОН ИДЕ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Verdana"/>
              </a:rPr>
              <a:t>Зачем человеку кожа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056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На 1 кв.см. кожи имею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 точки, чувствительные к тепл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2 точек, чувствительных к холод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5 точек осязательны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50 болевых точе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rcRect l="0" t="0" r="0" b="-59"/>
          <a:stretch/>
        </p:blipFill>
        <p:spPr>
          <a:xfrm>
            <a:off x="2124000" y="260280"/>
            <a:ext cx="5029200" cy="5877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0" t="0" r="0" b="-93"/>
          <a:stretch/>
        </p:blipFill>
        <p:spPr>
          <a:xfrm>
            <a:off x="395280" y="620640"/>
            <a:ext cx="8353440" cy="4969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0" t="0" r="103" b="0"/>
          <a:stretch/>
        </p:blipFill>
        <p:spPr>
          <a:xfrm>
            <a:off x="539640" y="549360"/>
            <a:ext cx="3600720" cy="561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00760" cy="56163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26828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10240" cy="317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979640" y="5300640"/>
            <a:ext cx="55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различных заболеваниях на коже может появиться сыпь и даже язв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rcRect l="0" t="0" r="0" b="54"/>
          <a:stretch/>
        </p:blipFill>
        <p:spPr>
          <a:xfrm>
            <a:off x="971640" y="701640"/>
            <a:ext cx="7416720" cy="4888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276720" y="60930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гие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9:17:39Z</dcterms:created>
  <dc:creator>Obj</dc:creator>
  <dc:description/>
  <dc:language>en-US</dc:language>
  <cp:lastModifiedBy>LEGION</cp:lastModifiedBy>
  <dcterms:modified xsi:type="dcterms:W3CDTF">2015-05-12T08:13:09Z</dcterms:modified>
  <cp:revision>8</cp:revision>
  <dc:subject/>
  <dc:title>Уход за кож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140</vt:lpwstr>
  </property>
</Properties>
</file>