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5.jpeg" ContentType="image/jpeg"/>
  <Override PartName="/ppt/media/image31.jpeg" ContentType="image/jpeg"/>
  <Override PartName="/ppt/media/image38.jpeg" ContentType="image/jpeg"/>
  <Override PartName="/ppt/media/image12.jpeg" ContentType="image/jpeg"/>
  <Override PartName="/ppt/media/image44.png" ContentType="image/pn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850B-A990-42C8-AD99-BF4D27F62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жоги. Виды ожог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олнечные ожог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Тепловой уд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55A5-7F9F-476C-B59E-8F975979F0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акрыть сухой чистой ткан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верх ткани приложить холод (пузырь со льдом или пакет с холодной водой или снег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скрывать пузыри и удалять прилипшую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2610-92EC-440D-948B-428B2625E6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омощи при ожога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на повреждённую поверхность чистую пленку или тка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оверх плёнки приложить пакеты со ль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Дать пострадавшему таблетку анальгина (если он в созн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7CA9-AA6B-4368-B3CB-F4BDB9AA14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 п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2862-3D02-4386-8C03-C0CE5920F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химически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1)Если ожог вызван кислот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2)Если же ожог от щёлоч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3)Если на кожу попал фосф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4)Когда на кожу попадает негашеная изв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CD5-FF3C-4031-A914-397B59D436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04BA-4E9B-4A5F-86E9-D76AD5FB8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Помощь при действ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ического т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B988-48F7-4614-911D-F2362591B7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Удар мол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 молнией – это мощнейшая электротрав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BFE7-5060-4D87-8590-4F9482BF39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ак избежать удара молни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5CC1-51E7-4AB2-A179-2BAC8B0377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ом метод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ечения применяют в двух вид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ез обработки поверхности ожога дубящими веществ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67C-58FA-4F1F-A70F-B97D56C0FF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пециализированное лечение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C840-2011-4794-AA1A-71B37774C2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53E3-6602-4205-BE18-9223F57DF4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Ожоговая болезн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3EA7-DE9E-45DA-97C9-BD9AA936B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сновные причины смер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40B5-474F-463C-AAB8-70F6064850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Этапы помощи при тяжелых ожог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озвращение больного к его обычному образу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D4AB-AAFC-45A1-A233-AFB14D4557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ермическ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ер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D6B-D42E-473E-A652-9D4397EC3D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Химически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кислотными и щелочными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имптомы и те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7C48-1C37-439E-849B-9764ECBBC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Ожоги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Щелоч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5967-2974-4B4B-A152-1DDE4874A2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Солнечный ож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236-74ED-48CA-B481-D003565F78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рофилактическ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содержат вещества, частично отражающие ультрафиолетовые лу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7FDB-3F08-4514-801D-AE3651C119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0F3-2192-44FF-9B98-8195860A83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87D-8CE0-4454-9774-FB61E015DE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зникают в результате соприкосновения кожи с твердым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ами. Они возникают в 10% случа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CC03-2815-42DD-9C25-F23D9BFFDD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Реакция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на жаркую по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084B-C4BF-420D-B592-CACEE459D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ходен с ожогом пламенем. Кожа становится черной из-за импрегнации металл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DA6-40C7-4671-9D92-7D74DE44E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Тер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7)Ожоги электрическим ток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B9B6-813D-4FA0-BED6-FB9953BBE2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Химически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10) Ожоги фосфором и известь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DD76-19B1-4777-8495-1D1C644D17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Лучевые ож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11)Радиационные ож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ся в себя: ожоги УФ-излучен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9A23-75BE-4C19-8449-F8D274A5E1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Классификация ож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традают все слои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лное разрушение кожи и нижележащего мышечного сл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жоги 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9A35-35FA-448B-9E85-8CFEC6548B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ля опред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b2b2b2"/>
                </a:solidFill>
                <a:latin typeface="Arial"/>
                <a:ea typeface="Arial"/>
              </a:rPr>
              <a:t>диагноза нужно зн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щадь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лад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о девя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лубина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лощадь поражения кожи превышает 10% - следует ожидать развития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5134-7C2B-42C1-B6CA-F380EAE01C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815-2093-4C3A-9AFF-0BE3BE61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FADC-D20E-4E00-A951-63710872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0812-E6F3-4A3A-A9A5-8EE1BAFE7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86B-786F-401E-9422-A4A6B4B1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EC25-633A-461F-9143-F24594B0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BE29-76D3-4CFA-A08D-9BE0C462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0B8-90A3-40C8-827D-98FF529B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F602-3053-4A4D-B0A9-1A021D19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2937-1EFC-4700-BFF8-07C785B7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620-21CA-4D25-93F4-7899A24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D4C5-9CED-4766-A435-A432D943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803-1336-41F0-98F2-076AF45B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1C4-320A-44E5-B7D0-B2371CFD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4B80-6D74-44D3-9324-1565C2CC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44F8-ADFA-495A-B200-B0EA5EA5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FC2B-CDCA-4E91-AA7C-BA9D930C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3651-6C96-4EB6-905E-467BE7768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B4E-9639-4800-BD60-5E7C697F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44B6-F775-402A-8EB7-CBA520CF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5A3-AA87-4273-98AF-29791F56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CD8-1561-45D1-91C4-E62F32AD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A63-04FD-4AEB-B5CB-BD059DEC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C41-FCAF-4CDE-83BC-E20823CC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F37-90DC-4C5F-80D3-095DC60F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7679-35C5-4B7F-86C3-542621F34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C445-2031-4750-A348-B9594E06C6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971640" y="2133720"/>
            <a:ext cx="7632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жоги. Виды ожогов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ечные ожоги. 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пловой удар.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"/>
          <p:cNvSpPr/>
          <p:nvPr/>
        </p:nvSpPr>
        <p:spPr>
          <a:xfrm>
            <a:off x="395280" y="1197000"/>
            <a:ext cx="92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еньшить боль и предупредить опасные для жизни осло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0328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17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6659640" y="328464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11280" y="4076640"/>
            <a:ext cx="1798560" cy="136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8"/>
          <p:cNvSpPr/>
          <p:nvPr/>
        </p:nvSpPr>
        <p:spPr>
          <a:xfrm>
            <a:off x="2484360" y="256536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Обожженную поверхность поскорее подставить под струю холодной воды и подержать 5-10 мин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556000" y="3789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Накрыть сухой чистой ткан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556000" y="450864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Поверх ткани приложить холод (пузырь со льдом или пакет с холодной водой или снег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1187280" y="5661000"/>
            <a:ext cx="68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допустимо смазывать повреждённые участки кремами и жирами,  присыпать мукой и крахма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скрывать пузыри и удалять прилипшую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1332000" y="1700280"/>
            <a:ext cx="7056360" cy="649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1187280" y="5661000"/>
            <a:ext cx="6840720" cy="936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1614240" y="1557360"/>
            <a:ext cx="59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азание помощи при ожога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еп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00000" y="220500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ить на повреждённую поверхность чистую пленку или тк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564000" y="37893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Поверх плёнки приложить пакеты со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835280" y="4941720"/>
            <a:ext cx="64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Дать пострадавшему таблетку анальгина (если он в созна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) При длительном ожидании скорой помощи обеспечить пострадавшего обильным тёплым питьё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580000" y="2060640"/>
            <a:ext cx="1817640" cy="1751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2"/>
          <a:stretch/>
        </p:blipFill>
        <p:spPr>
          <a:xfrm>
            <a:off x="1476360" y="3068640"/>
            <a:ext cx="1846440" cy="1714320"/>
          </a:xfrm>
          <a:prstGeom prst="rect">
            <a:avLst/>
          </a:prstGeom>
          <a:ln w="0">
            <a:noFill/>
          </a:ln>
        </p:spPr>
      </p:pic>
      <p:sp>
        <p:nvSpPr>
          <p:cNvPr id="184" name="WordArt 9"/>
          <p:cNvSpPr txBox="1"/>
          <p:nvPr/>
        </p:nvSpPr>
        <p:spPr>
          <a:xfrm>
            <a:off x="1332000" y="26028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619280" y="1484280"/>
            <a:ext cx="5905440" cy="504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3"/>
          <p:cNvSpPr/>
          <p:nvPr/>
        </p:nvSpPr>
        <p:spPr>
          <a:xfrm>
            <a:off x="1547640" y="2133720"/>
            <a:ext cx="605016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допустим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дирать с поверхности кожи одеж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крывать пузы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интовать обожженную поверх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мывать грязь и сажу с поверхности кож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рабатывать повреждённую поверхность присыпками и спиртосодержащими раство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"/>
          <p:cNvSpPr txBox="1"/>
          <p:nvPr/>
        </p:nvSpPr>
        <p:spPr>
          <a:xfrm>
            <a:off x="1332000" y="549360"/>
            <a:ext cx="62769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547640" y="2133720"/>
            <a:ext cx="6120000" cy="374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042920" y="333360"/>
            <a:ext cx="685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химически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324000" y="1197000"/>
            <a:ext cx="5616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)Если ожог вызван кисло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только не серной), то можно промыть место ожога струёй холодной воды, а затем щелочным раствором: мыльной водой или раствором пищевой со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843280" y="2564640"/>
            <a:ext cx="6551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)Если же ожог от щёло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осле промывания водой хорошо приложить ткань, смоченную слабым  уксусом или лимонным соком. Перед отправлением в больницу ожог закрывают повязк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179280" y="3933000"/>
            <a:ext cx="684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)Если на кожу попал фосф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он вспыхивает. Обожжённое место нужно опустить под воду. Палочкой удалить кусочки фосфора, наложить повяз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195640" y="5012280"/>
            <a:ext cx="6589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)Когда на кожу попадает негашеная изве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и в коем случае нельзя допускать попадание туда влаги – пойдёт бурная химическая реакция. Обработку ожога производят любым масл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гл"/>
          <p:cNvPicPr/>
          <p:nvPr/>
        </p:nvPicPr>
        <p:blipFill>
          <a:blip r:embed="rId1"/>
          <a:stretch/>
        </p:blipFill>
        <p:spPr>
          <a:xfrm>
            <a:off x="6156360" y="1197000"/>
            <a:ext cx="1224000" cy="1440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" descr="фосфор"/>
          <p:cNvPicPr/>
          <p:nvPr/>
        </p:nvPicPr>
        <p:blipFill>
          <a:blip r:embed="rId2"/>
          <a:stretch/>
        </p:blipFill>
        <p:spPr>
          <a:xfrm>
            <a:off x="6588000" y="3789360"/>
            <a:ext cx="1727280" cy="1224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известь"/>
          <p:cNvPicPr/>
          <p:nvPr/>
        </p:nvPicPr>
        <p:blipFill>
          <a:blip r:embed="rId3"/>
          <a:stretch/>
        </p:blipFill>
        <p:spPr>
          <a:xfrm>
            <a:off x="611280" y="501336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джэ"/>
          <p:cNvPicPr/>
          <p:nvPr/>
        </p:nvPicPr>
        <p:blipFill>
          <a:blip r:embed="rId4"/>
          <a:stretch/>
        </p:blipFill>
        <p:spPr>
          <a:xfrm>
            <a:off x="611280" y="249228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1042920" y="19238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лектротравме происходит поражение не только в месте непосредственного воздействия  тока, но страдает и весь орган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971640" y="4239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сте удара может быть покраснение и потеря чувствительности. Но если сила тока была большой, если действовал он достаточно долго, если кожа была влажной и по ряду других причин, в месте входа и выхода тока могут возникнуть глубокие ожоги, напоминающие крате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1187280" y="47628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мощь при действи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ического т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2111400"/>
            <a:ext cx="770580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ервую очередь необходимо прекратить действие электротока. При этом нужно помнить, что тело поражённого является проводником, и если неосторожно прикоснуться к нему, то оказывающий помощь также получит электротравму. Поэтому лучше всего выключить ток, используя рубильник, электропроб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900000" y="4843440"/>
            <a:ext cx="808848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невозможно, нужно отвести провод от поражённого при помощи непроводящих ток предметов: деревянной вещи, хлопчатобумажного изделия. Ожоги прикрывают повязкой. В тяжёлых случаях делают искусственное дыхание и непрямой массаж сердца. И как можно скорее в больницу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WordArt 4"/>
          <p:cNvSpPr txBox="1"/>
          <p:nvPr/>
        </p:nvSpPr>
        <p:spPr>
          <a:xfrm>
            <a:off x="2195640" y="549360"/>
            <a:ext cx="4465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ар молние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484360" y="465300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ражении молнией на коже появляются пятна тёмно-синего цвета, напоминающие разветвление дерева. Это происходит из-за паралича сосудов. Общие явления при поражении молнией также выражены значительнее. Характерно развитие параличей, глухоты, немоты и паралич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1258920" y="15573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р молнией – это мощнейшая электротрав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611280" y="213372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се явления, происходящие при поражении бытовым электричеством, будут наблюдаться и в этом случае. Но есть и отлич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мол"/>
          <p:cNvPicPr/>
          <p:nvPr/>
        </p:nvPicPr>
        <p:blipFill>
          <a:blip r:embed="rId1"/>
          <a:stretch/>
        </p:blipFill>
        <p:spPr>
          <a:xfrm>
            <a:off x="4932360" y="2060640"/>
            <a:ext cx="3240000" cy="2422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мол1"/>
          <p:cNvPicPr/>
          <p:nvPr/>
        </p:nvPicPr>
        <p:blipFill>
          <a:blip r:embed="rId2"/>
          <a:stretch/>
        </p:blipFill>
        <p:spPr>
          <a:xfrm>
            <a:off x="755640" y="3789360"/>
            <a:ext cx="1528920" cy="21607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4"/>
          <p:cNvSpPr txBox="1"/>
          <p:nvPr/>
        </p:nvSpPr>
        <p:spPr>
          <a:xfrm>
            <a:off x="1332000" y="404640"/>
            <a:ext cx="6410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к избежать удара молнией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68360" y="155700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гроза  застаёт в лесу, не следует прятаться под высокими деревьями. Особенно опасны отдельно стоящие дуб , тополь , ель и сосна. В берёзу и клён молния ударяет ред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W12"/>
          <p:cNvPicPr/>
          <p:nvPr/>
        </p:nvPicPr>
        <p:blipFill>
          <a:blip r:embed="rId1"/>
          <a:stretch/>
        </p:blipFill>
        <p:spPr>
          <a:xfrm>
            <a:off x="5940360" y="1268280"/>
            <a:ext cx="2774880" cy="20815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3276720" y="342864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сь в грозу на открытом месте, лучше присесть в сухую яму или канаву. Тело должно иметь как можно меньший контакт с землё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File0107"/>
          <p:cNvPicPr/>
          <p:nvPr/>
        </p:nvPicPr>
        <p:blipFill>
          <a:blip r:embed="rId2"/>
          <a:stretch/>
        </p:blipFill>
        <p:spPr>
          <a:xfrm>
            <a:off x="468360" y="2997360"/>
            <a:ext cx="2663640" cy="2232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9"/>
          <p:cNvSpPr/>
          <p:nvPr/>
        </p:nvSpPr>
        <p:spPr>
          <a:xfrm>
            <a:off x="1258920" y="544464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ремя грозы в горах следует избегать гребней, скальных выступов и других возвышен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Утес"/>
          <p:cNvPicPr/>
          <p:nvPr/>
        </p:nvPicPr>
        <p:blipFill>
          <a:blip r:embed="rId3"/>
          <a:stretch/>
        </p:blipFill>
        <p:spPr>
          <a:xfrm>
            <a:off x="5940360" y="4365720"/>
            <a:ext cx="267192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539640" y="1557360"/>
            <a:ext cx="4969080" cy="20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1)За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ытом мето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на поверхность ожога накладывают повязки с различными веществами (противоожоговая мазь, эмульсия синтомицина, диоксидиновая мазь и др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3708360" y="3860640"/>
            <a:ext cx="5219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 Открыт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ый мет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ечения применяют в двух вид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без обработки поверхности ожога дубящими веще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с созданием на поверхности ожога корочки (струпа) путем обработки коагулирующи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2050920" y="6597720"/>
            <a:ext cx="41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00000" y="5950080"/>
            <a:ext cx="403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WordArt 7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29" name="Picture 8" descr="9851"/>
          <p:cNvPicPr/>
          <p:nvPr/>
        </p:nvPicPr>
        <p:blipFill>
          <a:blip r:embed="rId1"/>
          <a:stretch/>
        </p:blipFill>
        <p:spPr>
          <a:xfrm>
            <a:off x="5651640" y="1628640"/>
            <a:ext cx="2808000" cy="2232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445315_20020714153547"/>
          <p:cNvPicPr/>
          <p:nvPr/>
        </p:nvPicPr>
        <p:blipFill>
          <a:blip r:embed="rId2"/>
          <a:stretch/>
        </p:blipFill>
        <p:spPr>
          <a:xfrm>
            <a:off x="611280" y="3933720"/>
            <a:ext cx="2879640" cy="215100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2195640" y="4292640"/>
            <a:ext cx="5041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 Оператив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мопластические пересадки кожи производят для временного закрытия обширных дефектов при тяжелом состоянии пострадавш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468360" y="1916280"/>
            <a:ext cx="4392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 Смешенн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гноения ожоговой поверхности заставляет переходить от открытого к закрытому методу и применению повязок с различными препара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5"/>
          <p:cNvSpPr txBox="1"/>
          <p:nvPr/>
        </p:nvSpPr>
        <p:spPr>
          <a:xfrm>
            <a:off x="468360" y="549360"/>
            <a:ext cx="8191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ециализированное лечение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5" name="Picture 6" descr="ит"/>
          <p:cNvPicPr/>
          <p:nvPr/>
        </p:nvPicPr>
        <p:blipFill>
          <a:blip r:embed="rId1"/>
          <a:stretch/>
        </p:blipFill>
        <p:spPr>
          <a:xfrm>
            <a:off x="5435640" y="1916280"/>
            <a:ext cx="2663640" cy="21207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411280" y="476280"/>
            <a:ext cx="38894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8920" y="1772640"/>
            <a:ext cx="8785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ами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зывают повреждения, вызванные термической, химической или лучевой энергией. Тяжесть ожога определяется величиной площади и глубиной повреждения ткан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88000" y="529992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ука изучающая ожоги называет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бустиолог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т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64000" y="2781360"/>
            <a:ext cx="2592720" cy="2176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шрамы от ожогов 3 степени"/>
          <p:cNvPicPr/>
          <p:nvPr/>
        </p:nvPicPr>
        <p:blipFill>
          <a:blip r:embed="rId2"/>
          <a:stretch/>
        </p:blipFill>
        <p:spPr>
          <a:xfrm>
            <a:off x="1116000" y="3357720"/>
            <a:ext cx="23446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395280" y="1700280"/>
            <a:ext cx="5437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жоговый шок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ется в связи с раздражением огромного количества нервных элементов обширной области поражения. Чем больше площадь ожога, тем чаще бывает и тяжелее протекает ш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6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2987640" y="4005360"/>
            <a:ext cx="5797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жоговая болезн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ёткой границы между ожоговым шоком и ожоговой болезнью нет. По существу речь идёт об одном и том же явлении. В первые 2-3 суток говорят об ожоговом шоке. На 3-5е сутки, как правило, полностью проявляются перечисленные выше осложнения, и врачи ставят диагноз: ожоговая болез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лдлжож"/>
          <p:cNvPicPr/>
          <p:nvPr/>
        </p:nvPicPr>
        <p:blipFill>
          <a:blip r:embed="rId1">
            <a:lum contrast="-30000"/>
          </a:blip>
          <a:stretch/>
        </p:blipFill>
        <p:spPr>
          <a:xfrm>
            <a:off x="5651640" y="170028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images"/>
          <p:cNvPicPr/>
          <p:nvPr/>
        </p:nvPicPr>
        <p:blipFill>
          <a:blip r:embed="rId2"/>
          <a:stretch/>
        </p:blipFill>
        <p:spPr>
          <a:xfrm>
            <a:off x="684360" y="3716280"/>
            <a:ext cx="1942920" cy="192420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1763640" y="620640"/>
            <a:ext cx="5715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ичины смер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68360" y="1557360"/>
            <a:ext cx="540072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екц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звитии инфекции на обожженной поверхности возникают септические явления (септическая фаза болезни), повышается температура тела, появляются ознобы, нарастает лейкоцитоз и нейтрофилез, развивается анемия, язвы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3851280" y="4005360"/>
            <a:ext cx="504036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ксемия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ется с первых часов после ожога, постепенно усиливается и после выхода из шока определяет в дальнейшем состояние пострадавшего. В развитии токсемии играет роль всасывание из, зоны ожога продуктов распада тканей, токс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ораьлор"/>
          <p:cNvPicPr/>
          <p:nvPr/>
        </p:nvPicPr>
        <p:blipFill>
          <a:blip r:embed="rId1"/>
          <a:stretch/>
        </p:blipFill>
        <p:spPr>
          <a:xfrm>
            <a:off x="5867280" y="1773360"/>
            <a:ext cx="2409840" cy="1971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аологдл"/>
          <p:cNvPicPr/>
          <p:nvPr/>
        </p:nvPicPr>
        <p:blipFill>
          <a:blip r:embed="rId2"/>
          <a:stretch/>
        </p:blipFill>
        <p:spPr>
          <a:xfrm>
            <a:off x="1187280" y="3500280"/>
            <a:ext cx="2073600" cy="25927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3"/>
          <p:cNvSpPr/>
          <p:nvPr/>
        </p:nvSpPr>
        <p:spPr>
          <a:xfrm>
            <a:off x="1042920" y="1699920"/>
            <a:ext cx="72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Неотложн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зависимости от тяжести повреждения занимает от двух дней до двух недель после ожо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3995640" y="2637000"/>
            <a:ext cx="48974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стрый пери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чинается сразу же по окончании неотложного и продолжается до тех пор, пока все глубокие повреждения не будут покрыты аутотрансплантатами (лоскутами кожи, взятыми с других участков тела больн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116000" y="5084280"/>
            <a:ext cx="770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Реабилит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возвращение больного к его обычному образу жиз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755640" y="549360"/>
            <a:ext cx="7677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тапы помощи при тяжелых ожога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53" name="Picture 11" descr="огл"/>
          <p:cNvPicPr/>
          <p:nvPr/>
        </p:nvPicPr>
        <p:blipFill>
          <a:blip r:embed="rId1"/>
          <a:stretch/>
        </p:blipFill>
        <p:spPr>
          <a:xfrm>
            <a:off x="1258920" y="2565360"/>
            <a:ext cx="2160720" cy="205272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5"/>
          <p:cNvSpPr/>
          <p:nvPr/>
        </p:nvSpPr>
        <p:spPr>
          <a:xfrm>
            <a:off x="3059280" y="12682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рм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68360" y="1560240"/>
            <a:ext cx="84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ер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ываются пламенем, горячим воздухом и жидкостями, расплавленным металлом, нагретыми или горящими част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4427640" y="2923920"/>
            <a:ext cx="4321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: резкая боль в глазу, блефароспазм, слезотечение, отек век и конъюнктивы, снижение зрени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324000" y="5013360"/>
            <a:ext cx="8640720" cy="146556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необходимо промыть глаза водой, закапать в глаза 20 % раствор сульфацил -натрия; 20 % суль – фапиридазин - натрия; раненую поверхность кожи смазать мазью антибиотика. На глаз накладывается асептическая повязка. Внутримышечно вводят противостолбнячную сыворотку (1500-ЗОООМЕ)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9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0" name="Picture 10" descr="хим ож"/>
          <p:cNvPicPr/>
          <p:nvPr/>
        </p:nvPicPr>
        <p:blipFill>
          <a:blip r:embed="rId1"/>
          <a:stretch/>
        </p:blipFill>
        <p:spPr>
          <a:xfrm>
            <a:off x="1547640" y="2637000"/>
            <a:ext cx="1944720" cy="19443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3"/>
          <p:cNvSpPr/>
          <p:nvPr/>
        </p:nvSpPr>
        <p:spPr>
          <a:xfrm>
            <a:off x="1549800" y="1340640"/>
            <a:ext cx="61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Химически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кислотными и щелочны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4000" y="1844280"/>
            <a:ext cx="86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кислотой вызывают быстрое свертывание белка, поэтому в первые часы формируется ограниченный струп. Это предохраняет подлежащиеткани от дальнейшего поражения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3995640" y="2736360"/>
            <a:ext cx="482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имптомы и те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Жалобы на боль, светобоязнь, слезотечение, снижение зрения. Веки гиперемированы, отечны. Роговица становится отечной, тусклой, с сероватым оттенком, в тяжелых случаях приобретает молочный оттенок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395280" y="5084640"/>
            <a:ext cx="8532720" cy="119124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тложная помощь: как можно быстрее, в течение 10-15 минут промыть глаза струей воды. В конъюнктивальную полость закапывают 20 % раствор сульфацил-натрия, 10 % раствор сульфапирида-зин-натрия, раствор фурацил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ьбоб"/>
          <p:cNvPicPr/>
          <p:nvPr/>
        </p:nvPicPr>
        <p:blipFill>
          <a:blip r:embed="rId1"/>
          <a:stretch/>
        </p:blipFill>
        <p:spPr>
          <a:xfrm>
            <a:off x="826920" y="2852640"/>
            <a:ext cx="288000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468360" y="1512000"/>
            <a:ext cx="8675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Щелоч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нее благоприятны. Щелочь растворяет белок и беспрепятственно проникает внутрь тканей. Страдает не только кожа, конъюнктива и роговица. Воздействию подвергается радужка, хрусталик и другие ткани гл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24000" y="4784760"/>
            <a:ext cx="8497800" cy="1770480"/>
          </a:xfrm>
          <a:prstGeom prst="rect">
            <a:avLst/>
          </a:prstGeom>
          <a:solidFill>
            <a:srgbClr val="8ea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тложная помощ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ильное промывание глаз водой в течении 15-30 минут. Если имеются частицы поражающего агента, то необходимо их удалить с помощью тугого ватного тампона или пинцетом, повторно промьггь водой. После этого закапать в глаз раствор антибиотиков, сульфаниламидов. Накладывается сухая асептическая повязка,больной направляется в стациона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5"/>
          <p:cNvSpPr txBox="1"/>
          <p:nvPr/>
        </p:nvSpPr>
        <p:spPr>
          <a:xfrm>
            <a:off x="2484360" y="260280"/>
            <a:ext cx="3960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жоги глаз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2" name="Picture 6" descr="ожог глаз канцелярским клеем"/>
          <p:cNvPicPr/>
          <p:nvPr/>
        </p:nvPicPr>
        <p:blipFill>
          <a:blip r:embed="rId1"/>
          <a:stretch/>
        </p:blipFill>
        <p:spPr>
          <a:xfrm>
            <a:off x="5940360" y="2565360"/>
            <a:ext cx="2025720" cy="2025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ернп"/>
          <p:cNvPicPr/>
          <p:nvPr/>
        </p:nvPicPr>
        <p:blipFill>
          <a:blip r:embed="rId2"/>
          <a:stretch/>
        </p:blipFill>
        <p:spPr>
          <a:xfrm>
            <a:off x="1979640" y="2708280"/>
            <a:ext cx="1728720" cy="180036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1042920" y="1844640"/>
            <a:ext cx="720108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 солнечного ожо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вают разные - от порозовения кожи, начинающей "гореть", до покраснения, когда она опухает, покрывается волдырями и становится крайне болезне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4427640" y="335772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лнечные ожоги вовсе не так безобидны, как думают многие. Доказано, что они могут приводить не только к преждевременному старению кожи и развитию фотодерматита (аллергии к солнечным лучам), но и к снижению зрения и даже к онкологическим заболеваниям (раку кож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1042920" y="3284640"/>
            <a:ext cx="3056040" cy="3074760"/>
          </a:xfrm>
          <a:prstGeom prst="rect">
            <a:avLst/>
          </a:prstGeom>
          <a:ln w="0">
            <a:noFill/>
          </a:ln>
        </p:spPr>
      </p:pic>
      <p:sp>
        <p:nvSpPr>
          <p:cNvPr id="278" name="WordArt 6"/>
          <p:cNvSpPr txBox="1"/>
          <p:nvPr/>
        </p:nvSpPr>
        <p:spPr>
          <a:xfrm>
            <a:off x="2340000" y="620640"/>
            <a:ext cx="410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ечный ожог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903600" y="1340640"/>
            <a:ext cx="39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защитные кр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3711240" y="3715560"/>
            <a:ext cx="46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олнцеотражающи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68360" y="530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частая причина солнечных ожогов - ажиотаж первого дня. Увеличивайте время пребывания на солнце постепенно: переходите от получаса на первый раз до не более чем 2 часа в день. Самое активное солнце с полудня до 2 часов, так что в это время лучше не загор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68360" y="191628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непроницаемые кремы содержат окисел цинка или диоксид титана, практически полностью блокирующие ультрафиолетовую радиацию. Они хороши для чувствительных участков кожи, таких, как нос и губ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419640" y="4291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содержат вещества, частично отражающие ультрафиолетовые лу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специальный аква гель от солнечныхожогов"/>
          <p:cNvPicPr/>
          <p:nvPr/>
        </p:nvPicPr>
        <p:blipFill>
          <a:blip r:embed="rId1"/>
          <a:stretch/>
        </p:blipFill>
        <p:spPr>
          <a:xfrm>
            <a:off x="1258920" y="3429000"/>
            <a:ext cx="1730520" cy="1627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солнцезащитный крем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724360" y="1413000"/>
            <a:ext cx="2170440" cy="2170080"/>
          </a:xfrm>
          <a:prstGeom prst="rect">
            <a:avLst/>
          </a:prstGeom>
          <a:ln w="0">
            <a:noFill/>
          </a:ln>
        </p:spPr>
      </p:pic>
      <p:sp>
        <p:nvSpPr>
          <p:cNvPr id="287" name="WordArt 10"/>
          <p:cNvSpPr txBox="1"/>
          <p:nvPr/>
        </p:nvSpPr>
        <p:spPr>
          <a:xfrm>
            <a:off x="154764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филактические сред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468360" y="5229360"/>
            <a:ext cx="8280360" cy="1368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611280" y="1341000"/>
            <a:ext cx="817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ВОЙ УДА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олезненное состояние, обусловленное общим перегреванием организма и возникающее в результате воздействия внешних тепловых факторов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500720" y="2708280"/>
            <a:ext cx="43192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больного наблюдается чувство общей слабости, разбитости, головная боль, головокружение, шум в ушах, сонливость, жажда, тошнота. При осмотре выявляется гиперемия кожных покров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пр"/>
          <p:cNvPicPr/>
          <p:nvPr/>
        </p:nvPicPr>
        <p:blipFill>
          <a:blip r:embed="rId1"/>
          <a:stretch/>
        </p:blipFill>
        <p:spPr>
          <a:xfrm>
            <a:off x="1187280" y="2565360"/>
            <a:ext cx="2953080" cy="345744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2556000" y="404640"/>
            <a:ext cx="3743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пловой удар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971640" y="191628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ного срочно выносят в прохладное место, обеспечивают доступ свежего воздуха, освобождают от одежды, дают выпить холодной воды, накладывают холодный компресс на гол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олее тяжелых случаях показано обертывание простыней, смоченной холодной водой, обливание прохладной водой, лед на голову и паховые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1692360" y="4941720"/>
            <a:ext cx="59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не в коем случае нельзя давать алкоголь, напитки, содержащие теин и кофеин (чай, кофе, кака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WordArt 5"/>
          <p:cNvSpPr txBox="1"/>
          <p:nvPr/>
        </p:nvSpPr>
        <p:spPr>
          <a:xfrm>
            <a:off x="2556000" y="404640"/>
            <a:ext cx="4211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помощ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971640" y="1844640"/>
            <a:ext cx="7056360" cy="237636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692360" y="4869000"/>
            <a:ext cx="597528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826920" y="1268280"/>
            <a:ext cx="216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ла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324000" y="1700280"/>
            <a:ext cx="59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 получает ожоги, в основном, от загоревшейся одежды. Синтетические материалы расплавляются и проникают глубоко в кожу, и их потом очень тяжело отделить. Ожоги пламенем неравномерны, носят пятнистый характ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73528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348000" y="3644640"/>
            <a:ext cx="5616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)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хорошо впитывает воду, поэтому такие ожоги обычно большие, значительные по площади и больше, чем при первичном контак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9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8" name="Picture 12" descr="лд"/>
          <p:cNvPicPr/>
          <p:nvPr/>
        </p:nvPicPr>
        <p:blipFill>
          <a:blip r:embed="rId2"/>
          <a:stretch/>
        </p:blipFill>
        <p:spPr>
          <a:xfrm>
            <a:off x="1042920" y="3141720"/>
            <a:ext cx="1717920" cy="2232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3"/>
          <p:cNvSpPr/>
          <p:nvPr/>
        </p:nvSpPr>
        <p:spPr>
          <a:xfrm>
            <a:off x="755640" y="5516280"/>
            <a:ext cx="7559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3)Контакт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зникают в результате соприкосновения кожи с твердым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ами. Они возникают в 10% случа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3"/>
          <p:cNvSpPr/>
          <p:nvPr/>
        </p:nvSpPr>
        <p:spPr>
          <a:xfrm>
            <a:off x="755640" y="1988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у 71°С человек выдерживает в течение 1 часа, 82°С - 49 минут, 93°С - 33 минут, а 104°С - только 26 мин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4284720" y="285228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28 году был описан случай 14-минутного пребывания мужчины в печи, где температура достигала 1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468360" y="5444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наженном состоянии человек может выдержать быстрое нарастание температуры до 210°С, а в ватной одежде - до 270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4032360" y="400500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ьгии в 1958 году был зарегистрирован случай, когда человек несколько минут находился в термокамере при температуре 200°С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ы"/>
          <p:cNvPicPr/>
          <p:nvPr/>
        </p:nvPicPr>
        <p:blipFill>
          <a:blip r:embed="rId1"/>
          <a:stretch/>
        </p:blipFill>
        <p:spPr>
          <a:xfrm>
            <a:off x="611280" y="2924280"/>
            <a:ext cx="3238560" cy="2185920"/>
          </a:xfrm>
          <a:prstGeom prst="rect">
            <a:avLst/>
          </a:prstGeom>
          <a:ln w="0">
            <a:noFill/>
          </a:ln>
        </p:spPr>
      </p:pic>
      <p:sp>
        <p:nvSpPr>
          <p:cNvPr id="306" name="WordArt 8"/>
          <p:cNvSpPr txBox="1"/>
          <p:nvPr/>
        </p:nvSpPr>
        <p:spPr>
          <a:xfrm>
            <a:off x="1835280" y="40464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кция организ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жаркую погоду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2627280" y="1413000"/>
            <a:ext cx="58690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4)Ожоги, возникающие при контакте с различными другими веществ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жирами, маслами. Ожоги небольшие по глубине и по площади, так как жиры и масла не растекаются по поверхности кожи, имеют пятнистый характер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042920" y="4365360"/>
            <a:ext cx="45356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6)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жог вольтовой дугой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ходен с ожогом пламенем. Кожа становится черной из-за импрегнации металл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i"/>
          <p:cNvPicPr/>
          <p:nvPr/>
        </p:nvPicPr>
        <p:blipFill>
          <a:blip r:embed="rId1"/>
          <a:stretch/>
        </p:blipFill>
        <p:spPr>
          <a:xfrm>
            <a:off x="539640" y="1341360"/>
            <a:ext cx="17020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р"/>
          <p:cNvPicPr/>
          <p:nvPr/>
        </p:nvPicPr>
        <p:blipFill>
          <a:blip r:embed="rId2"/>
          <a:stretch/>
        </p:blipFill>
        <p:spPr>
          <a:xfrm>
            <a:off x="6012000" y="4221000"/>
            <a:ext cx="2590560" cy="1656000"/>
          </a:xfrm>
          <a:prstGeom prst="rect">
            <a:avLst/>
          </a:prstGeom>
          <a:ln w="0">
            <a:noFill/>
          </a:ln>
        </p:spPr>
      </p:pic>
      <p:sp>
        <p:nvSpPr>
          <p:cNvPr id="125" name="WordArt 8"/>
          <p:cNvSpPr txBox="1"/>
          <p:nvPr/>
        </p:nvSpPr>
        <p:spPr>
          <a:xfrm>
            <a:off x="1835280" y="404640"/>
            <a:ext cx="496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06440" y="3428280"/>
            <a:ext cx="58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5)Вязкие Веще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смолой, гудроно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4"/>
          <p:cNvSpPr txBox="1"/>
          <p:nvPr/>
        </p:nvSpPr>
        <p:spPr>
          <a:xfrm>
            <a:off x="1979640" y="692280"/>
            <a:ext cx="49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ер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900000" y="1989000"/>
            <a:ext cx="5759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7)Ожоги электрическим то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могут быть от молнии и бытовой (от электроприборов). Ожоги по площади незначительные, о глубокие, повреждаются мышцы и 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молн"/>
          <p:cNvPicPr/>
          <p:nvPr/>
        </p:nvPicPr>
        <p:blipFill>
          <a:blip r:embed="rId1"/>
          <a:stretch/>
        </p:blipFill>
        <p:spPr>
          <a:xfrm>
            <a:off x="2987640" y="3573360"/>
            <a:ext cx="3371760" cy="25956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684360" y="1484280"/>
            <a:ext cx="59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8) Ожоги щелочью и кисло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жоги щелочью значительно опаснее, чем кислотой, при котором происходит коагуляция белков и образуется корочка, струп, предотвращающая проникновение в глубокие сло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76720" y="3284280"/>
            <a:ext cx="5688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9)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званные алкалоидами растений, например относящихся к семейству лютиковых подснеж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826920" y="5229000"/>
            <a:ext cx="53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0) Ожоги фосфором и изве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ь"/>
          <p:cNvPicPr/>
          <p:nvPr/>
        </p:nvPicPr>
        <p:blipFill>
          <a:blip r:embed="rId1"/>
          <a:stretch/>
        </p:blipFill>
        <p:spPr>
          <a:xfrm>
            <a:off x="971640" y="3213000"/>
            <a:ext cx="1917720" cy="18716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8"/>
          <p:cNvSpPr txBox="1"/>
          <p:nvPr/>
        </p:nvSpPr>
        <p:spPr>
          <a:xfrm>
            <a:off x="2124000" y="404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чески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7" name="Picture 10" descr="известь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580000" y="4365720"/>
            <a:ext cx="2808360" cy="1854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P+O2"/>
          <p:cNvPicPr/>
          <p:nvPr/>
        </p:nvPicPr>
        <p:blipFill>
          <a:blip r:embed="rId3"/>
          <a:stretch/>
        </p:blipFill>
        <p:spPr>
          <a:xfrm>
            <a:off x="6516720" y="1557360"/>
            <a:ext cx="2089080" cy="157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4"/>
          <p:cNvSpPr txBox="1"/>
          <p:nvPr/>
        </p:nvSpPr>
        <p:spPr>
          <a:xfrm>
            <a:off x="2124000" y="620640"/>
            <a:ext cx="46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учевые ожог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971640" y="1923120"/>
            <a:ext cx="6553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)Радиационные ожо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ключаются в себя: ожоги УФ-излуч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ло"/>
          <p:cNvPicPr/>
          <p:nvPr/>
        </p:nvPicPr>
        <p:blipFill>
          <a:blip r:embed="rId1"/>
          <a:stretch/>
        </p:blipFill>
        <p:spPr>
          <a:xfrm>
            <a:off x="1403280" y="2997360"/>
            <a:ext cx="2808360" cy="280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788000" y="285264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Ф-излучение вызывает 2 вида повреждений: рак кожи и подавление иммунной систе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ационное излучение оказывает основное действие на кроветворную, иммунную, центральную нервную систем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9640" y="1989000"/>
            <a:ext cx="2470320" cy="1598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191448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5796000" y="4005360"/>
            <a:ext cx="2468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012000" y="3645000"/>
            <a:ext cx="2009520" cy="2667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203640" y="1483920"/>
            <a:ext cx="573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проявляются резко выраженной краснотой кожи и отеком тканей, сопровождаются жгучей болью и поражением верхних слоёв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276720" y="2492280"/>
            <a:ext cx="56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- Кроме выраженных симптомов, отмеченных при 1степени, отмечается образование пузырей наполненных серозной жидк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68360" y="4142880"/>
            <a:ext cx="42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традают все сло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468360" y="48682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I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е разрушение кожи и нижележащего мышечного сло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95280" y="566064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жоги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епени сопровождаются некрозом более глубоких слоев тканей и обугливанием кожи или даже органа, омертвением не только кожи, но и глубжележащих тк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12"/>
          <p:cNvSpPr txBox="1"/>
          <p:nvPr/>
        </p:nvSpPr>
        <p:spPr>
          <a:xfrm>
            <a:off x="1619280" y="404640"/>
            <a:ext cx="5761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лассификация ожогов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1187280" y="2205000"/>
            <a:ext cx="3529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лад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о девя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Глубина ож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846760" y="1916280"/>
            <a:ext cx="1893960" cy="47527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042920" y="5013360"/>
            <a:ext cx="39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площадь поражения кожи превышает 10% - следует ожидать развития ожогового ш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6"/>
          <p:cNvSpPr txBox="1"/>
          <p:nvPr/>
        </p:nvSpPr>
        <p:spPr>
          <a:xfrm>
            <a:off x="1619280" y="404640"/>
            <a:ext cx="57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ля определ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иагноза нужно знать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042920" y="5013360"/>
            <a:ext cx="0" cy="10796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1042920" y="6093000"/>
            <a:ext cx="38894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1042920" y="5013360"/>
            <a:ext cx="3889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4932360" y="5013360"/>
            <a:ext cx="0" cy="1079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06:16:37Z</dcterms:created>
  <dc:creator>Киска</dc:creator>
  <dc:description>dmsuslin.narod.ru</dc:description>
  <dc:language>en-US</dc:language>
  <cp:lastModifiedBy>LEGION</cp:lastModifiedBy>
  <dcterms:modified xsi:type="dcterms:W3CDTF">2015-05-12T08:17:55Z</dcterms:modified>
  <cp:revision>17</cp:revision>
  <dc:subject/>
  <dc:title>Ожог на кож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4140</vt:lpwstr>
  </property>
</Properties>
</file>