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9.wmf" ContentType="image/x-wmf"/>
  <Override PartName="/ppt/media/image8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CAMERA.WAV" ContentType="audio/x-wav"/>
  <Override PartName="/ppt/media/image5.png" ContentType="image/png"/>
  <Override PartName="/ppt/media/image13.wmf" ContentType="image/x-wmf"/>
  <Override PartName="/ppt/media/image6.jpeg" ContentType="image/jpeg"/>
  <Override PartName="/ppt/media/image7.wmf" ContentType="image/x-wmf"/>
  <Override PartName="/ppt/media/image2.jpeg" ContentType="image/jpeg"/>
  <Override PartName="/ppt/media/image3.png" ContentType="image/png"/>
  <Override PartName="/ppt/media/image12.wmf" ContentType="image/x-wmf"/>
  <Override PartName="/ppt/media/TYP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D808-FC59-491B-93CA-ED398CE6FA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вредных привычек у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AE7E-3859-42D4-8BDA-EC9B41FBEE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ящие ежедневно мужчины и женщины (в процента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C7B0-A1BF-4EC7-A09F-A00A531C81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действие табака на организ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нсульт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губ, полости рта, горла и горта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ается риск сердечного присту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лёг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ва и рак желудка, поджелудочной желе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сплод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ангрена, вызванная закупоркой сосу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24F2-0732-4DC6-B4D5-47D7F05603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056A-38EA-4EBA-96BA-A195515DD2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наете ли вы, чт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ак ежегодно уносит 5 млн. жиз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13,5 тыс. ежеднев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ильщики составляют 96 - 100 % всех больных раком лёг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90 % онкологических заболеваний вызвано курен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игареты подорожают всего на  10 %, в мире станет на 40 млн. курильщиков меньш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алкоголя в европейских и центрально-азиатских странах, (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пересчёте на литры чистого спирта на одного взрослого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ее 10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рмания, Дания, Молдова, Россия, Украина, Франци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-10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я, Беларусь, Болгария, Польша, Норвегия, Швейца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е 5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ербайджан, Турция, Кыргызст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C3CB-52E3-4602-8199-DF282D7977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7A4A-7D67-45C8-B5C3-8DD54E12C4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действия спиртных напит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ст «Хороший ли вы воспитатель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е ли Вы на иные вопросы ребёнка: «Я скажу тебе, когда ты подрастёшь»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е ли Вы ребёнку деньги на мелкие расход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тказываете в чём-нибудь ребёнку, объясняете ли Вы причин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детям помогать Вам по хозяйству, даже зная, что пользы от этой помощи мало или совсем не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 допустимым небольшую ложь в отношениях с деть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етесь ли Вы всяким случаем, чтобы способствовать развитию наблюдательности у ребё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себе в присутствии ребёнка критиковать своих знакомы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ребёнка нельзя обманы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маленьким детям следует объяснять все житейские факт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и ли Вы книги по воспитани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я, что даже самые маленькие дети имеют право на свои тайн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тся ли Вам грозить наказанием ребёнку, если он оставит что-нибудь на тарелк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есь ли Вы способствовать тому, чтобы у детей развивались чувства независимости и уверенности в себ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разделить радость ребё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о ли Вы проводите своё свободное время с деть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ли Вы демонстрировать таланты своих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сказать так, чтобы Вас тотчас же послушалис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ёнок раскапризничался, способны ли Вы сохранить полное спокойств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ли Вы завязываете дружбу с товарищами Ваших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такие примерно предположения о педагогических талантах участников теста можно сделать после подсчёта сумм набранных ими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еньше 25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гость не единственный элемент хорошего воспитания. С Вашими принципами Вам трудно будет сделать ребёнка веселым и уравновешенным челове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25 – 56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у Вас, в общем правильные. Но не кажется ли Вам, что быть только логичным недостаточно, надо быть реалистич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ыше 56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терпение и Ваше понимание детской психологии, безусловно, увенчаются успехом. Думается, что те, кто считает Вас хорошим воспитателем, пра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1F3C-A7A8-41A8-9D37-4DC1826DBD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де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3CF3-B2ED-4FEB-9275-B73A4145ED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ычки которые наиболее сильно раздражают вас в окружающи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8631-AE16-4946-A106-162BD9D80F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2550-DD3D-442B-8690-268B511083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свои вредные привы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часто вы сквернословит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38D2-0573-4026-A831-30787D11D5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BECC-7B0E-40C5-8C6A-BAA9A261F1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оровый образ жизни, несовместимость здоровья и вредных привы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тельское собр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ком возрасте вы первый раз закурил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F99E-A39D-4927-9F68-EFCA39C6B1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то наиболее сильно оказывает влияние на стиль вашего общения и повед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3F1E-5E3F-4471-B490-2CEEC88365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Разбор различных житейских ситу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F473-FC9A-4720-99B9-B9BD3A0424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№ 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Ребёнок пришёл домой в нетрезвом состоя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говор отложите на завтра, когда подросток протрезве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дростку плохо, нужно дать ему возможность пережить эту ситуацию самостоятель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ий день следует в спокойной обстановке поговорить о случившемся. Выяснить причины, узнать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казать о губительном влиянии алкоголя на организ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елиться собственным опы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5B1D-CE73-435D-8AC5-6152866FB0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№ 2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бёнок пришёл накуренный дом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ближайшее время организовать доверительные разговоры в семейном кругу, где затронуть данную тему и случа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свободное время ребёнка (спорт, музы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времяпрепровождения (посещение театра, кино, выезд в лес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4843-2812-47DB-BEE4-ADF723CA81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ажаемые  родители! Как  мы  с  вами можем помочь нашим детям отказаться от вредных привычек и привить любовь к здоровому образу жизн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9770-F5B6-4D3C-AE0E-41C975E70D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аще смотрите на своих детей, когда они спя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мотрит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Отдыхайте душой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умайте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5A68-6953-4A2E-B3BA-B8477E2DEE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B7C0-0FB3-4B1D-BCDF-B96AA90535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доровь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стояние полного физического, душевного и социального благополучия, сопровождаемое фактическим отсутствием болезней и индивидуально фрустирующих (выводящих из состояния внутреннего спокойствия) недостат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ыть здоровы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значит не иметь проблем с самочувствием, быть физически и духовно полноценным человеко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26C1-9D6C-468E-929E-61B81C2F0E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оровье человека зависи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10 % от уровня развития медицинской помощ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т условий окружающей сре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EF28-C9E1-4C8D-AB99-AE40094209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способствует сохранению и укреплению здоровь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авильное питани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ал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людение режима труда и отды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ическая и эмоциональная устойчив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ая гиги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альный уровень двигательной а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опасное поведение дома, на улице, на рабо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саморазрушающего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оровое сексуаль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7CC8-3F99-42DF-B82D-21E5ADAE2C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C286-943E-4732-B92D-3A0F45F633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редные  привыч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 сложившиеся  способы деструктивного (саморазрушающего) поведения, осуществление     которого    в    определённых ситуациях   приобретает   характер   потреб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редные привычки могу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ладываться стихи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побочным продуктом направленного воспитания и об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тать в устойчивые черты харак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обретать черты автоматиз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социально обусловле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333C-141B-437A-9018-3664A7600E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Феномен адик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пагубного пристрастия к чему-либо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стремится благодаря использованию тех или иных средств (веществ) заместить естественные для конкретных социальных ситуаций чувства и эмоции, избежать стрес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FFAB-9B22-4027-A48B-971FED9046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CC2-AC34-46A7-B2BE-BD61FE9B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93F-D42D-411C-8DAF-F4F32380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70C-2348-421A-BE70-EB198270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51B-3827-4D8B-AD41-6EC5B6AA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DFAF-9E31-473A-B290-0BBA9D9F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F571-231F-40AF-9F83-28ABECB4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832C-F078-4B75-B541-652E338A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1184-023C-4A39-8472-C66F0333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87E7-EE46-4B53-80D2-D1842A29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ED72-1AFC-4A8A-8626-B48922F8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081A-3D5E-4395-A9E3-2108B247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D4E-1A04-4195-8CF0-3140F211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83A1-0874-483F-9DDB-898F797B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C133-7092-4EE0-AB57-58B0EBF3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B1AC-7544-4A16-895C-34E44E8D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A782-67BD-480E-87B9-EF9FD3F3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CA56-CC30-4C2F-A9A0-07C344FA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C45-BE9F-42E4-803D-A10AED08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1F11-7471-43EC-B644-D64CC2F3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3D5-F962-4E1C-8FB2-484882AC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18E-AE97-4E4B-9DF1-3CA3B83A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B89-2801-4AB9-A9BD-9179AC4D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A54-99EC-42BF-BA93-570E0FED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076-FCAA-4BE7-A3A8-D90ACA47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3122-67F8-4539-89DA-88396798EAF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4F9F-5D8B-4896-84B1-90CEC2193FF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c2b"/>
                </a:solidFill>
                <a:latin typeface="Times New Roman"/>
              </a:rPr>
              <a:t>Профилактика вредных привычек у детей.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1095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Курящие ежедневно мужчины и женщины (в процентах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762120" y="1752480"/>
          <a:ext cx="779616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9616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оздействие табака на организм.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инсульт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85800" y="2362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губ, полости рта, горла и гортан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5800" y="2743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вышается риск сердечного приступ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85800" y="31240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лёгких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85800" y="35053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печен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85800" y="3809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зва и рак желудка, поджелудочной железы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4191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сплод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685800" y="4572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нгрена, вызванная закупоркой сосуд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2880" y="8236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Знаете ли вы, что: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абак ежегодно уносит 5 млн. жизней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8580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это 13,5 тыс. ежедневно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5800" y="23623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курильщики составляют 96 - 100 % всех больных раком лёгких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85800" y="3429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о 90 % онкологических заболеваний вызвано курением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85800" y="449568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если сигареты подорожают всего на  10 %, в мире станет на 40 млн. курильщиков меньше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Потребление алкоголя в европейских и центрально-азиатских странах, (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в пересчёте на литры чистого спирта на одного взрослого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80880" y="2209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олее 10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29000" y="21337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рмания, Дания, Молдова, Россия, Украина, Франция, 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914400" y="3505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-10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352680" y="34290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встрия, Беларусь, Болгария, Польша, Норвегия, Швейцар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3352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енее 5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429000" y="4724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зербайджан, Турция, Кыргызстан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38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ремя действия спиртных напитков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685800" y="1582560"/>
          <a:ext cx="7753320" cy="48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82560"/>
                    <a:ext cx="775332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714240" y="-731880"/>
            <a:ext cx="8143920" cy="79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760" rIns="-522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Тест «Хороший ли вы воспитатель»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е ли Вы на иные вопросы ребёнка: «Я скажу тебе, когда ты подрастёшь»!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е ли Вы ребёнку деньги на мелкие расход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тказываете в чём-нибудь ребёнку, объясняете ли Вы причину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детям помогать Вам по хозяйству, даже зная, что пользы от этой помощи мало или совсем нет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 допустимым небольшую ложь в отношениях с детьми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етесь ли Вы всяким случаем, чтобы способствовать развитию наблюдательности у ребёнка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себе в присутствии ребёнка критиковать своих знакомых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ребёнка нельзя обманывать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маленьким детям следует объяснять все житейские факт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и ли Вы книги по воспитанию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я, что даже самые маленькие дети имеют право на свои тайн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тся ли Вам грозить наказанием ребёнку, если он оставит что-нибудь на тарелк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есь ли Вы способствовать тому, чтобы у детей развивались чувства независимости и уверенности в себ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разделить радость ребёнка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о ли Вы проводите своё свободное время с детьми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ли Вы демонстрировать таланты своих детей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сказать так, чтобы Вас тотчас же послушались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ёнок раскапризничался, способны ли Вы сохранить полное спокойстви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ли Вы завязываете дружбу с товарищами Ваших детей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Вот такие примерно предположения о педагогических талантах участников теста можно сделать после подсчёта сумм набранных ими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Меньше 25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Строгость не единственный элемент хорошего воспитания. С Вашими принципами Вам трудно будет сделать ребёнка веселым и уравновешенным человеком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25 – 56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Принципы у Вас, в общем правильные. Но не кажется ли Вам, что быть только логичным недостаточно, надо быть реалистичным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Свыше 56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Ваше терпение и Ваше понимание детской психологии, безусловно, увенчаются успехом. Думается, что те, кто считает Вас хорошим воспитателем, правы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Результаты анкетирования детей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c2b"/>
                </a:solidFill>
                <a:latin typeface="Times New Roman"/>
              </a:rPr>
              <a:t>Привычки которые наиболее сильно раздражают вас в окружающих?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685800" y="2000160"/>
          <a:ext cx="777096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00160"/>
                    <a:ext cx="777096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Назовите свои вредные привычки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704880" y="2019240"/>
          <a:ext cx="777240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1924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Как часто вы сквернословите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c2b"/>
                </a:solidFill>
                <a:latin typeface="Times New Roman"/>
              </a:rPr>
              <a:t>Здоровый образ жизни, несовместимость здоровья и вредных привычек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0920" y="3428640"/>
            <a:ext cx="8281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Родительское собрание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0" y="2142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92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744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 каком возрасте вы первый раз закурили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9" name="Object 0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Кто наиболее сильно оказывает влияние на стиль вашего общения и поведения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1295280" y="1905120"/>
            <a:ext cx="63723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Разбор различных 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житейских ситуаций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итуация № 1</a:t>
            </a: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Ребёнок пришёл домой в нетрезвом состояни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говор отложите на завтра, когда подросток протрезвее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если подростку плохо, нужно дать ему возможность пережить эту ситуацию самостоятельн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следующий день следует в спокойной обстановке поговорить о случившемся. Выяснить причины, узнать проблем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ссказать о губительном влиянии алкоголя на организ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делиться собственным опыто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итуация № 2</a:t>
            </a:r>
            <a:br>
              <a:rPr sz="24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Ребёнок пришёл накуренный домой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ближайшее время организовать доверительные разговоры в семейном кругу, где затронуть данную тему и случа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рганизовать свободное время ребёнка (спорт, музыка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емейное времяпрепровождения (посещение театра, кино, выезд в лес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533520" y="12952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Уважаемые  родители! Как  мы  с  вами можем помочь нашим детям отказаться от вредных привычек и привить любовь к здоровому образу жизни?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685800" y="765000"/>
            <a:ext cx="80629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Почаще смотрите на своих детей, когда они спят.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Смотрите…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               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Отдыхайте душой…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                                           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Думайте…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5"/>
          <p:cNvSpPr txBox="1"/>
          <p:nvPr/>
        </p:nvSpPr>
        <p:spPr>
          <a:xfrm>
            <a:off x="755640" y="1484280"/>
            <a:ext cx="7632720" cy="28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годарю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c4e4a"/>
                  </a:gs>
                  <a:gs pos="50000">
                    <a:srgbClr val="f7e76d"/>
                  </a:gs>
                  <a:gs pos="100000">
                    <a:srgbClr val="fc4e4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внимание!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c4e4a"/>
                  </a:gs>
                  <a:gs pos="50000">
                    <a:srgbClr val="f7e76d"/>
                  </a:gs>
                  <a:gs pos="100000">
                    <a:srgbClr val="fc4e4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37236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916360" y="3429000"/>
            <a:ext cx="622764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0" y="3429000"/>
            <a:ext cx="291636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6372360" y="0"/>
            <a:ext cx="277164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Admin\Мои документы\Мои рисунки\учителя\Фотографии\P1013863.JPG"/>
          <p:cNvPicPr/>
          <p:nvPr/>
        </p:nvPicPr>
        <p:blipFill>
          <a:blip r:embed="rId5"/>
          <a:stretch/>
        </p:blipFill>
        <p:spPr>
          <a:xfrm>
            <a:off x="-1930320" y="-144792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12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c2b"/>
                </a:solidFill>
                <a:latin typeface="Times New Roman"/>
              </a:rPr>
              <a:t>Здоровье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4c2b"/>
                </a:solidFill>
                <a:latin typeface="Times New Roman"/>
              </a:rPr>
              <a:t>это состояние полного физического, душевного и социального благополучия, сопровождаемое фактическим отсутствием болезней и индивидуально фрустирующих (выводящих из состояния внутреннего спокойствия) недостатков.</a:t>
            </a: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3520" y="2819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Быть здоровы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значит не иметь проблем с самочувствием, быть физически и духовно полноценным человеко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0" y="2142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92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744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Здоровье человека зависит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10 % от уровня развития медицинской помощи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2666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20 % от условий окружающей среды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85800" y="3429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85800" y="4191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Что способствует сохранению и укреплению здоровья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авильное питани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62120" y="2133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каливан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62120" y="2514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блюдение режима труда и отдых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62120" y="2895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сихическая и эмоциональная устойчивость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62120" y="32767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личная гигиен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62120" y="3657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птимальный уровень двигательной активност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62120" y="4038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зопасное поведение дома, на улице, на работ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тказ от саморазрушающего поведен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762120" y="4800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доровое сексуальное поведен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200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000"/>
            </a:br>
            <a:br>
              <a:rPr sz="1000"/>
            </a:br>
            <a:br>
              <a:rPr sz="12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Вредные привычки могут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1532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кладываться стихийн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09480" y="1057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Вредные  привычки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- это  сложившиеся  способы деструктивного (саморазрушающего) поведения, осуществление     которого    в    определённых ситуациях   приобретает   характер   потребност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57200" y="3962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ть побочным продуктом направленного воспитания и обучен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4648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ерерастать в устойчивые черты характер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57200" y="5029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иобретать черты автоматизм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5334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ть социально обусловленным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4c2b"/>
                </a:solidFill>
                <a:latin typeface="Times New Roman"/>
              </a:rPr>
              <a:t>Феномен адикции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(пагубного пристрастия к чему-либо).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8080" y="28195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Человек стремится благодаря использованию тех или иных средств (веществ) заместить естественные для конкретных социальных ситуаций чувства и эмоции, избежать стресса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1209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Что   лежит   в   основе   процессов  формирования вредных  привычек?</a:t>
            </a:r>
            <a:br>
              <a:rPr sz="24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3"/>
          <p:cNvGraphicFramePr/>
          <p:nvPr/>
        </p:nvGraphicFramePr>
        <p:xfrm>
          <a:off x="685800" y="1479600"/>
          <a:ext cx="777240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79600"/>
                    <a:ext cx="77724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4:55:06Z</dcterms:created>
  <dc:creator>user</dc:creator>
  <dc:description/>
  <dc:language>en-US</dc:language>
  <cp:lastModifiedBy>LEGION</cp:lastModifiedBy>
  <dcterms:modified xsi:type="dcterms:W3CDTF">2015-05-12T08:20:28Z</dcterms:modified>
  <cp:revision>32</cp:revision>
  <dc:subject/>
  <dc:title>Здоровый образ жизни, несовместимость здоровья и вредных привычек</dc:title>
</cp:coreProperties>
</file>