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3EDE-11BA-4A5A-8E4A-8BC2B9072F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ОБЖ в 6 классе</a:t>
            </a:r>
            <a:br>
              <a:rPr sz="18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ма уро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Укусы животных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чалова О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94B7-6AFC-4739-BCB7-465B203E40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сдавливан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лечь пострадавшего из зав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ить поврежденное место хол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FE27-C671-420C-A933-01E83B6800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перелом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а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(обездвижить место перелома, наложив ши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ь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ерелома 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0527-3556-4A4B-86BC-744049811C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МП при укусах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крови ст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ать йодом или зеле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его необходимо доставить в лечебное заведение для вакц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1F43-4992-43F4-B712-EDC5CCFE15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насекомых (пчел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укуса пчел, ос, шерш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  Ж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  Резк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  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.    Набухание тканей вокруг 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2E74-EE28-4F62-AC7D-40E7345BD8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ы укусов п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об и ж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еснения в гру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р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ное и частое дых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 и отёк горт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52DF-5FC1-48AD-BB96-8E975B81E7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 удалить жало, если оно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ть ранку нашатырным спиртом или раствором марганц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1-2 таблетки димедрола или супраст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остояние ухудшается, срочно доставить в медицинское учре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1AEA-B8C9-438F-BAB1-2A63415B3D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клещ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, где присосался клещ, капнуть каплю масла, керосина или вазе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минуты удалить клеща пинцетом легким покачиванием из стороны в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укуса обработать спиртом или й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CAC7-76D1-475C-8B50-FDB8D28847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укусах зм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эффективное – это противоядная сыворотка. Если ее нет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о промыть рану от укуса кипяченой водой или марганцов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страдавшему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по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B2E2-3F1D-4552-9AB0-C9651A2B50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РЕЩАЕТСЯ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зать рану нож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гать её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асывать яд 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2938-224E-426C-8F65-0D6DD72923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. 149 – 158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знакомиться с ядовитыми паукообраз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ядовитые змеи обитают а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9D74-FE49-4E86-B825-E161C340D0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оказывать самопомощь и взаимопомощь в различных ситуац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значение оказания помощи в первые мин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2106-9FAE-4872-9777-CAB490AF59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разновидности тра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ушиб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растяжениях и разрыв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вывих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сдавлив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A7B5-56F1-44D9-9081-3C578BEF83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перелом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обилиз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авила необходимо соблюдать при наложении ш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акрытые травмы требуют обязательной доставки пострадавшего к врач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9743-7E4F-479D-BB5F-46E545CBE4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видности трав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ш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авл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л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B036-EBBD-4AE9-92AA-F8370C3C08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ушиб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9CA5-324A-4C56-B1E5-AF38830801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П при растяжения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холод на поврежден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14EE-3452-4271-AF63-A16676DF65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разрыв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режденное место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 и обеспечить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 для снят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C900-B295-4CBA-AA33-F6E013F20A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вывих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9484-94A7-4E51-B6A7-F91EE92F66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120-0E53-41D8-AD42-D072FE2E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3CC-316A-426D-8543-8E2EE4D6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775-1455-412B-8292-87E0FA7F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5B6-2B9B-403C-B5FA-AC1FF95E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B40B-56E7-4B98-AEF4-69C34654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506B-7515-48DB-8EA4-830347EE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1028-408E-482D-9D60-4DA6F9F9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16B9-3651-4BE6-AE2E-4B69BFCB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B2A6-C091-4058-94D3-CB7C96BD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B756-C691-42A1-B9C8-0BE29A9D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7940-B364-4381-9D10-A4CBD978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46A-5008-4787-8480-B5B01486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79DA-201C-4792-987B-FA3E2C4A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9278-C2FB-4D1C-A546-B6E00C27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F320-EF05-447D-A111-B15BDAC3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426B-F2CB-4363-8EF1-E5D795F2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7BF3-ED78-4F8C-BE13-853604BA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AC3-DE36-41DE-8494-39786E7D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D46-52CE-43E1-8E6F-12DD966E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AC1-DC44-4FCF-B7F5-729ADA06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FA4-BF9A-4B83-8A28-D6E3EAE4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0E8-E3E5-458B-AE27-13DA1C84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3C4-0539-41BA-A2AA-BC7B0935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42C-9052-4286-A955-A78A215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BD6B-8231-4B80-8CB3-37E456A292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2095-0076-4321-85D9-F98E0606E0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36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рок ОБЖ в 6 классе</a:t>
            </a:r>
            <a:br>
              <a:rPr sz="4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ема урока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Укусы животных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99640" y="3325680"/>
            <a:ext cx="770436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готовил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чалова О. 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сдавливани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влечь пострадавшего из зава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ложить поврежденное место холо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перелом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за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(обездвижить место перелома, наложив ши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от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новить кровоте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перелома 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животных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ть крови ст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работать йодом или зеленк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страдавшего необходимо доставить в лечебное заведение для вакцин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i?id=37610529&amp;tov=8"/>
          <p:cNvPicPr/>
          <p:nvPr/>
        </p:nvPicPr>
        <p:blipFill>
          <a:blip r:embed="rId2"/>
          <a:stretch/>
        </p:blipFill>
        <p:spPr>
          <a:xfrm>
            <a:off x="6443640" y="90792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кусы насекомых (пчелы)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знаки укуса пчел, ос, шершн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).   Ж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).   Резкая б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).   Покраснение кож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).    Набухание тканей вокруг ра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7" descr="i?id=27562265&amp;tov=2"/>
          <p:cNvPicPr/>
          <p:nvPr/>
        </p:nvPicPr>
        <p:blipFill>
          <a:blip r:embed="rId2"/>
          <a:stretch/>
        </p:blipFill>
        <p:spPr>
          <a:xfrm>
            <a:off x="6012000" y="270828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птомы укусов пче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окру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ная б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и рв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пив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об и ж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еснения в гру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ра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умное и частое дыха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ря со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дороги и отёк горта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i?id=4865942&amp;tov=4"/>
          <p:cNvPicPr/>
          <p:nvPr/>
        </p:nvPicPr>
        <p:blipFill>
          <a:blip r:embed="rId2"/>
          <a:stretch/>
        </p:blipFill>
        <p:spPr>
          <a:xfrm>
            <a:off x="5724360" y="76500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i?id=35746249&amp;tov=4"/>
          <p:cNvPicPr/>
          <p:nvPr/>
        </p:nvPicPr>
        <p:blipFill>
          <a:blip r:embed="rId3"/>
          <a:stretch/>
        </p:blipFill>
        <p:spPr>
          <a:xfrm>
            <a:off x="6227640" y="3645000"/>
            <a:ext cx="2592360" cy="28098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насекомых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куратно удалить жало, если оно е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ыть ранку нашатырным спиртом или раствором марганцо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 укуса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1-2 таблетки димедрола или супраст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остояние ухудшается, срочно доставить в медицинское учре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клещ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, где присосался клещ, капнуть каплю масла, керосина или вазел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2 минуты удалить клеща пинцетом легким покачиванием из стороны в стор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укуса обработать спиртом или йо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i?id=30493488&amp;tov=3"/>
          <p:cNvPicPr/>
          <p:nvPr/>
        </p:nvPicPr>
        <p:blipFill>
          <a:blip r:embed="rId2"/>
          <a:stretch/>
        </p:blipFill>
        <p:spPr>
          <a:xfrm>
            <a:off x="3132000" y="4941720"/>
            <a:ext cx="1887840" cy="158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?id=20949837&amp;tov=8"/>
          <p:cNvPicPr/>
          <p:nvPr/>
        </p:nvPicPr>
        <p:blipFill>
          <a:blip r:embed="rId3"/>
          <a:stretch/>
        </p:blipFill>
        <p:spPr>
          <a:xfrm>
            <a:off x="6804000" y="5084640"/>
            <a:ext cx="1655640" cy="14400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змей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эффективное – это противоядная сыворотка. Если ее нет, 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льно промыть рану от укуса кипяченой водой или марганцов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пострадавшему по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есто укуса положить хол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ать конечности возвышенное поло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гадюка, обыкновенная гадюка, фото, фотография"/>
          <p:cNvPicPr/>
          <p:nvPr/>
        </p:nvPicPr>
        <p:blipFill>
          <a:blip r:embed="rId1"/>
          <a:stretch/>
        </p:blipFill>
        <p:spPr>
          <a:xfrm>
            <a:off x="6543720" y="4005360"/>
            <a:ext cx="2600280" cy="208764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ЗАПРЕЩАЕТСЯ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азрезать рану ножом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ижигать её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тсасывать яд рт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бота по учебнику</a:t>
            </a:r>
            <a:br>
              <a:rPr sz="48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тр. 149 – 158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о ознакомиться с ядовитыми паукообраз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ядовитые змеи обитают а нашей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розоволапый тарантул (Theraphosa apophysis), фото, фотография"/>
          <p:cNvPicPr/>
          <p:nvPr/>
        </p:nvPicPr>
        <p:blipFill>
          <a:blip r:embed="rId1"/>
          <a:stretch/>
        </p:blipFill>
        <p:spPr>
          <a:xfrm>
            <a:off x="6372360" y="2781360"/>
            <a:ext cx="27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питон, фото, фотография"/>
          <p:cNvPicPr/>
          <p:nvPr/>
        </p:nvPicPr>
        <p:blipFill>
          <a:blip r:embed="rId2"/>
          <a:stretch/>
        </p:blipFill>
        <p:spPr>
          <a:xfrm>
            <a:off x="0" y="2852640"/>
            <a:ext cx="4284720" cy="21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 учащихся оказывать самопомощь и взаимопомощь в различных ситуац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ь значение оказания помощи в первые мину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0" y="83664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числите разновидности трав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ушиб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растяжениях и разрыв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вывих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сдавлива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0" y="83664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перелом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такое иммобилиз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правила необходимо соблюдать при наложении ши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закрытые травмы требуют обязательной доставки пострадавшего к врач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зновидности травм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шиб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тя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ыв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вих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авли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ло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шиб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хол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растяжения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холод на поврежденное мес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разрывах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оврежденное место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 и обеспечить по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обезболивающее сре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 для снятия от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вывих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ела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9:33:40Z</dcterms:created>
  <dc:creator>User</dc:creator>
  <dc:description/>
  <dc:language>en-US</dc:language>
  <cp:lastModifiedBy>LEGION</cp:lastModifiedBy>
  <dcterms:modified xsi:type="dcterms:W3CDTF">2015-05-12T08:21:04Z</dcterms:modified>
  <cp:revision>10</cp:revision>
  <dc:subject/>
  <dc:title>Урок ОБЖ в 6 классе тема урока «Укусы животных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