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7673-453B-4B98-8033-EC6B65BA67E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ОБЖ в 6 классе</a:t>
            </a:r>
            <a:br>
              <a:rPr sz="18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ема урок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Укусы животных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отов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чалова О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009B-CAFB-44AF-B011-60A4D0CCC70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МП при сдавливан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лечь пострадавшего из зав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ожить поврежденное место хол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5E3F-90BE-4EBF-ADF1-E005BED38B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МП при перелома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закрыты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иммобилизацию(обездвижить место перелома, наложив ши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ткрыты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новить кровот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перелома наложить стерильн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иммобилиз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69F1-A215-46D3-A854-CA3F3FF4C6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МП при укусах живот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крови сте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ать йодом или зелен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стерильн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адавшего необходимо доставить в лечебное заведение для вакцин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0707-0F8F-400B-A906-6A6E9D41E3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усы насекомых (пчелы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укуса пчел, ос, шерш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.   Ж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.   Резк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.   Покраснение ко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.    Набухание тканей вокруг 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F739-34E1-407F-825E-493BB72C4B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птомы укусов пч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окру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шнота и рв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об и ж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о стеснения в гру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о стра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умное и частое дых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роги и отёк горт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CDCB-09CD-49A8-A4CD-607AF02E14E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МП при укусах насеко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уратно удалить жало, если оно е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ть ранку нашатырным спиртом или раствором марганц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куса на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острадавшему 1-2 таблетки димедрола или супраст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остояние ухудшается, срочно доставить в медицинское учре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EC27-BA39-4D85-8797-FE77EB9978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МП при укусах клещ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, где присосался клещ, капнуть каплю масла, керосина или вазел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2 минуты удалить клеща пинцетом легким покачиванием из стороны в стор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укуса обработать спиртом или й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18ED-A65A-4FC7-A292-043E361913E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МП при укусах зм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эффективное – это противоядная сыворотка. Если ее нет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льно промыть рану от укуса кипяченой водой или марганцов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есть специальное устройство для отсасывания, приложите его к ране, оттянуть кровь вместе с я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стерильн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страдавшему п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куса по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ать конечности возвышенное поло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572E-7541-46A7-921C-324868920DD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ПРЕЩАЕТСЯ!!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езать рану нож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жигать её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асывать яд р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6F39-7B68-4495-9A2A-86DDD2731F4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та по учебнику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р. 149 – 158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ознакомиться с ядовитыми паукообраз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ядовитые змеи обитают а нашей мес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EAB7-6A7B-4481-AC0C-86D8B2FD17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 учащихся оказывать самопомощь и взаимопомощь в различных ситуац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значение оказания помощи в первые мину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D642-98C5-4DE7-B56B-D3FFF7D0BD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разновидности трав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ушиб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растяжениях и разрыв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вывих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сдавлива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1C41-381E-445F-9A20-BA9541795A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перелом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иммобилиз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правила необходимо соблюдать при наложении ши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закрытые травмы требуют обязательной доставки пострадавшего к врач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CACD-3223-4510-8E0D-BB84E46981D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новидности трав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ши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я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ы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и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авли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ло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96A9-A14E-48D2-9506-E0E3818718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МП при ушиба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шиба на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шиба наложи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кой поврежденной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ACA0-49D1-471C-90FC-6019830752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МП при растяжениях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холод на поврежден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кой поврежденной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ать поврежденной конечности возвышенное поло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D2EE-3547-4476-A69A-D1BD5745B0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МП при разрыв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врежденное место на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тугую повязку и обеспечить п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острадавшему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ать поврежденной конечности возвышенное положение для снятия от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6CF2-C98C-478E-BA0D-499301B041A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МП при вывиха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кой поврежденной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46DC-25E9-406B-8C97-8DC3C40EDE8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1AAA-F017-49BE-AC6E-FA7B1C9E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CF49-045D-4E60-95A5-13BFCA74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D603-7709-4FAD-926D-0C6028AE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4490-62D7-467F-A616-5A3D92D8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E855-7B6F-414D-8E1F-5CB42D93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A1E1-B0C8-4E0E-BCD4-A817647E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FDFD-D66C-49A0-B795-1EFC6EC7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3DD2-F273-44FE-A1EA-0E991FE5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D6EF-B865-4980-AC4B-3FA62E04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BA65-7EA2-4DE8-91E6-46B41F77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18FA-C90F-4F11-AA76-E15C59A3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510F-B065-41E6-A024-3EE633D8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50A4-B669-4AFA-9D62-A42C5FB5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968B-1921-4ACF-8258-A0AD69EE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C86B-E2C7-4740-8C79-8A3D2382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F0F4-FB11-4FAB-A6B6-BA3C604D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7849-18C8-46DE-8E68-984FA444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EBCB-E93E-4CF8-9F7E-868FE159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8FA1-C897-4298-987F-DDC5E094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6530-EC6B-4223-900F-8C00E0DE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4199-F32C-460E-B82B-A328A31D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147E-062F-44DF-8B0B-5E6E32E5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5F51-0725-4E8B-AA7C-9364F81B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82D9-4DDB-4FE1-A187-8F3C2A18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18293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AE36-AAE6-415A-9FCD-BD8C4A493C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18293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AAA9-03F9-4C69-BD27-C193159A8A5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8368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Урок ОБЖ в 6 классе</a:t>
            </a:r>
            <a:br>
              <a:rPr sz="4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тема урока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Укусы животных»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99640" y="3325680"/>
            <a:ext cx="7704360" cy="25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готовил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чалова О. 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сдавливании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64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влечь пострадавшего из зава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ложить тугую повяз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ложить поврежденное место холодо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перелома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закрыты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сти иммобилизацию(обездвижить место перелома, наложив шин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ть обезболивающее сред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) открыты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новить кровотеч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бласти перелома наложить стерильную повяз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ть обезболивающее сред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сти иммобилизац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укусах животных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ать крови стеч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работать йодом или зеленко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ложить стерильную повязк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страдавшего необходимо доставить в лечебное заведение для вакцинац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i?id=37610529&amp;tov=8"/>
          <p:cNvPicPr/>
          <p:nvPr/>
        </p:nvPicPr>
        <p:blipFill>
          <a:blip r:embed="rId2"/>
          <a:stretch/>
        </p:blipFill>
        <p:spPr>
          <a:xfrm>
            <a:off x="6443640" y="907920"/>
            <a:ext cx="2376360" cy="316872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Укусы насекомых (пчелы)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знаки укуса пчел, ос, шершн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).   Жж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).   Резкая бо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).   Покраснение кож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).    Набухание тканей вокруг ран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7" descr="i?id=27562265&amp;tov=2"/>
          <p:cNvPicPr/>
          <p:nvPr/>
        </p:nvPicPr>
        <p:blipFill>
          <a:blip r:embed="rId2"/>
          <a:stretch/>
        </p:blipFill>
        <p:spPr>
          <a:xfrm>
            <a:off x="6012000" y="2708280"/>
            <a:ext cx="2016000" cy="259236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имптомы укусов пчел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ловокру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ловная бо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шнота и рво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пивни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ноб и ж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увство стеснения в груд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увство стра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умное и частое дыхан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еря созн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дороги и отёк горта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5" descr="i?id=4865942&amp;tov=4"/>
          <p:cNvPicPr/>
          <p:nvPr/>
        </p:nvPicPr>
        <p:blipFill>
          <a:blip r:embed="rId2"/>
          <a:stretch/>
        </p:blipFill>
        <p:spPr>
          <a:xfrm>
            <a:off x="5724360" y="765000"/>
            <a:ext cx="2160720" cy="2664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i?id=35746249&amp;tov=4"/>
          <p:cNvPicPr/>
          <p:nvPr/>
        </p:nvPicPr>
        <p:blipFill>
          <a:blip r:embed="rId3"/>
          <a:stretch/>
        </p:blipFill>
        <p:spPr>
          <a:xfrm>
            <a:off x="6227640" y="3645000"/>
            <a:ext cx="2592360" cy="280980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МП при укусах насекомых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куратно удалить жало, если оно е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мыть ранку нашатырным спиртом или раствором марганцов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место укуса наложить хол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ть пострадавшему 1-2 таблетки димедрола или супраст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состояние ухудшается, срочно доставить в медицинское учрежд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МП при укусах клещам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место, где присосался клещ, капнуть каплю масла, керосина или вазел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рез 2 минуты удалить клеща пинцетом легким покачиванием из стороны в сторо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укуса обработать спиртом или йод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5" descr="i?id=30493488&amp;tov=3"/>
          <p:cNvPicPr/>
          <p:nvPr/>
        </p:nvPicPr>
        <p:blipFill>
          <a:blip r:embed="rId2"/>
          <a:stretch/>
        </p:blipFill>
        <p:spPr>
          <a:xfrm>
            <a:off x="3132000" y="4941720"/>
            <a:ext cx="1887840" cy="1582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i?id=20949837&amp;tov=8"/>
          <p:cNvPicPr/>
          <p:nvPr/>
        </p:nvPicPr>
        <p:blipFill>
          <a:blip r:embed="rId3"/>
          <a:stretch/>
        </p:blipFill>
        <p:spPr>
          <a:xfrm>
            <a:off x="6804000" y="5084640"/>
            <a:ext cx="1655640" cy="144000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укусах змей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ое эффективное – это противоядная сыворотка. Если ее нет, т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ильно промыть рану от укуса кипяченой водой или марганцов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есть специальное устройство для отсасывания, приложите его к ране, оттянуть кровь вместе с яд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ложить стерильную повяз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ить пострадавшему по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место укуса положить хол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дать конечности возвышенное полож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5" descr="гадюка, обыкновенная гадюка, фото, фотография"/>
          <p:cNvPicPr/>
          <p:nvPr/>
        </p:nvPicPr>
        <p:blipFill>
          <a:blip r:embed="rId1"/>
          <a:stretch/>
        </p:blipFill>
        <p:spPr>
          <a:xfrm>
            <a:off x="6543720" y="4005360"/>
            <a:ext cx="2600280" cy="208764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ЗАПРЕЩАЕТСЯ!!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азрезать рану ножом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рижигать её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Отсасывать яд ртом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Работа по учебнику</a:t>
            </a:r>
            <a:br>
              <a:rPr sz="48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стр. 149 – 158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стоятельно ознакомиться с ядовитыми паукообраз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ядовитые змеи обитают а нашей мест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5" descr="розоволапый тарантул (Theraphosa apophysis), фото, фотография"/>
          <p:cNvPicPr/>
          <p:nvPr/>
        </p:nvPicPr>
        <p:blipFill>
          <a:blip r:embed="rId1"/>
          <a:stretch/>
        </p:blipFill>
        <p:spPr>
          <a:xfrm>
            <a:off x="6372360" y="2781360"/>
            <a:ext cx="2771640" cy="25192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питон, фото, фотография"/>
          <p:cNvPicPr/>
          <p:nvPr/>
        </p:nvPicPr>
        <p:blipFill>
          <a:blip r:embed="rId2"/>
          <a:stretch/>
        </p:blipFill>
        <p:spPr>
          <a:xfrm>
            <a:off x="0" y="2852640"/>
            <a:ext cx="4284720" cy="216072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и и 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ить учащихся оказывать самопомощь и взаимопомощь в различных ситуация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снить значение оказания помощи в первые мину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0" y="836640"/>
            <a:ext cx="914400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ечислите разновидности трав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ушиб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растяжениях и разрыв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вывих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сдавливани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0" y="836640"/>
            <a:ext cx="914400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перелом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то такое иммобилизац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ие правила необходимо соблюдать при наложении шин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ие закрытые травмы требуют обязательной доставки пострадавшего к врачу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Разновидности травм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шиб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тяж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рыв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ывих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давлива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релом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ушиба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место ушиба наложить холо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место ушиба наложить тугую повяз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еспечить покой поврежденной конеч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растяжения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ожить холод на поврежденное мест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ожить тугую повяз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ить покой поврежденной конеч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дать поврежденной конечности возвышенное поло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МП при разрывах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поврежденное место наложить хол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ожить тугую повязку и обеспечить по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ть пострадавшему обезболивающее сред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дать поврежденной конечности возвышенное положение для снятия от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вывиха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еспечить покой поврежденной конеч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делать тугую повяз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ать обезболивающее средств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09:33:40Z</dcterms:created>
  <dc:creator>User</dc:creator>
  <dc:description/>
  <dc:language>en-US</dc:language>
  <cp:lastModifiedBy>LEGION</cp:lastModifiedBy>
  <dcterms:modified xsi:type="dcterms:W3CDTF">2015-05-12T08:21:04Z</dcterms:modified>
  <cp:revision>10</cp:revision>
  <dc:subject/>
  <dc:title>Урок ОБЖ в 6 классе тема урока «Укусы животных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