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D31C-267A-48C2-B6BB-78E618FDAB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Компания Черлин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ада представить вашему вниманию обновленную серию солей «Поляница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8071-B6A6-4FA8-9657-5CA3AED08A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есно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нимает устал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аждое лекарственное растение обладает своими особенностями действия на органы и функции. В народной медицине не вызывает сомнения факт, что эффективность действия одного растения значительно ниже, чем группы, соединенной по направленности их 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собенно результативно применение сбора лечебных трав при лечении хронических заболеваний. В состав соли «Поляница» Лесной сбор входят: крушина ломкая (ольховидная), шиповник, малина, бузина черная, чистотел, ромашка, боярышник, валериана лекарственная, колокольчик  персиколис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«Поляница» Лесной сбор поможет избавиться от бессонницы и снять стр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D526-4089-4304-815E-04013C7481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Успешных продаж!</a:t>
            </a:r>
            <a:r>
              <a:rPr b="0" lang="ru-RU" sz="12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97D1-5FAD-4A92-93EE-0EE124351A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никальность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нашей соли «Поляница» заключается в ее многокомпонентном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состав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сбалансированном сочетании морск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ли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 природным комплек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ечебных трав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, которые обладают сильными тонизирующими и регенерирующими свойствами; оказывают благотворное влияние на межклеточный обмен веществ, восстанавливают все функции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Соль насыщена богатым комплексом российских трав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Без искусственных красителей и консервант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Выпущена в удобной и экономичной для использования упаковк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F7E2-7CA5-47F7-AB92-7C5A49E09A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ая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паковка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тала более удобной, привлекательной и информативной.  У покупателя появилась возможность получить полную информацию о продукте (что за продукт, для чего предназначен, как различается, что содержит, дополнительная информация по содержащимся экстрактам трав и т.д.), что существенно повышает мотивацию к покуп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ы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изайн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- отвечает современным тенденциям развития рынка, отражает русские народные трад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ое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лицо»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ТМ «Поляница» понятный и близкий по духу «слоган»,расположенный на лицевой стороне пакета в виде пожелания            «С легким паром!» ассоциируется   с добрым, качественным, традиционным, народным и не дешевым натуральным продуктом. Благодаря  чему несомненно привлекает дополнительное внимание к продукту, а так же с успехом выделяет себя на полках в магазинах, в сравнении с аналогичными проду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BBA5-5948-4F83-A5F8-4DC1455878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«Поляница» с богатым комплексом российских трав по доступн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цен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хорошие отзывы делают продукцию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годной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для продавцов и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пулярной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реди конечных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оброе имя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– Поляница отлично зарекомендовало себя за все время существования, что обеспечивает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годные объемы продаж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для продавцов и положительные отзывы покупателей  и их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оверие  к марк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Мы учитываем пожелания покупателей - в соответствии с потребностями   и пожеланиями наших покупателей, мы отобрали самые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пулярные виды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, качественно улучшили рецептурны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став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снабдили каждую упаковку подробн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ннотацией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Доброе имя - гарантия качества,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чество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продукции всегда на высоте и неизменно со време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DDC0-C013-4CA7-8517-4BD7B6E6E9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Экстракты российских трав, микро и макро-элементы, содержащиеся в соли «Поляница», обладают полезными свойствами, благодаря чему оказывается  благотворное влияние на весь организ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родная соль для ванн с экстрактом российских трав «Поляница» обладает целым рядом серьезных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еимуществ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казывает положительное воздействие на кож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егчает мышечные и суставные бо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могает снять стресс и устал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ормализует и ускоряет обмен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ффективно удаляет загрязнения кожи, излишки жира, сужает по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туральный продукт позволяет экономить покупателям, приобретать соль в экономичной упаковке по выгодной це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ля продавцов наличие данной соли в ассортименте гарантирует интерес покупателей, большой оборот и хороший зараб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4CCA-9F2D-4634-AFC3-0623CAEB90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Цветочны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Таежны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есно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угово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асс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900 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соли «Поляница» входят только натуральные экстракты российских трав, без добавления искусственных компонентов: красителей и консерва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Times New Roman"/>
              </a:rPr>
              <a:t>Сочетание травяных сборов и воздействие соли на кожу дает великолепный результат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244D-01D7-4159-B51B-4153E5704B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Цветочны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Бодрит и тонизир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омпозиция традиционных российских трав, включающая в себя сбор календулы, фиалки, мелиссы лекарственной, ромашки аптечной, мать-и-мачехи, шиповника делает вашу кожу гладкой, увлажняет и наполняет её сияющим здоровьем каждый ден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входит сбор трав, называющихся «материнскими травами» (это тщательно отобранные из всего многообразия лечебные растения, которые используются людьми с давних времен в разных странах) . Обладает свежим цветочно-травяным ароматом, который оказывает благотворное действие на Ваше душевное состоя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57F8-EBAF-42BE-8302-DC07CAC256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аежны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ечит и успока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входят: Экстракт можжевельника, сосновая хвоя, кедровая живица, лиственница, лаванда. Сбор этих сибирских трав обладает укрепляющими и восстанавливающими свойств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для ванн на основе сбора таежных трав оказывает целебное действие на весь организм, успокаивает нервную систему, залечивает ранки и пор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егулярное использование соли «Поляница» Таежный сбор при приеме  ванны со временем меняет структуру кожи, восстанавливает естественный механизм регенерационных процессов. Делает кожу гладкой и шелковис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D158-F92D-4ECC-9C68-8216A9B917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угово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асслабляет и согр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омплекс натуральных трав – зверобоя, крапивы двудомной, полыни, ромашки, тысячелистника, циркония, мяты перечной, подорожника большого, мелиссы - является идеальным средством для ухода за нормальной и комбинированной кожей. Потрясающий эффект увлажненной и обогащенной витаминами и минералами кожи станет для Вас настоящим открыти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Целебные свойства экстрактов луговых трав уменьшают боли в спине и суставах, способствуют циркуляции крови, снимают стрессы и усталость. Растительные сборы оказывают общеукрепляющее действие на весь организм, питают, тонизируют, освежают и увлажняют кожу, их пары восстанавливают душевное равновесие и споко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F3D7-FAA5-4CC1-B5BC-5BAF32D1FB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F3B-144B-4BC0-BB08-841B987E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E54-5A27-489D-8295-EAD94EDC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67A-5448-4BDA-BB9C-022C2D92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F1F-E77B-4BA3-8839-FE30B1AB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EC7D-B2EB-491E-B7B6-ED80CC44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515B-D3DB-45DB-8D80-5E9A8A9F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1B72-0DB6-42B0-B65C-8E05F9D9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EB4E-0495-4B7B-ADB6-7F94C70D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9912-5D40-4A2C-9E1D-3742D5E0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532E-31E8-4D26-872D-5CDB3D03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F4E5-2FB1-49F3-B44D-05B50D27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B90-029A-4F0C-B9F9-D80F2A0A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59FE-798C-40A4-BF54-A6089E66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8CEF-EE17-4731-B3FA-A2330C23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9F7B-CD8E-485B-9A4A-5BDA1FDF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61C9-6133-444B-BDEF-DA64D252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E9E7-DD91-4293-B4C2-3397DB11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C50-1A66-435B-983B-2371B1F7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9569-941D-47D3-89D8-E74C06CE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9A5-64BF-4463-A1EA-AA0A9FA4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1F1-00CC-4CB7-A001-0F8DF0CC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3E9-433B-4E0B-9E48-458E87E2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B89-8476-417E-9C2F-70305281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F36-D7B4-4EAF-957A-D8CCB5D7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08CD-9A2C-402A-8566-F23E75EC953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F102-206A-4B73-A8CA-E710300362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69800" y="1520640"/>
            <a:ext cx="7313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Компания Черлин»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да представить вашему вниманию обновленную серию солей «Поляница»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leiba"/>
          <p:cNvPicPr/>
          <p:nvPr/>
        </p:nvPicPr>
        <p:blipFill>
          <a:blip r:embed="rId1"/>
          <a:stretch/>
        </p:blipFill>
        <p:spPr>
          <a:xfrm>
            <a:off x="7451640" y="184320"/>
            <a:ext cx="1406520" cy="1139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Kurazh-Sbor-All"/>
          <p:cNvPicPr/>
          <p:nvPr/>
        </p:nvPicPr>
        <p:blipFill>
          <a:blip r:embed="rId2"/>
          <a:stretch/>
        </p:blipFill>
        <p:spPr>
          <a:xfrm>
            <a:off x="1187280" y="2505240"/>
            <a:ext cx="6766200" cy="3968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1187280" y="536400"/>
            <a:ext cx="6353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827000"/>
            <a:ext cx="6769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есно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нимает устал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аждое лекарственное растение обладает своими особенностями действия на органы и функции. В народной медицине не вызывает сомнения факт, что эффективность действия одного растения значительно ниже, чем группы, соединенной по направленности их действ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собенно результативно применение сбора лечебных трав при лечении хронических заболеваний. В состав соли «Поляница» Лесной сбор входят: крушина ломкая (ольховидная), шиповник, малина, бузина черная, чистотел, ромашка, боярышник, валериана лекарственная, колокольчик  персиколистны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«Поляница» Лесной сбор поможет избавиться от бессонницы и снять стре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Lesnoy_sbor"/>
          <p:cNvPicPr/>
          <p:nvPr/>
        </p:nvPicPr>
        <p:blipFill>
          <a:blip r:embed="rId2"/>
          <a:stretch/>
        </p:blipFill>
        <p:spPr>
          <a:xfrm>
            <a:off x="7308720" y="2637000"/>
            <a:ext cx="1835280" cy="2592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0"/>
          <p:cNvSpPr/>
          <p:nvPr/>
        </p:nvSpPr>
        <p:spPr>
          <a:xfrm>
            <a:off x="104292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Monotype Corsiva"/>
              </a:rPr>
              <a:t>Успешных продаж!</a:t>
            </a:r>
            <a:r>
              <a:rPr b="0" lang="ru-RU" sz="44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18728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никальность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нашей соли «Поляница» заключается в ее многокомпонентном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составе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и сбалансированном сочетании морской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ли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с природным комплексо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ечебных тра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которые обладают сильными тонизирующими и регенерирующими свойствами; оказывают благотворное влияние на межклеточный обмен веществ, восстанавливают все функции организм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ль насыщена богатым комплексом российских тра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ез искусственных красителей и консерва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ущена в удобной и экономичной для использования упаков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118728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560" y="1827000"/>
            <a:ext cx="792180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ая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упаковка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стала более удобной, привлекательной и информативной.  У покупателя появилась возможность получить полную информацию о продукте (что за продукт, для чего предназначен, как различается, что содержит, дополнительная информация по содержащимся экстрактам трав и т.д.), что существенно повышает мотивацию к покуп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ы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изайн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отвечает современным тенденциям развития рынка, отражает русские народные тради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ое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«лицо»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ТМ «Поляница» понятный и близкий по духу «слоган»,расположенный на лицевой стороне пакета в виде пожелания            «С легким паром!» ассоциируется   с добрым, качественным, традиционным, народным и не дешевым натуральным продуктом. Благодаря  чему несомненно привлекает дополнительное внимание к продукту, а так же с успехом выделяет себя на полках в магазинах, в сравнении с аналогичными продукт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280" y="1700280"/>
            <a:ext cx="820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«Поляница» с богатым комплексом российских трав по доступно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цене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и хорошие отзывы делают продукцию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одной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ля продавцов и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пулярной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среди конечных покупател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оброе имя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– Поляница отлично зарекомендовало себя за все время существования, что обеспечивает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одные объемы продаж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для продавцов и положительные отзывы покупателей  и их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оверие  к марке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ы учитываем пожелания покупателей - в соответствии с потребностями   и пожеланиями наших покупателей, мы отобрали самые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пулярные виды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, качественно улучшили рецептурны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став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и снабдили каждую упаковку подробно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аннотацией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оброе имя - гарантия качества,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качество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продукции всегда на высоте и неизменно со времен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116000" y="47628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640" y="1700280"/>
            <a:ext cx="813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Экстракты российских трав, микро и макро-элементы, содержащиеся в соли «Поляница», обладают полезными свойствами, благодаря чему оказывается  благотворное влияние на весь организ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иродная соль для ванн с экстрактом российских трав «Поляница» обладает целым рядом серьезных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имущест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казывает положительное воздействие на кож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легчает мышечные и суставные бо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могает снять стресс и устал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ормализует и ускоряет обмен вещест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ффективно удаляет загрязнения кожи, излишки жира, сужает пор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туральный продукт позволяет экономить покупателям, приобретать соль в экономичной упаковке по выгодной цен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ля продавцов наличие данной соли в ассортименте гарантирует интерес покупателей, большой оборот и хороший заработ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280" y="1827000"/>
            <a:ext cx="820908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Цветочны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Таежны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Лесно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Лугово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Масса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900 г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 состав соли «Поляница» входят только натуральные экстракты российских трав, без добавления искусственных компонентов: красителей и консервант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66"/>
                </a:solidFill>
                <a:latin typeface="Times New Roman"/>
              </a:rPr>
              <a:t>Сочетание травяных сборов и воздействие соли на кожу дает великолепный результат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Kurazh-Sbor-All"/>
          <p:cNvPicPr/>
          <p:nvPr/>
        </p:nvPicPr>
        <p:blipFill>
          <a:blip r:embed="rId2"/>
          <a:stretch/>
        </p:blipFill>
        <p:spPr>
          <a:xfrm>
            <a:off x="3708360" y="2421000"/>
            <a:ext cx="5256360" cy="30830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6696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веточны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одрит и тонизиру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мпозиция традиционных российских трав, включающая в себя сбор календулы, фиалки, мелиссы лекарственной, ромашки аптечной, мать-и-мачехи, шиповника делает вашу кожу гладкой, увлажняет и наполняет её сияющим здоровьем каждый день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состав входит сбор трав, называющихся «материнскими травами» (это тщательно отобранные из всего многообразия лечебные растения, которые используются людьми с давних времен в разных странах) . Обладает свежим цветочно-травяным ароматом, который оказывает благотворное действие на Ваше душевное состоя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Tsvetochnyi_sbor"/>
          <p:cNvPicPr/>
          <p:nvPr/>
        </p:nvPicPr>
        <p:blipFill>
          <a:blip r:embed="rId2"/>
          <a:stretch/>
        </p:blipFill>
        <p:spPr>
          <a:xfrm>
            <a:off x="7313760" y="2637000"/>
            <a:ext cx="183024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64087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аежны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ечит и успокаив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состав входят: Экстракт можжевельника, сосновая хвоя, кедровая живица, лиственница, лаванда. Сбор этих сибирских трав обладает укрепляющими и восстанавливающими свойств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для ванн на основе сбора таежных трав оказывает целебное действие на весь организм, успокаивает нервную систему, залечивает ранки и поре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егулярное использование соли «Поляница» Таежный сбор при приеме  ванны со временем меняет структуру кожи, восстанавливает естественный механизм регенерационных процессов. Делает кожу гладкой и шелковист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Tayozhnyi_sbor"/>
          <p:cNvPicPr/>
          <p:nvPr/>
        </p:nvPicPr>
        <p:blipFill>
          <a:blip r:embed="rId2"/>
          <a:stretch/>
        </p:blipFill>
        <p:spPr>
          <a:xfrm>
            <a:off x="7232760" y="2637000"/>
            <a:ext cx="1911240" cy="2592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55640" y="1827000"/>
            <a:ext cx="662472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угово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асслабляет и согрев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мплекс натуральных трав – зверобоя, крапивы двудомной, полыни, ромашки, тысячелистника, циркония, мяты перечной, подорожника большого, мелиссы - является идеальным средством для ухода за нормальной и комбинированной кожей. Потрясающий эффект увлажненной и обогащенной витаминами и минералами кожи станет для Вас настоящим открытием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елебные свойства экстрактов луговых трав уменьшают боли в спине и суставах, способствуют циркуляции крови, снимают стрессы и усталость. Растительные сборы оказывают общеукрепляющее действие на весь организм, питают, тонизируют, освежают и увлажняют кожу, их пары восстанавливают душевное равновесие и споко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Lugovoy_sbor"/>
          <p:cNvPicPr/>
          <p:nvPr/>
        </p:nvPicPr>
        <p:blipFill>
          <a:blip r:embed="rId2"/>
          <a:stretch/>
        </p:blipFill>
        <p:spPr>
          <a:xfrm>
            <a:off x="7164360" y="2637000"/>
            <a:ext cx="189540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9:45:51Z</dcterms:created>
  <dc:creator>Cherlin</dc:creator>
  <dc:description/>
  <dc:language>en-US</dc:language>
  <cp:lastModifiedBy>LEGION</cp:lastModifiedBy>
  <dcterms:modified xsi:type="dcterms:W3CDTF">2015-05-12T08:21:28Z</dcterms:modified>
  <cp:revision>126</cp:revision>
  <dc:subject/>
  <dc:title>Практические рекомендации</dc:title>
</cp:coreProperties>
</file>