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40C0-BD9D-49DF-8FED-3366D3A8D5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BAB9-BAB7-42CB-8BB8-2F7954EE89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BAF8-6EEF-4A9C-B4C7-EECCF830C6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Успешных продаж!</a:t>
            </a:r>
            <a:r>
              <a:rPr b="0" lang="ru-RU" sz="12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8567-E790-47DB-806E-3903B2F322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8F0E-0780-4077-A95E-3F1F5A9D8D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EA18-9349-42A3-B1CF-60F1DF2194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342F-5807-44C1-A216-4967A82EBA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1276-6925-4390-9CBC-CC0E5426C4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8D08-D996-4C81-9709-A5C98B71E8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2770-AADF-4EBA-BD99-0F7BC756F4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1691-D6BB-4DDB-BD58-334C87FC7D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C5CD-5AAC-4DD1-B924-8C4E0F009D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0A0-0396-401D-8F63-F8DC73A9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08D-1563-4EC6-9189-688A319D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AB78-DCEA-4532-AC17-E478A41C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678-CE4E-471A-9F8F-604DA0BC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DF04-8B4C-4F0E-8830-092F1DA5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3FB5-FCA4-4FE1-8D7E-B0CB8C40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B085-E592-48FE-BE26-2F2D4FB3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05C5-C9AD-4E03-86DD-890EBC93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916B-F1BA-46F2-9843-027F52FF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AC99-BD70-4F2B-B3B6-67D2E05B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672E-DD9D-46FC-88D8-C22252C7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98D-A7A8-4616-8B24-F81EE659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A0B8-7B96-413A-B680-140D1E5D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96B3-96F2-41C7-B8C3-84982B29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62B7-8449-4701-A929-78F8B9A7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8B4C-8803-4861-B9C1-F1F5ED83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362B-ECB0-4EE2-BA84-94F6944E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087-79AE-4241-A92F-3F1BB99B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8F4-04A1-4245-A5C9-CD9DE83F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9F2-2802-4309-9A39-9D39E43D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352-BD45-4809-9F9E-BF3660AB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BA8-5AC0-4B58-893F-1F75F8D7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149-C2B3-4BDD-80DE-1E9C1495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EA6-DDD2-4D31-B25D-D55D30D9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9184-D5A8-47A2-9783-A31117679D0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F1CF-9E3A-4F15-B0E0-6750146AE1F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69800" y="1520640"/>
            <a:ext cx="7313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leiba"/>
          <p:cNvPicPr/>
          <p:nvPr/>
        </p:nvPicPr>
        <p:blipFill>
          <a:blip r:embed="rId1"/>
          <a:stretch/>
        </p:blipFill>
        <p:spPr>
          <a:xfrm>
            <a:off x="7451640" y="184320"/>
            <a:ext cx="1406520" cy="1139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Kurazh-Sbor-All"/>
          <p:cNvPicPr/>
          <p:nvPr/>
        </p:nvPicPr>
        <p:blipFill>
          <a:blip r:embed="rId2"/>
          <a:stretch/>
        </p:blipFill>
        <p:spPr>
          <a:xfrm>
            <a:off x="1187280" y="2505240"/>
            <a:ext cx="6766200" cy="3968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1187280" y="536400"/>
            <a:ext cx="6353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6769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Lesnoy_sbor"/>
          <p:cNvPicPr/>
          <p:nvPr/>
        </p:nvPicPr>
        <p:blipFill>
          <a:blip r:embed="rId2"/>
          <a:stretch/>
        </p:blipFill>
        <p:spPr>
          <a:xfrm>
            <a:off x="7308720" y="2637000"/>
            <a:ext cx="1835280" cy="2592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104292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Monotype Corsiva"/>
              </a:rPr>
              <a:t>Успешных продаж!</a:t>
            </a:r>
            <a:r>
              <a:rPr b="0" lang="ru-RU" sz="44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1827000"/>
            <a:ext cx="79218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820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116000" y="47628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820908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66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Kurazh-Sbor-All"/>
          <p:cNvPicPr/>
          <p:nvPr/>
        </p:nvPicPr>
        <p:blipFill>
          <a:blip r:embed="rId2"/>
          <a:stretch/>
        </p:blipFill>
        <p:spPr>
          <a:xfrm>
            <a:off x="3708360" y="2421000"/>
            <a:ext cx="5256360" cy="30830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696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Tsvetochnyi_sbor"/>
          <p:cNvPicPr/>
          <p:nvPr/>
        </p:nvPicPr>
        <p:blipFill>
          <a:blip r:embed="rId2"/>
          <a:stretch/>
        </p:blipFill>
        <p:spPr>
          <a:xfrm>
            <a:off x="7313760" y="2637000"/>
            <a:ext cx="183024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4087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Tayozhnyi_sbor"/>
          <p:cNvPicPr/>
          <p:nvPr/>
        </p:nvPicPr>
        <p:blipFill>
          <a:blip r:embed="rId2"/>
          <a:stretch/>
        </p:blipFill>
        <p:spPr>
          <a:xfrm>
            <a:off x="7232760" y="2637000"/>
            <a:ext cx="191124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640" y="1827000"/>
            <a:ext cx="662472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Lugovoy_sbor"/>
          <p:cNvPicPr/>
          <p:nvPr/>
        </p:nvPicPr>
        <p:blipFill>
          <a:blip r:embed="rId2"/>
          <a:stretch/>
        </p:blipFill>
        <p:spPr>
          <a:xfrm>
            <a:off x="7164360" y="2637000"/>
            <a:ext cx="18954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9:45:51Z</dcterms:created>
  <dc:creator>Cherlin</dc:creator>
  <dc:description/>
  <dc:language>en-US</dc:language>
  <cp:lastModifiedBy>LEGION</cp:lastModifiedBy>
  <dcterms:modified xsi:type="dcterms:W3CDTF">2015-05-12T08:21:28Z</dcterms:modified>
  <cp:revision>126</cp:revision>
  <dc:subject/>
  <dc:title>Практические рекомендации</dc:title>
</cp:coreProperties>
</file>