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2CAF-A2C4-4EB0-B9FE-06824F9BED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«Компания Черлин»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рада представить вашему вниманию обновленную серию солей «Поляница»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6244-694C-49DD-BFAE-F2C09E5BCD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Лесной с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нимает устал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Каждое лекарственное растение обладает своими особенностями действия на органы и функции. В народной медицине не вызывает сомнения факт, что эффективность действия одного растения значительно ниже, чем группы, соединенной по направленности их действ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Особенно результативно применение сбора лечебных трав при лечении хронических заболеваний. В состав соли «Поляница» Лесной сбор входят: крушина ломкая (ольховидная), шиповник, малина, бузина черная, чистотел, ромашка, боярышник, валериана лекарственная, колокольчик  персиколист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оль «Поляница» Лесной сбор поможет избавиться от бессонницы и снять стре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EED2-22B3-4D2B-93CD-9FF9F78D88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Monotype Corsiva"/>
              </a:rPr>
              <a:t>Успешных продаж!</a:t>
            </a:r>
            <a:r>
              <a:rPr b="0" lang="ru-RU" sz="1200" spc="-1" strike="noStrike">
                <a:solidFill>
                  <a:srgbClr val="000099"/>
                </a:solidFill>
                <a:latin typeface="Monotype Corsi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E187-891C-466F-BA43-E9943CFADA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Уникальность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нашей соли «Поляница» заключается в ее многокомпонентном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составе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и сбалансированном сочетании морской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оли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с природным комплекс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лечебных трав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, которые обладают сильными тонизирующими и регенерирующими свойствами; оказывают благотворное влияние на межклеточный обмен веществ, восстанавливают все функции орган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Соль насыщена богатым комплексом российских трав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Без искусственных красителей и консервантов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Выпущена в удобной и экономичной для использования упаковке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90C7-67D7-4F8C-B479-5C41A20588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Новая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упаковка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стала более удобной, привлекательной и информативной.  У покупателя появилась возможность получить полную информацию о продукте (что за продукт, для чего предназначен, как различается, что содержит, дополнительная информация по содержащимся экстрактам трав и т.д.), что существенно повышает мотивацию к покуп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Новый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дизайн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- отвечает современным тенденциям развития рынка, отражает русские народные тради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Новое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«лицо»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ТМ «Поляница» понятный и близкий по духу «слоган»,расположенный на лицевой стороне пакета в виде пожелания            «С легким паром!» ассоциируется   с добрым, качественным, традиционным, народным и не дешевым натуральным продуктом. Благодаря  чему несомненно привлекает дополнительное внимание к продукту, а так же с успехом выделяет себя на полках в магазинах, в сравнении с аналогичными продук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44E4-6F7D-48BB-87CB-62A7F0D680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оль «Поляница» с богатым комплексом российских трав по доступной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цене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и хорошие отзывы делают продукцию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выгодной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для продавцов и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опулярной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среди конечных покуп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Доброе имя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– Поляница отлично зарекомендовало себя за все время существования, что обеспечивает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выгодные объемы продаж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для продавцов и положительные отзывы покупателей  и их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доверие  к марке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Мы учитываем пожелания покупателей - в соответствии с потребностями   и пожеланиями наших покупателей, мы отобрали самые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опулярные виды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, качественно улучшили рецептурный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остав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и снабдили каждую упаковку подробной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аннотацией</a:t>
            </a: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Доброе имя - гарантия качества,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ачество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продукции всегда на высоте и неизменно со времен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7C41-415B-469B-862A-B4989E6DA2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Экстракты российских трав, микро и макро-элементы, содержащиеся в соли «Поляница», обладают полезными свойствами, благодаря чему оказывается  благотворное влияние на весь организм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иродная соль для ванн с экстрактом российских трав «Поляница» обладает целым рядом серьезных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реимуществ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казывает положительное воздействие на кож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блегчает мышечные и суставные бо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омогает снять стресс и устал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ормализует и ускоряет обмен веще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эффективно удаляет загрязнения кожи, излишки жира, сужает по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атуральный продукт позволяет экономить покупателям, приобретать соль в экономичной упаковке по выгодной це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для продавцов наличие данной соли в ассортименте гарантирует интерес покупателей, большой оборот и хороший заработ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8C03-17B2-4365-BD55-61CC468D34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ид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Цветочный сб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Таежный сб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Лесной сб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Луговой сб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Масс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900 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В состав соли «Поляница» входят только натуральные экстракты российских трав, без добавления искусственных компонентов: красителей и консерва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ff"/>
                </a:solidFill>
                <a:latin typeface="Times New Roman"/>
              </a:rPr>
              <a:t>Сочетание травяных сборов и воздействие соли на кожу дает великолепный результат!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B864-D889-4B0C-BA4F-39DB2DFE31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Цветочный с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Бодрит и тонизир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Композиция традиционных российских трав, включающая в себя сбор календулы, фиалки, мелиссы лекарственной, ромашки аптечной, мать-и-мачехи, шиповника делает вашу кожу гладкой, увлажняет и наполняет её сияющим здоровьем каждый день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В состав входит сбор трав, называющихся «материнскими травами» (это тщательно отобранные из всего многообразия лечебные растения, которые используются людьми с давних времен в разных странах) . Обладает свежим цветочно-травяным ароматом, который оказывает благотворное действие на Ваше душевное состоя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73E1-9036-44E8-9083-B4B02E9513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Таежный с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Лечит и успокаи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В состав входят: Экстракт можжевельника, сосновая хвоя, кедровая живица, лиственница, лаванда. Сбор этих сибирских трав обладает укрепляющими и восстанавливающими свойств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оль для ванн на основе сбора таежных трав оказывает целебное действие на весь организм, успокаивает нервную систему, залечивает ранки и поре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Регулярное использование соли «Поляница» Таежный сбор при приеме  ванны со временем меняет структуру кожи, восстанавливает естественный механизм регенерационных процессов. Делает кожу гладкой и шелковист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4DAA-4123-4DA2-AFC8-A5F637EB77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Луговой с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Расслабляет и согре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Комплекс натуральных трав – зверобоя, крапивы двудомной, полыни, ромашки, тысячелистника, циркония, мяты перечной, подорожника большого, мелиссы - является идеальным средством для ухода за нормальной и комбинированной кожей. Потрясающий эффект увлажненной и обогащенной витаминами и минералами кожи станет для Вас настоящим открытием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Целебные свойства экстрактов луговых трав уменьшают боли в спине и суставах, способствуют циркуляции крови, снимают стрессы и усталость. Растительные сборы оказывают общеукрепляющее действие на весь организм, питают, тонизируют, освежают и увлажняют кожу, их пары восстанавливают душевное равновесие и спокойств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B392-9131-4F91-9DD1-FD6D77D971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003D-A794-436C-8FBA-B9D0531BA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30D2-DD38-4CC5-A6F0-CF026706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BF12-86DA-4788-827D-3490E6516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1B15-55C0-4ACA-B97A-215FF7630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5B8B-2A48-4B8F-85A1-C41FC837E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445B-8D66-4888-AB3F-24FFAB3C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612E-930C-4F0D-849F-FE518CF2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BB54-2900-4C62-A6DD-FC762188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5428-5095-463D-A4BD-64ED0871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BA14-4297-4CD7-ABB9-0FD4579D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5DF6-3315-4FBE-936D-80FCEBFF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CAE4-96D4-40DB-AC6F-D7857C70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D47C-BFBA-4D1C-AACF-BFF335C3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DE08-7C0B-420F-BEDA-4A859457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899D-C1EB-42A6-AD4D-4FF209A4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517F-0594-4054-9725-B8A36A2AA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0543-A97B-49C8-9FD9-2650971FE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88EC-BD4A-42F6-B73D-FB39BA10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8428-8765-4F3C-A76A-6FB15D83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1B60-4D11-4136-850E-5C41ACE8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F8A0-307A-49FF-B21B-3BA9C72E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53B5-D069-4B05-B40F-F8AD9498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042E-941F-4D0C-BAE4-1DD51EDD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D582-EC86-4891-8468-F1C08856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FD6A-99BD-4214-92BA-CE867627DF7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32F9-BC8A-4B55-926D-7D0784E39AE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369800" y="1520640"/>
            <a:ext cx="73134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«Компания Черлин»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рада представить вашему вниманию обновленную серию солей «Поляница»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4" descr="leiba"/>
          <p:cNvPicPr/>
          <p:nvPr/>
        </p:nvPicPr>
        <p:blipFill>
          <a:blip r:embed="rId1"/>
          <a:stretch/>
        </p:blipFill>
        <p:spPr>
          <a:xfrm>
            <a:off x="7451640" y="184320"/>
            <a:ext cx="1406520" cy="1139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Kurazh-Sbor-All"/>
          <p:cNvPicPr/>
          <p:nvPr/>
        </p:nvPicPr>
        <p:blipFill>
          <a:blip r:embed="rId2"/>
          <a:stretch/>
        </p:blipFill>
        <p:spPr>
          <a:xfrm>
            <a:off x="1187280" y="2505240"/>
            <a:ext cx="6766200" cy="39686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0"/>
          <p:cNvSpPr/>
          <p:nvPr/>
        </p:nvSpPr>
        <p:spPr>
          <a:xfrm>
            <a:off x="1187280" y="536400"/>
            <a:ext cx="63532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55280" y="1827000"/>
            <a:ext cx="676908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Лесной сбо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нимает устал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аждое лекарственное растение обладает своими особенностями действия на органы и функции. В народной медицине не вызывает сомнения факт, что эффективность действия одного растения значительно ниже, чем группы, соединенной по направленности их действ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Особенно результативно применение сбора лечебных трав при лечении хронических заболеваний. В состав соли «Поляница» Лесной сбор входят: крушина ломкая (ольховидная), шиповник, малина, бузина черная, чистотел, ромашка, боярышник, валериана лекарственная, колокольчик  персиколистны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оль «Поляница» Лесной сбор поможет избавиться от бессонницы и снять стресс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Lesnoy_sbor"/>
          <p:cNvPicPr/>
          <p:nvPr/>
        </p:nvPicPr>
        <p:blipFill>
          <a:blip r:embed="rId2"/>
          <a:stretch/>
        </p:blipFill>
        <p:spPr>
          <a:xfrm>
            <a:off x="7308720" y="2637000"/>
            <a:ext cx="1835280" cy="25923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0"/>
          <p:cNvSpPr/>
          <p:nvPr/>
        </p:nvSpPr>
        <p:spPr>
          <a:xfrm>
            <a:off x="104292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Monotype Corsiva"/>
              </a:rPr>
              <a:t>Успешных продаж!</a:t>
            </a:r>
            <a:r>
              <a:rPr b="0" lang="ru-RU" sz="4400" spc="-1" strike="noStrike">
                <a:solidFill>
                  <a:srgbClr val="000099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Picture 6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7"/>
          <p:cNvSpPr/>
          <p:nvPr/>
        </p:nvSpPr>
        <p:spPr>
          <a:xfrm>
            <a:off x="118728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Уникальность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нашей соли «Поляница» заключается в ее многокомпонентном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составе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и сбалансированном сочетании морской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оли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с природным комплексом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лечебных тра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, которые обладают сильными тонизирующими и регенерирующими свойствами; оказывают благотворное влияние на межклеточный обмен веществ, восстанавливают все функции организм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оль насыщена богатым комплексом российских тра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Без искусственных красителей и консервант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ыпущена в удобной и экономичной для использования упаковк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118728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26560" y="1827000"/>
            <a:ext cx="7921800" cy="48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овая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упаковка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стала более удобной, привлекательной и информативной.  У покупателя появилась возможность получить полную информацию о продукте (что за продукт, для чего предназначен, как различается, что содержит, дополнительная информация по содержащимся экстрактам трав и т.д.), что существенно повышает мотивацию к покупк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овый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дизайн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- отвечает современным тенденциям развития рынка, отражает русские народные тради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овое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«лицо»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ТМ «Поляница» понятный и близкий по духу «слоган»,расположенный на лицевой стороне пакета в виде пожелания            «С легким паром!» ассоциируется   с добрым, качественным, традиционным, народным и не дешевым натуральным продуктом. Благодаря  чему несомненно привлекает дополнительное внимание к продукту, а так же с успехом выделяет себя на полках в магазинах, в сравнении с аналогичными продукта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111600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5280" y="1700280"/>
            <a:ext cx="8209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оль «Поляница» с богатым комплексом российских трав по доступной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цене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и хорошие отзывы делают продукцию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выгодной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для продавцов и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популярной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среди конечных покупателе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Доброе имя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– Поляница отлично зарекомендовало себя за все время существования, что обеспечивает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выгодные объемы продаж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для продавцов и положительные отзывы покупателей  и их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доверие  к марке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Мы учитываем пожелания покупателей - в соответствии с потребностями   и пожеланиями наших покупателей, мы отобрали самые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популярные виды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, качественно улучшили рецептурный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состав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и снабдили каждую упаковку подробной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аннотацией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Доброе имя - гарантия качества,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качество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продукции всегда на высоте и неизменно со времене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1116000" y="47628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55640" y="1700280"/>
            <a:ext cx="8137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Экстракты российских трав, микро и макро-элементы, содержащиеся в соли «Поляница», обладают полезными свойствами, благодаря чему оказывается  благотворное влияние на весь организ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иродная соль для ванн с экстрактом российских трав «Поляница» обладает целым рядом серьезных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еимуществ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казывает положительное воздействие на кожу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блегчает мышечные и суставные бо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могает снять стресс и устало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ормализует и ускоряет обмен вещест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эффективно удаляет загрязнения кожи, излишки жира, сужает пор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атуральный продукт позволяет экономить покупателям, приобретать соль в экономичной упаковке по выгодной цене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для продавцов наличие данной соли в ассортименте гарантирует интерес покупателей, большой оборот и хороший заработок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111600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755280" y="1827000"/>
            <a:ext cx="8209080" cy="48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Виды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Цветочный сбор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Таежный сбор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Лесной сбор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Луговой сбор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Масса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900 г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В состав соли «Поляница» входят только натуральные экстракты российских трав, без добавления искусственных компонентов: красителей и консерванто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66"/>
                </a:solidFill>
                <a:latin typeface="Times New Roman"/>
              </a:rPr>
              <a:t>Сочетание травяных сборов и воздействие соли на кожу дает великолепный результат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11600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Kurazh-Sbor-All"/>
          <p:cNvPicPr/>
          <p:nvPr/>
        </p:nvPicPr>
        <p:blipFill>
          <a:blip r:embed="rId2"/>
          <a:stretch/>
        </p:blipFill>
        <p:spPr>
          <a:xfrm>
            <a:off x="3708360" y="2421000"/>
            <a:ext cx="5256360" cy="308304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55640" y="1827360"/>
            <a:ext cx="66960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Цветочный сбо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Бодрит и тонизиру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омпозиция традиционных российских трав, включающая в себя сбор календулы, фиалки, мелиссы лекарственной, ромашки аптечной, мать-и-мачехи, шиповника делает вашу кожу гладкой, увлажняет и наполняет её сияющим здоровьем каждый день!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 состав входит сбор трав, называющихся «материнскими травами» (это тщательно отобранные из всего многообразия лечебные растения, которые используются людьми с давних времен в разных странах) . Обладает свежим цветочно-травяным ароматом, который оказывает благотворное действие на Ваше душевное состояни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Tsvetochnyi_sbor"/>
          <p:cNvPicPr/>
          <p:nvPr/>
        </p:nvPicPr>
        <p:blipFill>
          <a:blip r:embed="rId2"/>
          <a:stretch/>
        </p:blipFill>
        <p:spPr>
          <a:xfrm>
            <a:off x="7313760" y="2637000"/>
            <a:ext cx="1830240" cy="25923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9"/>
          <p:cNvSpPr/>
          <p:nvPr/>
        </p:nvSpPr>
        <p:spPr>
          <a:xfrm>
            <a:off x="111600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55640" y="1827360"/>
            <a:ext cx="640872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Таежный сбо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Лечит и успокаива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 состав входят: Экстракт можжевельника, сосновая хвоя, кедровая живица, лиственница, лаванда. Сбор этих сибирских трав обладает укрепляющими и восстанавливающими свойствам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оль для ванн на основе сбора таежных трав оказывает целебное действие на весь организм, успокаивает нервную систему, залечивает ранки и порез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Регулярное использование соли «Поляница» Таежный сбор при приеме  ванны со временем меняет структуру кожи, восстанавливает естественный механизм регенерационных процессов. Делает кожу гладкой и шелковисто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Tayozhnyi_sbor"/>
          <p:cNvPicPr/>
          <p:nvPr/>
        </p:nvPicPr>
        <p:blipFill>
          <a:blip r:embed="rId2"/>
          <a:stretch/>
        </p:blipFill>
        <p:spPr>
          <a:xfrm>
            <a:off x="7232760" y="2637000"/>
            <a:ext cx="1911240" cy="25923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111600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55640" y="1827000"/>
            <a:ext cx="6624720" cy="48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Луговой сбо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Расслабляет и согрева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омплекс натуральных трав – зверобоя, крапивы двудомной, полыни, ромашки, тысячелистника, циркония, мяты перечной, подорожника большого, мелиссы - является идеальным средством для ухода за нормальной и комбинированной кожей. Потрясающий эффект увлажненной и обогащенной витаминами и минералами кожи станет для Вас настоящим открытием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Целебные свойства экстрактов луговых трав уменьшают боли в спине и суставах, способствуют циркуляции крови, снимают стрессы и усталость. Растительные сборы оказывают общеукрепляющее действие на весь организм, питают, тонизируют, освежают и увлажняют кожу, их пары восстанавливают душевное равновесие и спокойств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Lugovoy_sbor"/>
          <p:cNvPicPr/>
          <p:nvPr/>
        </p:nvPicPr>
        <p:blipFill>
          <a:blip r:embed="rId2"/>
          <a:stretch/>
        </p:blipFill>
        <p:spPr>
          <a:xfrm>
            <a:off x="7164360" y="2637000"/>
            <a:ext cx="1895400" cy="25923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9"/>
          <p:cNvSpPr/>
          <p:nvPr/>
        </p:nvSpPr>
        <p:spPr>
          <a:xfrm>
            <a:off x="111600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09:45:51Z</dcterms:created>
  <dc:creator>Cherlin</dc:creator>
  <dc:description/>
  <dc:language>en-US</dc:language>
  <cp:lastModifiedBy>LEGION</cp:lastModifiedBy>
  <dcterms:modified xsi:type="dcterms:W3CDTF">2015-05-12T08:21:28Z</dcterms:modified>
  <cp:revision>126</cp:revision>
  <dc:subject/>
  <dc:title>Практические рекомендации</dc:title>
</cp:coreProperties>
</file>