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2B37-A370-4255-B011-16E616E9C0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263-0A4A-4315-AD98-D100FB5A3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92DB-893E-4AF9-93A8-42EFCCD506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Успешных продаж!</a:t>
            </a:r>
            <a:r>
              <a:rPr b="0" lang="ru-RU" sz="12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978A-2271-491E-A796-D542F1C31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8EFC-C675-4502-93AF-4BD77CBDA9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A583-3880-4051-98B8-05E814F0D0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6FA-BC85-4486-BCD9-84E5B51C73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C0C4-2807-458A-B52D-2466BA2520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415-659D-49CF-A406-8060AAF60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AAE-2B99-4357-B559-C967BEB68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4A3-395A-43AE-9275-0449BE03E5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0C5B-884A-47F6-B55E-F5E870A162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148-FB34-484A-AAEA-774C2AF5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376-860A-43B1-8E90-1771FA9F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671-EBD6-4E16-B80D-6D8BE86C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FA8-0DC1-4F2E-94D7-4EC84D2E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C7F9-3E99-4009-ABF9-84BFD5E3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279F-FF69-4386-ACD3-FF71867E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6E6E-F0CD-4B22-8CAB-62BF6B07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C441-631D-4C78-95A8-D471081F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424D-7D95-433C-9398-5D3D1390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D15D-BD5B-40D0-BBAC-AAFB39EE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D717-B07C-4FFF-A28B-59704D8C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F56-C8E9-4E5E-90F7-F1788E70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283-1D97-4D16-BD19-E818219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EFA4-6ED6-4A2D-BD77-46F18E20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EAD-832B-4601-8ABE-1443F9E6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7761-4C6B-417A-9AE4-80A1197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C4E-5BEA-40DB-8349-D10136D6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542-5702-47BC-B685-81C19CA4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822-3722-44FB-98A7-E07695E5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387-104D-443D-AA5A-9253DB29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EE8-EB67-4806-855C-ABDF9875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458-E159-40E4-B0F9-D0FB5DF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50F-3722-48A8-99B6-FE03E04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8E1-6D9E-4CD7-9460-D683F8A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0B43-34BE-4A2F-9499-AAB9FB172E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D702-BD9C-4E7F-A129-2B0AB545181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520640"/>
            <a:ext cx="7313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Компания Черлин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да представить вашему вниманию обновленную серию солей «Поляница»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leiba"/>
          <p:cNvPicPr/>
          <p:nvPr/>
        </p:nvPicPr>
        <p:blipFill>
          <a:blip r:embed="rId1"/>
          <a:stretch/>
        </p:blipFill>
        <p:spPr>
          <a:xfrm>
            <a:off x="7451640" y="18432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Kurazh-Sbor-All"/>
          <p:cNvPicPr/>
          <p:nvPr/>
        </p:nvPicPr>
        <p:blipFill>
          <a:blip r:embed="rId2"/>
          <a:stretch/>
        </p:blipFill>
        <p:spPr>
          <a:xfrm>
            <a:off x="1187280" y="2505240"/>
            <a:ext cx="676620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1187280" y="536400"/>
            <a:ext cx="635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676908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сн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нимает устал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аждое лекарственное растение обладает своими особенностями действия на органы и функции. В народной медицине не вызывает сомнения факт, что эффективность действия одного растения значительно ниже, чем группы, соединенной по направленности их действ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собенно результативно применение сбора лечебных трав при лечении хронических заболеваний. В состав соли «Поляница» Лесной сбор входят: крушина ломкая (ольховидная), шиповник, малина, бузина черная, чистотел, ромашка, боярышник, валериана лекарственная, колокольчик  персиколистны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Лесной сбор поможет избавиться от бессонницы и снять стре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Lesnoy_sbor"/>
          <p:cNvPicPr/>
          <p:nvPr/>
        </p:nvPicPr>
        <p:blipFill>
          <a:blip r:embed="rId2"/>
          <a:stretch/>
        </p:blipFill>
        <p:spPr>
          <a:xfrm>
            <a:off x="7308720" y="263700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04292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Monotype Corsiva"/>
              </a:rPr>
              <a:t>Успешных продаж!</a:t>
            </a:r>
            <a:r>
              <a:rPr b="0" lang="ru-RU" sz="4400" spc="-1" strike="noStrike">
                <a:solidFill>
                  <a:srgbClr val="000099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никальность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нашей соли «Поляница» заключается в ее многокомпонентном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составе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и сбалансированном сочетании морской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оли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с природным комплексо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ечебных тра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, которые обладают сильными тонизирующими и регенерирующими свойствами; оказывают благотворное влияние на межклеточный обмен веществ, восстанавливают все функции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ль насыщена богатым комплексом российских тра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ез искусственных красителей и консерван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ущена в удобной и экономичной для использования упаков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18728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560" y="1827000"/>
            <a:ext cx="79218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упаковка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тала более удобной, привлекательной и информативной.  У покупателя появилась возможность получить полную информацию о продукте (что за продукт, для чего предназначен, как различается, что содержит, дополнительная информация по содержащимся экстрактам трав и т.д.), что существенно повышает мотивацию к покуп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изайн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- отвечает современным тенденциям развития рынка, отражает русские народные тради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ово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«лицо»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ТМ «Поляница» понятный и близкий по духу «слоган»,расположенный на лицевой стороне пакета в виде пожелания            «С легким паром!» ассоциируется   с добрым, качественным, традиционным, народным и не дешевым натуральным продуктом. Благодаря  чему несомненно привлекает дополнительное внимание к продукту, а так же с успехом выделяет себя на полках в магазинах, в сравнении с аналогичными продукт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1700280"/>
            <a:ext cx="820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«Поляница» с богатым комплексом российских трав по доступ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цен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хорошие отзывы делают продукцию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ой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ля продавцов и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ой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среди конечных покупате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брое имя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– Поляница отлично зарекомендовало себя за все время существовани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выгодные объемы продаж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для продавцов и положительные отзывы покупателей  и их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доверие  к марке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ы учитываем пожелания покупателей - в соответствии с потребностями   и пожеланиями наших покупателей, мы отобрали самые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популярные виды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, качественно улучшили рецептурны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став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и снабдили каждую упаковку подробной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аннотацией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оброе имя - гарантия качества,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качество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продукции всегда на высоте и неизменно со време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116000" y="47628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1700280"/>
            <a:ext cx="813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акты российских трав, микро и макро-элементы, содержащиеся в соли «Поляница», обладают полезными свойствами, благодаря чему оказывается  благотворное влияние на весь организ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родная соль для ванн с экстрактом российских трав «Поляница» обладает целым рядом серьезны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имущест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казывает положительное воздействие на кож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егчает мышечные и суставные бо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могает снять стресс и устал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ормализует и ускоряет обмен вещест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ффективно удаляет загрязнения кожи, излишки жира, сужает пор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туральный продукт позволяет экономить покупателям, приобретать соль в экономичной упаковке по выгодной цен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ля продавцов наличие данной соли в ассортименте гарантирует интерес покупателей, большой оборот и хороший заработ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280" y="1827000"/>
            <a:ext cx="820908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Цветоч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Таежны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есн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Луговой сбор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Масса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900 г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состав соли «Поляница» входят только натуральные экстракты российских трав, без добавления искусственных компонентов: красителей и консервант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66"/>
                </a:solidFill>
                <a:latin typeface="Times New Roman"/>
              </a:rPr>
              <a:t>Сочетание травяных сборов и воздействие соли на кожу дает великолепный результа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urazh-Sbor-All"/>
          <p:cNvPicPr/>
          <p:nvPr/>
        </p:nvPicPr>
        <p:blipFill>
          <a:blip r:embed="rId2"/>
          <a:stretch/>
        </p:blipFill>
        <p:spPr>
          <a:xfrm>
            <a:off x="3708360" y="2421000"/>
            <a:ext cx="5256360" cy="30830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696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веточ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одрит и тонизиру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озиция традиционных российских трав, включающая в себя сбор календулы, фиалки, мелиссы лекарственной, ромашки аптечной, мать-и-мачехи, шиповника делает вашу кожу гладкой, увлажняет и наполняет её сияющим здоровьем каждый день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ит сбор трав, называющихся «материнскими травами» (это тщательно отобранные из всего многообразия лечебные растения, которые используются людьми с давних времен в разных странах) . Обладает свежим цветочно-травяным ароматом, который оказывает благотворное действие на Ваше душевное состоя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svetochnyi_sbor"/>
          <p:cNvPicPr/>
          <p:nvPr/>
        </p:nvPicPr>
        <p:blipFill>
          <a:blip r:embed="rId2"/>
          <a:stretch/>
        </p:blipFill>
        <p:spPr>
          <a:xfrm>
            <a:off x="7313760" y="2637000"/>
            <a:ext cx="183024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1827360"/>
            <a:ext cx="64087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Таежны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ечит и успокаи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остав входят: Экстракт можжевельника, сосновая хвоя, кедровая живица, лиственница, лаванда. Сбор этих сибирских трав обладает укрепляющими и восстанавливающими свойств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оль для ванн на основе сбора таежных трав оказывает целебное действие на весь организм, успокаивает нервную систему, залечивает ранки и порез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егулярное использование соли «Поляница» Таежный сбор при приеме  ванны со временем меняет структуру кожи, восстанавливает естественный механизм регенерационных процессов. Делает кожу гладкой и шелковист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Tayozhnyi_sbor"/>
          <p:cNvPicPr/>
          <p:nvPr/>
        </p:nvPicPr>
        <p:blipFill>
          <a:blip r:embed="rId2"/>
          <a:stretch/>
        </p:blipFill>
        <p:spPr>
          <a:xfrm>
            <a:off x="7232760" y="2637000"/>
            <a:ext cx="191124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55640" y="1827000"/>
            <a:ext cx="662472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Луговой сб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асслабляет и согрев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омплекс натуральных трав – зверобоя, крапивы двудомной, полыни, ромашки, тысячелистника, циркония, мяты перечной, подорожника большого, мелиссы - является идеальным средством для ухода за нормальной и комбинированной кожей. Потрясающий эффект увлажненной и обогащенной витаминами и минералами кожи станет для Вас настоящим открытием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Целебные свойства экстрактов луговых трав уменьшают боли в спине и суставах, способствуют циркуляции крови, снимают стрессы и усталость. Растительные сборы оказывают общеукрепляющее действие на весь организм, питают, тонизируют, освежают и увлажняют кожу, их пары восстанавливают душевное равновесие и споко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leiba"/>
          <p:cNvPicPr/>
          <p:nvPr/>
        </p:nvPicPr>
        <p:blipFill>
          <a:blip r:embed="rId1"/>
          <a:stretch/>
        </p:blipFill>
        <p:spPr>
          <a:xfrm>
            <a:off x="7451640" y="18900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Lugovoy_sbor"/>
          <p:cNvPicPr/>
          <p:nvPr/>
        </p:nvPicPr>
        <p:blipFill>
          <a:blip r:embed="rId2"/>
          <a:stretch/>
        </p:blipFill>
        <p:spPr>
          <a:xfrm>
            <a:off x="7164360" y="2637000"/>
            <a:ext cx="1895400" cy="2592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116000" y="549360"/>
            <a:ext cx="6353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Соль «Поляница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Monotype Corsiva"/>
              </a:rPr>
              <a:t>без искусственных красителей и консерванто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8080"/>
                </a:solidFill>
                <a:latin typeface="Monotype Corsiva"/>
              </a:rPr>
              <a:t>поможет сохранить Вашу природную крас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5:51Z</dcterms:created>
  <dc:creator>Cherlin</dc:creator>
  <dc:description/>
  <dc:language>en-US</dc:language>
  <cp:lastModifiedBy>LEGION</cp:lastModifiedBy>
  <dcterms:modified xsi:type="dcterms:W3CDTF">2015-05-12T08:21:28Z</dcterms:modified>
  <cp:revision>126</cp:revision>
  <dc:subject/>
  <dc:title>Практические рекомендации</dc:title>
</cp:coreProperties>
</file>