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4B8-5B31-4BDA-9EB8-D3F6313FE4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Химия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 Новочебоксарск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Лицей№18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ва Т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8709-D624-47A5-80FE-63D02EE932B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0328-09F4-46DA-943C-8860FB330C7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088-CAA7-4576-8ACD-5BF73A29F34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рактический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4A27-AD0C-4B7D-9376-71FE7BB142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Цели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E0E6-B1A1-4602-8950-9A3F62E1E55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ширить знания учащихся по проблеме пит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5551-D8CE-4E4D-9F28-73B13A328FE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Фер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4FF8-747C-49D4-8A20-39E80424637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087B-6EEB-4708-80C3-30C6FEFED0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80"/>
                </a:solidFill>
                <a:latin typeface="Calibri"/>
              </a:rPr>
              <a:t>Классификация витами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BBC9-3697-4D86-9047-148133F751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D2C-7674-4060-8B14-B0F165FE8C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Витамин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итаминная недостато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понимают практически полное отсутствие какого-либо витамина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иповитамино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C6FF-DE8F-43EF-B586-60B20044543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omic Sans MS"/>
              </a:rPr>
              <a:t>Пища, которую мы ед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блема пит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Консерв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серва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9E32-7BE3-472E-8DC7-969D01ADF6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EF-5CE8-4816-86AF-CCD9644D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24C-CE90-4823-A986-29CFC69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1FC-6B1E-4AC8-BB28-77761E5F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193-4B1E-455B-96DB-66A362CF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C092-9965-432D-9EE4-8AB4DE8D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898-E5BC-4CC3-BB97-5455C8A5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54FA-2597-44C0-8D57-533958BB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EF2-4595-4B28-83F3-859FEDF8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4B6A-813F-44EE-89B2-430583F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BB24-70D9-4F34-B907-89C49C70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AFEA-84A0-483E-859A-29DCC555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D33-A644-488E-8688-4FB1E443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4ACC-770A-45A1-B91D-0FFC0FB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0AB-56DD-4B24-9F3F-BE3E2F7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F545-1EE3-4548-BE7B-EEB602B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9FE-F3E8-4674-AA99-ECF8A0D1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AC15-FE98-4C2F-92BB-B06572A5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27D-3827-4116-83B1-3977CF1B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E59-0D47-4559-85A2-B608E233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35A-0C92-4025-AC7C-BFB56750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D14-7B8E-45EE-9434-27DE742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DC39-9F38-48B7-8911-6FFC3F1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457-C50B-49AD-B7B2-DCB9B178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3A9-8CDC-47B8-9024-87B462A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AA44-4A4A-4469-BB76-A813F328B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F61-C31C-4D34-AD4B-D63E0BA929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99"/>
                </a:solidFill>
                <a:latin typeface="Comic Sans MS"/>
              </a:rPr>
              <a:t>Химия жизни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Р Новочебоксарск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У «Лицей№18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ва Т.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omic Sans MS"/>
              </a:rPr>
              <a:t>Классификация пищевых добавок согласно Европейской системе (Е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 (усиливают или восстанавливают цвет продук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 (повышают срок хранения продуктов, защищают их от микробов, грибков, бактериофагов. Химически стерилизующие добавки при созревании вин, дезинфектанты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-3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 (защищают от окисле­ния, например от прогоркания жиров и изменения цвет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-4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 (сохраняют заданную консистенцию), загустители (повышают вязк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-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 (создают однородную смесь несмешиваемых продуктов, например воды и масл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-6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и аром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-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 (предупреждают или снижают образование пен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Comic Sans MS"/>
              </a:rPr>
              <a:t>Расшифровка кодов пищевых добавок и нежелательные последствия их воздействия на организ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557360"/>
          <a:ext cx="8229600" cy="5237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ищевой добавки (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ое дей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 105, 111, 121 (краситель цитрусовый красный 2), 123 (красный амарант), 125, 126, 130, 152, 240 (консервант формальдегид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щён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110,120,124,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,105,121,123,125, 126, 130, 131,142, 152, 210, 211 (бензоат натрия), 213-217,240,330 (лимонная кислота), 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локачествен­ные опух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-226, 320-322, 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заболевания желудочно-кишеч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,231,232,239, 311-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-173,320-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болезни печени и поч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-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ые для кож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-341,407,450, 461-4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ывают расстройство желу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 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ают содержание холесте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рактический вывод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ую работу можно рассматривать как один из методических приемов реализации прикладной направленности обучения химии и социализации личности школьников. Способствует формированию мотивации на здоровый образ жизни, вносит свой вклад в развитие валеологической культур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развивает общеучебные умения и навыки учащихся: извлекать информацию прикладного характера из различных источников, перерабатывать ее, выделять главное и применять знания в повседневной жизн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Цели работы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бедить учащихся в необходимости вести здоровый образ жизни, формировать умение заботиться о своём пита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Задач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ширить знания учащихся по проблеме питан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классификацию пищевых добавок, раскрыть их значение и обсудить возможные нежелательные последствия их примен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влечь внимание к составу продуктов, которые мы покупаем в магазине, необходимости контролировать потребление нежелательных и вредных пищевых добавок с целью сохранения своего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щиеся должны иметь представления о пищевых добавках, ароматизаторах, консервантах, стабилизаторах, синтетической пище, нежелательных последствиях при­менения некоторых пищевых добав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Фермент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рменты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имают участие в переваривании и усвоение продуктов. Без ферментов нет жизни. В основе многих заболеваний человека лежат нарушения ферментативных процессов. Их значение для человеческого организма не ограничивается рамками нормальной физиологии. В основе многих заболеваний человека лежат нарушения ферментативных процес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итам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низкомолекулярные органические соединения различной химической природы, абсолютно необходимые для нормальной жизнедеятельности организмов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vitamin"/>
          <p:cNvPicPr/>
          <p:nvPr/>
        </p:nvPicPr>
        <p:blipFill>
          <a:blip r:embed="rId2"/>
          <a:stretch/>
        </p:blipFill>
        <p:spPr>
          <a:xfrm>
            <a:off x="4643280" y="1341360"/>
            <a:ext cx="3959280" cy="2608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1027m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643280" y="393372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Times New Roman"/>
              </a:rPr>
              <a:t>Классификация витамин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7" name="Organization Chart 15"/>
          <p:cNvGrpSpPr/>
          <p:nvPr/>
        </p:nvGrpSpPr>
        <p:grpSpPr>
          <a:xfrm>
            <a:off x="468360" y="1557360"/>
            <a:ext cx="8566920" cy="4529160"/>
            <a:chOff x="468360" y="1557360"/>
            <a:chExt cx="8566920" cy="4529160"/>
          </a:xfrm>
        </p:grpSpPr>
        <p:cxnSp>
          <p:nvCxnSpPr>
            <p:cNvPr id="148" name="_s1030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7978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1031"/>
            <p:cNvCxnSpPr>
              <a:stCxn id="152" idx="0"/>
              <a:endCxn id="150" idx="2"/>
            </p:cNvCxnSpPr>
            <p:nvPr/>
          </p:nvCxnSpPr>
          <p:spPr>
            <a:xfrm flipV="1">
              <a:off x="4751640" y="3368520"/>
              <a:ext cx="396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1032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799000" y="2322000"/>
              <a:ext cx="906480" cy="2999160"/>
            </a:xfrm>
            <a:prstGeom prst="bentConnector3">
              <a:avLst>
                <a:gd name="adj1" fmla="val 1569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1033"/>
            <p:cNvSpPr/>
            <p:nvPr/>
          </p:nvSpPr>
          <p:spPr>
            <a:xfrm>
              <a:off x="3466800" y="155736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366"/>
                  </a:solidFill>
                  <a:latin typeface="Comic Sans MS"/>
                </a:rPr>
                <a:t>Витамины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46836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Comic Sans MS"/>
                </a:rPr>
                <a:t>Вод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(витамин С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ы группы В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витамин РР)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346680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66"/>
                  </a:solidFill>
                  <a:latin typeface="Comic Sans MS"/>
                </a:rPr>
                <a:t>Жирорастворимые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А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Е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>
              <a:off x="6465240" y="4275000"/>
              <a:ext cx="2570040" cy="18115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итаминоподобны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 </a:t>
              </a:r>
              <a:r>
                <a:rPr b="1" lang="ru-RU" sz="2000" spc="-1" strike="noStrike">
                  <a:solidFill>
                    <a:srgbClr val="003366"/>
                  </a:solidFill>
                  <a:latin typeface="Comic Sans MS"/>
                </a:rPr>
                <a:t>веще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(витамин Р,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липоевая кислота, 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витамин 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ru-RU" sz="1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держание витаминов в продуктах и их использова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836640"/>
          <a:ext cx="8713800" cy="5945040"/>
        </p:xfrm>
        <a:graphic>
          <a:graphicData uri="http://schemas.openxmlformats.org/drawingml/2006/table">
            <a:tbl>
              <a:tblPr/>
              <a:tblGrid>
                <a:gridCol w="1008000"/>
                <a:gridCol w="4716360"/>
                <a:gridCol w="29894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ится в продукта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тся для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жирная рыба (сельдь, макрель), яйца, молочные продукты, растительное масл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зистых оболочек, здоровья кожи, зрения, роста, иммунной сист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тамин 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: шпинат, брокколи, морковь, капуста, горох, помидоры; фрукты: дыня, персик; ягоды: шиповник, облепиха, ряб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ния, иммунной системы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рис, фасоль, горох, орехи, черный хлеб, зерновые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, выработки энергии, функционирования нервов и мускул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тица, шпинат, брокколи, дрожжи, грибы, молочные продукты, яичный желт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организма, выработки энер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птица яйца, рыба, орехи, продукты из немолотого зерна, молоко, зеленые овощи (зеленый лук, броккол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отки энергии, снижения холестерина в кро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субпродукты, , яичный желток, продукты из зерна, фасоль, арахис, картоф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я кожи, роста волос, усвоения белков, жиров и углев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яичный желток, хлеб грубого помола, дрожжи, арахис, картофель, ов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ения жиров и углеводов, работы фермент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почки, яйца, креветки, молоко, сыр, свек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анемии, здоровья нервной системы, работы клеток орган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овощи и фрукты, особенно черная смородина, клюква, цитрусовые, шиповник, пер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бов и кожи, роста кожи, костей, хрящей, антиоксидантная защита клеток организма от окис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олоко, сыр, жирная рыба, рыбий жир, солнц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а зубов и костей, усвоение кальция и фосф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жирная рыба, мясо, печень, растительные масла, орехи, продукты из немолотого зер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2028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тная защита клеток организма от окисления, заживления кож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Витаминная недостаточност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итаминная недостаточно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— группа патологических состояний, обусловленных дефицитом в организме одного  или     нескольких витаминов. Выделяют : авитаминоз , гиповитамино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понимают практически полное отсутствие какого-либо витамина в организ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Гиповитаминозо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читают сниженное по сравнению с потребностями содержание витаминов в организме, которое клинически проявляется  только отдельными и не резко выраженными симптомами из числа специфичных для определенного авитаминоза, а также мало  специфических признаков болезненного состояния, общих для различных видов гиповитаминозов (например, снижение аппетита и работоспособности, быстрая утомляемость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Comic Sans MS"/>
              </a:rPr>
              <a:t>Пища, которую мы едим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роблема пит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это обширная и очень важная тема как для человечества в целом, так и для каждого отдельного человека. Сегодня мы поговорим о пищевых добавках и некоторых продуктах питания и дадим вам несколько полезных совет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Консерван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нсерван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это пищевые добавки, которые увеличивают срок хранения продуктов, защищая их от порч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3:33Z</dcterms:created>
  <dc:creator>School</dc:creator>
  <dc:description/>
  <dc:language>en-US</dc:language>
  <cp:lastModifiedBy>LEGION</cp:lastModifiedBy>
  <dcterms:modified xsi:type="dcterms:W3CDTF">2015-05-12T08:21:54Z</dcterms:modified>
  <cp:revision>10</cp:revision>
  <dc:subject/>
  <dc:title>Химия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