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5E27-6088-4729-A30C-39DC27AED1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Химия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 Новочебоксарск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Лицей№18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ва Т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5D01-25F4-49B2-945B-9C305BB4A1D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2E0B-AAB6-4BB3-A236-FA6CA0990FB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B476-7294-4FF0-A5A1-C8E626EF7D1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рактический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DF2-04B0-4104-85A6-B1A9C819820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Цели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6775-8A38-4CBB-9CB3-21C898298E8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сширить знания учащихся по проблеме пит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64A4-6389-406B-B3C3-1D3802F5A2B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Фер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0A2D-EED6-4357-996D-222F87F8315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F953-8D45-49DE-A829-7419F28B4B3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80"/>
                </a:solidFill>
                <a:latin typeface="Calibri"/>
              </a:rPr>
              <a:t>Классификация витами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6452-F3C6-43C3-A712-0BA56DFB1E2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9A04-9069-4538-B761-3BE6E71D9C4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ная недостато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понимают практически полное отсутствие какого-либо витамина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B3DF-7AE1-417D-8803-C720408FEE9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ища, которую мы ед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блема пит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Консерв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серва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E45D-E7E2-4487-8BCC-560D5B681AA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F99-A6BE-4A0C-AA71-02CB6F08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E04-7769-46FF-8916-544F9F30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892-F13F-4598-A550-4C4F0AF0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756-B867-457A-B3F8-21634C0B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9CA9-4265-49F6-A0BD-D4785763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AA2A-BA2E-4D6A-95A1-A62AAE50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9F6F-3DFE-4B94-ABB9-4D6A742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BF63-836E-4F1D-81B8-9B82E108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BEF1-57A1-4DAA-8973-4D9963E5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FC5C-D811-4ABA-86AF-9E7F3B7A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23D1-FEA4-4DD8-BA2F-CF675548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CCF-C44C-464E-9FA1-8CAA037B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FFA0-F35D-4987-B935-ED2B64D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0DD7-FCAB-435E-81E1-D4300C5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D10-AA18-425C-8833-0C9ABFBF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8D83-0647-4268-A001-1B8DD49D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EA28-2FB6-42AF-941F-ABBFE484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B62-7995-4843-82E6-D24C2ADC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A7B-1E1E-48C9-A0FE-EE07D598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364-A502-4589-9B35-F2BC39C9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98A-ED26-4F3C-8B78-EDA1FF4C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839-D4FE-4711-BB70-C0A99A5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077-0AD4-4DE6-BFE0-728A23EA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3B2-5E26-4E00-A4CC-713D8ED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44E3-5D26-4787-9255-FBD300208D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6BA8-5102-4DCE-ADC2-F6A4F6C03A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Comic Sans MS"/>
              </a:rPr>
              <a:t>Химия жизни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Р Новочебоксарск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Лицей№18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ва Т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667548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 (усиливают или восстанавливают цвет продук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2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 (повышают срок хранения продуктов, защищают их от микробов, грибков, бактериофагов. Химически стерилизующие добавки при созревании вин, дезинфектанты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-3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 (защищают от окисле­ния, например от прогоркания жиров и изменения цве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-4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 (сохраняют заданную консистенцию), загустители (повышают вязк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-5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 (создают однородную смесь несмешиваемых продуктов, например воды и масл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6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и аром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-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 (предупреждают или снижают образование пен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557360"/>
          <a:ext cx="8229600" cy="5237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ое дей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 105, 111, 121 (краситель цитрусовый красный 2), 123 (красный амарант), 125, 126, 130, 152, 240 (консервант формальдеги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ён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110,120,124,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105,121,123,125, 126, 130, 131,142, 152, 210, 211 (бензоат натрия), 213-217,240,330 (лимонная кислота), 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локачествен­ные опух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-226, 320-322, 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аболевания желудочно-кишеч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231,232,239, 311-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-173,320-3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болезни печени и п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ые для кож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расстройство желу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 3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ают содержание холестер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рактический выво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Цели работы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Задачи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ить знания учащихся по проблеме питан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Фермент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рменты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итам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vitamin"/>
          <p:cNvPicPr/>
          <p:nvPr/>
        </p:nvPicPr>
        <p:blipFill>
          <a:blip r:embed="rId2"/>
          <a:stretch/>
        </p:blipFill>
        <p:spPr>
          <a:xfrm>
            <a:off x="4643280" y="1341360"/>
            <a:ext cx="3959280" cy="260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1027m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643280" y="393372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Times New Roman"/>
              </a:rPr>
              <a:t>Классификация витамин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Organization Chart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7" name="Organization Chart 15"/>
          <p:cNvGrpSpPr/>
          <p:nvPr/>
        </p:nvGrpSpPr>
        <p:grpSpPr>
          <a:xfrm>
            <a:off x="468360" y="1557360"/>
            <a:ext cx="8566920" cy="4529160"/>
            <a:chOff x="468360" y="1557360"/>
            <a:chExt cx="8566920" cy="4529160"/>
          </a:xfrm>
        </p:grpSpPr>
        <p:cxnSp>
          <p:nvCxnSpPr>
            <p:cNvPr id="148" name="_s1030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7978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31"/>
            <p:cNvCxnSpPr>
              <a:stCxn id="152" idx="0"/>
              <a:endCxn id="150" idx="2"/>
            </p:cNvCxnSpPr>
            <p:nvPr/>
          </p:nvCxnSpPr>
          <p:spPr>
            <a:xfrm flipV="1">
              <a:off x="4751640" y="3368520"/>
              <a:ext cx="396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32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7990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33"/>
            <p:cNvSpPr/>
            <p:nvPr/>
          </p:nvSpPr>
          <p:spPr>
            <a:xfrm>
              <a:off x="3466800" y="155736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3366"/>
                  </a:solidFill>
                  <a:latin typeface="Comic Sans MS"/>
                </a:rPr>
                <a:t>Витамины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46836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Comic Sans MS"/>
                </a:rPr>
                <a:t>Вод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витамин С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ы группы В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 РР)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346680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66"/>
                  </a:solidFill>
                  <a:latin typeface="Comic Sans MS"/>
                </a:rPr>
                <a:t>Жир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А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Е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>
              <a:off x="646524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итаминоподобны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 </a:t>
              </a: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еще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Р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липоевая кислота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836640"/>
          <a:ext cx="8713800" cy="5945040"/>
        </p:xfrm>
        <a:graphic>
          <a:graphicData uri="http://schemas.openxmlformats.org/drawingml/2006/table">
            <a:tbl>
              <a:tblPr/>
              <a:tblGrid>
                <a:gridCol w="1008000"/>
                <a:gridCol w="4716360"/>
                <a:gridCol w="29894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ся в продукта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ся дл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жирная рыба (сельдь, макрель), яйца, молочные продукты, растительное мас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зистых оболочек, здоровья кожи, зрения, роста, иммунной сист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: шпинат, брокколи, морковь, капуста, горох, помидоры; фрукты: дыня, персик; ягоды: шиповник, облепиха, ряб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ния, иммунной системы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рис, фасоль, горох, орехи, черный хлеб, зерновые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, выработки энергии, функционирования нервов и муску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тица, шпинат, брокколи, дрожжи, грибы, молочные продукты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организма, выработки энер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птица яйца, рыба, орехи, продукты из немолотого зерна, молоко, зеленые овощи (зеленый лук, броккол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отки энергии, снижения холестерина в кро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, яичный желток, продукты из зерна, фасоль, арахис, картоф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я кожи, роста волос, усвоения белков, жиров и углев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яичный желток, хлеб грубого помола, дрожжи, арахис, картофель, овощ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я жиров и углеводов, работы фер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очки, яйца, креветки, молоко, сыр, свек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анемии, здоровья нервной системы, работы клеток орган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жие овощи и фрукты, особенно черная смородина, клюква, цитрусовые, шиповник, пер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ов и кожи, роста кожи, костей, хрящей,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олоко, сыр, жирная рыба, рыбий жир, солнц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зубов и костей, усвоение кальция и фосф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жирная рыба, мясо, печень, растительные масла, орехи, продукты из немолотого зер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ная защита клеток организма от окисления, заживления ко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ная недостаточност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итаминная недостаточ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понимают практически полное отсутствие какого-либо витамина в организм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ипо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ища, которую мы едим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облема пит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Консерван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онсервант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3:33Z</dcterms:created>
  <dc:creator>School</dc:creator>
  <dc:description/>
  <dc:language>en-US</dc:language>
  <cp:lastModifiedBy>LEGION</cp:lastModifiedBy>
  <dcterms:modified xsi:type="dcterms:W3CDTF">2015-05-12T08:21:54Z</dcterms:modified>
  <cp:revision>10</cp:revision>
  <dc:subject/>
  <dc:title>Химия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